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AC9-E317-4EDE-B25C-A29C5D49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041-5A4F-49B8-B7B2-42A3B51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6CA-C7B6-4081-A07D-55D582D4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ADE-3BC5-47F1-AF3B-35F85A02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423-82BA-4681-B9F8-82BE2907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8D8-7CAE-47D9-8486-4CC5C1B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C18-5D12-4B6B-BD99-4737726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DBD-6432-4F8C-876C-91609CA0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460-75D1-43A8-B193-52959BB2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7B5-E871-4029-8F95-B4A93CA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6A9-3788-4D18-8B94-75FFF2B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45D-28EE-4F33-84D3-4D63D84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8DB5-53B8-47D8-A6E2-C639CA6BF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8440" y="213372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ensificación Electrote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9880" y="2743200"/>
            <a:ext cx="51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3440" y="138240"/>
            <a:ext cx="43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Resistencia en conducción (R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1840" y="741240"/>
            <a:ext cx="5618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el parámetro más importante en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9880" y="1338120"/>
            <a:ext cx="701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OSFET en conducción se modela utilizando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9040" y="1852560"/>
            <a:ext cx="1553760" cy="1526400"/>
            <a:chOff x="1679040" y="1852560"/>
            <a:chExt cx="1553760" cy="1526400"/>
          </a:xfrm>
        </p:grpSpPr>
        <p:sp>
          <p:nvSpPr>
            <p:cNvPr id="426" name=""/>
            <p:cNvSpPr/>
            <p:nvPr/>
          </p:nvSpPr>
          <p:spPr>
            <a:xfrm>
              <a:off x="2463480" y="25923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9040" y="2547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32480" y="1852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2919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46200" y="2736720"/>
              <a:ext cx="406440" cy="573840"/>
              <a:chOff x="2446200" y="2736720"/>
              <a:chExt cx="406440" cy="5738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465280" y="284040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46200" y="273672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446200" y="1917000"/>
              <a:ext cx="406440" cy="574920"/>
              <a:chOff x="2446200" y="1917000"/>
              <a:chExt cx="406440" cy="574920"/>
            </a:xfrm>
          </p:grpSpPr>
          <p:sp>
            <p:nvSpPr>
              <p:cNvPr id="434" name=""/>
              <p:cNvSpPr/>
              <p:nvPr/>
            </p:nvSpPr>
            <p:spPr>
              <a:xfrm>
                <a:off x="2465280" y="191700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446200" y="224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441520" y="252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26920" y="224136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50840" y="2581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11680" y="2287440"/>
            <a:ext cx="981000" cy="543240"/>
          </a:xfrm>
          <a:prstGeom prst="leftRightArrow">
            <a:avLst>
              <a:gd name="adj1" fmla="val 50000"/>
              <a:gd name="adj2" fmla="val 3594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57720" y="2126160"/>
            <a:ext cx="391680" cy="951480"/>
            <a:chOff x="5157720" y="2126160"/>
            <a:chExt cx="391680" cy="951480"/>
          </a:xfrm>
        </p:grpSpPr>
        <p:sp>
          <p:nvSpPr>
            <p:cNvPr id="441" name=""/>
            <p:cNvSpPr/>
            <p:nvPr/>
          </p:nvSpPr>
          <p:spPr>
            <a:xfrm flipH="1" flipV="1">
              <a:off x="5157720" y="282456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64560" y="26982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175360" y="26373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158080" y="2326680"/>
              <a:ext cx="382680" cy="186120"/>
              <a:chOff x="5158080" y="2326680"/>
              <a:chExt cx="382680" cy="186120"/>
            </a:xfrm>
          </p:grpSpPr>
          <p:sp>
            <p:nvSpPr>
              <p:cNvPr id="445" name=""/>
              <p:cNvSpPr/>
              <p:nvPr/>
            </p:nvSpPr>
            <p:spPr>
              <a:xfrm flipH="1">
                <a:off x="5158080" y="23266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64920" y="2450880"/>
                <a:ext cx="37584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5175360" y="251064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358240" y="23090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55720" y="283932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44920" y="2126160"/>
              <a:ext cx="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667480" y="23400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7800" y="34988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 más baja es la resistencia, mejor es el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1800" y="4054320"/>
            <a:ext cx="765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parámetro está directamente relacionado con la tensión de ruptura y con la capacidad de manejar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0840" y="5219640"/>
            <a:ext cx="10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07040" y="532440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01800" y="596268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36920" y="5950080"/>
            <a:ext cx="87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1720" y="5208480"/>
            <a:ext cx="344520" cy="397080"/>
          </a:xfrm>
          <a:prstGeom prst="upArrow">
            <a:avLst>
              <a:gd name="adj1" fmla="val 50000"/>
              <a:gd name="adj2" fmla="val 28814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6680" y="5994360"/>
            <a:ext cx="318960" cy="409680"/>
          </a:xfrm>
          <a:prstGeom prst="downArrow">
            <a:avLst>
              <a:gd name="adj1" fmla="val 50000"/>
              <a:gd name="adj2" fmla="val 32111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6960" y="526572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595476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560" y="87480"/>
            <a:ext cx="48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jemplos de MOSFET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5720" y="1622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2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0400" y="103968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039680"/>
            <a:ext cx="4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1000" y="1039680"/>
            <a:ext cx="70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73480" y="1622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60760" y="162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34000" y="16225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0200" y="148752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5720" y="20923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1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3480" y="20923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60760" y="20923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9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34000" y="209232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5720" y="25750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3480" y="257508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60760" y="2575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34000" y="2575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5720" y="30830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7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73480" y="308304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60760" y="30830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4000" y="3083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55720" y="4048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 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3480" y="404820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0760" y="40482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34000" y="4048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720" y="3638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73480" y="3638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0760" y="3638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34000" y="36385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5720" y="4518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3480" y="451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60760" y="4518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34000" y="4518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5720" y="50259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3480" y="502596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60760" y="5025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34000" y="50259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0200" y="24732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0200" y="34974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200" y="446724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0080" y="5411880"/>
            <a:ext cx="52484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103800" y="1457280"/>
            <a:ext cx="2967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800" y="650880"/>
            <a:ext cx="8296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rrecto manejo de la puerta es fundamental para utilizar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480" y="1258920"/>
            <a:ext cx="81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ínima para ponerlo en conducción: tensión um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040" y="1736640"/>
            <a:ext cx="35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50021"/>
                </a:solidFill>
                <a:latin typeface="Arial"/>
              </a:rPr>
              <a:t>Threshold voltage: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V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9440" y="286380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áxima de puerta. Por encima de ese valor, se r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880" y="230976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típicos: 3 – 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7960" y="3365640"/>
            <a:ext cx="35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 15 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± 2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8640" y="3998880"/>
            <a:ext cx="7515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circuito equivalente entre puerta y fuente se modela como un condensador 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657320" y="4592520"/>
            <a:ext cx="1553760" cy="1526400"/>
            <a:chOff x="4657320" y="4592520"/>
            <a:chExt cx="1553760" cy="1526400"/>
          </a:xfrm>
        </p:grpSpPr>
        <p:sp>
          <p:nvSpPr>
            <p:cNvPr id="517" name=""/>
            <p:cNvSpPr/>
            <p:nvPr/>
          </p:nvSpPr>
          <p:spPr>
            <a:xfrm>
              <a:off x="5441760" y="533232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57320" y="5287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0760" y="45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7160" y="565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424480" y="5476680"/>
              <a:ext cx="406440" cy="573840"/>
              <a:chOff x="5424480" y="5476680"/>
              <a:chExt cx="406440" cy="573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443560" y="55803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4480" y="54766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24480" y="4656960"/>
              <a:ext cx="406440" cy="574920"/>
              <a:chOff x="5424480" y="4656960"/>
              <a:chExt cx="406440" cy="574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443560" y="465696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424480" y="49842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5419800" y="52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5200" y="498132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29120" y="53211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35440" y="5738400"/>
            <a:ext cx="488520" cy="943560"/>
            <a:chOff x="4735440" y="5738400"/>
            <a:chExt cx="488520" cy="943560"/>
          </a:xfrm>
        </p:grpSpPr>
        <p:sp>
          <p:nvSpPr>
            <p:cNvPr id="531" name=""/>
            <p:cNvSpPr/>
            <p:nvPr/>
          </p:nvSpPr>
          <p:spPr>
            <a:xfrm>
              <a:off x="4738680" y="609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35440" y="633960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955040" y="573840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65840" y="635076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827680" y="596268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87920" y="669132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9680" y="602784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74600" y="6031080"/>
            <a:ext cx="2743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den de magnitud: 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5880" y="635040"/>
            <a:ext cx="8004240" cy="822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to más alta es la tensión de puerta, menor es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a manejarlo con la tensión más alta posible (dentro del mar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41240" y="29908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838760" y="3021120"/>
            <a:ext cx="3854520" cy="374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57080" y="1717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s de salida reales de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11280" y="27558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2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97640" y="28036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17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78720" y="3276720"/>
            <a:ext cx="450720" cy="252360"/>
          </a:xfrm>
          <a:prstGeom prst="rightArrow">
            <a:avLst>
              <a:gd name="adj1" fmla="val 50000"/>
              <a:gd name="adj2" fmla="val 4465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800" y="22525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fluencia de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955960" y="5672160"/>
            <a:ext cx="2768400" cy="92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6494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hacer que el MOSFET se abra y se cierre, debemos cargar y descargar el condensador de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582360" y="1467000"/>
            <a:ext cx="1553760" cy="1526400"/>
            <a:chOff x="3582360" y="1467000"/>
            <a:chExt cx="1553760" cy="1526400"/>
          </a:xfrm>
        </p:grpSpPr>
        <p:sp>
          <p:nvSpPr>
            <p:cNvPr id="556" name=""/>
            <p:cNvSpPr/>
            <p:nvPr/>
          </p:nvSpPr>
          <p:spPr>
            <a:xfrm>
              <a:off x="4366800" y="2206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82360" y="216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5800" y="146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32200" y="253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349520" y="2351160"/>
              <a:ext cx="406440" cy="573840"/>
              <a:chOff x="4349520" y="2351160"/>
              <a:chExt cx="406440" cy="57384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4368600" y="2454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49520" y="2351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349520" y="1531440"/>
              <a:ext cx="406440" cy="574920"/>
              <a:chOff x="4349520" y="1531440"/>
              <a:chExt cx="406440" cy="574920"/>
            </a:xfrm>
          </p:grpSpPr>
          <p:sp>
            <p:nvSpPr>
              <p:cNvPr id="564" name=""/>
              <p:cNvSpPr/>
              <p:nvPr/>
            </p:nvSpPr>
            <p:spPr>
              <a:xfrm>
                <a:off x="4368600" y="1531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349520" y="1858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344840" y="2141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0240" y="1855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54160" y="2195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660840" y="2612520"/>
            <a:ext cx="488520" cy="943560"/>
            <a:chOff x="3660840" y="2612520"/>
            <a:chExt cx="488520" cy="943560"/>
          </a:xfrm>
        </p:grpSpPr>
        <p:sp>
          <p:nvSpPr>
            <p:cNvPr id="570" name=""/>
            <p:cNvSpPr/>
            <p:nvPr/>
          </p:nvSpPr>
          <p:spPr>
            <a:xfrm>
              <a:off x="3664080" y="296784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0840" y="321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880440" y="261252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91240" y="322488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753080" y="283680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13320" y="356544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32080" y="2690640"/>
            <a:ext cx="1006560" cy="9813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11400" y="2708280"/>
            <a:ext cx="968400" cy="981000"/>
          </a:xfrm>
          <a:custGeom>
            <a:avLst/>
            <a:gdLst>
              <a:gd name="textAreaLeft" fmla="*/ 360 w 968400"/>
              <a:gd name="textAreaRight" fmla="*/ 969120 w 96840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4480" y="2938320"/>
            <a:ext cx="144360" cy="622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417528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ía utilizada en cargar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229280" y="4041720"/>
                <a:ext cx="1204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808200" y="4862520"/>
            <a:ext cx="7646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 energía se pierde, por tanto, el hecho de manejar el MOSFET implica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265560" y="5829480"/>
                <a:ext cx="1911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73200" y="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618000" y="3144960"/>
            <a:ext cx="500760" cy="205920"/>
            <a:chOff x="3618000" y="3144960"/>
            <a:chExt cx="500760" cy="205920"/>
          </a:xfrm>
        </p:grpSpPr>
        <p:sp>
          <p:nvSpPr>
            <p:cNvPr id="585" name=""/>
            <p:cNvSpPr/>
            <p:nvPr/>
          </p:nvSpPr>
          <p:spPr>
            <a:xfrm flipV="1">
              <a:off x="3743280" y="314496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3750480" y="314856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817080" y="315396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3915360" y="3144960"/>
              <a:ext cx="97920" cy="201600"/>
              <a:chOff x="3915360" y="3144960"/>
              <a:chExt cx="97920" cy="201600"/>
            </a:xfrm>
          </p:grpSpPr>
          <p:sp>
            <p:nvSpPr>
              <p:cNvPr id="589" name=""/>
              <p:cNvSpPr/>
              <p:nvPr/>
            </p:nvSpPr>
            <p:spPr>
              <a:xfrm flipH="1" flipV="1">
                <a:off x="3946680" y="314496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15360" y="314856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 flipV="1">
              <a:off x="3848400" y="315396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015080" y="325044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618000" y="3249000"/>
              <a:ext cx="12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018320" y="324324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484160" y="3141720"/>
            <a:ext cx="501480" cy="205920"/>
            <a:chOff x="4484160" y="3141720"/>
            <a:chExt cx="501480" cy="205920"/>
          </a:xfrm>
        </p:grpSpPr>
        <p:sp>
          <p:nvSpPr>
            <p:cNvPr id="596" name=""/>
            <p:cNvSpPr/>
            <p:nvPr/>
          </p:nvSpPr>
          <p:spPr>
            <a:xfrm flipV="1">
              <a:off x="4610160" y="314172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617000" y="314532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683960" y="315072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782240" y="3141720"/>
              <a:ext cx="97920" cy="201600"/>
              <a:chOff x="4782240" y="3141720"/>
              <a:chExt cx="97920" cy="2016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4813560" y="314172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782240" y="314532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H="1" flipV="1">
              <a:off x="4714920" y="315072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881960" y="324720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84160" y="32457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85200" y="324000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973240" y="3789360"/>
            <a:ext cx="57312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46480" y="3952800"/>
            <a:ext cx="0" cy="424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32080" y="3257280"/>
            <a:ext cx="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3257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05440" y="32432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32080" y="45133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32080" y="5235480"/>
            <a:ext cx="284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081840" y="4498920"/>
            <a:ext cx="0" cy="73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21280" y="4513320"/>
            <a:ext cx="327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43440" y="4349880"/>
            <a:ext cx="668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058080" y="323028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951440" y="3243240"/>
            <a:ext cx="11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79600" y="38545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 (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2360" y="264312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44920" y="268128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97320" y="42670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78080" y="3189240"/>
            <a:ext cx="13680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148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0084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43200" y="2754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2360" y="33526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51360" y="26766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86080" y="5372280"/>
            <a:ext cx="34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 :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85720" y="1204920"/>
            <a:ext cx="7631280" cy="1063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93800" y="584280"/>
            <a:ext cx="2638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encia Tér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33560" y="6162840"/>
            <a:ext cx="76467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valores dependen fundamentalmente del tipo de encaps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63720" y="517680"/>
            <a:ext cx="72324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apidez de las conmutaciones depende en gran medida del modo en que se maneje la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1200" y="1187280"/>
            <a:ext cx="1771560" cy="1678680"/>
            <a:chOff x="601200" y="1187280"/>
            <a:chExt cx="1771560" cy="1678680"/>
          </a:xfrm>
        </p:grpSpPr>
        <p:grpSp>
          <p:nvGrpSpPr>
            <p:cNvPr id="639" name=""/>
            <p:cNvGrpSpPr/>
            <p:nvPr/>
          </p:nvGrpSpPr>
          <p:grpSpPr>
            <a:xfrm>
              <a:off x="601200" y="1187280"/>
              <a:ext cx="1634760" cy="1678680"/>
              <a:chOff x="601200" y="1187280"/>
              <a:chExt cx="1634760" cy="16786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01200" y="1187280"/>
                <a:ext cx="1634760" cy="1678680"/>
                <a:chOff x="601200" y="1187280"/>
                <a:chExt cx="1634760" cy="1678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442880" y="2079360"/>
                  <a:ext cx="390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1200" y="2035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11520" y="11872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52560" y="24062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1425600" y="2223720"/>
                  <a:ext cx="405360" cy="574920"/>
                  <a:chOff x="1425600" y="2223720"/>
                  <a:chExt cx="405360" cy="57492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V="1">
                    <a:off x="1444320" y="2328480"/>
                    <a:ext cx="38664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25600" y="2223720"/>
                    <a:ext cx="0" cy="24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1425600" y="1405440"/>
                  <a:ext cx="405360" cy="573840"/>
                  <a:chOff x="1425600" y="1405440"/>
                  <a:chExt cx="405360" cy="5738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1444320" y="1405440"/>
                    <a:ext cx="38664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1425600" y="1731960"/>
                    <a:ext cx="0" cy="24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1420560" y="201420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06320" y="1728720"/>
                  <a:ext cx="590040" cy="723600"/>
                </a:xfrm>
                <a:custGeom>
                  <a:avLst/>
                  <a:gdLst/>
                  <a:ahLst/>
                  <a:rect l="l" t="t" r="r" b="b"/>
                  <a:pathLst>
                    <a:path w="372" h="456">
                      <a:moveTo>
                        <a:pt x="372" y="0"/>
                      </a:moveTo>
                      <a:lnTo>
                        <a:pt x="372" y="456"/>
                      </a:lnTo>
                      <a:lnTo>
                        <a:pt x="0" y="456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flipV="1">
                <a:off x="1829880" y="206784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44640" y="1744560"/>
              <a:ext cx="528120" cy="672480"/>
              <a:chOff x="1844640" y="1744560"/>
              <a:chExt cx="528120" cy="672480"/>
            </a:xfrm>
          </p:grpSpPr>
          <p:sp>
            <p:nvSpPr>
              <p:cNvPr id="655" name=""/>
              <p:cNvSpPr/>
              <p:nvPr/>
            </p:nvSpPr>
            <p:spPr>
              <a:xfrm flipH="1" flipV="1" rot="10800000">
                <a:off x="2010960" y="2001240"/>
                <a:ext cx="32040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971360" y="1917000"/>
                <a:ext cx="40140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844640" y="218880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44640" y="174456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2408400" y="1628640"/>
            <a:ext cx="6694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 diodo parásito es l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el diodo está conduciendo, aunque el MOSFET se abra, el diodo puede seguir conduciendo un cierto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160" y="2960640"/>
            <a:ext cx="81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Además de la capacidad de puerta, hay otros d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75320" y="41608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07760" y="439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4560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3640" y="436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657680" y="4305240"/>
            <a:ext cx="406440" cy="573840"/>
            <a:chOff x="4657680" y="4305240"/>
            <a:chExt cx="406440" cy="573840"/>
          </a:xfrm>
        </p:grpSpPr>
        <p:sp>
          <p:nvSpPr>
            <p:cNvPr id="666" name=""/>
            <p:cNvSpPr/>
            <p:nvPr/>
          </p:nvSpPr>
          <p:spPr>
            <a:xfrm flipV="1">
              <a:off x="4676760" y="440892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430524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657680" y="3486960"/>
            <a:ext cx="406440" cy="573840"/>
            <a:chOff x="4657680" y="3486960"/>
            <a:chExt cx="406440" cy="573840"/>
          </a:xfrm>
        </p:grpSpPr>
        <p:sp>
          <p:nvSpPr>
            <p:cNvPr id="669" name=""/>
            <p:cNvSpPr/>
            <p:nvPr/>
          </p:nvSpPr>
          <p:spPr>
            <a:xfrm>
              <a:off x="4676760" y="34869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657680" y="38134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653000" y="409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38760" y="3809880"/>
            <a:ext cx="59040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062680" y="4149720"/>
            <a:ext cx="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968640" y="4567320"/>
            <a:ext cx="488880" cy="942480"/>
            <a:chOff x="3968640" y="4567320"/>
            <a:chExt cx="488880" cy="942480"/>
          </a:xfrm>
        </p:grpSpPr>
        <p:sp>
          <p:nvSpPr>
            <p:cNvPr id="675" name=""/>
            <p:cNvSpPr/>
            <p:nvPr/>
          </p:nvSpPr>
          <p:spPr>
            <a:xfrm>
              <a:off x="3971880" y="492228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8640" y="516816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188600" y="45673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9040" y="51789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060880" y="47912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921120" y="55198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55960" y="3551400"/>
            <a:ext cx="488520" cy="942480"/>
            <a:chOff x="3855960" y="3551400"/>
            <a:chExt cx="488520" cy="942480"/>
          </a:xfrm>
        </p:grpSpPr>
        <p:sp>
          <p:nvSpPr>
            <p:cNvPr id="682" name=""/>
            <p:cNvSpPr/>
            <p:nvPr/>
          </p:nvSpPr>
          <p:spPr>
            <a:xfrm>
              <a:off x="3859200" y="39063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55960" y="41522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075560" y="35514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86360" y="41630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460840" y="3583080"/>
            <a:ext cx="488880" cy="942480"/>
            <a:chOff x="5460840" y="3583080"/>
            <a:chExt cx="488880" cy="942480"/>
          </a:xfrm>
        </p:grpSpPr>
        <p:sp>
          <p:nvSpPr>
            <p:cNvPr id="687" name=""/>
            <p:cNvSpPr/>
            <p:nvPr/>
          </p:nvSpPr>
          <p:spPr>
            <a:xfrm>
              <a:off x="5464080" y="39380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60840" y="41839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680800" y="35830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1240" y="41947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081320" y="35672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672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94360" y="45529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6280" y="38448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79880" y="37339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4480" y="3805200"/>
            <a:ext cx="14842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53960" y="3610080"/>
            <a:ext cx="16970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843120" y="6051600"/>
            <a:ext cx="7920000" cy="692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851040" y="566892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6880" y="2951280"/>
            <a:ext cx="1496880" cy="92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45320" y="1414440"/>
            <a:ext cx="2901960" cy="2430360"/>
            <a:chOff x="5845320" y="1414440"/>
            <a:chExt cx="2901960" cy="2430360"/>
          </a:xfrm>
        </p:grpSpPr>
        <p:sp>
          <p:nvSpPr>
            <p:cNvPr id="702" name=""/>
            <p:cNvSpPr/>
            <p:nvPr/>
          </p:nvSpPr>
          <p:spPr>
            <a:xfrm>
              <a:off x="5845320" y="1414440"/>
              <a:ext cx="15120" cy="24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2520" y="239724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45320" y="1816560"/>
              <a:ext cx="2901960" cy="577080"/>
            </a:xfrm>
            <a:custGeom>
              <a:avLst/>
              <a:gdLst/>
              <a:ahLst/>
              <a:rect l="l" t="t" r="r" b="b"/>
              <a:pathLst>
                <a:path w="3224" h="641">
                  <a:moveTo>
                    <a:pt x="0" y="0"/>
                  </a:moveTo>
                  <a:lnTo>
                    <a:pt x="877" y="0"/>
                  </a:lnTo>
                  <a:lnTo>
                    <a:pt x="935" y="641"/>
                  </a:lnTo>
                  <a:lnTo>
                    <a:pt x="2529" y="641"/>
                  </a:lnTo>
                  <a:lnTo>
                    <a:pt x="2573" y="9"/>
                  </a:lnTo>
                  <a:lnTo>
                    <a:pt x="3224" y="9"/>
                  </a:ln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73760" y="367272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34800" y="1816560"/>
              <a:ext cx="0" cy="1857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73800" y="1816560"/>
              <a:ext cx="0" cy="1834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52520" y="3076920"/>
              <a:ext cx="2716560" cy="581400"/>
            </a:xfrm>
            <a:custGeom>
              <a:avLst/>
              <a:gdLst/>
              <a:ahLst/>
              <a:rect l="l" t="t" r="r" b="b"/>
              <a:pathLst>
                <a:path w="3018" h="646">
                  <a:moveTo>
                    <a:pt x="0" y="646"/>
                  </a:moveTo>
                  <a:lnTo>
                    <a:pt x="869" y="646"/>
                  </a:lnTo>
                  <a:lnTo>
                    <a:pt x="910" y="0"/>
                  </a:lnTo>
                  <a:lnTo>
                    <a:pt x="2538" y="9"/>
                  </a:lnTo>
                  <a:lnTo>
                    <a:pt x="2571" y="635"/>
                  </a:lnTo>
                  <a:lnTo>
                    <a:pt x="3018" y="63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265720" y="121428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040" y="517680"/>
            <a:ext cx="7381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ndensadores influyen fuertemente en las conmu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38720" y="280188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81400" y="20764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9960" y="226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87960" y="2305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63760" y="2220840"/>
            <a:ext cx="406440" cy="574920"/>
            <a:chOff x="2363760" y="2220840"/>
            <a:chExt cx="406440" cy="574920"/>
          </a:xfrm>
        </p:grpSpPr>
        <p:sp>
          <p:nvSpPr>
            <p:cNvPr id="719" name=""/>
            <p:cNvSpPr/>
            <p:nvPr/>
          </p:nvSpPr>
          <p:spPr>
            <a:xfrm flipV="1">
              <a:off x="2382840" y="2325600"/>
              <a:ext cx="387360" cy="47016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3760" y="2220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363760" y="1402560"/>
            <a:ext cx="406440" cy="573840"/>
            <a:chOff x="2363760" y="1402560"/>
            <a:chExt cx="406440" cy="573840"/>
          </a:xfrm>
        </p:grpSpPr>
        <p:sp>
          <p:nvSpPr>
            <p:cNvPr id="722" name=""/>
            <p:cNvSpPr/>
            <p:nvPr/>
          </p:nvSpPr>
          <p:spPr>
            <a:xfrm>
              <a:off x="2382840" y="14025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63760" y="17290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359080" y="201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44480" y="1725480"/>
            <a:ext cx="59076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768760" y="2064960"/>
            <a:ext cx="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74720" y="2482920"/>
            <a:ext cx="488520" cy="942480"/>
            <a:chOff x="1674720" y="2482920"/>
            <a:chExt cx="488520" cy="942480"/>
          </a:xfrm>
        </p:grpSpPr>
        <p:sp>
          <p:nvSpPr>
            <p:cNvPr id="728" name=""/>
            <p:cNvSpPr/>
            <p:nvPr/>
          </p:nvSpPr>
          <p:spPr>
            <a:xfrm>
              <a:off x="1677960" y="283788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308376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894320" y="24829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5120" y="30945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766960" y="27068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627200" y="34354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562040" y="1467000"/>
            <a:ext cx="488520" cy="942480"/>
            <a:chOff x="1562040" y="1467000"/>
            <a:chExt cx="488520" cy="942480"/>
          </a:xfrm>
        </p:grpSpPr>
        <p:sp>
          <p:nvSpPr>
            <p:cNvPr id="735" name=""/>
            <p:cNvSpPr/>
            <p:nvPr/>
          </p:nvSpPr>
          <p:spPr>
            <a:xfrm>
              <a:off x="1565280" y="18219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2040" y="20678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81640" y="14670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92440" y="20786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166920" y="1498680"/>
            <a:ext cx="488880" cy="942480"/>
            <a:chOff x="3166920" y="1498680"/>
            <a:chExt cx="488880" cy="942480"/>
          </a:xfrm>
        </p:grpSpPr>
        <p:sp>
          <p:nvSpPr>
            <p:cNvPr id="740" name=""/>
            <p:cNvSpPr/>
            <p:nvPr/>
          </p:nvSpPr>
          <p:spPr>
            <a:xfrm>
              <a:off x="3170160" y="18536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66920" y="20995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386880" y="14986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97320" y="21103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787400" y="14828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760" y="14828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00440" y="24685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62360" y="17604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85960" y="16495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413240" y="154584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276200" y="250308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05320" y="186372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0200" y="267480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02080" y="10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1600" y="1336680"/>
            <a:ext cx="112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6880" y="3971880"/>
            <a:ext cx="83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ecesita una cierta cantidad de energía para cargar l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476520" y="3108240"/>
                <a:ext cx="1060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3365640" y="2552760"/>
            <a:ext cx="220680" cy="385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200" y="4678200"/>
            <a:ext cx="1682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fecto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16680" y="1670040"/>
            <a:ext cx="345960" cy="4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02440" y="20764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29000" y="4557600"/>
            <a:ext cx="64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rgar el condensador de puerta se produce un cambio en la impedancia del condensador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27640" y="5234040"/>
            <a:ext cx="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13240" y="6413400"/>
            <a:ext cx="26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3240" y="5354640"/>
            <a:ext cx="2678400" cy="1058760"/>
          </a:xfrm>
          <a:custGeom>
            <a:avLst/>
            <a:gdLst/>
            <a:ahLst/>
            <a:rect l="l" t="t" r="r" b="b"/>
            <a:pathLst>
              <a:path w="1687" h="667">
                <a:moveTo>
                  <a:pt x="0" y="667"/>
                </a:moveTo>
                <a:lnTo>
                  <a:pt x="268" y="308"/>
                </a:lnTo>
                <a:lnTo>
                  <a:pt x="794" y="308"/>
                </a:lnTo>
                <a:lnTo>
                  <a:pt x="1102" y="0"/>
                </a:lnTo>
                <a:lnTo>
                  <a:pt x="1687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32480" y="512604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2240" y="56833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de onda que genera este cambio de imped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5835600"/>
            <a:ext cx="582840" cy="357120"/>
          </a:xfrm>
          <a:prstGeom prst="rightArrow">
            <a:avLst>
              <a:gd name="adj1" fmla="val 50000"/>
              <a:gd name="adj2" fmla="val 408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83600" y="596268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68680" y="5923080"/>
            <a:ext cx="10335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954160" y="4253040"/>
            <a:ext cx="3418200" cy="15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8080" y="1174680"/>
            <a:ext cx="14400" cy="22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92480" y="325296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79520" y="1658880"/>
            <a:ext cx="5118120" cy="1584360"/>
          </a:xfrm>
          <a:custGeom>
            <a:avLst/>
            <a:gdLst/>
            <a:ahLst/>
            <a:rect l="l" t="t" r="r" b="b"/>
            <a:pathLst>
              <a:path w="3224" h="998">
                <a:moveTo>
                  <a:pt x="0" y="0"/>
                </a:moveTo>
                <a:lnTo>
                  <a:pt x="877" y="0"/>
                </a:lnTo>
                <a:lnTo>
                  <a:pt x="1246" y="998"/>
                </a:lnTo>
                <a:lnTo>
                  <a:pt x="2209" y="998"/>
                </a:lnTo>
                <a:lnTo>
                  <a:pt x="2963" y="17"/>
                </a:lnTo>
                <a:lnTo>
                  <a:pt x="3224" y="14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25680" y="1119240"/>
            <a:ext cx="88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05200" y="36860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9000" y="367020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03880" y="367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560" y="596880"/>
            <a:ext cx="45054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ión de tiempo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47920" y="1650960"/>
            <a:ext cx="4791240" cy="1589040"/>
          </a:xfrm>
          <a:custGeom>
            <a:avLst/>
            <a:gdLst/>
            <a:ahLst/>
            <a:rect l="l" t="t" r="r" b="b"/>
            <a:pathLst>
              <a:path w="3018" h="1001">
                <a:moveTo>
                  <a:pt x="0" y="1001"/>
                </a:moveTo>
                <a:lnTo>
                  <a:pt x="575" y="999"/>
                </a:lnTo>
                <a:lnTo>
                  <a:pt x="1230" y="0"/>
                </a:lnTo>
                <a:lnTo>
                  <a:pt x="1810" y="5"/>
                </a:lnTo>
                <a:lnTo>
                  <a:pt x="2541" y="988"/>
                </a:lnTo>
                <a:lnTo>
                  <a:pt x="3018" y="988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54560" y="111456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65480" y="197820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90680" y="294336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4440" y="27194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46280" y="1760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59240" y="293220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7676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40360" y="293688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40160" y="365112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0520" y="364176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66920" y="36702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92800" y="367812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4680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6680" y="2944800"/>
            <a:ext cx="0" cy="7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62600" y="199404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46800" y="367344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0200" y="4624560"/>
            <a:ext cx="322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ba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1640" y="4248000"/>
            <a:ext cx="26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sub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36960" y="5011560"/>
            <a:ext cx="34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036960" y="5416560"/>
            <a:ext cx="37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a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660240" y="5896080"/>
            <a:ext cx="83314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78080" y="1238400"/>
            <a:ext cx="33480" cy="53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92480" y="381168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79520" y="2720880"/>
            <a:ext cx="5118120" cy="1092240"/>
          </a:xfrm>
          <a:custGeom>
            <a:avLst/>
            <a:gdLst/>
            <a:ahLst/>
            <a:rect l="l" t="t" r="r" b="b"/>
            <a:pathLst>
              <a:path w="3224" h="688">
                <a:moveTo>
                  <a:pt x="0" y="0"/>
                </a:moveTo>
                <a:lnTo>
                  <a:pt x="977" y="4"/>
                </a:lnTo>
                <a:lnTo>
                  <a:pt x="1143" y="680"/>
                </a:lnTo>
                <a:lnTo>
                  <a:pt x="2396" y="688"/>
                </a:lnTo>
                <a:lnTo>
                  <a:pt x="2604" y="20"/>
                </a:lnTo>
                <a:lnTo>
                  <a:pt x="3224" y="1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30280" y="50832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94160" y="2233440"/>
            <a:ext cx="0" cy="4021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16880" y="2219400"/>
            <a:ext cx="0" cy="4033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2480" y="4054320"/>
            <a:ext cx="4790880" cy="1006560"/>
          </a:xfrm>
          <a:custGeom>
            <a:avLst/>
            <a:gdLst/>
            <a:ahLst/>
            <a:rect l="l" t="t" r="r" b="b"/>
            <a:pathLst>
              <a:path w="3018" h="634">
                <a:moveTo>
                  <a:pt x="0" y="632"/>
                </a:moveTo>
                <a:lnTo>
                  <a:pt x="751" y="634"/>
                </a:lnTo>
                <a:lnTo>
                  <a:pt x="969" y="16"/>
                </a:lnTo>
                <a:lnTo>
                  <a:pt x="2596" y="0"/>
                </a:lnTo>
                <a:lnTo>
                  <a:pt x="2780" y="617"/>
                </a:lnTo>
                <a:lnTo>
                  <a:pt x="3018" y="624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6880" y="185436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4280" y="1879560"/>
            <a:ext cx="0" cy="3390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8280" y="239400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51120" y="3878280"/>
            <a:ext cx="6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61200" y="557856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560" y="33480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onmutaciones no son id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un cierto tiempo conviven tensión y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44760" y="115092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2760" y="24145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79520" y="1351080"/>
            <a:ext cx="4173840" cy="1035000"/>
          </a:xfrm>
          <a:custGeom>
            <a:avLst/>
            <a:gdLst/>
            <a:ahLst/>
            <a:rect l="l" t="t" r="r" b="b"/>
            <a:pathLst>
              <a:path w="2629" h="652">
                <a:moveTo>
                  <a:pt x="0" y="652"/>
                </a:moveTo>
                <a:lnTo>
                  <a:pt x="668" y="652"/>
                </a:lnTo>
                <a:lnTo>
                  <a:pt x="960" y="334"/>
                </a:lnTo>
                <a:lnTo>
                  <a:pt x="1152" y="334"/>
                </a:lnTo>
                <a:lnTo>
                  <a:pt x="1302" y="0"/>
                </a:lnTo>
                <a:lnTo>
                  <a:pt x="2212" y="9"/>
                </a:lnTo>
                <a:lnTo>
                  <a:pt x="2379" y="326"/>
                </a:lnTo>
                <a:lnTo>
                  <a:pt x="2629" y="326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92480" y="2208240"/>
            <a:ext cx="4371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600" y="1866960"/>
            <a:ext cx="9288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27800" y="1881360"/>
            <a:ext cx="396720" cy="517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24520" y="2398680"/>
            <a:ext cx="6638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08320" y="1895400"/>
            <a:ext cx="0" cy="433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66000" y="1866960"/>
            <a:ext cx="0" cy="4400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93920" y="62676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52520" y="521964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06520" y="5273640"/>
            <a:ext cx="474372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5840" y="5313240"/>
            <a:ext cx="568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0920" y="5330880"/>
            <a:ext cx="59508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6800" y="1495440"/>
            <a:ext cx="4860720" cy="1584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6080" y="20289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7160" y="153180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1: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arte 2: Dispositivos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3: Conversiones Energ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4: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5: N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8840" y="38160"/>
            <a:ext cx="34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6320" y="1066680"/>
            <a:ext cx="35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080" y="3406680"/>
            <a:ext cx="5653080" cy="3276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7800" y="3587760"/>
            <a:ext cx="61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4:   Diodo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5:   El Transistor bipolar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6:   El MOSFET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7:   El IG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8:   Tiris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9:   Circuitos de control y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0: Protección eléctr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1: Protección térm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2: Resistencias y condensadore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3: Bob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4: Transform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4119480"/>
            <a:ext cx="6502320" cy="2923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73200" y="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9040" y="62244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1480" y="36133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60040" y="1035000"/>
            <a:ext cx="1553760" cy="1526400"/>
            <a:chOff x="860040" y="1035000"/>
            <a:chExt cx="1553760" cy="1526400"/>
          </a:xfrm>
        </p:grpSpPr>
        <p:sp>
          <p:nvSpPr>
            <p:cNvPr id="840" name=""/>
            <p:cNvSpPr/>
            <p:nvPr/>
          </p:nvSpPr>
          <p:spPr>
            <a:xfrm>
              <a:off x="1644480" y="1774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0040" y="1730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13480" y="103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9880" y="210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1627200" y="1919160"/>
              <a:ext cx="406440" cy="573840"/>
              <a:chOff x="1627200" y="1919160"/>
              <a:chExt cx="406440" cy="573840"/>
            </a:xfrm>
          </p:grpSpPr>
          <p:sp>
            <p:nvSpPr>
              <p:cNvPr id="845" name=""/>
              <p:cNvSpPr/>
              <p:nvPr/>
            </p:nvSpPr>
            <p:spPr>
              <a:xfrm flipV="1">
                <a:off x="1646280" y="2022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27200" y="1919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627200" y="1099440"/>
              <a:ext cx="406440" cy="574920"/>
              <a:chOff x="1627200" y="1099440"/>
              <a:chExt cx="406440" cy="574920"/>
            </a:xfrm>
          </p:grpSpPr>
          <p:sp>
            <p:nvSpPr>
              <p:cNvPr id="848" name=""/>
              <p:cNvSpPr/>
              <p:nvPr/>
            </p:nvSpPr>
            <p:spPr>
              <a:xfrm>
                <a:off x="1646280" y="1099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627200" y="1426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622520" y="1709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07920" y="1423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031840" y="1763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502000" y="1628640"/>
            <a:ext cx="649080" cy="384480"/>
          </a:xfrm>
          <a:prstGeom prst="leftRightArrow">
            <a:avLst>
              <a:gd name="adj1" fmla="val 50000"/>
              <a:gd name="adj2" fmla="val 3360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252960" y="1373760"/>
            <a:ext cx="391680" cy="951840"/>
            <a:chOff x="3252960" y="1373760"/>
            <a:chExt cx="391680" cy="951840"/>
          </a:xfrm>
        </p:grpSpPr>
        <p:sp>
          <p:nvSpPr>
            <p:cNvPr id="855" name=""/>
            <p:cNvSpPr/>
            <p:nvPr/>
          </p:nvSpPr>
          <p:spPr>
            <a:xfrm flipH="1" flipV="1">
              <a:off x="3252960" y="207252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259800" y="19458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270600" y="18849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253320" y="1574280"/>
              <a:ext cx="382680" cy="186120"/>
              <a:chOff x="3253320" y="1574280"/>
              <a:chExt cx="382680" cy="186120"/>
            </a:xfrm>
          </p:grpSpPr>
          <p:sp>
            <p:nvSpPr>
              <p:cNvPr id="859" name=""/>
              <p:cNvSpPr/>
              <p:nvPr/>
            </p:nvSpPr>
            <p:spPr>
              <a:xfrm flipH="1">
                <a:off x="3253320" y="15742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3260160" y="1698120"/>
                <a:ext cx="375840" cy="6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3270600" y="175860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453480" y="15566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50960" y="208728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160" y="1373760"/>
              <a:ext cx="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814920" y="15876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0240" y="884160"/>
            <a:ext cx="65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83440" y="1152000"/>
            <a:ext cx="2496960" cy="1219320"/>
            <a:chOff x="6283440" y="1152000"/>
            <a:chExt cx="2496960" cy="1219320"/>
          </a:xfrm>
        </p:grpSpPr>
        <p:sp>
          <p:nvSpPr>
            <p:cNvPr id="868" name=""/>
            <p:cNvSpPr/>
            <p:nvPr/>
          </p:nvSpPr>
          <p:spPr>
            <a:xfrm>
              <a:off x="6283440" y="2192040"/>
              <a:ext cx="249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92800" y="1389600"/>
              <a:ext cx="1375200" cy="784800"/>
            </a:xfrm>
            <a:custGeom>
              <a:avLst/>
              <a:gdLst/>
              <a:ahLst/>
              <a:rect l="l" t="t" r="r" b="b"/>
              <a:pathLst>
                <a:path w="3018" h="634">
                  <a:moveTo>
                    <a:pt x="0" y="632"/>
                  </a:moveTo>
                  <a:lnTo>
                    <a:pt x="751" y="634"/>
                  </a:lnTo>
                  <a:lnTo>
                    <a:pt x="969" y="16"/>
                  </a:lnTo>
                  <a:lnTo>
                    <a:pt x="2596" y="0"/>
                  </a:lnTo>
                  <a:lnTo>
                    <a:pt x="2780" y="617"/>
                  </a:lnTo>
                  <a:lnTo>
                    <a:pt x="3018" y="624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75120" y="2165040"/>
              <a:ext cx="10580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4880" y="1152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638760" y="2425680"/>
            <a:ext cx="2014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413080"/>
            <a:ext cx="5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40720" y="21607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16800" y="217980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79680" y="2651040"/>
            <a:ext cx="27180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conduc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·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58309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2640" y="458316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57440" y="4836960"/>
            <a:ext cx="474336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4876920"/>
            <a:ext cx="568440" cy="92844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51480" y="4894200"/>
            <a:ext cx="595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657440" y="4413240"/>
            <a:ext cx="0" cy="15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55640" y="5433840"/>
            <a:ext cx="4943520" cy="0"/>
          </a:xfrm>
          <a:prstGeom prst="line">
            <a:avLst/>
          </a:prstGeom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26160" y="4941720"/>
            <a:ext cx="22654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el valor medio de la forma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5960" y="21337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ció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Intensificación Electroté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9440" y="2743200"/>
            <a:ext cx="41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OSFET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80640" y="2043000"/>
            <a:ext cx="1553760" cy="1526400"/>
            <a:chOff x="980640" y="2043000"/>
            <a:chExt cx="1553760" cy="1526400"/>
          </a:xfrm>
        </p:grpSpPr>
        <p:sp>
          <p:nvSpPr>
            <p:cNvPr id="66" name=""/>
            <p:cNvSpPr/>
            <p:nvPr/>
          </p:nvSpPr>
          <p:spPr>
            <a:xfrm>
              <a:off x="1765080" y="2782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0640" y="273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408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0480" y="3109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747800" y="2927160"/>
              <a:ext cx="406440" cy="573840"/>
              <a:chOff x="1747800" y="2927160"/>
              <a:chExt cx="406440" cy="5738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1766880" y="3030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47800" y="2927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747800" y="2107440"/>
              <a:ext cx="406440" cy="574920"/>
              <a:chOff x="1747800" y="2107440"/>
              <a:chExt cx="406440" cy="574920"/>
            </a:xfrm>
          </p:grpSpPr>
          <p:sp>
            <p:nvSpPr>
              <p:cNvPr id="74" name=""/>
              <p:cNvSpPr/>
              <p:nvPr/>
            </p:nvSpPr>
            <p:spPr>
              <a:xfrm>
                <a:off x="1766880" y="2107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747800" y="2434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743120" y="2717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8520" y="2431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52440" y="2771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880" y="40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55080" y="4097880"/>
            <a:ext cx="1533240" cy="1460520"/>
            <a:chOff x="955080" y="4097880"/>
            <a:chExt cx="1533240" cy="1460520"/>
          </a:xfrm>
        </p:grpSpPr>
        <p:sp>
          <p:nvSpPr>
            <p:cNvPr id="81" name=""/>
            <p:cNvSpPr/>
            <p:nvPr/>
          </p:nvSpPr>
          <p:spPr>
            <a:xfrm flipH="1">
              <a:off x="1833120" y="47779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5080" y="4727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4920" y="5098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22240" y="4916160"/>
              <a:ext cx="406440" cy="573840"/>
              <a:chOff x="1722240" y="4916160"/>
              <a:chExt cx="406440" cy="5738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1741320" y="5019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2240" y="4916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722240" y="4097880"/>
              <a:ext cx="406440" cy="573840"/>
              <a:chOff x="1722240" y="4097880"/>
              <a:chExt cx="4064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1741320" y="409788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722240" y="442440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717560" y="4706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2960" y="4420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26880" y="4760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20800" y="477972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962440" y="269244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464652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160" y="79200"/>
            <a:ext cx="7226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transistor de Efecto de Campo Metal-Óxido-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tal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miconductor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eld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fect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nsistor (MOS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2520" y="1057320"/>
            <a:ext cx="6656400" cy="78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un dispositivo unipol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ducción sólo es debida a un tipo de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6840" y="255600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elect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5920" y="458784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hue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160" y="5846760"/>
            <a:ext cx="8191800" cy="785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ás usados son los MOSFE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nducción es debida a los electrones y por tanto, son más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904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09840" y="1644480"/>
            <a:ext cx="4932720" cy="3425760"/>
            <a:chOff x="4209840" y="1644480"/>
            <a:chExt cx="4932720" cy="3425760"/>
          </a:xfrm>
        </p:grpSpPr>
        <p:sp>
          <p:nvSpPr>
            <p:cNvPr id="105" name=""/>
            <p:cNvSpPr/>
            <p:nvPr/>
          </p:nvSpPr>
          <p:spPr>
            <a:xfrm>
              <a:off x="4809960" y="1644480"/>
              <a:ext cx="1188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[m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0800" y="404460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4581360"/>
              <a:ext cx="180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76080" y="4533120"/>
              <a:ext cx="3895560" cy="145800"/>
              <a:chOff x="4276080" y="4533120"/>
              <a:chExt cx="3895560" cy="1458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47930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26716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73588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2082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6794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15212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248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9880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332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276080" y="4541040"/>
                <a:ext cx="389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690800" y="45432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0800" y="4035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0800" y="35334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90800" y="3027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800" y="252216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90880" y="447444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0880" y="1995120"/>
              <a:ext cx="0" cy="307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09840" y="2285640"/>
              <a:ext cx="435960" cy="1427760"/>
              <a:chOff x="4209840" y="2285640"/>
              <a:chExt cx="435960" cy="1427760"/>
            </a:xfrm>
          </p:grpSpPr>
          <p:sp>
            <p:nvSpPr>
              <p:cNvPr id="127" name=""/>
              <p:cNvSpPr/>
              <p:nvPr/>
            </p:nvSpPr>
            <p:spPr>
              <a:xfrm>
                <a:off x="4209840" y="228564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09840" y="325872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516720" y="460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49760" y="4606560"/>
              <a:ext cx="54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4000" y="4586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720" y="44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83120" y="866880"/>
            <a:ext cx="32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Curva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6087960"/>
            <a:ext cx="514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Curvas de entra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tienen interé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puerta aislada del ca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3120" y="919080"/>
            <a:ext cx="35416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ferencias norm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17560" y="2003400"/>
            <a:ext cx="3156840" cy="2362680"/>
            <a:chOff x="817560" y="2003400"/>
            <a:chExt cx="3156840" cy="2362680"/>
          </a:xfrm>
        </p:grpSpPr>
        <p:grpSp>
          <p:nvGrpSpPr>
            <p:cNvPr id="137" name=""/>
            <p:cNvGrpSpPr/>
            <p:nvPr/>
          </p:nvGrpSpPr>
          <p:grpSpPr>
            <a:xfrm>
              <a:off x="3171600" y="3066840"/>
              <a:ext cx="550800" cy="228240"/>
              <a:chOff x="3171600" y="3066840"/>
              <a:chExt cx="550800" cy="228240"/>
            </a:xfrm>
          </p:grpSpPr>
          <p:sp>
            <p:nvSpPr>
              <p:cNvPr id="138" name=""/>
              <p:cNvSpPr/>
              <p:nvPr/>
            </p:nvSpPr>
            <p:spPr>
              <a:xfrm flipH="1" flipV="1" rot="16200000">
                <a:off x="3421440" y="2817000"/>
                <a:ext cx="5112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6200000">
                <a:off x="3404520" y="31176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3426840" y="2209680"/>
              <a:ext cx="180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46280" y="3281400"/>
              <a:ext cx="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1600" y="3336840"/>
              <a:ext cx="78120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3990960"/>
              <a:ext cx="2362320" cy="29520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5760" y="2208240"/>
              <a:ext cx="922320" cy="144360"/>
            </a:xfrm>
            <a:custGeom>
              <a:avLst/>
              <a:gdLst/>
              <a:ahLst/>
              <a:rect l="l" t="t" r="r" b="b"/>
              <a:pathLst>
                <a:path w="564" h="91">
                  <a:moveTo>
                    <a:pt x="0" y="91"/>
                  </a:moveTo>
                  <a:lnTo>
                    <a:pt x="0" y="0"/>
                  </a:lnTo>
                  <a:lnTo>
                    <a:pt x="5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9200" y="2539800"/>
              <a:ext cx="710640" cy="1136160"/>
              <a:chOff x="2599200" y="2539800"/>
              <a:chExt cx="710640" cy="1136160"/>
            </a:xfrm>
          </p:grpSpPr>
          <p:sp>
            <p:nvSpPr>
              <p:cNvPr id="146" name=""/>
              <p:cNvSpPr/>
              <p:nvPr/>
            </p:nvSpPr>
            <p:spPr>
              <a:xfrm>
                <a:off x="264780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599200" y="2747880"/>
                <a:ext cx="710640" cy="928080"/>
                <a:chOff x="2599200" y="2747880"/>
                <a:chExt cx="710640" cy="92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652480" y="2747880"/>
                  <a:ext cx="0" cy="77148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99200" y="32162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41680" y="2901960"/>
                  <a:ext cx="668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008080"/>
                      </a:solidFill>
                      <a:latin typeface="Arial"/>
                    </a:rPr>
                    <a:t>D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2376360" y="2009520"/>
              <a:ext cx="1190520" cy="27792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20034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17560" y="3831480"/>
              <a:ext cx="550800" cy="226800"/>
              <a:chOff x="817560" y="3831480"/>
              <a:chExt cx="550800" cy="226800"/>
            </a:xfrm>
          </p:grpSpPr>
          <p:sp>
            <p:nvSpPr>
              <p:cNvPr id="154" name=""/>
              <p:cNvSpPr/>
              <p:nvPr/>
            </p:nvSpPr>
            <p:spPr>
              <a:xfrm flipH="1" flipV="1" rot="16200000">
                <a:off x="1067400" y="3580920"/>
                <a:ext cx="5076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 rot="16200000">
                <a:off x="1049400" y="3881160"/>
                <a:ext cx="83880" cy="269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50160" y="3230280"/>
              <a:ext cx="797760" cy="1135800"/>
              <a:chOff x="1550160" y="3230280"/>
              <a:chExt cx="797760" cy="113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3440" y="3438000"/>
                <a:ext cx="0" cy="771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8760" y="3230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50160" y="390636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78240" y="3592080"/>
                <a:ext cx="769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490040" y="2851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1080" y="230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7200" y="3208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6600" y="29638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38400" y="3212280"/>
              <a:ext cx="387360" cy="109044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19320" y="31082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19320" y="2289960"/>
              <a:ext cx="406440" cy="573840"/>
              <a:chOff x="2119320" y="2289960"/>
              <a:chExt cx="406440" cy="57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138400" y="22899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119320" y="26164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14280" y="2898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0040" y="2612880"/>
              <a:ext cx="59040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5760" y="294480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91240" y="4537080"/>
            <a:ext cx="4066560" cy="767160"/>
            <a:chOff x="4791240" y="4537080"/>
            <a:chExt cx="4066560" cy="767160"/>
          </a:xfrm>
        </p:grpSpPr>
        <p:sp>
          <p:nvSpPr>
            <p:cNvPr id="174" name=""/>
            <p:cNvSpPr/>
            <p:nvPr/>
          </p:nvSpPr>
          <p:spPr>
            <a:xfrm>
              <a:off x="4791240" y="4537080"/>
              <a:ext cx="31744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9040" y="4903560"/>
              <a:ext cx="168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32520" y="4562280"/>
              <a:ext cx="402840" cy="558360"/>
            </a:xfrm>
            <a:custGeom>
              <a:avLst/>
              <a:gdLst/>
              <a:ahLst/>
              <a:rect l="l" t="t" r="r" b="b"/>
              <a:pathLst>
                <a:path w="254" h="352">
                  <a:moveTo>
                    <a:pt x="195" y="352"/>
                  </a:moveTo>
                  <a:cubicBezTo>
                    <a:pt x="141" y="352"/>
                    <a:pt x="87" y="352"/>
                    <a:pt x="59" y="328"/>
                  </a:cubicBezTo>
                  <a:cubicBezTo>
                    <a:pt x="31" y="304"/>
                    <a:pt x="0" y="240"/>
                    <a:pt x="27" y="208"/>
                  </a:cubicBezTo>
                  <a:cubicBezTo>
                    <a:pt x="54" y="176"/>
                    <a:pt x="184" y="171"/>
                    <a:pt x="219" y="136"/>
                  </a:cubicBezTo>
                  <a:cubicBezTo>
                    <a:pt x="254" y="101"/>
                    <a:pt x="244" y="50"/>
                    <a:pt x="235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9960" y="4091040"/>
            <a:ext cx="3168720" cy="446040"/>
            <a:chOff x="4809960" y="4091040"/>
            <a:chExt cx="3168720" cy="446040"/>
          </a:xfrm>
        </p:grpSpPr>
        <p:sp>
          <p:nvSpPr>
            <p:cNvPr id="178" name=""/>
            <p:cNvSpPr/>
            <p:nvPr/>
          </p:nvSpPr>
          <p:spPr>
            <a:xfrm>
              <a:off x="4809960" y="4446720"/>
              <a:ext cx="3168720" cy="90360"/>
            </a:xfrm>
            <a:custGeom>
              <a:avLst/>
              <a:gdLst/>
              <a:ahLst/>
              <a:rect l="l" t="t" r="r" b="b"/>
              <a:pathLst>
                <a:path w="1996" h="57">
                  <a:moveTo>
                    <a:pt x="0" y="57"/>
                  </a:moveTo>
                  <a:lnTo>
                    <a:pt x="150" y="4"/>
                  </a:lnTo>
                  <a:lnTo>
                    <a:pt x="158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8" y="0"/>
                  </a:lnTo>
                  <a:lnTo>
                    <a:pt x="1996" y="2"/>
                  </a:lnTo>
                </a:path>
              </a:pathLst>
            </a:custGeom>
            <a:noFill/>
            <a:ln cap="rnd"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1680" y="4091040"/>
              <a:ext cx="1229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cccc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= 2,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16440" y="3780000"/>
            <a:ext cx="3193920" cy="738000"/>
            <a:chOff x="4816440" y="3780000"/>
            <a:chExt cx="3193920" cy="738000"/>
          </a:xfrm>
        </p:grpSpPr>
        <p:sp>
          <p:nvSpPr>
            <p:cNvPr id="181" name=""/>
            <p:cNvSpPr/>
            <p:nvPr/>
          </p:nvSpPr>
          <p:spPr>
            <a:xfrm>
              <a:off x="4816440" y="4141800"/>
              <a:ext cx="3193920" cy="376200"/>
            </a:xfrm>
            <a:custGeom>
              <a:avLst/>
              <a:gdLst/>
              <a:ahLst/>
              <a:rect l="l" t="t" r="r" b="b"/>
              <a:pathLst>
                <a:path w="2012" h="237">
                  <a:moveTo>
                    <a:pt x="0" y="237"/>
                  </a:moveTo>
                  <a:lnTo>
                    <a:pt x="275" y="18"/>
                  </a:lnTo>
                  <a:lnTo>
                    <a:pt x="289" y="8"/>
                  </a:lnTo>
                  <a:lnTo>
                    <a:pt x="303" y="7"/>
                  </a:lnTo>
                  <a:lnTo>
                    <a:pt x="319" y="2"/>
                  </a:lnTo>
                  <a:lnTo>
                    <a:pt x="345" y="0"/>
                  </a:lnTo>
                  <a:lnTo>
                    <a:pt x="380" y="0"/>
                  </a:lnTo>
                  <a:lnTo>
                    <a:pt x="2012" y="1"/>
                  </a:lnTo>
                </a:path>
              </a:pathLst>
            </a:custGeom>
            <a:noFill/>
            <a:ln cap="rnd" w="38160">
              <a:solidFill>
                <a:srgbClr val="ef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80720" y="3780000"/>
              <a:ext cx="1103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9900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=  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16440" y="3417840"/>
            <a:ext cx="3225600" cy="1100160"/>
            <a:chOff x="4816440" y="3417840"/>
            <a:chExt cx="3225600" cy="1100160"/>
          </a:xfrm>
        </p:grpSpPr>
        <p:sp>
          <p:nvSpPr>
            <p:cNvPr id="184" name=""/>
            <p:cNvSpPr/>
            <p:nvPr/>
          </p:nvSpPr>
          <p:spPr>
            <a:xfrm>
              <a:off x="4816440" y="3800520"/>
              <a:ext cx="3225600" cy="717480"/>
            </a:xfrm>
            <a:custGeom>
              <a:avLst/>
              <a:gdLst/>
              <a:ahLst/>
              <a:rect l="l" t="t" r="r" b="b"/>
              <a:pathLst>
                <a:path w="2032" h="536">
                  <a:moveTo>
                    <a:pt x="0" y="536"/>
                  </a:moveTo>
                  <a:lnTo>
                    <a:pt x="426" y="62"/>
                  </a:lnTo>
                  <a:lnTo>
                    <a:pt x="447" y="42"/>
                  </a:lnTo>
                  <a:lnTo>
                    <a:pt x="469" y="38"/>
                  </a:lnTo>
                  <a:lnTo>
                    <a:pt x="492" y="28"/>
                  </a:lnTo>
                  <a:lnTo>
                    <a:pt x="533" y="23"/>
                  </a:lnTo>
                  <a:lnTo>
                    <a:pt x="588" y="23"/>
                  </a:lnTo>
                  <a:lnTo>
                    <a:pt x="2032" y="0"/>
                  </a:lnTo>
                </a:path>
              </a:pathLst>
            </a:custGeom>
            <a:noFill/>
            <a:ln cap="rnd"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760" y="34178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= 3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97360" y="2846520"/>
            <a:ext cx="3263760" cy="1709640"/>
            <a:chOff x="4797360" y="2846520"/>
            <a:chExt cx="3263760" cy="1709640"/>
          </a:xfrm>
        </p:grpSpPr>
        <p:sp>
          <p:nvSpPr>
            <p:cNvPr id="187" name=""/>
            <p:cNvSpPr/>
            <p:nvPr/>
          </p:nvSpPr>
          <p:spPr>
            <a:xfrm>
              <a:off x="6420960" y="2846520"/>
              <a:ext cx="1135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6600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= 4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7360" y="3222720"/>
              <a:ext cx="3263760" cy="1333440"/>
            </a:xfrm>
            <a:custGeom>
              <a:avLst/>
              <a:gdLst/>
              <a:ahLst/>
              <a:rect l="l" t="t" r="r" b="b"/>
              <a:pathLst>
                <a:path w="2056" h="840">
                  <a:moveTo>
                    <a:pt x="0" y="840"/>
                  </a:moveTo>
                  <a:lnTo>
                    <a:pt x="554" y="100"/>
                  </a:lnTo>
                  <a:lnTo>
                    <a:pt x="582" y="70"/>
                  </a:lnTo>
                  <a:lnTo>
                    <a:pt x="610" y="63"/>
                  </a:lnTo>
                  <a:lnTo>
                    <a:pt x="639" y="48"/>
                  </a:lnTo>
                  <a:lnTo>
                    <a:pt x="693" y="40"/>
                  </a:lnTo>
                  <a:lnTo>
                    <a:pt x="764" y="40"/>
                  </a:lnTo>
                  <a:lnTo>
                    <a:pt x="2056" y="0"/>
                  </a:lnTo>
                </a:path>
              </a:pathLst>
            </a:custGeom>
            <a:noFill/>
            <a:ln cap="rnd"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97360" y="2154240"/>
            <a:ext cx="3244680" cy="2382840"/>
            <a:chOff x="4797360" y="2154240"/>
            <a:chExt cx="3244680" cy="2382840"/>
          </a:xfrm>
        </p:grpSpPr>
        <p:sp>
          <p:nvSpPr>
            <p:cNvPr id="190" name=""/>
            <p:cNvSpPr/>
            <p:nvPr/>
          </p:nvSpPr>
          <p:spPr>
            <a:xfrm>
              <a:off x="6344280" y="21542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9933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= 4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360" y="2505240"/>
              <a:ext cx="3244680" cy="2031840"/>
            </a:xfrm>
            <a:custGeom>
              <a:avLst/>
              <a:gdLst/>
              <a:ahLst/>
              <a:rect l="l" t="t" r="r" b="b"/>
              <a:pathLst>
                <a:path w="2044" h="1280">
                  <a:moveTo>
                    <a:pt x="0" y="1280"/>
                  </a:moveTo>
                  <a:lnTo>
                    <a:pt x="625" y="201"/>
                  </a:lnTo>
                  <a:lnTo>
                    <a:pt x="679" y="123"/>
                  </a:lnTo>
                  <a:lnTo>
                    <a:pt x="728" y="79"/>
                  </a:lnTo>
                  <a:lnTo>
                    <a:pt x="763" y="56"/>
                  </a:lnTo>
                  <a:lnTo>
                    <a:pt x="827" y="44"/>
                  </a:lnTo>
                  <a:lnTo>
                    <a:pt x="940" y="39"/>
                  </a:lnTo>
                  <a:lnTo>
                    <a:pt x="2044" y="0"/>
                  </a:lnTo>
                </a:path>
              </a:pathLst>
            </a:custGeom>
            <a:noFill/>
            <a:ln cap="rnd"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52920" y="1362240"/>
            <a:ext cx="3005280" cy="2581200"/>
            <a:chOff x="4552920" y="1362240"/>
            <a:chExt cx="3005280" cy="2581200"/>
          </a:xfrm>
        </p:grpSpPr>
        <p:grpSp>
          <p:nvGrpSpPr>
            <p:cNvPr id="195" name=""/>
            <p:cNvGrpSpPr/>
            <p:nvPr/>
          </p:nvGrpSpPr>
          <p:grpSpPr>
            <a:xfrm>
              <a:off x="4552920" y="1362240"/>
              <a:ext cx="3005280" cy="2581200"/>
              <a:chOff x="4552920" y="1362240"/>
              <a:chExt cx="3005280" cy="258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4552920" y="1362240"/>
                <a:ext cx="3005280" cy="25812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92760" y="1641600"/>
                <a:ext cx="13968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247160" y="366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84440" y="835200"/>
            <a:ext cx="4799880" cy="3457800"/>
            <a:chOff x="4384440" y="835200"/>
            <a:chExt cx="4799880" cy="3457800"/>
          </a:xfrm>
        </p:grpSpPr>
        <p:sp>
          <p:nvSpPr>
            <p:cNvPr id="200" name=""/>
            <p:cNvSpPr/>
            <p:nvPr/>
          </p:nvSpPr>
          <p:spPr>
            <a:xfrm>
              <a:off x="8062560" y="378792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84440" y="835200"/>
              <a:ext cx="3962880" cy="3425760"/>
              <a:chOff x="4384440" y="835200"/>
              <a:chExt cx="3962880" cy="3425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984920" y="835200"/>
                <a:ext cx="11887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97520" y="3772080"/>
                <a:ext cx="1810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451400" y="3723840"/>
                <a:ext cx="3895920" cy="145800"/>
                <a:chOff x="4451400" y="3723840"/>
                <a:chExt cx="3895920" cy="1458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9680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42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59108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38316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8544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73274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800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7376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4864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4451400" y="3731760"/>
                  <a:ext cx="3895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65760" y="37339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5760" y="322596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65760" y="27241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65760" y="221760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5760" y="171288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965840" y="366516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65840" y="1185840"/>
                <a:ext cx="0" cy="307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384440" y="1476360"/>
                <a:ext cx="435960" cy="1427400"/>
                <a:chOff x="4384440" y="1476360"/>
                <a:chExt cx="435960" cy="1427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384440" y="147636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384440" y="244908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6691320" y="3795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24720" y="3797280"/>
                <a:ext cx="549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2080" y="3776760"/>
                <a:ext cx="519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21680" y="367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984920" y="3319560"/>
            <a:ext cx="3941640" cy="407880"/>
            <a:chOff x="4984920" y="3319560"/>
            <a:chExt cx="3941640" cy="407880"/>
          </a:xfrm>
        </p:grpSpPr>
        <p:grpSp>
          <p:nvGrpSpPr>
            <p:cNvPr id="230" name=""/>
            <p:cNvGrpSpPr/>
            <p:nvPr/>
          </p:nvGrpSpPr>
          <p:grpSpPr>
            <a:xfrm>
              <a:off x="4984920" y="3319560"/>
              <a:ext cx="3941640" cy="407880"/>
              <a:chOff x="4984920" y="3319560"/>
              <a:chExt cx="3941640" cy="407880"/>
            </a:xfrm>
          </p:grpSpPr>
          <p:sp>
            <p:nvSpPr>
              <p:cNvPr id="231" name=""/>
              <p:cNvSpPr/>
              <p:nvPr/>
            </p:nvSpPr>
            <p:spPr>
              <a:xfrm>
                <a:off x="4984920" y="3581280"/>
                <a:ext cx="2711160" cy="146160"/>
              </a:xfrm>
              <a:custGeom>
                <a:avLst/>
                <a:gdLst/>
                <a:ahLst/>
                <a:rect l="l" t="t" r="r" b="b"/>
                <a:pathLst>
                  <a:path w="1708" h="92">
                    <a:moveTo>
                      <a:pt x="0" y="92"/>
                    </a:moveTo>
                    <a:lnTo>
                      <a:pt x="83" y="17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7" y="12"/>
                    </a:lnTo>
                    <a:lnTo>
                      <a:pt x="104" y="11"/>
                    </a:lnTo>
                    <a:lnTo>
                      <a:pt x="115" y="11"/>
                    </a:lnTo>
                    <a:lnTo>
                      <a:pt x="1708" y="0"/>
                    </a:lnTo>
                  </a:path>
                </a:pathLst>
              </a:custGeom>
              <a:noFill/>
              <a:ln cap="rnd"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96800" y="3319560"/>
                <a:ext cx="1229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ccccff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= 2,5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073640" y="3527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981680" y="2951280"/>
            <a:ext cx="3659760" cy="757080"/>
            <a:chOff x="4981680" y="2951280"/>
            <a:chExt cx="3659760" cy="757080"/>
          </a:xfrm>
        </p:grpSpPr>
        <p:grpSp>
          <p:nvGrpSpPr>
            <p:cNvPr id="235" name=""/>
            <p:cNvGrpSpPr/>
            <p:nvPr/>
          </p:nvGrpSpPr>
          <p:grpSpPr>
            <a:xfrm>
              <a:off x="4981680" y="2951280"/>
              <a:ext cx="3659760" cy="757080"/>
              <a:chOff x="4981680" y="2951280"/>
              <a:chExt cx="3659760" cy="75708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1680" y="3332160"/>
                <a:ext cx="2676600" cy="376200"/>
              </a:xfrm>
              <a:custGeom>
                <a:avLst/>
                <a:gdLst/>
                <a:ahLst/>
                <a:rect l="l" t="t" r="r" b="b"/>
                <a:pathLst>
                  <a:path w="1686" h="237">
                    <a:moveTo>
                      <a:pt x="0" y="237"/>
                    </a:moveTo>
                    <a:lnTo>
                      <a:pt x="127" y="18"/>
                    </a:lnTo>
                    <a:lnTo>
                      <a:pt x="134" y="8"/>
                    </a:lnTo>
                    <a:lnTo>
                      <a:pt x="140" y="7"/>
                    </a:lnTo>
                    <a:lnTo>
                      <a:pt x="148" y="2"/>
                    </a:lnTo>
                    <a:lnTo>
                      <a:pt x="160" y="0"/>
                    </a:lnTo>
                    <a:lnTo>
                      <a:pt x="176" y="0"/>
                    </a:lnTo>
                    <a:lnTo>
                      <a:pt x="1686" y="1"/>
                    </a:lnTo>
                  </a:path>
                </a:pathLst>
              </a:custGeom>
              <a:noFill/>
              <a:ln cap="rnd" w="381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2120" y="2951280"/>
                <a:ext cx="10393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ff9900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= 3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769080" y="3267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81680" y="2532240"/>
            <a:ext cx="4010040" cy="1176120"/>
            <a:chOff x="4981680" y="2532240"/>
            <a:chExt cx="4010040" cy="1176120"/>
          </a:xfrm>
        </p:grpSpPr>
        <p:grpSp>
          <p:nvGrpSpPr>
            <p:cNvPr id="240" name=""/>
            <p:cNvGrpSpPr/>
            <p:nvPr/>
          </p:nvGrpSpPr>
          <p:grpSpPr>
            <a:xfrm>
              <a:off x="4981680" y="2532240"/>
              <a:ext cx="4010040" cy="1176120"/>
              <a:chOff x="4981680" y="2532240"/>
              <a:chExt cx="4010040" cy="1176120"/>
            </a:xfrm>
          </p:grpSpPr>
          <p:sp>
            <p:nvSpPr>
              <p:cNvPr id="241" name=""/>
              <p:cNvSpPr/>
              <p:nvPr/>
            </p:nvSpPr>
            <p:spPr>
              <a:xfrm>
                <a:off x="7644240" y="253224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= 3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81680" y="2952720"/>
                <a:ext cx="2695320" cy="755640"/>
              </a:xfrm>
              <a:custGeom>
                <a:avLst/>
                <a:gdLst/>
                <a:ahLst/>
                <a:rect l="l" t="t" r="r" b="b"/>
                <a:pathLst>
                  <a:path w="1698" h="476">
                    <a:moveTo>
                      <a:pt x="0" y="476"/>
                    </a:moveTo>
                    <a:lnTo>
                      <a:pt x="197" y="76"/>
                    </a:lnTo>
                    <a:lnTo>
                      <a:pt x="207" y="59"/>
                    </a:lnTo>
                    <a:lnTo>
                      <a:pt x="217" y="56"/>
                    </a:lnTo>
                    <a:lnTo>
                      <a:pt x="228" y="48"/>
                    </a:lnTo>
                    <a:lnTo>
                      <a:pt x="247" y="43"/>
                    </a:lnTo>
                    <a:lnTo>
                      <a:pt x="272" y="43"/>
                    </a:lnTo>
                    <a:lnTo>
                      <a:pt x="1698" y="0"/>
                    </a:lnTo>
                  </a:path>
                </a:pathLst>
              </a:custGeom>
              <a:noFill/>
              <a:ln cap="rnd"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378480" y="2924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971960" y="1998720"/>
            <a:ext cx="3703680" cy="1747800"/>
            <a:chOff x="4971960" y="1998720"/>
            <a:chExt cx="3703680" cy="1747800"/>
          </a:xfrm>
        </p:grpSpPr>
        <p:grpSp>
          <p:nvGrpSpPr>
            <p:cNvPr id="245" name=""/>
            <p:cNvGrpSpPr/>
            <p:nvPr/>
          </p:nvGrpSpPr>
          <p:grpSpPr>
            <a:xfrm>
              <a:off x="4971960" y="1998720"/>
              <a:ext cx="3703680" cy="1747800"/>
              <a:chOff x="4971960" y="1998720"/>
              <a:chExt cx="3703680" cy="1747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40200" y="1998720"/>
                <a:ext cx="1135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03399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= 4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1960" y="2400480"/>
                <a:ext cx="2743200" cy="1346040"/>
              </a:xfrm>
              <a:custGeom>
                <a:avLst/>
                <a:gdLst/>
                <a:ahLst/>
                <a:rect l="l" t="t" r="r" b="b"/>
                <a:pathLst>
                  <a:path w="1728" h="848">
                    <a:moveTo>
                      <a:pt x="0" y="848"/>
                    </a:moveTo>
                    <a:lnTo>
                      <a:pt x="257" y="108"/>
                    </a:lnTo>
                    <a:lnTo>
                      <a:pt x="269" y="78"/>
                    </a:lnTo>
                    <a:lnTo>
                      <a:pt x="282" y="71"/>
                    </a:lnTo>
                    <a:lnTo>
                      <a:pt x="296" y="56"/>
                    </a:lnTo>
                    <a:lnTo>
                      <a:pt x="321" y="48"/>
                    </a:lnTo>
                    <a:lnTo>
                      <a:pt x="354" y="48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778360" y="2400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971960" y="1344600"/>
            <a:ext cx="4061160" cy="2382840"/>
            <a:chOff x="4971960" y="1344600"/>
            <a:chExt cx="4061160" cy="2382840"/>
          </a:xfrm>
        </p:grpSpPr>
        <p:grpSp>
          <p:nvGrpSpPr>
            <p:cNvPr id="250" name=""/>
            <p:cNvGrpSpPr/>
            <p:nvPr/>
          </p:nvGrpSpPr>
          <p:grpSpPr>
            <a:xfrm>
              <a:off x="4971960" y="1344600"/>
              <a:ext cx="4061160" cy="2382840"/>
              <a:chOff x="4971960" y="1344600"/>
              <a:chExt cx="4061160" cy="2382840"/>
            </a:xfrm>
          </p:grpSpPr>
          <p:sp>
            <p:nvSpPr>
              <p:cNvPr id="251" name=""/>
              <p:cNvSpPr/>
              <p:nvPr/>
            </p:nvSpPr>
            <p:spPr>
              <a:xfrm>
                <a:off x="7685640" y="134460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9933ff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= 4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1960" y="1695600"/>
                <a:ext cx="2743200" cy="2031840"/>
              </a:xfrm>
              <a:custGeom>
                <a:avLst/>
                <a:gdLst/>
                <a:ahLst/>
                <a:rect l="l" t="t" r="r" b="b"/>
                <a:pathLst>
                  <a:path w="1728" h="1280">
                    <a:moveTo>
                      <a:pt x="0" y="1280"/>
                    </a:moveTo>
                    <a:lnTo>
                      <a:pt x="289" y="201"/>
                    </a:lnTo>
                    <a:lnTo>
                      <a:pt x="314" y="123"/>
                    </a:lnTo>
                    <a:lnTo>
                      <a:pt x="337" y="79"/>
                    </a:lnTo>
                    <a:lnTo>
                      <a:pt x="353" y="56"/>
                    </a:lnTo>
                    <a:lnTo>
                      <a:pt x="383" y="44"/>
                    </a:lnTo>
                    <a:lnTo>
                      <a:pt x="435" y="39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43120" y="20480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5720" y="4421160"/>
            <a:ext cx="113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Arial"/>
              </a:rPr>
              <a:t>GS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= 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56000" y="44211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2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4520" y="44211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37120" y="442116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37920" y="4421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4880" y="2190600"/>
            <a:ext cx="5692680" cy="3219840"/>
            <a:chOff x="974880" y="2190600"/>
            <a:chExt cx="5692680" cy="3219840"/>
          </a:xfrm>
        </p:grpSpPr>
        <p:sp>
          <p:nvSpPr>
            <p:cNvPr id="260" name=""/>
            <p:cNvSpPr/>
            <p:nvPr/>
          </p:nvSpPr>
          <p:spPr>
            <a:xfrm>
              <a:off x="5391000" y="2190600"/>
              <a:ext cx="1276560" cy="3203640"/>
            </a:xfrm>
            <a:custGeom>
              <a:avLst/>
              <a:gdLst/>
              <a:ahLst/>
              <a:rect l="l" t="t" r="r" b="b"/>
              <a:pathLst>
                <a:path w="768" h="2018">
                  <a:moveTo>
                    <a:pt x="288" y="1812"/>
                  </a:moveTo>
                  <a:cubicBezTo>
                    <a:pt x="528" y="1915"/>
                    <a:pt x="768" y="2018"/>
                    <a:pt x="720" y="1716"/>
                  </a:cubicBezTo>
                  <a:cubicBezTo>
                    <a:pt x="672" y="1414"/>
                    <a:pt x="120" y="288"/>
                    <a:pt x="0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4880" y="5011560"/>
              <a:ext cx="491328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resis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5800" y="2533680"/>
            <a:ext cx="7242120" cy="3524400"/>
            <a:chOff x="955800" y="2533680"/>
            <a:chExt cx="7242120" cy="3524400"/>
          </a:xfrm>
        </p:grpSpPr>
        <p:sp>
          <p:nvSpPr>
            <p:cNvPr id="263" name=""/>
            <p:cNvSpPr/>
            <p:nvPr/>
          </p:nvSpPr>
          <p:spPr>
            <a:xfrm>
              <a:off x="955800" y="5659200"/>
              <a:ext cx="7242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fuente de corr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9480" y="2533680"/>
              <a:ext cx="1320480" cy="3105000"/>
            </a:xfrm>
            <a:custGeom>
              <a:avLst/>
              <a:gdLst/>
              <a:ahLst/>
              <a:rect l="l" t="t" r="r" b="b"/>
              <a:pathLst>
                <a:path w="832" h="1956">
                  <a:moveTo>
                    <a:pt x="0" y="0"/>
                  </a:moveTo>
                  <a:cubicBezTo>
                    <a:pt x="185" y="428"/>
                    <a:pt x="370" y="856"/>
                    <a:pt x="504" y="1128"/>
                  </a:cubicBezTo>
                  <a:cubicBezTo>
                    <a:pt x="638" y="1400"/>
                    <a:pt x="776" y="1516"/>
                    <a:pt x="804" y="1632"/>
                  </a:cubicBezTo>
                  <a:cubicBezTo>
                    <a:pt x="832" y="1748"/>
                    <a:pt x="794" y="1770"/>
                    <a:pt x="672" y="1824"/>
                  </a:cubicBezTo>
                  <a:cubicBezTo>
                    <a:pt x="550" y="1878"/>
                    <a:pt x="311" y="1917"/>
                    <a:pt x="72" y="1956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91280" y="2990880"/>
              <a:ext cx="209520" cy="39996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252"/>
                  </a:moveTo>
                  <a:cubicBezTo>
                    <a:pt x="1" y="189"/>
                    <a:pt x="2" y="126"/>
                    <a:pt x="24" y="84"/>
                  </a:cubicBezTo>
                  <a:cubicBezTo>
                    <a:pt x="46" y="42"/>
                    <a:pt x="114" y="12"/>
                    <a:pt x="13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05400" y="3333600"/>
              <a:ext cx="495360" cy="324000"/>
            </a:xfrm>
            <a:custGeom>
              <a:avLst/>
              <a:gdLst/>
              <a:ahLst/>
              <a:rect l="l" t="t" r="r" b="b"/>
              <a:pathLst>
                <a:path w="312" h="204">
                  <a:moveTo>
                    <a:pt x="0" y="204"/>
                  </a:moveTo>
                  <a:cubicBezTo>
                    <a:pt x="28" y="149"/>
                    <a:pt x="56" y="94"/>
                    <a:pt x="108" y="60"/>
                  </a:cubicBezTo>
                  <a:cubicBezTo>
                    <a:pt x="160" y="26"/>
                    <a:pt x="252" y="40"/>
                    <a:pt x="31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8960" y="3483000"/>
              <a:ext cx="647640" cy="460080"/>
            </a:xfrm>
            <a:custGeom>
              <a:avLst/>
              <a:gdLst/>
              <a:ahLst/>
              <a:rect l="l" t="t" r="r" b="b"/>
              <a:pathLst>
                <a:path w="408" h="290">
                  <a:moveTo>
                    <a:pt x="0" y="290"/>
                  </a:moveTo>
                  <a:cubicBezTo>
                    <a:pt x="44" y="183"/>
                    <a:pt x="88" y="76"/>
                    <a:pt x="156" y="38"/>
                  </a:cubicBezTo>
                  <a:cubicBezTo>
                    <a:pt x="224" y="0"/>
                    <a:pt x="316" y="31"/>
                    <a:pt x="408" y="62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65840" y="3652920"/>
            <a:ext cx="4215600" cy="941760"/>
            <a:chOff x="4965840" y="3652920"/>
            <a:chExt cx="4215600" cy="941760"/>
          </a:xfrm>
        </p:grpSpPr>
        <p:sp>
          <p:nvSpPr>
            <p:cNvPr id="269" name=""/>
            <p:cNvSpPr/>
            <p:nvPr/>
          </p:nvSpPr>
          <p:spPr>
            <a:xfrm>
              <a:off x="7550640" y="4194000"/>
              <a:ext cx="163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965840" y="3652920"/>
              <a:ext cx="2762280" cy="123480"/>
              <a:chOff x="4965840" y="3652920"/>
              <a:chExt cx="2762280" cy="123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965840" y="3725640"/>
                <a:ext cx="276228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51840" y="3652920"/>
                <a:ext cx="123840" cy="1234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23120" y="3719520"/>
              <a:ext cx="363600" cy="621720"/>
            </a:xfrm>
            <a:custGeom>
              <a:avLst/>
              <a:gdLst/>
              <a:ahLst/>
              <a:rect l="l" t="t" r="r" b="b"/>
              <a:pathLst>
                <a:path w="229" h="392">
                  <a:moveTo>
                    <a:pt x="139" y="392"/>
                  </a:moveTo>
                  <a:cubicBezTo>
                    <a:pt x="116" y="383"/>
                    <a:pt x="94" y="375"/>
                    <a:pt x="75" y="356"/>
                  </a:cubicBezTo>
                  <a:cubicBezTo>
                    <a:pt x="56" y="337"/>
                    <a:pt x="0" y="312"/>
                    <a:pt x="23" y="280"/>
                  </a:cubicBezTo>
                  <a:cubicBezTo>
                    <a:pt x="46" y="248"/>
                    <a:pt x="193" y="211"/>
                    <a:pt x="211" y="164"/>
                  </a:cubicBezTo>
                  <a:cubicBezTo>
                    <a:pt x="229" y="117"/>
                    <a:pt x="145" y="27"/>
                    <a:pt x="131" y="0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947120" y="44146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,5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93600" y="3790800"/>
            <a:ext cx="7645680" cy="2914920"/>
            <a:chOff x="993600" y="3790800"/>
            <a:chExt cx="7645680" cy="2914920"/>
          </a:xfrm>
        </p:grpSpPr>
        <p:sp>
          <p:nvSpPr>
            <p:cNvPr id="276" name=""/>
            <p:cNvSpPr/>
            <p:nvPr/>
          </p:nvSpPr>
          <p:spPr>
            <a:xfrm>
              <a:off x="7042320" y="3790800"/>
              <a:ext cx="1596960" cy="2666880"/>
            </a:xfrm>
            <a:custGeom>
              <a:avLst/>
              <a:gdLst/>
              <a:ahLst/>
              <a:rect l="l" t="t" r="r" b="b"/>
              <a:pathLst>
                <a:path w="1006" h="1680">
                  <a:moveTo>
                    <a:pt x="148" y="0"/>
                  </a:moveTo>
                  <a:cubicBezTo>
                    <a:pt x="78" y="83"/>
                    <a:pt x="8" y="166"/>
                    <a:pt x="4" y="264"/>
                  </a:cubicBezTo>
                  <a:cubicBezTo>
                    <a:pt x="0" y="362"/>
                    <a:pt x="70" y="468"/>
                    <a:pt x="124" y="588"/>
                  </a:cubicBezTo>
                  <a:cubicBezTo>
                    <a:pt x="178" y="708"/>
                    <a:pt x="210" y="896"/>
                    <a:pt x="328" y="984"/>
                  </a:cubicBezTo>
                  <a:cubicBezTo>
                    <a:pt x="446" y="1072"/>
                    <a:pt x="736" y="1032"/>
                    <a:pt x="832" y="1116"/>
                  </a:cubicBezTo>
                  <a:cubicBezTo>
                    <a:pt x="928" y="1200"/>
                    <a:pt x="1006" y="1394"/>
                    <a:pt x="904" y="1488"/>
                  </a:cubicBezTo>
                  <a:cubicBezTo>
                    <a:pt x="802" y="1582"/>
                    <a:pt x="334" y="1644"/>
                    <a:pt x="220" y="168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3600" y="6306840"/>
              <a:ext cx="6404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circuito abier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49080" y="1138320"/>
            <a:ext cx="3819600" cy="2907720"/>
            <a:chOff x="649080" y="1138320"/>
            <a:chExt cx="3819600" cy="2907720"/>
          </a:xfrm>
        </p:grpSpPr>
        <p:grpSp>
          <p:nvGrpSpPr>
            <p:cNvPr id="279" name=""/>
            <p:cNvGrpSpPr/>
            <p:nvPr/>
          </p:nvGrpSpPr>
          <p:grpSpPr>
            <a:xfrm>
              <a:off x="3579480" y="2648160"/>
              <a:ext cx="536400" cy="228240"/>
              <a:chOff x="3579480" y="2648160"/>
              <a:chExt cx="536400" cy="228240"/>
            </a:xfrm>
          </p:grpSpPr>
          <p:sp>
            <p:nvSpPr>
              <p:cNvPr id="280" name=""/>
              <p:cNvSpPr/>
              <p:nvPr/>
            </p:nvSpPr>
            <p:spPr>
              <a:xfrm flipH="1" flipV="1" rot="16200000">
                <a:off x="3822120" y="2405520"/>
                <a:ext cx="51120" cy="536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 rot="16200000">
                <a:off x="3805200" y="2702520"/>
                <a:ext cx="83880" cy="262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40120" y="28162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7000" y="3068640"/>
              <a:ext cx="1275840" cy="42732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9080" y="3649680"/>
              <a:ext cx="2942640" cy="30492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5520" y="1443240"/>
              <a:ext cx="990360" cy="1257120"/>
            </a:xfrm>
            <a:custGeom>
              <a:avLst/>
              <a:gdLst/>
              <a:ahLst/>
              <a:rect l="l" t="t" r="r" b="b"/>
              <a:pathLst>
                <a:path w="624" h="792">
                  <a:moveTo>
                    <a:pt x="0" y="92"/>
                  </a:moveTo>
                  <a:lnTo>
                    <a:pt x="0" y="1"/>
                  </a:lnTo>
                  <a:lnTo>
                    <a:pt x="624" y="0"/>
                  </a:lnTo>
                  <a:lnTo>
                    <a:pt x="624" y="7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978640" y="2224440"/>
              <a:ext cx="695520" cy="1135800"/>
              <a:chOff x="2978640" y="2224440"/>
              <a:chExt cx="695520" cy="1135800"/>
            </a:xfrm>
          </p:grpSpPr>
          <p:sp>
            <p:nvSpPr>
              <p:cNvPr id="287" name=""/>
              <p:cNvSpPr/>
              <p:nvPr/>
            </p:nvSpPr>
            <p:spPr>
              <a:xfrm>
                <a:off x="3031560" y="2432160"/>
                <a:ext cx="0" cy="771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6520" y="2224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78640" y="29005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06000" y="2586240"/>
                <a:ext cx="66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744640" y="1281240"/>
              <a:ext cx="1190160" cy="27936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9040" y="1138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66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49080" y="3473640"/>
              <a:ext cx="550440" cy="228240"/>
              <a:chOff x="649080" y="3473640"/>
              <a:chExt cx="550440" cy="228240"/>
            </a:xfrm>
          </p:grpSpPr>
          <p:sp>
            <p:nvSpPr>
              <p:cNvPr id="294" name=""/>
              <p:cNvSpPr/>
              <p:nvPr/>
            </p:nvSpPr>
            <p:spPr>
              <a:xfrm flipH="1" flipV="1" rot="16200000">
                <a:off x="898200" y="3223800"/>
                <a:ext cx="51120" cy="550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6200000">
                <a:off x="881640" y="35244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64120" y="2973600"/>
              <a:ext cx="1095480" cy="1072440"/>
              <a:chOff x="1464120" y="2973600"/>
              <a:chExt cx="1095480" cy="1072440"/>
            </a:xfrm>
          </p:grpSpPr>
          <p:sp>
            <p:nvSpPr>
              <p:cNvPr id="297" name=""/>
              <p:cNvSpPr/>
              <p:nvPr/>
            </p:nvSpPr>
            <p:spPr>
              <a:xfrm>
                <a:off x="1783800" y="3238560"/>
                <a:ext cx="0" cy="5810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9160" y="2973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4120" y="35863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90280" y="3341880"/>
                <a:ext cx="76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717640" y="1582560"/>
              <a:ext cx="259560" cy="446040"/>
              <a:chOff x="2717640" y="1582560"/>
              <a:chExt cx="259560" cy="446040"/>
            </a:xfrm>
          </p:grpSpPr>
          <p:sp>
            <p:nvSpPr>
              <p:cNvPr id="302" name=""/>
              <p:cNvSpPr/>
              <p:nvPr/>
            </p:nvSpPr>
            <p:spPr>
              <a:xfrm flipH="1" flipV="1">
                <a:off x="2717640" y="1963080"/>
                <a:ext cx="12888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721600" y="1920960"/>
                <a:ext cx="248400" cy="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730240" y="1826640"/>
                <a:ext cx="246960" cy="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2719080" y="1650240"/>
                <a:ext cx="252360" cy="135720"/>
                <a:chOff x="2719080" y="1650240"/>
                <a:chExt cx="252360" cy="13572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2719080" y="1650240"/>
                  <a:ext cx="24696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723400" y="1690920"/>
                  <a:ext cx="248040" cy="9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2730240" y="1784520"/>
                <a:ext cx="24696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2842200" y="1582560"/>
                <a:ext cx="12780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26120" y="1500480"/>
              <a:ext cx="914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2,5K</a:t>
              </a:r>
              <a:r>
                <a:rPr b="1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34720" y="2838600"/>
              <a:ext cx="63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2800" y="2732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4200" y="217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2800" y="2957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65280" y="2697480"/>
              <a:ext cx="38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66720" y="2945880"/>
              <a:ext cx="387000" cy="100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2841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447640" y="2022120"/>
              <a:ext cx="405720" cy="574920"/>
              <a:chOff x="2447640" y="2022120"/>
              <a:chExt cx="405720" cy="574920"/>
            </a:xfrm>
          </p:grpSpPr>
          <p:sp>
            <p:nvSpPr>
              <p:cNvPr id="319" name=""/>
              <p:cNvSpPr/>
              <p:nvPr/>
            </p:nvSpPr>
            <p:spPr>
              <a:xfrm>
                <a:off x="2466360" y="2022120"/>
                <a:ext cx="38700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47640" y="23493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442960" y="263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8720" y="2346480"/>
              <a:ext cx="59004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854080" y="2679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8752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6400" y="0"/>
            <a:ext cx="62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Precauciones en el uso de transistores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522480" y="1754280"/>
            <a:ext cx="1635120" cy="1678680"/>
            <a:chOff x="6522480" y="1754280"/>
            <a:chExt cx="1635120" cy="1678680"/>
          </a:xfrm>
        </p:grpSpPr>
        <p:grpSp>
          <p:nvGrpSpPr>
            <p:cNvPr id="327" name=""/>
            <p:cNvGrpSpPr/>
            <p:nvPr/>
          </p:nvGrpSpPr>
          <p:grpSpPr>
            <a:xfrm>
              <a:off x="6522480" y="1754280"/>
              <a:ext cx="1635120" cy="1678680"/>
              <a:chOff x="6522480" y="1754280"/>
              <a:chExt cx="1635120" cy="167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7364520" y="264636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2480" y="260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33520" y="175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74200" y="2973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7347240" y="2790720"/>
                <a:ext cx="405720" cy="574920"/>
                <a:chOff x="7347240" y="2790720"/>
                <a:chExt cx="405720" cy="5749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7365960" y="2895480"/>
                  <a:ext cx="387000" cy="47016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47240" y="2790720"/>
                  <a:ext cx="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347240" y="1972440"/>
                <a:ext cx="405720" cy="573840"/>
                <a:chOff x="7347240" y="1972440"/>
                <a:chExt cx="405720" cy="573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365960" y="1972440"/>
                  <a:ext cx="387000" cy="46980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347240" y="2298960"/>
                  <a:ext cx="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342200" y="258120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7960" y="2295720"/>
                <a:ext cx="590400" cy="723600"/>
              </a:xfrm>
              <a:custGeom>
                <a:avLst/>
                <a:gdLst/>
                <a:ahLst/>
                <a:rect l="l" t="t" r="r" b="b"/>
                <a:pathLst>
                  <a:path w="372" h="456">
                    <a:moveTo>
                      <a:pt x="372" y="0"/>
                    </a:moveTo>
                    <a:lnTo>
                      <a:pt x="372" y="456"/>
                    </a:lnTo>
                    <a:lnTo>
                      <a:pt x="0" y="45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7751520" y="26348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00040" y="1144080"/>
            <a:ext cx="3795840" cy="2932920"/>
            <a:chOff x="1400040" y="1144080"/>
            <a:chExt cx="3795840" cy="2932920"/>
          </a:xfrm>
        </p:grpSpPr>
        <p:sp>
          <p:nvSpPr>
            <p:cNvPr id="342" name=""/>
            <p:cNvSpPr/>
            <p:nvPr/>
          </p:nvSpPr>
          <p:spPr>
            <a:xfrm>
              <a:off x="4723200" y="153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97360" y="1533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3840" y="15332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95400" y="2468160"/>
              <a:ext cx="3257640" cy="851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22680" y="334476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0240" y="27889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24000" y="207000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6320" y="3341520"/>
              <a:ext cx="329400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502000" y="162540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722840" y="16207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86400" y="367812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ubst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21160" y="2469960"/>
              <a:ext cx="633240" cy="34776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85920" y="2462040"/>
              <a:ext cx="633240" cy="34740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43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25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0080" y="2233440"/>
              <a:ext cx="329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3000" y="222876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6160" y="222048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2040" y="2047680"/>
              <a:ext cx="1193760" cy="17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52760" y="207144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18000" y="1144080"/>
              <a:ext cx="0" cy="9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8000" y="34495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1149120"/>
              <a:ext cx="2209680" cy="2685960"/>
            </a:xfrm>
            <a:custGeom>
              <a:avLst/>
              <a:gdLst/>
              <a:ahLst/>
              <a:rect l="l" t="t" r="r" b="b"/>
              <a:pathLst>
                <a:path w="1392" h="1692">
                  <a:moveTo>
                    <a:pt x="696" y="32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1692"/>
                  </a:lnTo>
                  <a:lnTo>
                    <a:pt x="1392" y="169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025640" y="4206960"/>
            <a:ext cx="724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terminal puerta al aire es muy sensible a los r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481120" y="1311120"/>
            <a:ext cx="1178640" cy="609120"/>
            <a:chOff x="2481120" y="1311120"/>
            <a:chExt cx="1178640" cy="609120"/>
          </a:xfrm>
        </p:grpSpPr>
        <p:grpSp>
          <p:nvGrpSpPr>
            <p:cNvPr id="367" name=""/>
            <p:cNvGrpSpPr/>
            <p:nvPr/>
          </p:nvGrpSpPr>
          <p:grpSpPr>
            <a:xfrm>
              <a:off x="2481120" y="1313640"/>
              <a:ext cx="705960" cy="606600"/>
              <a:chOff x="2481120" y="1313640"/>
              <a:chExt cx="705960" cy="606600"/>
            </a:xfrm>
          </p:grpSpPr>
          <p:sp>
            <p:nvSpPr>
              <p:cNvPr id="368" name=""/>
              <p:cNvSpPr/>
              <p:nvPr/>
            </p:nvSpPr>
            <p:spPr>
              <a:xfrm>
                <a:off x="2961000" y="1617840"/>
                <a:ext cx="2260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2481120" y="1313640"/>
                <a:ext cx="605520" cy="606600"/>
                <a:chOff x="2481120" y="1313640"/>
                <a:chExt cx="605520" cy="606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481120" y="1452240"/>
                  <a:ext cx="434880" cy="331200"/>
                  <a:chOff x="2481120" y="1452240"/>
                  <a:chExt cx="434880" cy="331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5400000">
                    <a:off x="2648160" y="1515600"/>
                    <a:ext cx="331200" cy="20448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81120" y="1617840"/>
                    <a:ext cx="226080" cy="0"/>
                  </a:xfrm>
                  <a:prstGeom prst="line">
                    <a:avLst/>
                  </a:prstGeom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"/>
                <p:cNvSpPr/>
                <p:nvPr/>
              </p:nvSpPr>
              <p:spPr>
                <a:xfrm rot="16200000">
                  <a:off x="2662200" y="1495800"/>
                  <a:ext cx="606600" cy="242280"/>
                </a:xfrm>
                <a:custGeom>
                  <a:avLst/>
                  <a:gdLst/>
                  <a:ahLst/>
                  <a:rect l="l" t="t" r="r" b="b"/>
                  <a:pathLst>
                    <a:path w="557" h="223">
                      <a:moveTo>
                        <a:pt x="0" y="223"/>
                      </a:moveTo>
                      <a:lnTo>
                        <a:pt x="119" y="111"/>
                      </a:lnTo>
                      <a:lnTo>
                        <a:pt x="441" y="111"/>
                      </a:lnTo>
                      <a:lnTo>
                        <a:pt x="557" y="0"/>
                      </a:lnTo>
                    </a:path>
                  </a:pathLst>
                </a:custGeom>
                <a:noFill/>
                <a:ln w="38160">
                  <a:solidFill>
                    <a:srgbClr val="a500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3054240" y="1311120"/>
              <a:ext cx="605520" cy="606240"/>
              <a:chOff x="3054240" y="1311120"/>
              <a:chExt cx="605520" cy="6062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225960" y="1445040"/>
                <a:ext cx="433800" cy="331560"/>
                <a:chOff x="3225960" y="1445040"/>
                <a:chExt cx="43380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 flipV="1" rot="5400000">
                  <a:off x="3162240" y="1508400"/>
                  <a:ext cx="331560" cy="20412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434040" y="1611360"/>
                  <a:ext cx="225720" cy="0"/>
                </a:xfrm>
                <a:prstGeom prst="line">
                  <a:avLst/>
                </a:prstGeom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flipH="1" flipV="1" rot="16200000">
                <a:off x="2872440" y="1492920"/>
                <a:ext cx="606240" cy="242640"/>
              </a:xfrm>
              <a:custGeom>
                <a:avLst/>
                <a:gdLst/>
                <a:ahLst/>
                <a:rect l="l" t="t" r="r" b="b"/>
                <a:pathLst>
                  <a:path w="557" h="223">
                    <a:moveTo>
                      <a:pt x="0" y="223"/>
                    </a:moveTo>
                    <a:lnTo>
                      <a:pt x="119" y="111"/>
                    </a:lnTo>
                    <a:lnTo>
                      <a:pt x="441" y="111"/>
                    </a:lnTo>
                    <a:lnTo>
                      <a:pt x="557" y="0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73480" y="2184480"/>
            <a:ext cx="3221280" cy="1256040"/>
            <a:chOff x="5073480" y="2184480"/>
            <a:chExt cx="3221280" cy="1256040"/>
          </a:xfrm>
        </p:grpSpPr>
        <p:grpSp>
          <p:nvGrpSpPr>
            <p:cNvPr id="380" name=""/>
            <p:cNvGrpSpPr/>
            <p:nvPr/>
          </p:nvGrpSpPr>
          <p:grpSpPr>
            <a:xfrm>
              <a:off x="7765920" y="2311200"/>
              <a:ext cx="528840" cy="672480"/>
              <a:chOff x="7765920" y="2311200"/>
              <a:chExt cx="528840" cy="672480"/>
            </a:xfrm>
          </p:grpSpPr>
          <p:sp>
            <p:nvSpPr>
              <p:cNvPr id="381" name=""/>
              <p:cNvSpPr/>
              <p:nvPr/>
            </p:nvSpPr>
            <p:spPr>
              <a:xfrm flipH="1" flipV="1" rot="10800000">
                <a:off x="7931520" y="2567880"/>
                <a:ext cx="32076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893000" y="2483640"/>
                <a:ext cx="40176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765920" y="275544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65920" y="231120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073480" y="2184480"/>
              <a:ext cx="986760" cy="1256040"/>
              <a:chOff x="5073480" y="2184480"/>
              <a:chExt cx="986760" cy="1256040"/>
            </a:xfrm>
          </p:grpSpPr>
          <p:sp>
            <p:nvSpPr>
              <p:cNvPr id="386" name=""/>
              <p:cNvSpPr/>
              <p:nvPr/>
            </p:nvSpPr>
            <p:spPr>
              <a:xfrm flipH="1" flipV="1" rot="10800000">
                <a:off x="5383440" y="2664000"/>
                <a:ext cx="598680" cy="3700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310360" y="2507040"/>
                <a:ext cx="749880" cy="118800"/>
              </a:xfrm>
              <a:prstGeom prst="rect">
                <a:avLst/>
              </a:prstGeom>
              <a:solidFill>
                <a:srgbClr val="a50021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073480" y="301356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73480" y="218448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025640" y="4975200"/>
            <a:ext cx="781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óxido se puede llegar a perforar por la electricidad estática de los dedos. A veces se integran diodos zener de prot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25640" y="5938920"/>
            <a:ext cx="79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xiste un diodo parásito entre fuente y drenador en los MOSFET de enriqu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09760" y="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Encapsulados de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46520" y="13176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923000" y="774720"/>
            <a:ext cx="2049480" cy="169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459560" y="103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936880" cy="2038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901960" y="30463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1208160" y="763560"/>
            <a:ext cx="1365120" cy="1940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170000" y="5278320"/>
            <a:ext cx="1459080" cy="133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82960" y="56721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520" y="1112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Parámetros fundamentales para seleccionar un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45120" y="3581280"/>
            <a:ext cx="1104840" cy="173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3581280"/>
            <a:ext cx="1104840" cy="176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2680" y="3606840"/>
            <a:ext cx="1104840" cy="241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73400" y="596880"/>
            <a:ext cx="4025880" cy="1541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54280" y="812880"/>
            <a:ext cx="386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sión de rup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istencia en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iente má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2629080"/>
            <a:ext cx="58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nsiones de ruptura de dispositiv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116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65640" y="30733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0544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8680" y="3568680"/>
            <a:ext cx="1015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3568680"/>
            <a:ext cx="1231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46640" y="3594240"/>
            <a:ext cx="119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08:53Z</dcterms:created>
  <dc:creator>Arturo Fernández González</dc:creator>
  <dc:description/>
  <dc:language>en-US</dc:language>
  <cp:lastModifiedBy>arturo</cp:lastModifiedBy>
  <dcterms:modified xsi:type="dcterms:W3CDTF">2003-10-10T15:45:48Z</dcterms:modified>
  <cp:revision>221</cp:revision>
  <dc:subject/>
  <dc:title>Presentación de PowerPoint</dc:title>
</cp:coreProperties>
</file>