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5B5-57AE-4BE1-BAC0-184E7B34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D384-6F5B-4F0E-93EC-52F292C7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CFC-F88B-4BCE-ABB0-E4BDC726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6CF-3994-47DF-BECC-5A64BB9E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F2D-D177-4DC4-A40D-68F490FB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340-BDFF-49C3-9CE5-24B61223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913-F588-4E6A-B01A-065CE9B6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959F-2F26-46D4-9D77-FA2C07EE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3700-84B2-447D-BF0E-BAA2DE7B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F7B-174D-4EEE-A099-330E31BB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613-1D00-4268-B4A2-71CD704B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B15-62C9-46B9-8D7F-265B4DCF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66A7-4507-4E3A-8B9B-A8AF09463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8786" t="3376" r="0" b="0"/>
          <a:stretch/>
        </p:blipFill>
        <p:spPr>
          <a:xfrm>
            <a:off x="34920" y="549360"/>
            <a:ext cx="4897440" cy="6181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38440" y="2133720"/>
            <a:ext cx="30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er Cuatrimes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3859200"/>
            <a:ext cx="511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Electrónic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5º Curso. Ingenierí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ntensificación Electrotec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1640" y="692280"/>
            <a:ext cx="1106640" cy="122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81360" y="2897280"/>
            <a:ext cx="413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39880" y="2743200"/>
            <a:ext cx="51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ÓNICA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03440" y="138240"/>
            <a:ext cx="437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Resistencia en conducción (R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DSon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1840" y="741240"/>
            <a:ext cx="561816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 el parámetro más importante en un 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9880" y="1338120"/>
            <a:ext cx="7010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OSFET en conducción se modela utilizando la 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679040" y="1852560"/>
            <a:ext cx="1553760" cy="1526400"/>
            <a:chOff x="1679040" y="1852560"/>
            <a:chExt cx="1553760" cy="1526400"/>
          </a:xfrm>
        </p:grpSpPr>
        <p:sp>
          <p:nvSpPr>
            <p:cNvPr id="426" name=""/>
            <p:cNvSpPr/>
            <p:nvPr/>
          </p:nvSpPr>
          <p:spPr>
            <a:xfrm>
              <a:off x="2463480" y="259236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79040" y="2547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32480" y="1852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28880" y="2919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446200" y="2736720"/>
              <a:ext cx="406440" cy="573840"/>
              <a:chOff x="2446200" y="2736720"/>
              <a:chExt cx="406440" cy="573840"/>
            </a:xfrm>
          </p:grpSpPr>
          <p:sp>
            <p:nvSpPr>
              <p:cNvPr id="431" name=""/>
              <p:cNvSpPr/>
              <p:nvPr/>
            </p:nvSpPr>
            <p:spPr>
              <a:xfrm flipV="1">
                <a:off x="2465280" y="284040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446200" y="273672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446200" y="1917000"/>
              <a:ext cx="406440" cy="574920"/>
              <a:chOff x="2446200" y="1917000"/>
              <a:chExt cx="406440" cy="574920"/>
            </a:xfrm>
          </p:grpSpPr>
          <p:sp>
            <p:nvSpPr>
              <p:cNvPr id="434" name=""/>
              <p:cNvSpPr/>
              <p:nvPr/>
            </p:nvSpPr>
            <p:spPr>
              <a:xfrm>
                <a:off x="2465280" y="191700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2446200" y="22442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441520" y="2527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26920" y="224136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850840" y="258120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11680" y="2287440"/>
            <a:ext cx="981000" cy="543240"/>
          </a:xfrm>
          <a:prstGeom prst="leftRightArrow">
            <a:avLst>
              <a:gd name="adj1" fmla="val 50000"/>
              <a:gd name="adj2" fmla="val 35949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157720" y="2126160"/>
            <a:ext cx="391680" cy="951480"/>
            <a:chOff x="5157720" y="2126160"/>
            <a:chExt cx="391680" cy="951480"/>
          </a:xfrm>
        </p:grpSpPr>
        <p:sp>
          <p:nvSpPr>
            <p:cNvPr id="441" name=""/>
            <p:cNvSpPr/>
            <p:nvPr/>
          </p:nvSpPr>
          <p:spPr>
            <a:xfrm flipH="1" flipV="1">
              <a:off x="5157720" y="2824560"/>
              <a:ext cx="18288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164560" y="2698200"/>
              <a:ext cx="37620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5175360" y="2637360"/>
              <a:ext cx="374040" cy="6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5158080" y="2326680"/>
              <a:ext cx="382680" cy="186120"/>
              <a:chOff x="5158080" y="2326680"/>
              <a:chExt cx="382680" cy="186120"/>
            </a:xfrm>
          </p:grpSpPr>
          <p:sp>
            <p:nvSpPr>
              <p:cNvPr id="445" name=""/>
              <p:cNvSpPr/>
              <p:nvPr/>
            </p:nvSpPr>
            <p:spPr>
              <a:xfrm flipH="1">
                <a:off x="5158080" y="2326680"/>
                <a:ext cx="374400" cy="12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5164920" y="2450880"/>
                <a:ext cx="375840" cy="61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 flipH="1">
              <a:off x="5175360" y="2510640"/>
              <a:ext cx="37404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5358240" y="2309040"/>
              <a:ext cx="18072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55720" y="2839320"/>
              <a:ext cx="0" cy="2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44920" y="2126160"/>
              <a:ext cx="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667480" y="2340000"/>
            <a:ext cx="12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Arial"/>
              </a:rPr>
              <a:t>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47800" y="34988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nto más baja es la resistencia, mejor es el tran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01800" y="4054320"/>
            <a:ext cx="7657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 parámetro está directamente relacionado con la tensión de ruptura y con la capacidad de manejar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90840" y="5219640"/>
            <a:ext cx="1033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307040" y="5324400"/>
            <a:ext cx="87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01800" y="5962680"/>
            <a:ext cx="99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336920" y="5950080"/>
            <a:ext cx="87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41720" y="5208480"/>
            <a:ext cx="344520" cy="397080"/>
          </a:xfrm>
          <a:prstGeom prst="upArrow">
            <a:avLst>
              <a:gd name="adj1" fmla="val 50000"/>
              <a:gd name="adj2" fmla="val 28814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16680" y="5994360"/>
            <a:ext cx="318960" cy="409680"/>
          </a:xfrm>
          <a:prstGeom prst="downArrow">
            <a:avLst>
              <a:gd name="adj1" fmla="val 50000"/>
              <a:gd name="adj2" fmla="val 32111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06960" y="5265720"/>
            <a:ext cx="344520" cy="396720"/>
          </a:xfrm>
          <a:prstGeom prst="upArrow">
            <a:avLst>
              <a:gd name="adj1" fmla="val 50000"/>
              <a:gd name="adj2" fmla="val 28788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32000" y="5954760"/>
            <a:ext cx="344520" cy="396720"/>
          </a:xfrm>
          <a:prstGeom prst="upArrow">
            <a:avLst>
              <a:gd name="adj1" fmla="val 50000"/>
              <a:gd name="adj2" fmla="val 28788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1560" y="87480"/>
            <a:ext cx="48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jemplos de MOSFET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55720" y="16225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32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0400" y="1039680"/>
            <a:ext cx="87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84680" y="1039680"/>
            <a:ext cx="49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21000" y="1039680"/>
            <a:ext cx="70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73480" y="162252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60760" y="1622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34000" y="16225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0200" y="148752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5720" y="20923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14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73480" y="209232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60760" y="20923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9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34000" y="209232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3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55720" y="257508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5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73480" y="257508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60760" y="25750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734000" y="25750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55720" y="30830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37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73480" y="308304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60760" y="308304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34000" y="30830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55720" y="40482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P 4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73480" y="404820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60760" y="40482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34000" y="40482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0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55720" y="36385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5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73480" y="363852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60760" y="3638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34000" y="363852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55720" y="45180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PG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73480" y="4518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60760" y="4518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34000" y="45180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55720" y="502596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PG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73480" y="5025960"/>
            <a:ext cx="104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60760" y="50259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734000" y="502596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0200" y="247320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00200" y="349740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0200" y="446724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30080" y="5411880"/>
            <a:ext cx="524844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6103800" y="1457280"/>
            <a:ext cx="29671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35040" y="63360"/>
            <a:ext cx="33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e 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31800" y="650880"/>
            <a:ext cx="82962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correcto manejo de la puerta es fundamental para utilizar un 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6480" y="1258920"/>
            <a:ext cx="81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Hay una tensión mínima para ponerlo en conducción: tensión um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9040" y="1736640"/>
            <a:ext cx="353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50021"/>
                </a:solidFill>
                <a:latin typeface="Arial"/>
              </a:rPr>
              <a:t>Threshold voltage:</a:t>
            </a:r>
            <a:r>
              <a:rPr b="1" lang="es-ES" sz="2000" spc="-1" strike="noStrike">
                <a:solidFill>
                  <a:srgbClr val="a50021"/>
                </a:solidFill>
                <a:latin typeface="Arial"/>
              </a:rPr>
              <a:t> V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Arial"/>
              </a:rPr>
              <a:t>GS(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9440" y="2863800"/>
            <a:ext cx="78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Hay una tensión máxima de puerta. Por encima de ese valor, se rom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1880" y="2309760"/>
            <a:ext cx="28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es típicos: 3 – 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77960" y="3365640"/>
            <a:ext cx="35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típico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 15 V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± 2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8640" y="3998880"/>
            <a:ext cx="7515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El circuito equivalente entre puerta y fuente se modela como un condensador (C</a:t>
            </a:r>
            <a:r>
              <a:rPr b="1" lang="es-ES" sz="1800" spc="-1" strike="noStrike" baseline="-25000">
                <a:solidFill>
                  <a:srgbClr val="008080"/>
                </a:solidFill>
                <a:latin typeface="Arial"/>
              </a:rPr>
              <a:t>iss</a:t>
            </a: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4657320" y="4592520"/>
            <a:ext cx="1553760" cy="1526400"/>
            <a:chOff x="4657320" y="4592520"/>
            <a:chExt cx="1553760" cy="1526400"/>
          </a:xfrm>
        </p:grpSpPr>
        <p:sp>
          <p:nvSpPr>
            <p:cNvPr id="517" name=""/>
            <p:cNvSpPr/>
            <p:nvPr/>
          </p:nvSpPr>
          <p:spPr>
            <a:xfrm>
              <a:off x="5441760" y="533232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57320" y="5287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0760" y="4592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07160" y="5659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424480" y="5476680"/>
              <a:ext cx="406440" cy="573840"/>
              <a:chOff x="5424480" y="5476680"/>
              <a:chExt cx="406440" cy="57384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5443560" y="558036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4480" y="547668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5424480" y="4656960"/>
              <a:ext cx="406440" cy="574920"/>
              <a:chOff x="5424480" y="4656960"/>
              <a:chExt cx="406440" cy="574920"/>
            </a:xfrm>
          </p:grpSpPr>
          <p:sp>
            <p:nvSpPr>
              <p:cNvPr id="525" name=""/>
              <p:cNvSpPr/>
              <p:nvPr/>
            </p:nvSpPr>
            <p:spPr>
              <a:xfrm>
                <a:off x="5443560" y="465696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424480" y="498420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5419800" y="5267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705200" y="498132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829120" y="532116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735440" y="5738400"/>
            <a:ext cx="488520" cy="943560"/>
            <a:chOff x="4735440" y="5738400"/>
            <a:chExt cx="488520" cy="943560"/>
          </a:xfrm>
        </p:grpSpPr>
        <p:sp>
          <p:nvSpPr>
            <p:cNvPr id="531" name=""/>
            <p:cNvSpPr/>
            <p:nvPr/>
          </p:nvSpPr>
          <p:spPr>
            <a:xfrm>
              <a:off x="4738680" y="609372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35440" y="633960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955040" y="5738400"/>
              <a:ext cx="0" cy="3445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65840" y="6350760"/>
              <a:ext cx="0" cy="3312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5827680" y="5962680"/>
            <a:ext cx="0" cy="71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687920" y="669132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19680" y="6027840"/>
            <a:ext cx="71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(C</a:t>
            </a:r>
            <a:r>
              <a:rPr b="1" lang="es-ES" sz="1800" spc="-1" strike="noStrike" baseline="-25000">
                <a:solidFill>
                  <a:srgbClr val="008080"/>
                </a:solidFill>
                <a:latin typeface="Arial"/>
              </a:rPr>
              <a:t>iss</a:t>
            </a: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074600" y="6031080"/>
            <a:ext cx="27432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den de magnitud: 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35040" y="63360"/>
            <a:ext cx="33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e 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5880" y="635040"/>
            <a:ext cx="8004240" cy="822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nto más alta es la tensión de puerta, menor es la 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esa manejarlo con la tensión más alta posible (dentro del marg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741240" y="2990880"/>
            <a:ext cx="3929040" cy="37148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4838760" y="3021120"/>
            <a:ext cx="3854520" cy="37479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757080" y="171756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vas de salida reales de un 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11280" y="275580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25 º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97640" y="280368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175 º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78720" y="3276720"/>
            <a:ext cx="450720" cy="252360"/>
          </a:xfrm>
          <a:prstGeom prst="rightArrow">
            <a:avLst>
              <a:gd name="adj1" fmla="val 50000"/>
              <a:gd name="adj2" fmla="val 4465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47800" y="225252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Influencia de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955960" y="5672160"/>
            <a:ext cx="2768400" cy="927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00000" y="649440"/>
            <a:ext cx="69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hacer que el MOSFET se abra y se cierre, debemos cargar y descargar el condensador de pu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5040" y="63360"/>
            <a:ext cx="33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e 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582360" y="1467000"/>
            <a:ext cx="1553760" cy="1526400"/>
            <a:chOff x="3582360" y="1467000"/>
            <a:chExt cx="1553760" cy="1526400"/>
          </a:xfrm>
        </p:grpSpPr>
        <p:sp>
          <p:nvSpPr>
            <p:cNvPr id="556" name=""/>
            <p:cNvSpPr/>
            <p:nvPr/>
          </p:nvSpPr>
          <p:spPr>
            <a:xfrm>
              <a:off x="4366800" y="220680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582360" y="2162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35800" y="1467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32200" y="2533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4349520" y="2351160"/>
              <a:ext cx="406440" cy="573840"/>
              <a:chOff x="4349520" y="2351160"/>
              <a:chExt cx="406440" cy="573840"/>
            </a:xfrm>
          </p:grpSpPr>
          <p:sp>
            <p:nvSpPr>
              <p:cNvPr id="561" name=""/>
              <p:cNvSpPr/>
              <p:nvPr/>
            </p:nvSpPr>
            <p:spPr>
              <a:xfrm flipV="1">
                <a:off x="4368600" y="2454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349520" y="2351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4349520" y="1531440"/>
              <a:ext cx="406440" cy="574920"/>
              <a:chOff x="4349520" y="1531440"/>
              <a:chExt cx="406440" cy="574920"/>
            </a:xfrm>
          </p:grpSpPr>
          <p:sp>
            <p:nvSpPr>
              <p:cNvPr id="564" name=""/>
              <p:cNvSpPr/>
              <p:nvPr/>
            </p:nvSpPr>
            <p:spPr>
              <a:xfrm>
                <a:off x="4368600" y="153144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4349520" y="18586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4344840" y="2141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30240" y="1855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4754160" y="2195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660840" y="2612520"/>
            <a:ext cx="488520" cy="943560"/>
            <a:chOff x="3660840" y="2612520"/>
            <a:chExt cx="488520" cy="943560"/>
          </a:xfrm>
        </p:grpSpPr>
        <p:sp>
          <p:nvSpPr>
            <p:cNvPr id="570" name=""/>
            <p:cNvSpPr/>
            <p:nvPr/>
          </p:nvSpPr>
          <p:spPr>
            <a:xfrm>
              <a:off x="3664080" y="296784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60840" y="321372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880440" y="2612520"/>
              <a:ext cx="0" cy="3445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91240" y="3224880"/>
              <a:ext cx="0" cy="3312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4753080" y="2836800"/>
            <a:ext cx="0" cy="71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613320" y="356544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32080" y="2690640"/>
            <a:ext cx="1006560" cy="98136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21600" h="21600">
                <a:moveTo>
                  <a:pt x="2794" y="10800"/>
                </a:moveTo>
                <a:arcTo wR="-8006" hR="-8006" stAng="-10800000" swAng="-10618537"/>
                <a:lnTo>
                  <a:pt x="15" y="10230"/>
                </a:lnTo>
                <a:arcTo wR="10800" hR="10800" stAng="-10618537" swAng="10618537"/>
                <a:lnTo>
                  <a:pt x="24300" y="10800"/>
                </a:lnTo>
                <a:lnTo>
                  <a:pt x="20203" y="14897"/>
                </a:lnTo>
                <a:lnTo>
                  <a:pt x="16106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11400" y="2708280"/>
            <a:ext cx="968400" cy="981000"/>
          </a:xfrm>
          <a:custGeom>
            <a:avLst/>
            <a:gdLst>
              <a:gd name="textAreaLeft" fmla="*/ 360 w 968400"/>
              <a:gd name="textAreaRight" fmla="*/ 969120 w 96840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21600" h="21600">
                <a:moveTo>
                  <a:pt x="2794" y="10800"/>
                </a:moveTo>
                <a:arcTo wR="-8006" hR="-8006" stAng="-10800000" swAng="-10618537"/>
                <a:lnTo>
                  <a:pt x="15" y="10230"/>
                </a:lnTo>
                <a:arcTo wR="10800" hR="10800" stAng="-10618537" swAng="10618537"/>
                <a:lnTo>
                  <a:pt x="24300" y="10800"/>
                </a:lnTo>
                <a:lnTo>
                  <a:pt x="20203" y="14897"/>
                </a:lnTo>
                <a:lnTo>
                  <a:pt x="16106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54480" y="2938320"/>
            <a:ext cx="144360" cy="6224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4175280"/>
            <a:ext cx="34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ía utilizada en cargar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229280" y="4041720"/>
                <a:ext cx="12045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81" name=""/>
          <p:cNvSpPr/>
          <p:nvPr/>
        </p:nvSpPr>
        <p:spPr>
          <a:xfrm>
            <a:off x="808200" y="4862520"/>
            <a:ext cx="76467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a energía se pierde, por tanto, el hecho de manejar el MOSFET implica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265560" y="5829480"/>
                <a:ext cx="19112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73200" y="0"/>
            <a:ext cx="40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3618000" y="3144960"/>
            <a:ext cx="500760" cy="205920"/>
            <a:chOff x="3618000" y="3144960"/>
            <a:chExt cx="500760" cy="205920"/>
          </a:xfrm>
        </p:grpSpPr>
        <p:sp>
          <p:nvSpPr>
            <p:cNvPr id="585" name=""/>
            <p:cNvSpPr/>
            <p:nvPr/>
          </p:nvSpPr>
          <p:spPr>
            <a:xfrm flipV="1">
              <a:off x="3743280" y="3144960"/>
              <a:ext cx="7920" cy="9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3750480" y="3148560"/>
              <a:ext cx="67680" cy="19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817080" y="3153960"/>
              <a:ext cx="3276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3915360" y="3144960"/>
              <a:ext cx="97920" cy="201600"/>
              <a:chOff x="3915360" y="3144960"/>
              <a:chExt cx="97920" cy="201600"/>
            </a:xfrm>
          </p:grpSpPr>
          <p:sp>
            <p:nvSpPr>
              <p:cNvPr id="589" name=""/>
              <p:cNvSpPr/>
              <p:nvPr/>
            </p:nvSpPr>
            <p:spPr>
              <a:xfrm flipH="1" flipV="1">
                <a:off x="3946680" y="3144960"/>
                <a:ext cx="66600" cy="1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3915360" y="3148560"/>
                <a:ext cx="32760" cy="19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 flipH="1" flipV="1">
              <a:off x="3848400" y="3153960"/>
              <a:ext cx="6804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4015080" y="3250440"/>
              <a:ext cx="7920" cy="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3618000" y="3249000"/>
              <a:ext cx="12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4018320" y="3243240"/>
              <a:ext cx="10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484160" y="3141720"/>
            <a:ext cx="501480" cy="205920"/>
            <a:chOff x="4484160" y="3141720"/>
            <a:chExt cx="501480" cy="205920"/>
          </a:xfrm>
        </p:grpSpPr>
        <p:sp>
          <p:nvSpPr>
            <p:cNvPr id="596" name=""/>
            <p:cNvSpPr/>
            <p:nvPr/>
          </p:nvSpPr>
          <p:spPr>
            <a:xfrm flipV="1">
              <a:off x="4610160" y="3141720"/>
              <a:ext cx="7920" cy="9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4617000" y="3145320"/>
              <a:ext cx="67680" cy="19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4683960" y="3150720"/>
              <a:ext cx="3276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4782240" y="3141720"/>
              <a:ext cx="97920" cy="201600"/>
              <a:chOff x="4782240" y="3141720"/>
              <a:chExt cx="97920" cy="201600"/>
            </a:xfrm>
          </p:grpSpPr>
          <p:sp>
            <p:nvSpPr>
              <p:cNvPr id="600" name=""/>
              <p:cNvSpPr/>
              <p:nvPr/>
            </p:nvSpPr>
            <p:spPr>
              <a:xfrm flipH="1" flipV="1">
                <a:off x="4813560" y="3141720"/>
                <a:ext cx="66600" cy="1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4782240" y="3145320"/>
                <a:ext cx="32760" cy="19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 flipH="1" flipV="1">
              <a:off x="4714920" y="3150720"/>
              <a:ext cx="6804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4881960" y="3247200"/>
              <a:ext cx="7920" cy="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484160" y="324576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885200" y="3240000"/>
              <a:ext cx="10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2973240" y="3789360"/>
            <a:ext cx="573120" cy="70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246480" y="3952800"/>
            <a:ext cx="0" cy="424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3232080" y="3257280"/>
            <a:ext cx="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32080" y="3257640"/>
            <a:ext cx="3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05440" y="3243240"/>
            <a:ext cx="38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32080" y="4513320"/>
            <a:ext cx="0" cy="69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32080" y="5235480"/>
            <a:ext cx="284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6081840" y="4498920"/>
            <a:ext cx="0" cy="73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921280" y="4513320"/>
            <a:ext cx="327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743440" y="4349880"/>
            <a:ext cx="668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6058080" y="3230280"/>
            <a:ext cx="0" cy="11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951440" y="3243240"/>
            <a:ext cx="110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379600" y="3854520"/>
            <a:ext cx="5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 (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92360" y="264312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THj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44920" y="268128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TH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197320" y="4267080"/>
            <a:ext cx="61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78080" y="3189240"/>
            <a:ext cx="136800" cy="135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81480" y="3173400"/>
            <a:ext cx="136440" cy="135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00840" y="3173400"/>
            <a:ext cx="136440" cy="135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743200" y="27543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032360" y="335268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51360" y="26766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86080" y="5372280"/>
            <a:ext cx="344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a</a:t>
            </a: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 : Temperatura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585720" y="1204920"/>
            <a:ext cx="7631280" cy="10634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793800" y="584280"/>
            <a:ext cx="2638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stencia Tér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033560" y="6162840"/>
            <a:ext cx="764676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valores dependen fundamentalmente del tipo de encapsul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63720" y="517680"/>
            <a:ext cx="72324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apidez de las conmutaciones depende en gran medida del modo en que se maneje la pu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1200" y="1187280"/>
            <a:ext cx="1771560" cy="1678680"/>
            <a:chOff x="601200" y="1187280"/>
            <a:chExt cx="1771560" cy="1678680"/>
          </a:xfrm>
        </p:grpSpPr>
        <p:grpSp>
          <p:nvGrpSpPr>
            <p:cNvPr id="639" name=""/>
            <p:cNvGrpSpPr/>
            <p:nvPr/>
          </p:nvGrpSpPr>
          <p:grpSpPr>
            <a:xfrm>
              <a:off x="601200" y="1187280"/>
              <a:ext cx="1634760" cy="1678680"/>
              <a:chOff x="601200" y="1187280"/>
              <a:chExt cx="1634760" cy="1678680"/>
            </a:xfrm>
          </p:grpSpPr>
          <p:grpSp>
            <p:nvGrpSpPr>
              <p:cNvPr id="640" name=""/>
              <p:cNvGrpSpPr/>
              <p:nvPr/>
            </p:nvGrpSpPr>
            <p:grpSpPr>
              <a:xfrm>
                <a:off x="601200" y="1187280"/>
                <a:ext cx="1634760" cy="1678680"/>
                <a:chOff x="601200" y="1187280"/>
                <a:chExt cx="1634760" cy="16786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1442880" y="2079360"/>
                  <a:ext cx="390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01200" y="20350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50021"/>
                      </a:solidFill>
                      <a:latin typeface="Arial"/>
                    </a:rPr>
                    <a:t>G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811520" y="11872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50021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852560" y="24062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50021"/>
                      </a:solidFill>
                      <a:latin typeface="Arial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5" name=""/>
                <p:cNvGrpSpPr/>
                <p:nvPr/>
              </p:nvGrpSpPr>
              <p:grpSpPr>
                <a:xfrm>
                  <a:off x="1425600" y="2223720"/>
                  <a:ext cx="405360" cy="574920"/>
                  <a:chOff x="1425600" y="2223720"/>
                  <a:chExt cx="405360" cy="57492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flipV="1">
                    <a:off x="1444320" y="2328480"/>
                    <a:ext cx="38664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96">
                        <a:moveTo>
                          <a:pt x="0" y="296"/>
                        </a:moveTo>
                        <a:lnTo>
                          <a:pt x="244" y="296"/>
                        </a:lnTo>
                        <a:lnTo>
                          <a:pt x="244" y="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1425600" y="2223720"/>
                    <a:ext cx="0" cy="247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1425600" y="1405440"/>
                  <a:ext cx="405360" cy="573840"/>
                  <a:chOff x="1425600" y="1405440"/>
                  <a:chExt cx="405360" cy="57384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1444320" y="1405440"/>
                    <a:ext cx="386640" cy="46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96">
                        <a:moveTo>
                          <a:pt x="0" y="296"/>
                        </a:moveTo>
                        <a:lnTo>
                          <a:pt x="244" y="296"/>
                        </a:lnTo>
                        <a:lnTo>
                          <a:pt x="244" y="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V="1">
                    <a:off x="1425600" y="1731960"/>
                    <a:ext cx="0" cy="247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1" name=""/>
                <p:cNvSpPr/>
                <p:nvPr/>
              </p:nvSpPr>
              <p:spPr>
                <a:xfrm>
                  <a:off x="1420560" y="2014200"/>
                  <a:ext cx="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06320" y="1728720"/>
                  <a:ext cx="590040" cy="723600"/>
                </a:xfrm>
                <a:custGeom>
                  <a:avLst/>
                  <a:gdLst/>
                  <a:ahLst/>
                  <a:rect l="l" t="t" r="r" b="b"/>
                  <a:pathLst>
                    <a:path w="372" h="456">
                      <a:moveTo>
                        <a:pt x="372" y="0"/>
                      </a:moveTo>
                      <a:lnTo>
                        <a:pt x="372" y="456"/>
                      </a:lnTo>
                      <a:lnTo>
                        <a:pt x="0" y="456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" name=""/>
              <p:cNvSpPr/>
              <p:nvPr/>
            </p:nvSpPr>
            <p:spPr>
              <a:xfrm flipV="1">
                <a:off x="1829880" y="2067840"/>
                <a:ext cx="0" cy="27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1844640" y="1744560"/>
              <a:ext cx="528120" cy="672480"/>
              <a:chOff x="1844640" y="1744560"/>
              <a:chExt cx="528120" cy="672480"/>
            </a:xfrm>
          </p:grpSpPr>
          <p:sp>
            <p:nvSpPr>
              <p:cNvPr id="655" name=""/>
              <p:cNvSpPr/>
              <p:nvPr/>
            </p:nvSpPr>
            <p:spPr>
              <a:xfrm flipH="1" flipV="1" rot="10800000">
                <a:off x="2010960" y="2001240"/>
                <a:ext cx="320400" cy="19800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1971360" y="1917000"/>
                <a:ext cx="401400" cy="63360"/>
              </a:xfrm>
              <a:prstGeom prst="rect">
                <a:avLst/>
              </a:prstGeom>
              <a:solidFill>
                <a:srgbClr val="a50021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1844640" y="2188800"/>
                <a:ext cx="32976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844640" y="1744560"/>
                <a:ext cx="32976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9" name=""/>
          <p:cNvSpPr/>
          <p:nvPr/>
        </p:nvSpPr>
        <p:spPr>
          <a:xfrm>
            <a:off x="2408400" y="1628640"/>
            <a:ext cx="6694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El diodo parásito es l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el diodo está conduciendo, aunque el MOSFET se abra, el diodo puede seguir conduciendo un cierto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68160" y="2960640"/>
            <a:ext cx="812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Además de la capacidad de puerta, hay otros dos condens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75320" y="416088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407760" y="4395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4560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13640" y="4368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4657680" y="4305240"/>
            <a:ext cx="406440" cy="573840"/>
            <a:chOff x="4657680" y="4305240"/>
            <a:chExt cx="406440" cy="573840"/>
          </a:xfrm>
        </p:grpSpPr>
        <p:sp>
          <p:nvSpPr>
            <p:cNvPr id="666" name=""/>
            <p:cNvSpPr/>
            <p:nvPr/>
          </p:nvSpPr>
          <p:spPr>
            <a:xfrm flipV="1">
              <a:off x="4676760" y="4408920"/>
              <a:ext cx="387360" cy="46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57680" y="4305240"/>
              <a:ext cx="0" cy="24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657680" y="3486960"/>
            <a:ext cx="406440" cy="573840"/>
            <a:chOff x="4657680" y="3486960"/>
            <a:chExt cx="406440" cy="573840"/>
          </a:xfrm>
        </p:grpSpPr>
        <p:sp>
          <p:nvSpPr>
            <p:cNvPr id="669" name=""/>
            <p:cNvSpPr/>
            <p:nvPr/>
          </p:nvSpPr>
          <p:spPr>
            <a:xfrm>
              <a:off x="4676760" y="3486960"/>
              <a:ext cx="387360" cy="46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657680" y="3813480"/>
              <a:ext cx="0" cy="24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4653000" y="409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938760" y="3809880"/>
            <a:ext cx="590400" cy="723960"/>
          </a:xfrm>
          <a:custGeom>
            <a:avLst/>
            <a:gdLst/>
            <a:ahLst/>
            <a:rect l="l" t="t" r="r" b="b"/>
            <a:pathLst>
              <a:path w="372" h="456">
                <a:moveTo>
                  <a:pt x="372" y="0"/>
                </a:moveTo>
                <a:lnTo>
                  <a:pt x="372" y="456"/>
                </a:lnTo>
                <a:lnTo>
                  <a:pt x="0" y="45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5062680" y="4149720"/>
            <a:ext cx="0" cy="27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3968640" y="4567320"/>
            <a:ext cx="488880" cy="942480"/>
            <a:chOff x="3968640" y="4567320"/>
            <a:chExt cx="488880" cy="942480"/>
          </a:xfrm>
        </p:grpSpPr>
        <p:sp>
          <p:nvSpPr>
            <p:cNvPr id="675" name=""/>
            <p:cNvSpPr/>
            <p:nvPr/>
          </p:nvSpPr>
          <p:spPr>
            <a:xfrm>
              <a:off x="3971880" y="4922280"/>
              <a:ext cx="485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8640" y="5168160"/>
              <a:ext cx="485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4188600" y="4567320"/>
              <a:ext cx="0" cy="3441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99040" y="5178960"/>
              <a:ext cx="0" cy="3308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5060880" y="4791240"/>
            <a:ext cx="0" cy="71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3921120" y="551988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855960" y="3551400"/>
            <a:ext cx="488520" cy="942480"/>
            <a:chOff x="3855960" y="3551400"/>
            <a:chExt cx="488520" cy="942480"/>
          </a:xfrm>
        </p:grpSpPr>
        <p:sp>
          <p:nvSpPr>
            <p:cNvPr id="682" name=""/>
            <p:cNvSpPr/>
            <p:nvPr/>
          </p:nvSpPr>
          <p:spPr>
            <a:xfrm>
              <a:off x="3859200" y="390636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55960" y="415224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4075560" y="355140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86360" y="416304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460840" y="3583080"/>
            <a:ext cx="488880" cy="942480"/>
            <a:chOff x="5460840" y="3583080"/>
            <a:chExt cx="488880" cy="942480"/>
          </a:xfrm>
        </p:grpSpPr>
        <p:sp>
          <p:nvSpPr>
            <p:cNvPr id="687" name=""/>
            <p:cNvSpPr/>
            <p:nvPr/>
          </p:nvSpPr>
          <p:spPr>
            <a:xfrm>
              <a:off x="5464080" y="393804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60840" y="418392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5680800" y="358308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91240" y="419472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081320" y="3567240"/>
            <a:ext cx="9684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62680" y="356724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94360" y="455292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56280" y="3844800"/>
            <a:ext cx="74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79880" y="3733920"/>
            <a:ext cx="74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r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64480" y="3805200"/>
            <a:ext cx="14842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53960" y="3610080"/>
            <a:ext cx="16970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843120" y="6051600"/>
            <a:ext cx="7920000" cy="6922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851040" y="5668920"/>
            <a:ext cx="20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es r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206880" y="2951280"/>
            <a:ext cx="1496880" cy="927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45320" y="1414440"/>
            <a:ext cx="2901960" cy="2430360"/>
            <a:chOff x="5845320" y="1414440"/>
            <a:chExt cx="2901960" cy="2430360"/>
          </a:xfrm>
        </p:grpSpPr>
        <p:sp>
          <p:nvSpPr>
            <p:cNvPr id="702" name=""/>
            <p:cNvSpPr/>
            <p:nvPr/>
          </p:nvSpPr>
          <p:spPr>
            <a:xfrm>
              <a:off x="5845320" y="1414440"/>
              <a:ext cx="15120" cy="243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852520" y="2397240"/>
              <a:ext cx="267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845320" y="1816560"/>
              <a:ext cx="2901960" cy="577080"/>
            </a:xfrm>
            <a:custGeom>
              <a:avLst/>
              <a:gdLst/>
              <a:ahLst/>
              <a:rect l="l" t="t" r="r" b="b"/>
              <a:pathLst>
                <a:path w="3224" h="641">
                  <a:moveTo>
                    <a:pt x="0" y="0"/>
                  </a:moveTo>
                  <a:lnTo>
                    <a:pt x="877" y="0"/>
                  </a:lnTo>
                  <a:lnTo>
                    <a:pt x="935" y="641"/>
                  </a:lnTo>
                  <a:lnTo>
                    <a:pt x="2529" y="641"/>
                  </a:lnTo>
                  <a:lnTo>
                    <a:pt x="2573" y="9"/>
                  </a:lnTo>
                  <a:lnTo>
                    <a:pt x="3224" y="9"/>
                  </a:lnTo>
                </a:path>
              </a:pathLst>
            </a:custGeom>
            <a:noFill/>
            <a:ln w="381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873760" y="3672720"/>
              <a:ext cx="267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634800" y="1816560"/>
              <a:ext cx="0" cy="18572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173800" y="1816560"/>
              <a:ext cx="0" cy="18345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852520" y="3076920"/>
              <a:ext cx="2716560" cy="581400"/>
            </a:xfrm>
            <a:custGeom>
              <a:avLst/>
              <a:gdLst/>
              <a:ahLst/>
              <a:rect l="l" t="t" r="r" b="b"/>
              <a:pathLst>
                <a:path w="3018" h="646">
                  <a:moveTo>
                    <a:pt x="0" y="646"/>
                  </a:moveTo>
                  <a:lnTo>
                    <a:pt x="869" y="646"/>
                  </a:lnTo>
                  <a:lnTo>
                    <a:pt x="910" y="0"/>
                  </a:lnTo>
                  <a:lnTo>
                    <a:pt x="2538" y="9"/>
                  </a:lnTo>
                  <a:lnTo>
                    <a:pt x="2571" y="635"/>
                  </a:lnTo>
                  <a:lnTo>
                    <a:pt x="3018" y="638"/>
                  </a:lnTo>
                </a:path>
              </a:pathLst>
            </a:custGeom>
            <a:noFill/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5265720" y="1214280"/>
            <a:ext cx="6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70040" y="517680"/>
            <a:ext cx="73818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condensadores influyen fuertemente en las conmu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238720" y="280188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81400" y="207648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99960" y="2265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387960" y="2305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363760" y="2220840"/>
            <a:ext cx="406440" cy="574920"/>
            <a:chOff x="2363760" y="2220840"/>
            <a:chExt cx="406440" cy="574920"/>
          </a:xfrm>
        </p:grpSpPr>
        <p:sp>
          <p:nvSpPr>
            <p:cNvPr id="719" name=""/>
            <p:cNvSpPr/>
            <p:nvPr/>
          </p:nvSpPr>
          <p:spPr>
            <a:xfrm flipV="1">
              <a:off x="2382840" y="2325600"/>
              <a:ext cx="387360" cy="47016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63760" y="2220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2363760" y="1402560"/>
            <a:ext cx="406440" cy="573840"/>
            <a:chOff x="2363760" y="1402560"/>
            <a:chExt cx="406440" cy="573840"/>
          </a:xfrm>
        </p:grpSpPr>
        <p:sp>
          <p:nvSpPr>
            <p:cNvPr id="722" name=""/>
            <p:cNvSpPr/>
            <p:nvPr/>
          </p:nvSpPr>
          <p:spPr>
            <a:xfrm>
              <a:off x="2382840" y="1402560"/>
              <a:ext cx="387360" cy="46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2363760" y="1729080"/>
              <a:ext cx="0" cy="24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359080" y="2011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644480" y="1725480"/>
            <a:ext cx="590760" cy="723960"/>
          </a:xfrm>
          <a:custGeom>
            <a:avLst/>
            <a:gdLst/>
            <a:ahLst/>
            <a:rect l="l" t="t" r="r" b="b"/>
            <a:pathLst>
              <a:path w="372" h="456">
                <a:moveTo>
                  <a:pt x="372" y="0"/>
                </a:moveTo>
                <a:lnTo>
                  <a:pt x="372" y="456"/>
                </a:lnTo>
                <a:lnTo>
                  <a:pt x="0" y="45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2768760" y="2064960"/>
            <a:ext cx="0" cy="27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674720" y="2482920"/>
            <a:ext cx="488520" cy="942480"/>
            <a:chOff x="1674720" y="2482920"/>
            <a:chExt cx="488520" cy="942480"/>
          </a:xfrm>
        </p:grpSpPr>
        <p:sp>
          <p:nvSpPr>
            <p:cNvPr id="728" name=""/>
            <p:cNvSpPr/>
            <p:nvPr/>
          </p:nvSpPr>
          <p:spPr>
            <a:xfrm>
              <a:off x="1677960" y="283788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4720" y="308376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1894320" y="2482920"/>
              <a:ext cx="0" cy="3441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05120" y="3094560"/>
              <a:ext cx="0" cy="3308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766960" y="2706840"/>
            <a:ext cx="0" cy="71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627200" y="343548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562040" y="1467000"/>
            <a:ext cx="488520" cy="942480"/>
            <a:chOff x="1562040" y="1467000"/>
            <a:chExt cx="488520" cy="942480"/>
          </a:xfrm>
        </p:grpSpPr>
        <p:sp>
          <p:nvSpPr>
            <p:cNvPr id="735" name=""/>
            <p:cNvSpPr/>
            <p:nvPr/>
          </p:nvSpPr>
          <p:spPr>
            <a:xfrm>
              <a:off x="1565280" y="182196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62040" y="206784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1781640" y="146700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92440" y="207864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3166920" y="1498680"/>
            <a:ext cx="488880" cy="942480"/>
            <a:chOff x="3166920" y="1498680"/>
            <a:chExt cx="488880" cy="942480"/>
          </a:xfrm>
        </p:grpSpPr>
        <p:sp>
          <p:nvSpPr>
            <p:cNvPr id="740" name=""/>
            <p:cNvSpPr/>
            <p:nvPr/>
          </p:nvSpPr>
          <p:spPr>
            <a:xfrm>
              <a:off x="3170160" y="185364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166920" y="209952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386880" y="149868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397320" y="211032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787400" y="1482840"/>
            <a:ext cx="9684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68760" y="148284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800440" y="246852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762360" y="1760400"/>
            <a:ext cx="74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85960" y="1649520"/>
            <a:ext cx="74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r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4413240" y="1545840"/>
            <a:ext cx="0" cy="92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1276200" y="2503080"/>
            <a:ext cx="0" cy="92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405320" y="1863720"/>
            <a:ext cx="6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0200" y="267480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602080" y="103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051600" y="1336680"/>
            <a:ext cx="1127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DS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96880" y="3971880"/>
            <a:ext cx="83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necesita una cierta cantidad de energía para cargar los condens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476520" y="3108240"/>
                <a:ext cx="10605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3365640" y="2552760"/>
            <a:ext cx="220680" cy="38556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200" y="4678200"/>
            <a:ext cx="168264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fecto Mi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16680" y="1670040"/>
            <a:ext cx="345960" cy="411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102440" y="207648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29000" y="4557600"/>
            <a:ext cx="6441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 cargar el condensador de puerta se produce un cambio en la impedancia del condensador C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s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27640" y="5234040"/>
            <a:ext cx="0" cy="14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13240" y="6413400"/>
            <a:ext cx="26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13240" y="5354640"/>
            <a:ext cx="2678400" cy="1058760"/>
          </a:xfrm>
          <a:custGeom>
            <a:avLst/>
            <a:gdLst/>
            <a:ahLst/>
            <a:rect l="l" t="t" r="r" b="b"/>
            <a:pathLst>
              <a:path w="1687" h="667">
                <a:moveTo>
                  <a:pt x="0" y="667"/>
                </a:moveTo>
                <a:lnTo>
                  <a:pt x="268" y="308"/>
                </a:lnTo>
                <a:lnTo>
                  <a:pt x="794" y="308"/>
                </a:lnTo>
                <a:lnTo>
                  <a:pt x="1102" y="0"/>
                </a:lnTo>
                <a:lnTo>
                  <a:pt x="1687" y="0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632480" y="512604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22240" y="568332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 de onda que genera este cambio de imped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038480" y="5835600"/>
            <a:ext cx="582840" cy="357120"/>
          </a:xfrm>
          <a:prstGeom prst="rightArrow">
            <a:avLst>
              <a:gd name="adj1" fmla="val 50000"/>
              <a:gd name="adj2" fmla="val 40801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383600" y="5962680"/>
            <a:ext cx="71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6268680" y="5923080"/>
            <a:ext cx="103356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2954160" y="4253040"/>
            <a:ext cx="3418200" cy="153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78080" y="1174680"/>
            <a:ext cx="14400" cy="229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92480" y="325296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79520" y="1658880"/>
            <a:ext cx="5118120" cy="1584360"/>
          </a:xfrm>
          <a:custGeom>
            <a:avLst/>
            <a:gdLst/>
            <a:ahLst/>
            <a:rect l="l" t="t" r="r" b="b"/>
            <a:pathLst>
              <a:path w="3224" h="998">
                <a:moveTo>
                  <a:pt x="0" y="0"/>
                </a:moveTo>
                <a:lnTo>
                  <a:pt x="877" y="0"/>
                </a:lnTo>
                <a:lnTo>
                  <a:pt x="1246" y="998"/>
                </a:lnTo>
                <a:lnTo>
                  <a:pt x="2209" y="998"/>
                </a:lnTo>
                <a:lnTo>
                  <a:pt x="2963" y="17"/>
                </a:lnTo>
                <a:lnTo>
                  <a:pt x="3224" y="14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425680" y="1119240"/>
            <a:ext cx="88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05200" y="368604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39000" y="367020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203880" y="36720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5560" y="596880"/>
            <a:ext cx="450540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ición de tiempos de conm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347920" y="1650960"/>
            <a:ext cx="4791240" cy="1589040"/>
          </a:xfrm>
          <a:custGeom>
            <a:avLst/>
            <a:gdLst/>
            <a:ahLst/>
            <a:rect l="l" t="t" r="r" b="b"/>
            <a:pathLst>
              <a:path w="3018" h="1001">
                <a:moveTo>
                  <a:pt x="0" y="1001"/>
                </a:moveTo>
                <a:lnTo>
                  <a:pt x="575" y="999"/>
                </a:lnTo>
                <a:lnTo>
                  <a:pt x="1230" y="0"/>
                </a:lnTo>
                <a:lnTo>
                  <a:pt x="1810" y="5"/>
                </a:lnTo>
                <a:lnTo>
                  <a:pt x="2541" y="988"/>
                </a:lnTo>
                <a:lnTo>
                  <a:pt x="3018" y="988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354560" y="1114560"/>
            <a:ext cx="8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65480" y="1978200"/>
            <a:ext cx="5141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90680" y="2943360"/>
            <a:ext cx="5141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4440" y="271944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46280" y="17604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459240" y="2932200"/>
            <a:ext cx="0" cy="71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776760" y="1963800"/>
            <a:ext cx="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40360" y="2936880"/>
            <a:ext cx="0" cy="71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40160" y="3651120"/>
            <a:ext cx="333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00520" y="3641760"/>
            <a:ext cx="333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66920" y="3670200"/>
            <a:ext cx="7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d(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392800" y="3678120"/>
            <a:ext cx="7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d(o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446800" y="1963800"/>
            <a:ext cx="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16680" y="2944800"/>
            <a:ext cx="0" cy="76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762600" y="1994040"/>
            <a:ext cx="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46800" y="3673440"/>
            <a:ext cx="557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0200" y="4624560"/>
            <a:ext cx="322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tiempo de baj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041640" y="4248000"/>
            <a:ext cx="263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tiempo de subi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036960" y="5011560"/>
            <a:ext cx="34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(on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Retraso de ence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036960" y="5416560"/>
            <a:ext cx="37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(off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Retraso de apa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660240" y="5896080"/>
            <a:ext cx="833148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278080" y="1238400"/>
            <a:ext cx="33480" cy="531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92480" y="381168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279520" y="2720880"/>
            <a:ext cx="5118120" cy="1092240"/>
          </a:xfrm>
          <a:custGeom>
            <a:avLst/>
            <a:gdLst/>
            <a:ahLst/>
            <a:rect l="l" t="t" r="r" b="b"/>
            <a:pathLst>
              <a:path w="3224" h="688">
                <a:moveTo>
                  <a:pt x="0" y="0"/>
                </a:moveTo>
                <a:lnTo>
                  <a:pt x="977" y="4"/>
                </a:lnTo>
                <a:lnTo>
                  <a:pt x="1143" y="680"/>
                </a:lnTo>
                <a:lnTo>
                  <a:pt x="2396" y="688"/>
                </a:lnTo>
                <a:lnTo>
                  <a:pt x="2604" y="20"/>
                </a:lnTo>
                <a:lnTo>
                  <a:pt x="3224" y="1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330280" y="508320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94160" y="2233440"/>
            <a:ext cx="0" cy="4021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716880" y="2219400"/>
            <a:ext cx="0" cy="4033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92480" y="4054320"/>
            <a:ext cx="4790880" cy="1006560"/>
          </a:xfrm>
          <a:custGeom>
            <a:avLst/>
            <a:gdLst/>
            <a:ahLst/>
            <a:rect l="l" t="t" r="r" b="b"/>
            <a:pathLst>
              <a:path w="3018" h="634">
                <a:moveTo>
                  <a:pt x="0" y="632"/>
                </a:moveTo>
                <a:lnTo>
                  <a:pt x="751" y="634"/>
                </a:lnTo>
                <a:lnTo>
                  <a:pt x="969" y="16"/>
                </a:lnTo>
                <a:lnTo>
                  <a:pt x="2596" y="0"/>
                </a:lnTo>
                <a:lnTo>
                  <a:pt x="2780" y="617"/>
                </a:lnTo>
                <a:lnTo>
                  <a:pt x="3018" y="624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36880" y="185436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34280" y="1879560"/>
            <a:ext cx="0" cy="3390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38280" y="2394000"/>
            <a:ext cx="8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851120" y="3878280"/>
            <a:ext cx="65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261200" y="5578560"/>
            <a:ext cx="14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560" y="334800"/>
            <a:ext cx="60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conmutaciones no son id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nte un cierto tiempo conviven tensión y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44760" y="1150920"/>
            <a:ext cx="8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82760" y="241452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79520" y="1351080"/>
            <a:ext cx="4173840" cy="1035000"/>
          </a:xfrm>
          <a:custGeom>
            <a:avLst/>
            <a:gdLst/>
            <a:ahLst/>
            <a:rect l="l" t="t" r="r" b="b"/>
            <a:pathLst>
              <a:path w="2629" h="652">
                <a:moveTo>
                  <a:pt x="0" y="652"/>
                </a:moveTo>
                <a:lnTo>
                  <a:pt x="668" y="652"/>
                </a:lnTo>
                <a:lnTo>
                  <a:pt x="960" y="334"/>
                </a:lnTo>
                <a:lnTo>
                  <a:pt x="1152" y="334"/>
                </a:lnTo>
                <a:lnTo>
                  <a:pt x="1302" y="0"/>
                </a:lnTo>
                <a:lnTo>
                  <a:pt x="2212" y="9"/>
                </a:lnTo>
                <a:lnTo>
                  <a:pt x="2379" y="326"/>
                </a:lnTo>
                <a:lnTo>
                  <a:pt x="2629" y="326"/>
                </a:lnTo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292480" y="2208240"/>
            <a:ext cx="4371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263600" y="1866960"/>
            <a:ext cx="928800" cy="440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GS(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427800" y="1881360"/>
            <a:ext cx="396720" cy="51732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24520" y="2398680"/>
            <a:ext cx="66384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08320" y="1895400"/>
            <a:ext cx="0" cy="4334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066000" y="1866960"/>
            <a:ext cx="0" cy="4400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93920" y="626760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352520" y="5219640"/>
            <a:ext cx="104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06520" y="5273640"/>
            <a:ext cx="4743720" cy="968400"/>
          </a:xfrm>
          <a:custGeom>
            <a:avLst/>
            <a:gdLst/>
            <a:ahLst/>
            <a:rect l="l" t="t" r="r" b="b"/>
            <a:pathLst>
              <a:path w="2988" h="610">
                <a:moveTo>
                  <a:pt x="0" y="601"/>
                </a:moveTo>
                <a:lnTo>
                  <a:pt x="742" y="601"/>
                </a:lnTo>
                <a:lnTo>
                  <a:pt x="960" y="0"/>
                </a:lnTo>
                <a:lnTo>
                  <a:pt x="1123" y="610"/>
                </a:lnTo>
                <a:lnTo>
                  <a:pt x="2362" y="610"/>
                </a:lnTo>
                <a:lnTo>
                  <a:pt x="2596" y="9"/>
                </a:lnTo>
                <a:lnTo>
                  <a:pt x="2771" y="610"/>
                </a:lnTo>
                <a:lnTo>
                  <a:pt x="2988" y="6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25840" y="5313240"/>
            <a:ext cx="568440" cy="92880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100920" y="5330880"/>
            <a:ext cx="595080" cy="92880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06800" y="1495440"/>
            <a:ext cx="4860720" cy="15843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6080" y="202896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TEM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67160" y="153180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1: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arte 2: Dispositivos de 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3: Conversiones Energé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4: Apl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5: Norm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281880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ECTRÓNICA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8840" y="38160"/>
            <a:ext cx="34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ónic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 Cuatrimes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46320" y="1066680"/>
            <a:ext cx="35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Electrónica de 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73080" y="3406680"/>
            <a:ext cx="5653080" cy="3276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17800" y="3587760"/>
            <a:ext cx="6119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4:   Diodos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5:   El Transistor bipolar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6:   El MOSFET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7:   El IG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8:   Tiris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9:   Circuitos de control y gobi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0: Protección eléctrica de semicondu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1: Protección térmica de semicondu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2: Resistencias y condensadores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3: Bob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4: Transform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60520" y="4119480"/>
            <a:ext cx="6502320" cy="29232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673200" y="0"/>
            <a:ext cx="35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9040" y="62244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érdidas de con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1480" y="361332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érdidas de conm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860040" y="1035000"/>
            <a:ext cx="1553760" cy="1526400"/>
            <a:chOff x="860040" y="1035000"/>
            <a:chExt cx="1553760" cy="1526400"/>
          </a:xfrm>
        </p:grpSpPr>
        <p:sp>
          <p:nvSpPr>
            <p:cNvPr id="840" name=""/>
            <p:cNvSpPr/>
            <p:nvPr/>
          </p:nvSpPr>
          <p:spPr>
            <a:xfrm>
              <a:off x="1644480" y="177480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60040" y="1730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13480" y="103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09880" y="2101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1627200" y="1919160"/>
              <a:ext cx="406440" cy="573840"/>
              <a:chOff x="1627200" y="1919160"/>
              <a:chExt cx="406440" cy="573840"/>
            </a:xfrm>
          </p:grpSpPr>
          <p:sp>
            <p:nvSpPr>
              <p:cNvPr id="845" name=""/>
              <p:cNvSpPr/>
              <p:nvPr/>
            </p:nvSpPr>
            <p:spPr>
              <a:xfrm flipV="1">
                <a:off x="1646280" y="2022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627200" y="1919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1627200" y="1099440"/>
              <a:ext cx="406440" cy="574920"/>
              <a:chOff x="1627200" y="1099440"/>
              <a:chExt cx="406440" cy="574920"/>
            </a:xfrm>
          </p:grpSpPr>
          <p:sp>
            <p:nvSpPr>
              <p:cNvPr id="848" name=""/>
              <p:cNvSpPr/>
              <p:nvPr/>
            </p:nvSpPr>
            <p:spPr>
              <a:xfrm>
                <a:off x="1646280" y="109944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1627200" y="14266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1622520" y="1709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907920" y="1423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2031840" y="1763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2502000" y="1628640"/>
            <a:ext cx="649080" cy="384480"/>
          </a:xfrm>
          <a:prstGeom prst="leftRightArrow">
            <a:avLst>
              <a:gd name="adj1" fmla="val 50000"/>
              <a:gd name="adj2" fmla="val 3360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3252960" y="1373760"/>
            <a:ext cx="391680" cy="951840"/>
            <a:chOff x="3252960" y="1373760"/>
            <a:chExt cx="391680" cy="951840"/>
          </a:xfrm>
        </p:grpSpPr>
        <p:sp>
          <p:nvSpPr>
            <p:cNvPr id="855" name=""/>
            <p:cNvSpPr/>
            <p:nvPr/>
          </p:nvSpPr>
          <p:spPr>
            <a:xfrm flipH="1" flipV="1">
              <a:off x="3252960" y="2072520"/>
              <a:ext cx="18288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259800" y="1945800"/>
              <a:ext cx="37620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3270600" y="1884960"/>
              <a:ext cx="374040" cy="6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253320" y="1574280"/>
              <a:ext cx="382680" cy="186120"/>
              <a:chOff x="3253320" y="1574280"/>
              <a:chExt cx="382680" cy="186120"/>
            </a:xfrm>
          </p:grpSpPr>
          <p:sp>
            <p:nvSpPr>
              <p:cNvPr id="859" name=""/>
              <p:cNvSpPr/>
              <p:nvPr/>
            </p:nvSpPr>
            <p:spPr>
              <a:xfrm flipH="1">
                <a:off x="3253320" y="1574280"/>
                <a:ext cx="374400" cy="12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 flipV="1">
                <a:off x="3260160" y="1698120"/>
                <a:ext cx="375840" cy="6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H="1">
              <a:off x="3270600" y="1758600"/>
              <a:ext cx="37404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>
              <a:off x="3453480" y="1556640"/>
              <a:ext cx="18072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50960" y="2087280"/>
              <a:ext cx="0" cy="2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40160" y="1373760"/>
              <a:ext cx="0" cy="1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3814920" y="1587600"/>
            <a:ext cx="12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Arial"/>
              </a:rPr>
              <a:t>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880240" y="884160"/>
            <a:ext cx="65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6283440" y="1152000"/>
            <a:ext cx="2496960" cy="1219320"/>
            <a:chOff x="6283440" y="1152000"/>
            <a:chExt cx="2496960" cy="1219320"/>
          </a:xfrm>
        </p:grpSpPr>
        <p:sp>
          <p:nvSpPr>
            <p:cNvPr id="868" name=""/>
            <p:cNvSpPr/>
            <p:nvPr/>
          </p:nvSpPr>
          <p:spPr>
            <a:xfrm>
              <a:off x="6283440" y="2192040"/>
              <a:ext cx="249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92800" y="1389600"/>
              <a:ext cx="1375200" cy="784800"/>
            </a:xfrm>
            <a:custGeom>
              <a:avLst/>
              <a:gdLst/>
              <a:ahLst/>
              <a:rect l="l" t="t" r="r" b="b"/>
              <a:pathLst>
                <a:path w="3018" h="634">
                  <a:moveTo>
                    <a:pt x="0" y="632"/>
                  </a:moveTo>
                  <a:lnTo>
                    <a:pt x="751" y="634"/>
                  </a:lnTo>
                  <a:lnTo>
                    <a:pt x="969" y="16"/>
                  </a:lnTo>
                  <a:lnTo>
                    <a:pt x="2596" y="0"/>
                  </a:lnTo>
                  <a:lnTo>
                    <a:pt x="2780" y="617"/>
                  </a:lnTo>
                  <a:lnTo>
                    <a:pt x="3018" y="624"/>
                  </a:lnTo>
                </a:path>
              </a:pathLst>
            </a:custGeom>
            <a:noFill/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575120" y="2165040"/>
              <a:ext cx="105804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6284880" y="1152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6638760" y="2425680"/>
            <a:ext cx="2014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448400" y="2413080"/>
            <a:ext cx="5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640720" y="216072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616800" y="217980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379680" y="2651040"/>
            <a:ext cx="2718000" cy="440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conduc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· 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ef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644480" y="583092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82640" y="4583160"/>
            <a:ext cx="104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657440" y="4836960"/>
            <a:ext cx="4743360" cy="968400"/>
          </a:xfrm>
          <a:custGeom>
            <a:avLst/>
            <a:gdLst/>
            <a:ahLst/>
            <a:rect l="l" t="t" r="r" b="b"/>
            <a:pathLst>
              <a:path w="2988" h="610">
                <a:moveTo>
                  <a:pt x="0" y="601"/>
                </a:moveTo>
                <a:lnTo>
                  <a:pt x="742" y="601"/>
                </a:lnTo>
                <a:lnTo>
                  <a:pt x="960" y="0"/>
                </a:lnTo>
                <a:lnTo>
                  <a:pt x="1123" y="610"/>
                </a:lnTo>
                <a:lnTo>
                  <a:pt x="2362" y="610"/>
                </a:lnTo>
                <a:lnTo>
                  <a:pt x="2596" y="9"/>
                </a:lnTo>
                <a:lnTo>
                  <a:pt x="2771" y="610"/>
                </a:lnTo>
                <a:lnTo>
                  <a:pt x="2988" y="6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76400" y="4876920"/>
            <a:ext cx="568440" cy="92844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51480" y="4894200"/>
            <a:ext cx="595440" cy="92880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1657440" y="4413240"/>
            <a:ext cx="0" cy="156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55640" y="5433840"/>
            <a:ext cx="4943520" cy="0"/>
          </a:xfrm>
          <a:prstGeom prst="line">
            <a:avLst/>
          </a:prstGeom>
          <a:ln w="572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626160" y="4941720"/>
            <a:ext cx="226548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álculo del valor medio de la forma de o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28786" t="3376" r="0" b="0"/>
          <a:stretch/>
        </p:blipFill>
        <p:spPr>
          <a:xfrm>
            <a:off x="34920" y="549360"/>
            <a:ext cx="4897440" cy="6181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55960" y="213372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ción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3859200"/>
            <a:ext cx="511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Electrónic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5º Curso. Ingenierí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Intensificación Electrotéc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11640" y="692280"/>
            <a:ext cx="1106640" cy="122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81360" y="2897280"/>
            <a:ext cx="413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9440" y="2743200"/>
            <a:ext cx="41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MOSFET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596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-281880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80640" y="2043000"/>
            <a:ext cx="1553760" cy="1526400"/>
            <a:chOff x="980640" y="2043000"/>
            <a:chExt cx="1553760" cy="1526400"/>
          </a:xfrm>
        </p:grpSpPr>
        <p:sp>
          <p:nvSpPr>
            <p:cNvPr id="66" name=""/>
            <p:cNvSpPr/>
            <p:nvPr/>
          </p:nvSpPr>
          <p:spPr>
            <a:xfrm>
              <a:off x="1765080" y="278280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80640" y="273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4080" y="2043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0480" y="3109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747800" y="2927160"/>
              <a:ext cx="406440" cy="573840"/>
              <a:chOff x="1747800" y="2927160"/>
              <a:chExt cx="406440" cy="573840"/>
            </a:xfrm>
          </p:grpSpPr>
          <p:sp>
            <p:nvSpPr>
              <p:cNvPr id="71" name=""/>
              <p:cNvSpPr/>
              <p:nvPr/>
            </p:nvSpPr>
            <p:spPr>
              <a:xfrm flipV="1">
                <a:off x="1766880" y="3030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47800" y="2927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747800" y="2107440"/>
              <a:ext cx="406440" cy="574920"/>
              <a:chOff x="1747800" y="2107440"/>
              <a:chExt cx="406440" cy="574920"/>
            </a:xfrm>
          </p:grpSpPr>
          <p:sp>
            <p:nvSpPr>
              <p:cNvPr id="74" name=""/>
              <p:cNvSpPr/>
              <p:nvPr/>
            </p:nvSpPr>
            <p:spPr>
              <a:xfrm>
                <a:off x="1766880" y="210744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1747800" y="24346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743120" y="2717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28520" y="2431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152440" y="2771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108880" y="4032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55080" y="4097880"/>
            <a:ext cx="1533240" cy="1460520"/>
            <a:chOff x="955080" y="4097880"/>
            <a:chExt cx="1533240" cy="1460520"/>
          </a:xfrm>
        </p:grpSpPr>
        <p:sp>
          <p:nvSpPr>
            <p:cNvPr id="81" name=""/>
            <p:cNvSpPr/>
            <p:nvPr/>
          </p:nvSpPr>
          <p:spPr>
            <a:xfrm flipH="1">
              <a:off x="1833120" y="4777920"/>
              <a:ext cx="17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55080" y="4727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04920" y="5098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1722240" y="4916160"/>
              <a:ext cx="406440" cy="573840"/>
              <a:chOff x="1722240" y="4916160"/>
              <a:chExt cx="406440" cy="57384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1741320" y="5019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22240" y="4916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722240" y="4097880"/>
              <a:ext cx="406440" cy="573840"/>
              <a:chOff x="1722240" y="4097880"/>
              <a:chExt cx="406440" cy="573840"/>
            </a:xfrm>
          </p:grpSpPr>
          <p:sp>
            <p:nvSpPr>
              <p:cNvPr id="88" name=""/>
              <p:cNvSpPr/>
              <p:nvPr/>
            </p:nvSpPr>
            <p:spPr>
              <a:xfrm>
                <a:off x="1741320" y="409788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1722240" y="442440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1717560" y="4706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02960" y="4420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126880" y="4760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720800" y="4779720"/>
              <a:ext cx="411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962440" y="2692440"/>
            <a:ext cx="11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08440" y="4646520"/>
            <a:ext cx="11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al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6160" y="79200"/>
            <a:ext cx="7226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El transistor de Efecto de Campo Metal-Óxido-Semi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tal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O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xide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miconductor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ield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E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fect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nsistor (MOSF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82520" y="1057320"/>
            <a:ext cx="6656400" cy="785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un dispositivo unipola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onducción sólo es debida a un tipo de por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6840" y="2556000"/>
            <a:ext cx="43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Conducción debida a elect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25920" y="4587840"/>
            <a:ext cx="43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Conducción debida a hue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9160" y="5846760"/>
            <a:ext cx="8191800" cy="785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más usados son los MOSFET de 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onducción es debida a los electrones y por tanto, son más ráp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9040" y="44280"/>
            <a:ext cx="499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urva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característica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del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96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-281880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209840" y="1644480"/>
            <a:ext cx="4932720" cy="3425760"/>
            <a:chOff x="4209840" y="1644480"/>
            <a:chExt cx="4932720" cy="3425760"/>
          </a:xfrm>
        </p:grpSpPr>
        <p:sp>
          <p:nvSpPr>
            <p:cNvPr id="105" name=""/>
            <p:cNvSpPr/>
            <p:nvPr/>
          </p:nvSpPr>
          <p:spPr>
            <a:xfrm>
              <a:off x="4809960" y="1644480"/>
              <a:ext cx="11887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[mA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20800" y="4044600"/>
              <a:ext cx="1121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4581360"/>
              <a:ext cx="180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4276080" y="4533120"/>
              <a:ext cx="3895560" cy="145800"/>
              <a:chOff x="4276080" y="4533120"/>
              <a:chExt cx="3895560" cy="14580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479304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526716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573588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20820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67944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715212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2480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98800" y="4541040"/>
                <a:ext cx="4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573320" y="4541040"/>
                <a:ext cx="4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4276080" y="4541040"/>
                <a:ext cx="3895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690800" y="454320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90800" y="403524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90800" y="353340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90800" y="302724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90800" y="252216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790880" y="447444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90880" y="1995120"/>
              <a:ext cx="0" cy="307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209840" y="2285640"/>
              <a:ext cx="435960" cy="1427760"/>
              <a:chOff x="4209840" y="2285640"/>
              <a:chExt cx="435960" cy="1427760"/>
            </a:xfrm>
          </p:grpSpPr>
          <p:sp>
            <p:nvSpPr>
              <p:cNvPr id="127" name=""/>
              <p:cNvSpPr/>
              <p:nvPr/>
            </p:nvSpPr>
            <p:spPr>
              <a:xfrm>
                <a:off x="4209840" y="2285640"/>
                <a:ext cx="435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209840" y="3258720"/>
                <a:ext cx="435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6516720" y="46051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49760" y="4606560"/>
              <a:ext cx="549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34000" y="45860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46720" y="448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983120" y="866880"/>
            <a:ext cx="325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8080"/>
                </a:solidFill>
                <a:latin typeface="Arial"/>
              </a:rPr>
              <a:t>Curvas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960" y="6087960"/>
            <a:ext cx="5149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Curvas de entra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tienen interé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puerta aislada del ca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3120" y="919080"/>
            <a:ext cx="354168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ferencias norma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17560" y="2003400"/>
            <a:ext cx="3156840" cy="2362680"/>
            <a:chOff x="817560" y="2003400"/>
            <a:chExt cx="3156840" cy="2362680"/>
          </a:xfrm>
        </p:grpSpPr>
        <p:grpSp>
          <p:nvGrpSpPr>
            <p:cNvPr id="137" name=""/>
            <p:cNvGrpSpPr/>
            <p:nvPr/>
          </p:nvGrpSpPr>
          <p:grpSpPr>
            <a:xfrm>
              <a:off x="3171600" y="3066840"/>
              <a:ext cx="550800" cy="228240"/>
              <a:chOff x="3171600" y="3066840"/>
              <a:chExt cx="550800" cy="228240"/>
            </a:xfrm>
          </p:grpSpPr>
          <p:sp>
            <p:nvSpPr>
              <p:cNvPr id="138" name=""/>
              <p:cNvSpPr/>
              <p:nvPr/>
            </p:nvSpPr>
            <p:spPr>
              <a:xfrm flipH="1" flipV="1" rot="16200000">
                <a:off x="3421440" y="2817000"/>
                <a:ext cx="51120" cy="550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 rot="16200000">
                <a:off x="3404520" y="3117600"/>
                <a:ext cx="83880" cy="270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flipV="1">
              <a:off x="3426840" y="2209680"/>
              <a:ext cx="1800" cy="8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446280" y="3281400"/>
              <a:ext cx="0" cy="99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01600" y="3336840"/>
              <a:ext cx="781200" cy="54756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522" y="0"/>
                  </a:moveTo>
                  <a:lnTo>
                    <a:pt x="0" y="0"/>
                  </a:lnTo>
                  <a:lnTo>
                    <a:pt x="0" y="3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93680" y="3990960"/>
              <a:ext cx="2362320" cy="295200"/>
            </a:xfrm>
            <a:custGeom>
              <a:avLst/>
              <a:gdLst/>
              <a:ahLst/>
              <a:rect l="l" t="t" r="r" b="b"/>
              <a:pathLst>
                <a:path w="1500" h="646">
                  <a:moveTo>
                    <a:pt x="0" y="0"/>
                  </a:moveTo>
                  <a:lnTo>
                    <a:pt x="0" y="646"/>
                  </a:lnTo>
                  <a:lnTo>
                    <a:pt x="1500" y="6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25760" y="2208240"/>
              <a:ext cx="922320" cy="144360"/>
            </a:xfrm>
            <a:custGeom>
              <a:avLst/>
              <a:gdLst/>
              <a:ahLst/>
              <a:rect l="l" t="t" r="r" b="b"/>
              <a:pathLst>
                <a:path w="564" h="91">
                  <a:moveTo>
                    <a:pt x="0" y="91"/>
                  </a:moveTo>
                  <a:lnTo>
                    <a:pt x="0" y="0"/>
                  </a:lnTo>
                  <a:lnTo>
                    <a:pt x="5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599200" y="2539800"/>
              <a:ext cx="710640" cy="1136160"/>
              <a:chOff x="2599200" y="2539800"/>
              <a:chExt cx="710640" cy="1136160"/>
            </a:xfrm>
          </p:grpSpPr>
          <p:sp>
            <p:nvSpPr>
              <p:cNvPr id="146" name=""/>
              <p:cNvSpPr/>
              <p:nvPr/>
            </p:nvSpPr>
            <p:spPr>
              <a:xfrm>
                <a:off x="2647800" y="25398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2599200" y="2747880"/>
                <a:ext cx="710640" cy="928080"/>
                <a:chOff x="2599200" y="2747880"/>
                <a:chExt cx="710640" cy="9280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652480" y="2747880"/>
                  <a:ext cx="0" cy="771480"/>
                </a:xfrm>
                <a:prstGeom prst="line">
                  <a:avLst/>
                </a:prstGeom>
                <a:ln w="38160">
                  <a:solidFill>
                    <a:srgbClr val="0080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599200" y="3216240"/>
                  <a:ext cx="368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8080"/>
                      </a:solidFill>
                      <a:latin typeface="Arial"/>
                    </a:rPr>
                    <a:t> </a:t>
                  </a:r>
                  <a:r>
                    <a:rPr b="1" lang="es-ES_tradnl" sz="2400" spc="-1" strike="noStrike">
                      <a:solidFill>
                        <a:srgbClr val="008080"/>
                      </a:solidFill>
                      <a:latin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641680" y="2901960"/>
                  <a:ext cx="668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8080"/>
                      </a:solidFill>
                      <a:latin typeface="Arial"/>
                    </a:rPr>
                    <a:t>V</a:t>
                  </a:r>
                  <a:r>
                    <a:rPr b="1" lang="es-ES_tradnl" sz="2400" spc="-1" strike="noStrike" baseline="-25000">
                      <a:solidFill>
                        <a:srgbClr val="008080"/>
                      </a:solidFill>
                      <a:latin typeface="Arial"/>
                    </a:rPr>
                    <a:t>D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>
              <a:off x="2376360" y="2009520"/>
              <a:ext cx="1190520" cy="277920"/>
            </a:xfrm>
            <a:custGeom>
              <a:avLst/>
              <a:gdLst/>
              <a:ahLst/>
              <a:rect l="l" t="t" r="r" b="b"/>
              <a:pathLst>
                <a:path w="750" h="408">
                  <a:moveTo>
                    <a:pt x="750" y="324"/>
                  </a:moveTo>
                  <a:lnTo>
                    <a:pt x="750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0200" y="200340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817560" y="3831480"/>
              <a:ext cx="550800" cy="226800"/>
              <a:chOff x="817560" y="3831480"/>
              <a:chExt cx="550800" cy="226800"/>
            </a:xfrm>
          </p:grpSpPr>
          <p:sp>
            <p:nvSpPr>
              <p:cNvPr id="154" name=""/>
              <p:cNvSpPr/>
              <p:nvPr/>
            </p:nvSpPr>
            <p:spPr>
              <a:xfrm flipH="1" flipV="1" rot="16200000">
                <a:off x="1067400" y="3580920"/>
                <a:ext cx="50760" cy="550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 rot="16200000">
                <a:off x="1049400" y="3881160"/>
                <a:ext cx="83880" cy="269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550160" y="3230280"/>
              <a:ext cx="797760" cy="1135800"/>
              <a:chOff x="1550160" y="3230280"/>
              <a:chExt cx="797760" cy="113580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3440" y="3438000"/>
                <a:ext cx="0" cy="771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8760" y="32302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550160" y="390636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cc0066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78240" y="3592080"/>
                <a:ext cx="769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808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1490040" y="2851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61080" y="2300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7200" y="3208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36600" y="296388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138400" y="3212280"/>
              <a:ext cx="387360" cy="109044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19320" y="31082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119320" y="2289960"/>
              <a:ext cx="406440" cy="573840"/>
              <a:chOff x="2119320" y="2289960"/>
              <a:chExt cx="406440" cy="573840"/>
            </a:xfrm>
          </p:grpSpPr>
          <p:sp>
            <p:nvSpPr>
              <p:cNvPr id="168" name=""/>
              <p:cNvSpPr/>
              <p:nvPr/>
            </p:nvSpPr>
            <p:spPr>
              <a:xfrm>
                <a:off x="2138400" y="228996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119320" y="261648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114280" y="2898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00040" y="2612880"/>
              <a:ext cx="59040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25760" y="294480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91240" y="4537080"/>
            <a:ext cx="4066560" cy="767160"/>
            <a:chOff x="4791240" y="4537080"/>
            <a:chExt cx="4066560" cy="767160"/>
          </a:xfrm>
        </p:grpSpPr>
        <p:sp>
          <p:nvSpPr>
            <p:cNvPr id="174" name=""/>
            <p:cNvSpPr/>
            <p:nvPr/>
          </p:nvSpPr>
          <p:spPr>
            <a:xfrm>
              <a:off x="4791240" y="4537080"/>
              <a:ext cx="31744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9040" y="4903560"/>
              <a:ext cx="1688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ff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ff00ff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ff00ff"/>
                  </a:solidFill>
                  <a:latin typeface="Arial"/>
                </a:rPr>
                <a:t>&lt; V</a:t>
              </a:r>
              <a:r>
                <a:rPr b="1" lang="es-ES_tradnl" sz="1800" spc="-1" strike="noStrike" baseline="-25000">
                  <a:solidFill>
                    <a:srgbClr val="ff00ff"/>
                  </a:solidFill>
                  <a:latin typeface="Arial"/>
                </a:rPr>
                <a:t>TH</a:t>
              </a:r>
              <a:r>
                <a:rPr b="1" lang="es-ES_tradnl" sz="1800" spc="-1" strike="noStrike">
                  <a:solidFill>
                    <a:srgbClr val="ff00ff"/>
                  </a:solidFill>
                  <a:latin typeface="Arial"/>
                </a:rPr>
                <a:t> = 2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32520" y="4562280"/>
              <a:ext cx="402840" cy="558360"/>
            </a:xfrm>
            <a:custGeom>
              <a:avLst/>
              <a:gdLst/>
              <a:ahLst/>
              <a:rect l="l" t="t" r="r" b="b"/>
              <a:pathLst>
                <a:path w="254" h="352">
                  <a:moveTo>
                    <a:pt x="195" y="352"/>
                  </a:moveTo>
                  <a:cubicBezTo>
                    <a:pt x="141" y="352"/>
                    <a:pt x="87" y="352"/>
                    <a:pt x="59" y="328"/>
                  </a:cubicBezTo>
                  <a:cubicBezTo>
                    <a:pt x="31" y="304"/>
                    <a:pt x="0" y="240"/>
                    <a:pt x="27" y="208"/>
                  </a:cubicBezTo>
                  <a:cubicBezTo>
                    <a:pt x="54" y="176"/>
                    <a:pt x="184" y="171"/>
                    <a:pt x="219" y="136"/>
                  </a:cubicBezTo>
                  <a:cubicBezTo>
                    <a:pt x="254" y="101"/>
                    <a:pt x="244" y="50"/>
                    <a:pt x="235" y="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809960" y="4091040"/>
            <a:ext cx="3168720" cy="446040"/>
            <a:chOff x="4809960" y="4091040"/>
            <a:chExt cx="3168720" cy="446040"/>
          </a:xfrm>
        </p:grpSpPr>
        <p:sp>
          <p:nvSpPr>
            <p:cNvPr id="178" name=""/>
            <p:cNvSpPr/>
            <p:nvPr/>
          </p:nvSpPr>
          <p:spPr>
            <a:xfrm>
              <a:off x="4809960" y="4446720"/>
              <a:ext cx="3168720" cy="90360"/>
            </a:xfrm>
            <a:custGeom>
              <a:avLst/>
              <a:gdLst/>
              <a:ahLst/>
              <a:rect l="l" t="t" r="r" b="b"/>
              <a:pathLst>
                <a:path w="1996" h="57">
                  <a:moveTo>
                    <a:pt x="0" y="57"/>
                  </a:moveTo>
                  <a:lnTo>
                    <a:pt x="150" y="4"/>
                  </a:lnTo>
                  <a:lnTo>
                    <a:pt x="158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8" y="0"/>
                  </a:lnTo>
                  <a:lnTo>
                    <a:pt x="208" y="0"/>
                  </a:lnTo>
                  <a:lnTo>
                    <a:pt x="1996" y="2"/>
                  </a:lnTo>
                </a:path>
              </a:pathLst>
            </a:custGeom>
            <a:noFill/>
            <a:ln cap="rnd"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01680" y="4091040"/>
              <a:ext cx="1229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ccff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ccccff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ccccff"/>
                  </a:solidFill>
                  <a:latin typeface="Arial"/>
                </a:rPr>
                <a:t>= 2,5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816440" y="3780000"/>
            <a:ext cx="3193920" cy="738000"/>
            <a:chOff x="4816440" y="3780000"/>
            <a:chExt cx="3193920" cy="738000"/>
          </a:xfrm>
        </p:grpSpPr>
        <p:sp>
          <p:nvSpPr>
            <p:cNvPr id="181" name=""/>
            <p:cNvSpPr/>
            <p:nvPr/>
          </p:nvSpPr>
          <p:spPr>
            <a:xfrm>
              <a:off x="4816440" y="4141800"/>
              <a:ext cx="3193920" cy="376200"/>
            </a:xfrm>
            <a:custGeom>
              <a:avLst/>
              <a:gdLst/>
              <a:ahLst/>
              <a:rect l="l" t="t" r="r" b="b"/>
              <a:pathLst>
                <a:path w="2012" h="237">
                  <a:moveTo>
                    <a:pt x="0" y="237"/>
                  </a:moveTo>
                  <a:lnTo>
                    <a:pt x="275" y="18"/>
                  </a:lnTo>
                  <a:lnTo>
                    <a:pt x="289" y="8"/>
                  </a:lnTo>
                  <a:lnTo>
                    <a:pt x="303" y="7"/>
                  </a:lnTo>
                  <a:lnTo>
                    <a:pt x="319" y="2"/>
                  </a:lnTo>
                  <a:lnTo>
                    <a:pt x="345" y="0"/>
                  </a:lnTo>
                  <a:lnTo>
                    <a:pt x="380" y="0"/>
                  </a:lnTo>
                  <a:lnTo>
                    <a:pt x="2012" y="1"/>
                  </a:lnTo>
                </a:path>
              </a:pathLst>
            </a:custGeom>
            <a:noFill/>
            <a:ln cap="rnd" w="38160">
              <a:solidFill>
                <a:srgbClr val="ef9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80720" y="3780000"/>
              <a:ext cx="1103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ff9900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=  3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816440" y="3417840"/>
            <a:ext cx="3225600" cy="1100160"/>
            <a:chOff x="4816440" y="3417840"/>
            <a:chExt cx="3225600" cy="1100160"/>
          </a:xfrm>
        </p:grpSpPr>
        <p:sp>
          <p:nvSpPr>
            <p:cNvPr id="184" name=""/>
            <p:cNvSpPr/>
            <p:nvPr/>
          </p:nvSpPr>
          <p:spPr>
            <a:xfrm>
              <a:off x="4816440" y="3800520"/>
              <a:ext cx="3225600" cy="717480"/>
            </a:xfrm>
            <a:custGeom>
              <a:avLst/>
              <a:gdLst/>
              <a:ahLst/>
              <a:rect l="l" t="t" r="r" b="b"/>
              <a:pathLst>
                <a:path w="2032" h="536">
                  <a:moveTo>
                    <a:pt x="0" y="536"/>
                  </a:moveTo>
                  <a:lnTo>
                    <a:pt x="426" y="62"/>
                  </a:lnTo>
                  <a:lnTo>
                    <a:pt x="447" y="42"/>
                  </a:lnTo>
                  <a:lnTo>
                    <a:pt x="469" y="38"/>
                  </a:lnTo>
                  <a:lnTo>
                    <a:pt x="492" y="28"/>
                  </a:lnTo>
                  <a:lnTo>
                    <a:pt x="533" y="23"/>
                  </a:lnTo>
                  <a:lnTo>
                    <a:pt x="588" y="23"/>
                  </a:lnTo>
                  <a:lnTo>
                    <a:pt x="2032" y="0"/>
                  </a:lnTo>
                </a:path>
              </a:pathLst>
            </a:custGeom>
            <a:noFill/>
            <a:ln cap="rnd"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58760" y="3417840"/>
              <a:ext cx="13474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GS </a:t>
              </a: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= 3,5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797360" y="2846520"/>
            <a:ext cx="3263760" cy="1709640"/>
            <a:chOff x="4797360" y="2846520"/>
            <a:chExt cx="3263760" cy="1709640"/>
          </a:xfrm>
        </p:grpSpPr>
        <p:sp>
          <p:nvSpPr>
            <p:cNvPr id="187" name=""/>
            <p:cNvSpPr/>
            <p:nvPr/>
          </p:nvSpPr>
          <p:spPr>
            <a:xfrm>
              <a:off x="6420960" y="2846520"/>
              <a:ext cx="11354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00ff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6600ff"/>
                  </a:solidFill>
                  <a:latin typeface="Arial"/>
                </a:rPr>
                <a:t>GS </a:t>
              </a:r>
              <a:r>
                <a:rPr b="1" lang="es-ES_tradnl" sz="2000" spc="-1" strike="noStrike">
                  <a:solidFill>
                    <a:srgbClr val="6600ff"/>
                  </a:solidFill>
                  <a:latin typeface="Arial"/>
                </a:rPr>
                <a:t>= 4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97360" y="3222720"/>
              <a:ext cx="3263760" cy="1333440"/>
            </a:xfrm>
            <a:custGeom>
              <a:avLst/>
              <a:gdLst/>
              <a:ahLst/>
              <a:rect l="l" t="t" r="r" b="b"/>
              <a:pathLst>
                <a:path w="2056" h="840">
                  <a:moveTo>
                    <a:pt x="0" y="840"/>
                  </a:moveTo>
                  <a:lnTo>
                    <a:pt x="554" y="100"/>
                  </a:lnTo>
                  <a:lnTo>
                    <a:pt x="582" y="70"/>
                  </a:lnTo>
                  <a:lnTo>
                    <a:pt x="610" y="63"/>
                  </a:lnTo>
                  <a:lnTo>
                    <a:pt x="639" y="48"/>
                  </a:lnTo>
                  <a:lnTo>
                    <a:pt x="693" y="40"/>
                  </a:lnTo>
                  <a:lnTo>
                    <a:pt x="764" y="40"/>
                  </a:lnTo>
                  <a:lnTo>
                    <a:pt x="2056" y="0"/>
                  </a:lnTo>
                </a:path>
              </a:pathLst>
            </a:custGeom>
            <a:noFill/>
            <a:ln cap="rnd" w="3816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797360" y="2154240"/>
            <a:ext cx="3244680" cy="2382840"/>
            <a:chOff x="4797360" y="2154240"/>
            <a:chExt cx="3244680" cy="2382840"/>
          </a:xfrm>
        </p:grpSpPr>
        <p:sp>
          <p:nvSpPr>
            <p:cNvPr id="190" name=""/>
            <p:cNvSpPr/>
            <p:nvPr/>
          </p:nvSpPr>
          <p:spPr>
            <a:xfrm>
              <a:off x="6344280" y="2154240"/>
              <a:ext cx="13474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9933ff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9933ff"/>
                  </a:solidFill>
                  <a:latin typeface="Arial"/>
                </a:rPr>
                <a:t>GS </a:t>
              </a:r>
              <a:r>
                <a:rPr b="1" lang="es-ES_tradnl" sz="2000" spc="-1" strike="noStrike">
                  <a:solidFill>
                    <a:srgbClr val="9933ff"/>
                  </a:solidFill>
                  <a:latin typeface="Arial"/>
                </a:rPr>
                <a:t>= 4,5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97360" y="2505240"/>
              <a:ext cx="3244680" cy="2031840"/>
            </a:xfrm>
            <a:custGeom>
              <a:avLst/>
              <a:gdLst/>
              <a:ahLst/>
              <a:rect l="l" t="t" r="r" b="b"/>
              <a:pathLst>
                <a:path w="2044" h="1280">
                  <a:moveTo>
                    <a:pt x="0" y="1280"/>
                  </a:moveTo>
                  <a:lnTo>
                    <a:pt x="625" y="201"/>
                  </a:lnTo>
                  <a:lnTo>
                    <a:pt x="679" y="123"/>
                  </a:lnTo>
                  <a:lnTo>
                    <a:pt x="728" y="79"/>
                  </a:lnTo>
                  <a:lnTo>
                    <a:pt x="763" y="56"/>
                  </a:lnTo>
                  <a:lnTo>
                    <a:pt x="827" y="44"/>
                  </a:lnTo>
                  <a:lnTo>
                    <a:pt x="940" y="39"/>
                  </a:lnTo>
                  <a:lnTo>
                    <a:pt x="2044" y="0"/>
                  </a:lnTo>
                </a:path>
              </a:pathLst>
            </a:custGeom>
            <a:noFill/>
            <a:ln cap="rnd" w="3816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368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-29710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552920" y="1362240"/>
            <a:ext cx="3005280" cy="2581200"/>
            <a:chOff x="4552920" y="1362240"/>
            <a:chExt cx="3005280" cy="2581200"/>
          </a:xfrm>
        </p:grpSpPr>
        <p:grpSp>
          <p:nvGrpSpPr>
            <p:cNvPr id="195" name=""/>
            <p:cNvGrpSpPr/>
            <p:nvPr/>
          </p:nvGrpSpPr>
          <p:grpSpPr>
            <a:xfrm>
              <a:off x="4552920" y="1362240"/>
              <a:ext cx="3005280" cy="2581200"/>
              <a:chOff x="4552920" y="1362240"/>
              <a:chExt cx="3005280" cy="2581200"/>
            </a:xfrm>
          </p:grpSpPr>
          <p:sp>
            <p:nvSpPr>
              <p:cNvPr id="196" name=""/>
              <p:cNvSpPr/>
              <p:nvPr/>
            </p:nvSpPr>
            <p:spPr>
              <a:xfrm>
                <a:off x="4552920" y="1362240"/>
                <a:ext cx="3005280" cy="258120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892760" y="1641600"/>
                <a:ext cx="139680" cy="13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7247160" y="36608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384440" y="835200"/>
            <a:ext cx="4799880" cy="3457800"/>
            <a:chOff x="4384440" y="835200"/>
            <a:chExt cx="4799880" cy="3457800"/>
          </a:xfrm>
        </p:grpSpPr>
        <p:sp>
          <p:nvSpPr>
            <p:cNvPr id="200" name=""/>
            <p:cNvSpPr/>
            <p:nvPr/>
          </p:nvSpPr>
          <p:spPr>
            <a:xfrm>
              <a:off x="8062560" y="3787920"/>
              <a:ext cx="1121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4384440" y="835200"/>
              <a:ext cx="3962880" cy="3425760"/>
              <a:chOff x="4384440" y="835200"/>
              <a:chExt cx="3962880" cy="3425760"/>
            </a:xfrm>
          </p:grpSpPr>
          <p:sp>
            <p:nvSpPr>
              <p:cNvPr id="202" name=""/>
              <p:cNvSpPr/>
              <p:nvPr/>
            </p:nvSpPr>
            <p:spPr>
              <a:xfrm>
                <a:off x="4984920" y="835200"/>
                <a:ext cx="118872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997520" y="3772080"/>
                <a:ext cx="18108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4451400" y="3723840"/>
                <a:ext cx="3895920" cy="145800"/>
                <a:chOff x="4451400" y="3723840"/>
                <a:chExt cx="3895920" cy="14580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496800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544212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591084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638316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685440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732744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780012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973760" y="3731760"/>
                  <a:ext cx="45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748640" y="3731760"/>
                  <a:ext cx="45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4451400" y="3731760"/>
                  <a:ext cx="3895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65760" y="373392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65760" y="322596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65760" y="272412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865760" y="221760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65760" y="171288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965840" y="3665160"/>
                <a:ext cx="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65840" y="1185840"/>
                <a:ext cx="0" cy="307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4384440" y="1476360"/>
                <a:ext cx="435960" cy="1427400"/>
                <a:chOff x="4384440" y="1476360"/>
                <a:chExt cx="435960" cy="14274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384440" y="1476360"/>
                  <a:ext cx="4359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384440" y="2449080"/>
                  <a:ext cx="4359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6691320" y="379584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724720" y="3797280"/>
                <a:ext cx="549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52080" y="3776760"/>
                <a:ext cx="519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621680" y="3678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4984920" y="3319560"/>
            <a:ext cx="3941640" cy="407880"/>
            <a:chOff x="4984920" y="3319560"/>
            <a:chExt cx="3941640" cy="407880"/>
          </a:xfrm>
        </p:grpSpPr>
        <p:grpSp>
          <p:nvGrpSpPr>
            <p:cNvPr id="230" name=""/>
            <p:cNvGrpSpPr/>
            <p:nvPr/>
          </p:nvGrpSpPr>
          <p:grpSpPr>
            <a:xfrm>
              <a:off x="4984920" y="3319560"/>
              <a:ext cx="3941640" cy="407880"/>
              <a:chOff x="4984920" y="3319560"/>
              <a:chExt cx="3941640" cy="407880"/>
            </a:xfrm>
          </p:grpSpPr>
          <p:sp>
            <p:nvSpPr>
              <p:cNvPr id="231" name=""/>
              <p:cNvSpPr/>
              <p:nvPr/>
            </p:nvSpPr>
            <p:spPr>
              <a:xfrm>
                <a:off x="4984920" y="3581280"/>
                <a:ext cx="2711160" cy="146160"/>
              </a:xfrm>
              <a:custGeom>
                <a:avLst/>
                <a:gdLst/>
                <a:ahLst/>
                <a:rect l="l" t="t" r="r" b="b"/>
                <a:pathLst>
                  <a:path w="1708" h="92">
                    <a:moveTo>
                      <a:pt x="0" y="92"/>
                    </a:moveTo>
                    <a:lnTo>
                      <a:pt x="83" y="17"/>
                    </a:lnTo>
                    <a:lnTo>
                      <a:pt x="88" y="12"/>
                    </a:lnTo>
                    <a:lnTo>
                      <a:pt x="92" y="12"/>
                    </a:lnTo>
                    <a:lnTo>
                      <a:pt x="97" y="12"/>
                    </a:lnTo>
                    <a:lnTo>
                      <a:pt x="104" y="11"/>
                    </a:lnTo>
                    <a:lnTo>
                      <a:pt x="115" y="11"/>
                    </a:lnTo>
                    <a:lnTo>
                      <a:pt x="1708" y="0"/>
                    </a:lnTo>
                  </a:path>
                </a:pathLst>
              </a:custGeom>
              <a:noFill/>
              <a:ln cap="rnd" w="381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696800" y="3319560"/>
                <a:ext cx="12297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ccff"/>
                    </a:solidFill>
                    <a:latin typeface="Arial"/>
                  </a:rPr>
                  <a:t>V</a:t>
                </a:r>
                <a:r>
                  <a:rPr b="1" lang="es-ES_tradnl" sz="1800" spc="-1" strike="noStrike" baseline="-25000">
                    <a:solidFill>
                      <a:srgbClr val="ccccff"/>
                    </a:solidFill>
                    <a:latin typeface="Arial"/>
                  </a:rPr>
                  <a:t>GS </a:t>
                </a:r>
                <a:r>
                  <a:rPr b="1" lang="es-ES_tradnl" sz="1800" spc="-1" strike="noStrike">
                    <a:solidFill>
                      <a:srgbClr val="ccccff"/>
                    </a:solidFill>
                    <a:latin typeface="Arial"/>
                  </a:rPr>
                  <a:t>= 2,5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7073640" y="3527280"/>
              <a:ext cx="12348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981680" y="2951280"/>
            <a:ext cx="3659760" cy="757080"/>
            <a:chOff x="4981680" y="2951280"/>
            <a:chExt cx="3659760" cy="757080"/>
          </a:xfrm>
        </p:grpSpPr>
        <p:grpSp>
          <p:nvGrpSpPr>
            <p:cNvPr id="235" name=""/>
            <p:cNvGrpSpPr/>
            <p:nvPr/>
          </p:nvGrpSpPr>
          <p:grpSpPr>
            <a:xfrm>
              <a:off x="4981680" y="2951280"/>
              <a:ext cx="3659760" cy="757080"/>
              <a:chOff x="4981680" y="2951280"/>
              <a:chExt cx="3659760" cy="757080"/>
            </a:xfrm>
          </p:grpSpPr>
          <p:sp>
            <p:nvSpPr>
              <p:cNvPr id="236" name=""/>
              <p:cNvSpPr/>
              <p:nvPr/>
            </p:nvSpPr>
            <p:spPr>
              <a:xfrm>
                <a:off x="4981680" y="3332160"/>
                <a:ext cx="2676600" cy="376200"/>
              </a:xfrm>
              <a:custGeom>
                <a:avLst/>
                <a:gdLst/>
                <a:ahLst/>
                <a:rect l="l" t="t" r="r" b="b"/>
                <a:pathLst>
                  <a:path w="1686" h="237">
                    <a:moveTo>
                      <a:pt x="0" y="237"/>
                    </a:moveTo>
                    <a:lnTo>
                      <a:pt x="127" y="18"/>
                    </a:lnTo>
                    <a:lnTo>
                      <a:pt x="134" y="8"/>
                    </a:lnTo>
                    <a:lnTo>
                      <a:pt x="140" y="7"/>
                    </a:lnTo>
                    <a:lnTo>
                      <a:pt x="148" y="2"/>
                    </a:lnTo>
                    <a:lnTo>
                      <a:pt x="160" y="0"/>
                    </a:lnTo>
                    <a:lnTo>
                      <a:pt x="176" y="0"/>
                    </a:lnTo>
                    <a:lnTo>
                      <a:pt x="1686" y="1"/>
                    </a:lnTo>
                  </a:path>
                </a:pathLst>
              </a:custGeom>
              <a:noFill/>
              <a:ln cap="rnd" w="381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02120" y="2951280"/>
                <a:ext cx="10393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9900"/>
                    </a:solidFill>
                    <a:latin typeface="Arial"/>
                  </a:rPr>
                  <a:t>V</a:t>
                </a:r>
                <a:r>
                  <a:rPr b="1" lang="es-ES_tradnl" sz="1800" spc="-1" strike="noStrike" baseline="-25000">
                    <a:solidFill>
                      <a:srgbClr val="ff9900"/>
                    </a:solidFill>
                    <a:latin typeface="Arial"/>
                  </a:rPr>
                  <a:t>GS </a:t>
                </a:r>
                <a:r>
                  <a:rPr b="1" lang="es-ES_tradnl" sz="1800" spc="-1" strike="noStrike">
                    <a:solidFill>
                      <a:srgbClr val="ff9900"/>
                    </a:solidFill>
                    <a:latin typeface="Arial"/>
                  </a:rPr>
                  <a:t>= 3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6769080" y="32670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981680" y="2532240"/>
            <a:ext cx="4010040" cy="1176120"/>
            <a:chOff x="4981680" y="2532240"/>
            <a:chExt cx="4010040" cy="1176120"/>
          </a:xfrm>
        </p:grpSpPr>
        <p:grpSp>
          <p:nvGrpSpPr>
            <p:cNvPr id="240" name=""/>
            <p:cNvGrpSpPr/>
            <p:nvPr/>
          </p:nvGrpSpPr>
          <p:grpSpPr>
            <a:xfrm>
              <a:off x="4981680" y="2532240"/>
              <a:ext cx="4010040" cy="1176120"/>
              <a:chOff x="4981680" y="2532240"/>
              <a:chExt cx="4010040" cy="1176120"/>
            </a:xfrm>
          </p:grpSpPr>
          <p:sp>
            <p:nvSpPr>
              <p:cNvPr id="241" name=""/>
              <p:cNvSpPr/>
              <p:nvPr/>
            </p:nvSpPr>
            <p:spPr>
              <a:xfrm>
                <a:off x="7644240" y="2532240"/>
                <a:ext cx="13474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GS </a:t>
                </a: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= 3,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81680" y="2952720"/>
                <a:ext cx="2695320" cy="755640"/>
              </a:xfrm>
              <a:custGeom>
                <a:avLst/>
                <a:gdLst/>
                <a:ahLst/>
                <a:rect l="l" t="t" r="r" b="b"/>
                <a:pathLst>
                  <a:path w="1698" h="476">
                    <a:moveTo>
                      <a:pt x="0" y="476"/>
                    </a:moveTo>
                    <a:lnTo>
                      <a:pt x="197" y="76"/>
                    </a:lnTo>
                    <a:lnTo>
                      <a:pt x="207" y="59"/>
                    </a:lnTo>
                    <a:lnTo>
                      <a:pt x="217" y="56"/>
                    </a:lnTo>
                    <a:lnTo>
                      <a:pt x="228" y="48"/>
                    </a:lnTo>
                    <a:lnTo>
                      <a:pt x="247" y="43"/>
                    </a:lnTo>
                    <a:lnTo>
                      <a:pt x="272" y="43"/>
                    </a:lnTo>
                    <a:lnTo>
                      <a:pt x="1698" y="0"/>
                    </a:lnTo>
                  </a:path>
                </a:pathLst>
              </a:custGeom>
              <a:noFill/>
              <a:ln cap="rnd"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6378480" y="2924280"/>
              <a:ext cx="12348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971960" y="1998720"/>
            <a:ext cx="3703680" cy="1747800"/>
            <a:chOff x="4971960" y="1998720"/>
            <a:chExt cx="3703680" cy="1747800"/>
          </a:xfrm>
        </p:grpSpPr>
        <p:grpSp>
          <p:nvGrpSpPr>
            <p:cNvPr id="245" name=""/>
            <p:cNvGrpSpPr/>
            <p:nvPr/>
          </p:nvGrpSpPr>
          <p:grpSpPr>
            <a:xfrm>
              <a:off x="4971960" y="1998720"/>
              <a:ext cx="3703680" cy="1747800"/>
              <a:chOff x="4971960" y="1998720"/>
              <a:chExt cx="3703680" cy="1747800"/>
            </a:xfrm>
          </p:grpSpPr>
          <p:sp>
            <p:nvSpPr>
              <p:cNvPr id="246" name=""/>
              <p:cNvSpPr/>
              <p:nvPr/>
            </p:nvSpPr>
            <p:spPr>
              <a:xfrm>
                <a:off x="7540200" y="1998720"/>
                <a:ext cx="11354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3399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03399"/>
                    </a:solidFill>
                    <a:latin typeface="Arial"/>
                  </a:rPr>
                  <a:t>GS </a:t>
                </a:r>
                <a:r>
                  <a:rPr b="1" lang="es-ES_tradnl" sz="2000" spc="-1" strike="noStrike">
                    <a:solidFill>
                      <a:srgbClr val="003399"/>
                    </a:solidFill>
                    <a:latin typeface="Arial"/>
                  </a:rPr>
                  <a:t>= 4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71960" y="2400480"/>
                <a:ext cx="2743200" cy="1346040"/>
              </a:xfrm>
              <a:custGeom>
                <a:avLst/>
                <a:gdLst/>
                <a:ahLst/>
                <a:rect l="l" t="t" r="r" b="b"/>
                <a:pathLst>
                  <a:path w="1728" h="848">
                    <a:moveTo>
                      <a:pt x="0" y="848"/>
                    </a:moveTo>
                    <a:lnTo>
                      <a:pt x="257" y="108"/>
                    </a:lnTo>
                    <a:lnTo>
                      <a:pt x="269" y="78"/>
                    </a:lnTo>
                    <a:lnTo>
                      <a:pt x="282" y="71"/>
                    </a:lnTo>
                    <a:lnTo>
                      <a:pt x="296" y="56"/>
                    </a:lnTo>
                    <a:lnTo>
                      <a:pt x="321" y="48"/>
                    </a:lnTo>
                    <a:lnTo>
                      <a:pt x="354" y="48"/>
                    </a:lnTo>
                    <a:lnTo>
                      <a:pt x="1728" y="0"/>
                    </a:lnTo>
                  </a:path>
                </a:pathLst>
              </a:custGeom>
              <a:noFill/>
              <a:ln cap="rnd" w="381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5778360" y="24004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971960" y="1344600"/>
            <a:ext cx="4061160" cy="2382840"/>
            <a:chOff x="4971960" y="1344600"/>
            <a:chExt cx="4061160" cy="2382840"/>
          </a:xfrm>
        </p:grpSpPr>
        <p:grpSp>
          <p:nvGrpSpPr>
            <p:cNvPr id="250" name=""/>
            <p:cNvGrpSpPr/>
            <p:nvPr/>
          </p:nvGrpSpPr>
          <p:grpSpPr>
            <a:xfrm>
              <a:off x="4971960" y="1344600"/>
              <a:ext cx="4061160" cy="2382840"/>
              <a:chOff x="4971960" y="1344600"/>
              <a:chExt cx="4061160" cy="2382840"/>
            </a:xfrm>
          </p:grpSpPr>
          <p:sp>
            <p:nvSpPr>
              <p:cNvPr id="251" name=""/>
              <p:cNvSpPr/>
              <p:nvPr/>
            </p:nvSpPr>
            <p:spPr>
              <a:xfrm>
                <a:off x="7685640" y="1344600"/>
                <a:ext cx="13474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9933ff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9933ff"/>
                    </a:solidFill>
                    <a:latin typeface="Arial"/>
                  </a:rPr>
                  <a:t>GS </a:t>
                </a:r>
                <a:r>
                  <a:rPr b="1" lang="es-ES_tradnl" sz="2000" spc="-1" strike="noStrike">
                    <a:solidFill>
                      <a:srgbClr val="9933ff"/>
                    </a:solidFill>
                    <a:latin typeface="Arial"/>
                  </a:rPr>
                  <a:t>= 4,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71960" y="1695600"/>
                <a:ext cx="2743200" cy="2031840"/>
              </a:xfrm>
              <a:custGeom>
                <a:avLst/>
                <a:gdLst/>
                <a:ahLst/>
                <a:rect l="l" t="t" r="r" b="b"/>
                <a:pathLst>
                  <a:path w="1728" h="1280">
                    <a:moveTo>
                      <a:pt x="0" y="1280"/>
                    </a:moveTo>
                    <a:lnTo>
                      <a:pt x="289" y="201"/>
                    </a:lnTo>
                    <a:lnTo>
                      <a:pt x="314" y="123"/>
                    </a:lnTo>
                    <a:lnTo>
                      <a:pt x="337" y="79"/>
                    </a:lnTo>
                    <a:lnTo>
                      <a:pt x="353" y="56"/>
                    </a:lnTo>
                    <a:lnTo>
                      <a:pt x="383" y="44"/>
                    </a:lnTo>
                    <a:lnTo>
                      <a:pt x="435" y="39"/>
                    </a:lnTo>
                    <a:lnTo>
                      <a:pt x="1728" y="0"/>
                    </a:lnTo>
                  </a:path>
                </a:pathLst>
              </a:custGeom>
              <a:noFill/>
              <a:ln cap="rnd" w="38160">
                <a:solidFill>
                  <a:srgbClr val="99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5343120" y="20480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85720" y="4421160"/>
            <a:ext cx="113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Arial"/>
              </a:rPr>
              <a:t>GS 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= 0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56000" y="442116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2,5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4520" y="44211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3V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37120" y="442116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3,5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37920" y="442116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4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74880" y="2190600"/>
            <a:ext cx="5692680" cy="3219840"/>
            <a:chOff x="974880" y="2190600"/>
            <a:chExt cx="5692680" cy="3219840"/>
          </a:xfrm>
        </p:grpSpPr>
        <p:sp>
          <p:nvSpPr>
            <p:cNvPr id="260" name=""/>
            <p:cNvSpPr/>
            <p:nvPr/>
          </p:nvSpPr>
          <p:spPr>
            <a:xfrm>
              <a:off x="5391000" y="2190600"/>
              <a:ext cx="1276560" cy="3203640"/>
            </a:xfrm>
            <a:custGeom>
              <a:avLst/>
              <a:gdLst/>
              <a:ahLst/>
              <a:rect l="l" t="t" r="r" b="b"/>
              <a:pathLst>
                <a:path w="768" h="2018">
                  <a:moveTo>
                    <a:pt x="288" y="1812"/>
                  </a:moveTo>
                  <a:cubicBezTo>
                    <a:pt x="528" y="1915"/>
                    <a:pt x="768" y="2018"/>
                    <a:pt x="720" y="1716"/>
                  </a:cubicBezTo>
                  <a:cubicBezTo>
                    <a:pt x="672" y="1414"/>
                    <a:pt x="120" y="288"/>
                    <a:pt x="0" y="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74880" y="5011560"/>
              <a:ext cx="491328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mportamiento resis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55800" y="2533680"/>
            <a:ext cx="7242120" cy="3524400"/>
            <a:chOff x="955800" y="2533680"/>
            <a:chExt cx="7242120" cy="3524400"/>
          </a:xfrm>
        </p:grpSpPr>
        <p:sp>
          <p:nvSpPr>
            <p:cNvPr id="263" name=""/>
            <p:cNvSpPr/>
            <p:nvPr/>
          </p:nvSpPr>
          <p:spPr>
            <a:xfrm>
              <a:off x="955800" y="5659200"/>
              <a:ext cx="724212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mportamiento como fuente de corr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29480" y="2533680"/>
              <a:ext cx="1320480" cy="3105000"/>
            </a:xfrm>
            <a:custGeom>
              <a:avLst/>
              <a:gdLst/>
              <a:ahLst/>
              <a:rect l="l" t="t" r="r" b="b"/>
              <a:pathLst>
                <a:path w="832" h="1956">
                  <a:moveTo>
                    <a:pt x="0" y="0"/>
                  </a:moveTo>
                  <a:cubicBezTo>
                    <a:pt x="185" y="428"/>
                    <a:pt x="370" y="856"/>
                    <a:pt x="504" y="1128"/>
                  </a:cubicBezTo>
                  <a:cubicBezTo>
                    <a:pt x="638" y="1400"/>
                    <a:pt x="776" y="1516"/>
                    <a:pt x="804" y="1632"/>
                  </a:cubicBezTo>
                  <a:cubicBezTo>
                    <a:pt x="832" y="1748"/>
                    <a:pt x="794" y="1770"/>
                    <a:pt x="672" y="1824"/>
                  </a:cubicBezTo>
                  <a:cubicBezTo>
                    <a:pt x="550" y="1878"/>
                    <a:pt x="311" y="1917"/>
                    <a:pt x="72" y="1956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91280" y="2990880"/>
              <a:ext cx="209520" cy="399960"/>
            </a:xfrm>
            <a:custGeom>
              <a:avLst/>
              <a:gdLst/>
              <a:ahLst/>
              <a:rect l="l" t="t" r="r" b="b"/>
              <a:pathLst>
                <a:path w="132" h="252">
                  <a:moveTo>
                    <a:pt x="0" y="252"/>
                  </a:moveTo>
                  <a:cubicBezTo>
                    <a:pt x="1" y="189"/>
                    <a:pt x="2" y="126"/>
                    <a:pt x="24" y="84"/>
                  </a:cubicBezTo>
                  <a:cubicBezTo>
                    <a:pt x="46" y="42"/>
                    <a:pt x="114" y="12"/>
                    <a:pt x="132" y="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05400" y="3333600"/>
              <a:ext cx="495360" cy="324000"/>
            </a:xfrm>
            <a:custGeom>
              <a:avLst/>
              <a:gdLst/>
              <a:ahLst/>
              <a:rect l="l" t="t" r="r" b="b"/>
              <a:pathLst>
                <a:path w="312" h="204">
                  <a:moveTo>
                    <a:pt x="0" y="204"/>
                  </a:moveTo>
                  <a:cubicBezTo>
                    <a:pt x="28" y="149"/>
                    <a:pt x="56" y="94"/>
                    <a:pt x="108" y="60"/>
                  </a:cubicBezTo>
                  <a:cubicBezTo>
                    <a:pt x="160" y="26"/>
                    <a:pt x="252" y="40"/>
                    <a:pt x="312" y="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38960" y="3483000"/>
              <a:ext cx="647640" cy="460080"/>
            </a:xfrm>
            <a:custGeom>
              <a:avLst/>
              <a:gdLst/>
              <a:ahLst/>
              <a:rect l="l" t="t" r="r" b="b"/>
              <a:pathLst>
                <a:path w="408" h="290">
                  <a:moveTo>
                    <a:pt x="0" y="290"/>
                  </a:moveTo>
                  <a:cubicBezTo>
                    <a:pt x="44" y="183"/>
                    <a:pt x="88" y="76"/>
                    <a:pt x="156" y="38"/>
                  </a:cubicBezTo>
                  <a:cubicBezTo>
                    <a:pt x="224" y="0"/>
                    <a:pt x="316" y="31"/>
                    <a:pt x="408" y="62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965840" y="3652920"/>
            <a:ext cx="4215600" cy="941760"/>
            <a:chOff x="4965840" y="3652920"/>
            <a:chExt cx="4215600" cy="941760"/>
          </a:xfrm>
        </p:grpSpPr>
        <p:sp>
          <p:nvSpPr>
            <p:cNvPr id="269" name=""/>
            <p:cNvSpPr/>
            <p:nvPr/>
          </p:nvSpPr>
          <p:spPr>
            <a:xfrm>
              <a:off x="7550640" y="4194000"/>
              <a:ext cx="1630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a50021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&lt; V</a:t>
              </a:r>
              <a:r>
                <a:rPr b="1" lang="es-ES_tradnl" sz="1800" spc="-1" strike="noStrike" baseline="-25000">
                  <a:solidFill>
                    <a:srgbClr val="a50021"/>
                  </a:solidFill>
                  <a:latin typeface="Arial"/>
                </a:rPr>
                <a:t>TH</a:t>
              </a: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 = 2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4965840" y="3652920"/>
              <a:ext cx="2762280" cy="123480"/>
              <a:chOff x="4965840" y="3652920"/>
              <a:chExt cx="2762280" cy="123480"/>
            </a:xfrm>
          </p:grpSpPr>
          <p:sp>
            <p:nvSpPr>
              <p:cNvPr id="271" name=""/>
              <p:cNvSpPr/>
              <p:nvPr/>
            </p:nvSpPr>
            <p:spPr>
              <a:xfrm>
                <a:off x="4965840" y="3725640"/>
                <a:ext cx="2762280" cy="0"/>
              </a:xfrm>
              <a:prstGeom prst="line">
                <a:avLst/>
              </a:prstGeom>
              <a:ln w="381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51840" y="3652920"/>
                <a:ext cx="123840" cy="1234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323120" y="3719520"/>
              <a:ext cx="363600" cy="621720"/>
            </a:xfrm>
            <a:custGeom>
              <a:avLst/>
              <a:gdLst/>
              <a:ahLst/>
              <a:rect l="l" t="t" r="r" b="b"/>
              <a:pathLst>
                <a:path w="229" h="392">
                  <a:moveTo>
                    <a:pt x="139" y="392"/>
                  </a:moveTo>
                  <a:cubicBezTo>
                    <a:pt x="116" y="383"/>
                    <a:pt x="94" y="375"/>
                    <a:pt x="75" y="356"/>
                  </a:cubicBezTo>
                  <a:cubicBezTo>
                    <a:pt x="56" y="337"/>
                    <a:pt x="0" y="312"/>
                    <a:pt x="23" y="280"/>
                  </a:cubicBezTo>
                  <a:cubicBezTo>
                    <a:pt x="46" y="248"/>
                    <a:pt x="193" y="211"/>
                    <a:pt x="211" y="164"/>
                  </a:cubicBezTo>
                  <a:cubicBezTo>
                    <a:pt x="229" y="117"/>
                    <a:pt x="145" y="27"/>
                    <a:pt x="131" y="0"/>
                  </a:cubicBezTo>
                </a:path>
              </a:pathLst>
            </a:custGeom>
            <a:noFill/>
            <a:ln w="28440">
              <a:solidFill>
                <a:srgbClr val="cc0066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947120" y="441468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4,5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93600" y="3790800"/>
            <a:ext cx="7645680" cy="2914920"/>
            <a:chOff x="993600" y="3790800"/>
            <a:chExt cx="7645680" cy="2914920"/>
          </a:xfrm>
        </p:grpSpPr>
        <p:sp>
          <p:nvSpPr>
            <p:cNvPr id="276" name=""/>
            <p:cNvSpPr/>
            <p:nvPr/>
          </p:nvSpPr>
          <p:spPr>
            <a:xfrm>
              <a:off x="7042320" y="3790800"/>
              <a:ext cx="1596960" cy="2666880"/>
            </a:xfrm>
            <a:custGeom>
              <a:avLst/>
              <a:gdLst/>
              <a:ahLst/>
              <a:rect l="l" t="t" r="r" b="b"/>
              <a:pathLst>
                <a:path w="1006" h="1680">
                  <a:moveTo>
                    <a:pt x="148" y="0"/>
                  </a:moveTo>
                  <a:cubicBezTo>
                    <a:pt x="78" y="83"/>
                    <a:pt x="8" y="166"/>
                    <a:pt x="4" y="264"/>
                  </a:cubicBezTo>
                  <a:cubicBezTo>
                    <a:pt x="0" y="362"/>
                    <a:pt x="70" y="468"/>
                    <a:pt x="124" y="588"/>
                  </a:cubicBezTo>
                  <a:cubicBezTo>
                    <a:pt x="178" y="708"/>
                    <a:pt x="210" y="896"/>
                    <a:pt x="328" y="984"/>
                  </a:cubicBezTo>
                  <a:cubicBezTo>
                    <a:pt x="446" y="1072"/>
                    <a:pt x="736" y="1032"/>
                    <a:pt x="832" y="1116"/>
                  </a:cubicBezTo>
                  <a:cubicBezTo>
                    <a:pt x="928" y="1200"/>
                    <a:pt x="1006" y="1394"/>
                    <a:pt x="904" y="1488"/>
                  </a:cubicBezTo>
                  <a:cubicBezTo>
                    <a:pt x="802" y="1582"/>
                    <a:pt x="334" y="1644"/>
                    <a:pt x="220" y="168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93600" y="6306840"/>
              <a:ext cx="640404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mportamiento como circuito abier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49080" y="1138320"/>
            <a:ext cx="3819600" cy="2907720"/>
            <a:chOff x="649080" y="1138320"/>
            <a:chExt cx="3819600" cy="2907720"/>
          </a:xfrm>
        </p:grpSpPr>
        <p:grpSp>
          <p:nvGrpSpPr>
            <p:cNvPr id="279" name=""/>
            <p:cNvGrpSpPr/>
            <p:nvPr/>
          </p:nvGrpSpPr>
          <p:grpSpPr>
            <a:xfrm>
              <a:off x="3579480" y="2648160"/>
              <a:ext cx="536400" cy="228240"/>
              <a:chOff x="3579480" y="2648160"/>
              <a:chExt cx="536400" cy="228240"/>
            </a:xfrm>
          </p:grpSpPr>
          <p:sp>
            <p:nvSpPr>
              <p:cNvPr id="280" name=""/>
              <p:cNvSpPr/>
              <p:nvPr/>
            </p:nvSpPr>
            <p:spPr>
              <a:xfrm flipH="1" flipV="1" rot="16200000">
                <a:off x="3822120" y="2405520"/>
                <a:ext cx="51120" cy="536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 rot="16200000">
                <a:off x="3805200" y="2702520"/>
                <a:ext cx="83880" cy="262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3840120" y="281628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27000" y="3068640"/>
              <a:ext cx="1275840" cy="42732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522" y="0"/>
                  </a:moveTo>
                  <a:lnTo>
                    <a:pt x="0" y="0"/>
                  </a:lnTo>
                  <a:lnTo>
                    <a:pt x="0" y="3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9080" y="3649680"/>
              <a:ext cx="2942640" cy="304920"/>
            </a:xfrm>
            <a:custGeom>
              <a:avLst/>
              <a:gdLst/>
              <a:ahLst/>
              <a:rect l="l" t="t" r="r" b="b"/>
              <a:pathLst>
                <a:path w="1500" h="646">
                  <a:moveTo>
                    <a:pt x="0" y="0"/>
                  </a:moveTo>
                  <a:lnTo>
                    <a:pt x="0" y="646"/>
                  </a:lnTo>
                  <a:lnTo>
                    <a:pt x="1500" y="6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55520" y="1443240"/>
              <a:ext cx="990360" cy="1257120"/>
            </a:xfrm>
            <a:custGeom>
              <a:avLst/>
              <a:gdLst/>
              <a:ahLst/>
              <a:rect l="l" t="t" r="r" b="b"/>
              <a:pathLst>
                <a:path w="624" h="792">
                  <a:moveTo>
                    <a:pt x="0" y="92"/>
                  </a:moveTo>
                  <a:lnTo>
                    <a:pt x="0" y="1"/>
                  </a:lnTo>
                  <a:lnTo>
                    <a:pt x="624" y="0"/>
                  </a:lnTo>
                  <a:lnTo>
                    <a:pt x="624" y="7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2978640" y="2224440"/>
              <a:ext cx="695520" cy="1135800"/>
              <a:chOff x="2978640" y="2224440"/>
              <a:chExt cx="695520" cy="1135800"/>
            </a:xfrm>
          </p:grpSpPr>
          <p:sp>
            <p:nvSpPr>
              <p:cNvPr id="287" name=""/>
              <p:cNvSpPr/>
              <p:nvPr/>
            </p:nvSpPr>
            <p:spPr>
              <a:xfrm>
                <a:off x="3031560" y="2432160"/>
                <a:ext cx="0" cy="77112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26520" y="222444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978640" y="290052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006000" y="2586240"/>
                <a:ext cx="668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8080"/>
                    </a:solidFill>
                    <a:latin typeface="Arial"/>
                  </a:rPr>
                  <a:t>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744640" y="1281240"/>
              <a:ext cx="1190160" cy="279360"/>
            </a:xfrm>
            <a:custGeom>
              <a:avLst/>
              <a:gdLst/>
              <a:ahLst/>
              <a:rect l="l" t="t" r="r" b="b"/>
              <a:pathLst>
                <a:path w="750" h="408">
                  <a:moveTo>
                    <a:pt x="750" y="324"/>
                  </a:moveTo>
                  <a:lnTo>
                    <a:pt x="750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cc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29040" y="113832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0066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cc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649080" y="3473640"/>
              <a:ext cx="550440" cy="228240"/>
              <a:chOff x="649080" y="3473640"/>
              <a:chExt cx="550440" cy="228240"/>
            </a:xfrm>
          </p:grpSpPr>
          <p:sp>
            <p:nvSpPr>
              <p:cNvPr id="294" name=""/>
              <p:cNvSpPr/>
              <p:nvPr/>
            </p:nvSpPr>
            <p:spPr>
              <a:xfrm flipH="1" flipV="1" rot="16200000">
                <a:off x="898200" y="3223800"/>
                <a:ext cx="51120" cy="550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 rot="16200000">
                <a:off x="881640" y="3524400"/>
                <a:ext cx="83880" cy="270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464120" y="2973600"/>
              <a:ext cx="1095480" cy="1072440"/>
              <a:chOff x="1464120" y="2973600"/>
              <a:chExt cx="1095480" cy="1072440"/>
            </a:xfrm>
          </p:grpSpPr>
          <p:sp>
            <p:nvSpPr>
              <p:cNvPr id="297" name=""/>
              <p:cNvSpPr/>
              <p:nvPr/>
            </p:nvSpPr>
            <p:spPr>
              <a:xfrm>
                <a:off x="1783800" y="3238560"/>
                <a:ext cx="0" cy="58104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69160" y="29736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64120" y="358632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cc0066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90280" y="3341880"/>
                <a:ext cx="769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808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717640" y="1582560"/>
              <a:ext cx="259560" cy="446040"/>
              <a:chOff x="2717640" y="1582560"/>
              <a:chExt cx="259560" cy="446040"/>
            </a:xfrm>
          </p:grpSpPr>
          <p:sp>
            <p:nvSpPr>
              <p:cNvPr id="302" name=""/>
              <p:cNvSpPr/>
              <p:nvPr/>
            </p:nvSpPr>
            <p:spPr>
              <a:xfrm flipH="1" flipV="1">
                <a:off x="2717640" y="1963080"/>
                <a:ext cx="128880" cy="6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721600" y="1920960"/>
                <a:ext cx="248400" cy="4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2730240" y="1826640"/>
                <a:ext cx="246960" cy="9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2719080" y="1650240"/>
                <a:ext cx="252360" cy="135720"/>
                <a:chOff x="2719080" y="1650240"/>
                <a:chExt cx="252360" cy="135720"/>
              </a:xfrm>
            </p:grpSpPr>
            <p:sp>
              <p:nvSpPr>
                <p:cNvPr id="306" name=""/>
                <p:cNvSpPr/>
                <p:nvPr/>
              </p:nvSpPr>
              <p:spPr>
                <a:xfrm flipH="1">
                  <a:off x="2719080" y="1650240"/>
                  <a:ext cx="246960" cy="4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flipV="1">
                  <a:off x="2723400" y="1690920"/>
                  <a:ext cx="248040" cy="95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 flipH="1">
                <a:off x="2730240" y="1784520"/>
                <a:ext cx="246960" cy="4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flipV="1">
                <a:off x="2842200" y="1582560"/>
                <a:ext cx="127800" cy="6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626120" y="1500480"/>
              <a:ext cx="914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2,5K</a:t>
              </a:r>
              <a:r>
                <a:rPr b="1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34720" y="2838600"/>
              <a:ext cx="633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10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2800" y="2732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54200" y="2170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2800" y="2957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65280" y="2697480"/>
              <a:ext cx="38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466720" y="2945880"/>
              <a:ext cx="387000" cy="100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47640" y="2841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2447640" y="2022120"/>
              <a:ext cx="405720" cy="574920"/>
              <a:chOff x="2447640" y="2022120"/>
              <a:chExt cx="405720" cy="574920"/>
            </a:xfrm>
          </p:grpSpPr>
          <p:sp>
            <p:nvSpPr>
              <p:cNvPr id="319" name=""/>
              <p:cNvSpPr/>
              <p:nvPr/>
            </p:nvSpPr>
            <p:spPr>
              <a:xfrm>
                <a:off x="2466360" y="2022120"/>
                <a:ext cx="38700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2447640" y="23493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442960" y="2632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28720" y="2346480"/>
              <a:ext cx="59004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854080" y="267948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587520" y="44280"/>
            <a:ext cx="499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urva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característica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del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36400" y="0"/>
            <a:ext cx="62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8080"/>
                </a:solidFill>
                <a:latin typeface="Arial"/>
              </a:rPr>
              <a:t>Precauciones en el uso de transistores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522480" y="1754280"/>
            <a:ext cx="1635120" cy="1678680"/>
            <a:chOff x="6522480" y="1754280"/>
            <a:chExt cx="1635120" cy="1678680"/>
          </a:xfrm>
        </p:grpSpPr>
        <p:grpSp>
          <p:nvGrpSpPr>
            <p:cNvPr id="327" name=""/>
            <p:cNvGrpSpPr/>
            <p:nvPr/>
          </p:nvGrpSpPr>
          <p:grpSpPr>
            <a:xfrm>
              <a:off x="6522480" y="1754280"/>
              <a:ext cx="1635120" cy="1678680"/>
              <a:chOff x="6522480" y="1754280"/>
              <a:chExt cx="1635120" cy="1678680"/>
            </a:xfrm>
          </p:grpSpPr>
          <p:sp>
            <p:nvSpPr>
              <p:cNvPr id="328" name=""/>
              <p:cNvSpPr/>
              <p:nvPr/>
            </p:nvSpPr>
            <p:spPr>
              <a:xfrm>
                <a:off x="7364520" y="2646360"/>
                <a:ext cx="390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22480" y="26020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50021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733520" y="1754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50021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74200" y="29732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50021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7347240" y="2790720"/>
                <a:ext cx="405720" cy="574920"/>
                <a:chOff x="7347240" y="2790720"/>
                <a:chExt cx="405720" cy="574920"/>
              </a:xfrm>
            </p:grpSpPr>
            <p:sp>
              <p:nvSpPr>
                <p:cNvPr id="333" name=""/>
                <p:cNvSpPr/>
                <p:nvPr/>
              </p:nvSpPr>
              <p:spPr>
                <a:xfrm flipV="1">
                  <a:off x="7365960" y="2895480"/>
                  <a:ext cx="387000" cy="470160"/>
                </a:xfrm>
                <a:custGeom>
                  <a:avLst/>
                  <a:gdLst/>
                  <a:ahLst/>
                  <a:rect l="l" t="t" r="r" b="b"/>
                  <a:pathLst>
                    <a:path w="244" h="296">
                      <a:moveTo>
                        <a:pt x="0" y="296"/>
                      </a:moveTo>
                      <a:lnTo>
                        <a:pt x="244" y="296"/>
                      </a:lnTo>
                      <a:lnTo>
                        <a:pt x="244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347240" y="2790720"/>
                  <a:ext cx="0" cy="247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7347240" y="1972440"/>
                <a:ext cx="405720" cy="573840"/>
                <a:chOff x="7347240" y="1972440"/>
                <a:chExt cx="405720" cy="5738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7365960" y="1972440"/>
                  <a:ext cx="387000" cy="469800"/>
                </a:xfrm>
                <a:custGeom>
                  <a:avLst/>
                  <a:gdLst/>
                  <a:ahLst/>
                  <a:rect l="l" t="t" r="r" b="b"/>
                  <a:pathLst>
                    <a:path w="244" h="296">
                      <a:moveTo>
                        <a:pt x="0" y="296"/>
                      </a:moveTo>
                      <a:lnTo>
                        <a:pt x="244" y="296"/>
                      </a:lnTo>
                      <a:lnTo>
                        <a:pt x="244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7347240" y="2298960"/>
                  <a:ext cx="0" cy="24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7342200" y="258120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627960" y="2295720"/>
                <a:ext cx="590400" cy="723600"/>
              </a:xfrm>
              <a:custGeom>
                <a:avLst/>
                <a:gdLst/>
                <a:ahLst/>
                <a:rect l="l" t="t" r="r" b="b"/>
                <a:pathLst>
                  <a:path w="372" h="456">
                    <a:moveTo>
                      <a:pt x="372" y="0"/>
                    </a:moveTo>
                    <a:lnTo>
                      <a:pt x="372" y="456"/>
                    </a:lnTo>
                    <a:lnTo>
                      <a:pt x="0" y="45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 flipV="1">
              <a:off x="7751520" y="26348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400040" y="1144080"/>
            <a:ext cx="3795840" cy="2932920"/>
            <a:chOff x="1400040" y="1144080"/>
            <a:chExt cx="3795840" cy="2932920"/>
          </a:xfrm>
        </p:grpSpPr>
        <p:sp>
          <p:nvSpPr>
            <p:cNvPr id="342" name=""/>
            <p:cNvSpPr/>
            <p:nvPr/>
          </p:nvSpPr>
          <p:spPr>
            <a:xfrm>
              <a:off x="4723200" y="1533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97360" y="1533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33840" y="15332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95400" y="2468160"/>
              <a:ext cx="3257640" cy="851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22680" y="3344760"/>
              <a:ext cx="28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00240" y="2788920"/>
              <a:ext cx="44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24000" y="2070000"/>
              <a:ext cx="73656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76320" y="3341520"/>
              <a:ext cx="3294000" cy="220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502000" y="1625400"/>
              <a:ext cx="0" cy="48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4722840" y="1620720"/>
              <a:ext cx="0" cy="48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86400" y="3678120"/>
              <a:ext cx="13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ubstr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21160" y="2469960"/>
              <a:ext cx="633240" cy="347760"/>
            </a:xfrm>
            <a:custGeom>
              <a:avLst/>
              <a:gdLst/>
              <a:ahLst/>
              <a:rect l="l" t="t" r="r" b="b"/>
              <a:pathLst>
                <a:path w="1671" h="543">
                  <a:moveTo>
                    <a:pt x="0" y="3"/>
                  </a:moveTo>
                  <a:lnTo>
                    <a:pt x="0" y="273"/>
                  </a:lnTo>
                  <a:lnTo>
                    <a:pt x="9" y="342"/>
                  </a:lnTo>
                  <a:lnTo>
                    <a:pt x="30" y="384"/>
                  </a:lnTo>
                  <a:lnTo>
                    <a:pt x="54" y="429"/>
                  </a:lnTo>
                  <a:lnTo>
                    <a:pt x="93" y="471"/>
                  </a:lnTo>
                  <a:lnTo>
                    <a:pt x="123" y="498"/>
                  </a:lnTo>
                  <a:lnTo>
                    <a:pt x="174" y="519"/>
                  </a:lnTo>
                  <a:lnTo>
                    <a:pt x="237" y="543"/>
                  </a:lnTo>
                  <a:lnTo>
                    <a:pt x="306" y="543"/>
                  </a:lnTo>
                  <a:lnTo>
                    <a:pt x="1416" y="543"/>
                  </a:lnTo>
                  <a:lnTo>
                    <a:pt x="1473" y="528"/>
                  </a:lnTo>
                  <a:lnTo>
                    <a:pt x="1530" y="501"/>
                  </a:lnTo>
                  <a:lnTo>
                    <a:pt x="1596" y="453"/>
                  </a:lnTo>
                  <a:lnTo>
                    <a:pt x="1644" y="366"/>
                  </a:lnTo>
                  <a:lnTo>
                    <a:pt x="1662" y="315"/>
                  </a:lnTo>
                  <a:lnTo>
                    <a:pt x="1668" y="237"/>
                  </a:lnTo>
                  <a:lnTo>
                    <a:pt x="1665" y="162"/>
                  </a:lnTo>
                  <a:lnTo>
                    <a:pt x="1671" y="45"/>
                  </a:lnTo>
                  <a:lnTo>
                    <a:pt x="166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85920" y="2462040"/>
              <a:ext cx="633240" cy="347400"/>
            </a:xfrm>
            <a:custGeom>
              <a:avLst/>
              <a:gdLst/>
              <a:ahLst/>
              <a:rect l="l" t="t" r="r" b="b"/>
              <a:pathLst>
                <a:path w="1671" h="543">
                  <a:moveTo>
                    <a:pt x="0" y="3"/>
                  </a:moveTo>
                  <a:lnTo>
                    <a:pt x="0" y="273"/>
                  </a:lnTo>
                  <a:lnTo>
                    <a:pt x="9" y="342"/>
                  </a:lnTo>
                  <a:lnTo>
                    <a:pt x="30" y="384"/>
                  </a:lnTo>
                  <a:lnTo>
                    <a:pt x="54" y="429"/>
                  </a:lnTo>
                  <a:lnTo>
                    <a:pt x="93" y="471"/>
                  </a:lnTo>
                  <a:lnTo>
                    <a:pt x="123" y="498"/>
                  </a:lnTo>
                  <a:lnTo>
                    <a:pt x="174" y="519"/>
                  </a:lnTo>
                  <a:lnTo>
                    <a:pt x="237" y="543"/>
                  </a:lnTo>
                  <a:lnTo>
                    <a:pt x="306" y="543"/>
                  </a:lnTo>
                  <a:lnTo>
                    <a:pt x="1416" y="543"/>
                  </a:lnTo>
                  <a:lnTo>
                    <a:pt x="1473" y="528"/>
                  </a:lnTo>
                  <a:lnTo>
                    <a:pt x="1530" y="501"/>
                  </a:lnTo>
                  <a:lnTo>
                    <a:pt x="1596" y="453"/>
                  </a:lnTo>
                  <a:lnTo>
                    <a:pt x="1644" y="366"/>
                  </a:lnTo>
                  <a:lnTo>
                    <a:pt x="1662" y="315"/>
                  </a:lnTo>
                  <a:lnTo>
                    <a:pt x="1668" y="237"/>
                  </a:lnTo>
                  <a:lnTo>
                    <a:pt x="1665" y="162"/>
                  </a:lnTo>
                  <a:lnTo>
                    <a:pt x="1671" y="45"/>
                  </a:lnTo>
                  <a:lnTo>
                    <a:pt x="166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54320" y="242064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s-ES_tradnl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02520" y="242064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s-ES_tradnl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00080" y="2233440"/>
              <a:ext cx="32958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13000" y="2228760"/>
              <a:ext cx="3682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56160" y="2220480"/>
              <a:ext cx="3682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02040" y="2047680"/>
              <a:ext cx="1193760" cy="171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52760" y="2071440"/>
              <a:ext cx="73656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618000" y="1144080"/>
              <a:ext cx="0" cy="95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618000" y="3449520"/>
              <a:ext cx="0" cy="48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00040" y="1149120"/>
              <a:ext cx="2209680" cy="2685960"/>
            </a:xfrm>
            <a:custGeom>
              <a:avLst/>
              <a:gdLst/>
              <a:ahLst/>
              <a:rect l="l" t="t" r="r" b="b"/>
              <a:pathLst>
                <a:path w="1392" h="1692">
                  <a:moveTo>
                    <a:pt x="696" y="324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1692"/>
                  </a:lnTo>
                  <a:lnTo>
                    <a:pt x="1392" y="169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025640" y="4206960"/>
            <a:ext cx="7245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499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El terminal puerta al aire es muy sensible a los ru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481120" y="1311120"/>
            <a:ext cx="1178640" cy="609120"/>
            <a:chOff x="2481120" y="1311120"/>
            <a:chExt cx="1178640" cy="609120"/>
          </a:xfrm>
        </p:grpSpPr>
        <p:grpSp>
          <p:nvGrpSpPr>
            <p:cNvPr id="367" name=""/>
            <p:cNvGrpSpPr/>
            <p:nvPr/>
          </p:nvGrpSpPr>
          <p:grpSpPr>
            <a:xfrm>
              <a:off x="2481120" y="1313640"/>
              <a:ext cx="705960" cy="606600"/>
              <a:chOff x="2481120" y="1313640"/>
              <a:chExt cx="705960" cy="606600"/>
            </a:xfrm>
          </p:grpSpPr>
          <p:sp>
            <p:nvSpPr>
              <p:cNvPr id="368" name=""/>
              <p:cNvSpPr/>
              <p:nvPr/>
            </p:nvSpPr>
            <p:spPr>
              <a:xfrm>
                <a:off x="2961000" y="1617840"/>
                <a:ext cx="22608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2481120" y="1313640"/>
                <a:ext cx="605520" cy="606600"/>
                <a:chOff x="2481120" y="1313640"/>
                <a:chExt cx="605520" cy="60660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2481120" y="1452240"/>
                  <a:ext cx="434880" cy="331200"/>
                  <a:chOff x="2481120" y="1452240"/>
                  <a:chExt cx="434880" cy="33120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5400000">
                    <a:off x="2648160" y="1515600"/>
                    <a:ext cx="331200" cy="204480"/>
                  </a:xfrm>
                  <a:prstGeom prst="triangle">
                    <a:avLst>
                      <a:gd name="adj" fmla="val 49995"/>
                    </a:avLst>
                  </a:prstGeom>
                  <a:noFill/>
                  <a:ln w="3816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481120" y="1617840"/>
                    <a:ext cx="226080" cy="0"/>
                  </a:xfrm>
                  <a:prstGeom prst="line">
                    <a:avLst/>
                  </a:prstGeom>
                  <a:ln w="3816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3" name=""/>
                <p:cNvSpPr/>
                <p:nvPr/>
              </p:nvSpPr>
              <p:spPr>
                <a:xfrm rot="16200000">
                  <a:off x="2662200" y="1495800"/>
                  <a:ext cx="606600" cy="242280"/>
                </a:xfrm>
                <a:custGeom>
                  <a:avLst/>
                  <a:gdLst/>
                  <a:ahLst/>
                  <a:rect l="l" t="t" r="r" b="b"/>
                  <a:pathLst>
                    <a:path w="557" h="223">
                      <a:moveTo>
                        <a:pt x="0" y="223"/>
                      </a:moveTo>
                      <a:lnTo>
                        <a:pt x="119" y="111"/>
                      </a:lnTo>
                      <a:lnTo>
                        <a:pt x="441" y="111"/>
                      </a:lnTo>
                      <a:lnTo>
                        <a:pt x="557" y="0"/>
                      </a:lnTo>
                    </a:path>
                  </a:pathLst>
                </a:custGeom>
                <a:noFill/>
                <a:ln w="38160">
                  <a:solidFill>
                    <a:srgbClr val="a5002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4" name=""/>
            <p:cNvGrpSpPr/>
            <p:nvPr/>
          </p:nvGrpSpPr>
          <p:grpSpPr>
            <a:xfrm>
              <a:off x="3054240" y="1311120"/>
              <a:ext cx="605520" cy="606240"/>
              <a:chOff x="3054240" y="1311120"/>
              <a:chExt cx="605520" cy="60624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3225960" y="1445040"/>
                <a:ext cx="433800" cy="331560"/>
                <a:chOff x="3225960" y="1445040"/>
                <a:chExt cx="433800" cy="331560"/>
              </a:xfrm>
            </p:grpSpPr>
            <p:sp>
              <p:nvSpPr>
                <p:cNvPr id="376" name=""/>
                <p:cNvSpPr/>
                <p:nvPr/>
              </p:nvSpPr>
              <p:spPr>
                <a:xfrm flipV="1" rot="5400000">
                  <a:off x="3162240" y="1508400"/>
                  <a:ext cx="331560" cy="204120"/>
                </a:xfrm>
                <a:prstGeom prst="triangle">
                  <a:avLst>
                    <a:gd name="adj" fmla="val 49995"/>
                  </a:avLst>
                </a:prstGeom>
                <a:noFill/>
                <a:ln w="381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3434040" y="1611360"/>
                  <a:ext cx="225720" cy="0"/>
                </a:xfrm>
                <a:prstGeom prst="line">
                  <a:avLst/>
                </a:prstGeom>
                <a:ln w="381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 flipH="1" flipV="1" rot="16200000">
                <a:off x="2872440" y="1492920"/>
                <a:ext cx="606240" cy="242640"/>
              </a:xfrm>
              <a:custGeom>
                <a:avLst/>
                <a:gdLst/>
                <a:ahLst/>
                <a:rect l="l" t="t" r="r" b="b"/>
                <a:pathLst>
                  <a:path w="557" h="223">
                    <a:moveTo>
                      <a:pt x="0" y="223"/>
                    </a:moveTo>
                    <a:lnTo>
                      <a:pt x="119" y="111"/>
                    </a:lnTo>
                    <a:lnTo>
                      <a:pt x="441" y="111"/>
                    </a:lnTo>
                    <a:lnTo>
                      <a:pt x="557" y="0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5073480" y="2184480"/>
            <a:ext cx="3221280" cy="1256040"/>
            <a:chOff x="5073480" y="2184480"/>
            <a:chExt cx="3221280" cy="1256040"/>
          </a:xfrm>
        </p:grpSpPr>
        <p:grpSp>
          <p:nvGrpSpPr>
            <p:cNvPr id="380" name=""/>
            <p:cNvGrpSpPr/>
            <p:nvPr/>
          </p:nvGrpSpPr>
          <p:grpSpPr>
            <a:xfrm>
              <a:off x="7765920" y="2311200"/>
              <a:ext cx="528840" cy="672480"/>
              <a:chOff x="7765920" y="2311200"/>
              <a:chExt cx="528840" cy="672480"/>
            </a:xfrm>
          </p:grpSpPr>
          <p:sp>
            <p:nvSpPr>
              <p:cNvPr id="381" name=""/>
              <p:cNvSpPr/>
              <p:nvPr/>
            </p:nvSpPr>
            <p:spPr>
              <a:xfrm flipH="1" flipV="1" rot="10800000">
                <a:off x="7931520" y="2567880"/>
                <a:ext cx="320760" cy="19800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893000" y="2483640"/>
                <a:ext cx="401760" cy="63360"/>
              </a:xfrm>
              <a:prstGeom prst="rect">
                <a:avLst/>
              </a:prstGeom>
              <a:solidFill>
                <a:srgbClr val="a50021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7765920" y="2755440"/>
                <a:ext cx="33012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765920" y="2311200"/>
                <a:ext cx="33012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073480" y="2184480"/>
              <a:ext cx="986760" cy="1256040"/>
              <a:chOff x="5073480" y="2184480"/>
              <a:chExt cx="986760" cy="1256040"/>
            </a:xfrm>
          </p:grpSpPr>
          <p:sp>
            <p:nvSpPr>
              <p:cNvPr id="386" name=""/>
              <p:cNvSpPr/>
              <p:nvPr/>
            </p:nvSpPr>
            <p:spPr>
              <a:xfrm flipH="1" flipV="1" rot="10800000">
                <a:off x="5383440" y="2664000"/>
                <a:ext cx="598680" cy="3700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572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5310360" y="2507040"/>
                <a:ext cx="749880" cy="118800"/>
              </a:xfrm>
              <a:prstGeom prst="rect">
                <a:avLst/>
              </a:prstGeom>
              <a:solidFill>
                <a:srgbClr val="a50021"/>
              </a:solidFill>
              <a:ln w="572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5073480" y="3013560"/>
                <a:ext cx="615960" cy="42660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572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073480" y="2184480"/>
                <a:ext cx="615960" cy="42660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572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1025640" y="4975200"/>
            <a:ext cx="7816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499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El óxido se puede llegar a perforar por la electricidad estática de los dedos. A veces se integran diodos zener de prot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25640" y="5938920"/>
            <a:ext cx="7943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499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Existe un diodo parásito entre fuente y drenador en los MOSFET de enriqueci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368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-29710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09760" y="0"/>
            <a:ext cx="347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Encapsulados de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46520" y="131760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2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923000" y="774720"/>
            <a:ext cx="2049480" cy="1692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459560" y="1039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2936880" cy="2038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901960" y="304632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2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1208160" y="763560"/>
            <a:ext cx="1365120" cy="1940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1170000" y="5278320"/>
            <a:ext cx="1459080" cy="1332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982960" y="56721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7520" y="11124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Parámetros fundamentales para seleccionar un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45120" y="3581280"/>
            <a:ext cx="1104840" cy="1735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06840" y="3581280"/>
            <a:ext cx="1104840" cy="1765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82680" y="3606840"/>
            <a:ext cx="1104840" cy="241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73400" y="596880"/>
            <a:ext cx="4025880" cy="1541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654280" y="812880"/>
            <a:ext cx="3861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nsión de rup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istencia en con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riente máx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2629080"/>
            <a:ext cx="58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Tensiones de ruptura de dispositivos come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1160" y="307332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ja t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65640" y="3073320"/>
            <a:ext cx="19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 t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05440" y="307332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a t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98680" y="3568680"/>
            <a:ext cx="1015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59120" y="3568680"/>
            <a:ext cx="1231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46640" y="3594240"/>
            <a:ext cx="1194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4:08:53Z</dcterms:created>
  <dc:creator>Arturo Fernández González</dc:creator>
  <dc:description/>
  <dc:language>en-US</dc:language>
  <cp:lastModifiedBy>arturo</cp:lastModifiedBy>
  <dcterms:modified xsi:type="dcterms:W3CDTF">2003-10-10T15:45:48Z</dcterms:modified>
  <cp:revision>221</cp:revision>
  <dc:subject/>
  <dc:title>Presentación de PowerPoint</dc:title>
</cp:coreProperties>
</file>