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DD86-2365-4C24-9FE6-24FDCA37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FFF88-458C-4C21-818D-5D59EB0C0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B8BE-7AD6-4403-8239-E1848D7D5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453E-A205-4EEC-9F2B-FB755B7F0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2F01-72AF-4C31-9B89-C42FA8C8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2D2-318A-4DF4-A686-C806AD418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93AD-D793-4F07-B974-20067D62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0B52-1548-46CE-B746-D943D715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1DE7-05A5-4C48-8F8D-FB72E6E83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BB9B-9553-4C19-A572-1A80766B7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679F-209D-459B-AF2C-ABBDCB1B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09E7-025B-4D73-9E5F-DE4964DC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41433-6D63-4845-B234-322DCE81F1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Operaci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roducción a los amplificadores operacion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licaciones lineales bá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daptador de niv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mplificadores de instru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versión I-V y V-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rivador e integ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7440" y="37800"/>
            <a:ext cx="8610480" cy="90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V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0960" y="1104840"/>
            <a:ext cx="815832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La tensión diferencial nula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0 (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 y su modo de funcionamiento es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e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xiste un camino de circulación de corriente entre la salida y la entrada invers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l valor de la tensión de salida ,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 no sobrepasa los limites de la tensión de alimentación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±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n caso contr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≠0 y por tanto su modo de funcionamiento 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no lin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3" dur="1" fill="hold"/>
                                  <p:tgtEl>
                                    <p:spTgt spid="4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3080" y="37800"/>
            <a:ext cx="8224920" cy="90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V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638680" y="4033800"/>
                <a:ext cx="16732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714240" y="939960"/>
            <a:ext cx="413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mentación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475240" y="1181160"/>
            <a:ext cx="247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d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75240" y="3570120"/>
            <a:ext cx="247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d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018040" y="1654200"/>
                <a:ext cx="3853080" cy="17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9" name=""/>
          <p:cNvSpPr/>
          <p:nvPr/>
        </p:nvSpPr>
        <p:spPr>
          <a:xfrm>
            <a:off x="492120" y="5365800"/>
            <a:ext cx="6130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de ganancia positiva ≥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rot="16200000">
            <a:off x="7300800" y="3801240"/>
            <a:ext cx="1292040" cy="1065240"/>
          </a:xfrm>
          <a:custGeom>
            <a:avLst/>
            <a:gdLst>
              <a:gd name="textAreaLeft" fmla="*/ 430200 w 1292040"/>
              <a:gd name="textAreaRight" fmla="*/ 1106280 w 1292040"/>
              <a:gd name="textAreaTop" fmla="*/ 613440 h 1065240"/>
              <a:gd name="textAreaBottom" fmla="*/ 91260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311960" y="2271600"/>
            <a:ext cx="1255680" cy="959040"/>
          </a:xfrm>
          <a:prstGeom prst="parallelogram">
            <a:avLst>
              <a:gd name="adj" fmla="val 112048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52400" y="1622520"/>
            <a:ext cx="4269600" cy="3762360"/>
            <a:chOff x="752400" y="1622520"/>
            <a:chExt cx="4269600" cy="3762360"/>
          </a:xfrm>
        </p:grpSpPr>
        <p:grpSp>
          <p:nvGrpSpPr>
            <p:cNvPr id="453" name=""/>
            <p:cNvGrpSpPr/>
            <p:nvPr/>
          </p:nvGrpSpPr>
          <p:grpSpPr>
            <a:xfrm>
              <a:off x="752400" y="1622520"/>
              <a:ext cx="4269600" cy="3251520"/>
              <a:chOff x="752400" y="1622520"/>
              <a:chExt cx="4269600" cy="3251520"/>
            </a:xfrm>
          </p:grpSpPr>
          <p:sp>
            <p:nvSpPr>
              <p:cNvPr id="454" name=""/>
              <p:cNvSpPr/>
              <p:nvPr/>
            </p:nvSpPr>
            <p:spPr>
              <a:xfrm rot="5400000">
                <a:off x="2550600" y="2639520"/>
                <a:ext cx="1574640" cy="162324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2117520" y="30290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2129400" y="389088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4116240" y="34466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508480" y="272880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505960" y="361800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752400" y="2351160"/>
                <a:ext cx="310680" cy="647640"/>
                <a:chOff x="752400" y="2351160"/>
                <a:chExt cx="310680" cy="64764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900360" y="2351160"/>
                  <a:ext cx="0" cy="49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52400" y="2849760"/>
                  <a:ext cx="310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22600" y="2930760"/>
                  <a:ext cx="160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868320" y="2998800"/>
                  <a:ext cx="7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 flipV="1">
                <a:off x="4531320" y="3560760"/>
                <a:ext cx="0" cy="11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2109240" y="3967200"/>
                <a:ext cx="0" cy="73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1694520" y="3051000"/>
                <a:ext cx="0" cy="160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51840" y="37576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299240" y="4363920"/>
                <a:ext cx="46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077200" y="4135320"/>
                <a:ext cx="46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110680" y="308124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104200" y="32306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3136320" y="2253960"/>
                <a:ext cx="1013400" cy="214560"/>
                <a:chOff x="3136320" y="2253960"/>
                <a:chExt cx="1013400" cy="2145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136320" y="2360160"/>
                  <a:ext cx="1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V="1">
                  <a:off x="3331800" y="2261160"/>
                  <a:ext cx="5544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387600" y="2261520"/>
                  <a:ext cx="7848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V="1">
                  <a:off x="3466080" y="2253960"/>
                  <a:ext cx="928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558960" y="2254320"/>
                  <a:ext cx="964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V="1">
                  <a:off x="3655800" y="2253960"/>
                  <a:ext cx="9324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749400" y="2254680"/>
                  <a:ext cx="10800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V="1">
                  <a:off x="3857400" y="2254320"/>
                  <a:ext cx="8352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940920" y="2254320"/>
                  <a:ext cx="66960" cy="10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008240" y="2360160"/>
                  <a:ext cx="141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887040" y="2247480"/>
                <a:ext cx="1013400" cy="214560"/>
                <a:chOff x="887040" y="2247480"/>
                <a:chExt cx="1013400" cy="21456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887040" y="2353680"/>
                  <a:ext cx="1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1082520" y="2254680"/>
                  <a:ext cx="5544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138320" y="2255040"/>
                  <a:ext cx="7848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V="1">
                  <a:off x="1216800" y="2247480"/>
                  <a:ext cx="928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309680" y="2247840"/>
                  <a:ext cx="964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V="1">
                  <a:off x="1406520" y="2247480"/>
                  <a:ext cx="9324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500120" y="2248200"/>
                  <a:ext cx="10800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608120" y="2247840"/>
                  <a:ext cx="8352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691640" y="2247840"/>
                  <a:ext cx="66960" cy="10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758960" y="2353680"/>
                  <a:ext cx="141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1879200" y="2355840"/>
                <a:ext cx="1257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2117880" y="2354400"/>
                <a:ext cx="0" cy="674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349520" y="2354400"/>
                <a:ext cx="0" cy="1092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4150080" y="2354400"/>
                <a:ext cx="19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706760" y="4075200"/>
                <a:ext cx="409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12600" y="3389400"/>
                <a:ext cx="87480" cy="114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073960" y="3833640"/>
                <a:ext cx="87480" cy="114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469680" y="162252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142640" y="162252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1958040" y="4737240"/>
              <a:ext cx="310680" cy="647640"/>
              <a:chOff x="1958040" y="4737240"/>
              <a:chExt cx="310680" cy="647640"/>
            </a:xfrm>
          </p:grpSpPr>
          <p:sp>
            <p:nvSpPr>
              <p:cNvPr id="505" name=""/>
              <p:cNvSpPr/>
              <p:nvPr/>
            </p:nvSpPr>
            <p:spPr>
              <a:xfrm>
                <a:off x="2106000" y="4737240"/>
                <a:ext cx="0" cy="49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958040" y="523584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028240" y="531684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073960" y="538488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7360" y="0"/>
            <a:ext cx="8223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434960" y="763560"/>
            <a:ext cx="565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unto de partida: circuito lineal,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40880" y="1246320"/>
            <a:ext cx="8008560" cy="2499120"/>
            <a:chOff x="740880" y="1246320"/>
            <a:chExt cx="8008560" cy="2499120"/>
          </a:xfrm>
        </p:grpSpPr>
        <p:sp>
          <p:nvSpPr>
            <p:cNvPr id="512" name=""/>
            <p:cNvSpPr/>
            <p:nvPr/>
          </p:nvSpPr>
          <p:spPr>
            <a:xfrm>
              <a:off x="6214680" y="2490840"/>
              <a:ext cx="0" cy="55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740880" y="1257480"/>
              <a:ext cx="4093200" cy="2445840"/>
              <a:chOff x="740880" y="1257480"/>
              <a:chExt cx="4093200" cy="2445840"/>
            </a:xfrm>
          </p:grpSpPr>
          <p:grpSp>
            <p:nvGrpSpPr>
              <p:cNvPr id="514" name=""/>
              <p:cNvGrpSpPr/>
              <p:nvPr/>
            </p:nvGrpSpPr>
            <p:grpSpPr>
              <a:xfrm>
                <a:off x="740880" y="1257480"/>
                <a:ext cx="4093200" cy="2445840"/>
                <a:chOff x="740880" y="1257480"/>
                <a:chExt cx="4093200" cy="2445840"/>
              </a:xfrm>
            </p:grpSpPr>
            <p:sp>
              <p:nvSpPr>
                <p:cNvPr id="515" name=""/>
                <p:cNvSpPr/>
                <p:nvPr/>
              </p:nvSpPr>
              <p:spPr>
                <a:xfrm rot="5400000">
                  <a:off x="2624400" y="2037600"/>
                  <a:ext cx="1320480" cy="1505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H="1">
                  <a:off x="2154240" y="2436840"/>
                  <a:ext cx="379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>
                  <a:off x="2164680" y="31608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>
                  <a:off x="4007520" y="2787480"/>
                  <a:ext cx="379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515320" y="218592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512800" y="2932200"/>
                  <a:ext cx="35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2023920" y="3160800"/>
                  <a:ext cx="286920" cy="542520"/>
                  <a:chOff x="2023920" y="3160800"/>
                  <a:chExt cx="286920" cy="54252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2160720" y="3160800"/>
                    <a:ext cx="0" cy="417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023920" y="3578400"/>
                    <a:ext cx="286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088720" y="3646080"/>
                    <a:ext cx="1486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130840" y="3703320"/>
                    <a:ext cx="673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6" name=""/>
                <p:cNvSpPr/>
                <p:nvPr/>
              </p:nvSpPr>
              <p:spPr>
                <a:xfrm>
                  <a:off x="4363920" y="2279520"/>
                  <a:ext cx="47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V</a:t>
                  </a:r>
                  <a:r>
                    <a:rPr b="0" lang="es-E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"/>
                <p:cNvGrpSpPr/>
                <p:nvPr/>
              </p:nvGrpSpPr>
              <p:grpSpPr>
                <a:xfrm>
                  <a:off x="3097800" y="1787400"/>
                  <a:ext cx="939960" cy="179640"/>
                  <a:chOff x="3097800" y="1787400"/>
                  <a:chExt cx="939960" cy="17964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3097800" y="1876320"/>
                    <a:ext cx="1814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>
                    <a:off x="3279240" y="1793520"/>
                    <a:ext cx="51480" cy="8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3330720" y="1793880"/>
                    <a:ext cx="72720" cy="173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V="1">
                    <a:off x="3403800" y="1787400"/>
                    <a:ext cx="8604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3489840" y="1787400"/>
                    <a:ext cx="8964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V="1">
                    <a:off x="3579840" y="1787400"/>
                    <a:ext cx="8640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3666240" y="1788120"/>
                    <a:ext cx="100080" cy="173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V="1">
                    <a:off x="3766680" y="1787760"/>
                    <a:ext cx="77400" cy="173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3844440" y="1787760"/>
                    <a:ext cx="62280" cy="88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3906720" y="1876320"/>
                    <a:ext cx="131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1013040" y="1782360"/>
                  <a:ext cx="938880" cy="179280"/>
                  <a:chOff x="1013040" y="1782360"/>
                  <a:chExt cx="938880" cy="17928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1013040" y="1871280"/>
                    <a:ext cx="1810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V="1">
                    <a:off x="1194120" y="1788840"/>
                    <a:ext cx="51480" cy="82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1245960" y="1788480"/>
                    <a:ext cx="72720" cy="17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V="1">
                    <a:off x="1318680" y="1782360"/>
                    <a:ext cx="8604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1404720" y="1782720"/>
                    <a:ext cx="8964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V="1">
                    <a:off x="1494360" y="1782360"/>
                    <a:ext cx="8640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1580760" y="1782720"/>
                    <a:ext cx="100080" cy="17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V="1">
                    <a:off x="1681200" y="1782720"/>
                    <a:ext cx="77400" cy="17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1758600" y="1782720"/>
                    <a:ext cx="61920" cy="88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1820880" y="1871280"/>
                    <a:ext cx="131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" name=""/>
                <p:cNvSpPr/>
                <p:nvPr/>
              </p:nvSpPr>
              <p:spPr>
                <a:xfrm>
                  <a:off x="1932840" y="1873080"/>
                  <a:ext cx="116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V="1">
                  <a:off x="2154240" y="1871280"/>
                  <a:ext cx="0" cy="56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223160" y="1871640"/>
                  <a:ext cx="0" cy="91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>
                  <a:off x="4038120" y="1871640"/>
                  <a:ext cx="184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40880" y="1392120"/>
                  <a:ext cx="409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V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374000" y="2739960"/>
                  <a:ext cx="81720" cy="950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930960" y="1824120"/>
                  <a:ext cx="81720" cy="946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407760" y="1257480"/>
                  <a:ext cx="47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R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249560" y="1257480"/>
                  <a:ext cx="47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R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"/>
              <p:cNvSpPr/>
              <p:nvPr/>
            </p:nvSpPr>
            <p:spPr>
              <a:xfrm>
                <a:off x="2145240" y="2514960"/>
                <a:ext cx="0" cy="55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33600" y="249588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 rot="5400000">
              <a:off x="6534360" y="203112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6063120" y="2430360"/>
              <a:ext cx="37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6073920" y="3154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916040" y="27813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24920" y="2179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422400" y="2924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4796280" y="1862280"/>
              <a:ext cx="288720" cy="542880"/>
              <a:chOff x="4796280" y="1862280"/>
              <a:chExt cx="288720" cy="542880"/>
            </a:xfrm>
          </p:grpSpPr>
          <p:sp>
            <p:nvSpPr>
              <p:cNvPr id="567" name=""/>
              <p:cNvSpPr/>
              <p:nvPr/>
            </p:nvSpPr>
            <p:spPr>
              <a:xfrm>
                <a:off x="4933800" y="186228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796280" y="228024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861440" y="234792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903920" y="240516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8279280" y="22464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007400" y="1781280"/>
              <a:ext cx="940320" cy="179640"/>
              <a:chOff x="7007400" y="1781280"/>
              <a:chExt cx="940320" cy="179640"/>
            </a:xfrm>
          </p:grpSpPr>
          <p:sp>
            <p:nvSpPr>
              <p:cNvPr id="573" name=""/>
              <p:cNvSpPr/>
              <p:nvPr/>
            </p:nvSpPr>
            <p:spPr>
              <a:xfrm>
                <a:off x="7007400" y="187020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7188840" y="17874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240680" y="17877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7313400" y="17812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399800" y="17812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7489440" y="17812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576200" y="17820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7676640" y="17816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754040" y="1781640"/>
                <a:ext cx="622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816680" y="18702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4922280" y="1774440"/>
              <a:ext cx="938880" cy="181440"/>
              <a:chOff x="4922280" y="1774440"/>
              <a:chExt cx="938880" cy="181440"/>
            </a:xfrm>
          </p:grpSpPr>
          <p:sp>
            <p:nvSpPr>
              <p:cNvPr id="584" name=""/>
              <p:cNvSpPr/>
              <p:nvPr/>
            </p:nvSpPr>
            <p:spPr>
              <a:xfrm>
                <a:off x="4922280" y="18644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5103360" y="1780920"/>
                <a:ext cx="514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155200" y="1780560"/>
                <a:ext cx="7272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5227920" y="1774440"/>
                <a:ext cx="860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313960" y="1774800"/>
                <a:ext cx="896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5403600" y="1774440"/>
                <a:ext cx="8640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90000" y="1774800"/>
                <a:ext cx="1000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5590440" y="1774800"/>
                <a:ext cx="7740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67840" y="1775160"/>
                <a:ext cx="6192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730120" y="18644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5841000" y="1866960"/>
              <a:ext cx="11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063480" y="186516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132760" y="186516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7947720" y="186516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747760" y="323532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283600" y="2733840"/>
              <a:ext cx="8064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022800" y="310500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17360" y="12510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158800" y="12510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638320" y="2496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88040" y="1650960"/>
              <a:ext cx="43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33680" y="1639800"/>
              <a:ext cx="43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23320" y="1257480"/>
              <a:ext cx="4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10280" y="1258920"/>
              <a:ext cx="4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5606640" y="1654200"/>
              <a:ext cx="35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499080" y="1643040"/>
              <a:ext cx="35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11240" y="1246320"/>
              <a:ext cx="44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462360" y="1260360"/>
              <a:ext cx="4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4491000" y="3119400"/>
                <a:ext cx="7588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1117440" y="3805200"/>
                <a:ext cx="12733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6404040" y="3705120"/>
                <a:ext cx="16081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5" name=""/>
          <p:cNvSpPr/>
          <p:nvPr/>
        </p:nvSpPr>
        <p:spPr>
          <a:xfrm>
            <a:off x="2954160" y="1346040"/>
            <a:ext cx="2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40200" y="1322280"/>
            <a:ext cx="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856640" y="1258920"/>
            <a:ext cx="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837480" y="1273320"/>
            <a:ext cx="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31720" y="134460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122200" y="135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358920" y="4464000"/>
                <a:ext cx="27493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454720" y="4341960"/>
                <a:ext cx="34401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6456240" y="5425920"/>
                <a:ext cx="148140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057320" y="5454720"/>
                <a:ext cx="123012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39840" y="-185760"/>
            <a:ext cx="8481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licaciones lineales básicas del 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17520" y="1074600"/>
            <a:ext cx="8643960" cy="47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¿Que podemos hacer con un A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Multiplicar por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(-1):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Cambiador signo o inver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Multiplicar por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(-k) o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(1+k)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Cambiador de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Multiplicar por Vi·(1)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Seguidor de em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Cambiar el desfase entr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entrada y salida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Cambiador de 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umar de ten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±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+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+...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Sum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Resta de dos ten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-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A. Diferencial o Res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39480" y="-360"/>
            <a:ext cx="848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licaciones lineales básicas del 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4643280" y="4282920"/>
                <a:ext cx="33483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339840" y="939960"/>
            <a:ext cx="844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acidad de realizar operaciones matemáticas, de ahí su nombre (Amplificador opera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1987560" y="4441680"/>
                <a:ext cx="21621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1" name=""/>
          <p:cNvSpPr/>
          <p:nvPr/>
        </p:nvSpPr>
        <p:spPr>
          <a:xfrm>
            <a:off x="720720" y="5543640"/>
            <a:ext cx="337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694400" y="5543640"/>
            <a:ext cx="3897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no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142200" y="1892160"/>
            <a:ext cx="4093920" cy="2446560"/>
            <a:chOff x="142200" y="1892160"/>
            <a:chExt cx="4093920" cy="2446560"/>
          </a:xfrm>
        </p:grpSpPr>
        <p:sp>
          <p:nvSpPr>
            <p:cNvPr id="634" name=""/>
            <p:cNvSpPr/>
            <p:nvPr/>
          </p:nvSpPr>
          <p:spPr>
            <a:xfrm rot="5400000">
              <a:off x="2026800" y="267264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1555920" y="307188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1566360" y="379584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409560" y="3422520"/>
              <a:ext cx="37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17360" y="28209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14480" y="3567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1425600" y="3795840"/>
              <a:ext cx="286920" cy="542880"/>
              <a:chOff x="1425600" y="3795840"/>
              <a:chExt cx="286920" cy="542880"/>
            </a:xfrm>
          </p:grpSpPr>
          <p:sp>
            <p:nvSpPr>
              <p:cNvPr id="641" name=""/>
              <p:cNvSpPr/>
              <p:nvPr/>
            </p:nvSpPr>
            <p:spPr>
              <a:xfrm>
                <a:off x="1562400" y="379584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425600" y="421380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490400" y="428148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532520" y="433872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3765960" y="2914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334520" y="2508120"/>
              <a:ext cx="132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1555920" y="250668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25560" y="250668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3299760" y="2506680"/>
              <a:ext cx="32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2200" y="202716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776400" y="337500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2280" y="245916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01520" y="1892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42600" y="1892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6480" y="2349360"/>
              <a:ext cx="62136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3080" y="2502000"/>
              <a:ext cx="281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62200" y="2363760"/>
              <a:ext cx="62136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4199040" y="1886040"/>
            <a:ext cx="3952440" cy="2193840"/>
            <a:chOff x="4199040" y="1886040"/>
            <a:chExt cx="3952440" cy="2193840"/>
          </a:xfrm>
        </p:grpSpPr>
        <p:sp>
          <p:nvSpPr>
            <p:cNvPr id="659" name=""/>
            <p:cNvSpPr/>
            <p:nvPr/>
          </p:nvSpPr>
          <p:spPr>
            <a:xfrm rot="5400000">
              <a:off x="5936040" y="2666520"/>
              <a:ext cx="1320840" cy="1505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5465520" y="306540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476320" y="37893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7317720" y="34164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826960" y="2814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24440" y="3559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4199040" y="2496960"/>
              <a:ext cx="288360" cy="543240"/>
              <a:chOff x="4199040" y="2496960"/>
              <a:chExt cx="288360" cy="543240"/>
            </a:xfrm>
          </p:grpSpPr>
          <p:sp>
            <p:nvSpPr>
              <p:cNvPr id="666" name=""/>
              <p:cNvSpPr/>
              <p:nvPr/>
            </p:nvSpPr>
            <p:spPr>
              <a:xfrm>
                <a:off x="4336560" y="24969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199040" y="2914920"/>
                <a:ext cx="28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264200" y="2982960"/>
                <a:ext cx="14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306680" y="304020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>
              <a:off x="7681320" y="28814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243400" y="2502000"/>
              <a:ext cx="14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5465880" y="25002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534800" y="250020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244280" y="2500200"/>
              <a:ext cx="28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26760" y="32986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85640" y="336852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25200" y="374004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710760" y="188604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52920" y="188604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58560" y="2362320"/>
              <a:ext cx="609120" cy="253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44000" y="2363760"/>
              <a:ext cx="609480" cy="254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326480" y="2489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37800"/>
            <a:ext cx="828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signo o inver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81120" y="3822840"/>
                <a:ext cx="22114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4317840" y="1054080"/>
            <a:ext cx="456264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nto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ircuito inversor, la tensión de salida está desfasada 180º respecto a la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3552840" y="4311720"/>
          <a:ext cx="5327640" cy="21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2840" y="4311720"/>
                    <a:ext cx="5327640" cy="21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"/>
          <p:cNvSpPr/>
          <p:nvPr/>
        </p:nvSpPr>
        <p:spPr>
          <a:xfrm>
            <a:off x="4870440" y="1949400"/>
            <a:ext cx="38401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vi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-1 es decir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29680" y="1009800"/>
            <a:ext cx="4092480" cy="2446200"/>
            <a:chOff x="229680" y="1009800"/>
            <a:chExt cx="4092480" cy="2446200"/>
          </a:xfrm>
        </p:grpSpPr>
        <p:sp>
          <p:nvSpPr>
            <p:cNvPr id="692" name=""/>
            <p:cNvSpPr/>
            <p:nvPr/>
          </p:nvSpPr>
          <p:spPr>
            <a:xfrm rot="5400000">
              <a:off x="2112840" y="1790280"/>
              <a:ext cx="1320840" cy="1505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1642320" y="2189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1652760" y="2913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3495600" y="2540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003760" y="1938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001240" y="2684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1512360" y="2913120"/>
              <a:ext cx="286920" cy="542880"/>
              <a:chOff x="1512360" y="2913120"/>
              <a:chExt cx="286920" cy="542880"/>
            </a:xfrm>
          </p:grpSpPr>
          <p:sp>
            <p:nvSpPr>
              <p:cNvPr id="699" name=""/>
              <p:cNvSpPr/>
              <p:nvPr/>
            </p:nvSpPr>
            <p:spPr>
              <a:xfrm>
                <a:off x="1649160" y="291312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512360" y="333108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577160" y="339876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619280" y="345600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3852000" y="20318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386360" y="1625760"/>
              <a:ext cx="151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1642680" y="162396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11240" y="162396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3526200" y="162396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9680" y="1144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080" y="249228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19400" y="157644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887200" y="1009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9720" y="1009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907000" y="1486080"/>
              <a:ext cx="621000" cy="266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75440" y="1487520"/>
              <a:ext cx="62064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92840" y="1625760"/>
              <a:ext cx="26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92000" y="37800"/>
            <a:ext cx="609588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5637240" y="1727280"/>
                <a:ext cx="22114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8" name=""/>
          <p:cNvSpPr/>
          <p:nvPr/>
        </p:nvSpPr>
        <p:spPr>
          <a:xfrm>
            <a:off x="1585800" y="1012680"/>
            <a:ext cx="591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k·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1865160" y="4127400"/>
          <a:ext cx="6788160" cy="22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5160" y="4127400"/>
                    <a:ext cx="678816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1" name=""/>
          <p:cNvSpPr/>
          <p:nvPr/>
        </p:nvSpPr>
        <p:spPr>
          <a:xfrm>
            <a:off x="222120" y="5245200"/>
            <a:ext cx="2530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4589640" y="2743200"/>
            <a:ext cx="4238280" cy="1157400"/>
            <a:chOff x="4589640" y="2743200"/>
            <a:chExt cx="4238280" cy="1157400"/>
          </a:xfrm>
        </p:grpSpPr>
        <p:sp>
          <p:nvSpPr>
            <p:cNvPr id="723" name=""/>
            <p:cNvSpPr/>
            <p:nvPr/>
          </p:nvSpPr>
          <p:spPr>
            <a:xfrm>
              <a:off x="4589640" y="3321000"/>
              <a:ext cx="4238280" cy="579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vi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-k es decir 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-k·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494760" y="2743200"/>
              <a:ext cx="550800" cy="558720"/>
            </a:xfrm>
            <a:prstGeom prst="downArrow">
              <a:avLst>
                <a:gd name="adj1" fmla="val 50000"/>
                <a:gd name="adj2" fmla="val 25359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97800" y="1531800"/>
            <a:ext cx="4094280" cy="2446560"/>
            <a:chOff x="397800" y="1531800"/>
            <a:chExt cx="4094280" cy="2446560"/>
          </a:xfrm>
        </p:grpSpPr>
        <p:sp>
          <p:nvSpPr>
            <p:cNvPr id="726" name=""/>
            <p:cNvSpPr/>
            <p:nvPr/>
          </p:nvSpPr>
          <p:spPr>
            <a:xfrm rot="5400000">
              <a:off x="2263680" y="2312640"/>
              <a:ext cx="1320840" cy="1505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1793520" y="271152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1803600" y="34354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3646440" y="3062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65400" y="2460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65040" y="3206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1663200" y="3435480"/>
              <a:ext cx="286920" cy="542880"/>
              <a:chOff x="1663200" y="3435480"/>
              <a:chExt cx="286920" cy="542880"/>
            </a:xfrm>
          </p:grpSpPr>
          <p:sp>
            <p:nvSpPr>
              <p:cNvPr id="733" name=""/>
              <p:cNvSpPr/>
              <p:nvPr/>
            </p:nvSpPr>
            <p:spPr>
              <a:xfrm>
                <a:off x="1800000" y="343548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663200" y="385344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728000" y="392112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770120" y="397836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4021920" y="2554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2480" y="2147760"/>
              <a:ext cx="141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1793880" y="214632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62080" y="214632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3677040" y="214632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97800" y="166680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012920" y="301464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70240" y="209880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056400" y="1531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99280" y="1531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000600" y="2006640"/>
              <a:ext cx="66780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904320" y="1995480"/>
              <a:ext cx="66780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44760" y="2133720"/>
              <a:ext cx="24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742760" y="378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30360" y="1012680"/>
            <a:ext cx="760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k·Z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5357880" y="1701720"/>
                <a:ext cx="24811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53" name=""/>
          <p:cNvGraphicFramePr/>
          <p:nvPr/>
        </p:nvGraphicFramePr>
        <p:xfrm>
          <a:off x="1444680" y="4044960"/>
          <a:ext cx="700416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4680" y="4044960"/>
                    <a:ext cx="700416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"/>
          <p:cNvSpPr/>
          <p:nvPr/>
        </p:nvSpPr>
        <p:spPr>
          <a:xfrm>
            <a:off x="185760" y="5073480"/>
            <a:ext cx="23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4278240" y="2730600"/>
            <a:ext cx="4532400" cy="1075320"/>
            <a:chOff x="4278240" y="2730600"/>
            <a:chExt cx="4532400" cy="1075320"/>
          </a:xfrm>
        </p:grpSpPr>
        <p:sp>
          <p:nvSpPr>
            <p:cNvPr id="757" name=""/>
            <p:cNvSpPr/>
            <p:nvPr/>
          </p:nvSpPr>
          <p:spPr>
            <a:xfrm>
              <a:off x="4278240" y="3295800"/>
              <a:ext cx="4532400" cy="510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vi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+k es decir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(1+k)·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7600" y="2730600"/>
              <a:ext cx="527400" cy="533160"/>
            </a:xfrm>
            <a:prstGeom prst="downArrow">
              <a:avLst>
                <a:gd name="adj1" fmla="val 50000"/>
                <a:gd name="adj2" fmla="val 25273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530280" y="1717560"/>
            <a:ext cx="3972600" cy="2194200"/>
            <a:chOff x="530280" y="1717560"/>
            <a:chExt cx="3972600" cy="2194200"/>
          </a:xfrm>
        </p:grpSpPr>
        <p:sp>
          <p:nvSpPr>
            <p:cNvPr id="760" name=""/>
            <p:cNvSpPr/>
            <p:nvPr/>
          </p:nvSpPr>
          <p:spPr>
            <a:xfrm rot="5400000">
              <a:off x="2268360" y="2498040"/>
              <a:ext cx="1320840" cy="1506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1797840" y="289728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1807920" y="3621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650040" y="32479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169720" y="26463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170080" y="33908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530280" y="2328840"/>
              <a:ext cx="288720" cy="542880"/>
              <a:chOff x="530280" y="2328840"/>
              <a:chExt cx="288720" cy="542880"/>
            </a:xfrm>
          </p:grpSpPr>
          <p:sp>
            <p:nvSpPr>
              <p:cNvPr id="767" name=""/>
              <p:cNvSpPr/>
              <p:nvPr/>
            </p:nvSpPr>
            <p:spPr>
              <a:xfrm>
                <a:off x="667800" y="232884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30280" y="274680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95440" y="281448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37920" y="287172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4032720" y="2712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575000" y="2333520"/>
              <a:ext cx="137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1797840" y="233208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867120" y="233208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3682800" y="233208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76000" y="313056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017960" y="320040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756800" y="3571920"/>
              <a:ext cx="8064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061080" y="17175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902520" y="17175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77920" y="2184480"/>
              <a:ext cx="69156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80560" y="2185920"/>
              <a:ext cx="69192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56280" y="2336760"/>
              <a:ext cx="210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709560" y="3687840"/>
                <a:ext cx="2479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2570040" y="3860640"/>
            <a:ext cx="568440" cy="635040"/>
          </a:xfrm>
          <a:prstGeom prst="parallelogram">
            <a:avLst>
              <a:gd name="adj" fmla="val 85579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634760" y="0"/>
            <a:ext cx="60958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guidor de emi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93600" y="722160"/>
            <a:ext cx="541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3956040" y="4025880"/>
          <a:ext cx="518796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6040" y="4025880"/>
                    <a:ext cx="518796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147600" y="4975200"/>
            <a:ext cx="451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salida n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entrada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5807880" y="2098800"/>
            <a:ext cx="3025800" cy="1576440"/>
            <a:chOff x="5807880" y="2098800"/>
            <a:chExt cx="3025800" cy="1576440"/>
          </a:xfrm>
        </p:grpSpPr>
        <p:sp>
          <p:nvSpPr>
            <p:cNvPr id="792" name=""/>
            <p:cNvSpPr/>
            <p:nvPr/>
          </p:nvSpPr>
          <p:spPr>
            <a:xfrm rot="5400000">
              <a:off x="6592680" y="2261880"/>
              <a:ext cx="1320840" cy="1505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6129720" y="26640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139800" y="33879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7981200" y="30150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501600" y="2413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501960" y="31579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363520" y="24800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14960" y="2100600"/>
              <a:ext cx="189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129720" y="20988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198280" y="209880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8013240" y="209880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7880" y="28972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349120" y="296712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88680" y="333864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06" name=""/>
          <p:cNvGraphicFramePr/>
          <p:nvPr/>
        </p:nvGraphicFramePr>
        <p:xfrm>
          <a:off x="3949560" y="4027320"/>
          <a:ext cx="5189760" cy="213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49560" y="4027320"/>
                    <a:ext cx="518976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8" name=""/>
          <p:cNvGrpSpPr/>
          <p:nvPr/>
        </p:nvGrpSpPr>
        <p:grpSpPr>
          <a:xfrm>
            <a:off x="4013280" y="2421000"/>
            <a:ext cx="1600200" cy="1443240"/>
            <a:chOff x="4013280" y="2421000"/>
            <a:chExt cx="1600200" cy="1443240"/>
          </a:xfrm>
        </p:grpSpPr>
        <p:sp>
          <p:nvSpPr>
            <p:cNvPr id="809" name=""/>
            <p:cNvSpPr/>
            <p:nvPr/>
          </p:nvSpPr>
          <p:spPr>
            <a:xfrm>
              <a:off x="4307760" y="2421000"/>
              <a:ext cx="1203840" cy="772920"/>
            </a:xfrm>
            <a:prstGeom prst="rightArrow">
              <a:avLst>
                <a:gd name="adj1" fmla="val 50000"/>
                <a:gd name="adj2" fmla="val 38938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013280" y="3284640"/>
              <a:ext cx="1600200" cy="579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vni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58920" y="1324080"/>
            <a:ext cx="3972600" cy="2193840"/>
            <a:chOff x="358920" y="1324080"/>
            <a:chExt cx="3972600" cy="2193840"/>
          </a:xfrm>
        </p:grpSpPr>
        <p:sp>
          <p:nvSpPr>
            <p:cNvPr id="812" name=""/>
            <p:cNvSpPr/>
            <p:nvPr/>
          </p:nvSpPr>
          <p:spPr>
            <a:xfrm rot="5400000">
              <a:off x="2097360" y="210420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1626480" y="25034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1636560" y="322740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478680" y="28544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998360" y="2252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998720" y="2997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358920" y="1935000"/>
              <a:ext cx="288720" cy="543240"/>
              <a:chOff x="358920" y="1935000"/>
              <a:chExt cx="288720" cy="543240"/>
            </a:xfrm>
          </p:grpSpPr>
          <p:sp>
            <p:nvSpPr>
              <p:cNvPr id="819" name=""/>
              <p:cNvSpPr/>
              <p:nvPr/>
            </p:nvSpPr>
            <p:spPr>
              <a:xfrm>
                <a:off x="496440" y="193500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58920" y="235296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24080" y="242100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66560" y="247824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>
              <a:off x="3861360" y="2319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04000" y="1940040"/>
              <a:ext cx="140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1626480" y="193824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695760" y="193824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511440" y="193824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04640" y="273672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846960" y="2806560"/>
              <a:ext cx="802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85440" y="3178080"/>
              <a:ext cx="8064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89720" y="13240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1160" y="13240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13760" y="1790640"/>
              <a:ext cx="70308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16400" y="1817640"/>
              <a:ext cx="70344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0240" y="1943280"/>
              <a:ext cx="23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5808240" y="1486080"/>
            <a:ext cx="3025800" cy="2190600"/>
            <a:chOff x="5808240" y="1486080"/>
            <a:chExt cx="3025800" cy="2190600"/>
          </a:xfrm>
        </p:grpSpPr>
        <p:sp>
          <p:nvSpPr>
            <p:cNvPr id="837" name=""/>
            <p:cNvSpPr/>
            <p:nvPr/>
          </p:nvSpPr>
          <p:spPr>
            <a:xfrm rot="5400000">
              <a:off x="6593040" y="2263320"/>
              <a:ext cx="1320840" cy="1505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6129720" y="266544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6139800" y="338940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7981200" y="301608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501960" y="2414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02320" y="3159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363880" y="24811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115320" y="2101680"/>
              <a:ext cx="12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6130080" y="210024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198280" y="210024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8013960" y="210024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08240" y="289872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349480" y="2968560"/>
              <a:ext cx="802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088680" y="3340080"/>
              <a:ext cx="8064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392240" y="14860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338600" y="1955880"/>
              <a:ext cx="67932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635120" y="0"/>
            <a:ext cx="6095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guidor de emi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30360" y="944640"/>
            <a:ext cx="77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 de aplicación: Adaptación de imped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1606680" y="1484280"/>
            <a:ext cx="6968520" cy="2021040"/>
            <a:chOff x="1606680" y="1484280"/>
            <a:chExt cx="6968520" cy="2021040"/>
          </a:xfrm>
        </p:grpSpPr>
        <p:grpSp>
          <p:nvGrpSpPr>
            <p:cNvPr id="856" name=""/>
            <p:cNvGrpSpPr/>
            <p:nvPr/>
          </p:nvGrpSpPr>
          <p:grpSpPr>
            <a:xfrm>
              <a:off x="1606680" y="1484280"/>
              <a:ext cx="6968520" cy="2021040"/>
              <a:chOff x="1606680" y="1484280"/>
              <a:chExt cx="6968520" cy="2021040"/>
            </a:xfrm>
          </p:grpSpPr>
          <p:sp>
            <p:nvSpPr>
              <p:cNvPr id="857" name=""/>
              <p:cNvSpPr/>
              <p:nvPr/>
            </p:nvSpPr>
            <p:spPr>
              <a:xfrm>
                <a:off x="1606680" y="2337480"/>
                <a:ext cx="634680" cy="6249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693080" y="2494440"/>
                <a:ext cx="438480" cy="311040"/>
              </a:xfrm>
              <a:custGeom>
                <a:avLst/>
                <a:gdLst/>
                <a:ahLst/>
                <a:rect l="l" t="t" r="r" b="b"/>
                <a:pathLst>
                  <a:path w="1078" h="890">
                    <a:moveTo>
                      <a:pt x="0" y="459"/>
                    </a:moveTo>
                    <a:cubicBezTo>
                      <a:pt x="44" y="383"/>
                      <a:pt x="174" y="0"/>
                      <a:pt x="265" y="2"/>
                    </a:cubicBezTo>
                    <a:cubicBezTo>
                      <a:pt x="356" y="4"/>
                      <a:pt x="454" y="320"/>
                      <a:pt x="548" y="468"/>
                    </a:cubicBezTo>
                    <a:cubicBezTo>
                      <a:pt x="642" y="616"/>
                      <a:pt x="744" y="890"/>
                      <a:pt x="832" y="889"/>
                    </a:cubicBezTo>
                    <a:cubicBezTo>
                      <a:pt x="920" y="888"/>
                      <a:pt x="1027" y="549"/>
                      <a:pt x="1078" y="459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9" name=""/>
              <p:cNvGrpSpPr/>
              <p:nvPr/>
            </p:nvGrpSpPr>
            <p:grpSpPr>
              <a:xfrm>
                <a:off x="1728000" y="2962800"/>
                <a:ext cx="354240" cy="542520"/>
                <a:chOff x="1728000" y="2962800"/>
                <a:chExt cx="354240" cy="5425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1910880" y="2962800"/>
                  <a:ext cx="0" cy="429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728000" y="3391920"/>
                  <a:ext cx="354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1825560" y="3453480"/>
                  <a:ext cx="171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V="1">
                  <a:off x="1893600" y="3504240"/>
                  <a:ext cx="450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1931040" y="1845360"/>
                <a:ext cx="856440" cy="151200"/>
                <a:chOff x="1931040" y="1845360"/>
                <a:chExt cx="856440" cy="15120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1931040" y="1920240"/>
                  <a:ext cx="165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V="1">
                  <a:off x="2096280" y="1850400"/>
                  <a:ext cx="46800" cy="6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43440" y="1850400"/>
                  <a:ext cx="66240" cy="14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V="1">
                  <a:off x="2209680" y="1845360"/>
                  <a:ext cx="78480" cy="151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288520" y="1845360"/>
                  <a:ext cx="81720" cy="151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V="1">
                  <a:off x="2370240" y="1845360"/>
                  <a:ext cx="78840" cy="151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449080" y="1845720"/>
                  <a:ext cx="91080" cy="14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V="1">
                  <a:off x="2540520" y="1845720"/>
                  <a:ext cx="70560" cy="14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611080" y="1845360"/>
                  <a:ext cx="56520" cy="7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667960" y="1920240"/>
                  <a:ext cx="119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5" name=""/>
              <p:cNvSpPr/>
              <p:nvPr/>
            </p:nvSpPr>
            <p:spPr>
              <a:xfrm>
                <a:off x="3050280" y="1489680"/>
                <a:ext cx="584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0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au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895400" y="1484280"/>
                <a:ext cx="997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=10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1924560" y="1908360"/>
                <a:ext cx="0" cy="42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789280" y="1873440"/>
                <a:ext cx="74520" cy="8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9" name=""/>
              <p:cNvGrpSpPr/>
              <p:nvPr/>
            </p:nvGrpSpPr>
            <p:grpSpPr>
              <a:xfrm>
                <a:off x="5935680" y="2103840"/>
                <a:ext cx="828360" cy="1079640"/>
                <a:chOff x="5935680" y="2103840"/>
                <a:chExt cx="828360" cy="107964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6201360" y="2349360"/>
                  <a:ext cx="269640" cy="600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V="1">
                  <a:off x="6483240" y="2115360"/>
                  <a:ext cx="268200" cy="221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6471360" y="2938320"/>
                  <a:ext cx="292680" cy="245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V="1">
                  <a:off x="6764040" y="2103840"/>
                  <a:ext cx="0" cy="107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H="1">
                  <a:off x="6006240" y="2435400"/>
                  <a:ext cx="182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>
                  <a:off x="6006240" y="2828520"/>
                  <a:ext cx="195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5935680" y="2380320"/>
                  <a:ext cx="74520" cy="80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935680" y="2783880"/>
                  <a:ext cx="74520" cy="80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"/>
              <p:cNvSpPr/>
              <p:nvPr/>
            </p:nvSpPr>
            <p:spPr>
              <a:xfrm>
                <a:off x="6851160" y="2397960"/>
                <a:ext cx="172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e=100 oh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142360" y="2545560"/>
                <a:ext cx="188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aux=1Vp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0" name=""/>
              <p:cNvGrpSpPr/>
              <p:nvPr/>
            </p:nvGrpSpPr>
            <p:grpSpPr>
              <a:xfrm>
                <a:off x="5779440" y="2844720"/>
                <a:ext cx="353880" cy="542520"/>
                <a:chOff x="5779440" y="2844720"/>
                <a:chExt cx="353880" cy="54252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5962320" y="2844720"/>
                  <a:ext cx="0" cy="429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5779440" y="3273840"/>
                  <a:ext cx="35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877000" y="3335400"/>
                  <a:ext cx="170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V="1">
                  <a:off x="5945040" y="3386160"/>
                  <a:ext cx="450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5" name=""/>
              <p:cNvSpPr/>
              <p:nvPr/>
            </p:nvSpPr>
            <p:spPr>
              <a:xfrm>
                <a:off x="2865600" y="1921680"/>
                <a:ext cx="311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983920" y="1921680"/>
                <a:ext cx="0" cy="46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>
              <a:off x="6318000" y="1577520"/>
              <a:ext cx="149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e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0,01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1560600" y="3696840"/>
            <a:ext cx="6968520" cy="2544120"/>
            <a:chOff x="1560600" y="3696840"/>
            <a:chExt cx="6968520" cy="2544120"/>
          </a:xfrm>
        </p:grpSpPr>
        <p:grpSp>
          <p:nvGrpSpPr>
            <p:cNvPr id="899" name=""/>
            <p:cNvGrpSpPr/>
            <p:nvPr/>
          </p:nvGrpSpPr>
          <p:grpSpPr>
            <a:xfrm>
              <a:off x="3660120" y="3696840"/>
              <a:ext cx="2705760" cy="1685520"/>
              <a:chOff x="3660120" y="3696840"/>
              <a:chExt cx="2705760" cy="1685520"/>
            </a:xfrm>
          </p:grpSpPr>
          <p:sp>
            <p:nvSpPr>
              <p:cNvPr id="900" name=""/>
              <p:cNvSpPr/>
              <p:nvPr/>
            </p:nvSpPr>
            <p:spPr>
              <a:xfrm rot="5400000">
                <a:off x="4093200" y="3924720"/>
                <a:ext cx="1409040" cy="150588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3667320" y="4300200"/>
                <a:ext cx="37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3677400" y="5072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5520600" y="4674600"/>
                <a:ext cx="37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039200" y="40323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039560" y="48286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895720" y="413244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660120" y="3699000"/>
                <a:ext cx="9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3667320" y="3696840"/>
                <a:ext cx="0" cy="60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736240" y="3697200"/>
                <a:ext cx="0" cy="9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4559760" y="3697200"/>
                <a:ext cx="1176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887080" y="4623480"/>
                <a:ext cx="8172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1560600" y="5072760"/>
              <a:ext cx="634320" cy="625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647000" y="5228640"/>
              <a:ext cx="437760" cy="311400"/>
            </a:xfrm>
            <a:custGeom>
              <a:avLst/>
              <a:gdLst/>
              <a:ahLst/>
              <a:rect l="l" t="t" r="r" b="b"/>
              <a:pathLst>
                <a:path w="1078" h="890">
                  <a:moveTo>
                    <a:pt x="0" y="459"/>
                  </a:moveTo>
                  <a:cubicBezTo>
                    <a:pt x="44" y="383"/>
                    <a:pt x="174" y="0"/>
                    <a:pt x="265" y="2"/>
                  </a:cubicBezTo>
                  <a:cubicBezTo>
                    <a:pt x="356" y="4"/>
                    <a:pt x="454" y="320"/>
                    <a:pt x="548" y="468"/>
                  </a:cubicBezTo>
                  <a:cubicBezTo>
                    <a:pt x="642" y="616"/>
                    <a:pt x="744" y="890"/>
                    <a:pt x="832" y="889"/>
                  </a:cubicBezTo>
                  <a:cubicBezTo>
                    <a:pt x="920" y="888"/>
                    <a:pt x="1027" y="549"/>
                    <a:pt x="1078" y="45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4" name=""/>
            <p:cNvGrpSpPr/>
            <p:nvPr/>
          </p:nvGrpSpPr>
          <p:grpSpPr>
            <a:xfrm>
              <a:off x="1681920" y="5698080"/>
              <a:ext cx="354600" cy="542880"/>
              <a:chOff x="1681920" y="5698080"/>
              <a:chExt cx="354600" cy="542880"/>
            </a:xfrm>
          </p:grpSpPr>
          <p:sp>
            <p:nvSpPr>
              <p:cNvPr id="915" name=""/>
              <p:cNvSpPr/>
              <p:nvPr/>
            </p:nvSpPr>
            <p:spPr>
              <a:xfrm>
                <a:off x="1865160" y="5698080"/>
                <a:ext cx="0" cy="42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681920" y="6127560"/>
                <a:ext cx="35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779480" y="618912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1847880" y="6239880"/>
                <a:ext cx="4500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1885680" y="4579200"/>
              <a:ext cx="855360" cy="151200"/>
              <a:chOff x="1885680" y="4579200"/>
              <a:chExt cx="855360" cy="151200"/>
            </a:xfrm>
          </p:grpSpPr>
          <p:sp>
            <p:nvSpPr>
              <p:cNvPr id="920" name=""/>
              <p:cNvSpPr/>
              <p:nvPr/>
            </p:nvSpPr>
            <p:spPr>
              <a:xfrm>
                <a:off x="1885680" y="4654080"/>
                <a:ext cx="164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2050560" y="4584600"/>
                <a:ext cx="4680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097720" y="4584600"/>
                <a:ext cx="6624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2163960" y="4579200"/>
                <a:ext cx="78120" cy="15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242440" y="4579560"/>
                <a:ext cx="81360" cy="15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V="1">
                <a:off x="2324160" y="4579200"/>
                <a:ext cx="78480" cy="15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403000" y="4579920"/>
                <a:ext cx="9108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2494440" y="4579560"/>
                <a:ext cx="7056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565000" y="4579920"/>
                <a:ext cx="56520" cy="7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2621880" y="4654080"/>
                <a:ext cx="1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3010320" y="4174560"/>
              <a:ext cx="66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850040" y="4218840"/>
              <a:ext cx="997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0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1878480" y="4641840"/>
              <a:ext cx="0" cy="43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742840" y="4608360"/>
              <a:ext cx="74520" cy="79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5888880" y="4839120"/>
              <a:ext cx="829080" cy="1080720"/>
              <a:chOff x="5888880" y="4839120"/>
              <a:chExt cx="829080" cy="1080720"/>
            </a:xfrm>
          </p:grpSpPr>
          <p:sp>
            <p:nvSpPr>
              <p:cNvPr id="935" name=""/>
              <p:cNvSpPr/>
              <p:nvPr/>
            </p:nvSpPr>
            <p:spPr>
              <a:xfrm>
                <a:off x="6154920" y="5084640"/>
                <a:ext cx="269640" cy="601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V="1">
                <a:off x="6437160" y="4850280"/>
                <a:ext cx="268560" cy="22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424920" y="5673960"/>
                <a:ext cx="292680" cy="24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6717960" y="4839120"/>
                <a:ext cx="0" cy="10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>
                <a:off x="5959800" y="5170680"/>
                <a:ext cx="18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5959800" y="5564160"/>
                <a:ext cx="195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88880" y="5115600"/>
                <a:ext cx="74880" cy="80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88880" y="5519520"/>
                <a:ext cx="74880" cy="80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"/>
            <p:cNvSpPr/>
            <p:nvPr/>
          </p:nvSpPr>
          <p:spPr>
            <a:xfrm>
              <a:off x="6804720" y="5133600"/>
              <a:ext cx="172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e=100 oh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98440" y="5281200"/>
              <a:ext cx="188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aux=1V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5" name=""/>
            <p:cNvGrpSpPr/>
            <p:nvPr/>
          </p:nvGrpSpPr>
          <p:grpSpPr>
            <a:xfrm>
              <a:off x="5733360" y="5579280"/>
              <a:ext cx="353160" cy="542880"/>
              <a:chOff x="5733360" y="5579280"/>
              <a:chExt cx="353160" cy="542880"/>
            </a:xfrm>
          </p:grpSpPr>
          <p:sp>
            <p:nvSpPr>
              <p:cNvPr id="946" name=""/>
              <p:cNvSpPr/>
              <p:nvPr/>
            </p:nvSpPr>
            <p:spPr>
              <a:xfrm>
                <a:off x="5915880" y="5579280"/>
                <a:ext cx="0" cy="42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733360" y="6008760"/>
                <a:ext cx="35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0560" y="6070320"/>
                <a:ext cx="17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V="1">
                <a:off x="5898600" y="6121080"/>
                <a:ext cx="4500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2819160" y="4656240"/>
              <a:ext cx="85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37120" y="4732200"/>
              <a:ext cx="0" cy="38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674880" y="4659120"/>
              <a:ext cx="0" cy="41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366960" y="4178160"/>
              <a:ext cx="15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e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p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6320" y="1890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4600" y="1046160"/>
            <a:ext cx="8786880" cy="37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rcuito integrado de bajo c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ltitud de 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ínimo número de componentes discretos necesa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istenc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densador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licaciones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álculo ana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vertidores V-I e I-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plificadores Instr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ltros A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982800" y="4087800"/>
            <a:ext cx="1604880" cy="1766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Amplific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Oper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4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195640" y="37800"/>
            <a:ext cx="4946400" cy="91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f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-27000" y="3462480"/>
          <a:ext cx="503568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7000" y="3462480"/>
                    <a:ext cx="503568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4359240" y="2825640"/>
                <a:ext cx="42847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8" name=""/>
          <p:cNvSpPr/>
          <p:nvPr/>
        </p:nvSpPr>
        <p:spPr>
          <a:xfrm>
            <a:off x="6249960" y="749160"/>
            <a:ext cx="1751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5934240" y="1359000"/>
                <a:ext cx="24159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⋅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⋅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60" name=""/>
          <p:cNvGrpSpPr/>
          <p:nvPr/>
        </p:nvGrpSpPr>
        <p:grpSpPr>
          <a:xfrm>
            <a:off x="354960" y="750960"/>
            <a:ext cx="3859200" cy="2706120"/>
            <a:chOff x="354960" y="750960"/>
            <a:chExt cx="3859200" cy="2706120"/>
          </a:xfrm>
        </p:grpSpPr>
        <p:sp>
          <p:nvSpPr>
            <p:cNvPr id="961" name=""/>
            <p:cNvSpPr/>
            <p:nvPr/>
          </p:nvSpPr>
          <p:spPr>
            <a:xfrm rot="5400000">
              <a:off x="2176920" y="1419840"/>
              <a:ext cx="1156320" cy="13474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1744200" y="1783800"/>
              <a:ext cx="33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1710000" y="2417760"/>
              <a:ext cx="383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3400920" y="2090880"/>
              <a:ext cx="34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75400" y="1564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075760" y="2215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1614240" y="2981880"/>
              <a:ext cx="258120" cy="475200"/>
              <a:chOff x="1614240" y="2981880"/>
              <a:chExt cx="258120" cy="475200"/>
            </a:xfrm>
          </p:grpSpPr>
          <p:sp>
            <p:nvSpPr>
              <p:cNvPr id="968" name=""/>
              <p:cNvSpPr/>
              <p:nvPr/>
            </p:nvSpPr>
            <p:spPr>
              <a:xfrm>
                <a:off x="1737360" y="2981880"/>
                <a:ext cx="0" cy="36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614240" y="3347640"/>
                <a:ext cx="25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672560" y="3407040"/>
                <a:ext cx="133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710360" y="3457080"/>
                <a:ext cx="60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44000" y="1622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2588040" y="1215000"/>
              <a:ext cx="840960" cy="157320"/>
              <a:chOff x="2588040" y="1215000"/>
              <a:chExt cx="840960" cy="157320"/>
            </a:xfrm>
          </p:grpSpPr>
          <p:sp>
            <p:nvSpPr>
              <p:cNvPr id="974" name=""/>
              <p:cNvSpPr/>
              <p:nvPr/>
            </p:nvSpPr>
            <p:spPr>
              <a:xfrm>
                <a:off x="2588040" y="1292760"/>
                <a:ext cx="16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2750400" y="1220400"/>
                <a:ext cx="460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796480" y="1220760"/>
                <a:ext cx="6516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2861640" y="121500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939040" y="1215000"/>
                <a:ext cx="8028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3019320" y="1215000"/>
                <a:ext cx="7740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096720" y="1215720"/>
                <a:ext cx="89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186360" y="1215360"/>
                <a:ext cx="6912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255840" y="1215000"/>
                <a:ext cx="554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311640" y="129276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722880" y="1209240"/>
              <a:ext cx="839520" cy="158400"/>
              <a:chOff x="722880" y="1209240"/>
              <a:chExt cx="839520" cy="158400"/>
            </a:xfrm>
          </p:grpSpPr>
          <p:sp>
            <p:nvSpPr>
              <p:cNvPr id="985" name=""/>
              <p:cNvSpPr/>
              <p:nvPr/>
            </p:nvSpPr>
            <p:spPr>
              <a:xfrm>
                <a:off x="722880" y="1287720"/>
                <a:ext cx="16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884880" y="1214640"/>
                <a:ext cx="4608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930960" y="1214640"/>
                <a:ext cx="6480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996120" y="1209240"/>
                <a:ext cx="76680" cy="15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73160" y="1209600"/>
                <a:ext cx="79920" cy="15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V="1">
                <a:off x="1153440" y="1209240"/>
                <a:ext cx="77040" cy="15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230840" y="1209600"/>
                <a:ext cx="89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V="1">
                <a:off x="1320480" y="1209600"/>
                <a:ext cx="6912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389600" y="1209960"/>
                <a:ext cx="55440" cy="7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45400" y="1287720"/>
                <a:ext cx="11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1544760" y="1290240"/>
              <a:ext cx="104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1744200" y="1288800"/>
              <a:ext cx="0" cy="49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594600" y="1288800"/>
              <a:ext cx="0" cy="80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3429720" y="1288800"/>
              <a:ext cx="16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54960" y="20156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729600" y="2049120"/>
              <a:ext cx="72000" cy="83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85760" y="750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955080" y="750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722880" y="2338200"/>
              <a:ext cx="839520" cy="158760"/>
              <a:chOff x="722880" y="2338200"/>
              <a:chExt cx="839520" cy="158760"/>
            </a:xfrm>
          </p:grpSpPr>
          <p:sp>
            <p:nvSpPr>
              <p:cNvPr id="1004" name=""/>
              <p:cNvSpPr/>
              <p:nvPr/>
            </p:nvSpPr>
            <p:spPr>
              <a:xfrm>
                <a:off x="722880" y="2416680"/>
                <a:ext cx="16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884880" y="2343600"/>
                <a:ext cx="4608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30960" y="2343960"/>
                <a:ext cx="64800" cy="15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996120" y="2338200"/>
                <a:ext cx="76680" cy="15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073160" y="2338200"/>
                <a:ext cx="79920" cy="15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1153440" y="2338200"/>
                <a:ext cx="77040" cy="15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230840" y="2338920"/>
                <a:ext cx="89280" cy="15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V="1">
                <a:off x="1320480" y="2338560"/>
                <a:ext cx="69120" cy="15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389600" y="2338200"/>
                <a:ext cx="55440" cy="78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445400" y="2416680"/>
                <a:ext cx="11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1614240" y="2981880"/>
              <a:ext cx="25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14240" y="2981880"/>
              <a:ext cx="25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14240" y="2920680"/>
              <a:ext cx="25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1737360" y="2415600"/>
              <a:ext cx="0" cy="50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1563120" y="2415960"/>
              <a:ext cx="17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722880" y="1294200"/>
              <a:ext cx="0" cy="11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37040" y="2372760"/>
              <a:ext cx="72000" cy="84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509040" y="2415960"/>
              <a:ext cx="21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981000" y="189072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941840" y="2720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5010120" y="4595760"/>
                <a:ext cx="394956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rctg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rctg</m:t>
                            </m:r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5" name=""/>
          <p:cNvSpPr/>
          <p:nvPr/>
        </p:nvSpPr>
        <p:spPr>
          <a:xfrm>
            <a:off x="5934240" y="2298600"/>
            <a:ext cx="261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Ganancia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448320" y="39816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Des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8008920" y="5398920"/>
            <a:ext cx="959040" cy="519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76360" y="6099120"/>
            <a:ext cx="52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Par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cte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es función de R y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580760" y="-101880"/>
            <a:ext cx="6095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ador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85920" y="1009800"/>
            <a:ext cx="337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ador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187560" y="1679400"/>
            <a:ext cx="4683600" cy="2594520"/>
            <a:chOff x="187560" y="1679400"/>
            <a:chExt cx="4683600" cy="2594520"/>
          </a:xfrm>
        </p:grpSpPr>
        <p:sp>
          <p:nvSpPr>
            <p:cNvPr id="1033" name=""/>
            <p:cNvSpPr/>
            <p:nvPr/>
          </p:nvSpPr>
          <p:spPr>
            <a:xfrm rot="5400000">
              <a:off x="2643120" y="245988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2172600" y="285912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2183040" y="3583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4025880" y="32097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544480" y="2608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544120" y="3354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9" name=""/>
            <p:cNvGrpSpPr/>
            <p:nvPr/>
          </p:nvGrpSpPr>
          <p:grpSpPr>
            <a:xfrm>
              <a:off x="2042280" y="3583080"/>
              <a:ext cx="286920" cy="542880"/>
              <a:chOff x="2042280" y="3583080"/>
              <a:chExt cx="286920" cy="542880"/>
            </a:xfrm>
          </p:grpSpPr>
          <p:sp>
            <p:nvSpPr>
              <p:cNvPr id="1040" name=""/>
              <p:cNvSpPr/>
              <p:nvPr/>
            </p:nvSpPr>
            <p:spPr>
              <a:xfrm>
                <a:off x="2179080" y="358308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042280" y="400104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107080" y="406872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149200" y="412596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"/>
            <p:cNvSpPr/>
            <p:nvPr/>
          </p:nvSpPr>
          <p:spPr>
            <a:xfrm>
              <a:off x="4401000" y="2701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3116160" y="2209320"/>
              <a:ext cx="940320" cy="180000"/>
              <a:chOff x="3116160" y="2209320"/>
              <a:chExt cx="940320" cy="180000"/>
            </a:xfrm>
          </p:grpSpPr>
          <p:sp>
            <p:nvSpPr>
              <p:cNvPr id="1046" name=""/>
              <p:cNvSpPr/>
              <p:nvPr/>
            </p:nvSpPr>
            <p:spPr>
              <a:xfrm>
                <a:off x="3116160" y="229860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>
                <a:off x="3297600" y="22158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349440" y="2215440"/>
                <a:ext cx="7272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3422160" y="2209320"/>
                <a:ext cx="8604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508560" y="2209680"/>
                <a:ext cx="8964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V="1">
                <a:off x="3598200" y="2209320"/>
                <a:ext cx="8640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84960" y="2209680"/>
                <a:ext cx="10008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V="1">
                <a:off x="3785400" y="2209680"/>
                <a:ext cx="7740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862800" y="2210040"/>
                <a:ext cx="6228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925440" y="22986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483480" y="2205000"/>
              <a:ext cx="938880" cy="179640"/>
              <a:chOff x="483480" y="2205000"/>
              <a:chExt cx="938880" cy="179640"/>
            </a:xfrm>
          </p:grpSpPr>
          <p:sp>
            <p:nvSpPr>
              <p:cNvPr id="1057" name=""/>
              <p:cNvSpPr/>
              <p:nvPr/>
            </p:nvSpPr>
            <p:spPr>
              <a:xfrm>
                <a:off x="483480" y="229392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664560" y="221112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16400" y="221148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789120" y="220500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75160" y="220500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V="1">
                <a:off x="964800" y="220500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051200" y="220572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1151640" y="220536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229040" y="220536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291320" y="229392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7" name=""/>
            <p:cNvSpPr/>
            <p:nvPr/>
          </p:nvSpPr>
          <p:spPr>
            <a:xfrm>
              <a:off x="1422720" y="2295360"/>
              <a:ext cx="169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2172960" y="229392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41520" y="229392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4057200" y="229392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35440" y="18144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392360" y="316224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01400" y="224640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448440" y="167940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08920" y="1789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491480" y="2295360"/>
              <a:ext cx="0" cy="188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455400" y="4094280"/>
              <a:ext cx="938880" cy="179640"/>
              <a:chOff x="455400" y="4094280"/>
              <a:chExt cx="938880" cy="179640"/>
            </a:xfrm>
          </p:grpSpPr>
          <p:sp>
            <p:nvSpPr>
              <p:cNvPr id="1078" name=""/>
              <p:cNvSpPr/>
              <p:nvPr/>
            </p:nvSpPr>
            <p:spPr>
              <a:xfrm>
                <a:off x="455400" y="41832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636480" y="41004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88320" y="41007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V="1">
                <a:off x="761040" y="40942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847080" y="40942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V="1">
                <a:off x="936720" y="40942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023120" y="40950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V="1">
                <a:off x="1123560" y="40946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200960" y="40946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263240" y="41832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"/>
            <p:cNvSpPr/>
            <p:nvPr/>
          </p:nvSpPr>
          <p:spPr>
            <a:xfrm>
              <a:off x="373320" y="413532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34400" y="3645000"/>
              <a:ext cx="47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"/>
            <p:cNvGrpSpPr/>
            <p:nvPr/>
          </p:nvGrpSpPr>
          <p:grpSpPr>
            <a:xfrm>
              <a:off x="455400" y="3063960"/>
              <a:ext cx="938880" cy="179640"/>
              <a:chOff x="455400" y="3063960"/>
              <a:chExt cx="938880" cy="179640"/>
            </a:xfrm>
          </p:grpSpPr>
          <p:sp>
            <p:nvSpPr>
              <p:cNvPr id="1091" name=""/>
              <p:cNvSpPr/>
              <p:nvPr/>
            </p:nvSpPr>
            <p:spPr>
              <a:xfrm>
                <a:off x="455400" y="315288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636480" y="307008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88320" y="307044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761040" y="306396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847080" y="306396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936720" y="306396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023120" y="306468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1123560" y="306432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200960" y="306432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263240" y="315288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1" name=""/>
            <p:cNvSpPr/>
            <p:nvPr/>
          </p:nvSpPr>
          <p:spPr>
            <a:xfrm>
              <a:off x="373320" y="310500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49880" y="2608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394640" y="3154320"/>
              <a:ext cx="9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394640" y="4184640"/>
              <a:ext cx="9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55400" y="3568680"/>
              <a:ext cx="1035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7560" y="3643200"/>
              <a:ext cx="47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7400" y="26082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91480" y="2136600"/>
              <a:ext cx="615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459080" y="1679400"/>
              <a:ext cx="55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106720" y="2859120"/>
              <a:ext cx="0" cy="70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594440" y="29257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63920" y="2151000"/>
              <a:ext cx="615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531880" y="1693800"/>
              <a:ext cx="55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5649840" y="773280"/>
            <a:ext cx="2343240" cy="1377720"/>
            <a:chOff x="5649840" y="773280"/>
            <a:chExt cx="2343240" cy="1377720"/>
          </a:xfrm>
        </p:grpSpPr>
        <mc:AlternateContent>
          <mc:Choice xmlns:a14="http://schemas.microsoft.com/office/drawing/2010/main" Requires="a14">
            <p:sp>
              <p:nvSpPr>
                <p:cNvPr id="1115" name=""/>
                <p:cNvSpPr txBox="1"/>
                <p:nvPr/>
              </p:nvSpPr>
              <p:spPr>
                <a:xfrm>
                  <a:off x="5649840" y="1355760"/>
                  <a:ext cx="234324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r>
                        <m:t xml:space="preserve">⋅</m:t>
                      </m:r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16" name=""/>
            <p:cNvSpPr/>
            <p:nvPr/>
          </p:nvSpPr>
          <p:spPr>
            <a:xfrm>
              <a:off x="5749200" y="773280"/>
              <a:ext cx="169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l ser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5362560" y="2427120"/>
            <a:ext cx="3494160" cy="1401840"/>
            <a:chOff x="5362560" y="2427120"/>
            <a:chExt cx="3494160" cy="1401840"/>
          </a:xfrm>
        </p:grpSpPr>
        <p:sp>
          <p:nvSpPr>
            <p:cNvPr id="1119" name=""/>
            <p:cNvSpPr/>
            <p:nvPr/>
          </p:nvSpPr>
          <p:spPr>
            <a:xfrm>
              <a:off x="5734800" y="2427120"/>
              <a:ext cx="210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omo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-R´·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0" name=""/>
                <p:cNvSpPr txBox="1"/>
                <p:nvPr/>
              </p:nvSpPr>
              <p:spPr>
                <a:xfrm>
                  <a:off x="5362560" y="3071880"/>
                  <a:ext cx="349416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1" name=""/>
          <p:cNvSpPr/>
          <p:nvPr/>
        </p:nvSpPr>
        <p:spPr>
          <a:xfrm>
            <a:off x="343800" y="5078520"/>
            <a:ext cx="247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i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…=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3298680" y="3873600"/>
            <a:ext cx="5595840" cy="2001600"/>
            <a:chOff x="3298680" y="3873600"/>
            <a:chExt cx="5595840" cy="2001600"/>
          </a:xfrm>
        </p:grpSpPr>
        <p:sp>
          <p:nvSpPr>
            <p:cNvPr id="1124" name=""/>
            <p:cNvSpPr/>
            <p:nvPr/>
          </p:nvSpPr>
          <p:spPr>
            <a:xfrm>
              <a:off x="4387320" y="3873600"/>
              <a:ext cx="4507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 Unicode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 es la combinación lineal de las tensiones de entrad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5" name=""/>
                <p:cNvSpPr txBox="1"/>
                <p:nvPr/>
              </p:nvSpPr>
              <p:spPr>
                <a:xfrm>
                  <a:off x="5134680" y="5078520"/>
                  <a:ext cx="3152880" cy="79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R</m:t>
                          </m:r>
                          <m:r>
                            <m:t xml:space="preserve">´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26" name=""/>
            <p:cNvSpPr/>
            <p:nvPr/>
          </p:nvSpPr>
          <p:spPr>
            <a:xfrm>
              <a:off x="3298680" y="5245200"/>
              <a:ext cx="1550160" cy="352440"/>
            </a:xfrm>
            <a:prstGeom prst="rightArrow">
              <a:avLst>
                <a:gd name="adj1" fmla="val 50000"/>
                <a:gd name="adj2" fmla="val 109959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580760" y="0"/>
            <a:ext cx="60958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ador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27160" y="689040"/>
            <a:ext cx="337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ador no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4635000" y="809640"/>
            <a:ext cx="3827520" cy="1249200"/>
            <a:chOff x="4635000" y="809640"/>
            <a:chExt cx="3827520" cy="1249200"/>
          </a:xfrm>
        </p:grpSpPr>
        <p:sp>
          <p:nvSpPr>
            <p:cNvPr id="1134" name=""/>
            <p:cNvSpPr/>
            <p:nvPr/>
          </p:nvSpPr>
          <p:spPr>
            <a:xfrm>
              <a:off x="4635000" y="809640"/>
              <a:ext cx="3827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La tensión de salida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e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5" name=""/>
                <p:cNvSpPr txBox="1"/>
                <p:nvPr/>
              </p:nvSpPr>
              <p:spPr>
                <a:xfrm>
                  <a:off x="5363640" y="1254240"/>
                  <a:ext cx="189756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</m:e>
                      </m:d>
                      <m:r>
                        <m:t xml:space="preserve">⋅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36" name=""/>
          <p:cNvGrpSpPr/>
          <p:nvPr/>
        </p:nvGrpSpPr>
        <p:grpSpPr>
          <a:xfrm>
            <a:off x="243720" y="1922400"/>
            <a:ext cx="4007160" cy="3363480"/>
            <a:chOff x="243720" y="1922400"/>
            <a:chExt cx="4007160" cy="3363480"/>
          </a:xfrm>
        </p:grpSpPr>
        <p:sp>
          <p:nvSpPr>
            <p:cNvPr id="1137" name=""/>
            <p:cNvSpPr/>
            <p:nvPr/>
          </p:nvSpPr>
          <p:spPr>
            <a:xfrm rot="5400000">
              <a:off x="2304360" y="2583720"/>
              <a:ext cx="115380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1904760" y="2925000"/>
              <a:ext cx="32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1394280" y="3556800"/>
              <a:ext cx="84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504960" y="3231000"/>
              <a:ext cx="3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26600" y="27608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226960" y="34128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82680" y="2437200"/>
              <a:ext cx="248040" cy="475200"/>
              <a:chOff x="382680" y="2437200"/>
              <a:chExt cx="248040" cy="475200"/>
            </a:xfrm>
          </p:grpSpPr>
          <p:sp>
            <p:nvSpPr>
              <p:cNvPr id="1144" name=""/>
              <p:cNvSpPr/>
              <p:nvPr/>
            </p:nvSpPr>
            <p:spPr>
              <a:xfrm>
                <a:off x="500760" y="2437200"/>
                <a:ext cx="0" cy="36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82680" y="2802960"/>
                <a:ext cx="24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38840" y="2862360"/>
                <a:ext cx="12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75200" y="29124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>
              <a:off x="3827880" y="2841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2719080" y="2356200"/>
              <a:ext cx="812520" cy="156960"/>
              <a:chOff x="2719080" y="2356200"/>
              <a:chExt cx="812520" cy="156960"/>
            </a:xfrm>
          </p:grpSpPr>
          <p:sp>
            <p:nvSpPr>
              <p:cNvPr id="1150" name=""/>
              <p:cNvSpPr/>
              <p:nvPr/>
            </p:nvSpPr>
            <p:spPr>
              <a:xfrm>
                <a:off x="2719080" y="243396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V="1">
                <a:off x="2875680" y="2361600"/>
                <a:ext cx="4464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920680" y="2361600"/>
                <a:ext cx="630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V="1">
                <a:off x="2983680" y="2356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058200" y="235656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135600" y="2356200"/>
                <a:ext cx="7488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210480" y="2356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V="1">
                <a:off x="3297240" y="2356560"/>
                <a:ext cx="6696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364560" y="2356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418200" y="243396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597600" y="3478320"/>
              <a:ext cx="808920" cy="156960"/>
              <a:chOff x="597600" y="3478320"/>
              <a:chExt cx="808920" cy="156960"/>
            </a:xfrm>
          </p:grpSpPr>
          <p:sp>
            <p:nvSpPr>
              <p:cNvPr id="1161" name=""/>
              <p:cNvSpPr/>
              <p:nvPr/>
            </p:nvSpPr>
            <p:spPr>
              <a:xfrm>
                <a:off x="597600" y="35560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753480" y="34837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98120" y="34837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V="1">
                <a:off x="860760" y="34783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935280" y="34786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V="1">
                <a:off x="1012320" y="34783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086840" y="3478680"/>
                <a:ext cx="860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V="1">
                <a:off x="1173240" y="34786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240200" y="3479040"/>
                <a:ext cx="5328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293840" y="35560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1" name=""/>
            <p:cNvSpPr/>
            <p:nvPr/>
          </p:nvSpPr>
          <p:spPr>
            <a:xfrm>
              <a:off x="1257840" y="2431440"/>
              <a:ext cx="14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1904760" y="2431440"/>
              <a:ext cx="0" cy="49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91440" y="2431440"/>
              <a:ext cx="0" cy="7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531960" y="2431440"/>
              <a:ext cx="15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52440" y="306900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821400" y="3190320"/>
              <a:ext cx="6984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5960" y="3514320"/>
              <a:ext cx="71640" cy="83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005280" y="19472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87040" y="303732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467720" y="3556800"/>
              <a:ext cx="0" cy="165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1" name=""/>
            <p:cNvGrpSpPr/>
            <p:nvPr/>
          </p:nvGrpSpPr>
          <p:grpSpPr>
            <a:xfrm>
              <a:off x="573480" y="5128920"/>
              <a:ext cx="809640" cy="156960"/>
              <a:chOff x="573480" y="5128920"/>
              <a:chExt cx="809640" cy="156960"/>
            </a:xfrm>
          </p:grpSpPr>
          <p:sp>
            <p:nvSpPr>
              <p:cNvPr id="1182" name=""/>
              <p:cNvSpPr/>
              <p:nvPr/>
            </p:nvSpPr>
            <p:spPr>
              <a:xfrm>
                <a:off x="573480" y="52066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V="1">
                <a:off x="729720" y="5134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74000" y="51343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V="1">
                <a:off x="837000" y="51289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911160" y="51292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V="1">
                <a:off x="988560" y="51289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063080" y="512928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V="1">
                <a:off x="1149480" y="51292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216080" y="512964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270080" y="520668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502200" y="5164920"/>
              <a:ext cx="7128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29080" y="4687920"/>
              <a:ext cx="502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573480" y="4228200"/>
              <a:ext cx="809640" cy="156960"/>
              <a:chOff x="573480" y="4228200"/>
              <a:chExt cx="809640" cy="156960"/>
            </a:xfrm>
          </p:grpSpPr>
          <p:sp>
            <p:nvSpPr>
              <p:cNvPr id="1195" name=""/>
              <p:cNvSpPr/>
              <p:nvPr/>
            </p:nvSpPr>
            <p:spPr>
              <a:xfrm>
                <a:off x="573480" y="43059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V="1">
                <a:off x="729720" y="423360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74000" y="423360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837000" y="422820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911160" y="422856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V="1">
                <a:off x="988560" y="4228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063080" y="4228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V="1">
                <a:off x="1149480" y="422856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216080" y="4228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270080" y="430596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5" name=""/>
            <p:cNvSpPr/>
            <p:nvPr/>
          </p:nvSpPr>
          <p:spPr>
            <a:xfrm>
              <a:off x="502200" y="4265640"/>
              <a:ext cx="7128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3040" y="381168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83480" y="430848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383480" y="520776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73480" y="4669920"/>
              <a:ext cx="893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43720" y="468792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28320" y="378144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849320" y="2925000"/>
              <a:ext cx="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405080" y="30373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4" name=""/>
            <p:cNvGrpSpPr/>
            <p:nvPr/>
          </p:nvGrpSpPr>
          <p:grpSpPr>
            <a:xfrm>
              <a:off x="492840" y="2358360"/>
              <a:ext cx="810720" cy="156960"/>
              <a:chOff x="492840" y="2358360"/>
              <a:chExt cx="810720" cy="156960"/>
            </a:xfrm>
          </p:grpSpPr>
          <p:sp>
            <p:nvSpPr>
              <p:cNvPr id="1215" name=""/>
              <p:cNvSpPr/>
              <p:nvPr/>
            </p:nvSpPr>
            <p:spPr>
              <a:xfrm>
                <a:off x="492840" y="24361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V="1">
                <a:off x="649080" y="236376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93720" y="236376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V="1">
                <a:off x="756720" y="235836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31240" y="235872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V="1">
                <a:off x="908640" y="235836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983160" y="235872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V="1">
                <a:off x="1069920" y="235872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136880" y="235908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190520" y="243612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5" name=""/>
            <p:cNvSpPr/>
            <p:nvPr/>
          </p:nvSpPr>
          <p:spPr>
            <a:xfrm>
              <a:off x="687240" y="192240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632960" y="35449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468320" y="2236680"/>
            <a:ext cx="4025520" cy="2024280"/>
            <a:chOff x="4468320" y="2236680"/>
            <a:chExt cx="4025520" cy="2024280"/>
          </a:xfrm>
        </p:grpSpPr>
        <mc:AlternateContent>
          <mc:Choice xmlns:a14="http://schemas.microsoft.com/office/drawing/2010/main" Requires="a14">
            <p:sp>
              <p:nvSpPr>
                <p:cNvPr id="1230" name=""/>
                <p:cNvSpPr txBox="1"/>
                <p:nvPr/>
              </p:nvSpPr>
              <p:spPr>
                <a:xfrm>
                  <a:off x="5128920" y="2741760"/>
                  <a:ext cx="2542680" cy="15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num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</m:num>
                        <m:den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31" name=""/>
            <p:cNvSpPr/>
            <p:nvPr/>
          </p:nvSpPr>
          <p:spPr>
            <a:xfrm>
              <a:off x="4468320" y="2236680"/>
              <a:ext cx="402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plicando Millman,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será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341280" y="5427720"/>
            <a:ext cx="306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i R´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R´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…=R´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3422520" y="4829040"/>
            <a:ext cx="4195440" cy="865440"/>
            <a:chOff x="3422520" y="4829040"/>
            <a:chExt cx="4195440" cy="865440"/>
          </a:xfrm>
        </p:grpSpPr>
        <p:sp>
          <p:nvSpPr>
            <p:cNvPr id="1234" name=""/>
            <p:cNvSpPr/>
            <p:nvPr/>
          </p:nvSpPr>
          <p:spPr>
            <a:xfrm>
              <a:off x="3422520" y="4952880"/>
              <a:ext cx="1324800" cy="571680"/>
            </a:xfrm>
            <a:prstGeom prst="rightArrow">
              <a:avLst>
                <a:gd name="adj1" fmla="val 50000"/>
                <a:gd name="adj2" fmla="val 57935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5" name=""/>
                <p:cNvSpPr txBox="1"/>
                <p:nvPr/>
              </p:nvSpPr>
              <p:spPr>
                <a:xfrm>
                  <a:off x="3503160" y="4829040"/>
                  <a:ext cx="4114800" cy="86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´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´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´</m:t>
                              </m:r>
                            </m:sup>
                          </m:sSub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615680" y="0"/>
            <a:ext cx="609588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ador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27160" y="790560"/>
            <a:ext cx="3371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ador no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243720" y="1922400"/>
            <a:ext cx="4007160" cy="3363480"/>
            <a:chOff x="243720" y="1922400"/>
            <a:chExt cx="4007160" cy="3363480"/>
          </a:xfrm>
        </p:grpSpPr>
        <p:sp>
          <p:nvSpPr>
            <p:cNvPr id="1239" name=""/>
            <p:cNvSpPr/>
            <p:nvPr/>
          </p:nvSpPr>
          <p:spPr>
            <a:xfrm rot="5400000">
              <a:off x="2304360" y="2583720"/>
              <a:ext cx="115380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1904760" y="2925000"/>
              <a:ext cx="32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1394280" y="3556800"/>
              <a:ext cx="84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3504960" y="3231000"/>
              <a:ext cx="3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226600" y="27608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226960" y="34128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"/>
            <p:cNvGrpSpPr/>
            <p:nvPr/>
          </p:nvGrpSpPr>
          <p:grpSpPr>
            <a:xfrm>
              <a:off x="382680" y="2437200"/>
              <a:ext cx="248040" cy="475200"/>
              <a:chOff x="382680" y="2437200"/>
              <a:chExt cx="248040" cy="475200"/>
            </a:xfrm>
          </p:grpSpPr>
          <p:sp>
            <p:nvSpPr>
              <p:cNvPr id="1246" name=""/>
              <p:cNvSpPr/>
              <p:nvPr/>
            </p:nvSpPr>
            <p:spPr>
              <a:xfrm>
                <a:off x="500760" y="2437200"/>
                <a:ext cx="0" cy="36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82680" y="2802960"/>
                <a:ext cx="24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38840" y="2862360"/>
                <a:ext cx="12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75200" y="29124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3827880" y="2841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2719080" y="2356200"/>
              <a:ext cx="812520" cy="156960"/>
              <a:chOff x="2719080" y="2356200"/>
              <a:chExt cx="812520" cy="156960"/>
            </a:xfrm>
          </p:grpSpPr>
          <p:sp>
            <p:nvSpPr>
              <p:cNvPr id="1252" name=""/>
              <p:cNvSpPr/>
              <p:nvPr/>
            </p:nvSpPr>
            <p:spPr>
              <a:xfrm>
                <a:off x="2719080" y="243396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V="1">
                <a:off x="2875680" y="2361600"/>
                <a:ext cx="4464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2920680" y="2361600"/>
                <a:ext cx="630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V="1">
                <a:off x="2983680" y="2356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058200" y="235656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V="1">
                <a:off x="3135600" y="2356200"/>
                <a:ext cx="7488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210480" y="2356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V="1">
                <a:off x="3297240" y="2356560"/>
                <a:ext cx="6696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364560" y="2356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418200" y="243396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597600" y="3478320"/>
              <a:ext cx="808920" cy="156960"/>
              <a:chOff x="597600" y="3478320"/>
              <a:chExt cx="808920" cy="156960"/>
            </a:xfrm>
          </p:grpSpPr>
          <p:sp>
            <p:nvSpPr>
              <p:cNvPr id="1263" name=""/>
              <p:cNvSpPr/>
              <p:nvPr/>
            </p:nvSpPr>
            <p:spPr>
              <a:xfrm>
                <a:off x="597600" y="35560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753480" y="34837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98120" y="34837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860760" y="34783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935280" y="34786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>
                <a:off x="1012320" y="34783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086840" y="3478680"/>
                <a:ext cx="860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V="1">
                <a:off x="1173240" y="34786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240200" y="3479040"/>
                <a:ext cx="5328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1293840" y="35560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"/>
            <p:cNvSpPr/>
            <p:nvPr/>
          </p:nvSpPr>
          <p:spPr>
            <a:xfrm>
              <a:off x="1257840" y="2431440"/>
              <a:ext cx="14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1904760" y="2431440"/>
              <a:ext cx="0" cy="49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691440" y="2431440"/>
              <a:ext cx="0" cy="7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3531960" y="2431440"/>
              <a:ext cx="15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52440" y="306900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21400" y="3190320"/>
              <a:ext cx="6984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25960" y="3514320"/>
              <a:ext cx="71640" cy="83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005280" y="19472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87040" y="303732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467720" y="3556800"/>
              <a:ext cx="0" cy="165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3" name=""/>
            <p:cNvGrpSpPr/>
            <p:nvPr/>
          </p:nvGrpSpPr>
          <p:grpSpPr>
            <a:xfrm>
              <a:off x="573480" y="5128920"/>
              <a:ext cx="809640" cy="156960"/>
              <a:chOff x="573480" y="5128920"/>
              <a:chExt cx="809640" cy="156960"/>
            </a:xfrm>
          </p:grpSpPr>
          <p:sp>
            <p:nvSpPr>
              <p:cNvPr id="1284" name=""/>
              <p:cNvSpPr/>
              <p:nvPr/>
            </p:nvSpPr>
            <p:spPr>
              <a:xfrm>
                <a:off x="573480" y="52066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729720" y="5134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74000" y="51343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837000" y="51289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911160" y="51292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V="1">
                <a:off x="988560" y="51289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063080" y="512928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V="1">
                <a:off x="1149480" y="51292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216080" y="512964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270080" y="520668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"/>
            <p:cNvSpPr/>
            <p:nvPr/>
          </p:nvSpPr>
          <p:spPr>
            <a:xfrm>
              <a:off x="502200" y="5164920"/>
              <a:ext cx="7128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29080" y="4687920"/>
              <a:ext cx="502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6" name=""/>
            <p:cNvGrpSpPr/>
            <p:nvPr/>
          </p:nvGrpSpPr>
          <p:grpSpPr>
            <a:xfrm>
              <a:off x="573480" y="4228200"/>
              <a:ext cx="809640" cy="156960"/>
              <a:chOff x="573480" y="4228200"/>
              <a:chExt cx="809640" cy="156960"/>
            </a:xfrm>
          </p:grpSpPr>
          <p:sp>
            <p:nvSpPr>
              <p:cNvPr id="1297" name=""/>
              <p:cNvSpPr/>
              <p:nvPr/>
            </p:nvSpPr>
            <p:spPr>
              <a:xfrm>
                <a:off x="573480" y="43059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V="1">
                <a:off x="729720" y="423360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74000" y="423360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V="1">
                <a:off x="837000" y="422820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911160" y="422856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V="1">
                <a:off x="988560" y="4228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063080" y="4228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1149480" y="422856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216080" y="4228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270080" y="430596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502200" y="4265640"/>
              <a:ext cx="7128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33040" y="381168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383480" y="430848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383480" y="520776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3480" y="4669920"/>
              <a:ext cx="893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43720" y="468792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28320" y="378144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849320" y="2925000"/>
              <a:ext cx="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405080" y="30373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6" name=""/>
            <p:cNvGrpSpPr/>
            <p:nvPr/>
          </p:nvGrpSpPr>
          <p:grpSpPr>
            <a:xfrm>
              <a:off x="492840" y="2358360"/>
              <a:ext cx="810720" cy="156960"/>
              <a:chOff x="492840" y="2358360"/>
              <a:chExt cx="810720" cy="156960"/>
            </a:xfrm>
          </p:grpSpPr>
          <p:sp>
            <p:nvSpPr>
              <p:cNvPr id="1317" name=""/>
              <p:cNvSpPr/>
              <p:nvPr/>
            </p:nvSpPr>
            <p:spPr>
              <a:xfrm>
                <a:off x="492840" y="24361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V="1">
                <a:off x="649080" y="236376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93720" y="236376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V="1">
                <a:off x="756720" y="235836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831240" y="235872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V="1">
                <a:off x="908640" y="235836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983160" y="235872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1069920" y="235872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136880" y="235908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190520" y="243612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7" name=""/>
            <p:cNvSpPr/>
            <p:nvPr/>
          </p:nvSpPr>
          <p:spPr>
            <a:xfrm>
              <a:off x="687240" y="192240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632960" y="35449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29" name=""/>
              <p:cNvSpPr txBox="1"/>
              <p:nvPr/>
            </p:nvSpPr>
            <p:spPr>
              <a:xfrm>
                <a:off x="3919680" y="1830240"/>
                <a:ext cx="453852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  <m:sSub>
                          <m:e>
                            <m:r>
                              <m:t xml:space="preserve">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´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´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0" name=""/>
          <p:cNvSpPr/>
          <p:nvPr/>
        </p:nvSpPr>
        <p:spPr>
          <a:xfrm>
            <a:off x="3732480" y="866880"/>
            <a:ext cx="4908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 tensió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n función de to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s tensiones de entrada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3186000" y="3174840"/>
            <a:ext cx="5414400" cy="1382760"/>
            <a:chOff x="3186000" y="3174840"/>
            <a:chExt cx="5414400" cy="1382760"/>
          </a:xfrm>
        </p:grpSpPr>
        <p:sp>
          <p:nvSpPr>
            <p:cNvPr id="1332" name=""/>
            <p:cNvSpPr/>
            <p:nvPr/>
          </p:nvSpPr>
          <p:spPr>
            <a:xfrm>
              <a:off x="4602240" y="3174840"/>
              <a:ext cx="399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Y la tensión de salida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e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3" name=""/>
                <p:cNvSpPr txBox="1"/>
                <p:nvPr/>
              </p:nvSpPr>
              <p:spPr>
                <a:xfrm>
                  <a:off x="3186000" y="3716280"/>
                  <a:ext cx="50202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o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´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´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´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34" name=""/>
          <p:cNvSpPr/>
          <p:nvPr/>
        </p:nvSpPr>
        <p:spPr>
          <a:xfrm>
            <a:off x="4229280" y="4819680"/>
            <a:ext cx="4506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es la combinación lineal de las tensiones de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4983120" y="1422360"/>
                <a:ext cx="37116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747720" y="-98640"/>
            <a:ext cx="779472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 diferencial: Rest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780800" y="83664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licando superposi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5226120" y="3384720"/>
                <a:ext cx="22208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0" name=""/>
          <p:cNvSpPr/>
          <p:nvPr/>
        </p:nvSpPr>
        <p:spPr>
          <a:xfrm>
            <a:off x="1650960" y="4886280"/>
            <a:ext cx="66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 tensión de salida  es propor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a diferencia de las tens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 rot="5400000">
            <a:off x="2531160" y="1713600"/>
            <a:ext cx="1154160" cy="13017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2130120" y="2055960"/>
            <a:ext cx="32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 flipH="1">
            <a:off x="1620360" y="2687760"/>
            <a:ext cx="84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3730320" y="2360520"/>
            <a:ext cx="32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2452320" y="18874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451960" y="25401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"/>
          <p:cNvGrpSpPr/>
          <p:nvPr/>
        </p:nvGrpSpPr>
        <p:grpSpPr>
          <a:xfrm>
            <a:off x="1946160" y="3562200"/>
            <a:ext cx="249480" cy="476280"/>
            <a:chOff x="1946160" y="3562200"/>
            <a:chExt cx="249480" cy="476280"/>
          </a:xfrm>
        </p:grpSpPr>
        <p:sp>
          <p:nvSpPr>
            <p:cNvPr id="1348" name=""/>
            <p:cNvSpPr/>
            <p:nvPr/>
          </p:nvSpPr>
          <p:spPr>
            <a:xfrm>
              <a:off x="2064960" y="3562200"/>
              <a:ext cx="0" cy="36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946160" y="392868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02680" y="3988440"/>
              <a:ext cx="12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039040" y="4038480"/>
              <a:ext cx="5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4050360" y="196704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2944800" y="1487520"/>
            <a:ext cx="813960" cy="155520"/>
            <a:chOff x="2944800" y="1487520"/>
            <a:chExt cx="813960" cy="155520"/>
          </a:xfrm>
        </p:grpSpPr>
        <p:sp>
          <p:nvSpPr>
            <p:cNvPr id="1354" name=""/>
            <p:cNvSpPr/>
            <p:nvPr/>
          </p:nvSpPr>
          <p:spPr>
            <a:xfrm>
              <a:off x="2944800" y="1564560"/>
              <a:ext cx="15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3101760" y="1492920"/>
              <a:ext cx="4464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146760" y="1492560"/>
              <a:ext cx="6300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3209760" y="1487520"/>
              <a:ext cx="7452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284280" y="1487520"/>
              <a:ext cx="7740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3362040" y="1487520"/>
              <a:ext cx="7488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437280" y="1487520"/>
              <a:ext cx="8676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3524040" y="1487520"/>
              <a:ext cx="6696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591360" y="1487520"/>
              <a:ext cx="5364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645360" y="1564560"/>
              <a:ext cx="11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"/>
          <p:cNvGrpSpPr/>
          <p:nvPr/>
        </p:nvGrpSpPr>
        <p:grpSpPr>
          <a:xfrm>
            <a:off x="824040" y="2607840"/>
            <a:ext cx="807480" cy="157680"/>
            <a:chOff x="824040" y="2607840"/>
            <a:chExt cx="807480" cy="157680"/>
          </a:xfrm>
        </p:grpSpPr>
        <p:sp>
          <p:nvSpPr>
            <p:cNvPr id="1365" name=""/>
            <p:cNvSpPr/>
            <p:nvPr/>
          </p:nvSpPr>
          <p:spPr>
            <a:xfrm>
              <a:off x="824040" y="2685960"/>
              <a:ext cx="15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979920" y="2613240"/>
              <a:ext cx="44280" cy="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024200" y="2613240"/>
              <a:ext cx="6228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1086840" y="2607840"/>
              <a:ext cx="7380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161000" y="2608200"/>
              <a:ext cx="7704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1238040" y="2607840"/>
              <a:ext cx="7416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312560" y="2608200"/>
              <a:ext cx="8604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1398600" y="2608200"/>
              <a:ext cx="6660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465200" y="2608200"/>
              <a:ext cx="53280" cy="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518840" y="2685960"/>
              <a:ext cx="11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1482840" y="1562040"/>
            <a:ext cx="14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2130480" y="1562040"/>
            <a:ext cx="0" cy="49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916440" y="1562040"/>
            <a:ext cx="0" cy="79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3758760" y="1562040"/>
            <a:ext cx="15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40200" y="104760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4048200" y="2320920"/>
            <a:ext cx="69840" cy="81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752400" y="2644920"/>
            <a:ext cx="71640" cy="83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093680" y="216216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1985760" y="2688120"/>
            <a:ext cx="144720" cy="875880"/>
            <a:chOff x="1985760" y="2688120"/>
            <a:chExt cx="144720" cy="875880"/>
          </a:xfrm>
        </p:grpSpPr>
        <p:sp>
          <p:nvSpPr>
            <p:cNvPr id="1384" name=""/>
            <p:cNvSpPr/>
            <p:nvPr/>
          </p:nvSpPr>
          <p:spPr>
            <a:xfrm flipV="1">
              <a:off x="2057400" y="3395160"/>
              <a:ext cx="0" cy="16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 flipV="1">
              <a:off x="1990800" y="3347280"/>
              <a:ext cx="66600" cy="4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1990440" y="3279240"/>
              <a:ext cx="139680" cy="6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 flipV="1">
              <a:off x="1985760" y="3198600"/>
              <a:ext cx="144360" cy="8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>
              <a:off x="1986120" y="3115080"/>
              <a:ext cx="144360" cy="8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 flipV="1">
              <a:off x="1985760" y="3034440"/>
              <a:ext cx="144360" cy="8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1985760" y="2940840"/>
              <a:ext cx="139680" cy="9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 flipV="1">
              <a:off x="1985760" y="2868840"/>
              <a:ext cx="139680" cy="7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1986120" y="2810520"/>
              <a:ext cx="71280" cy="5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2057400" y="2688120"/>
              <a:ext cx="0" cy="12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340200" y="219852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717480" y="1488600"/>
            <a:ext cx="812520" cy="157680"/>
            <a:chOff x="717480" y="1488600"/>
            <a:chExt cx="812520" cy="157680"/>
          </a:xfrm>
        </p:grpSpPr>
        <p:sp>
          <p:nvSpPr>
            <p:cNvPr id="1396" name=""/>
            <p:cNvSpPr/>
            <p:nvPr/>
          </p:nvSpPr>
          <p:spPr>
            <a:xfrm>
              <a:off x="717480" y="1566720"/>
              <a:ext cx="15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874080" y="1494000"/>
              <a:ext cx="44640" cy="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919080" y="1494000"/>
              <a:ext cx="6300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982080" y="1488600"/>
              <a:ext cx="7452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056600" y="1488960"/>
              <a:ext cx="7740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1134000" y="1488600"/>
              <a:ext cx="7488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208880" y="1488960"/>
              <a:ext cx="8640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1295640" y="1488960"/>
              <a:ext cx="6696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362960" y="1488960"/>
              <a:ext cx="53640" cy="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416600" y="1566720"/>
              <a:ext cx="11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6" name=""/>
          <p:cNvSpPr/>
          <p:nvPr/>
        </p:nvSpPr>
        <p:spPr>
          <a:xfrm>
            <a:off x="679320" y="1519200"/>
            <a:ext cx="73080" cy="84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201760" y="307332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954000" y="104760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173400" y="104760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1791360" y="2179800"/>
            <a:ext cx="43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4154400" y="25401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 hacemos R1=R3 y R2=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631880" y="37800"/>
            <a:ext cx="60962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452160" y="3116160"/>
            <a:ext cx="4129920" cy="2986200"/>
            <a:chOff x="452160" y="3116160"/>
            <a:chExt cx="4129920" cy="2986200"/>
          </a:xfrm>
        </p:grpSpPr>
        <p:sp>
          <p:nvSpPr>
            <p:cNvPr id="1414" name=""/>
            <p:cNvSpPr/>
            <p:nvPr/>
          </p:nvSpPr>
          <p:spPr>
            <a:xfrm rot="5400000">
              <a:off x="2634480" y="3777480"/>
              <a:ext cx="1154160" cy="13014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2234880" y="411948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1724040" y="4751280"/>
              <a:ext cx="8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835080" y="442440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556720" y="395460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556720" y="46069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0" name=""/>
            <p:cNvGrpSpPr/>
            <p:nvPr/>
          </p:nvGrpSpPr>
          <p:grpSpPr>
            <a:xfrm>
              <a:off x="2049840" y="5626080"/>
              <a:ext cx="249120" cy="476280"/>
              <a:chOff x="2049840" y="5626080"/>
              <a:chExt cx="249120" cy="476280"/>
            </a:xfrm>
          </p:grpSpPr>
          <p:sp>
            <p:nvSpPr>
              <p:cNvPr id="1421" name=""/>
              <p:cNvSpPr/>
              <p:nvPr/>
            </p:nvSpPr>
            <p:spPr>
              <a:xfrm>
                <a:off x="2168640" y="562608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049840" y="599256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106000" y="605232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142720" y="610236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5" name=""/>
            <p:cNvSpPr/>
            <p:nvPr/>
          </p:nvSpPr>
          <p:spPr>
            <a:xfrm>
              <a:off x="4159080" y="40356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6" name=""/>
            <p:cNvGrpSpPr/>
            <p:nvPr/>
          </p:nvGrpSpPr>
          <p:grpSpPr>
            <a:xfrm>
              <a:off x="3049560" y="3551400"/>
              <a:ext cx="812880" cy="155520"/>
              <a:chOff x="3049560" y="3551400"/>
              <a:chExt cx="812880" cy="155520"/>
            </a:xfrm>
          </p:grpSpPr>
          <p:sp>
            <p:nvSpPr>
              <p:cNvPr id="1427" name=""/>
              <p:cNvSpPr/>
              <p:nvPr/>
            </p:nvSpPr>
            <p:spPr>
              <a:xfrm>
                <a:off x="3049560" y="3628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V="1">
                <a:off x="3206160" y="355680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251160" y="355644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V="1">
                <a:off x="3314160" y="355140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388680" y="355140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V="1">
                <a:off x="3466440" y="355140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541320" y="3551400"/>
                <a:ext cx="867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V="1">
                <a:off x="3628080" y="355140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695040" y="355140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749040" y="362844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927360" y="4672080"/>
              <a:ext cx="808920" cy="157320"/>
              <a:chOff x="927360" y="4672080"/>
              <a:chExt cx="808920" cy="157320"/>
            </a:xfrm>
          </p:grpSpPr>
          <p:sp>
            <p:nvSpPr>
              <p:cNvPr id="1438" name=""/>
              <p:cNvSpPr/>
              <p:nvPr/>
            </p:nvSpPr>
            <p:spPr>
              <a:xfrm>
                <a:off x="927360" y="474984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V="1">
                <a:off x="1083240" y="467748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127880" y="467784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V="1">
                <a:off x="1190520" y="467208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265040" y="467208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V="1">
                <a:off x="1342080" y="467208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416600" y="467280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V="1">
                <a:off x="1503000" y="467244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569960" y="467208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623600" y="474984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8" name=""/>
            <p:cNvSpPr/>
            <p:nvPr/>
          </p:nvSpPr>
          <p:spPr>
            <a:xfrm>
              <a:off x="1586880" y="3625920"/>
              <a:ext cx="146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2234880" y="362556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021200" y="362592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3862440" y="362592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52160" y="31161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151880" y="438480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55360" y="470844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211040" y="4230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6" name=""/>
            <p:cNvGrpSpPr/>
            <p:nvPr/>
          </p:nvGrpSpPr>
          <p:grpSpPr>
            <a:xfrm>
              <a:off x="2089080" y="4751280"/>
              <a:ext cx="145440" cy="876240"/>
              <a:chOff x="2089080" y="4751280"/>
              <a:chExt cx="145440" cy="876240"/>
            </a:xfrm>
          </p:grpSpPr>
          <p:sp>
            <p:nvSpPr>
              <p:cNvPr id="1457" name=""/>
              <p:cNvSpPr/>
              <p:nvPr/>
            </p:nvSpPr>
            <p:spPr>
              <a:xfrm flipV="1">
                <a:off x="2161080" y="545868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 flipV="1">
                <a:off x="2094120" y="541080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V="1">
                <a:off x="2093760" y="534276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 flipV="1">
                <a:off x="2089080" y="526212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V="1">
                <a:off x="2089440" y="517824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 flipV="1">
                <a:off x="2089080" y="509760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V="1">
                <a:off x="2089080" y="500436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 flipV="1">
                <a:off x="2089080" y="493200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V="1">
                <a:off x="2089800" y="487368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V="1">
                <a:off x="2161080" y="475128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7" name=""/>
            <p:cNvSpPr/>
            <p:nvPr/>
          </p:nvSpPr>
          <p:spPr>
            <a:xfrm>
              <a:off x="452160" y="426708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8" name=""/>
            <p:cNvGrpSpPr/>
            <p:nvPr/>
          </p:nvGrpSpPr>
          <p:grpSpPr>
            <a:xfrm>
              <a:off x="821880" y="3552480"/>
              <a:ext cx="811440" cy="157680"/>
              <a:chOff x="821880" y="3552480"/>
              <a:chExt cx="811440" cy="157680"/>
            </a:xfrm>
          </p:grpSpPr>
          <p:sp>
            <p:nvSpPr>
              <p:cNvPr id="1469" name=""/>
              <p:cNvSpPr/>
              <p:nvPr/>
            </p:nvSpPr>
            <p:spPr>
              <a:xfrm>
                <a:off x="821880" y="363060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V="1">
                <a:off x="978480" y="355788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023120" y="355788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1086120" y="355248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160280" y="355284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V="1">
                <a:off x="1238040" y="355248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312560" y="355284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V="1">
                <a:off x="1399320" y="355284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466280" y="355284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520280" y="363060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9" name=""/>
            <p:cNvSpPr/>
            <p:nvPr/>
          </p:nvSpPr>
          <p:spPr>
            <a:xfrm>
              <a:off x="783720" y="358308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317680" y="5141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070280" y="31161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290760" y="31161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905480" y="42480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4672080" y="4062240"/>
                <a:ext cx="42526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5" name=""/>
          <p:cNvSpPr/>
          <p:nvPr/>
        </p:nvSpPr>
        <p:spPr>
          <a:xfrm>
            <a:off x="4457160" y="3187800"/>
            <a:ext cx="46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Aplicando superposi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700200" y="1046160"/>
            <a:ext cx="261468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ens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Hum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800680" y="151920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quipos de med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29160" y="1519200"/>
            <a:ext cx="1752480" cy="946080"/>
          </a:xfrm>
          <a:prstGeom prst="rightArrow">
            <a:avLst>
              <a:gd name="adj1" fmla="val 50000"/>
              <a:gd name="adj2" fmla="val 4630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9" name=""/>
          <p:cNvGraphicFramePr/>
          <p:nvPr/>
        </p:nvGraphicFramePr>
        <p:xfrm>
          <a:off x="4151160" y="1386000"/>
          <a:ext cx="4824720" cy="43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1160" y="1386000"/>
                    <a:ext cx="482472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533240" y="0"/>
            <a:ext cx="609588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361800" y="5251320"/>
                <a:ext cx="36752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3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76160" y="812880"/>
            <a:ext cx="77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: [+12 a -12V] -&gt; [0V a 5V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5" name=""/>
          <p:cNvGrpSpPr/>
          <p:nvPr/>
        </p:nvGrpSpPr>
        <p:grpSpPr>
          <a:xfrm>
            <a:off x="102240" y="2016000"/>
            <a:ext cx="4119840" cy="2986200"/>
            <a:chOff x="102240" y="2016000"/>
            <a:chExt cx="4119840" cy="2986200"/>
          </a:xfrm>
        </p:grpSpPr>
        <p:sp>
          <p:nvSpPr>
            <p:cNvPr id="1496" name=""/>
            <p:cNvSpPr/>
            <p:nvPr/>
          </p:nvSpPr>
          <p:spPr>
            <a:xfrm rot="5400000">
              <a:off x="2278440" y="2677680"/>
              <a:ext cx="115416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>
              <a:off x="1878120" y="301932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>
              <a:off x="1368360" y="3651120"/>
              <a:ext cx="84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3477960" y="332424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199960" y="2854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200320" y="35067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2" name=""/>
            <p:cNvGrpSpPr/>
            <p:nvPr/>
          </p:nvGrpSpPr>
          <p:grpSpPr>
            <a:xfrm>
              <a:off x="1693800" y="4525920"/>
              <a:ext cx="249120" cy="476280"/>
              <a:chOff x="1693800" y="4525920"/>
              <a:chExt cx="249120" cy="476280"/>
            </a:xfrm>
          </p:grpSpPr>
          <p:sp>
            <p:nvSpPr>
              <p:cNvPr id="1503" name=""/>
              <p:cNvSpPr/>
              <p:nvPr/>
            </p:nvSpPr>
            <p:spPr>
              <a:xfrm>
                <a:off x="1812600" y="452592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693800" y="4892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749960" y="495216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786680" y="50022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7" name=""/>
            <p:cNvSpPr/>
            <p:nvPr/>
          </p:nvSpPr>
          <p:spPr>
            <a:xfrm>
              <a:off x="3805200" y="2935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8" name=""/>
            <p:cNvGrpSpPr/>
            <p:nvPr/>
          </p:nvGrpSpPr>
          <p:grpSpPr>
            <a:xfrm>
              <a:off x="2693160" y="2451240"/>
              <a:ext cx="812520" cy="155520"/>
              <a:chOff x="2693160" y="2451240"/>
              <a:chExt cx="812520" cy="155520"/>
            </a:xfrm>
          </p:grpSpPr>
          <p:sp>
            <p:nvSpPr>
              <p:cNvPr id="1509" name=""/>
              <p:cNvSpPr/>
              <p:nvPr/>
            </p:nvSpPr>
            <p:spPr>
              <a:xfrm>
                <a:off x="2693160" y="252828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V="1">
                <a:off x="2849760" y="245664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894760" y="245628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V="1">
                <a:off x="2957760" y="245124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032280" y="245124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V="1">
                <a:off x="3109680" y="245124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184560" y="2451240"/>
                <a:ext cx="864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V="1">
                <a:off x="3271320" y="245124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338640" y="245124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392280" y="252828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571320" y="3571920"/>
              <a:ext cx="808560" cy="157320"/>
              <a:chOff x="571320" y="3571920"/>
              <a:chExt cx="808560" cy="157320"/>
            </a:xfrm>
          </p:grpSpPr>
          <p:sp>
            <p:nvSpPr>
              <p:cNvPr id="1520" name=""/>
              <p:cNvSpPr/>
              <p:nvPr/>
            </p:nvSpPr>
            <p:spPr>
              <a:xfrm>
                <a:off x="571320" y="36496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V="1">
                <a:off x="727200" y="3577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771840" y="357768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V="1">
                <a:off x="834480" y="357192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908640" y="357192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986040" y="357192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060560" y="357264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1146600" y="357228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3560" y="357192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267200" y="36496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0" name=""/>
            <p:cNvSpPr/>
            <p:nvPr/>
          </p:nvSpPr>
          <p:spPr>
            <a:xfrm>
              <a:off x="1230840" y="2525760"/>
              <a:ext cx="14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1878480" y="252540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664080" y="252576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3505680" y="252576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02240" y="2016000"/>
              <a:ext cx="41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94760" y="328464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99680" y="360828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53560" y="3130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8" name=""/>
            <p:cNvGrpSpPr/>
            <p:nvPr/>
          </p:nvGrpSpPr>
          <p:grpSpPr>
            <a:xfrm>
              <a:off x="1732680" y="3651120"/>
              <a:ext cx="145440" cy="876240"/>
              <a:chOff x="1732680" y="3651120"/>
              <a:chExt cx="145440" cy="876240"/>
            </a:xfrm>
          </p:grpSpPr>
          <p:sp>
            <p:nvSpPr>
              <p:cNvPr id="1539" name=""/>
              <p:cNvSpPr/>
              <p:nvPr/>
            </p:nvSpPr>
            <p:spPr>
              <a:xfrm flipV="1">
                <a:off x="1804680" y="435852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H="1" flipV="1">
                <a:off x="1737720" y="431064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V="1">
                <a:off x="1737360" y="424260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H="1" flipV="1">
                <a:off x="1732680" y="416196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V="1">
                <a:off x="1733040" y="407808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H="1" flipV="1">
                <a:off x="1732680" y="399744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V="1">
                <a:off x="1732680" y="390420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 flipV="1">
                <a:off x="1732680" y="383184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V="1">
                <a:off x="1733400" y="377352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V="1">
                <a:off x="1804680" y="365112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9" name=""/>
            <p:cNvSpPr/>
            <p:nvPr/>
          </p:nvSpPr>
          <p:spPr>
            <a:xfrm>
              <a:off x="110880" y="3166920"/>
              <a:ext cx="534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0" name=""/>
            <p:cNvGrpSpPr/>
            <p:nvPr/>
          </p:nvGrpSpPr>
          <p:grpSpPr>
            <a:xfrm>
              <a:off x="465840" y="2452320"/>
              <a:ext cx="811080" cy="157680"/>
              <a:chOff x="465840" y="2452320"/>
              <a:chExt cx="811080" cy="157680"/>
            </a:xfrm>
          </p:grpSpPr>
          <p:sp>
            <p:nvSpPr>
              <p:cNvPr id="1551" name=""/>
              <p:cNvSpPr/>
              <p:nvPr/>
            </p:nvSpPr>
            <p:spPr>
              <a:xfrm>
                <a:off x="465840" y="2530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V="1">
                <a:off x="622440" y="245772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67080" y="245772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V="1">
                <a:off x="729720" y="245232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804240" y="245268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V="1">
                <a:off x="881640" y="245232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956520" y="245268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V="1">
                <a:off x="1042920" y="245268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109880" y="245268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163880" y="253044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1" name=""/>
            <p:cNvSpPr/>
            <p:nvPr/>
          </p:nvSpPr>
          <p:spPr>
            <a:xfrm>
              <a:off x="427680" y="248292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961280" y="4041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149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325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549440" y="31478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6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4255920" y="571500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epresenta la ecuación de la 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1533600" y="0"/>
            <a:ext cx="6095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61800" y="5251320"/>
                <a:ext cx="36752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70" name=""/>
          <p:cNvGraphicFramePr/>
          <p:nvPr/>
        </p:nvGraphicFramePr>
        <p:xfrm>
          <a:off x="4149720" y="1401840"/>
          <a:ext cx="483084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9720" y="1401840"/>
                    <a:ext cx="48308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2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776160" y="812880"/>
            <a:ext cx="77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: [+12 a -12V] -&gt; [0V a 5V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"/>
          <p:cNvGrpSpPr/>
          <p:nvPr/>
        </p:nvGrpSpPr>
        <p:grpSpPr>
          <a:xfrm>
            <a:off x="102240" y="2016000"/>
            <a:ext cx="4119840" cy="2986200"/>
            <a:chOff x="102240" y="2016000"/>
            <a:chExt cx="4119840" cy="2986200"/>
          </a:xfrm>
        </p:grpSpPr>
        <p:sp>
          <p:nvSpPr>
            <p:cNvPr id="1575" name=""/>
            <p:cNvSpPr/>
            <p:nvPr/>
          </p:nvSpPr>
          <p:spPr>
            <a:xfrm rot="5400000">
              <a:off x="2278440" y="2677680"/>
              <a:ext cx="115416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1878120" y="301932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1368360" y="3651120"/>
              <a:ext cx="84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3477960" y="332424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199960" y="2854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200320" y="35067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1" name=""/>
            <p:cNvGrpSpPr/>
            <p:nvPr/>
          </p:nvGrpSpPr>
          <p:grpSpPr>
            <a:xfrm>
              <a:off x="1693800" y="4525920"/>
              <a:ext cx="249120" cy="476280"/>
              <a:chOff x="1693800" y="4525920"/>
              <a:chExt cx="249120" cy="476280"/>
            </a:xfrm>
          </p:grpSpPr>
          <p:sp>
            <p:nvSpPr>
              <p:cNvPr id="1582" name=""/>
              <p:cNvSpPr/>
              <p:nvPr/>
            </p:nvSpPr>
            <p:spPr>
              <a:xfrm>
                <a:off x="1812600" y="452592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693800" y="4892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749960" y="495216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786680" y="50022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6" name=""/>
            <p:cNvSpPr/>
            <p:nvPr/>
          </p:nvSpPr>
          <p:spPr>
            <a:xfrm>
              <a:off x="3805200" y="2935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7" name=""/>
            <p:cNvGrpSpPr/>
            <p:nvPr/>
          </p:nvGrpSpPr>
          <p:grpSpPr>
            <a:xfrm>
              <a:off x="2693160" y="2451240"/>
              <a:ext cx="812520" cy="155520"/>
              <a:chOff x="2693160" y="2451240"/>
              <a:chExt cx="812520" cy="155520"/>
            </a:xfrm>
          </p:grpSpPr>
          <p:sp>
            <p:nvSpPr>
              <p:cNvPr id="1588" name=""/>
              <p:cNvSpPr/>
              <p:nvPr/>
            </p:nvSpPr>
            <p:spPr>
              <a:xfrm>
                <a:off x="2693160" y="252828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V="1">
                <a:off x="2849760" y="245664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894760" y="245628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V="1">
                <a:off x="2957760" y="245124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032280" y="245124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V="1">
                <a:off x="3109680" y="245124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184560" y="2451240"/>
                <a:ext cx="864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V="1">
                <a:off x="3271320" y="245124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338640" y="245124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392280" y="252828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571320" y="3571920"/>
              <a:ext cx="808560" cy="157320"/>
              <a:chOff x="571320" y="3571920"/>
              <a:chExt cx="808560" cy="157320"/>
            </a:xfrm>
          </p:grpSpPr>
          <p:sp>
            <p:nvSpPr>
              <p:cNvPr id="1599" name=""/>
              <p:cNvSpPr/>
              <p:nvPr/>
            </p:nvSpPr>
            <p:spPr>
              <a:xfrm>
                <a:off x="571320" y="36496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V="1">
                <a:off x="727200" y="3577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71840" y="357768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834480" y="357192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908640" y="357192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V="1">
                <a:off x="986040" y="357192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060560" y="357264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V="1">
                <a:off x="1146600" y="357228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213560" y="357192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267200" y="36496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>
              <a:off x="1230840" y="2525760"/>
              <a:ext cx="14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1878480" y="252540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664080" y="252576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3505680" y="252576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02240" y="2016000"/>
              <a:ext cx="41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794760" y="328464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9680" y="360828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53560" y="3130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7" name=""/>
            <p:cNvGrpSpPr/>
            <p:nvPr/>
          </p:nvGrpSpPr>
          <p:grpSpPr>
            <a:xfrm>
              <a:off x="1732680" y="3651120"/>
              <a:ext cx="145440" cy="876240"/>
              <a:chOff x="1732680" y="3651120"/>
              <a:chExt cx="145440" cy="876240"/>
            </a:xfrm>
          </p:grpSpPr>
          <p:sp>
            <p:nvSpPr>
              <p:cNvPr id="1618" name=""/>
              <p:cNvSpPr/>
              <p:nvPr/>
            </p:nvSpPr>
            <p:spPr>
              <a:xfrm flipV="1">
                <a:off x="1804680" y="435852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H="1" flipV="1">
                <a:off x="1737720" y="431064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V="1">
                <a:off x="1737360" y="424260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H="1" flipV="1">
                <a:off x="1732680" y="416196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>
                <a:off x="1733040" y="407808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H="1" flipV="1">
                <a:off x="1732680" y="399744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V="1">
                <a:off x="1732680" y="390420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 flipV="1">
                <a:off x="1732680" y="383184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1733400" y="377352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V="1">
                <a:off x="1804680" y="365112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8" name=""/>
            <p:cNvSpPr/>
            <p:nvPr/>
          </p:nvSpPr>
          <p:spPr>
            <a:xfrm>
              <a:off x="110880" y="3166920"/>
              <a:ext cx="534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9" name=""/>
            <p:cNvGrpSpPr/>
            <p:nvPr/>
          </p:nvGrpSpPr>
          <p:grpSpPr>
            <a:xfrm>
              <a:off x="465840" y="2452320"/>
              <a:ext cx="811080" cy="157680"/>
              <a:chOff x="465840" y="2452320"/>
              <a:chExt cx="811080" cy="157680"/>
            </a:xfrm>
          </p:grpSpPr>
          <p:sp>
            <p:nvSpPr>
              <p:cNvPr id="1630" name=""/>
              <p:cNvSpPr/>
              <p:nvPr/>
            </p:nvSpPr>
            <p:spPr>
              <a:xfrm>
                <a:off x="465840" y="2530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V="1">
                <a:off x="622440" y="245772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67080" y="245772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V="1">
                <a:off x="729720" y="245232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804240" y="245268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V="1">
                <a:off x="881640" y="245232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956520" y="245268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1042920" y="245268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1109880" y="245268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1163880" y="253044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0" name=""/>
            <p:cNvSpPr/>
            <p:nvPr/>
          </p:nvSpPr>
          <p:spPr>
            <a:xfrm>
              <a:off x="427680" y="248292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961280" y="4041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149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9325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549440" y="31478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5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059280" y="5016600"/>
            <a:ext cx="117288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4255920" y="571500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epresenta la ecuación de la 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3" dur="2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/>
          <p:nvPr/>
        </p:nvSpPr>
        <p:spPr>
          <a:xfrm>
            <a:off x="1533600" y="0"/>
            <a:ext cx="6095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9" name=""/>
              <p:cNvSpPr txBox="1"/>
              <p:nvPr/>
            </p:nvSpPr>
            <p:spPr>
              <a:xfrm>
                <a:off x="361800" y="5251320"/>
                <a:ext cx="36752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0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76160" y="812880"/>
            <a:ext cx="77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: [+12 a -12V] -&gt; [0V a 5V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240" y="2016000"/>
            <a:ext cx="4119840" cy="2986200"/>
            <a:chOff x="102240" y="2016000"/>
            <a:chExt cx="4119840" cy="2986200"/>
          </a:xfrm>
        </p:grpSpPr>
        <p:sp>
          <p:nvSpPr>
            <p:cNvPr id="1653" name=""/>
            <p:cNvSpPr/>
            <p:nvPr/>
          </p:nvSpPr>
          <p:spPr>
            <a:xfrm rot="5400000">
              <a:off x="2278440" y="2677680"/>
              <a:ext cx="115416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1878120" y="301932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>
              <a:off x="1368360" y="3651120"/>
              <a:ext cx="84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3477960" y="332424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199960" y="2854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200320" y="35067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9" name=""/>
            <p:cNvGrpSpPr/>
            <p:nvPr/>
          </p:nvGrpSpPr>
          <p:grpSpPr>
            <a:xfrm>
              <a:off x="1693800" y="4525920"/>
              <a:ext cx="249120" cy="476280"/>
              <a:chOff x="1693800" y="4525920"/>
              <a:chExt cx="249120" cy="476280"/>
            </a:xfrm>
          </p:grpSpPr>
          <p:sp>
            <p:nvSpPr>
              <p:cNvPr id="1660" name=""/>
              <p:cNvSpPr/>
              <p:nvPr/>
            </p:nvSpPr>
            <p:spPr>
              <a:xfrm>
                <a:off x="1812600" y="452592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693800" y="4892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1749960" y="495216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1786680" y="50022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4" name=""/>
            <p:cNvSpPr/>
            <p:nvPr/>
          </p:nvSpPr>
          <p:spPr>
            <a:xfrm>
              <a:off x="3805200" y="2935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5" name=""/>
            <p:cNvGrpSpPr/>
            <p:nvPr/>
          </p:nvGrpSpPr>
          <p:grpSpPr>
            <a:xfrm>
              <a:off x="2693160" y="2451240"/>
              <a:ext cx="812520" cy="155520"/>
              <a:chOff x="2693160" y="2451240"/>
              <a:chExt cx="812520" cy="155520"/>
            </a:xfrm>
          </p:grpSpPr>
          <p:sp>
            <p:nvSpPr>
              <p:cNvPr id="1666" name=""/>
              <p:cNvSpPr/>
              <p:nvPr/>
            </p:nvSpPr>
            <p:spPr>
              <a:xfrm>
                <a:off x="2693160" y="252828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2849760" y="245664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894760" y="245628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2957760" y="245124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032280" y="245124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3109680" y="245124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184560" y="2451240"/>
                <a:ext cx="864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V="1">
                <a:off x="3271320" y="245124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338640" y="245124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392280" y="252828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571320" y="3571920"/>
              <a:ext cx="808560" cy="157320"/>
              <a:chOff x="571320" y="3571920"/>
              <a:chExt cx="808560" cy="157320"/>
            </a:xfrm>
          </p:grpSpPr>
          <p:sp>
            <p:nvSpPr>
              <p:cNvPr id="1677" name=""/>
              <p:cNvSpPr/>
              <p:nvPr/>
            </p:nvSpPr>
            <p:spPr>
              <a:xfrm>
                <a:off x="571320" y="36496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727200" y="3577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71840" y="357768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V="1">
                <a:off x="834480" y="357192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908640" y="357192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V="1">
                <a:off x="986040" y="357192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1060560" y="357264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V="1">
                <a:off x="1146600" y="357228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213560" y="357192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267200" y="36496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"/>
            <p:cNvSpPr/>
            <p:nvPr/>
          </p:nvSpPr>
          <p:spPr>
            <a:xfrm>
              <a:off x="1230840" y="2525760"/>
              <a:ext cx="14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1878480" y="252540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664080" y="252576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3505680" y="252576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02240" y="2016000"/>
              <a:ext cx="41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794760" y="328464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9680" y="360828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853560" y="3130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5" name=""/>
            <p:cNvGrpSpPr/>
            <p:nvPr/>
          </p:nvGrpSpPr>
          <p:grpSpPr>
            <a:xfrm>
              <a:off x="1732680" y="3651120"/>
              <a:ext cx="145440" cy="876240"/>
              <a:chOff x="1732680" y="3651120"/>
              <a:chExt cx="145440" cy="876240"/>
            </a:xfrm>
          </p:grpSpPr>
          <p:sp>
            <p:nvSpPr>
              <p:cNvPr id="1696" name=""/>
              <p:cNvSpPr/>
              <p:nvPr/>
            </p:nvSpPr>
            <p:spPr>
              <a:xfrm flipV="1">
                <a:off x="1804680" y="435852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 flipV="1">
                <a:off x="1737720" y="431064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1737360" y="424260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 flipV="1">
                <a:off x="1732680" y="416196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V="1">
                <a:off x="1733040" y="407808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 flipV="1">
                <a:off x="1732680" y="399744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1732680" y="390420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 flipV="1">
                <a:off x="1732680" y="383184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1733400" y="377352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V="1">
                <a:off x="1804680" y="365112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6" name=""/>
            <p:cNvSpPr/>
            <p:nvPr/>
          </p:nvSpPr>
          <p:spPr>
            <a:xfrm>
              <a:off x="110880" y="3166920"/>
              <a:ext cx="534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7" name=""/>
            <p:cNvGrpSpPr/>
            <p:nvPr/>
          </p:nvGrpSpPr>
          <p:grpSpPr>
            <a:xfrm>
              <a:off x="465840" y="2452320"/>
              <a:ext cx="811080" cy="157680"/>
              <a:chOff x="465840" y="2452320"/>
              <a:chExt cx="811080" cy="157680"/>
            </a:xfrm>
          </p:grpSpPr>
          <p:sp>
            <p:nvSpPr>
              <p:cNvPr id="1708" name=""/>
              <p:cNvSpPr/>
              <p:nvPr/>
            </p:nvSpPr>
            <p:spPr>
              <a:xfrm>
                <a:off x="465840" y="2530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V="1">
                <a:off x="622440" y="245772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667080" y="245772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729720" y="245232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804240" y="245268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V="1">
                <a:off x="881640" y="245232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956520" y="245268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1042920" y="245268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109880" y="245268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163880" y="253044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8" name=""/>
            <p:cNvSpPr/>
            <p:nvPr/>
          </p:nvSpPr>
          <p:spPr>
            <a:xfrm>
              <a:off x="427680" y="248292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961280" y="4041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149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9325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549440" y="31478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3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4" name=""/>
          <p:cNvGraphicFramePr/>
          <p:nvPr/>
        </p:nvGraphicFramePr>
        <p:xfrm>
          <a:off x="4149720" y="1378080"/>
          <a:ext cx="4830840" cy="43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9720" y="1378080"/>
                    <a:ext cx="4830840" cy="43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6" name=""/>
          <p:cNvSpPr/>
          <p:nvPr/>
        </p:nvSpPr>
        <p:spPr>
          <a:xfrm>
            <a:off x="3059280" y="5016600"/>
            <a:ext cx="117288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44560" y="4991040"/>
            <a:ext cx="2297160" cy="1346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4255920" y="571500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epresenta la ecuación de la 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de instrumentación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0" name=""/>
          <p:cNvGrpSpPr/>
          <p:nvPr/>
        </p:nvGrpSpPr>
        <p:grpSpPr>
          <a:xfrm>
            <a:off x="4454280" y="2063880"/>
            <a:ext cx="3836160" cy="2570040"/>
            <a:chOff x="4454280" y="2063880"/>
            <a:chExt cx="3836160" cy="2570040"/>
          </a:xfrm>
        </p:grpSpPr>
        <p:sp>
          <p:nvSpPr>
            <p:cNvPr id="1731" name=""/>
            <p:cNvSpPr/>
            <p:nvPr/>
          </p:nvSpPr>
          <p:spPr>
            <a:xfrm flipH="1">
              <a:off x="6192000" y="292752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5749920" y="3471840"/>
              <a:ext cx="73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7584480" y="318924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 rot="5400000">
              <a:off x="6545880" y="2627640"/>
              <a:ext cx="992160" cy="11307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473520" y="2712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473880" y="32972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7" name=""/>
            <p:cNvGrpSpPr/>
            <p:nvPr/>
          </p:nvGrpSpPr>
          <p:grpSpPr>
            <a:xfrm>
              <a:off x="6032880" y="4224240"/>
              <a:ext cx="216360" cy="409680"/>
              <a:chOff x="6032880" y="4224240"/>
              <a:chExt cx="216360" cy="409680"/>
            </a:xfrm>
          </p:grpSpPr>
          <p:sp>
            <p:nvSpPr>
              <p:cNvPr id="1738" name=""/>
              <p:cNvSpPr/>
              <p:nvPr/>
            </p:nvSpPr>
            <p:spPr>
              <a:xfrm>
                <a:off x="6135840" y="4224240"/>
                <a:ext cx="0" cy="31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032880" y="4539600"/>
                <a:ext cx="21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081840" y="4590720"/>
                <a:ext cx="11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113520" y="463392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"/>
            <p:cNvSpPr/>
            <p:nvPr/>
          </p:nvSpPr>
          <p:spPr>
            <a:xfrm>
              <a:off x="7867440" y="285444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3" name=""/>
            <p:cNvGrpSpPr/>
            <p:nvPr/>
          </p:nvGrpSpPr>
          <p:grpSpPr>
            <a:xfrm>
              <a:off x="6901920" y="2437920"/>
              <a:ext cx="705600" cy="133920"/>
              <a:chOff x="6901920" y="2437920"/>
              <a:chExt cx="705600" cy="133920"/>
            </a:xfrm>
          </p:grpSpPr>
          <p:sp>
            <p:nvSpPr>
              <p:cNvPr id="1744" name=""/>
              <p:cNvSpPr/>
              <p:nvPr/>
            </p:nvSpPr>
            <p:spPr>
              <a:xfrm>
                <a:off x="6901920" y="2504160"/>
                <a:ext cx="13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7038000" y="2442600"/>
                <a:ext cx="38520" cy="6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076880" y="2442600"/>
                <a:ext cx="54720" cy="12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7131600" y="2437920"/>
                <a:ext cx="6444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196400" y="2438280"/>
                <a:ext cx="6732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>
                <a:off x="7263720" y="2437920"/>
                <a:ext cx="6480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328880" y="2438280"/>
                <a:ext cx="75240" cy="12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>
                <a:off x="7404120" y="2437920"/>
                <a:ext cx="57960" cy="12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462440" y="2437920"/>
                <a:ext cx="46440" cy="66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509240" y="2504160"/>
                <a:ext cx="9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4" name=""/>
            <p:cNvGrpSpPr/>
            <p:nvPr/>
          </p:nvGrpSpPr>
          <p:grpSpPr>
            <a:xfrm>
              <a:off x="5057280" y="3401640"/>
              <a:ext cx="703080" cy="136800"/>
              <a:chOff x="5057280" y="3401640"/>
              <a:chExt cx="703080" cy="136800"/>
            </a:xfrm>
          </p:grpSpPr>
          <p:sp>
            <p:nvSpPr>
              <p:cNvPr id="1755" name=""/>
              <p:cNvSpPr/>
              <p:nvPr/>
            </p:nvSpPr>
            <p:spPr>
              <a:xfrm>
                <a:off x="5057280" y="3469320"/>
                <a:ext cx="13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V="1">
                <a:off x="5193000" y="3406320"/>
                <a:ext cx="38520" cy="6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231520" y="3406320"/>
                <a:ext cx="5436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V="1">
                <a:off x="5286240" y="3401640"/>
                <a:ext cx="6444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350680" y="3402000"/>
                <a:ext cx="6696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V="1">
                <a:off x="5417640" y="3401640"/>
                <a:ext cx="6480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482440" y="3402000"/>
                <a:ext cx="7488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5557680" y="3402000"/>
                <a:ext cx="5796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615640" y="3401640"/>
                <a:ext cx="4644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662440" y="3469320"/>
                <a:ext cx="9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5" name=""/>
            <p:cNvSpPr/>
            <p:nvPr/>
          </p:nvSpPr>
          <p:spPr>
            <a:xfrm>
              <a:off x="5630040" y="2502000"/>
              <a:ext cx="127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6192360" y="2502000"/>
              <a:ext cx="0" cy="42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746120" y="2502000"/>
              <a:ext cx="0" cy="68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7607520" y="250200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860240" y="3156120"/>
              <a:ext cx="6012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304960" y="3022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1" name=""/>
            <p:cNvGrpSpPr/>
            <p:nvPr/>
          </p:nvGrpSpPr>
          <p:grpSpPr>
            <a:xfrm>
              <a:off x="6066360" y="3471840"/>
              <a:ext cx="126000" cy="753840"/>
              <a:chOff x="6066360" y="3471840"/>
              <a:chExt cx="126000" cy="753840"/>
            </a:xfrm>
          </p:grpSpPr>
          <p:sp>
            <p:nvSpPr>
              <p:cNvPr id="1772" name=""/>
              <p:cNvSpPr/>
              <p:nvPr/>
            </p:nvSpPr>
            <p:spPr>
              <a:xfrm flipV="1">
                <a:off x="6128640" y="40802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H="1" flipV="1">
                <a:off x="6070680" y="40388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V="1">
                <a:off x="6071040" y="39805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H="1" flipV="1">
                <a:off x="6066360" y="39110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V="1">
                <a:off x="6066720" y="38394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H="1" flipV="1">
                <a:off x="6066360" y="37695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V="1">
                <a:off x="6067080" y="36892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H="1" flipV="1">
                <a:off x="6066720" y="36273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V="1">
                <a:off x="6066720" y="35773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V="1">
                <a:off x="6128640" y="34718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2" name=""/>
            <p:cNvGrpSpPr/>
            <p:nvPr/>
          </p:nvGrpSpPr>
          <p:grpSpPr>
            <a:xfrm>
              <a:off x="4964760" y="2439720"/>
              <a:ext cx="706320" cy="135360"/>
              <a:chOff x="4964760" y="2439720"/>
              <a:chExt cx="706320" cy="135360"/>
            </a:xfrm>
          </p:grpSpPr>
          <p:sp>
            <p:nvSpPr>
              <p:cNvPr id="1783" name=""/>
              <p:cNvSpPr/>
              <p:nvPr/>
            </p:nvSpPr>
            <p:spPr>
              <a:xfrm>
                <a:off x="4964760" y="2506680"/>
                <a:ext cx="13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5100840" y="2444400"/>
                <a:ext cx="38520" cy="6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139720" y="2444400"/>
                <a:ext cx="5472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V="1">
                <a:off x="5194440" y="2439720"/>
                <a:ext cx="6444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259240" y="2440080"/>
                <a:ext cx="6732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5326920" y="2439720"/>
                <a:ext cx="6480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391720" y="2440080"/>
                <a:ext cx="7524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V="1">
                <a:off x="5467320" y="2439720"/>
                <a:ext cx="5796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525640" y="2439720"/>
                <a:ext cx="46800" cy="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572440" y="2506680"/>
                <a:ext cx="9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3" name=""/>
            <p:cNvSpPr/>
            <p:nvPr/>
          </p:nvSpPr>
          <p:spPr>
            <a:xfrm>
              <a:off x="6267960" y="3807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183640" y="2063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112880" y="2063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909400" y="30384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4678560" y="250992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4678920" y="3468600"/>
              <a:ext cx="37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556160" y="3408480"/>
              <a:ext cx="12276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564800" y="244944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466160" y="206388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454280" y="30607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3" name=""/>
          <p:cNvSpPr/>
          <p:nvPr/>
        </p:nvSpPr>
        <p:spPr>
          <a:xfrm>
            <a:off x="809640" y="7621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Unicode MS"/>
                <a:ea typeface="Arial"/>
              </a:rPr>
              <a:t>Amplificación de señales débiles de transdu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3166920" y="4100400"/>
                <a:ext cx="1890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806" name=""/>
          <p:cNvGrpSpPr/>
          <p:nvPr/>
        </p:nvGrpSpPr>
        <p:grpSpPr>
          <a:xfrm>
            <a:off x="809280" y="1278000"/>
            <a:ext cx="2142000" cy="3798720"/>
            <a:chOff x="809280" y="1278000"/>
            <a:chExt cx="2142000" cy="3798720"/>
          </a:xfrm>
        </p:grpSpPr>
        <p:grpSp>
          <p:nvGrpSpPr>
            <p:cNvPr id="1807" name=""/>
            <p:cNvGrpSpPr/>
            <p:nvPr/>
          </p:nvGrpSpPr>
          <p:grpSpPr>
            <a:xfrm>
              <a:off x="809280" y="1811160"/>
              <a:ext cx="126000" cy="753840"/>
              <a:chOff x="809280" y="1811160"/>
              <a:chExt cx="126000" cy="753840"/>
            </a:xfrm>
          </p:grpSpPr>
          <p:sp>
            <p:nvSpPr>
              <p:cNvPr id="1808" name=""/>
              <p:cNvSpPr/>
              <p:nvPr/>
            </p:nvSpPr>
            <p:spPr>
              <a:xfrm flipV="1">
                <a:off x="871560" y="241956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H="1" flipV="1">
                <a:off x="813600" y="237816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V="1">
                <a:off x="813960" y="231984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 flipV="1">
                <a:off x="809280" y="225036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V="1">
                <a:off x="809640" y="217872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H="1" flipV="1">
                <a:off x="809280" y="210888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V="1">
                <a:off x="810000" y="202860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H="1" flipV="1">
                <a:off x="809640" y="196668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V="1">
                <a:off x="809640" y="191664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V="1">
                <a:off x="871560" y="181116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8" name=""/>
            <p:cNvGrpSpPr/>
            <p:nvPr/>
          </p:nvGrpSpPr>
          <p:grpSpPr>
            <a:xfrm>
              <a:off x="813600" y="3909960"/>
              <a:ext cx="126000" cy="753840"/>
              <a:chOff x="813600" y="3909960"/>
              <a:chExt cx="126000" cy="753840"/>
            </a:xfrm>
          </p:grpSpPr>
          <p:sp>
            <p:nvSpPr>
              <p:cNvPr id="1819" name=""/>
              <p:cNvSpPr/>
              <p:nvPr/>
            </p:nvSpPr>
            <p:spPr>
              <a:xfrm flipV="1">
                <a:off x="875880" y="451836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 flipV="1">
                <a:off x="817920" y="447696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818280" y="441864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 flipV="1">
                <a:off x="813600" y="434916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813960" y="427752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H="1" flipV="1">
                <a:off x="813600" y="420768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814320" y="412740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 flipV="1">
                <a:off x="813960" y="406548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V="1">
                <a:off x="813960" y="401544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V="1">
                <a:off x="875880" y="390996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9" name=""/>
            <p:cNvGrpSpPr/>
            <p:nvPr/>
          </p:nvGrpSpPr>
          <p:grpSpPr>
            <a:xfrm>
              <a:off x="1819080" y="1812960"/>
              <a:ext cx="126000" cy="753840"/>
              <a:chOff x="1819080" y="1812960"/>
              <a:chExt cx="126000" cy="753840"/>
            </a:xfrm>
          </p:grpSpPr>
          <p:sp>
            <p:nvSpPr>
              <p:cNvPr id="1830" name=""/>
              <p:cNvSpPr/>
              <p:nvPr/>
            </p:nvSpPr>
            <p:spPr>
              <a:xfrm flipV="1">
                <a:off x="1881360" y="242136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H="1" flipV="1">
                <a:off x="1823400" y="237996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V="1">
                <a:off x="1823760" y="232164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H="1" flipV="1">
                <a:off x="1819080" y="225216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V="1">
                <a:off x="1819440" y="218052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H="1" flipV="1">
                <a:off x="1819080" y="211068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V="1">
                <a:off x="1819800" y="203040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 flipV="1">
                <a:off x="1819440" y="196848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V="1">
                <a:off x="1819440" y="191844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V="1">
                <a:off x="1881360" y="181296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0" name=""/>
            <p:cNvGrpSpPr/>
            <p:nvPr/>
          </p:nvGrpSpPr>
          <p:grpSpPr>
            <a:xfrm>
              <a:off x="1823400" y="3913200"/>
              <a:ext cx="126000" cy="753840"/>
              <a:chOff x="1823400" y="3913200"/>
              <a:chExt cx="126000" cy="753840"/>
            </a:xfrm>
          </p:grpSpPr>
          <p:sp>
            <p:nvSpPr>
              <p:cNvPr id="1841" name=""/>
              <p:cNvSpPr/>
              <p:nvPr/>
            </p:nvSpPr>
            <p:spPr>
              <a:xfrm flipV="1">
                <a:off x="1885680" y="452160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 flipV="1">
                <a:off x="1827720" y="448020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V="1">
                <a:off x="1828080" y="442188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H="1" flipV="1">
                <a:off x="1823400" y="435240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V="1">
                <a:off x="1823760" y="428076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 flipV="1">
                <a:off x="1823400" y="421092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V="1">
                <a:off x="1824120" y="413064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 flipV="1">
                <a:off x="1823760" y="406872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V="1">
                <a:off x="1823760" y="401868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V="1">
                <a:off x="1885680" y="391320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1" name=""/>
            <p:cNvGrpSpPr/>
            <p:nvPr/>
          </p:nvGrpSpPr>
          <p:grpSpPr>
            <a:xfrm>
              <a:off x="1239120" y="4667400"/>
              <a:ext cx="216720" cy="409320"/>
              <a:chOff x="1239120" y="4667400"/>
              <a:chExt cx="216720" cy="409320"/>
            </a:xfrm>
          </p:grpSpPr>
          <p:sp>
            <p:nvSpPr>
              <p:cNvPr id="1852" name=""/>
              <p:cNvSpPr/>
              <p:nvPr/>
            </p:nvSpPr>
            <p:spPr>
              <a:xfrm>
                <a:off x="1342440" y="4667400"/>
                <a:ext cx="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39120" y="4982400"/>
                <a:ext cx="21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88080" y="5033520"/>
                <a:ext cx="11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1319760" y="507672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6" name=""/>
            <p:cNvSpPr/>
            <p:nvPr/>
          </p:nvSpPr>
          <p:spPr>
            <a:xfrm>
              <a:off x="875160" y="1811160"/>
              <a:ext cx="99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870840" y="4664160"/>
              <a:ext cx="99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07880" y="147636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370880" y="1603440"/>
              <a:ext cx="0" cy="2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870840" y="2565360"/>
              <a:ext cx="0" cy="134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881000" y="2565360"/>
              <a:ext cx="5760" cy="14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875160" y="2712960"/>
              <a:ext cx="94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944000" y="2712960"/>
              <a:ext cx="5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886760" y="3459240"/>
              <a:ext cx="61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2313000" y="22226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505600" y="2649600"/>
              <a:ext cx="12420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505600" y="3400560"/>
              <a:ext cx="12420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313000" y="2989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993960" y="196704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993960" y="406548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968840" y="407052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987200" y="1947960"/>
              <a:ext cx="96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472400" y="1278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4" name=""/>
          <p:cNvSpPr/>
          <p:nvPr/>
        </p:nvSpPr>
        <p:spPr>
          <a:xfrm>
            <a:off x="1289160" y="5342040"/>
            <a:ext cx="65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Unicode MS"/>
                <a:ea typeface="Arial"/>
              </a:rPr>
              <a:t>Problema: Adaptación de impeda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61560" y="95400"/>
            <a:ext cx="7729560" cy="79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ásicos de 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870360" y="2233440"/>
            <a:ext cx="3617280" cy="2586240"/>
            <a:chOff x="3870360" y="2233440"/>
            <a:chExt cx="3617280" cy="2586240"/>
          </a:xfrm>
        </p:grpSpPr>
        <p:sp>
          <p:nvSpPr>
            <p:cNvPr id="48" name=""/>
            <p:cNvSpPr/>
            <p:nvPr/>
          </p:nvSpPr>
          <p:spPr>
            <a:xfrm rot="5400000">
              <a:off x="5016240" y="2209320"/>
              <a:ext cx="1575000" cy="1623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4583160" y="25988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4595760" y="3460680"/>
              <a:ext cx="4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581880" y="301608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73760" y="2298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71240" y="3187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6415200" y="4172040"/>
              <a:ext cx="310320" cy="647640"/>
              <a:chOff x="6415200" y="4172040"/>
              <a:chExt cx="310320" cy="647640"/>
            </a:xfrm>
          </p:grpSpPr>
          <p:sp>
            <p:nvSpPr>
              <p:cNvPr id="55" name=""/>
              <p:cNvSpPr/>
              <p:nvPr/>
            </p:nvSpPr>
            <p:spPr>
              <a:xfrm>
                <a:off x="6563160" y="4172040"/>
                <a:ext cx="0" cy="49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415200" y="4670280"/>
                <a:ext cx="31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485400" y="47512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530760" y="4819680"/>
                <a:ext cx="7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 flipV="1">
              <a:off x="6996600" y="313056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98280" y="3507840"/>
              <a:ext cx="0" cy="7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343400" y="264168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17480" y="3327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70360" y="26892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61640" y="39052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6320" y="26510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69480" y="28004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589640" y="1542600"/>
            <a:ext cx="3796200" cy="4269240"/>
            <a:chOff x="4589640" y="1542600"/>
            <a:chExt cx="3796200" cy="4269240"/>
          </a:xfrm>
        </p:grpSpPr>
        <p:sp>
          <p:nvSpPr>
            <p:cNvPr id="68" name=""/>
            <p:cNvSpPr/>
            <p:nvPr/>
          </p:nvSpPr>
          <p:spPr>
            <a:xfrm rot="5400000">
              <a:off x="5022720" y="2207160"/>
              <a:ext cx="1574640" cy="16239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4589640" y="25970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601160" y="345888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588720" y="30146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80240" y="2296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77360" y="3186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15920" y="4186080"/>
              <a:ext cx="310680" cy="631800"/>
              <a:chOff x="6415920" y="4186080"/>
              <a:chExt cx="310680" cy="631800"/>
            </a:xfrm>
          </p:grpSpPr>
          <p:sp>
            <p:nvSpPr>
              <p:cNvPr id="75" name=""/>
              <p:cNvSpPr/>
              <p:nvPr/>
            </p:nvSpPr>
            <p:spPr>
              <a:xfrm>
                <a:off x="6563880" y="4186080"/>
                <a:ext cx="0" cy="48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415920" y="466884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486120" y="47494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531840" y="481788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7295400" y="5061960"/>
              <a:ext cx="550800" cy="419400"/>
              <a:chOff x="7295400" y="5061960"/>
              <a:chExt cx="550800" cy="419400"/>
            </a:xfrm>
          </p:grpSpPr>
          <p:sp>
            <p:nvSpPr>
              <p:cNvPr id="80" name=""/>
              <p:cNvSpPr/>
              <p:nvPr/>
            </p:nvSpPr>
            <p:spPr>
              <a:xfrm>
                <a:off x="7295400" y="5227560"/>
                <a:ext cx="55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447680" y="5341680"/>
                <a:ext cx="269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7565040" y="5061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65040" y="5367240"/>
                <a:ext cx="0" cy="114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7564680" y="234468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63880" y="4186080"/>
              <a:ext cx="10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5829480" y="222984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52880" y="338580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62240" y="188100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05880" y="3493800"/>
              <a:ext cx="63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-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52880" y="3805200"/>
              <a:ext cx="0" cy="19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52880" y="5811840"/>
              <a:ext cx="171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64680" y="5479920"/>
              <a:ext cx="0" cy="33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829480" y="1542960"/>
              <a:ext cx="0" cy="68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29480" y="1542960"/>
              <a:ext cx="173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564680" y="1542600"/>
              <a:ext cx="0" cy="44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82680" y="2049480"/>
              <a:ext cx="93600" cy="8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06080" y="3844800"/>
              <a:ext cx="93960" cy="8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851600" y="197640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51600" y="506412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295400" y="1976400"/>
              <a:ext cx="550800" cy="433440"/>
              <a:chOff x="7295400" y="1976400"/>
              <a:chExt cx="550800" cy="433440"/>
            </a:xfrm>
          </p:grpSpPr>
          <p:sp>
            <p:nvSpPr>
              <p:cNvPr id="101" name=""/>
              <p:cNvSpPr/>
              <p:nvPr/>
            </p:nvSpPr>
            <p:spPr>
              <a:xfrm>
                <a:off x="7295400" y="2155680"/>
                <a:ext cx="55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47680" y="2269800"/>
                <a:ext cx="269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7565040" y="1976400"/>
                <a:ext cx="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65040" y="2295360"/>
                <a:ext cx="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419040" y="3753000"/>
            <a:ext cx="310824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≤+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7280" y="1546200"/>
            <a:ext cx="388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difer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1440" y="2975040"/>
            <a:ext cx="3465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ón de salida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o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2640" y="1081080"/>
            <a:ext cx="47196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Arial"/>
              </a:rPr>
              <a:t>Amplificador de conti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0" y="37800"/>
            <a:ext cx="9144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de instrumentación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3660480" y="1551960"/>
            <a:ext cx="5251320" cy="2741040"/>
            <a:chOff x="3660480" y="1551960"/>
            <a:chExt cx="5251320" cy="2741040"/>
          </a:xfrm>
        </p:grpSpPr>
        <p:sp>
          <p:nvSpPr>
            <p:cNvPr id="1877" name=""/>
            <p:cNvSpPr/>
            <p:nvPr/>
          </p:nvSpPr>
          <p:spPr>
            <a:xfrm flipH="1">
              <a:off x="7205040" y="2851200"/>
              <a:ext cx="22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6851520" y="3294000"/>
              <a:ext cx="58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>
              <a:off x="8313840" y="3065400"/>
              <a:ext cx="22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rot="5400000">
              <a:off x="7478280" y="2617560"/>
              <a:ext cx="807840" cy="90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382520" y="261288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383240" y="30891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3" name=""/>
            <p:cNvGrpSpPr/>
            <p:nvPr/>
          </p:nvGrpSpPr>
          <p:grpSpPr>
            <a:xfrm>
              <a:off x="7077240" y="3905280"/>
              <a:ext cx="171360" cy="333360"/>
              <a:chOff x="7077240" y="3905280"/>
              <a:chExt cx="171360" cy="333360"/>
            </a:xfrm>
          </p:grpSpPr>
          <p:sp>
            <p:nvSpPr>
              <p:cNvPr id="1884" name=""/>
              <p:cNvSpPr/>
              <p:nvPr/>
            </p:nvSpPr>
            <p:spPr>
              <a:xfrm>
                <a:off x="7158960" y="3905280"/>
                <a:ext cx="0" cy="25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077240" y="41619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116120" y="4203720"/>
                <a:ext cx="8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140960" y="4238640"/>
                <a:ext cx="4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8" name=""/>
            <p:cNvSpPr/>
            <p:nvPr/>
          </p:nvSpPr>
          <p:spPr>
            <a:xfrm>
              <a:off x="8540640" y="2792520"/>
              <a:ext cx="37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9" name=""/>
            <p:cNvGrpSpPr/>
            <p:nvPr/>
          </p:nvGrpSpPr>
          <p:grpSpPr>
            <a:xfrm>
              <a:off x="7768800" y="2454120"/>
              <a:ext cx="563400" cy="108000"/>
              <a:chOff x="7768800" y="2454120"/>
              <a:chExt cx="563400" cy="108000"/>
            </a:xfrm>
          </p:grpSpPr>
          <p:sp>
            <p:nvSpPr>
              <p:cNvPr id="1890" name=""/>
              <p:cNvSpPr/>
              <p:nvPr/>
            </p:nvSpPr>
            <p:spPr>
              <a:xfrm>
                <a:off x="7768800" y="250776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V="1">
                <a:off x="7877520" y="2458080"/>
                <a:ext cx="3096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908480" y="2457720"/>
                <a:ext cx="435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V="1">
                <a:off x="7952040" y="2454120"/>
                <a:ext cx="5148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8003880" y="2454120"/>
                <a:ext cx="536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V="1">
                <a:off x="8057880" y="2454120"/>
                <a:ext cx="518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8109720" y="2454480"/>
                <a:ext cx="601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V="1">
                <a:off x="8169840" y="2454480"/>
                <a:ext cx="4644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8216280" y="2454480"/>
                <a:ext cx="37080" cy="5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8253720" y="250776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0" name=""/>
            <p:cNvGrpSpPr/>
            <p:nvPr/>
          </p:nvGrpSpPr>
          <p:grpSpPr>
            <a:xfrm>
              <a:off x="6297840" y="3238560"/>
              <a:ext cx="560520" cy="109440"/>
              <a:chOff x="6297840" y="3238560"/>
              <a:chExt cx="560520" cy="109440"/>
            </a:xfrm>
          </p:grpSpPr>
          <p:sp>
            <p:nvSpPr>
              <p:cNvPr id="1901" name=""/>
              <p:cNvSpPr/>
              <p:nvPr/>
            </p:nvSpPr>
            <p:spPr>
              <a:xfrm>
                <a:off x="6297840" y="3292920"/>
                <a:ext cx="1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V="1">
                <a:off x="6405840" y="3242520"/>
                <a:ext cx="3060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6436800" y="3242160"/>
                <a:ext cx="4320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V="1">
                <a:off x="6480360" y="3238560"/>
                <a:ext cx="5112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531840" y="3238560"/>
                <a:ext cx="532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V="1">
                <a:off x="6585120" y="323856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6636960" y="3238560"/>
                <a:ext cx="597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V="1">
                <a:off x="6696720" y="3238560"/>
                <a:ext cx="4608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743160" y="3238920"/>
                <a:ext cx="37080" cy="5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780240" y="3292920"/>
                <a:ext cx="7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1" name=""/>
            <p:cNvSpPr/>
            <p:nvPr/>
          </p:nvSpPr>
          <p:spPr>
            <a:xfrm>
              <a:off x="6755040" y="2506680"/>
              <a:ext cx="101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7205040" y="2506320"/>
              <a:ext cx="0" cy="34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442720" y="2506680"/>
              <a:ext cx="0" cy="55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8332200" y="2506680"/>
              <a:ext cx="10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660480" y="15732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533440" y="3036960"/>
              <a:ext cx="48240" cy="57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006800" y="407052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455520" y="2855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9" name=""/>
            <p:cNvGrpSpPr/>
            <p:nvPr/>
          </p:nvGrpSpPr>
          <p:grpSpPr>
            <a:xfrm>
              <a:off x="7103160" y="3294360"/>
              <a:ext cx="101520" cy="612360"/>
              <a:chOff x="7103160" y="3294360"/>
              <a:chExt cx="101520" cy="612360"/>
            </a:xfrm>
          </p:grpSpPr>
          <p:sp>
            <p:nvSpPr>
              <p:cNvPr id="1920" name=""/>
              <p:cNvSpPr/>
              <p:nvPr/>
            </p:nvSpPr>
            <p:spPr>
              <a:xfrm flipV="1">
                <a:off x="7153200" y="3788640"/>
                <a:ext cx="0" cy="11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H="1" flipV="1">
                <a:off x="7106400" y="3755160"/>
                <a:ext cx="46800" cy="3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V="1">
                <a:off x="7106400" y="3707640"/>
                <a:ext cx="97920" cy="4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H="1" flipV="1">
                <a:off x="7103160" y="3651120"/>
                <a:ext cx="10116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V="1">
                <a:off x="7103520" y="3592800"/>
                <a:ext cx="10116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H="1" flipV="1">
                <a:off x="7103160" y="3536640"/>
                <a:ext cx="10116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V="1">
                <a:off x="7103160" y="3471120"/>
                <a:ext cx="97920" cy="6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H="1" flipV="1">
                <a:off x="7103160" y="3420360"/>
                <a:ext cx="9792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flipV="1">
                <a:off x="7103520" y="3380040"/>
                <a:ext cx="5004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V="1">
                <a:off x="7153200" y="3294360"/>
                <a:ext cx="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0" name=""/>
            <p:cNvSpPr/>
            <p:nvPr/>
          </p:nvSpPr>
          <p:spPr>
            <a:xfrm>
              <a:off x="3846240" y="3673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1" name=""/>
            <p:cNvGrpSpPr/>
            <p:nvPr/>
          </p:nvGrpSpPr>
          <p:grpSpPr>
            <a:xfrm>
              <a:off x="6226200" y="2453760"/>
              <a:ext cx="562320" cy="111600"/>
              <a:chOff x="6226200" y="2453760"/>
              <a:chExt cx="562320" cy="111600"/>
            </a:xfrm>
          </p:grpSpPr>
          <p:sp>
            <p:nvSpPr>
              <p:cNvPr id="1932" name=""/>
              <p:cNvSpPr/>
              <p:nvPr/>
            </p:nvSpPr>
            <p:spPr>
              <a:xfrm>
                <a:off x="6226200" y="250884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flipV="1">
                <a:off x="6334560" y="2457360"/>
                <a:ext cx="30600" cy="5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365520" y="2457720"/>
                <a:ext cx="435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flipV="1">
                <a:off x="6409080" y="245376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460560" y="2454120"/>
                <a:ext cx="536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V="1">
                <a:off x="6514560" y="245376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566040" y="2454120"/>
                <a:ext cx="597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V="1">
                <a:off x="6626160" y="2453760"/>
                <a:ext cx="4608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672600" y="2454120"/>
                <a:ext cx="370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6710040" y="250884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2" name=""/>
            <p:cNvSpPr/>
            <p:nvPr/>
          </p:nvSpPr>
          <p:spPr>
            <a:xfrm>
              <a:off x="3976200" y="170028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268400" y="35686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73440" y="2022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928640" y="2022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980400" y="29415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 rot="16200000">
              <a:off x="4843080" y="1525320"/>
              <a:ext cx="806400" cy="9021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4754880" y="20012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4708440" y="15519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5400000">
              <a:off x="4874400" y="3424680"/>
              <a:ext cx="806400" cy="90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785480" y="344160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785840" y="38941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3" name=""/>
            <p:cNvGrpSpPr/>
            <p:nvPr/>
          </p:nvGrpSpPr>
          <p:grpSpPr>
            <a:xfrm>
              <a:off x="5036400" y="2449440"/>
              <a:ext cx="562680" cy="109440"/>
              <a:chOff x="5036400" y="2449440"/>
              <a:chExt cx="562680" cy="109440"/>
            </a:xfrm>
          </p:grpSpPr>
          <p:sp>
            <p:nvSpPr>
              <p:cNvPr id="1954" name=""/>
              <p:cNvSpPr/>
              <p:nvPr/>
            </p:nvSpPr>
            <p:spPr>
              <a:xfrm>
                <a:off x="5036400" y="250380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5144760" y="2453400"/>
                <a:ext cx="3096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75720" y="2453040"/>
                <a:ext cx="435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V="1">
                <a:off x="5219280" y="244944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271120" y="2449440"/>
                <a:ext cx="5364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V="1">
                <a:off x="5324760" y="2449440"/>
                <a:ext cx="5184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376600" y="2449440"/>
                <a:ext cx="597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V="1">
                <a:off x="5436720" y="2449440"/>
                <a:ext cx="4644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483160" y="2449800"/>
                <a:ext cx="37080" cy="5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5520600" y="250380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4" name=""/>
            <p:cNvGrpSpPr/>
            <p:nvPr/>
          </p:nvGrpSpPr>
          <p:grpSpPr>
            <a:xfrm>
              <a:off x="5042520" y="3234960"/>
              <a:ext cx="563400" cy="111600"/>
              <a:chOff x="5042520" y="3234960"/>
              <a:chExt cx="563400" cy="111600"/>
            </a:xfrm>
          </p:grpSpPr>
          <p:sp>
            <p:nvSpPr>
              <p:cNvPr id="1965" name=""/>
              <p:cNvSpPr/>
              <p:nvPr/>
            </p:nvSpPr>
            <p:spPr>
              <a:xfrm>
                <a:off x="5042520" y="329004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flipV="1">
                <a:off x="5151240" y="3238560"/>
                <a:ext cx="30960" cy="5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182200" y="3238920"/>
                <a:ext cx="435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flipV="1">
                <a:off x="5225760" y="323496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5277600" y="3235320"/>
                <a:ext cx="536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flipV="1">
                <a:off x="5331600" y="3234960"/>
                <a:ext cx="518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5383440" y="3235320"/>
                <a:ext cx="6012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5443560" y="3234960"/>
                <a:ext cx="4644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5490000" y="3235320"/>
                <a:ext cx="370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5527440" y="329004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5" name=""/>
            <p:cNvSpPr/>
            <p:nvPr/>
          </p:nvSpPr>
          <p:spPr>
            <a:xfrm flipH="1">
              <a:off x="4595760" y="2149560"/>
              <a:ext cx="1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595760" y="2149560"/>
              <a:ext cx="0" cy="35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>
              <a:off x="4595400" y="3619440"/>
              <a:ext cx="231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4595760" y="3290400"/>
              <a:ext cx="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>
              <a:off x="4595400" y="250344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>
              <a:off x="4595400" y="329076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697360" y="19731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728320" y="38750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055920" y="197316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5599080" y="2506680"/>
              <a:ext cx="62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5606640" y="3290760"/>
              <a:ext cx="69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086880" y="3290400"/>
              <a:ext cx="0" cy="58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4056480" y="4100400"/>
              <a:ext cx="77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4025880" y="1730520"/>
              <a:ext cx="76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259240" y="26258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246280" y="295416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676080" y="893880"/>
            <a:ext cx="2141640" cy="3798720"/>
            <a:chOff x="676080" y="893880"/>
            <a:chExt cx="2141640" cy="3798720"/>
          </a:xfrm>
        </p:grpSpPr>
        <p:grpSp>
          <p:nvGrpSpPr>
            <p:cNvPr id="1992" name=""/>
            <p:cNvGrpSpPr/>
            <p:nvPr/>
          </p:nvGrpSpPr>
          <p:grpSpPr>
            <a:xfrm>
              <a:off x="676080" y="1427040"/>
              <a:ext cx="126000" cy="753840"/>
              <a:chOff x="676080" y="1427040"/>
              <a:chExt cx="126000" cy="753840"/>
            </a:xfrm>
          </p:grpSpPr>
          <p:sp>
            <p:nvSpPr>
              <p:cNvPr id="1993" name=""/>
              <p:cNvSpPr/>
              <p:nvPr/>
            </p:nvSpPr>
            <p:spPr>
              <a:xfrm flipV="1">
                <a:off x="738360" y="20354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H="1" flipV="1">
                <a:off x="680400" y="19940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V="1">
                <a:off x="680760" y="19357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H="1" flipV="1">
                <a:off x="676080" y="18662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V="1">
                <a:off x="676440" y="17946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flipH="1" flipV="1">
                <a:off x="676080" y="17247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V="1">
                <a:off x="676800" y="16444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H="1" flipV="1">
                <a:off x="676440" y="15825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V="1">
                <a:off x="676440" y="15325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V="1">
                <a:off x="738360" y="14270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3" name=""/>
            <p:cNvGrpSpPr/>
            <p:nvPr/>
          </p:nvGrpSpPr>
          <p:grpSpPr>
            <a:xfrm>
              <a:off x="680400" y="3525840"/>
              <a:ext cx="126000" cy="753840"/>
              <a:chOff x="680400" y="3525840"/>
              <a:chExt cx="126000" cy="753840"/>
            </a:xfrm>
          </p:grpSpPr>
          <p:sp>
            <p:nvSpPr>
              <p:cNvPr id="2004" name=""/>
              <p:cNvSpPr/>
              <p:nvPr/>
            </p:nvSpPr>
            <p:spPr>
              <a:xfrm flipV="1">
                <a:off x="742680" y="41342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H="1" flipV="1">
                <a:off x="684720" y="40928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685080" y="40345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H="1" flipV="1">
                <a:off x="680400" y="39650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V="1">
                <a:off x="680760" y="38934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 flipV="1">
                <a:off x="680400" y="38235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V="1">
                <a:off x="681120" y="37432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flipH="1" flipV="1">
                <a:off x="680760" y="36813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V="1">
                <a:off x="680760" y="36313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V="1">
                <a:off x="742680" y="35258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1685520" y="1428840"/>
              <a:ext cx="126000" cy="753840"/>
              <a:chOff x="1685520" y="1428840"/>
              <a:chExt cx="126000" cy="753840"/>
            </a:xfrm>
          </p:grpSpPr>
          <p:sp>
            <p:nvSpPr>
              <p:cNvPr id="2015" name=""/>
              <p:cNvSpPr/>
              <p:nvPr/>
            </p:nvSpPr>
            <p:spPr>
              <a:xfrm flipV="1">
                <a:off x="1747800" y="20372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H="1" flipV="1">
                <a:off x="1689840" y="19958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V="1">
                <a:off x="1690200" y="19375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H="1" flipV="1">
                <a:off x="1685520" y="18680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V="1">
                <a:off x="1685880" y="17964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 flipV="1">
                <a:off x="1685520" y="17265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V="1">
                <a:off x="1686240" y="16462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H="1" flipV="1">
                <a:off x="1685880" y="15843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V="1">
                <a:off x="1685880" y="15343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V="1">
                <a:off x="1747800" y="14288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5" name=""/>
            <p:cNvGrpSpPr/>
            <p:nvPr/>
          </p:nvGrpSpPr>
          <p:grpSpPr>
            <a:xfrm>
              <a:off x="1689840" y="3529080"/>
              <a:ext cx="126000" cy="753840"/>
              <a:chOff x="1689840" y="3529080"/>
              <a:chExt cx="126000" cy="753840"/>
            </a:xfrm>
          </p:grpSpPr>
          <p:sp>
            <p:nvSpPr>
              <p:cNvPr id="2026" name=""/>
              <p:cNvSpPr/>
              <p:nvPr/>
            </p:nvSpPr>
            <p:spPr>
              <a:xfrm flipV="1">
                <a:off x="1752120" y="41374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H="1" flipV="1">
                <a:off x="1694160" y="40960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V="1">
                <a:off x="1694520" y="40377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H="1" flipV="1">
                <a:off x="1689840" y="39682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flipV="1">
                <a:off x="1690200" y="38966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flipH="1" flipV="1">
                <a:off x="1689840" y="38268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flipV="1">
                <a:off x="1690560" y="37465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 flipV="1">
                <a:off x="1690200" y="36846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flipV="1">
                <a:off x="1690200" y="36345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flipV="1">
                <a:off x="1752120" y="35290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6" name=""/>
            <p:cNvGrpSpPr/>
            <p:nvPr/>
          </p:nvGrpSpPr>
          <p:grpSpPr>
            <a:xfrm>
              <a:off x="1105560" y="4283280"/>
              <a:ext cx="216360" cy="409320"/>
              <a:chOff x="1105560" y="4283280"/>
              <a:chExt cx="216360" cy="409320"/>
            </a:xfrm>
          </p:grpSpPr>
          <p:sp>
            <p:nvSpPr>
              <p:cNvPr id="2037" name=""/>
              <p:cNvSpPr/>
              <p:nvPr/>
            </p:nvSpPr>
            <p:spPr>
              <a:xfrm>
                <a:off x="1208520" y="4283280"/>
                <a:ext cx="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105560" y="4598280"/>
                <a:ext cx="21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154520" y="4649400"/>
                <a:ext cx="11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186200" y="469260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1" name=""/>
            <p:cNvSpPr/>
            <p:nvPr/>
          </p:nvSpPr>
          <p:spPr>
            <a:xfrm>
              <a:off x="741960" y="1427040"/>
              <a:ext cx="99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37640" y="4280040"/>
              <a:ext cx="99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174680" y="109224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237680" y="1219320"/>
              <a:ext cx="0" cy="2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37640" y="2181240"/>
              <a:ext cx="0" cy="134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747440" y="2181240"/>
              <a:ext cx="5760" cy="14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41960" y="2328840"/>
              <a:ext cx="94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810800" y="2328840"/>
              <a:ext cx="5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753560" y="3075120"/>
              <a:ext cx="61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179440" y="18385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372040" y="2265480"/>
              <a:ext cx="12420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372040" y="3016440"/>
              <a:ext cx="12420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179440" y="26053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860760" y="158292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860760" y="368136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835280" y="368640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853640" y="1563840"/>
              <a:ext cx="96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339200" y="893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4500720" y="4324320"/>
                <a:ext cx="30938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0" name=""/>
          <p:cNvSpPr/>
          <p:nvPr/>
        </p:nvSpPr>
        <p:spPr>
          <a:xfrm>
            <a:off x="372960" y="5392800"/>
            <a:ext cx="85028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Impedancia de entrad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La ganancia depende de varias resistencias (R</a:t>
            </a:r>
            <a:r>
              <a:rPr b="0" lang="en-US" sz="2400" spc="-1" strike="noStrike" baseline="-25000">
                <a:solidFill>
                  <a:srgbClr val="336699"/>
                </a:solidFill>
                <a:latin typeface="Arial Unicode MS"/>
                <a:ea typeface="Arial"/>
              </a:rPr>
              <a:t>1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y R</a:t>
            </a:r>
            <a:r>
              <a:rPr b="0" lang="en-US" sz="2400" spc="-1" strike="noStrike" baseline="-25000">
                <a:solidFill>
                  <a:srgbClr val="336699"/>
                </a:solidFill>
                <a:latin typeface="Arial Unicode MS"/>
                <a:ea typeface="Arial"/>
              </a:rPr>
              <a:t>2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2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2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213840" y="38160"/>
            <a:ext cx="892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de instrumentación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4114800" y="3981600"/>
                <a:ext cx="45608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´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´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064" name=""/>
          <p:cNvGrpSpPr/>
          <p:nvPr/>
        </p:nvGrpSpPr>
        <p:grpSpPr>
          <a:xfrm>
            <a:off x="604440" y="909720"/>
            <a:ext cx="2142000" cy="3798720"/>
            <a:chOff x="604440" y="909720"/>
            <a:chExt cx="2142000" cy="3798720"/>
          </a:xfrm>
        </p:grpSpPr>
        <p:grpSp>
          <p:nvGrpSpPr>
            <p:cNvPr id="2065" name=""/>
            <p:cNvGrpSpPr/>
            <p:nvPr/>
          </p:nvGrpSpPr>
          <p:grpSpPr>
            <a:xfrm>
              <a:off x="604440" y="1442880"/>
              <a:ext cx="126000" cy="753840"/>
              <a:chOff x="604440" y="1442880"/>
              <a:chExt cx="126000" cy="753840"/>
            </a:xfrm>
          </p:grpSpPr>
          <p:sp>
            <p:nvSpPr>
              <p:cNvPr id="2066" name=""/>
              <p:cNvSpPr/>
              <p:nvPr/>
            </p:nvSpPr>
            <p:spPr>
              <a:xfrm flipV="1">
                <a:off x="666720" y="20512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H="1" flipV="1">
                <a:off x="608760" y="20098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V="1">
                <a:off x="609120" y="19515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H="1" flipV="1">
                <a:off x="604440" y="18820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V="1">
                <a:off x="604800" y="18104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H="1" flipV="1">
                <a:off x="604440" y="17406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flipV="1">
                <a:off x="605160" y="16603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H="1" flipV="1">
                <a:off x="604800" y="15984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V="1">
                <a:off x="604800" y="15483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V="1">
                <a:off x="666720" y="14428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08760" y="3541680"/>
              <a:ext cx="126000" cy="753840"/>
              <a:chOff x="608760" y="3541680"/>
              <a:chExt cx="126000" cy="753840"/>
            </a:xfrm>
          </p:grpSpPr>
          <p:sp>
            <p:nvSpPr>
              <p:cNvPr id="2077" name=""/>
              <p:cNvSpPr/>
              <p:nvPr/>
            </p:nvSpPr>
            <p:spPr>
              <a:xfrm flipV="1">
                <a:off x="671040" y="41500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H="1" flipV="1">
                <a:off x="613080" y="41086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613440" y="40503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H="1" flipV="1">
                <a:off x="608760" y="39808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flipV="1">
                <a:off x="609120" y="39092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H="1" flipV="1">
                <a:off x="608760" y="38394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V="1">
                <a:off x="609480" y="37591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H="1" flipV="1">
                <a:off x="609120" y="36972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609120" y="36471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V="1">
                <a:off x="671040" y="35416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7" name=""/>
            <p:cNvGrpSpPr/>
            <p:nvPr/>
          </p:nvGrpSpPr>
          <p:grpSpPr>
            <a:xfrm>
              <a:off x="1614240" y="1444680"/>
              <a:ext cx="126000" cy="753840"/>
              <a:chOff x="1614240" y="1444680"/>
              <a:chExt cx="126000" cy="753840"/>
            </a:xfrm>
          </p:grpSpPr>
          <p:sp>
            <p:nvSpPr>
              <p:cNvPr id="2088" name=""/>
              <p:cNvSpPr/>
              <p:nvPr/>
            </p:nvSpPr>
            <p:spPr>
              <a:xfrm flipV="1">
                <a:off x="1676520" y="20530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H="1" flipV="1">
                <a:off x="1618560" y="20116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V="1">
                <a:off x="1618920" y="19533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H="1" flipV="1">
                <a:off x="1614240" y="18838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V="1">
                <a:off x="1614600" y="18122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H="1" flipV="1">
                <a:off x="1614240" y="17424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V="1">
                <a:off x="1614960" y="16621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H="1" flipV="1">
                <a:off x="1614600" y="16002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flipV="1">
                <a:off x="1614600" y="15501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1676520" y="14446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8" name=""/>
            <p:cNvGrpSpPr/>
            <p:nvPr/>
          </p:nvGrpSpPr>
          <p:grpSpPr>
            <a:xfrm>
              <a:off x="1618560" y="3544920"/>
              <a:ext cx="126000" cy="753840"/>
              <a:chOff x="1618560" y="3544920"/>
              <a:chExt cx="126000" cy="753840"/>
            </a:xfrm>
          </p:grpSpPr>
          <p:sp>
            <p:nvSpPr>
              <p:cNvPr id="2099" name=""/>
              <p:cNvSpPr/>
              <p:nvPr/>
            </p:nvSpPr>
            <p:spPr>
              <a:xfrm flipV="1">
                <a:off x="1680840" y="415332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H="1" flipV="1">
                <a:off x="1622880" y="411192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1623240" y="405360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H="1" flipV="1">
                <a:off x="1618560" y="398412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V="1">
                <a:off x="1618920" y="391248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flipH="1" flipV="1">
                <a:off x="1618560" y="384264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1619280" y="376236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flipH="1" flipV="1">
                <a:off x="1618920" y="370044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1618920" y="365040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1680840" y="354492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9" name=""/>
            <p:cNvGrpSpPr/>
            <p:nvPr/>
          </p:nvGrpSpPr>
          <p:grpSpPr>
            <a:xfrm>
              <a:off x="1034280" y="4299120"/>
              <a:ext cx="216720" cy="409320"/>
              <a:chOff x="1034280" y="4299120"/>
              <a:chExt cx="216720" cy="409320"/>
            </a:xfrm>
          </p:grpSpPr>
          <p:sp>
            <p:nvSpPr>
              <p:cNvPr id="2110" name=""/>
              <p:cNvSpPr/>
              <p:nvPr/>
            </p:nvSpPr>
            <p:spPr>
              <a:xfrm>
                <a:off x="1137600" y="4299120"/>
                <a:ext cx="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1034280" y="4614120"/>
                <a:ext cx="21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1083240" y="4665240"/>
                <a:ext cx="11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1114920" y="470844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4" name=""/>
            <p:cNvSpPr/>
            <p:nvPr/>
          </p:nvSpPr>
          <p:spPr>
            <a:xfrm>
              <a:off x="670320" y="1442880"/>
              <a:ext cx="99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66000" y="4295880"/>
              <a:ext cx="99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103040" y="110808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166040" y="1235160"/>
              <a:ext cx="0" cy="2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66000" y="2197080"/>
              <a:ext cx="0" cy="134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676160" y="2197080"/>
              <a:ext cx="5760" cy="14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70320" y="2344680"/>
              <a:ext cx="94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739160" y="2344680"/>
              <a:ext cx="5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681920" y="3090960"/>
              <a:ext cx="61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108160" y="18543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300760" y="2281320"/>
              <a:ext cx="12420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300760" y="3032280"/>
              <a:ext cx="12420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2108160" y="26211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120" y="159876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89120" y="369720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764000" y="370224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782360" y="1579680"/>
              <a:ext cx="96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267560" y="90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2" name=""/>
          <p:cNvSpPr/>
          <p:nvPr/>
        </p:nvSpPr>
        <p:spPr>
          <a:xfrm>
            <a:off x="388800" y="5119560"/>
            <a:ext cx="699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Impedancia de entrad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La ganancia depende de una resistencia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3" name=""/>
          <p:cNvGrpSpPr/>
          <p:nvPr/>
        </p:nvGrpSpPr>
        <p:grpSpPr>
          <a:xfrm>
            <a:off x="3612960" y="967680"/>
            <a:ext cx="5252400" cy="2741040"/>
            <a:chOff x="3612960" y="967680"/>
            <a:chExt cx="5252400" cy="2741040"/>
          </a:xfrm>
        </p:grpSpPr>
        <p:sp>
          <p:nvSpPr>
            <p:cNvPr id="2134" name=""/>
            <p:cNvSpPr/>
            <p:nvPr/>
          </p:nvSpPr>
          <p:spPr>
            <a:xfrm flipH="1">
              <a:off x="7157520" y="2266920"/>
              <a:ext cx="22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6804720" y="2709720"/>
              <a:ext cx="58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H="1">
              <a:off x="8267400" y="2481120"/>
              <a:ext cx="22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rot="5400000">
              <a:off x="7431480" y="2032920"/>
              <a:ext cx="807840" cy="901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336080" y="2028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336440" y="25052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0" name=""/>
            <p:cNvGrpSpPr/>
            <p:nvPr/>
          </p:nvGrpSpPr>
          <p:grpSpPr>
            <a:xfrm>
              <a:off x="7030800" y="3321000"/>
              <a:ext cx="171360" cy="333360"/>
              <a:chOff x="7030800" y="3321000"/>
              <a:chExt cx="171360" cy="333360"/>
            </a:xfrm>
          </p:grpSpPr>
          <p:sp>
            <p:nvSpPr>
              <p:cNvPr id="2141" name=""/>
              <p:cNvSpPr/>
              <p:nvPr/>
            </p:nvSpPr>
            <p:spPr>
              <a:xfrm>
                <a:off x="7112520" y="3321000"/>
                <a:ext cx="0" cy="25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030800" y="357768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069680" y="3619440"/>
                <a:ext cx="8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7094520" y="3654360"/>
                <a:ext cx="4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5" name=""/>
            <p:cNvSpPr/>
            <p:nvPr/>
          </p:nvSpPr>
          <p:spPr>
            <a:xfrm>
              <a:off x="8494200" y="2208240"/>
              <a:ext cx="37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6" name=""/>
            <p:cNvGrpSpPr/>
            <p:nvPr/>
          </p:nvGrpSpPr>
          <p:grpSpPr>
            <a:xfrm>
              <a:off x="7722360" y="1870200"/>
              <a:ext cx="563760" cy="108000"/>
              <a:chOff x="7722360" y="1870200"/>
              <a:chExt cx="563760" cy="108000"/>
            </a:xfrm>
          </p:grpSpPr>
          <p:sp>
            <p:nvSpPr>
              <p:cNvPr id="2147" name=""/>
              <p:cNvSpPr/>
              <p:nvPr/>
            </p:nvSpPr>
            <p:spPr>
              <a:xfrm>
                <a:off x="7722360" y="192384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V="1">
                <a:off x="7831080" y="1874160"/>
                <a:ext cx="3096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862040" y="1873800"/>
                <a:ext cx="435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flipV="1">
                <a:off x="7905960" y="1870200"/>
                <a:ext cx="5148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957440" y="1870200"/>
                <a:ext cx="536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V="1">
                <a:off x="8011440" y="1870200"/>
                <a:ext cx="518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8063280" y="1870560"/>
                <a:ext cx="601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flipV="1">
                <a:off x="8123760" y="1870560"/>
                <a:ext cx="4644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8170200" y="1870560"/>
                <a:ext cx="37080" cy="5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8207640" y="192384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7" name=""/>
            <p:cNvGrpSpPr/>
            <p:nvPr/>
          </p:nvGrpSpPr>
          <p:grpSpPr>
            <a:xfrm>
              <a:off x="6251040" y="2654280"/>
              <a:ext cx="560880" cy="109440"/>
              <a:chOff x="6251040" y="2654280"/>
              <a:chExt cx="560880" cy="109440"/>
            </a:xfrm>
          </p:grpSpPr>
          <p:sp>
            <p:nvSpPr>
              <p:cNvPr id="2158" name=""/>
              <p:cNvSpPr/>
              <p:nvPr/>
            </p:nvSpPr>
            <p:spPr>
              <a:xfrm>
                <a:off x="6251040" y="2708640"/>
                <a:ext cx="1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flipV="1">
                <a:off x="6359040" y="2658240"/>
                <a:ext cx="3060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6390000" y="2657880"/>
                <a:ext cx="4320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6433560" y="265428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6485040" y="2654280"/>
                <a:ext cx="532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flipV="1">
                <a:off x="6538680" y="265428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6590520" y="2654280"/>
                <a:ext cx="597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V="1">
                <a:off x="6650280" y="2654280"/>
                <a:ext cx="4608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6696720" y="2654640"/>
                <a:ext cx="37080" cy="5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733800" y="2708640"/>
                <a:ext cx="7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8" name=""/>
            <p:cNvSpPr/>
            <p:nvPr/>
          </p:nvSpPr>
          <p:spPr>
            <a:xfrm>
              <a:off x="6708240" y="1922400"/>
              <a:ext cx="1013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7157880" y="1922040"/>
              <a:ext cx="0" cy="34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8396640" y="1922400"/>
              <a:ext cx="0" cy="55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>
              <a:off x="8286120" y="1922400"/>
              <a:ext cx="10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612960" y="9889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8487360" y="2452680"/>
              <a:ext cx="48240" cy="57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959280" y="348624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6408720" y="22716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6" name=""/>
            <p:cNvGrpSpPr/>
            <p:nvPr/>
          </p:nvGrpSpPr>
          <p:grpSpPr>
            <a:xfrm>
              <a:off x="7057080" y="2709720"/>
              <a:ext cx="101160" cy="612720"/>
              <a:chOff x="7057080" y="2709720"/>
              <a:chExt cx="101160" cy="612720"/>
            </a:xfrm>
          </p:grpSpPr>
          <p:sp>
            <p:nvSpPr>
              <p:cNvPr id="2177" name=""/>
              <p:cNvSpPr/>
              <p:nvPr/>
            </p:nvSpPr>
            <p:spPr>
              <a:xfrm flipV="1">
                <a:off x="7107120" y="3204360"/>
                <a:ext cx="0" cy="11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H="1" flipV="1">
                <a:off x="7060680" y="3170880"/>
                <a:ext cx="46440" cy="3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V="1">
                <a:off x="7060680" y="3123000"/>
                <a:ext cx="97560" cy="47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flipH="1" flipV="1">
                <a:off x="7057080" y="306684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7057080" y="3008520"/>
                <a:ext cx="10080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H="1" flipV="1">
                <a:off x="7057080" y="295200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flipV="1">
                <a:off x="7057440" y="2886480"/>
                <a:ext cx="97560" cy="6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H="1" flipV="1">
                <a:off x="7057080" y="2836080"/>
                <a:ext cx="9756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V="1">
                <a:off x="7057440" y="2795400"/>
                <a:ext cx="5004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flipV="1">
                <a:off x="7107120" y="2709720"/>
                <a:ext cx="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7" name=""/>
            <p:cNvSpPr/>
            <p:nvPr/>
          </p:nvSpPr>
          <p:spPr>
            <a:xfrm>
              <a:off x="3798720" y="30891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8" name=""/>
            <p:cNvGrpSpPr/>
            <p:nvPr/>
          </p:nvGrpSpPr>
          <p:grpSpPr>
            <a:xfrm>
              <a:off x="6179400" y="1870200"/>
              <a:ext cx="562320" cy="110880"/>
              <a:chOff x="6179400" y="1870200"/>
              <a:chExt cx="562320" cy="110880"/>
            </a:xfrm>
          </p:grpSpPr>
          <p:sp>
            <p:nvSpPr>
              <p:cNvPr id="2189" name=""/>
              <p:cNvSpPr/>
              <p:nvPr/>
            </p:nvSpPr>
            <p:spPr>
              <a:xfrm>
                <a:off x="6179400" y="192528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V="1">
                <a:off x="6287760" y="1874160"/>
                <a:ext cx="30600" cy="51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318720" y="1873800"/>
                <a:ext cx="4356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V="1">
                <a:off x="6362280" y="1870200"/>
                <a:ext cx="51480" cy="11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413760" y="1870200"/>
                <a:ext cx="53640" cy="11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V="1">
                <a:off x="6467760" y="1870200"/>
                <a:ext cx="51480" cy="11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519240" y="1870200"/>
                <a:ext cx="5976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V="1">
                <a:off x="6579360" y="1870200"/>
                <a:ext cx="4608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6625800" y="1870560"/>
                <a:ext cx="37080" cy="5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6663240" y="192528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9" name=""/>
            <p:cNvSpPr/>
            <p:nvPr/>
          </p:nvSpPr>
          <p:spPr>
            <a:xfrm>
              <a:off x="3928320" y="111600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221960" y="29844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324840" y="14382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7880400" y="14382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934680" y="235728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V="1" rot="16200000">
              <a:off x="4795200" y="940680"/>
              <a:ext cx="806400" cy="902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4707720" y="1416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V="1">
              <a:off x="4661280" y="96768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 rot="5400000">
              <a:off x="4827240" y="2840400"/>
              <a:ext cx="806400" cy="90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738320" y="285768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738680" y="33098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0" name=""/>
            <p:cNvGrpSpPr/>
            <p:nvPr/>
          </p:nvGrpSpPr>
          <p:grpSpPr>
            <a:xfrm>
              <a:off x="4989240" y="1864800"/>
              <a:ext cx="562320" cy="110160"/>
              <a:chOff x="4989240" y="1864800"/>
              <a:chExt cx="562320" cy="110160"/>
            </a:xfrm>
          </p:grpSpPr>
          <p:sp>
            <p:nvSpPr>
              <p:cNvPr id="2211" name=""/>
              <p:cNvSpPr/>
              <p:nvPr/>
            </p:nvSpPr>
            <p:spPr>
              <a:xfrm>
                <a:off x="4989240" y="191916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V="1">
                <a:off x="5097600" y="1868400"/>
                <a:ext cx="3060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128560" y="1868760"/>
                <a:ext cx="4356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V="1">
                <a:off x="5172120" y="1864800"/>
                <a:ext cx="51480" cy="10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223600" y="1865160"/>
                <a:ext cx="53640" cy="10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V="1">
                <a:off x="5277600" y="1864800"/>
                <a:ext cx="51480" cy="10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329080" y="1865160"/>
                <a:ext cx="5976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V="1">
                <a:off x="5389200" y="1864800"/>
                <a:ext cx="460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435640" y="1865160"/>
                <a:ext cx="37080" cy="5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473080" y="191916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1" name=""/>
            <p:cNvGrpSpPr/>
            <p:nvPr/>
          </p:nvGrpSpPr>
          <p:grpSpPr>
            <a:xfrm>
              <a:off x="4995360" y="2650680"/>
              <a:ext cx="563400" cy="111600"/>
              <a:chOff x="4995360" y="2650680"/>
              <a:chExt cx="563400" cy="111600"/>
            </a:xfrm>
          </p:grpSpPr>
          <p:sp>
            <p:nvSpPr>
              <p:cNvPr id="2222" name=""/>
              <p:cNvSpPr/>
              <p:nvPr/>
            </p:nvSpPr>
            <p:spPr>
              <a:xfrm>
                <a:off x="4995360" y="270576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V="1">
                <a:off x="5104080" y="2654280"/>
                <a:ext cx="30960" cy="5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135040" y="2654640"/>
                <a:ext cx="435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flipV="1">
                <a:off x="5178600" y="265068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230440" y="2651040"/>
                <a:ext cx="536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V="1">
                <a:off x="5284440" y="2650680"/>
                <a:ext cx="518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336280" y="2651040"/>
                <a:ext cx="6012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5396400" y="2650680"/>
                <a:ext cx="4644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5442840" y="2651040"/>
                <a:ext cx="370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5480280" y="270576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 flipH="1">
              <a:off x="4548600" y="1565280"/>
              <a:ext cx="1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548600" y="1565280"/>
              <a:ext cx="0" cy="35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>
              <a:off x="4548240" y="3035160"/>
              <a:ext cx="231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4548600" y="2706840"/>
              <a:ext cx="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>
              <a:off x="4548240" y="191916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H="1">
              <a:off x="4548240" y="270684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650200" y="13892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680800" y="329076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009120" y="138924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5551920" y="1922400"/>
              <a:ext cx="62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>
              <a:off x="5559120" y="2706840"/>
              <a:ext cx="69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6040080" y="2706840"/>
              <a:ext cx="0" cy="58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>
              <a:off x="4008600" y="3516480"/>
              <a:ext cx="77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H="1">
              <a:off x="3978000" y="1146240"/>
              <a:ext cx="76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213160" y="204156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199480" y="23702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625280" y="211608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9" name=""/>
            <p:cNvGrpSpPr/>
            <p:nvPr/>
          </p:nvGrpSpPr>
          <p:grpSpPr>
            <a:xfrm>
              <a:off x="4502880" y="2000520"/>
              <a:ext cx="101160" cy="612360"/>
              <a:chOff x="4502880" y="2000520"/>
              <a:chExt cx="101160" cy="612360"/>
            </a:xfrm>
          </p:grpSpPr>
          <p:sp>
            <p:nvSpPr>
              <p:cNvPr id="2250" name=""/>
              <p:cNvSpPr/>
              <p:nvPr/>
            </p:nvSpPr>
            <p:spPr>
              <a:xfrm flipV="1">
                <a:off x="4552920" y="2494800"/>
                <a:ext cx="0" cy="11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flipH="1" flipV="1">
                <a:off x="4506480" y="2461320"/>
                <a:ext cx="46440" cy="3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flipV="1">
                <a:off x="4506480" y="2413800"/>
                <a:ext cx="97560" cy="4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flipH="1" flipV="1">
                <a:off x="4502880" y="235728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flipV="1">
                <a:off x="4502880" y="2298960"/>
                <a:ext cx="10080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H="1" flipV="1">
                <a:off x="4502880" y="224280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flipV="1">
                <a:off x="4503240" y="2177280"/>
                <a:ext cx="97560" cy="6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H="1" flipV="1">
                <a:off x="4502880" y="2126520"/>
                <a:ext cx="9756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V="1">
                <a:off x="4503240" y="2086200"/>
                <a:ext cx="5004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V="1">
                <a:off x="4552920" y="2000520"/>
                <a:ext cx="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0" name=""/>
            <p:cNvSpPr/>
            <p:nvPr/>
          </p:nvSpPr>
          <p:spPr>
            <a:xfrm flipV="1">
              <a:off x="4554000" y="1898640"/>
              <a:ext cx="0" cy="1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548600" y="2597040"/>
              <a:ext cx="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2" name=""/>
          <p:cNvSpPr/>
          <p:nvPr/>
        </p:nvSpPr>
        <p:spPr>
          <a:xfrm>
            <a:off x="4352760" y="841320"/>
            <a:ext cx="4114800" cy="301932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2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991800" y="0"/>
            <a:ext cx="73659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sión corriente-tensión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4" name=""/>
              <p:cNvSpPr txBox="1"/>
              <p:nvPr/>
            </p:nvSpPr>
            <p:spPr>
              <a:xfrm>
                <a:off x="942840" y="5805360"/>
                <a:ext cx="1881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5" name=""/>
          <p:cNvSpPr/>
          <p:nvPr/>
        </p:nvSpPr>
        <p:spPr>
          <a:xfrm>
            <a:off x="76320" y="876240"/>
            <a:ext cx="89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Objetivo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btener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una tensión V(t) proporcional a una corriente i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6" name=""/>
          <p:cNvGrpSpPr/>
          <p:nvPr/>
        </p:nvGrpSpPr>
        <p:grpSpPr>
          <a:xfrm>
            <a:off x="205200" y="2139840"/>
            <a:ext cx="3639240" cy="2913840"/>
            <a:chOff x="205200" y="2139840"/>
            <a:chExt cx="3639240" cy="2913840"/>
          </a:xfrm>
        </p:grpSpPr>
        <p:sp>
          <p:nvSpPr>
            <p:cNvPr id="2267" name=""/>
            <p:cNvSpPr/>
            <p:nvPr/>
          </p:nvSpPr>
          <p:spPr>
            <a:xfrm>
              <a:off x="675000" y="2139840"/>
              <a:ext cx="26726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ircuito simp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8" name=""/>
            <p:cNvGrpSpPr/>
            <p:nvPr/>
          </p:nvGrpSpPr>
          <p:grpSpPr>
            <a:xfrm>
              <a:off x="205200" y="2962080"/>
              <a:ext cx="3639240" cy="2091600"/>
              <a:chOff x="205200" y="2962080"/>
              <a:chExt cx="3639240" cy="2091600"/>
            </a:xfrm>
          </p:grpSpPr>
          <p:grpSp>
            <p:nvGrpSpPr>
              <p:cNvPr id="2269" name=""/>
              <p:cNvGrpSpPr/>
              <p:nvPr/>
            </p:nvGrpSpPr>
            <p:grpSpPr>
              <a:xfrm>
                <a:off x="2620800" y="3679560"/>
                <a:ext cx="165600" cy="1017000"/>
                <a:chOff x="2620800" y="3679560"/>
                <a:chExt cx="165600" cy="1017000"/>
              </a:xfrm>
            </p:grpSpPr>
            <p:sp>
              <p:nvSpPr>
                <p:cNvPr id="2270" name=""/>
                <p:cNvSpPr/>
                <p:nvPr/>
              </p:nvSpPr>
              <p:spPr>
                <a:xfrm>
                  <a:off x="2704320" y="3679560"/>
                  <a:ext cx="0" cy="196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2704320" y="3875760"/>
                  <a:ext cx="76320" cy="5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 flipH="1">
                  <a:off x="2621160" y="3931560"/>
                  <a:ext cx="159840" cy="78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2621160" y="4010400"/>
                  <a:ext cx="165240" cy="9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 flipH="1">
                  <a:off x="2620800" y="4104000"/>
                  <a:ext cx="165240" cy="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2621160" y="4200840"/>
                  <a:ext cx="165240" cy="93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 flipH="1">
                  <a:off x="2626560" y="4294800"/>
                  <a:ext cx="159840" cy="108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2626560" y="4403160"/>
                  <a:ext cx="159840" cy="8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 flipH="1">
                  <a:off x="2703960" y="4487040"/>
                  <a:ext cx="81720" cy="67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2704320" y="4554720"/>
                  <a:ext cx="0" cy="14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0" name=""/>
              <p:cNvSpPr/>
              <p:nvPr/>
            </p:nvSpPr>
            <p:spPr>
              <a:xfrm flipH="1">
                <a:off x="1366560" y="3679560"/>
                <a:ext cx="133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H="1">
                <a:off x="1366560" y="4696920"/>
                <a:ext cx="133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1554120" y="3526920"/>
                <a:ext cx="106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554120" y="2962080"/>
                <a:ext cx="88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i(t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flipV="1">
                <a:off x="2963880" y="3876120"/>
                <a:ext cx="0" cy="82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963880" y="4035240"/>
                <a:ext cx="88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(t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1740240" y="3968280"/>
                <a:ext cx="88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920880" y="3876480"/>
                <a:ext cx="369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920880" y="3876480"/>
                <a:ext cx="0" cy="67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205200" y="4593960"/>
                <a:ext cx="889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Ze=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0" name=""/>
          <p:cNvSpPr/>
          <p:nvPr/>
        </p:nvSpPr>
        <p:spPr>
          <a:xfrm>
            <a:off x="5078520" y="1974960"/>
            <a:ext cx="29876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ircuito mejo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1" name=""/>
          <p:cNvGrpSpPr/>
          <p:nvPr/>
        </p:nvGrpSpPr>
        <p:grpSpPr>
          <a:xfrm>
            <a:off x="4199400" y="2548080"/>
            <a:ext cx="4843440" cy="2698560"/>
            <a:chOff x="4199400" y="2548080"/>
            <a:chExt cx="4843440" cy="2698560"/>
          </a:xfrm>
        </p:grpSpPr>
        <p:sp>
          <p:nvSpPr>
            <p:cNvPr id="2292" name=""/>
            <p:cNvSpPr/>
            <p:nvPr/>
          </p:nvSpPr>
          <p:spPr>
            <a:xfrm rot="5400000">
              <a:off x="6523920" y="358056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H="1">
              <a:off x="6053760" y="39798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H="1">
              <a:off x="6063840" y="47037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H="1">
              <a:off x="7907400" y="43308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425280" y="3728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425640" y="44751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8" name=""/>
            <p:cNvGrpSpPr/>
            <p:nvPr/>
          </p:nvGrpSpPr>
          <p:grpSpPr>
            <a:xfrm>
              <a:off x="5923080" y="4703760"/>
              <a:ext cx="286920" cy="542880"/>
              <a:chOff x="5923080" y="4703760"/>
              <a:chExt cx="286920" cy="542880"/>
            </a:xfrm>
          </p:grpSpPr>
          <p:sp>
            <p:nvSpPr>
              <p:cNvPr id="2299" name=""/>
              <p:cNvSpPr/>
              <p:nvPr/>
            </p:nvSpPr>
            <p:spPr>
              <a:xfrm>
                <a:off x="6059880" y="47037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923080" y="512172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987880" y="518940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030000" y="5246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3" name=""/>
            <p:cNvSpPr/>
            <p:nvPr/>
          </p:nvSpPr>
          <p:spPr>
            <a:xfrm>
              <a:off x="8280000" y="3822840"/>
              <a:ext cx="76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4" name=""/>
            <p:cNvGrpSpPr/>
            <p:nvPr/>
          </p:nvGrpSpPr>
          <p:grpSpPr>
            <a:xfrm>
              <a:off x="6644160" y="3328560"/>
              <a:ext cx="938520" cy="180000"/>
              <a:chOff x="6644160" y="3328560"/>
              <a:chExt cx="938520" cy="180000"/>
            </a:xfrm>
          </p:grpSpPr>
          <p:sp>
            <p:nvSpPr>
              <p:cNvPr id="2305" name=""/>
              <p:cNvSpPr/>
              <p:nvPr/>
            </p:nvSpPr>
            <p:spPr>
              <a:xfrm>
                <a:off x="6644160" y="3417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V="1">
                <a:off x="6825240" y="333504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876720" y="3334680"/>
                <a:ext cx="7272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flipV="1">
                <a:off x="6949800" y="3328560"/>
                <a:ext cx="8604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035840" y="3328920"/>
                <a:ext cx="8928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V="1">
                <a:off x="7125480" y="3328560"/>
                <a:ext cx="8640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211880" y="3328920"/>
                <a:ext cx="10008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V="1">
                <a:off x="7311960" y="3328920"/>
                <a:ext cx="7740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389360" y="3329280"/>
                <a:ext cx="6192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451640" y="3417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5" name=""/>
            <p:cNvSpPr/>
            <p:nvPr/>
          </p:nvSpPr>
          <p:spPr>
            <a:xfrm>
              <a:off x="5832360" y="3416400"/>
              <a:ext cx="85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V="1">
              <a:off x="6053760" y="34146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8122680" y="341460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7523640" y="3427560"/>
              <a:ext cx="59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8273520" y="42829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829760" y="336708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952680" y="300528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357520" y="3325680"/>
              <a:ext cx="63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210360" y="3325680"/>
              <a:ext cx="542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512320" y="2816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321240" y="2870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053760" y="4059360"/>
              <a:ext cx="0" cy="5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532480" y="41022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911840" y="3414600"/>
              <a:ext cx="44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H="1">
              <a:off x="5357160" y="3414600"/>
              <a:ext cx="47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>
              <a:off x="6825600" y="2995560"/>
              <a:ext cx="75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898320" y="2548080"/>
              <a:ext cx="66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907520" y="3686040"/>
              <a:ext cx="36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907520" y="3686040"/>
              <a:ext cx="0" cy="67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199400" y="447516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e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35" name=""/>
              <p:cNvSpPr txBox="1"/>
              <p:nvPr/>
            </p:nvSpPr>
            <p:spPr>
              <a:xfrm>
                <a:off x="3971880" y="5718240"/>
                <a:ext cx="39592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6" name=""/>
          <p:cNvSpPr/>
          <p:nvPr/>
        </p:nvSpPr>
        <p:spPr>
          <a:xfrm>
            <a:off x="139680" y="4483080"/>
            <a:ext cx="1008000" cy="749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4151160" y="4332240"/>
            <a:ext cx="1008360" cy="749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138320" y="0"/>
            <a:ext cx="73483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76320" y="876240"/>
            <a:ext cx="89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: obtener una corriente i(t) proporcional a una tensión V(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2724120" y="1752480"/>
            <a:ext cx="37990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1" name=""/>
              <p:cNvSpPr txBox="1"/>
              <p:nvPr/>
            </p:nvSpPr>
            <p:spPr>
              <a:xfrm>
                <a:off x="3697200" y="4948200"/>
                <a:ext cx="187020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2" name=""/>
          <p:cNvSpPr/>
          <p:nvPr/>
        </p:nvSpPr>
        <p:spPr>
          <a:xfrm>
            <a:off x="546120" y="4776840"/>
            <a:ext cx="26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mplificador no inve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6033960" y="4943520"/>
            <a:ext cx="26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mplificador inve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4" name=""/>
          <p:cNvGrpSpPr/>
          <p:nvPr/>
        </p:nvGrpSpPr>
        <p:grpSpPr>
          <a:xfrm>
            <a:off x="343080" y="2300400"/>
            <a:ext cx="3972600" cy="2193840"/>
            <a:chOff x="343080" y="2300400"/>
            <a:chExt cx="3972600" cy="2193840"/>
          </a:xfrm>
        </p:grpSpPr>
        <p:sp>
          <p:nvSpPr>
            <p:cNvPr id="2345" name=""/>
            <p:cNvSpPr/>
            <p:nvPr/>
          </p:nvSpPr>
          <p:spPr>
            <a:xfrm rot="5400000">
              <a:off x="2081160" y="308052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H="1">
              <a:off x="1610280" y="347976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1620720" y="4203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>
              <a:off x="3462840" y="38307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982520" y="3228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982880" y="3973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1" name=""/>
            <p:cNvGrpSpPr/>
            <p:nvPr/>
          </p:nvGrpSpPr>
          <p:grpSpPr>
            <a:xfrm>
              <a:off x="343080" y="2911320"/>
              <a:ext cx="288720" cy="543240"/>
              <a:chOff x="343080" y="2911320"/>
              <a:chExt cx="288720" cy="543240"/>
            </a:xfrm>
          </p:grpSpPr>
          <p:sp>
            <p:nvSpPr>
              <p:cNvPr id="2352" name=""/>
              <p:cNvSpPr/>
              <p:nvPr/>
            </p:nvSpPr>
            <p:spPr>
              <a:xfrm>
                <a:off x="480600" y="291132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43080" y="332928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408240" y="339732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450720" y="345456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6" name=""/>
            <p:cNvSpPr/>
            <p:nvPr/>
          </p:nvSpPr>
          <p:spPr>
            <a:xfrm>
              <a:off x="3845520" y="3295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7" name=""/>
            <p:cNvGrpSpPr/>
            <p:nvPr/>
          </p:nvGrpSpPr>
          <p:grpSpPr>
            <a:xfrm>
              <a:off x="468720" y="2823840"/>
              <a:ext cx="938880" cy="181440"/>
              <a:chOff x="468720" y="2823840"/>
              <a:chExt cx="938880" cy="181440"/>
            </a:xfrm>
          </p:grpSpPr>
          <p:sp>
            <p:nvSpPr>
              <p:cNvPr id="2358" name=""/>
              <p:cNvSpPr/>
              <p:nvPr/>
            </p:nvSpPr>
            <p:spPr>
              <a:xfrm>
                <a:off x="468720" y="2913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V="1">
                <a:off x="649800" y="2830320"/>
                <a:ext cx="514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01640" y="2829960"/>
                <a:ext cx="7272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V="1">
                <a:off x="774360" y="2823840"/>
                <a:ext cx="860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860400" y="2824200"/>
                <a:ext cx="896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 flipV="1">
                <a:off x="950040" y="2823840"/>
                <a:ext cx="8640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036440" y="2824200"/>
                <a:ext cx="1000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 flipV="1">
                <a:off x="1136880" y="2824200"/>
                <a:ext cx="7740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214280" y="2824560"/>
                <a:ext cx="6192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1276560" y="2913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8" name=""/>
            <p:cNvSpPr/>
            <p:nvPr/>
          </p:nvSpPr>
          <p:spPr>
            <a:xfrm>
              <a:off x="1387800" y="2916360"/>
              <a:ext cx="143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V="1">
              <a:off x="1610280" y="291456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679920" y="291456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3481920" y="2914560"/>
              <a:ext cx="19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288440" y="37130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830760" y="378288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569600" y="415440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867760" y="2300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719280" y="23004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1276560" y="2757600"/>
              <a:ext cx="29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>
              <a:off x="1963440" y="2757600"/>
              <a:ext cx="57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404360" y="23432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188440" y="23432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26720" y="2786040"/>
              <a:ext cx="643320" cy="233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"/>
          <p:cNvGrpSpPr/>
          <p:nvPr/>
        </p:nvGrpSpPr>
        <p:grpSpPr>
          <a:xfrm>
            <a:off x="4676040" y="2330280"/>
            <a:ext cx="4095720" cy="2446560"/>
            <a:chOff x="4676040" y="2330280"/>
            <a:chExt cx="4095720" cy="2446560"/>
          </a:xfrm>
        </p:grpSpPr>
        <p:sp>
          <p:nvSpPr>
            <p:cNvPr id="2383" name=""/>
            <p:cNvSpPr/>
            <p:nvPr/>
          </p:nvSpPr>
          <p:spPr>
            <a:xfrm rot="5400000">
              <a:off x="6543360" y="311076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6072480" y="35100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6082560" y="423396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7926120" y="38606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444360" y="3259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444720" y="4005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9" name=""/>
            <p:cNvGrpSpPr/>
            <p:nvPr/>
          </p:nvGrpSpPr>
          <p:grpSpPr>
            <a:xfrm>
              <a:off x="5941800" y="4233960"/>
              <a:ext cx="287280" cy="542880"/>
              <a:chOff x="5941800" y="4233960"/>
              <a:chExt cx="287280" cy="542880"/>
            </a:xfrm>
          </p:grpSpPr>
          <p:sp>
            <p:nvSpPr>
              <p:cNvPr id="2390" name=""/>
              <p:cNvSpPr/>
              <p:nvPr/>
            </p:nvSpPr>
            <p:spPr>
              <a:xfrm>
                <a:off x="6078600" y="42339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941800" y="46519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006600" y="47196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048720" y="47768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4" name=""/>
            <p:cNvSpPr/>
            <p:nvPr/>
          </p:nvSpPr>
          <p:spPr>
            <a:xfrm>
              <a:off x="8301600" y="33526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5" name=""/>
            <p:cNvGrpSpPr/>
            <p:nvPr/>
          </p:nvGrpSpPr>
          <p:grpSpPr>
            <a:xfrm>
              <a:off x="4930920" y="2855880"/>
              <a:ext cx="938520" cy="179640"/>
              <a:chOff x="4930920" y="2855880"/>
              <a:chExt cx="938520" cy="179640"/>
            </a:xfrm>
          </p:grpSpPr>
          <p:sp>
            <p:nvSpPr>
              <p:cNvPr id="2396" name=""/>
              <p:cNvSpPr/>
              <p:nvPr/>
            </p:nvSpPr>
            <p:spPr>
              <a:xfrm>
                <a:off x="4930920" y="29448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V="1">
                <a:off x="5112000" y="28620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163480" y="28623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V="1">
                <a:off x="5236560" y="28558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322600" y="2855880"/>
                <a:ext cx="8928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V="1">
                <a:off x="5412240" y="28558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498640" y="28566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V="1">
                <a:off x="5598720" y="28562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676120" y="28562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5738400" y="29448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6" name=""/>
            <p:cNvSpPr/>
            <p:nvPr/>
          </p:nvSpPr>
          <p:spPr>
            <a:xfrm>
              <a:off x="5851080" y="2946240"/>
              <a:ext cx="148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V="1">
              <a:off x="6072480" y="29448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141760" y="294480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7930440" y="2944800"/>
              <a:ext cx="210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676040" y="24652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292960" y="38131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4848840" y="289728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330320" y="2330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181120" y="23302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776200" y="2860560"/>
              <a:ext cx="29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463800" y="2860560"/>
              <a:ext cx="57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772960" y="23986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85840" y="244620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341840" y="2816280"/>
              <a:ext cx="590400" cy="260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1010880" y="0"/>
            <a:ext cx="787716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5530680" y="1442880"/>
                <a:ext cx="19623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5838840" y="4514760"/>
                <a:ext cx="257796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‖</m:t>
                            </m:r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‖</m:t>
                            </m:r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23" name=""/>
          <p:cNvSpPr/>
          <p:nvPr/>
        </p:nvSpPr>
        <p:spPr>
          <a:xfrm>
            <a:off x="76320" y="647640"/>
            <a:ext cx="89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: obtener una corriente i(t) proporcional a una tensión V(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217440" y="1366920"/>
            <a:ext cx="37972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3754440" y="2095560"/>
            <a:ext cx="538956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empre y cu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cc ≤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c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6" name=""/>
          <p:cNvGrpSpPr/>
          <p:nvPr/>
        </p:nvGrpSpPr>
        <p:grpSpPr>
          <a:xfrm>
            <a:off x="93960" y="2230560"/>
            <a:ext cx="4140720" cy="3752280"/>
            <a:chOff x="93960" y="2230560"/>
            <a:chExt cx="4140720" cy="3752280"/>
          </a:xfrm>
        </p:grpSpPr>
        <p:sp>
          <p:nvSpPr>
            <p:cNvPr id="2427" name=""/>
            <p:cNvSpPr/>
            <p:nvPr/>
          </p:nvSpPr>
          <p:spPr>
            <a:xfrm rot="5400000">
              <a:off x="2000520" y="3010320"/>
              <a:ext cx="1320480" cy="1506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H="1">
              <a:off x="1530000" y="340992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 flipH="1">
              <a:off x="1540080" y="413388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H="1">
              <a:off x="3381840" y="376056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901520" y="31590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1901160" y="3903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3" name=""/>
            <p:cNvGrpSpPr/>
            <p:nvPr/>
          </p:nvGrpSpPr>
          <p:grpSpPr>
            <a:xfrm>
              <a:off x="1395000" y="5440320"/>
              <a:ext cx="288720" cy="542520"/>
              <a:chOff x="1395000" y="5440320"/>
              <a:chExt cx="288720" cy="542520"/>
            </a:xfrm>
          </p:grpSpPr>
          <p:sp>
            <p:nvSpPr>
              <p:cNvPr id="2434" name=""/>
              <p:cNvSpPr/>
              <p:nvPr/>
            </p:nvSpPr>
            <p:spPr>
              <a:xfrm>
                <a:off x="1532520" y="5440320"/>
                <a:ext cx="0" cy="41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1395000" y="585792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1460160" y="592560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1502640" y="598284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8" name=""/>
            <p:cNvSpPr/>
            <p:nvPr/>
          </p:nvSpPr>
          <p:spPr>
            <a:xfrm>
              <a:off x="3764520" y="32256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2473920" y="2760480"/>
              <a:ext cx="940320" cy="179640"/>
              <a:chOff x="2473920" y="2760480"/>
              <a:chExt cx="940320" cy="179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2473920" y="284940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2655360" y="27666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2707200" y="27669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2779920" y="27604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2866320" y="27604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2955960" y="27604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3042720" y="27612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3143160" y="27608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3220560" y="2760840"/>
                <a:ext cx="622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3283200" y="28494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0" name=""/>
            <p:cNvGrpSpPr/>
            <p:nvPr/>
          </p:nvGrpSpPr>
          <p:grpSpPr>
            <a:xfrm>
              <a:off x="388440" y="2754000"/>
              <a:ext cx="938520" cy="180720"/>
              <a:chOff x="388440" y="2754000"/>
              <a:chExt cx="938520" cy="180720"/>
            </a:xfrm>
          </p:grpSpPr>
          <p:sp>
            <p:nvSpPr>
              <p:cNvPr id="2451" name=""/>
              <p:cNvSpPr/>
              <p:nvPr/>
            </p:nvSpPr>
            <p:spPr>
              <a:xfrm>
                <a:off x="388440" y="28436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569520" y="2760480"/>
                <a:ext cx="5148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621000" y="2760120"/>
                <a:ext cx="7272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94080" y="2754000"/>
                <a:ext cx="8604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80120" y="2754360"/>
                <a:ext cx="8928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869760" y="2754000"/>
                <a:ext cx="8640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956160" y="2754360"/>
                <a:ext cx="10008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1056240" y="2754360"/>
                <a:ext cx="7740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1133640" y="2754360"/>
                <a:ext cx="6192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1195920" y="28436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1" name=""/>
            <p:cNvSpPr/>
            <p:nvPr/>
          </p:nvSpPr>
          <p:spPr>
            <a:xfrm>
              <a:off x="1307160" y="2846160"/>
              <a:ext cx="116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 flipV="1">
              <a:off x="1530000" y="2844360"/>
              <a:ext cx="0" cy="56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598920" y="2844720"/>
              <a:ext cx="0" cy="9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3414600" y="284472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93960" y="229716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3749760" y="3713040"/>
              <a:ext cx="8064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315000" y="2801880"/>
              <a:ext cx="80640" cy="96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44760" y="2230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610280" y="4560840"/>
              <a:ext cx="0" cy="31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653840" y="446400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1" name=""/>
            <p:cNvGrpSpPr/>
            <p:nvPr/>
          </p:nvGrpSpPr>
          <p:grpSpPr>
            <a:xfrm>
              <a:off x="2441520" y="4430520"/>
              <a:ext cx="940320" cy="179640"/>
              <a:chOff x="2441520" y="4430520"/>
              <a:chExt cx="940320" cy="179640"/>
            </a:xfrm>
          </p:grpSpPr>
          <p:sp>
            <p:nvSpPr>
              <p:cNvPr id="2472" name=""/>
              <p:cNvSpPr/>
              <p:nvPr/>
            </p:nvSpPr>
            <p:spPr>
              <a:xfrm>
                <a:off x="2441520" y="451944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2622960" y="443664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2674800" y="443700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2747520" y="443052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2833920" y="443052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2923560" y="443052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3010320" y="443124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3110760" y="443088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3188160" y="4430880"/>
                <a:ext cx="622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3250800" y="45194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2" name=""/>
            <p:cNvGrpSpPr/>
            <p:nvPr/>
          </p:nvGrpSpPr>
          <p:grpSpPr>
            <a:xfrm>
              <a:off x="356400" y="4424040"/>
              <a:ext cx="938520" cy="180720"/>
              <a:chOff x="356400" y="4424040"/>
              <a:chExt cx="938520" cy="180720"/>
            </a:xfrm>
          </p:grpSpPr>
          <p:sp>
            <p:nvSpPr>
              <p:cNvPr id="2483" name=""/>
              <p:cNvSpPr/>
              <p:nvPr/>
            </p:nvSpPr>
            <p:spPr>
              <a:xfrm>
                <a:off x="356400" y="451368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V="1">
                <a:off x="537480" y="4430520"/>
                <a:ext cx="5148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8960" y="4430160"/>
                <a:ext cx="7272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V="1">
                <a:off x="662040" y="4424040"/>
                <a:ext cx="8604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48080" y="4424400"/>
                <a:ext cx="8928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V="1">
                <a:off x="837720" y="4424040"/>
                <a:ext cx="8640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924120" y="4424400"/>
                <a:ext cx="10008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V="1">
                <a:off x="1024200" y="4424400"/>
                <a:ext cx="7740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1101600" y="4424400"/>
                <a:ext cx="6192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163880" y="451368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3" name=""/>
            <p:cNvSpPr/>
            <p:nvPr/>
          </p:nvSpPr>
          <p:spPr>
            <a:xfrm>
              <a:off x="1274760" y="4516200"/>
              <a:ext cx="116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 flipH="1">
              <a:off x="3381840" y="4514760"/>
              <a:ext cx="2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15000" y="4464000"/>
              <a:ext cx="80640" cy="96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460880" y="4895640"/>
              <a:ext cx="149400" cy="544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V="1">
              <a:off x="1530000" y="4133520"/>
              <a:ext cx="0" cy="76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3598920" y="3760560"/>
              <a:ext cx="0" cy="75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770920" y="2230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44760" y="3903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828160" y="39718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93960" y="39654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676520" y="4983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112400" y="2997000"/>
              <a:ext cx="420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077840" y="37368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06" name=""/>
              <p:cNvSpPr txBox="1"/>
              <p:nvPr/>
            </p:nvSpPr>
            <p:spPr>
              <a:xfrm>
                <a:off x="4819680" y="3036960"/>
                <a:ext cx="33544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7" name=""/>
          <p:cNvSpPr/>
          <p:nvPr/>
        </p:nvSpPr>
        <p:spPr>
          <a:xfrm>
            <a:off x="3573000" y="5213880"/>
            <a:ext cx="18280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y (V-)&gt;(V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2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2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169920" y="-360"/>
            <a:ext cx="89740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178200" y="1866960"/>
            <a:ext cx="4111560" cy="4115880"/>
            <a:chOff x="178200" y="1866960"/>
            <a:chExt cx="4111560" cy="4115880"/>
          </a:xfrm>
        </p:grpSpPr>
        <p:sp>
          <p:nvSpPr>
            <p:cNvPr id="2510" name=""/>
            <p:cNvSpPr/>
            <p:nvPr/>
          </p:nvSpPr>
          <p:spPr>
            <a:xfrm rot="5400000">
              <a:off x="2000520" y="2801160"/>
              <a:ext cx="1448640" cy="1494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H="1">
              <a:off x="1602000" y="3160440"/>
              <a:ext cx="37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H="1">
              <a:off x="1612440" y="3954600"/>
              <a:ext cx="37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 flipH="1">
              <a:off x="3439800" y="3545280"/>
              <a:ext cx="37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971360" y="2885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971000" y="3703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6" name=""/>
            <p:cNvGrpSpPr/>
            <p:nvPr/>
          </p:nvGrpSpPr>
          <p:grpSpPr>
            <a:xfrm>
              <a:off x="1468800" y="5387400"/>
              <a:ext cx="286200" cy="595440"/>
              <a:chOff x="1468800" y="5387400"/>
              <a:chExt cx="286200" cy="595440"/>
            </a:xfrm>
          </p:grpSpPr>
          <p:sp>
            <p:nvSpPr>
              <p:cNvPr id="2517" name=""/>
              <p:cNvSpPr/>
              <p:nvPr/>
            </p:nvSpPr>
            <p:spPr>
              <a:xfrm>
                <a:off x="1605240" y="5387400"/>
                <a:ext cx="0" cy="45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468800" y="5845680"/>
                <a:ext cx="28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533600" y="5920200"/>
                <a:ext cx="14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575360" y="59828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1" name=""/>
            <p:cNvSpPr/>
            <p:nvPr/>
          </p:nvSpPr>
          <p:spPr>
            <a:xfrm>
              <a:off x="3819600" y="2958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2" name=""/>
            <p:cNvGrpSpPr/>
            <p:nvPr/>
          </p:nvGrpSpPr>
          <p:grpSpPr>
            <a:xfrm>
              <a:off x="2538720" y="2448360"/>
              <a:ext cx="932400" cy="196560"/>
              <a:chOff x="2538720" y="2448360"/>
              <a:chExt cx="932400" cy="196560"/>
            </a:xfrm>
          </p:grpSpPr>
          <p:sp>
            <p:nvSpPr>
              <p:cNvPr id="2523" name=""/>
              <p:cNvSpPr/>
              <p:nvPr/>
            </p:nvSpPr>
            <p:spPr>
              <a:xfrm>
                <a:off x="2538720" y="2545920"/>
                <a:ext cx="18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V="1">
                <a:off x="2718720" y="2455200"/>
                <a:ext cx="51120" cy="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2769840" y="2454840"/>
                <a:ext cx="7200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2842200" y="2448360"/>
                <a:ext cx="853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2927880" y="2448360"/>
                <a:ext cx="889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V="1">
                <a:off x="3016800" y="2448360"/>
                <a:ext cx="8568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102840" y="2448360"/>
                <a:ext cx="9936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V="1">
                <a:off x="3202560" y="2448360"/>
                <a:ext cx="7668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279600" y="2448720"/>
                <a:ext cx="61560" cy="9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341160" y="254592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3" name=""/>
            <p:cNvGrpSpPr/>
            <p:nvPr/>
          </p:nvGrpSpPr>
          <p:grpSpPr>
            <a:xfrm>
              <a:off x="469800" y="2440800"/>
              <a:ext cx="931320" cy="198720"/>
              <a:chOff x="469800" y="2440800"/>
              <a:chExt cx="931320" cy="198720"/>
            </a:xfrm>
          </p:grpSpPr>
          <p:sp>
            <p:nvSpPr>
              <p:cNvPr id="2534" name=""/>
              <p:cNvSpPr/>
              <p:nvPr/>
            </p:nvSpPr>
            <p:spPr>
              <a:xfrm>
                <a:off x="469800" y="2539080"/>
                <a:ext cx="1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 flipV="1">
                <a:off x="649440" y="2447640"/>
                <a:ext cx="51120" cy="9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700560" y="2447640"/>
                <a:ext cx="7200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 flipV="1">
                <a:off x="772920" y="2440800"/>
                <a:ext cx="853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858240" y="2441160"/>
                <a:ext cx="889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947160" y="2440800"/>
                <a:ext cx="8568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033200" y="2441160"/>
                <a:ext cx="9936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V="1">
                <a:off x="1132560" y="2441160"/>
                <a:ext cx="7668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1209600" y="2441160"/>
                <a:ext cx="61560" cy="9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1271160" y="253908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4" name=""/>
            <p:cNvSpPr/>
            <p:nvPr/>
          </p:nvSpPr>
          <p:spPr>
            <a:xfrm>
              <a:off x="1381320" y="2542320"/>
              <a:ext cx="11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1602360" y="2540520"/>
              <a:ext cx="0" cy="61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655080" y="2540520"/>
              <a:ext cx="0" cy="100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H="1">
              <a:off x="3472200" y="2540520"/>
              <a:ext cx="182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78200" y="19396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3804840" y="3492720"/>
              <a:ext cx="79920" cy="10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397080" y="2493360"/>
              <a:ext cx="79920" cy="106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24320" y="1866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682280" y="4422960"/>
              <a:ext cx="0" cy="34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726920" y="431496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4" name=""/>
            <p:cNvGrpSpPr/>
            <p:nvPr/>
          </p:nvGrpSpPr>
          <p:grpSpPr>
            <a:xfrm>
              <a:off x="2507040" y="4280400"/>
              <a:ext cx="932400" cy="196560"/>
              <a:chOff x="2507040" y="4280400"/>
              <a:chExt cx="932400" cy="196560"/>
            </a:xfrm>
          </p:grpSpPr>
          <p:sp>
            <p:nvSpPr>
              <p:cNvPr id="2555" name=""/>
              <p:cNvSpPr/>
              <p:nvPr/>
            </p:nvSpPr>
            <p:spPr>
              <a:xfrm>
                <a:off x="2507040" y="4377960"/>
                <a:ext cx="18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V="1">
                <a:off x="2687040" y="4287240"/>
                <a:ext cx="51120" cy="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2738160" y="4286880"/>
                <a:ext cx="7200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V="1">
                <a:off x="2810520" y="4280400"/>
                <a:ext cx="853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2896200" y="4280400"/>
                <a:ext cx="889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V="1">
                <a:off x="2985120" y="4280400"/>
                <a:ext cx="8568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3071160" y="4280400"/>
                <a:ext cx="9936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V="1">
                <a:off x="3170880" y="4280400"/>
                <a:ext cx="7668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247920" y="4280760"/>
                <a:ext cx="61560" cy="9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309480" y="437796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5" name=""/>
            <p:cNvGrpSpPr/>
            <p:nvPr/>
          </p:nvGrpSpPr>
          <p:grpSpPr>
            <a:xfrm>
              <a:off x="438120" y="4272840"/>
              <a:ext cx="931320" cy="198720"/>
              <a:chOff x="438120" y="4272840"/>
              <a:chExt cx="931320" cy="198720"/>
            </a:xfrm>
          </p:grpSpPr>
          <p:sp>
            <p:nvSpPr>
              <p:cNvPr id="2566" name=""/>
              <p:cNvSpPr/>
              <p:nvPr/>
            </p:nvSpPr>
            <p:spPr>
              <a:xfrm>
                <a:off x="438120" y="4371120"/>
                <a:ext cx="1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flipV="1">
                <a:off x="617760" y="4279680"/>
                <a:ext cx="51120" cy="9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668880" y="4279680"/>
                <a:ext cx="7200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741240" y="4272840"/>
                <a:ext cx="853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826560" y="4273200"/>
                <a:ext cx="889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915480" y="4272840"/>
                <a:ext cx="8568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001520" y="4273200"/>
                <a:ext cx="9936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1100880" y="4273200"/>
                <a:ext cx="7668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1177920" y="4273200"/>
                <a:ext cx="61560" cy="9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1239480" y="437112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6" name=""/>
            <p:cNvSpPr/>
            <p:nvPr/>
          </p:nvSpPr>
          <p:spPr>
            <a:xfrm>
              <a:off x="1349280" y="4374360"/>
              <a:ext cx="11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3439800" y="4372200"/>
              <a:ext cx="21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397080" y="4316760"/>
              <a:ext cx="79920" cy="106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533960" y="4790520"/>
              <a:ext cx="148320" cy="5968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V="1">
              <a:off x="1602360" y="3954600"/>
              <a:ext cx="0" cy="83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3655080" y="3545280"/>
              <a:ext cx="0" cy="82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833920" y="1866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24320" y="37036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890800" y="37767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178200" y="376956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1747800" y="488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1594440" y="259956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553760" y="345132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349280" y="2368440"/>
              <a:ext cx="22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970280" y="2368440"/>
              <a:ext cx="32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260360" y="18669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1924560" y="18669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308600" y="4271040"/>
              <a:ext cx="22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267560" y="370368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045880" y="4476960"/>
              <a:ext cx="46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169360" y="453960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7" name=""/>
          <p:cNvSpPr/>
          <p:nvPr/>
        </p:nvSpPr>
        <p:spPr>
          <a:xfrm>
            <a:off x="2505240" y="907920"/>
            <a:ext cx="379872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8" name=""/>
              <p:cNvSpPr txBox="1"/>
              <p:nvPr/>
            </p:nvSpPr>
            <p:spPr>
              <a:xfrm>
                <a:off x="4375080" y="2135160"/>
                <a:ext cx="4280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´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9" name=""/>
          <p:cNvSpPr/>
          <p:nvPr/>
        </p:nvSpPr>
        <p:spPr>
          <a:xfrm>
            <a:off x="3333600" y="1809720"/>
            <a:ext cx="2955960" cy="541440"/>
          </a:xfrm>
          <a:custGeom>
            <a:avLst/>
            <a:gdLst/>
            <a:ahLst/>
            <a:rect l="l" t="t" r="r" b="b"/>
            <a:pathLst>
              <a:path w="1232" h="347">
                <a:moveTo>
                  <a:pt x="0" y="43"/>
                </a:moveTo>
                <a:cubicBezTo>
                  <a:pt x="249" y="21"/>
                  <a:pt x="499" y="0"/>
                  <a:pt x="704" y="51"/>
                </a:cubicBezTo>
                <a:cubicBezTo>
                  <a:pt x="909" y="102"/>
                  <a:pt x="1129" y="294"/>
                  <a:pt x="1232" y="347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11160" y="1562040"/>
            <a:ext cx="4259160" cy="2146320"/>
          </a:xfrm>
          <a:custGeom>
            <a:avLst/>
            <a:gdLst/>
            <a:ahLst/>
            <a:rect l="l" t="t" r="r" b="b"/>
            <a:pathLst>
              <a:path w="2906" h="1352">
                <a:moveTo>
                  <a:pt x="80" y="176"/>
                </a:moveTo>
                <a:cubicBezTo>
                  <a:pt x="53" y="285"/>
                  <a:pt x="19" y="393"/>
                  <a:pt x="0" y="504"/>
                </a:cubicBezTo>
                <a:cubicBezTo>
                  <a:pt x="5" y="558"/>
                  <a:pt x="13" y="612"/>
                  <a:pt x="32" y="664"/>
                </a:cubicBezTo>
                <a:cubicBezTo>
                  <a:pt x="49" y="710"/>
                  <a:pt x="46" y="680"/>
                  <a:pt x="56" y="720"/>
                </a:cubicBezTo>
                <a:cubicBezTo>
                  <a:pt x="68" y="767"/>
                  <a:pt x="70" y="804"/>
                  <a:pt x="112" y="832"/>
                </a:cubicBezTo>
                <a:cubicBezTo>
                  <a:pt x="142" y="876"/>
                  <a:pt x="200" y="899"/>
                  <a:pt x="248" y="920"/>
                </a:cubicBezTo>
                <a:cubicBezTo>
                  <a:pt x="346" y="962"/>
                  <a:pt x="224" y="912"/>
                  <a:pt x="304" y="952"/>
                </a:cubicBezTo>
                <a:cubicBezTo>
                  <a:pt x="333" y="966"/>
                  <a:pt x="369" y="969"/>
                  <a:pt x="400" y="976"/>
                </a:cubicBezTo>
                <a:cubicBezTo>
                  <a:pt x="507" y="1000"/>
                  <a:pt x="600" y="1010"/>
                  <a:pt x="712" y="1016"/>
                </a:cubicBezTo>
                <a:cubicBezTo>
                  <a:pt x="866" y="1042"/>
                  <a:pt x="1021" y="1082"/>
                  <a:pt x="1176" y="1096"/>
                </a:cubicBezTo>
                <a:cubicBezTo>
                  <a:pt x="1292" y="1135"/>
                  <a:pt x="1425" y="1131"/>
                  <a:pt x="1544" y="1136"/>
                </a:cubicBezTo>
                <a:cubicBezTo>
                  <a:pt x="1750" y="1170"/>
                  <a:pt x="1955" y="1207"/>
                  <a:pt x="2160" y="1248"/>
                </a:cubicBezTo>
                <a:cubicBezTo>
                  <a:pt x="2221" y="1260"/>
                  <a:pt x="2277" y="1289"/>
                  <a:pt x="2336" y="1304"/>
                </a:cubicBezTo>
                <a:cubicBezTo>
                  <a:pt x="2402" y="1321"/>
                  <a:pt x="2469" y="1339"/>
                  <a:pt x="2536" y="1352"/>
                </a:cubicBezTo>
                <a:cubicBezTo>
                  <a:pt x="2587" y="1349"/>
                  <a:pt x="2638" y="1350"/>
                  <a:pt x="2688" y="1344"/>
                </a:cubicBezTo>
                <a:cubicBezTo>
                  <a:pt x="2737" y="1338"/>
                  <a:pt x="2778" y="1303"/>
                  <a:pt x="2824" y="1288"/>
                </a:cubicBezTo>
                <a:cubicBezTo>
                  <a:pt x="2846" y="1255"/>
                  <a:pt x="2859" y="1224"/>
                  <a:pt x="2880" y="1192"/>
                </a:cubicBezTo>
                <a:cubicBezTo>
                  <a:pt x="2894" y="1134"/>
                  <a:pt x="2898" y="1075"/>
                  <a:pt x="2904" y="1016"/>
                </a:cubicBezTo>
                <a:cubicBezTo>
                  <a:pt x="2898" y="949"/>
                  <a:pt x="2906" y="878"/>
                  <a:pt x="2880" y="816"/>
                </a:cubicBezTo>
                <a:cubicBezTo>
                  <a:pt x="2830" y="699"/>
                  <a:pt x="2749" y="616"/>
                  <a:pt x="2680" y="512"/>
                </a:cubicBezTo>
                <a:cubicBezTo>
                  <a:pt x="2665" y="489"/>
                  <a:pt x="2627" y="469"/>
                  <a:pt x="2608" y="456"/>
                </a:cubicBezTo>
                <a:cubicBezTo>
                  <a:pt x="2569" y="430"/>
                  <a:pt x="2598" y="438"/>
                  <a:pt x="2568" y="408"/>
                </a:cubicBezTo>
                <a:cubicBezTo>
                  <a:pt x="2529" y="369"/>
                  <a:pt x="2456" y="355"/>
                  <a:pt x="2408" y="328"/>
                </a:cubicBezTo>
                <a:cubicBezTo>
                  <a:pt x="2398" y="322"/>
                  <a:pt x="2387" y="316"/>
                  <a:pt x="2376" y="312"/>
                </a:cubicBezTo>
                <a:cubicBezTo>
                  <a:pt x="2355" y="305"/>
                  <a:pt x="2312" y="296"/>
                  <a:pt x="2312" y="296"/>
                </a:cubicBezTo>
                <a:cubicBezTo>
                  <a:pt x="2149" y="187"/>
                  <a:pt x="1942" y="155"/>
                  <a:pt x="1752" y="128"/>
                </a:cubicBezTo>
                <a:cubicBezTo>
                  <a:pt x="1670" y="101"/>
                  <a:pt x="1581" y="92"/>
                  <a:pt x="1496" y="80"/>
                </a:cubicBezTo>
                <a:cubicBezTo>
                  <a:pt x="1333" y="57"/>
                  <a:pt x="1171" y="23"/>
                  <a:pt x="1008" y="0"/>
                </a:cubicBezTo>
                <a:cubicBezTo>
                  <a:pt x="770" y="8"/>
                  <a:pt x="534" y="34"/>
                  <a:pt x="296" y="48"/>
                </a:cubicBezTo>
                <a:cubicBezTo>
                  <a:pt x="232" y="57"/>
                  <a:pt x="242" y="59"/>
                  <a:pt x="192" y="80"/>
                </a:cubicBezTo>
                <a:cubicBezTo>
                  <a:pt x="162" y="93"/>
                  <a:pt x="138" y="90"/>
                  <a:pt x="112" y="112"/>
                </a:cubicBezTo>
                <a:cubicBezTo>
                  <a:pt x="97" y="125"/>
                  <a:pt x="60" y="156"/>
                  <a:pt x="80" y="176"/>
                </a:cubicBezTo>
                <a:close/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1" name=""/>
              <p:cNvSpPr txBox="1"/>
              <p:nvPr/>
            </p:nvSpPr>
            <p:spPr>
              <a:xfrm>
                <a:off x="4443480" y="4199040"/>
                <a:ext cx="39146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2" name=""/>
          <p:cNvSpPr/>
          <p:nvPr/>
        </p:nvSpPr>
        <p:spPr>
          <a:xfrm>
            <a:off x="6318360" y="3378240"/>
            <a:ext cx="539640" cy="723960"/>
          </a:xfrm>
          <a:prstGeom prst="downArrow">
            <a:avLst>
              <a:gd name="adj1" fmla="val 50000"/>
              <a:gd name="adj2" fmla="val 3353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2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391680" y="0"/>
            <a:ext cx="81486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4" name=""/>
              <p:cNvSpPr txBox="1"/>
              <p:nvPr/>
            </p:nvSpPr>
            <p:spPr>
              <a:xfrm>
                <a:off x="3951360" y="4211640"/>
                <a:ext cx="45054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05" name=""/>
          <p:cNvGrpSpPr/>
          <p:nvPr/>
        </p:nvGrpSpPr>
        <p:grpSpPr>
          <a:xfrm>
            <a:off x="27360" y="1679400"/>
            <a:ext cx="3913200" cy="3958920"/>
            <a:chOff x="27360" y="1679400"/>
            <a:chExt cx="3913200" cy="3958920"/>
          </a:xfrm>
        </p:grpSpPr>
        <p:sp>
          <p:nvSpPr>
            <p:cNvPr id="2606" name=""/>
            <p:cNvSpPr/>
            <p:nvPr/>
          </p:nvSpPr>
          <p:spPr>
            <a:xfrm rot="5400000">
              <a:off x="1736640" y="2590560"/>
              <a:ext cx="1393560" cy="14130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 flipH="1">
              <a:off x="1373040" y="292356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H="1">
              <a:off x="1382760" y="368748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H="1">
              <a:off x="3110400" y="329400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1721880" y="2658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721880" y="3446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2" name=""/>
            <p:cNvGrpSpPr/>
            <p:nvPr/>
          </p:nvGrpSpPr>
          <p:grpSpPr>
            <a:xfrm>
              <a:off x="1246320" y="5065560"/>
              <a:ext cx="270720" cy="572760"/>
              <a:chOff x="1246320" y="5065560"/>
              <a:chExt cx="270720" cy="572760"/>
            </a:xfrm>
          </p:grpSpPr>
          <p:sp>
            <p:nvSpPr>
              <p:cNvPr id="2613" name=""/>
              <p:cNvSpPr/>
              <p:nvPr/>
            </p:nvSpPr>
            <p:spPr>
              <a:xfrm>
                <a:off x="1375200" y="5065560"/>
                <a:ext cx="0" cy="44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1246320" y="5506200"/>
                <a:ext cx="27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1307520" y="5577840"/>
                <a:ext cx="140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1347120" y="5638320"/>
                <a:ext cx="63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7" name=""/>
            <p:cNvSpPr/>
            <p:nvPr/>
          </p:nvSpPr>
          <p:spPr>
            <a:xfrm>
              <a:off x="3470400" y="2729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8" name=""/>
            <p:cNvGrpSpPr/>
            <p:nvPr/>
          </p:nvGrpSpPr>
          <p:grpSpPr>
            <a:xfrm>
              <a:off x="2258280" y="2238480"/>
              <a:ext cx="882000" cy="189360"/>
              <a:chOff x="2258280" y="2238480"/>
              <a:chExt cx="882000" cy="189360"/>
            </a:xfrm>
          </p:grpSpPr>
          <p:sp>
            <p:nvSpPr>
              <p:cNvPr id="2619" name=""/>
              <p:cNvSpPr/>
              <p:nvPr/>
            </p:nvSpPr>
            <p:spPr>
              <a:xfrm>
                <a:off x="2258280" y="2332440"/>
                <a:ext cx="17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2428560" y="2245320"/>
                <a:ext cx="48240" cy="8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2476800" y="2245320"/>
                <a:ext cx="6840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V="1">
                <a:off x="2545200" y="2238480"/>
                <a:ext cx="8064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2626200" y="2238840"/>
                <a:ext cx="8388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V="1">
                <a:off x="2710440" y="2238480"/>
                <a:ext cx="8100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2791800" y="2239200"/>
                <a:ext cx="9396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V="1">
                <a:off x="2885760" y="2238840"/>
                <a:ext cx="7272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2958840" y="2238840"/>
                <a:ext cx="58320" cy="9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3017160" y="2332440"/>
                <a:ext cx="123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9" name=""/>
            <p:cNvGrpSpPr/>
            <p:nvPr/>
          </p:nvGrpSpPr>
          <p:grpSpPr>
            <a:xfrm>
              <a:off x="302040" y="2232000"/>
              <a:ext cx="880560" cy="190800"/>
              <a:chOff x="302040" y="2232000"/>
              <a:chExt cx="880560" cy="190800"/>
            </a:xfrm>
          </p:grpSpPr>
          <p:sp>
            <p:nvSpPr>
              <p:cNvPr id="2630" name=""/>
              <p:cNvSpPr/>
              <p:nvPr/>
            </p:nvSpPr>
            <p:spPr>
              <a:xfrm>
                <a:off x="302040" y="2326680"/>
                <a:ext cx="16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V="1">
                <a:off x="471960" y="2238480"/>
                <a:ext cx="48240" cy="8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520200" y="2238480"/>
                <a:ext cx="6804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V="1">
                <a:off x="588600" y="2232000"/>
                <a:ext cx="8064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669600" y="2232000"/>
                <a:ext cx="8388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753480" y="2232000"/>
                <a:ext cx="8100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834840" y="2232360"/>
                <a:ext cx="939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V="1">
                <a:off x="928800" y="2232360"/>
                <a:ext cx="723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1001520" y="2232360"/>
                <a:ext cx="58320" cy="9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1059840" y="2326680"/>
                <a:ext cx="122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0" name=""/>
            <p:cNvSpPr/>
            <p:nvPr/>
          </p:nvSpPr>
          <p:spPr>
            <a:xfrm>
              <a:off x="1163880" y="2329200"/>
              <a:ext cx="10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V="1">
              <a:off x="1373040" y="2327040"/>
              <a:ext cx="0" cy="59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313800" y="2327040"/>
              <a:ext cx="0" cy="9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H="1">
              <a:off x="3140640" y="2327040"/>
              <a:ext cx="17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7360" y="17496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455280" y="3243240"/>
              <a:ext cx="75600" cy="100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33280" y="2282040"/>
              <a:ext cx="75600" cy="101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543600" y="16794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448280" y="4137840"/>
              <a:ext cx="0" cy="33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1489320" y="403416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0" name=""/>
            <p:cNvGrpSpPr/>
            <p:nvPr/>
          </p:nvGrpSpPr>
          <p:grpSpPr>
            <a:xfrm>
              <a:off x="2228040" y="4000320"/>
              <a:ext cx="882000" cy="189360"/>
              <a:chOff x="2228040" y="4000320"/>
              <a:chExt cx="882000" cy="189360"/>
            </a:xfrm>
          </p:grpSpPr>
          <p:sp>
            <p:nvSpPr>
              <p:cNvPr id="2651" name=""/>
              <p:cNvSpPr/>
              <p:nvPr/>
            </p:nvSpPr>
            <p:spPr>
              <a:xfrm>
                <a:off x="2228040" y="4094280"/>
                <a:ext cx="17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V="1">
                <a:off x="2398320" y="4007160"/>
                <a:ext cx="48240" cy="8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2446560" y="4007160"/>
                <a:ext cx="6840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V="1">
                <a:off x="2514960" y="4000320"/>
                <a:ext cx="8064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2595960" y="4000680"/>
                <a:ext cx="8388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 flipV="1">
                <a:off x="2680200" y="4000320"/>
                <a:ext cx="8100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2761560" y="4001040"/>
                <a:ext cx="9396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 flipV="1">
                <a:off x="2855520" y="4000680"/>
                <a:ext cx="7272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2928600" y="4000680"/>
                <a:ext cx="58320" cy="9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2986920" y="4094280"/>
                <a:ext cx="123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1" name=""/>
            <p:cNvGrpSpPr/>
            <p:nvPr/>
          </p:nvGrpSpPr>
          <p:grpSpPr>
            <a:xfrm>
              <a:off x="271800" y="3993840"/>
              <a:ext cx="880560" cy="190800"/>
              <a:chOff x="271800" y="3993840"/>
              <a:chExt cx="880560" cy="190800"/>
            </a:xfrm>
          </p:grpSpPr>
          <p:sp>
            <p:nvSpPr>
              <p:cNvPr id="2662" name=""/>
              <p:cNvSpPr/>
              <p:nvPr/>
            </p:nvSpPr>
            <p:spPr>
              <a:xfrm>
                <a:off x="271800" y="4088520"/>
                <a:ext cx="16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V="1">
                <a:off x="441720" y="4000320"/>
                <a:ext cx="48240" cy="8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489960" y="4000320"/>
                <a:ext cx="6804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558360" y="3993840"/>
                <a:ext cx="8064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39360" y="3993840"/>
                <a:ext cx="8388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V="1">
                <a:off x="723240" y="3993840"/>
                <a:ext cx="8100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804600" y="3994200"/>
                <a:ext cx="939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V="1">
                <a:off x="898560" y="3994200"/>
                <a:ext cx="723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971280" y="3994200"/>
                <a:ext cx="58320" cy="9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1029600" y="4088520"/>
                <a:ext cx="122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2" name=""/>
            <p:cNvSpPr/>
            <p:nvPr/>
          </p:nvSpPr>
          <p:spPr>
            <a:xfrm>
              <a:off x="1133640" y="4091040"/>
              <a:ext cx="10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 flipH="1">
              <a:off x="3110400" y="4089240"/>
              <a:ext cx="20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33280" y="4035600"/>
              <a:ext cx="75600" cy="101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308240" y="4491360"/>
              <a:ext cx="140040" cy="5742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 flipV="1">
              <a:off x="1373040" y="3687120"/>
              <a:ext cx="0" cy="80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313800" y="3294000"/>
              <a:ext cx="0" cy="79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538720" y="16794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43600" y="3446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591280" y="3516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7360" y="350964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1510920" y="4583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1366920" y="23842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1327680" y="32032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1133640" y="2161440"/>
              <a:ext cx="21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1720440" y="2161440"/>
              <a:ext cx="30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1048320" y="167940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1678680" y="167940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1095120" y="3992040"/>
              <a:ext cx="2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1056600" y="344628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1792080" y="4189680"/>
              <a:ext cx="43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1909800" y="425016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3" name=""/>
          <p:cNvSpPr/>
          <p:nvPr/>
        </p:nvSpPr>
        <p:spPr>
          <a:xfrm>
            <a:off x="2708280" y="1025640"/>
            <a:ext cx="37972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-7920" y="2732040"/>
            <a:ext cx="3949560" cy="3046320"/>
          </a:xfrm>
          <a:custGeom>
            <a:avLst/>
            <a:gdLst/>
            <a:ahLst/>
            <a:rect l="l" t="t" r="r" b="b"/>
            <a:pathLst>
              <a:path w="2629" h="1919">
                <a:moveTo>
                  <a:pt x="69" y="495"/>
                </a:moveTo>
                <a:cubicBezTo>
                  <a:pt x="46" y="564"/>
                  <a:pt x="35" y="632"/>
                  <a:pt x="21" y="703"/>
                </a:cubicBezTo>
                <a:cubicBezTo>
                  <a:pt x="11" y="838"/>
                  <a:pt x="0" y="972"/>
                  <a:pt x="77" y="1087"/>
                </a:cubicBezTo>
                <a:cubicBezTo>
                  <a:pt x="88" y="1132"/>
                  <a:pt x="116" y="1166"/>
                  <a:pt x="149" y="1199"/>
                </a:cubicBezTo>
                <a:cubicBezTo>
                  <a:pt x="161" y="1249"/>
                  <a:pt x="174" y="1234"/>
                  <a:pt x="205" y="1271"/>
                </a:cubicBezTo>
                <a:cubicBezTo>
                  <a:pt x="227" y="1298"/>
                  <a:pt x="254" y="1316"/>
                  <a:pt x="277" y="1343"/>
                </a:cubicBezTo>
                <a:cubicBezTo>
                  <a:pt x="307" y="1378"/>
                  <a:pt x="334" y="1413"/>
                  <a:pt x="373" y="1439"/>
                </a:cubicBezTo>
                <a:cubicBezTo>
                  <a:pt x="383" y="1468"/>
                  <a:pt x="405" y="1484"/>
                  <a:pt x="429" y="1503"/>
                </a:cubicBezTo>
                <a:cubicBezTo>
                  <a:pt x="444" y="1515"/>
                  <a:pt x="477" y="1535"/>
                  <a:pt x="477" y="1535"/>
                </a:cubicBezTo>
                <a:cubicBezTo>
                  <a:pt x="497" y="1565"/>
                  <a:pt x="523" y="1576"/>
                  <a:pt x="549" y="1599"/>
                </a:cubicBezTo>
                <a:cubicBezTo>
                  <a:pt x="586" y="1632"/>
                  <a:pt x="617" y="1656"/>
                  <a:pt x="653" y="1687"/>
                </a:cubicBezTo>
                <a:cubicBezTo>
                  <a:pt x="663" y="1696"/>
                  <a:pt x="673" y="1704"/>
                  <a:pt x="685" y="1711"/>
                </a:cubicBezTo>
                <a:cubicBezTo>
                  <a:pt x="706" y="1723"/>
                  <a:pt x="749" y="1743"/>
                  <a:pt x="749" y="1743"/>
                </a:cubicBezTo>
                <a:cubicBezTo>
                  <a:pt x="785" y="1798"/>
                  <a:pt x="866" y="1809"/>
                  <a:pt x="925" y="1831"/>
                </a:cubicBezTo>
                <a:cubicBezTo>
                  <a:pt x="981" y="1852"/>
                  <a:pt x="935" y="1840"/>
                  <a:pt x="981" y="1863"/>
                </a:cubicBezTo>
                <a:cubicBezTo>
                  <a:pt x="994" y="1869"/>
                  <a:pt x="1025" y="1876"/>
                  <a:pt x="1037" y="1879"/>
                </a:cubicBezTo>
                <a:cubicBezTo>
                  <a:pt x="1066" y="1887"/>
                  <a:pt x="1096" y="1893"/>
                  <a:pt x="1125" y="1903"/>
                </a:cubicBezTo>
                <a:cubicBezTo>
                  <a:pt x="1141" y="1908"/>
                  <a:pt x="1173" y="1919"/>
                  <a:pt x="1173" y="1919"/>
                </a:cubicBezTo>
                <a:cubicBezTo>
                  <a:pt x="1216" y="1914"/>
                  <a:pt x="1259" y="1913"/>
                  <a:pt x="1301" y="1903"/>
                </a:cubicBezTo>
                <a:cubicBezTo>
                  <a:pt x="1358" y="1889"/>
                  <a:pt x="1412" y="1869"/>
                  <a:pt x="1469" y="1855"/>
                </a:cubicBezTo>
                <a:cubicBezTo>
                  <a:pt x="1497" y="1848"/>
                  <a:pt x="1523" y="1826"/>
                  <a:pt x="1549" y="1815"/>
                </a:cubicBezTo>
                <a:cubicBezTo>
                  <a:pt x="1579" y="1802"/>
                  <a:pt x="1613" y="1791"/>
                  <a:pt x="1645" y="1783"/>
                </a:cubicBezTo>
                <a:cubicBezTo>
                  <a:pt x="1661" y="1772"/>
                  <a:pt x="1677" y="1762"/>
                  <a:pt x="1693" y="1751"/>
                </a:cubicBezTo>
                <a:cubicBezTo>
                  <a:pt x="1724" y="1730"/>
                  <a:pt x="1772" y="1730"/>
                  <a:pt x="1805" y="1711"/>
                </a:cubicBezTo>
                <a:cubicBezTo>
                  <a:pt x="1822" y="1702"/>
                  <a:pt x="1836" y="1688"/>
                  <a:pt x="1853" y="1679"/>
                </a:cubicBezTo>
                <a:cubicBezTo>
                  <a:pt x="1874" y="1668"/>
                  <a:pt x="1896" y="1658"/>
                  <a:pt x="1917" y="1647"/>
                </a:cubicBezTo>
                <a:cubicBezTo>
                  <a:pt x="1928" y="1642"/>
                  <a:pt x="1941" y="1639"/>
                  <a:pt x="1949" y="1631"/>
                </a:cubicBezTo>
                <a:cubicBezTo>
                  <a:pt x="1979" y="1601"/>
                  <a:pt x="1962" y="1611"/>
                  <a:pt x="1997" y="1599"/>
                </a:cubicBezTo>
                <a:cubicBezTo>
                  <a:pt x="2028" y="1568"/>
                  <a:pt x="2048" y="1528"/>
                  <a:pt x="2085" y="1503"/>
                </a:cubicBezTo>
                <a:cubicBezTo>
                  <a:pt x="2090" y="1495"/>
                  <a:pt x="2129" y="1435"/>
                  <a:pt x="2141" y="1423"/>
                </a:cubicBezTo>
                <a:cubicBezTo>
                  <a:pt x="2150" y="1414"/>
                  <a:pt x="2164" y="1408"/>
                  <a:pt x="2173" y="1399"/>
                </a:cubicBezTo>
                <a:cubicBezTo>
                  <a:pt x="2199" y="1373"/>
                  <a:pt x="2218" y="1338"/>
                  <a:pt x="2245" y="1311"/>
                </a:cubicBezTo>
                <a:cubicBezTo>
                  <a:pt x="2259" y="1268"/>
                  <a:pt x="2293" y="1237"/>
                  <a:pt x="2317" y="1199"/>
                </a:cubicBezTo>
                <a:cubicBezTo>
                  <a:pt x="2349" y="1148"/>
                  <a:pt x="2384" y="1104"/>
                  <a:pt x="2405" y="1047"/>
                </a:cubicBezTo>
                <a:cubicBezTo>
                  <a:pt x="2420" y="1006"/>
                  <a:pt x="2439" y="969"/>
                  <a:pt x="2453" y="927"/>
                </a:cubicBezTo>
                <a:cubicBezTo>
                  <a:pt x="2459" y="909"/>
                  <a:pt x="2485" y="879"/>
                  <a:pt x="2485" y="879"/>
                </a:cubicBezTo>
                <a:cubicBezTo>
                  <a:pt x="2506" y="797"/>
                  <a:pt x="2478" y="899"/>
                  <a:pt x="2509" y="815"/>
                </a:cubicBezTo>
                <a:cubicBezTo>
                  <a:pt x="2514" y="802"/>
                  <a:pt x="2518" y="772"/>
                  <a:pt x="2525" y="759"/>
                </a:cubicBezTo>
                <a:cubicBezTo>
                  <a:pt x="2534" y="742"/>
                  <a:pt x="2557" y="711"/>
                  <a:pt x="2557" y="711"/>
                </a:cubicBezTo>
                <a:cubicBezTo>
                  <a:pt x="2589" y="584"/>
                  <a:pt x="2603" y="456"/>
                  <a:pt x="2629" y="327"/>
                </a:cubicBezTo>
                <a:cubicBezTo>
                  <a:pt x="2621" y="258"/>
                  <a:pt x="2608" y="233"/>
                  <a:pt x="2589" y="175"/>
                </a:cubicBezTo>
                <a:cubicBezTo>
                  <a:pt x="2571" y="120"/>
                  <a:pt x="2576" y="81"/>
                  <a:pt x="2525" y="47"/>
                </a:cubicBezTo>
                <a:cubicBezTo>
                  <a:pt x="2494" y="0"/>
                  <a:pt x="2461" y="17"/>
                  <a:pt x="2405" y="23"/>
                </a:cubicBezTo>
                <a:cubicBezTo>
                  <a:pt x="2372" y="31"/>
                  <a:pt x="2354" y="42"/>
                  <a:pt x="2325" y="55"/>
                </a:cubicBezTo>
                <a:cubicBezTo>
                  <a:pt x="2310" y="62"/>
                  <a:pt x="2291" y="62"/>
                  <a:pt x="2277" y="71"/>
                </a:cubicBezTo>
                <a:cubicBezTo>
                  <a:pt x="2241" y="95"/>
                  <a:pt x="2214" y="113"/>
                  <a:pt x="2173" y="127"/>
                </a:cubicBezTo>
                <a:cubicBezTo>
                  <a:pt x="2125" y="175"/>
                  <a:pt x="2064" y="203"/>
                  <a:pt x="2013" y="247"/>
                </a:cubicBezTo>
                <a:cubicBezTo>
                  <a:pt x="1967" y="287"/>
                  <a:pt x="1920" y="331"/>
                  <a:pt x="1861" y="351"/>
                </a:cubicBezTo>
                <a:cubicBezTo>
                  <a:pt x="1802" y="395"/>
                  <a:pt x="1750" y="419"/>
                  <a:pt x="1677" y="431"/>
                </a:cubicBezTo>
                <a:cubicBezTo>
                  <a:pt x="1502" y="424"/>
                  <a:pt x="1325" y="433"/>
                  <a:pt x="1157" y="391"/>
                </a:cubicBezTo>
                <a:cubicBezTo>
                  <a:pt x="1079" y="339"/>
                  <a:pt x="978" y="316"/>
                  <a:pt x="885" y="303"/>
                </a:cubicBezTo>
                <a:cubicBezTo>
                  <a:pt x="810" y="306"/>
                  <a:pt x="736" y="305"/>
                  <a:pt x="661" y="311"/>
                </a:cubicBezTo>
                <a:cubicBezTo>
                  <a:pt x="500" y="323"/>
                  <a:pt x="340" y="373"/>
                  <a:pt x="181" y="399"/>
                </a:cubicBezTo>
                <a:cubicBezTo>
                  <a:pt x="134" y="423"/>
                  <a:pt x="160" y="411"/>
                  <a:pt x="101" y="431"/>
                </a:cubicBezTo>
                <a:cubicBezTo>
                  <a:pt x="93" y="434"/>
                  <a:pt x="77" y="439"/>
                  <a:pt x="77" y="439"/>
                </a:cubicBezTo>
                <a:cubicBezTo>
                  <a:pt x="54" y="462"/>
                  <a:pt x="44" y="470"/>
                  <a:pt x="69" y="495"/>
                </a:cubicBezTo>
                <a:close/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5" name=""/>
              <p:cNvSpPr txBox="1"/>
              <p:nvPr/>
            </p:nvSpPr>
            <p:spPr>
              <a:xfrm>
                <a:off x="3897360" y="2030400"/>
                <a:ext cx="45133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´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´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6" name=""/>
          <p:cNvSpPr/>
          <p:nvPr/>
        </p:nvSpPr>
        <p:spPr>
          <a:xfrm>
            <a:off x="6107040" y="3365640"/>
            <a:ext cx="540000" cy="723600"/>
          </a:xfrm>
          <a:prstGeom prst="downArrow">
            <a:avLst>
              <a:gd name="adj1" fmla="val 50000"/>
              <a:gd name="adj2" fmla="val 335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 flipV="1">
            <a:off x="2517840" y="5361120"/>
            <a:ext cx="2955960" cy="325440"/>
          </a:xfrm>
          <a:custGeom>
            <a:avLst/>
            <a:gdLst/>
            <a:ahLst/>
            <a:rect l="l" t="t" r="r" b="b"/>
            <a:pathLst>
              <a:path w="1232" h="347">
                <a:moveTo>
                  <a:pt x="0" y="43"/>
                </a:moveTo>
                <a:cubicBezTo>
                  <a:pt x="249" y="21"/>
                  <a:pt x="499" y="0"/>
                  <a:pt x="704" y="51"/>
                </a:cubicBezTo>
                <a:cubicBezTo>
                  <a:pt x="909" y="102"/>
                  <a:pt x="1129" y="294"/>
                  <a:pt x="1232" y="347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2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2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2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9" name=""/>
              <p:cNvSpPr txBox="1"/>
              <p:nvPr/>
            </p:nvSpPr>
            <p:spPr>
              <a:xfrm>
                <a:off x="4654440" y="1604880"/>
                <a:ext cx="38102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0" name=""/>
              <p:cNvSpPr txBox="1"/>
              <p:nvPr/>
            </p:nvSpPr>
            <p:spPr>
              <a:xfrm>
                <a:off x="4208400" y="2720880"/>
                <a:ext cx="46893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01" name=""/>
          <p:cNvGrpSpPr/>
          <p:nvPr/>
        </p:nvGrpSpPr>
        <p:grpSpPr>
          <a:xfrm>
            <a:off x="136800" y="1673280"/>
            <a:ext cx="3939120" cy="3768480"/>
            <a:chOff x="136800" y="1673280"/>
            <a:chExt cx="3939120" cy="3768480"/>
          </a:xfrm>
        </p:grpSpPr>
        <p:sp>
          <p:nvSpPr>
            <p:cNvPr id="2702" name=""/>
            <p:cNvSpPr/>
            <p:nvPr/>
          </p:nvSpPr>
          <p:spPr>
            <a:xfrm rot="5400000">
              <a:off x="1897200" y="2501280"/>
              <a:ext cx="1326240" cy="1423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1492200" y="2857680"/>
              <a:ext cx="35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 flipH="1">
              <a:off x="1501920" y="3584520"/>
              <a:ext cx="35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3241800" y="3210120"/>
              <a:ext cx="35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844280" y="2605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1843920" y="3355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8" name=""/>
            <p:cNvGrpSpPr/>
            <p:nvPr/>
          </p:nvGrpSpPr>
          <p:grpSpPr>
            <a:xfrm>
              <a:off x="1365120" y="4896720"/>
              <a:ext cx="272520" cy="545040"/>
              <a:chOff x="1365120" y="4896720"/>
              <a:chExt cx="272520" cy="545040"/>
            </a:xfrm>
          </p:grpSpPr>
          <p:sp>
            <p:nvSpPr>
              <p:cNvPr id="2709" name=""/>
              <p:cNvSpPr/>
              <p:nvPr/>
            </p:nvSpPr>
            <p:spPr>
              <a:xfrm>
                <a:off x="1495080" y="4896720"/>
                <a:ext cx="0" cy="41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1365120" y="5316120"/>
                <a:ext cx="27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1426680" y="5384520"/>
                <a:ext cx="14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1466640" y="5441760"/>
                <a:ext cx="6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3" name=""/>
            <p:cNvSpPr/>
            <p:nvPr/>
          </p:nvSpPr>
          <p:spPr>
            <a:xfrm>
              <a:off x="3605760" y="26726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4" name=""/>
            <p:cNvGrpSpPr/>
            <p:nvPr/>
          </p:nvGrpSpPr>
          <p:grpSpPr>
            <a:xfrm>
              <a:off x="2383920" y="2205720"/>
              <a:ext cx="888120" cy="180360"/>
              <a:chOff x="2383920" y="2205720"/>
              <a:chExt cx="888120" cy="180360"/>
            </a:xfrm>
          </p:grpSpPr>
          <p:sp>
            <p:nvSpPr>
              <p:cNvPr id="2715" name=""/>
              <p:cNvSpPr/>
              <p:nvPr/>
            </p:nvSpPr>
            <p:spPr>
              <a:xfrm>
                <a:off x="2383920" y="229500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 flipV="1">
                <a:off x="2555280" y="2211840"/>
                <a:ext cx="4860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2604240" y="2212200"/>
                <a:ext cx="6876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 flipV="1">
                <a:off x="2673000" y="2205720"/>
                <a:ext cx="8136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2754360" y="2205720"/>
                <a:ext cx="8460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2839320" y="2205720"/>
                <a:ext cx="8172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2921040" y="2206440"/>
                <a:ext cx="946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V="1">
                <a:off x="3016080" y="2206080"/>
                <a:ext cx="730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3089160" y="2206440"/>
                <a:ext cx="5868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3148200" y="229500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5" name=""/>
            <p:cNvGrpSpPr/>
            <p:nvPr/>
          </p:nvGrpSpPr>
          <p:grpSpPr>
            <a:xfrm>
              <a:off x="414000" y="2198880"/>
              <a:ext cx="886680" cy="182160"/>
              <a:chOff x="414000" y="2198880"/>
              <a:chExt cx="886680" cy="182160"/>
            </a:xfrm>
          </p:grpSpPr>
          <p:sp>
            <p:nvSpPr>
              <p:cNvPr id="2726" name=""/>
              <p:cNvSpPr/>
              <p:nvPr/>
            </p:nvSpPr>
            <p:spPr>
              <a:xfrm>
                <a:off x="414000" y="228924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V="1">
                <a:off x="585000" y="2205360"/>
                <a:ext cx="48600" cy="8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33960" y="2205000"/>
                <a:ext cx="6876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V="1">
                <a:off x="702720" y="2198880"/>
                <a:ext cx="810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84080" y="2199240"/>
                <a:ext cx="846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 flipV="1">
                <a:off x="868680" y="2198880"/>
                <a:ext cx="8136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950400" y="2199240"/>
                <a:ext cx="9432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 flipV="1">
                <a:off x="1045080" y="2199240"/>
                <a:ext cx="7308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118160" y="2199240"/>
                <a:ext cx="58680" cy="9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1176840" y="228924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6" name=""/>
            <p:cNvSpPr/>
            <p:nvPr/>
          </p:nvSpPr>
          <p:spPr>
            <a:xfrm>
              <a:off x="1281960" y="229176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 flipV="1">
              <a:off x="1492560" y="2289960"/>
              <a:ext cx="0" cy="56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3447000" y="2289960"/>
              <a:ext cx="0" cy="91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 flipH="1">
              <a:off x="3272400" y="2289960"/>
              <a:ext cx="17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136800" y="17398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3589560" y="3161880"/>
              <a:ext cx="75960" cy="95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344880" y="2246760"/>
              <a:ext cx="75960" cy="9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56280" y="1673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1568520" y="4013280"/>
              <a:ext cx="0" cy="31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1610280" y="391464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6" name=""/>
            <p:cNvGrpSpPr/>
            <p:nvPr/>
          </p:nvGrpSpPr>
          <p:grpSpPr>
            <a:xfrm>
              <a:off x="2353680" y="3882960"/>
              <a:ext cx="888120" cy="180360"/>
              <a:chOff x="2353680" y="3882960"/>
              <a:chExt cx="888120" cy="180360"/>
            </a:xfrm>
          </p:grpSpPr>
          <p:sp>
            <p:nvSpPr>
              <p:cNvPr id="2747" name=""/>
              <p:cNvSpPr/>
              <p:nvPr/>
            </p:nvSpPr>
            <p:spPr>
              <a:xfrm>
                <a:off x="2353680" y="397224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 flipV="1">
                <a:off x="2525040" y="3889080"/>
                <a:ext cx="4860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2574000" y="3889440"/>
                <a:ext cx="6876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2642760" y="3882960"/>
                <a:ext cx="8136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2724120" y="3882960"/>
                <a:ext cx="8460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V="1">
                <a:off x="2809080" y="3882960"/>
                <a:ext cx="8172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2890800" y="3883680"/>
                <a:ext cx="946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V="1">
                <a:off x="2985840" y="3883320"/>
                <a:ext cx="730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3058920" y="3883680"/>
                <a:ext cx="5868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3117960" y="397224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383760" y="3876120"/>
              <a:ext cx="886680" cy="182160"/>
              <a:chOff x="383760" y="3876120"/>
              <a:chExt cx="886680" cy="182160"/>
            </a:xfrm>
          </p:grpSpPr>
          <p:sp>
            <p:nvSpPr>
              <p:cNvPr id="2758" name=""/>
              <p:cNvSpPr/>
              <p:nvPr/>
            </p:nvSpPr>
            <p:spPr>
              <a:xfrm>
                <a:off x="383760" y="396648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V="1">
                <a:off x="554760" y="3882600"/>
                <a:ext cx="48600" cy="8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603720" y="3882240"/>
                <a:ext cx="6876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 flipV="1">
                <a:off x="672480" y="3876120"/>
                <a:ext cx="810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53840" y="3876480"/>
                <a:ext cx="846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 flipV="1">
                <a:off x="838440" y="3876120"/>
                <a:ext cx="8136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920160" y="3876480"/>
                <a:ext cx="9432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1014840" y="3876480"/>
                <a:ext cx="7308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1087920" y="3876480"/>
                <a:ext cx="58680" cy="9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1146600" y="396648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8" name=""/>
            <p:cNvSpPr/>
            <p:nvPr/>
          </p:nvSpPr>
          <p:spPr>
            <a:xfrm>
              <a:off x="1251360" y="396900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 flipH="1">
              <a:off x="3242160" y="3967200"/>
              <a:ext cx="20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344880" y="3916080"/>
              <a:ext cx="75960" cy="9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1427040" y="4349880"/>
              <a:ext cx="141120" cy="5464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 flipV="1">
              <a:off x="1492560" y="3584520"/>
              <a:ext cx="0" cy="76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3447000" y="3210120"/>
              <a:ext cx="0" cy="7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666520" y="1673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56280" y="3355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720520" y="3421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136800" y="341532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1631160" y="443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1486440" y="234432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1446840" y="31240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1251360" y="2132280"/>
              <a:ext cx="21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1842480" y="2132280"/>
              <a:ext cx="309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1165680" y="1673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1799280" y="1673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212840" y="3874680"/>
              <a:ext cx="21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1173960" y="335520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1914840" y="4062960"/>
              <a:ext cx="438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032920" y="412056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9" name=""/>
          <p:cNvSpPr/>
          <p:nvPr/>
        </p:nvSpPr>
        <p:spPr>
          <a:xfrm>
            <a:off x="3666960" y="437184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gualando las ecuaciones (1) y (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0" name=""/>
              <p:cNvSpPr txBox="1"/>
              <p:nvPr/>
            </p:nvSpPr>
            <p:spPr>
              <a:xfrm>
                <a:off x="4549680" y="4992840"/>
                <a:ext cx="192744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1" name=""/>
          <p:cNvSpPr/>
          <p:nvPr/>
        </p:nvSpPr>
        <p:spPr>
          <a:xfrm>
            <a:off x="2384280" y="752400"/>
            <a:ext cx="37972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2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2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1706400" y="-360"/>
            <a:ext cx="609624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3" name=""/>
              <p:cNvSpPr txBox="1"/>
              <p:nvPr/>
            </p:nvSpPr>
            <p:spPr>
              <a:xfrm>
                <a:off x="7016760" y="1519200"/>
                <a:ext cx="13842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4" name=""/>
              <p:cNvSpPr txBox="1"/>
              <p:nvPr/>
            </p:nvSpPr>
            <p:spPr>
              <a:xfrm>
                <a:off x="4903920" y="2863800"/>
                <a:ext cx="390672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5" name=""/>
          <p:cNvSpPr/>
          <p:nvPr/>
        </p:nvSpPr>
        <p:spPr>
          <a:xfrm>
            <a:off x="4351320" y="1170000"/>
            <a:ext cx="25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ado que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4351320" y="2316240"/>
            <a:ext cx="26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 tensión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7" name=""/>
          <p:cNvGrpSpPr/>
          <p:nvPr/>
        </p:nvGrpSpPr>
        <p:grpSpPr>
          <a:xfrm>
            <a:off x="272160" y="1417680"/>
            <a:ext cx="4095720" cy="2835360"/>
            <a:chOff x="272160" y="1417680"/>
            <a:chExt cx="4095720" cy="2835360"/>
          </a:xfrm>
        </p:grpSpPr>
        <p:sp>
          <p:nvSpPr>
            <p:cNvPr id="2798" name=""/>
            <p:cNvSpPr/>
            <p:nvPr/>
          </p:nvSpPr>
          <p:spPr>
            <a:xfrm rot="5400000">
              <a:off x="2139480" y="2586600"/>
              <a:ext cx="1320840" cy="15069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 flipH="1">
              <a:off x="1668600" y="29862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>
              <a:off x="1679040" y="37101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H="1">
              <a:off x="3522600" y="33368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040840" y="27352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040840" y="34815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4" name=""/>
            <p:cNvGrpSpPr/>
            <p:nvPr/>
          </p:nvGrpSpPr>
          <p:grpSpPr>
            <a:xfrm>
              <a:off x="1537920" y="3710160"/>
              <a:ext cx="287280" cy="542880"/>
              <a:chOff x="1537920" y="3710160"/>
              <a:chExt cx="287280" cy="542880"/>
            </a:xfrm>
          </p:grpSpPr>
          <p:sp>
            <p:nvSpPr>
              <p:cNvPr id="2805" name=""/>
              <p:cNvSpPr/>
              <p:nvPr/>
            </p:nvSpPr>
            <p:spPr>
              <a:xfrm>
                <a:off x="1674720" y="37101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1537920" y="41281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1602720" y="41958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1644840" y="42530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9" name=""/>
            <p:cNvSpPr/>
            <p:nvPr/>
          </p:nvSpPr>
          <p:spPr>
            <a:xfrm>
              <a:off x="3897720" y="28288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0" name=""/>
            <p:cNvGrpSpPr/>
            <p:nvPr/>
          </p:nvGrpSpPr>
          <p:grpSpPr>
            <a:xfrm>
              <a:off x="527040" y="2332080"/>
              <a:ext cx="938880" cy="179640"/>
              <a:chOff x="527040" y="2332080"/>
              <a:chExt cx="938880" cy="179640"/>
            </a:xfrm>
          </p:grpSpPr>
          <p:sp>
            <p:nvSpPr>
              <p:cNvPr id="2811" name=""/>
              <p:cNvSpPr/>
              <p:nvPr/>
            </p:nvSpPr>
            <p:spPr>
              <a:xfrm>
                <a:off x="527040" y="24210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 flipV="1">
                <a:off x="708120" y="23382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59960" y="23385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 flipV="1">
                <a:off x="832680" y="23320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918720" y="23320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 flipV="1">
                <a:off x="1008360" y="23320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1094760" y="23328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V="1">
                <a:off x="1195200" y="23324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1272600" y="23324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1334880" y="24210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1" name=""/>
            <p:cNvSpPr/>
            <p:nvPr/>
          </p:nvSpPr>
          <p:spPr>
            <a:xfrm>
              <a:off x="1447200" y="2422440"/>
              <a:ext cx="129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V="1">
              <a:off x="1668600" y="24210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3737880" y="242100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2853000" y="2421000"/>
              <a:ext cx="88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72160" y="19414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889080" y="32893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44960" y="237348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868840" y="1965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77240" y="18064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 flipV="1">
              <a:off x="2747160" y="21700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 flipV="1">
              <a:off x="2853000" y="21700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1346400" y="233208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1825560" y="233208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1365480" y="18748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1938600" y="187632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1668600" y="3065400"/>
              <a:ext cx="0" cy="5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1147320" y="31082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flipH="1">
              <a:off x="2302920" y="1960560"/>
              <a:ext cx="125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2767320" y="141768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0" name=""/>
          <p:cNvSpPr/>
          <p:nvPr/>
        </p:nvSpPr>
        <p:spPr>
          <a:xfrm>
            <a:off x="260280" y="5275440"/>
            <a:ext cx="429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mo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(t)=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(t)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4487760" y="5137200"/>
                <a:ext cx="43974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2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2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2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2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1706400" y="-360"/>
            <a:ext cx="609624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3" name=""/>
          <p:cNvGrpSpPr/>
          <p:nvPr/>
        </p:nvGrpSpPr>
        <p:grpSpPr>
          <a:xfrm>
            <a:off x="11880" y="1484280"/>
            <a:ext cx="4095720" cy="2835360"/>
            <a:chOff x="11880" y="1484280"/>
            <a:chExt cx="4095720" cy="2835360"/>
          </a:xfrm>
        </p:grpSpPr>
        <p:sp>
          <p:nvSpPr>
            <p:cNvPr id="2844" name=""/>
            <p:cNvSpPr/>
            <p:nvPr/>
          </p:nvSpPr>
          <p:spPr>
            <a:xfrm rot="5400000">
              <a:off x="1878840" y="2653560"/>
              <a:ext cx="1320840" cy="1506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flipH="1">
              <a:off x="1408320" y="30528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flipH="1">
              <a:off x="1418400" y="377676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flipH="1">
              <a:off x="3261960" y="34034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1779840" y="2801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1780200" y="35481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0" name=""/>
            <p:cNvGrpSpPr/>
            <p:nvPr/>
          </p:nvGrpSpPr>
          <p:grpSpPr>
            <a:xfrm>
              <a:off x="1277640" y="3776760"/>
              <a:ext cx="287280" cy="542880"/>
              <a:chOff x="1277640" y="3776760"/>
              <a:chExt cx="287280" cy="542880"/>
            </a:xfrm>
          </p:grpSpPr>
          <p:sp>
            <p:nvSpPr>
              <p:cNvPr id="2851" name=""/>
              <p:cNvSpPr/>
              <p:nvPr/>
            </p:nvSpPr>
            <p:spPr>
              <a:xfrm>
                <a:off x="1414440" y="37767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1277640" y="41947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1342440" y="42624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1384560" y="4319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5" name=""/>
            <p:cNvSpPr/>
            <p:nvPr/>
          </p:nvSpPr>
          <p:spPr>
            <a:xfrm>
              <a:off x="3637440" y="2895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6" name=""/>
            <p:cNvGrpSpPr/>
            <p:nvPr/>
          </p:nvGrpSpPr>
          <p:grpSpPr>
            <a:xfrm>
              <a:off x="266760" y="2398680"/>
              <a:ext cx="938520" cy="179640"/>
              <a:chOff x="266760" y="2398680"/>
              <a:chExt cx="938520" cy="179640"/>
            </a:xfrm>
          </p:grpSpPr>
          <p:sp>
            <p:nvSpPr>
              <p:cNvPr id="2857" name=""/>
              <p:cNvSpPr/>
              <p:nvPr/>
            </p:nvSpPr>
            <p:spPr>
              <a:xfrm>
                <a:off x="266760" y="24876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 flipV="1">
                <a:off x="447840" y="24048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99320" y="24051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V="1">
                <a:off x="572400" y="23986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658440" y="2398680"/>
                <a:ext cx="8928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V="1">
                <a:off x="748080" y="23986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834480" y="23994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flipV="1">
                <a:off x="934560" y="23990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1011960" y="23990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1074240" y="24876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7" name=""/>
            <p:cNvSpPr/>
            <p:nvPr/>
          </p:nvSpPr>
          <p:spPr>
            <a:xfrm>
              <a:off x="1186920" y="2489040"/>
              <a:ext cx="129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 flipV="1">
              <a:off x="1408320" y="24876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477600" y="248760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H="1">
              <a:off x="2592360" y="2487600"/>
              <a:ext cx="88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11880" y="20080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628440" y="33559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184680" y="244008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2608200" y="20318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516960" y="18730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V="1">
              <a:off x="2486880" y="22366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V="1">
              <a:off x="2592360" y="22366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085760" y="239868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1565280" y="239868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1105200" y="19414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1678320" y="1943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1408320" y="3132000"/>
              <a:ext cx="0" cy="5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887040" y="31748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 flipH="1">
              <a:off x="2042280" y="2027160"/>
              <a:ext cx="125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2507040" y="148428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6" name=""/>
          <p:cNvSpPr/>
          <p:nvPr/>
        </p:nvSpPr>
        <p:spPr>
          <a:xfrm>
            <a:off x="4782960" y="971640"/>
            <a:ext cx="35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Formas de o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8" name=""/>
          <p:cNvGraphicFramePr/>
          <p:nvPr/>
        </p:nvGraphicFramePr>
        <p:xfrm>
          <a:off x="4051440" y="1838160"/>
          <a:ext cx="4668840" cy="38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51440" y="1838160"/>
                    <a:ext cx="466884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90" name=""/>
              <p:cNvSpPr txBox="1"/>
              <p:nvPr/>
            </p:nvSpPr>
            <p:spPr>
              <a:xfrm>
                <a:off x="657360" y="4594320"/>
                <a:ext cx="32572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6680" y="-54000"/>
            <a:ext cx="7924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52920" y="1096920"/>
            <a:ext cx="2922840" cy="2349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9560" y="798480"/>
            <a:ext cx="3013200" cy="2630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00440" y="711360"/>
            <a:ext cx="37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ncapsul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200240" y="4086360"/>
            <a:ext cx="2328840" cy="2544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92400" y="3489480"/>
            <a:ext cx="21715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Inse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08680" y="3481560"/>
            <a:ext cx="21715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230800" y="4327560"/>
            <a:ext cx="24177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"/>
          <p:cNvSpPr/>
          <p:nvPr/>
        </p:nvSpPr>
        <p:spPr>
          <a:xfrm>
            <a:off x="1706400" y="0"/>
            <a:ext cx="6096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1593720" y="876240"/>
            <a:ext cx="559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Problema: Saturación de 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 rot="5400000">
            <a:off x="2019600" y="3491640"/>
            <a:ext cx="1320840" cy="1506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 flipH="1">
            <a:off x="1549440" y="3890880"/>
            <a:ext cx="37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 flipH="1">
            <a:off x="692280" y="4614840"/>
            <a:ext cx="124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 flipH="1">
            <a:off x="3402000" y="4241880"/>
            <a:ext cx="37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1920600" y="36399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1920600" y="43862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9" name=""/>
          <p:cNvGrpSpPr/>
          <p:nvPr/>
        </p:nvGrpSpPr>
        <p:grpSpPr>
          <a:xfrm>
            <a:off x="561960" y="4627440"/>
            <a:ext cx="287280" cy="542880"/>
            <a:chOff x="561960" y="4627440"/>
            <a:chExt cx="287280" cy="542880"/>
          </a:xfrm>
        </p:grpSpPr>
        <p:sp>
          <p:nvSpPr>
            <p:cNvPr id="2900" name=""/>
            <p:cNvSpPr/>
            <p:nvPr/>
          </p:nvSpPr>
          <p:spPr>
            <a:xfrm>
              <a:off x="698760" y="4627440"/>
              <a:ext cx="0" cy="41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61960" y="50454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626760" y="5113080"/>
              <a:ext cx="14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668880" y="5170320"/>
              <a:ext cx="67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4" name=""/>
          <p:cNvSpPr/>
          <p:nvPr/>
        </p:nvSpPr>
        <p:spPr>
          <a:xfrm>
            <a:off x="3777120" y="3733920"/>
            <a:ext cx="47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5" name=""/>
          <p:cNvGrpSpPr/>
          <p:nvPr/>
        </p:nvGrpSpPr>
        <p:grpSpPr>
          <a:xfrm>
            <a:off x="407880" y="3236400"/>
            <a:ext cx="937800" cy="180000"/>
            <a:chOff x="407880" y="3236400"/>
            <a:chExt cx="937800" cy="180000"/>
          </a:xfrm>
        </p:grpSpPr>
        <p:sp>
          <p:nvSpPr>
            <p:cNvPr id="2906" name=""/>
            <p:cNvSpPr/>
            <p:nvPr/>
          </p:nvSpPr>
          <p:spPr>
            <a:xfrm>
              <a:off x="407880" y="3325680"/>
              <a:ext cx="18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V="1">
              <a:off x="588600" y="3242880"/>
              <a:ext cx="51480" cy="8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40440" y="3242520"/>
              <a:ext cx="7272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 flipV="1">
              <a:off x="713160" y="3236400"/>
              <a:ext cx="8568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799200" y="3236760"/>
              <a:ext cx="8928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 flipV="1">
              <a:off x="888840" y="3236400"/>
              <a:ext cx="8640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975240" y="3236760"/>
              <a:ext cx="10008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V="1">
              <a:off x="1075320" y="3236760"/>
              <a:ext cx="7740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1152720" y="3237120"/>
              <a:ext cx="6192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1215000" y="332568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6" name=""/>
          <p:cNvSpPr/>
          <p:nvPr/>
        </p:nvSpPr>
        <p:spPr>
          <a:xfrm>
            <a:off x="1327320" y="3327480"/>
            <a:ext cx="22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 flipV="1">
            <a:off x="1549440" y="3325680"/>
            <a:ext cx="0" cy="56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153000" y="2846520"/>
            <a:ext cx="40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3768840" y="4194000"/>
            <a:ext cx="82440" cy="95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325440" y="3278160"/>
            <a:ext cx="82440" cy="95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657360" y="271152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227240" y="3236760"/>
            <a:ext cx="255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1245600" y="27795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1818720" y="27813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549440" y="3970440"/>
            <a:ext cx="0" cy="561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1028520" y="40132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1992240" y="3924360"/>
            <a:ext cx="1700280" cy="1904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 flipV="1">
            <a:off x="1992240" y="4267080"/>
            <a:ext cx="1700280" cy="317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902520" y="4791240"/>
            <a:ext cx="512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U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0" name=""/>
          <p:cNvGrpSpPr/>
          <p:nvPr/>
        </p:nvGrpSpPr>
        <p:grpSpPr>
          <a:xfrm>
            <a:off x="831240" y="4375080"/>
            <a:ext cx="468000" cy="412920"/>
            <a:chOff x="831240" y="4375080"/>
            <a:chExt cx="468000" cy="412920"/>
          </a:xfrm>
        </p:grpSpPr>
        <p:sp>
          <p:nvSpPr>
            <p:cNvPr id="2931" name=""/>
            <p:cNvSpPr/>
            <p:nvPr/>
          </p:nvSpPr>
          <p:spPr>
            <a:xfrm>
              <a:off x="867960" y="4406760"/>
              <a:ext cx="373680" cy="381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972360" y="4386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831240" y="4375080"/>
              <a:ext cx="26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4" name=""/>
          <p:cNvGrpSpPr/>
          <p:nvPr/>
        </p:nvGrpSpPr>
        <p:grpSpPr>
          <a:xfrm>
            <a:off x="1547640" y="1697040"/>
            <a:ext cx="2085840" cy="1617480"/>
            <a:chOff x="1547640" y="1697040"/>
            <a:chExt cx="2085840" cy="1617480"/>
          </a:xfrm>
        </p:grpSpPr>
        <p:grpSp>
          <p:nvGrpSpPr>
            <p:cNvPr id="2935" name=""/>
            <p:cNvGrpSpPr/>
            <p:nvPr/>
          </p:nvGrpSpPr>
          <p:grpSpPr>
            <a:xfrm>
              <a:off x="2343240" y="2108160"/>
              <a:ext cx="938160" cy="179640"/>
              <a:chOff x="2343240" y="2108160"/>
              <a:chExt cx="938160" cy="179640"/>
            </a:xfrm>
          </p:grpSpPr>
          <p:sp>
            <p:nvSpPr>
              <p:cNvPr id="2936" name=""/>
              <p:cNvSpPr/>
              <p:nvPr/>
            </p:nvSpPr>
            <p:spPr>
              <a:xfrm>
                <a:off x="2343240" y="2197080"/>
                <a:ext cx="18108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2524320" y="2114280"/>
                <a:ext cx="51480" cy="8280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2575800" y="2114640"/>
                <a:ext cx="72720" cy="1731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2648520" y="2108160"/>
                <a:ext cx="86040" cy="17928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2734560" y="2108160"/>
                <a:ext cx="89280" cy="17928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824200" y="2108160"/>
                <a:ext cx="86400" cy="17928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2910600" y="2108880"/>
                <a:ext cx="100080" cy="1731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3010680" y="2108520"/>
                <a:ext cx="77400" cy="1731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3088440" y="2108520"/>
                <a:ext cx="61920" cy="885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3150360" y="2197080"/>
                <a:ext cx="13104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6" name=""/>
            <p:cNvSpPr/>
            <p:nvPr/>
          </p:nvSpPr>
          <p:spPr>
            <a:xfrm>
              <a:off x="2669400" y="16970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66ff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270240" y="2197080"/>
              <a:ext cx="36324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621600" y="2184120"/>
              <a:ext cx="0" cy="11304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 flipH="1">
              <a:off x="1559160" y="2184120"/>
              <a:ext cx="80856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1547640" y="2171160"/>
              <a:ext cx="0" cy="11430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1" name=""/>
          <p:cNvGrpSpPr/>
          <p:nvPr/>
        </p:nvGrpSpPr>
        <p:grpSpPr>
          <a:xfrm>
            <a:off x="1547640" y="2882880"/>
            <a:ext cx="2070360" cy="1359000"/>
            <a:chOff x="1547640" y="2882880"/>
            <a:chExt cx="2070360" cy="1359000"/>
          </a:xfrm>
        </p:grpSpPr>
        <p:sp>
          <p:nvSpPr>
            <p:cNvPr id="2952" name=""/>
            <p:cNvSpPr/>
            <p:nvPr/>
          </p:nvSpPr>
          <p:spPr>
            <a:xfrm>
              <a:off x="3618000" y="332568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3" name=""/>
            <p:cNvGrpSpPr/>
            <p:nvPr/>
          </p:nvGrpSpPr>
          <p:grpSpPr>
            <a:xfrm>
              <a:off x="1547640" y="2882880"/>
              <a:ext cx="2070000" cy="713880"/>
              <a:chOff x="1547640" y="2882880"/>
              <a:chExt cx="2070000" cy="713880"/>
            </a:xfrm>
          </p:grpSpPr>
          <p:sp>
            <p:nvSpPr>
              <p:cNvPr id="2954" name=""/>
              <p:cNvSpPr/>
              <p:nvPr/>
            </p:nvSpPr>
            <p:spPr>
              <a:xfrm>
                <a:off x="1705680" y="3236760"/>
                <a:ext cx="54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5" name=""/>
              <p:cNvGrpSpPr/>
              <p:nvPr/>
            </p:nvGrpSpPr>
            <p:grpSpPr>
              <a:xfrm>
                <a:off x="1547640" y="2882880"/>
                <a:ext cx="2070000" cy="713880"/>
                <a:chOff x="1547640" y="2882880"/>
                <a:chExt cx="2070000" cy="713880"/>
              </a:xfrm>
            </p:grpSpPr>
            <p:sp>
              <p:nvSpPr>
                <p:cNvPr id="2956" name=""/>
                <p:cNvSpPr/>
                <p:nvPr/>
              </p:nvSpPr>
              <p:spPr>
                <a:xfrm flipH="1">
                  <a:off x="2732760" y="3338640"/>
                  <a:ext cx="884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2749320" y="288288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 flipV="1">
                  <a:off x="2627280" y="3087360"/>
                  <a:ext cx="0" cy="50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 flipV="1">
                  <a:off x="2732760" y="3087360"/>
                  <a:ext cx="0" cy="50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1547640" y="3327480"/>
                  <a:ext cx="1078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61" name=""/>
          <p:cNvSpPr/>
          <p:nvPr/>
        </p:nvSpPr>
        <p:spPr>
          <a:xfrm>
            <a:off x="4410000" y="1297080"/>
            <a:ext cx="444204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aus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simetría en los caminos de entrada-sal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fec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n tensión de entrada, en régimen permanente, el AO se satura.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U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i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±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olu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imitar la ganancia del AO con 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.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U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i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(1+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/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2" name=""/>
          <p:cNvGrpSpPr/>
          <p:nvPr/>
        </p:nvGrpSpPr>
        <p:grpSpPr>
          <a:xfrm>
            <a:off x="254160" y="3351240"/>
            <a:ext cx="249120" cy="476280"/>
            <a:chOff x="254160" y="3351240"/>
            <a:chExt cx="249120" cy="476280"/>
          </a:xfrm>
        </p:grpSpPr>
        <p:sp>
          <p:nvSpPr>
            <p:cNvPr id="2963" name=""/>
            <p:cNvSpPr/>
            <p:nvPr/>
          </p:nvSpPr>
          <p:spPr>
            <a:xfrm>
              <a:off x="372960" y="3351240"/>
              <a:ext cx="0" cy="36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54160" y="3717720"/>
              <a:ext cx="249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310320" y="3777480"/>
              <a:ext cx="129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47040" y="3827520"/>
              <a:ext cx="58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7" name=""/>
          <p:cNvGrpSpPr/>
          <p:nvPr/>
        </p:nvGrpSpPr>
        <p:grpSpPr>
          <a:xfrm>
            <a:off x="2790720" y="3676680"/>
            <a:ext cx="106560" cy="299520"/>
            <a:chOff x="2790720" y="3676680"/>
            <a:chExt cx="106560" cy="299520"/>
          </a:xfrm>
        </p:grpSpPr>
        <p:sp>
          <p:nvSpPr>
            <p:cNvPr id="2968" name=""/>
            <p:cNvSpPr/>
            <p:nvPr/>
          </p:nvSpPr>
          <p:spPr>
            <a:xfrm flipV="1">
              <a:off x="2842200" y="3786120"/>
              <a:ext cx="0" cy="19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2790720" y="3676680"/>
              <a:ext cx="106560" cy="10764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0" name=""/>
          <p:cNvGrpSpPr/>
          <p:nvPr/>
        </p:nvGrpSpPr>
        <p:grpSpPr>
          <a:xfrm>
            <a:off x="2804760" y="4503960"/>
            <a:ext cx="104760" cy="299880"/>
            <a:chOff x="2804760" y="4503960"/>
            <a:chExt cx="104760" cy="299880"/>
          </a:xfrm>
        </p:grpSpPr>
        <p:sp>
          <p:nvSpPr>
            <p:cNvPr id="2971" name=""/>
            <p:cNvSpPr/>
            <p:nvPr/>
          </p:nvSpPr>
          <p:spPr>
            <a:xfrm>
              <a:off x="2858760" y="4503960"/>
              <a:ext cx="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 rot="10800000">
              <a:off x="2804760" y="4695840"/>
              <a:ext cx="104760" cy="108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3" name=""/>
          <p:cNvSpPr/>
          <p:nvPr/>
        </p:nvSpPr>
        <p:spPr>
          <a:xfrm>
            <a:off x="2893680" y="3467160"/>
            <a:ext cx="70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2965320" y="449748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2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2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2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2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2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2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2" dur="20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2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29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3" dur="5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"/>
          <p:cNvSpPr/>
          <p:nvPr/>
        </p:nvSpPr>
        <p:spPr>
          <a:xfrm>
            <a:off x="0" y="0"/>
            <a:ext cx="91440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468360" y="781200"/>
            <a:ext cx="3798720" cy="869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versor V-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7" name=""/>
          <p:cNvGrpSpPr/>
          <p:nvPr/>
        </p:nvGrpSpPr>
        <p:grpSpPr>
          <a:xfrm>
            <a:off x="301680" y="1852560"/>
            <a:ext cx="3939120" cy="3592440"/>
            <a:chOff x="301680" y="1852560"/>
            <a:chExt cx="3939120" cy="3592440"/>
          </a:xfrm>
        </p:grpSpPr>
        <p:sp>
          <p:nvSpPr>
            <p:cNvPr id="2978" name=""/>
            <p:cNvSpPr/>
            <p:nvPr/>
          </p:nvSpPr>
          <p:spPr>
            <a:xfrm rot="5400000">
              <a:off x="2062800" y="2680200"/>
              <a:ext cx="1327320" cy="14241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 flipH="1">
              <a:off x="1658880" y="303696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H="1">
              <a:off x="1667160" y="376380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 flipH="1">
              <a:off x="3408120" y="338904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2009880" y="2784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2010240" y="35337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4" name=""/>
            <p:cNvGrpSpPr/>
            <p:nvPr/>
          </p:nvGrpSpPr>
          <p:grpSpPr>
            <a:xfrm>
              <a:off x="1531080" y="4900680"/>
              <a:ext cx="272520" cy="544320"/>
              <a:chOff x="1531080" y="4900680"/>
              <a:chExt cx="272520" cy="544320"/>
            </a:xfrm>
          </p:grpSpPr>
          <p:sp>
            <p:nvSpPr>
              <p:cNvPr id="2985" name=""/>
              <p:cNvSpPr/>
              <p:nvPr/>
            </p:nvSpPr>
            <p:spPr>
              <a:xfrm>
                <a:off x="1661040" y="4900680"/>
                <a:ext cx="0" cy="41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1531080" y="5319720"/>
                <a:ext cx="27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592640" y="5387760"/>
                <a:ext cx="14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632600" y="5445000"/>
                <a:ext cx="6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9" name=""/>
            <p:cNvSpPr/>
            <p:nvPr/>
          </p:nvSpPr>
          <p:spPr>
            <a:xfrm>
              <a:off x="3770640" y="28526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0" name=""/>
            <p:cNvGrpSpPr/>
            <p:nvPr/>
          </p:nvGrpSpPr>
          <p:grpSpPr>
            <a:xfrm>
              <a:off x="2549880" y="2383920"/>
              <a:ext cx="888840" cy="181440"/>
              <a:chOff x="2549880" y="2383920"/>
              <a:chExt cx="888840" cy="181440"/>
            </a:xfrm>
          </p:grpSpPr>
          <p:sp>
            <p:nvSpPr>
              <p:cNvPr id="2991" name=""/>
              <p:cNvSpPr/>
              <p:nvPr/>
            </p:nvSpPr>
            <p:spPr>
              <a:xfrm>
                <a:off x="2549880" y="24739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721240" y="2390400"/>
                <a:ext cx="4860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770200" y="2390040"/>
                <a:ext cx="6876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839320" y="2383920"/>
                <a:ext cx="81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2920680" y="2384280"/>
                <a:ext cx="8460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3005640" y="2383920"/>
                <a:ext cx="8172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3087360" y="2384280"/>
                <a:ext cx="946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3182400" y="2384280"/>
                <a:ext cx="730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3255840" y="2384640"/>
                <a:ext cx="5868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3314880" y="247392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1" name=""/>
            <p:cNvGrpSpPr/>
            <p:nvPr/>
          </p:nvGrpSpPr>
          <p:grpSpPr>
            <a:xfrm>
              <a:off x="578520" y="2377800"/>
              <a:ext cx="887400" cy="183240"/>
              <a:chOff x="578520" y="2377800"/>
              <a:chExt cx="887400" cy="183240"/>
            </a:xfrm>
          </p:grpSpPr>
          <p:sp>
            <p:nvSpPr>
              <p:cNvPr id="3002" name=""/>
              <p:cNvSpPr/>
              <p:nvPr/>
            </p:nvSpPr>
            <p:spPr>
              <a:xfrm>
                <a:off x="578520" y="246852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749520" y="2383920"/>
                <a:ext cx="48600" cy="8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798480" y="2384280"/>
                <a:ext cx="68760" cy="17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867240" y="2377800"/>
                <a:ext cx="8136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948600" y="2377800"/>
                <a:ext cx="8460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1033560" y="2377800"/>
                <a:ext cx="8172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1115280" y="2378520"/>
                <a:ext cx="94680" cy="17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1209960" y="2378160"/>
                <a:ext cx="73080" cy="17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1283400" y="2378520"/>
                <a:ext cx="58680" cy="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1342080" y="246852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2" name=""/>
            <p:cNvSpPr/>
            <p:nvPr/>
          </p:nvSpPr>
          <p:spPr>
            <a:xfrm>
              <a:off x="1447920" y="247176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 flipV="1">
              <a:off x="1658880" y="2469600"/>
              <a:ext cx="0" cy="56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3613680" y="2469960"/>
              <a:ext cx="0" cy="9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 flipH="1">
              <a:off x="3439080" y="2469960"/>
              <a:ext cx="17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301680" y="191916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3755880" y="3341520"/>
              <a:ext cx="7596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509400" y="2427120"/>
              <a:ext cx="7632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22960" y="1852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1733400" y="4192560"/>
              <a:ext cx="0" cy="3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1775520" y="409392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2" name=""/>
            <p:cNvGrpSpPr/>
            <p:nvPr/>
          </p:nvGrpSpPr>
          <p:grpSpPr>
            <a:xfrm>
              <a:off x="2518920" y="4062240"/>
              <a:ext cx="889200" cy="179640"/>
              <a:chOff x="2518920" y="4062240"/>
              <a:chExt cx="889200" cy="179640"/>
            </a:xfrm>
          </p:grpSpPr>
          <p:sp>
            <p:nvSpPr>
              <p:cNvPr id="3023" name=""/>
              <p:cNvSpPr/>
              <p:nvPr/>
            </p:nvSpPr>
            <p:spPr>
              <a:xfrm>
                <a:off x="2518920" y="41511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2690280" y="4068360"/>
                <a:ext cx="4860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2739240" y="4068720"/>
                <a:ext cx="6876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2808360" y="4062240"/>
                <a:ext cx="8136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2890080" y="4062240"/>
                <a:ext cx="846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2974680" y="4062240"/>
                <a:ext cx="8172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056760" y="4062960"/>
                <a:ext cx="946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151800" y="4062600"/>
                <a:ext cx="73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225240" y="4062600"/>
                <a:ext cx="586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283920" y="4151160"/>
                <a:ext cx="12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3" name=""/>
            <p:cNvGrpSpPr/>
            <p:nvPr/>
          </p:nvGrpSpPr>
          <p:grpSpPr>
            <a:xfrm>
              <a:off x="549000" y="4056120"/>
              <a:ext cx="886320" cy="181080"/>
              <a:chOff x="549000" y="4056120"/>
              <a:chExt cx="886320" cy="181080"/>
            </a:xfrm>
          </p:grpSpPr>
          <p:sp>
            <p:nvSpPr>
              <p:cNvPr id="3034" name=""/>
              <p:cNvSpPr/>
              <p:nvPr/>
            </p:nvSpPr>
            <p:spPr>
              <a:xfrm>
                <a:off x="549000" y="414576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720000" y="4062240"/>
                <a:ext cx="4860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68600" y="4062600"/>
                <a:ext cx="6840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837360" y="4056120"/>
                <a:ext cx="8100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918720" y="4056120"/>
                <a:ext cx="8460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flipV="1">
                <a:off x="1003320" y="4056120"/>
                <a:ext cx="8136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1085040" y="4056840"/>
                <a:ext cx="9432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1179720" y="4056480"/>
                <a:ext cx="7308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1252800" y="4056480"/>
                <a:ext cx="5868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1311840" y="4145760"/>
                <a:ext cx="123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4" name=""/>
            <p:cNvSpPr/>
            <p:nvPr/>
          </p:nvSpPr>
          <p:spPr>
            <a:xfrm>
              <a:off x="1416960" y="414792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 flipH="1">
              <a:off x="3408120" y="4146480"/>
              <a:ext cx="20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509400" y="4095720"/>
              <a:ext cx="7632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1658880" y="3763800"/>
              <a:ext cx="0" cy="100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3613680" y="3389040"/>
              <a:ext cx="0" cy="7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2832480" y="1852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22960" y="35337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2886480" y="3601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301680" y="35956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1805040" y="4616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1651680" y="252396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1612080" y="330336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1416960" y="2311200"/>
              <a:ext cx="21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2008800" y="2311200"/>
              <a:ext cx="30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1330920" y="18525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1965960" y="18525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1378440" y="4054320"/>
              <a:ext cx="213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1339560" y="353376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2080800" y="4241520"/>
              <a:ext cx="43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198160" y="429876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1462320" y="4755960"/>
              <a:ext cx="38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1465200" y="4892400"/>
              <a:ext cx="38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6" name=""/>
          <p:cNvGrpSpPr/>
          <p:nvPr/>
        </p:nvGrpSpPr>
        <p:grpSpPr>
          <a:xfrm>
            <a:off x="425520" y="2468520"/>
            <a:ext cx="271440" cy="544680"/>
            <a:chOff x="425520" y="2468520"/>
            <a:chExt cx="271440" cy="544680"/>
          </a:xfrm>
        </p:grpSpPr>
        <p:sp>
          <p:nvSpPr>
            <p:cNvPr id="3067" name=""/>
            <p:cNvSpPr/>
            <p:nvPr/>
          </p:nvSpPr>
          <p:spPr>
            <a:xfrm>
              <a:off x="554760" y="2468520"/>
              <a:ext cx="0" cy="419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25520" y="2887560"/>
              <a:ext cx="271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87080" y="2955960"/>
              <a:ext cx="140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526680" y="3013200"/>
              <a:ext cx="63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1" name=""/>
          <p:cNvSpPr/>
          <p:nvPr/>
        </p:nvSpPr>
        <p:spPr>
          <a:xfrm flipV="1">
            <a:off x="1290600" y="4432320"/>
            <a:ext cx="0" cy="78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721440" y="458964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808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808080"/>
                </a:solidFill>
                <a:latin typeface="Arial Unicode MS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5110200" y="1928880"/>
                <a:ext cx="30751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5383080" y="3095640"/>
                <a:ext cx="25117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075" name=""/>
          <p:cNvGraphicFramePr/>
          <p:nvPr/>
        </p:nvGraphicFramePr>
        <p:xfrm>
          <a:off x="3741840" y="4186080"/>
          <a:ext cx="518796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1840" y="4186080"/>
                    <a:ext cx="518796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2136600" y="5181480"/>
                <a:ext cx="121464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5113440" y="766800"/>
                <a:ext cx="30686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3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3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3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3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3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1825560" y="-360"/>
            <a:ext cx="60962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ircuito derivador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6856560" y="1170000"/>
                <a:ext cx="19350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6730920" y="2263680"/>
                <a:ext cx="20383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3060720" y="4838760"/>
                <a:ext cx="33037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3" name=""/>
          <p:cNvSpPr/>
          <p:nvPr/>
        </p:nvSpPr>
        <p:spPr>
          <a:xfrm>
            <a:off x="4087800" y="1143000"/>
            <a:ext cx="250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ado que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4087800" y="2300400"/>
            <a:ext cx="26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 tensió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4122720" y="3092400"/>
            <a:ext cx="247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mo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(t)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6" name=""/>
          <p:cNvGrpSpPr/>
          <p:nvPr/>
        </p:nvGrpSpPr>
        <p:grpSpPr>
          <a:xfrm>
            <a:off x="16560" y="1138320"/>
            <a:ext cx="4094280" cy="3082320"/>
            <a:chOff x="16560" y="1138320"/>
            <a:chExt cx="4094280" cy="3082320"/>
          </a:xfrm>
        </p:grpSpPr>
        <p:sp>
          <p:nvSpPr>
            <p:cNvPr id="3087" name=""/>
            <p:cNvSpPr/>
            <p:nvPr/>
          </p:nvSpPr>
          <p:spPr>
            <a:xfrm rot="5400000">
              <a:off x="1883160" y="2554920"/>
              <a:ext cx="132048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H="1">
              <a:off x="1412280" y="2954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 flipH="1">
              <a:off x="1422720" y="36781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 flipH="1">
              <a:off x="3265560" y="330480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1784160" y="2703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1783800" y="344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3" name=""/>
            <p:cNvGrpSpPr/>
            <p:nvPr/>
          </p:nvGrpSpPr>
          <p:grpSpPr>
            <a:xfrm>
              <a:off x="1281960" y="3678120"/>
              <a:ext cx="287280" cy="542520"/>
              <a:chOff x="1281960" y="3678120"/>
              <a:chExt cx="287280" cy="542520"/>
            </a:xfrm>
          </p:grpSpPr>
          <p:sp>
            <p:nvSpPr>
              <p:cNvPr id="3094" name=""/>
              <p:cNvSpPr/>
              <p:nvPr/>
            </p:nvSpPr>
            <p:spPr>
              <a:xfrm>
                <a:off x="1418760" y="3678120"/>
                <a:ext cx="0" cy="41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1281960" y="40957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1346760" y="41634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1388880" y="4220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8" name=""/>
            <p:cNvSpPr/>
            <p:nvPr/>
          </p:nvSpPr>
          <p:spPr>
            <a:xfrm>
              <a:off x="3640680" y="27968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9" name=""/>
            <p:cNvGrpSpPr/>
            <p:nvPr/>
          </p:nvGrpSpPr>
          <p:grpSpPr>
            <a:xfrm>
              <a:off x="2003040" y="2302920"/>
              <a:ext cx="938520" cy="179280"/>
              <a:chOff x="2003040" y="2302920"/>
              <a:chExt cx="938520" cy="179280"/>
            </a:xfrm>
          </p:grpSpPr>
          <p:sp>
            <p:nvSpPr>
              <p:cNvPr id="3100" name=""/>
              <p:cNvSpPr/>
              <p:nvPr/>
            </p:nvSpPr>
            <p:spPr>
              <a:xfrm>
                <a:off x="2003040" y="2391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V="1">
                <a:off x="2184120" y="2309400"/>
                <a:ext cx="51480" cy="8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2235600" y="2309040"/>
                <a:ext cx="7272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 flipV="1">
                <a:off x="2308680" y="2302920"/>
                <a:ext cx="8604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2394720" y="2303280"/>
                <a:ext cx="8928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 flipV="1">
                <a:off x="2484360" y="2302920"/>
                <a:ext cx="8640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2570760" y="2303280"/>
                <a:ext cx="10008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 flipV="1">
                <a:off x="2670840" y="2303280"/>
                <a:ext cx="7740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2748240" y="230328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2810520" y="2391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0" name=""/>
            <p:cNvSpPr/>
            <p:nvPr/>
          </p:nvSpPr>
          <p:spPr>
            <a:xfrm>
              <a:off x="1191240" y="2390400"/>
              <a:ext cx="85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flipV="1">
              <a:off x="1412640" y="2388600"/>
              <a:ext cx="0" cy="56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3481200" y="2388960"/>
              <a:ext cx="0" cy="9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flipH="1">
              <a:off x="2882160" y="2401560"/>
              <a:ext cx="59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16560" y="1909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632040" y="325728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189360" y="2341440"/>
              <a:ext cx="81720" cy="94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20560" y="16570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314800" y="177444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flipV="1">
              <a:off x="61128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flipV="1">
              <a:off x="71640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090440" y="230004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569600" y="230004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1110240" y="18428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1682280" y="1844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1412640" y="3033360"/>
              <a:ext cx="0" cy="56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891360" y="30762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 flipH="1">
              <a:off x="206280" y="1661760"/>
              <a:ext cx="88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05360" y="113832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71440" y="2388960"/>
              <a:ext cx="33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 flipH="1">
              <a:off x="716400" y="2388960"/>
              <a:ext cx="47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 flipH="1">
              <a:off x="2002680" y="184104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376360" y="1317240"/>
              <a:ext cx="47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33" name=""/>
              <p:cNvSpPr txBox="1"/>
              <p:nvPr/>
            </p:nvSpPr>
            <p:spPr>
              <a:xfrm>
                <a:off x="6356520" y="3029040"/>
                <a:ext cx="25318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4" name=""/>
          <p:cNvSpPr/>
          <p:nvPr/>
        </p:nvSpPr>
        <p:spPr>
          <a:xfrm>
            <a:off x="5388120" y="4121280"/>
            <a:ext cx="24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nto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3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3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3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3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3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3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3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3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825560" y="-360"/>
            <a:ext cx="60962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ircuito derivador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6" name=""/>
          <p:cNvGrpSpPr/>
          <p:nvPr/>
        </p:nvGrpSpPr>
        <p:grpSpPr>
          <a:xfrm>
            <a:off x="16560" y="1138320"/>
            <a:ext cx="4094280" cy="3082320"/>
            <a:chOff x="16560" y="1138320"/>
            <a:chExt cx="4094280" cy="3082320"/>
          </a:xfrm>
        </p:grpSpPr>
        <p:sp>
          <p:nvSpPr>
            <p:cNvPr id="3137" name=""/>
            <p:cNvSpPr/>
            <p:nvPr/>
          </p:nvSpPr>
          <p:spPr>
            <a:xfrm rot="5400000">
              <a:off x="1883160" y="2554920"/>
              <a:ext cx="132048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H="1">
              <a:off x="1412280" y="2954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 flipH="1">
              <a:off x="1422720" y="36781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H="1">
              <a:off x="3265560" y="330480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1784160" y="2703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1783800" y="344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3" name=""/>
            <p:cNvGrpSpPr/>
            <p:nvPr/>
          </p:nvGrpSpPr>
          <p:grpSpPr>
            <a:xfrm>
              <a:off x="1281960" y="3678120"/>
              <a:ext cx="287280" cy="542520"/>
              <a:chOff x="1281960" y="3678120"/>
              <a:chExt cx="287280" cy="542520"/>
            </a:xfrm>
          </p:grpSpPr>
          <p:sp>
            <p:nvSpPr>
              <p:cNvPr id="3144" name=""/>
              <p:cNvSpPr/>
              <p:nvPr/>
            </p:nvSpPr>
            <p:spPr>
              <a:xfrm>
                <a:off x="1418760" y="3678120"/>
                <a:ext cx="0" cy="41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1281960" y="40957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1346760" y="41634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1388880" y="4220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8" name=""/>
            <p:cNvSpPr/>
            <p:nvPr/>
          </p:nvSpPr>
          <p:spPr>
            <a:xfrm>
              <a:off x="3640680" y="27968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9" name=""/>
            <p:cNvGrpSpPr/>
            <p:nvPr/>
          </p:nvGrpSpPr>
          <p:grpSpPr>
            <a:xfrm>
              <a:off x="2003040" y="2302920"/>
              <a:ext cx="938520" cy="179280"/>
              <a:chOff x="2003040" y="2302920"/>
              <a:chExt cx="938520" cy="179280"/>
            </a:xfrm>
          </p:grpSpPr>
          <p:sp>
            <p:nvSpPr>
              <p:cNvPr id="3150" name=""/>
              <p:cNvSpPr/>
              <p:nvPr/>
            </p:nvSpPr>
            <p:spPr>
              <a:xfrm>
                <a:off x="2003040" y="2391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 flipV="1">
                <a:off x="2184120" y="2309400"/>
                <a:ext cx="51480" cy="8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2235600" y="2309040"/>
                <a:ext cx="7272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 flipV="1">
                <a:off x="2308680" y="2302920"/>
                <a:ext cx="8604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2394720" y="2303280"/>
                <a:ext cx="8928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flipV="1">
                <a:off x="2484360" y="2302920"/>
                <a:ext cx="8640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2570760" y="2303280"/>
                <a:ext cx="10008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 flipV="1">
                <a:off x="2670840" y="2303280"/>
                <a:ext cx="7740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2748240" y="230328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2810520" y="2391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0" name=""/>
            <p:cNvSpPr/>
            <p:nvPr/>
          </p:nvSpPr>
          <p:spPr>
            <a:xfrm>
              <a:off x="1191240" y="2390400"/>
              <a:ext cx="85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 flipV="1">
              <a:off x="1412640" y="2388600"/>
              <a:ext cx="0" cy="56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3481200" y="2388960"/>
              <a:ext cx="0" cy="9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H="1">
              <a:off x="2882160" y="2401560"/>
              <a:ext cx="59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16560" y="1909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3632040" y="325728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189360" y="2341440"/>
              <a:ext cx="81720" cy="94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520560" y="16570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314800" y="177444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V="1">
              <a:off x="61128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 flipV="1">
              <a:off x="71640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1090440" y="230004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1569600" y="230004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1110240" y="18428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1682280" y="1844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1412640" y="3033360"/>
              <a:ext cx="0" cy="56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891360" y="30762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H="1">
              <a:off x="206280" y="1661760"/>
              <a:ext cx="88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05360" y="113832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71440" y="2388960"/>
              <a:ext cx="33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H="1">
              <a:off x="716400" y="2388960"/>
              <a:ext cx="47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H="1">
              <a:off x="2002680" y="184104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2376360" y="1317240"/>
              <a:ext cx="47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3" name=""/>
          <p:cNvSpPr/>
          <p:nvPr/>
        </p:nvSpPr>
        <p:spPr>
          <a:xfrm>
            <a:off x="4782960" y="971640"/>
            <a:ext cx="35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Formas de o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4" name=""/>
          <p:cNvGraphicFramePr/>
          <p:nvPr/>
        </p:nvGraphicFramePr>
        <p:xfrm>
          <a:off x="4307040" y="2055960"/>
          <a:ext cx="432576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7040" y="2055960"/>
                    <a:ext cx="432576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86" name=""/>
              <p:cNvSpPr txBox="1"/>
              <p:nvPr/>
            </p:nvSpPr>
            <p:spPr>
              <a:xfrm>
                <a:off x="1074600" y="4708440"/>
                <a:ext cx="24465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3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"/>
          <p:cNvSpPr/>
          <p:nvPr/>
        </p:nvSpPr>
        <p:spPr>
          <a:xfrm>
            <a:off x="390600" y="1206360"/>
            <a:ext cx="84582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O es un circuito integrado de bajo coste capaz de realizar multitud de funciones con pocos componentes discr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s de funciones lineales: Calculo analógico, convertidores V-I e I-V, amplificadores de instrumentación y filtros ac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O se comporta de forma lineal 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camino de circulación de corriente entre la salida y la entrada neg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tensión de salida no supera los limites de la tensión de ali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398520" y="255600"/>
            <a:ext cx="7731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esumen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3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3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3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3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3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8" dur="1" fill="hold"/>
                                  <p:tgtEl>
                                    <p:spTgt spid="318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"/>
          <p:cNvSpPr/>
          <p:nvPr/>
        </p:nvSpPr>
        <p:spPr>
          <a:xfrm>
            <a:off x="390600" y="1359000"/>
            <a:ext cx="845820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realizar funciones matemáticas, de ahí su nombre : Amplificador Oper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g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ferenci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plificadores de instr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aptadores de 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398520" y="255600"/>
            <a:ext cx="7731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esumen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3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3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3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3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3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3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3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4" dur="1" fill="hold"/>
                                  <p:tgtEl>
                                    <p:spTgt spid="31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80920" y="79200"/>
            <a:ext cx="772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98680" y="720720"/>
            <a:ext cx="440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o equivalente 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-14400" y="1617840"/>
            <a:ext cx="4498200" cy="3906720"/>
            <a:chOff x="-14400" y="1617840"/>
            <a:chExt cx="4498200" cy="3906720"/>
          </a:xfrm>
        </p:grpSpPr>
        <p:sp>
          <p:nvSpPr>
            <p:cNvPr id="120" name=""/>
            <p:cNvSpPr/>
            <p:nvPr/>
          </p:nvSpPr>
          <p:spPr>
            <a:xfrm rot="5400000">
              <a:off x="897840" y="1901520"/>
              <a:ext cx="3508200" cy="2940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656720" y="4830840"/>
              <a:ext cx="424800" cy="693720"/>
              <a:chOff x="1656720" y="4830840"/>
              <a:chExt cx="424800" cy="693720"/>
            </a:xfrm>
          </p:grpSpPr>
          <p:sp>
            <p:nvSpPr>
              <p:cNvPr id="122" name=""/>
              <p:cNvSpPr/>
              <p:nvPr/>
            </p:nvSpPr>
            <p:spPr>
              <a:xfrm>
                <a:off x="1858680" y="4830840"/>
                <a:ext cx="0" cy="53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656720" y="5365080"/>
                <a:ext cx="4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52480" y="5450760"/>
                <a:ext cx="21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15120" y="5524560"/>
                <a:ext cx="9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flipH="1">
              <a:off x="442080" y="2430360"/>
              <a:ext cx="74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61880" y="4352760"/>
              <a:ext cx="74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903480" y="3373560"/>
              <a:ext cx="56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21840" y="1914480"/>
              <a:ext cx="2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54520" y="4362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60800" y="2909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8840" y="20718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6080" y="45054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8760" y="2549520"/>
              <a:ext cx="0" cy="17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-14400" y="31194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380960" y="2525760"/>
              <a:ext cx="193680" cy="768240"/>
              <a:chOff x="1380960" y="2525760"/>
              <a:chExt cx="193680" cy="768240"/>
            </a:xfrm>
          </p:grpSpPr>
          <p:sp>
            <p:nvSpPr>
              <p:cNvPr id="137" name=""/>
              <p:cNvSpPr/>
              <p:nvPr/>
            </p:nvSpPr>
            <p:spPr>
              <a:xfrm>
                <a:off x="1478880" y="2525760"/>
                <a:ext cx="0" cy="14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478880" y="2673720"/>
                <a:ext cx="89280" cy="4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380960" y="2716200"/>
                <a:ext cx="186840" cy="5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381320" y="2775600"/>
                <a:ext cx="193320" cy="7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380960" y="2846160"/>
                <a:ext cx="19332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81320" y="2919600"/>
                <a:ext cx="193320" cy="7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1387080" y="2990160"/>
                <a:ext cx="186840" cy="8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87440" y="3072240"/>
                <a:ext cx="1868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1478880" y="3135600"/>
                <a:ext cx="9576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478880" y="3186720"/>
                <a:ext cx="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375200" y="3433680"/>
              <a:ext cx="193680" cy="768240"/>
              <a:chOff x="1375200" y="3433680"/>
              <a:chExt cx="193680" cy="768240"/>
            </a:xfrm>
          </p:grpSpPr>
          <p:sp>
            <p:nvSpPr>
              <p:cNvPr id="148" name=""/>
              <p:cNvSpPr/>
              <p:nvPr/>
            </p:nvSpPr>
            <p:spPr>
              <a:xfrm>
                <a:off x="1473120" y="3433680"/>
                <a:ext cx="0" cy="14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473120" y="3582000"/>
                <a:ext cx="89280" cy="4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1375200" y="3624120"/>
                <a:ext cx="186840" cy="5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75560" y="3683880"/>
                <a:ext cx="193320" cy="7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1375200" y="3754080"/>
                <a:ext cx="19332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375560" y="3827520"/>
                <a:ext cx="193320" cy="7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381320" y="3898440"/>
                <a:ext cx="186840" cy="8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81680" y="3980520"/>
                <a:ext cx="1868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1473120" y="4043880"/>
                <a:ext cx="9576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473120" y="4094640"/>
                <a:ext cx="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765440" y="3529080"/>
              <a:ext cx="191520" cy="768240"/>
              <a:chOff x="1765440" y="3529080"/>
              <a:chExt cx="191520" cy="768240"/>
            </a:xfrm>
          </p:grpSpPr>
          <p:sp>
            <p:nvSpPr>
              <p:cNvPr id="159" name=""/>
              <p:cNvSpPr/>
              <p:nvPr/>
            </p:nvSpPr>
            <p:spPr>
              <a:xfrm>
                <a:off x="1861920" y="3529080"/>
                <a:ext cx="0" cy="14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861920" y="3677040"/>
                <a:ext cx="88560" cy="4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1765440" y="3719520"/>
                <a:ext cx="185040" cy="5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65440" y="3778920"/>
                <a:ext cx="191520" cy="7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1765440" y="3849480"/>
                <a:ext cx="19152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65440" y="3922920"/>
                <a:ext cx="191520" cy="7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1771560" y="3993480"/>
                <a:ext cx="185040" cy="8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71560" y="4075560"/>
                <a:ext cx="1850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1861560" y="4138920"/>
                <a:ext cx="9468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861920" y="4190040"/>
                <a:ext cx="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1186560" y="435276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472400" y="4202280"/>
              <a:ext cx="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67480" y="2430360"/>
              <a:ext cx="31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72400" y="2430360"/>
              <a:ext cx="7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472400" y="3289320"/>
              <a:ext cx="720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72400" y="3362400"/>
              <a:ext cx="399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1862280" y="3362040"/>
              <a:ext cx="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2280" y="429732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2240" y="2637000"/>
              <a:ext cx="941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0,5·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0720" y="3651120"/>
              <a:ext cx="940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0,5·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58760" y="3691080"/>
              <a:ext cx="564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29280" y="3719520"/>
              <a:ext cx="373680" cy="423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29280" y="3222720"/>
              <a:ext cx="373680" cy="423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207600" y="3267000"/>
              <a:ext cx="696240" cy="214560"/>
              <a:chOff x="3207600" y="3267000"/>
              <a:chExt cx="696240" cy="21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3207600" y="3373560"/>
                <a:ext cx="13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3341880" y="3274560"/>
                <a:ext cx="3816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80040" y="3274200"/>
                <a:ext cx="5364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3434040" y="3267000"/>
                <a:ext cx="6372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98120" y="3267000"/>
                <a:ext cx="6624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3564360" y="3267000"/>
                <a:ext cx="6408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28440" y="3267360"/>
                <a:ext cx="7416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3702960" y="3267360"/>
                <a:ext cx="5724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760200" y="3267720"/>
                <a:ext cx="460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06640" y="3373560"/>
                <a:ext cx="9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2615400" y="364644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5400" y="3222720"/>
              <a:ext cx="32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36520" y="3222720"/>
              <a:ext cx="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36520" y="3375000"/>
              <a:ext cx="27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413080" y="4830840"/>
              <a:ext cx="424800" cy="693720"/>
              <a:chOff x="2413080" y="4830840"/>
              <a:chExt cx="424800" cy="693720"/>
            </a:xfrm>
          </p:grpSpPr>
          <p:sp>
            <p:nvSpPr>
              <p:cNvPr id="198" name=""/>
              <p:cNvSpPr/>
              <p:nvPr/>
            </p:nvSpPr>
            <p:spPr>
              <a:xfrm>
                <a:off x="2615040" y="4830840"/>
                <a:ext cx="0" cy="53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413080" y="5365080"/>
                <a:ext cx="4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08840" y="5450760"/>
                <a:ext cx="21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571480" y="5524560"/>
                <a:ext cx="9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615400" y="4143240"/>
              <a:ext cx="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4720" y="37288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84720" y="32097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01280" y="3946680"/>
              <a:ext cx="22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6040" y="3438360"/>
              <a:ext cx="22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10800" y="3544920"/>
              <a:ext cx="786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·V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04360" y="2774880"/>
              <a:ext cx="73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·V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2000" y="2936880"/>
              <a:ext cx="455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502160" y="1452600"/>
            <a:ext cx="464184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entrada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if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x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entrada de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modo com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Ganancia dif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Ganancia de modo com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4760" y="4641840"/>
            <a:ext cx="4778280" cy="172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+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(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80920" y="79200"/>
            <a:ext cx="772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79480" y="720720"/>
            <a:ext cx="4364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o equivalente id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38760" y="1338120"/>
            <a:ext cx="2473200" cy="25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x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N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n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71880" y="3941640"/>
            <a:ext cx="3119760" cy="111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73680" y="5749920"/>
            <a:ext cx="310824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≤+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26080" y="4971960"/>
            <a:ext cx="3465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ón de salida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o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360" y="1041480"/>
            <a:ext cx="4498200" cy="4620600"/>
            <a:chOff x="9360" y="1041480"/>
            <a:chExt cx="4498200" cy="4620600"/>
          </a:xfrm>
        </p:grpSpPr>
        <p:sp>
          <p:nvSpPr>
            <p:cNvPr id="219" name=""/>
            <p:cNvSpPr/>
            <p:nvPr/>
          </p:nvSpPr>
          <p:spPr>
            <a:xfrm rot="5400000">
              <a:off x="921240" y="1901520"/>
              <a:ext cx="3508200" cy="2940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65480" y="2430360"/>
              <a:ext cx="74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86000" y="4352760"/>
              <a:ext cx="74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926880" y="3373560"/>
              <a:ext cx="56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45240" y="1914480"/>
              <a:ext cx="2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77920" y="4362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84560" y="2909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9840" y="20336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9840" y="45054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2520" y="2549520"/>
              <a:ext cx="0" cy="17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360" y="31194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09960" y="435276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495800" y="4202280"/>
              <a:ext cx="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90880" y="2430360"/>
              <a:ext cx="31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95800" y="2430360"/>
              <a:ext cx="7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53040" y="3719520"/>
              <a:ext cx="373320" cy="423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39160" y="364644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60280" y="3375000"/>
              <a:ext cx="96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2436480" y="4830840"/>
              <a:ext cx="424800" cy="693720"/>
              <a:chOff x="2436480" y="4830840"/>
              <a:chExt cx="424800" cy="693720"/>
            </a:xfrm>
          </p:grpSpPr>
          <p:sp>
            <p:nvSpPr>
              <p:cNvPr id="238" name=""/>
              <p:cNvSpPr/>
              <p:nvPr/>
            </p:nvSpPr>
            <p:spPr>
              <a:xfrm>
                <a:off x="2638440" y="4830840"/>
                <a:ext cx="0" cy="53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36480" y="5365080"/>
                <a:ext cx="4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32240" y="5450760"/>
                <a:ext cx="21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594880" y="5524560"/>
                <a:ext cx="9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639160" y="4143240"/>
              <a:ext cx="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07400" y="37051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24680" y="3887640"/>
              <a:ext cx="23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4560" y="3544920"/>
              <a:ext cx="786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·V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2639160" y="3373560"/>
              <a:ext cx="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39160" y="3375000"/>
              <a:ext cx="32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1976760" y="1374840"/>
              <a:ext cx="82080" cy="720360"/>
              <a:chOff x="1976760" y="1374840"/>
              <a:chExt cx="82080" cy="720360"/>
            </a:xfrm>
          </p:grpSpPr>
          <p:sp>
            <p:nvSpPr>
              <p:cNvPr id="249" name=""/>
              <p:cNvSpPr/>
              <p:nvPr/>
            </p:nvSpPr>
            <p:spPr>
              <a:xfrm flipV="1">
                <a:off x="2016000" y="1447560"/>
                <a:ext cx="0" cy="64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76760" y="1374840"/>
                <a:ext cx="82080" cy="889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048400" y="4599720"/>
              <a:ext cx="84960" cy="688320"/>
              <a:chOff x="2048400" y="4599720"/>
              <a:chExt cx="84960" cy="688320"/>
            </a:xfrm>
          </p:grpSpPr>
          <p:sp>
            <p:nvSpPr>
              <p:cNvPr id="252" name=""/>
              <p:cNvSpPr/>
              <p:nvPr/>
            </p:nvSpPr>
            <p:spPr>
              <a:xfrm>
                <a:off x="2092680" y="4599720"/>
                <a:ext cx="0" cy="61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2048400" y="5203080"/>
                <a:ext cx="84960" cy="849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1284480" y="104148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38480" y="5221440"/>
              <a:ext cx="581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-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99960" y="37800"/>
            <a:ext cx="69181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14240" y="939960"/>
            <a:ext cx="413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mentación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75240" y="91440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98480" y="1622520"/>
            <a:ext cx="4223520" cy="3251520"/>
            <a:chOff x="798480" y="1622520"/>
            <a:chExt cx="4223520" cy="3251520"/>
          </a:xfrm>
        </p:grpSpPr>
        <p:sp>
          <p:nvSpPr>
            <p:cNvPr id="260" name=""/>
            <p:cNvSpPr/>
            <p:nvPr/>
          </p:nvSpPr>
          <p:spPr>
            <a:xfrm rot="5400000">
              <a:off x="2550600" y="2639520"/>
              <a:ext cx="1574640" cy="1623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117520" y="30290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129040" y="389088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116600" y="34466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08120" y="2728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05240" y="3618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976760" y="3890880"/>
              <a:ext cx="310680" cy="647640"/>
              <a:chOff x="1976760" y="3890880"/>
              <a:chExt cx="310680" cy="647640"/>
            </a:xfrm>
          </p:grpSpPr>
          <p:sp>
            <p:nvSpPr>
              <p:cNvPr id="267" name=""/>
              <p:cNvSpPr/>
              <p:nvPr/>
            </p:nvSpPr>
            <p:spPr>
              <a:xfrm>
                <a:off x="2124720" y="3890880"/>
                <a:ext cx="0" cy="49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76760" y="438948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046960" y="44704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092680" y="453852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 flipV="1">
              <a:off x="4531320" y="3560760"/>
              <a:ext cx="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354760" y="3938760"/>
              <a:ext cx="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1877040" y="307188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51840" y="37576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98520" y="436392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25680" y="43354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09960" y="30812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03840" y="32306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135960" y="2253960"/>
              <a:ext cx="1013400" cy="214560"/>
              <a:chOff x="3135960" y="2253960"/>
              <a:chExt cx="1013400" cy="214560"/>
            </a:xfrm>
          </p:grpSpPr>
          <p:sp>
            <p:nvSpPr>
              <p:cNvPr id="280" name=""/>
              <p:cNvSpPr/>
              <p:nvPr/>
            </p:nvSpPr>
            <p:spPr>
              <a:xfrm>
                <a:off x="3135960" y="236016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331440" y="226116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87240" y="2261520"/>
                <a:ext cx="7848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3465720" y="2253960"/>
                <a:ext cx="928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58600" y="2254320"/>
                <a:ext cx="964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3655440" y="2253960"/>
                <a:ext cx="9324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49040" y="2254680"/>
                <a:ext cx="10800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3857040" y="2254320"/>
                <a:ext cx="8352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940560" y="225432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007880" y="236016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886320" y="2247480"/>
              <a:ext cx="1013400" cy="214560"/>
              <a:chOff x="886320" y="2247480"/>
              <a:chExt cx="1013400" cy="214560"/>
            </a:xfrm>
          </p:grpSpPr>
          <p:sp>
            <p:nvSpPr>
              <p:cNvPr id="291" name=""/>
              <p:cNvSpPr/>
              <p:nvPr/>
            </p:nvSpPr>
            <p:spPr>
              <a:xfrm>
                <a:off x="886320" y="235368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1081800" y="225468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37600" y="2255040"/>
                <a:ext cx="7848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1216080" y="2247480"/>
                <a:ext cx="928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08960" y="2247840"/>
                <a:ext cx="964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1405800" y="2247480"/>
                <a:ext cx="9324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499400" y="2248200"/>
                <a:ext cx="10800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1607400" y="2247840"/>
                <a:ext cx="8352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90920" y="224784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58240" y="235368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878480" y="2355840"/>
              <a:ext cx="125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117520" y="2354400"/>
              <a:ext cx="0" cy="67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49520" y="2354400"/>
              <a:ext cx="0" cy="109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149720" y="2354400"/>
              <a:ext cx="1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882000" y="2576160"/>
              <a:ext cx="0" cy="20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01440" y="2773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12240" y="3389400"/>
              <a:ext cx="8748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8480" y="2297160"/>
              <a:ext cx="8784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69320" y="1622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41920" y="1622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54760" y="2260440"/>
              <a:ext cx="78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16920" y="2247840"/>
              <a:ext cx="22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03600" y="17524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99560" y="17524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5205240" y="1569960"/>
            <a:ext cx="309420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i·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205240" y="2235240"/>
            <a:ext cx="309420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i·(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05240" y="2936880"/>
            <a:ext cx="309420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35720" y="3497400"/>
            <a:ext cx="598320" cy="749160"/>
          </a:xfrm>
          <a:prstGeom prst="downArrow">
            <a:avLst>
              <a:gd name="adj1" fmla="val 50000"/>
              <a:gd name="adj2" fmla="val 3130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651200" y="4302000"/>
                <a:ext cx="4203720" cy="171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19040" y="38160"/>
            <a:ext cx="68630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l AO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014880" y="4221000"/>
                <a:ext cx="12304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5475240" y="118116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75240" y="357012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504040" y="1752480"/>
                <a:ext cx="3433680" cy="17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492120" y="5365800"/>
            <a:ext cx="5789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Amplificador de ganancia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408800" y="2271600"/>
            <a:ext cx="1158840" cy="938160"/>
          </a:xfrm>
          <a:prstGeom prst="parallelogram">
            <a:avLst>
              <a:gd name="adj" fmla="val 105709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746280" y="1646280"/>
            <a:ext cx="4222080" cy="3251520"/>
            <a:chOff x="746280" y="1646280"/>
            <a:chExt cx="4222080" cy="3251520"/>
          </a:xfrm>
        </p:grpSpPr>
        <p:sp>
          <p:nvSpPr>
            <p:cNvPr id="328" name=""/>
            <p:cNvSpPr/>
            <p:nvPr/>
          </p:nvSpPr>
          <p:spPr>
            <a:xfrm rot="5400000">
              <a:off x="2497320" y="2662920"/>
              <a:ext cx="1574280" cy="1622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2064240" y="30524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075760" y="39146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4062600" y="34700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54840" y="2752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52320" y="3641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924200" y="3914640"/>
              <a:ext cx="310320" cy="647280"/>
              <a:chOff x="1924200" y="3914640"/>
              <a:chExt cx="310320" cy="647280"/>
            </a:xfrm>
          </p:grpSpPr>
          <p:sp>
            <p:nvSpPr>
              <p:cNvPr id="335" name=""/>
              <p:cNvSpPr/>
              <p:nvPr/>
            </p:nvSpPr>
            <p:spPr>
              <a:xfrm>
                <a:off x="2072160" y="3914640"/>
                <a:ext cx="0" cy="49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924200" y="4412880"/>
                <a:ext cx="31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94400" y="44938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039760" y="4561920"/>
                <a:ext cx="7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 flipV="1">
              <a:off x="4477680" y="3583800"/>
              <a:ext cx="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301840" y="3961800"/>
              <a:ext cx="0" cy="73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824480" y="3094920"/>
              <a:ext cx="0" cy="160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98200" y="37810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45960" y="43876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72400" y="43588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57400" y="3105000"/>
              <a:ext cx="0" cy="77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50560" y="32540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3083040" y="2277720"/>
              <a:ext cx="1013040" cy="213840"/>
              <a:chOff x="3083040" y="2277720"/>
              <a:chExt cx="1013040" cy="213840"/>
            </a:xfrm>
          </p:grpSpPr>
          <p:sp>
            <p:nvSpPr>
              <p:cNvPr id="348" name=""/>
              <p:cNvSpPr/>
              <p:nvPr/>
            </p:nvSpPr>
            <p:spPr>
              <a:xfrm>
                <a:off x="3083040" y="238392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3278520" y="2285280"/>
                <a:ext cx="55440" cy="9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334320" y="2284920"/>
                <a:ext cx="7848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3412800" y="2277720"/>
                <a:ext cx="928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505680" y="2277720"/>
                <a:ext cx="964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3602520" y="2277720"/>
                <a:ext cx="9324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695760" y="2278080"/>
                <a:ext cx="10800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3803760" y="2278080"/>
                <a:ext cx="8352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887640" y="227808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954600" y="238392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834120" y="2271600"/>
              <a:ext cx="1013040" cy="213840"/>
              <a:chOff x="834120" y="2271600"/>
              <a:chExt cx="1013040" cy="213840"/>
            </a:xfrm>
          </p:grpSpPr>
          <p:sp>
            <p:nvSpPr>
              <p:cNvPr id="359" name=""/>
              <p:cNvSpPr/>
              <p:nvPr/>
            </p:nvSpPr>
            <p:spPr>
              <a:xfrm>
                <a:off x="834120" y="237780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1029600" y="2279160"/>
                <a:ext cx="55440" cy="9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85400" y="2278800"/>
                <a:ext cx="7848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163880" y="2271600"/>
                <a:ext cx="928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56760" y="2271600"/>
                <a:ext cx="964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1353600" y="2271600"/>
                <a:ext cx="9324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446840" y="2271960"/>
                <a:ext cx="10800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1554840" y="2271960"/>
                <a:ext cx="8352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638720" y="227196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705680" y="237780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1825920" y="2379240"/>
              <a:ext cx="125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64600" y="2377440"/>
              <a:ext cx="0" cy="67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95880" y="2377800"/>
              <a:ext cx="0" cy="109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096080" y="2377800"/>
              <a:ext cx="1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829800" y="2599920"/>
              <a:ext cx="0" cy="20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49240" y="27968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58600" y="3412800"/>
              <a:ext cx="8748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6280" y="2320560"/>
              <a:ext cx="8784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16040" y="1646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89720" y="1646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 flipV="1" rot="5400000">
            <a:off x="7408800" y="3873240"/>
            <a:ext cx="1077840" cy="754200"/>
          </a:xfrm>
          <a:custGeom>
            <a:avLst/>
            <a:gdLst>
              <a:gd name="textAreaLeft" fmla="*/ 359280 w 1077840"/>
              <a:gd name="textAreaRight" fmla="*/ 923400 w 1077840"/>
              <a:gd name="textAreaTop" fmla="*/ 434160 h 754200"/>
              <a:gd name="textAreaBottom" fmla="*/ 645840 h 754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7084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V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2880" y="1087560"/>
            <a:ext cx="413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mentación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27120" y="1765440"/>
            <a:ext cx="4248720" cy="3251520"/>
            <a:chOff x="627120" y="1765440"/>
            <a:chExt cx="4248720" cy="3251520"/>
          </a:xfrm>
        </p:grpSpPr>
        <p:sp>
          <p:nvSpPr>
            <p:cNvPr id="383" name=""/>
            <p:cNvSpPr/>
            <p:nvPr/>
          </p:nvSpPr>
          <p:spPr>
            <a:xfrm rot="5400000">
              <a:off x="2379240" y="2787120"/>
              <a:ext cx="1574640" cy="1623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946160" y="31766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957680" y="403848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3945240" y="35942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47200" y="28749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47560" y="37638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1805400" y="4038480"/>
              <a:ext cx="310680" cy="647640"/>
              <a:chOff x="1805400" y="4038480"/>
              <a:chExt cx="310680" cy="647640"/>
            </a:xfrm>
          </p:grpSpPr>
          <p:sp>
            <p:nvSpPr>
              <p:cNvPr id="390" name=""/>
              <p:cNvSpPr/>
              <p:nvPr/>
            </p:nvSpPr>
            <p:spPr>
              <a:xfrm>
                <a:off x="1953360" y="4038480"/>
                <a:ext cx="0" cy="49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805400" y="453708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875600" y="46180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921320" y="468612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 flipV="1">
              <a:off x="4359960" y="3708360"/>
              <a:ext cx="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2183400" y="4086360"/>
              <a:ext cx="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705680" y="321948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3440" y="390060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36880" y="450684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64760" y="447840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38600" y="3228840"/>
              <a:ext cx="0" cy="77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45800" y="337356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2964600" y="2401560"/>
              <a:ext cx="1013400" cy="214560"/>
              <a:chOff x="2964600" y="2401560"/>
              <a:chExt cx="1013400" cy="214560"/>
            </a:xfrm>
          </p:grpSpPr>
          <p:sp>
            <p:nvSpPr>
              <p:cNvPr id="403" name=""/>
              <p:cNvSpPr/>
              <p:nvPr/>
            </p:nvSpPr>
            <p:spPr>
              <a:xfrm>
                <a:off x="2964600" y="250776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3160080" y="240876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215880" y="2409120"/>
                <a:ext cx="7848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3294360" y="2401560"/>
                <a:ext cx="928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387240" y="2401920"/>
                <a:ext cx="964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484080" y="2401560"/>
                <a:ext cx="9324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577680" y="2402280"/>
                <a:ext cx="10800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3685680" y="2401920"/>
                <a:ext cx="8352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69200" y="240192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836520" y="250776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714960" y="2395440"/>
              <a:ext cx="1013400" cy="214560"/>
              <a:chOff x="714960" y="2395440"/>
              <a:chExt cx="1013400" cy="214560"/>
            </a:xfrm>
          </p:grpSpPr>
          <p:sp>
            <p:nvSpPr>
              <p:cNvPr id="414" name=""/>
              <p:cNvSpPr/>
              <p:nvPr/>
            </p:nvSpPr>
            <p:spPr>
              <a:xfrm>
                <a:off x="714960" y="250200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910440" y="240300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966240" y="2402640"/>
                <a:ext cx="7848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1044720" y="2395440"/>
                <a:ext cx="9288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137600" y="2395440"/>
                <a:ext cx="9648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1234440" y="2395440"/>
                <a:ext cx="9324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328040" y="2395800"/>
                <a:ext cx="10800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1436040" y="2395800"/>
                <a:ext cx="8352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519560" y="2396160"/>
                <a:ext cx="6696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586880" y="250200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1707120" y="2503440"/>
              <a:ext cx="125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46160" y="2502000"/>
              <a:ext cx="0" cy="67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78160" y="2502000"/>
              <a:ext cx="0" cy="109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3978360" y="2502000"/>
              <a:ext cx="1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10640" y="2723760"/>
              <a:ext cx="0" cy="20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9080" y="2916360"/>
              <a:ext cx="42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0880" y="3537000"/>
              <a:ext cx="8748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7120" y="2444760"/>
              <a:ext cx="8784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03360" y="176544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75960" y="176544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249960" y="4799160"/>
                <a:ext cx="758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5045040" y="108756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045040" y="395460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846680" y="1573200"/>
                <a:ext cx="4140000" cy="23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8" name=""/>
          <p:cNvSpPr/>
          <p:nvPr/>
        </p:nvSpPr>
        <p:spPr>
          <a:xfrm flipH="1" rot="16200000">
            <a:off x="7300800" y="4185360"/>
            <a:ext cx="1292040" cy="1065240"/>
          </a:xfrm>
          <a:custGeom>
            <a:avLst/>
            <a:gdLst>
              <a:gd name="textAreaLeft" fmla="*/ 430200 w 1292040"/>
              <a:gd name="textAreaRight" fmla="*/ 1106280 w 1292040"/>
              <a:gd name="textAreaTop" fmla="*/ 613440 h 1065240"/>
              <a:gd name="textAreaBottom" fmla="*/ 91260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60280" y="5365800"/>
            <a:ext cx="6021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nsión diferencial nula 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0; 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18240" y="2762280"/>
            <a:ext cx="962280" cy="946080"/>
          </a:xfrm>
          <a:prstGeom prst="parallelogram">
            <a:avLst>
              <a:gd name="adj" fmla="val 87044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0:18:54Z</dcterms:created>
  <dc:creator>Pedro José Villegas Sáiz</dc:creator>
  <dc:description/>
  <dc:language>en-US</dc:language>
  <cp:lastModifiedBy>Pedro José Villegas Sáiz</cp:lastModifiedBy>
  <dcterms:modified xsi:type="dcterms:W3CDTF">2006-05-02T10:19:30Z</dcterms:modified>
  <cp:revision>1</cp:revision>
  <dc:subject/>
  <dc:title>Amplificadores Operacionales</dc:title>
</cp:coreProperties>
</file>