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13.png" ContentType="image/png"/>
  <Override PartName="/ppt/media/image7.jpeg" ContentType="image/jpeg"/>
  <Override PartName="/ppt/media/image8.jpeg" ContentType="image/jpe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777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5ECC0-E1AA-4D98-B619-479E9F905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EDF83-A402-4221-A4AA-AC48BF740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0C832-F995-423F-8014-5C19B8C1C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EFF6F-ABAA-42C6-B19C-B008A2A2E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AD71F-5221-423A-945D-E352B03D9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477A3-0B2A-4FD6-BEA8-FF48F0D28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F6B43-2124-4517-A4C8-E4EC36FD8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38A02-1029-4EA6-A870-44984E9C2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FCF51-8D91-41DC-927C-A080DB8BE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FB9F8-090E-4C38-8FE4-5F0E1A074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D9AB3-D81A-4DF1-862B-6B76C5C00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E3709-8D76-4242-BE42-284F0844C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70957-E81D-496D-917B-B2E8A40EA1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28786" t="3376" r="0" b="0"/>
          <a:stretch/>
        </p:blipFill>
        <p:spPr>
          <a:xfrm>
            <a:off x="34920" y="549360"/>
            <a:ext cx="4897440" cy="61815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538440" y="2133720"/>
            <a:ext cx="300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mer Cuatrimest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124000" y="3859200"/>
            <a:ext cx="5112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Electrónica Indust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5º Curso. Ingeniería Indust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Arial"/>
              </a:rPr>
              <a:t>Intensificación Electrotecn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4211640" y="692280"/>
            <a:ext cx="1106640" cy="1224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781360" y="2897280"/>
            <a:ext cx="4135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639880" y="2743200"/>
            <a:ext cx="517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ECTRÓNICA DE POT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501480" y="0"/>
            <a:ext cx="71640" cy="685800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rot="16200000">
            <a:off x="-2933280" y="3193920"/>
            <a:ext cx="640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EL MOSFET  DE POT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03440" y="138240"/>
            <a:ext cx="43718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8080"/>
                </a:solidFill>
                <a:latin typeface="Arial"/>
              </a:rPr>
              <a:t>Resistencia en conducción (R</a:t>
            </a:r>
            <a:r>
              <a:rPr b="1" lang="es-ES" sz="2000" spc="-1" strike="noStrike" baseline="-25000">
                <a:solidFill>
                  <a:srgbClr val="008080"/>
                </a:solidFill>
                <a:latin typeface="Arial"/>
              </a:rPr>
              <a:t>DSon</a:t>
            </a:r>
            <a:r>
              <a:rPr b="1" lang="es-ES" sz="2000" spc="-1" strike="noStrike">
                <a:solidFill>
                  <a:srgbClr val="00808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1840" y="741240"/>
            <a:ext cx="5618160" cy="36828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s el parámetro más importante en un MOSF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839880" y="1338120"/>
            <a:ext cx="7010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l MOSFET en conducción se modela utilizando la R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Arial"/>
              </a:rPr>
              <a:t>DS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5" name=""/>
          <p:cNvGrpSpPr/>
          <p:nvPr/>
        </p:nvGrpSpPr>
        <p:grpSpPr>
          <a:xfrm>
            <a:off x="1679040" y="1852560"/>
            <a:ext cx="1553760" cy="1526400"/>
            <a:chOff x="1679040" y="1852560"/>
            <a:chExt cx="1553760" cy="1526400"/>
          </a:xfrm>
        </p:grpSpPr>
        <p:sp>
          <p:nvSpPr>
            <p:cNvPr id="426" name=""/>
            <p:cNvSpPr/>
            <p:nvPr/>
          </p:nvSpPr>
          <p:spPr>
            <a:xfrm>
              <a:off x="2463480" y="2592360"/>
              <a:ext cx="390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1679040" y="254772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a50021"/>
                  </a:solidFill>
                  <a:latin typeface="Arial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832480" y="185256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a50021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828880" y="291924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a50021"/>
                  </a:solidFill>
                  <a:latin typeface="Arial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0" name=""/>
            <p:cNvGrpSpPr/>
            <p:nvPr/>
          </p:nvGrpSpPr>
          <p:grpSpPr>
            <a:xfrm>
              <a:off x="2446200" y="2736720"/>
              <a:ext cx="406440" cy="573840"/>
              <a:chOff x="2446200" y="2736720"/>
              <a:chExt cx="406440" cy="573840"/>
            </a:xfrm>
          </p:grpSpPr>
          <p:sp>
            <p:nvSpPr>
              <p:cNvPr id="431" name=""/>
              <p:cNvSpPr/>
              <p:nvPr/>
            </p:nvSpPr>
            <p:spPr>
              <a:xfrm flipV="1">
                <a:off x="2465280" y="2840400"/>
                <a:ext cx="387360" cy="469800"/>
              </a:xfrm>
              <a:custGeom>
                <a:avLst/>
                <a:gdLst/>
                <a:ahLst/>
                <a:rect l="l" t="t" r="r" b="b"/>
                <a:pathLst>
                  <a:path w="244" h="296">
                    <a:moveTo>
                      <a:pt x="0" y="296"/>
                    </a:moveTo>
                    <a:lnTo>
                      <a:pt x="244" y="296"/>
                    </a:lnTo>
                    <a:lnTo>
                      <a:pt x="244" y="0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2446200" y="2736720"/>
                <a:ext cx="0" cy="247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3" name=""/>
            <p:cNvGrpSpPr/>
            <p:nvPr/>
          </p:nvGrpSpPr>
          <p:grpSpPr>
            <a:xfrm>
              <a:off x="2446200" y="1917000"/>
              <a:ext cx="406440" cy="574920"/>
              <a:chOff x="2446200" y="1917000"/>
              <a:chExt cx="406440" cy="574920"/>
            </a:xfrm>
          </p:grpSpPr>
          <p:sp>
            <p:nvSpPr>
              <p:cNvPr id="434" name=""/>
              <p:cNvSpPr/>
              <p:nvPr/>
            </p:nvSpPr>
            <p:spPr>
              <a:xfrm>
                <a:off x="2465280" y="1917000"/>
                <a:ext cx="387360" cy="470160"/>
              </a:xfrm>
              <a:custGeom>
                <a:avLst/>
                <a:gdLst/>
                <a:ahLst/>
                <a:rect l="l" t="t" r="r" b="b"/>
                <a:pathLst>
                  <a:path w="244" h="296">
                    <a:moveTo>
                      <a:pt x="0" y="296"/>
                    </a:moveTo>
                    <a:lnTo>
                      <a:pt x="244" y="296"/>
                    </a:lnTo>
                    <a:lnTo>
                      <a:pt x="244" y="0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 flipV="1">
                <a:off x="2446200" y="2244240"/>
                <a:ext cx="0" cy="247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6" name=""/>
            <p:cNvSpPr/>
            <p:nvPr/>
          </p:nvSpPr>
          <p:spPr>
            <a:xfrm>
              <a:off x="2441520" y="252720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1726920" y="2241360"/>
              <a:ext cx="590760" cy="723960"/>
            </a:xfrm>
            <a:custGeom>
              <a:avLst/>
              <a:gdLst/>
              <a:ahLst/>
              <a:rect l="l" t="t" r="r" b="b"/>
              <a:pathLst>
                <a:path w="372" h="456">
                  <a:moveTo>
                    <a:pt x="372" y="0"/>
                  </a:moveTo>
                  <a:lnTo>
                    <a:pt x="372" y="456"/>
                  </a:lnTo>
                  <a:lnTo>
                    <a:pt x="0" y="45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 flipV="1">
              <a:off x="2850840" y="2581200"/>
              <a:ext cx="0" cy="272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3811680" y="2287440"/>
            <a:ext cx="981000" cy="543240"/>
          </a:xfrm>
          <a:prstGeom prst="leftRightArrow">
            <a:avLst>
              <a:gd name="adj1" fmla="val 50000"/>
              <a:gd name="adj2" fmla="val 35949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0" name=""/>
          <p:cNvGrpSpPr/>
          <p:nvPr/>
        </p:nvGrpSpPr>
        <p:grpSpPr>
          <a:xfrm>
            <a:off x="5157720" y="2126160"/>
            <a:ext cx="391680" cy="951480"/>
            <a:chOff x="5157720" y="2126160"/>
            <a:chExt cx="391680" cy="951480"/>
          </a:xfrm>
        </p:grpSpPr>
        <p:sp>
          <p:nvSpPr>
            <p:cNvPr id="441" name=""/>
            <p:cNvSpPr/>
            <p:nvPr/>
          </p:nvSpPr>
          <p:spPr>
            <a:xfrm flipH="1" flipV="1">
              <a:off x="5157720" y="2824560"/>
              <a:ext cx="182880" cy="1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 flipH="1">
              <a:off x="5164560" y="2698200"/>
              <a:ext cx="376200" cy="128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 flipH="1" flipV="1">
              <a:off x="5175360" y="2637360"/>
              <a:ext cx="374040" cy="62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4" name=""/>
            <p:cNvGrpSpPr/>
            <p:nvPr/>
          </p:nvGrpSpPr>
          <p:grpSpPr>
            <a:xfrm>
              <a:off x="5158080" y="2326680"/>
              <a:ext cx="382680" cy="186120"/>
              <a:chOff x="5158080" y="2326680"/>
              <a:chExt cx="382680" cy="186120"/>
            </a:xfrm>
          </p:grpSpPr>
          <p:sp>
            <p:nvSpPr>
              <p:cNvPr id="445" name=""/>
              <p:cNvSpPr/>
              <p:nvPr/>
            </p:nvSpPr>
            <p:spPr>
              <a:xfrm flipH="1">
                <a:off x="5158080" y="2326680"/>
                <a:ext cx="374400" cy="1263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 flipH="1" flipV="1">
                <a:off x="5164920" y="2450880"/>
                <a:ext cx="375840" cy="61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7" name=""/>
            <p:cNvSpPr/>
            <p:nvPr/>
          </p:nvSpPr>
          <p:spPr>
            <a:xfrm flipH="1">
              <a:off x="5175360" y="2510640"/>
              <a:ext cx="374040" cy="128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 flipH="1" flipV="1">
              <a:off x="5358240" y="2309040"/>
              <a:ext cx="180720" cy="1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5355720" y="2839320"/>
              <a:ext cx="0" cy="23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5344920" y="2126160"/>
              <a:ext cx="0" cy="190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1" name=""/>
          <p:cNvSpPr/>
          <p:nvPr/>
        </p:nvSpPr>
        <p:spPr>
          <a:xfrm>
            <a:off x="5667480" y="2340000"/>
            <a:ext cx="1298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a50021"/>
                </a:solidFill>
                <a:latin typeface="Arial"/>
              </a:rPr>
              <a:t>R</a:t>
            </a:r>
            <a:r>
              <a:rPr b="1" lang="es-ES" sz="2400" spc="-1" strike="noStrike" baseline="-25000">
                <a:solidFill>
                  <a:srgbClr val="a50021"/>
                </a:solidFill>
                <a:latin typeface="Arial"/>
              </a:rPr>
              <a:t>D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847800" y="3498840"/>
            <a:ext cx="64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uanto más baja es la resistencia, mejor es el transis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901800" y="4054320"/>
            <a:ext cx="7657920" cy="642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ste parámetro está directamente relacionado con la tensión de ruptura y con la capacidad de manejar corri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490840" y="5219640"/>
            <a:ext cx="10335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307040" y="5324400"/>
            <a:ext cx="874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Arial"/>
              </a:rPr>
              <a:t>DS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2701800" y="5962680"/>
            <a:ext cx="9939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4336920" y="5950080"/>
            <a:ext cx="874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Arial"/>
              </a:rPr>
              <a:t>DS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3141720" y="5208480"/>
            <a:ext cx="344520" cy="397080"/>
          </a:xfrm>
          <a:prstGeom prst="upArrow">
            <a:avLst>
              <a:gd name="adj1" fmla="val 50000"/>
              <a:gd name="adj2" fmla="val 28814"/>
            </a:avLst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5116680" y="5994360"/>
            <a:ext cx="318960" cy="409680"/>
          </a:xfrm>
          <a:prstGeom prst="downArrow">
            <a:avLst>
              <a:gd name="adj1" fmla="val 50000"/>
              <a:gd name="adj2" fmla="val 32111"/>
            </a:avLst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5106960" y="5265720"/>
            <a:ext cx="344520" cy="396720"/>
          </a:xfrm>
          <a:prstGeom prst="upArrow">
            <a:avLst>
              <a:gd name="adj1" fmla="val 50000"/>
              <a:gd name="adj2" fmla="val 28788"/>
            </a:avLst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132000" y="5954760"/>
            <a:ext cx="344520" cy="396720"/>
          </a:xfrm>
          <a:prstGeom prst="upArrow">
            <a:avLst>
              <a:gd name="adj1" fmla="val 50000"/>
              <a:gd name="adj2" fmla="val 28788"/>
            </a:avLst>
          </a:pr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"/>
          <p:cNvSpPr/>
          <p:nvPr/>
        </p:nvSpPr>
        <p:spPr>
          <a:xfrm>
            <a:off x="501480" y="0"/>
            <a:ext cx="71640" cy="685800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 rot="16200000">
            <a:off x="-2933280" y="3193920"/>
            <a:ext cx="640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EL MOSFET  DE POT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601560" y="87480"/>
            <a:ext cx="481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Ejemplos de MOSFETS comerci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855720" y="1622520"/>
            <a:ext cx="157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RF 320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640400" y="1039680"/>
            <a:ext cx="8744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Arial"/>
              </a:rPr>
              <a:t>DS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784680" y="1039680"/>
            <a:ext cx="490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2421000" y="1039680"/>
            <a:ext cx="703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2373480" y="1622520"/>
            <a:ext cx="84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5 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3560760" y="1622520"/>
            <a:ext cx="102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10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4734000" y="1622520"/>
            <a:ext cx="93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 m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700200" y="1487520"/>
            <a:ext cx="5248080" cy="0"/>
          </a:xfrm>
          <a:prstGeom prst="line">
            <a:avLst/>
          </a:prstGeom>
          <a:ln w="284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855720" y="2092320"/>
            <a:ext cx="157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RF 140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2373480" y="2092320"/>
            <a:ext cx="84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5 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560760" y="2092320"/>
            <a:ext cx="102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69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4734000" y="2092320"/>
            <a:ext cx="109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3 m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855720" y="2575080"/>
            <a:ext cx="157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RF 5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2373480" y="2575080"/>
            <a:ext cx="84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0 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3560760" y="2575080"/>
            <a:ext cx="102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734000" y="2575080"/>
            <a:ext cx="107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80 m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55720" y="3083040"/>
            <a:ext cx="157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RF 37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2373480" y="3083040"/>
            <a:ext cx="84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0 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560760" y="3083040"/>
            <a:ext cx="102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5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4734000" y="3083040"/>
            <a:ext cx="93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5 m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855720" y="4048200"/>
            <a:ext cx="157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RFP 46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2373480" y="4048200"/>
            <a:ext cx="84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00 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3560760" y="4048200"/>
            <a:ext cx="102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4734000" y="4048200"/>
            <a:ext cx="107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70 m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55720" y="3638520"/>
            <a:ext cx="157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RF 54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2373480" y="3638520"/>
            <a:ext cx="84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00 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60760" y="3638520"/>
            <a:ext cx="102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4734000" y="3638520"/>
            <a:ext cx="111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50 m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55720" y="4518000"/>
            <a:ext cx="157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RFPG 3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2373480" y="451800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00 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3560760" y="4518000"/>
            <a:ext cx="102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4734000" y="4518000"/>
            <a:ext cx="107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55720" y="5025960"/>
            <a:ext cx="157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RFPG 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2373480" y="5025960"/>
            <a:ext cx="104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00 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3560760" y="5025960"/>
            <a:ext cx="102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4734000" y="5025960"/>
            <a:ext cx="111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00200" y="2473200"/>
            <a:ext cx="5248080" cy="0"/>
          </a:xfrm>
          <a:prstGeom prst="line">
            <a:avLst/>
          </a:prstGeom>
          <a:ln w="284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00200" y="3497400"/>
            <a:ext cx="5248080" cy="0"/>
          </a:xfrm>
          <a:prstGeom prst="line">
            <a:avLst/>
          </a:prstGeom>
          <a:ln w="284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00200" y="4467240"/>
            <a:ext cx="5248080" cy="0"/>
          </a:xfrm>
          <a:prstGeom prst="line">
            <a:avLst/>
          </a:prstGeom>
          <a:ln w="284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30080" y="5411880"/>
            <a:ext cx="5248440" cy="0"/>
          </a:xfrm>
          <a:prstGeom prst="line">
            <a:avLst/>
          </a:prstGeom>
          <a:ln w="284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5" name="" descr=""/>
          <p:cNvPicPr/>
          <p:nvPr/>
        </p:nvPicPr>
        <p:blipFill>
          <a:blip r:embed="rId1"/>
          <a:stretch/>
        </p:blipFill>
        <p:spPr>
          <a:xfrm>
            <a:off x="6103800" y="1457280"/>
            <a:ext cx="2967120" cy="38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"/>
          <p:cNvSpPr/>
          <p:nvPr/>
        </p:nvSpPr>
        <p:spPr>
          <a:xfrm>
            <a:off x="501480" y="0"/>
            <a:ext cx="71640" cy="685800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 rot="16200000">
            <a:off x="-2933280" y="3193920"/>
            <a:ext cx="640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EL MOSFET  DE POT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635040" y="63360"/>
            <a:ext cx="339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Características de puer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631800" y="650880"/>
            <a:ext cx="8296200" cy="3682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l correcto manejo de la puerta es fundamental para utilizar un MOSF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636480" y="1258920"/>
            <a:ext cx="814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Arial"/>
              </a:rPr>
              <a:t>Hay una tensión mínima para ponerlo en conducción: tensión umb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89040" y="1736640"/>
            <a:ext cx="35384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000" spc="-1" strike="noStrike">
                <a:solidFill>
                  <a:srgbClr val="a50021"/>
                </a:solidFill>
                <a:latin typeface="Arial"/>
              </a:rPr>
              <a:t>Threshold voltage:</a:t>
            </a:r>
            <a:r>
              <a:rPr b="1" lang="es-ES" sz="2000" spc="-1" strike="noStrike">
                <a:solidFill>
                  <a:srgbClr val="a50021"/>
                </a:solidFill>
                <a:latin typeface="Arial"/>
              </a:rPr>
              <a:t> V</a:t>
            </a:r>
            <a:r>
              <a:rPr b="1" lang="es-ES" sz="2000" spc="-1" strike="noStrike" baseline="-25000">
                <a:solidFill>
                  <a:srgbClr val="a50021"/>
                </a:solidFill>
                <a:latin typeface="Arial"/>
              </a:rPr>
              <a:t>GS(th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649440" y="2863800"/>
            <a:ext cx="785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Arial"/>
              </a:rPr>
              <a:t>Hay una tensión máxima de puerta. Por encima de ese valor, se rom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31880" y="2309760"/>
            <a:ext cx="284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lores típicos: 3 – 5 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77960" y="3365640"/>
            <a:ext cx="355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Valores típicos: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± 15 V,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± 20 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8640" y="3998880"/>
            <a:ext cx="751536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8080"/>
                </a:solidFill>
                <a:latin typeface="Arial"/>
              </a:rPr>
              <a:t>El circuito equivalente entre puerta y fuente se modela como un condensador (C</a:t>
            </a:r>
            <a:r>
              <a:rPr b="1" lang="es-ES" sz="1800" spc="-1" strike="noStrike" baseline="-25000">
                <a:solidFill>
                  <a:srgbClr val="008080"/>
                </a:solidFill>
                <a:latin typeface="Arial"/>
              </a:rPr>
              <a:t>iss</a:t>
            </a:r>
            <a:r>
              <a:rPr b="1" lang="es-ES" sz="1800" spc="-1" strike="noStrike">
                <a:solidFill>
                  <a:srgbClr val="00808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6" name=""/>
          <p:cNvGrpSpPr/>
          <p:nvPr/>
        </p:nvGrpSpPr>
        <p:grpSpPr>
          <a:xfrm>
            <a:off x="4657320" y="4592520"/>
            <a:ext cx="1553760" cy="1526400"/>
            <a:chOff x="4657320" y="4592520"/>
            <a:chExt cx="1553760" cy="1526400"/>
          </a:xfrm>
        </p:grpSpPr>
        <p:sp>
          <p:nvSpPr>
            <p:cNvPr id="517" name=""/>
            <p:cNvSpPr/>
            <p:nvPr/>
          </p:nvSpPr>
          <p:spPr>
            <a:xfrm>
              <a:off x="5441760" y="5332320"/>
              <a:ext cx="390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657320" y="528768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a50021"/>
                  </a:solidFill>
                  <a:latin typeface="Arial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5810760" y="45925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a50021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5807160" y="56592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a50021"/>
                  </a:solidFill>
                  <a:latin typeface="Arial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1" name=""/>
            <p:cNvGrpSpPr/>
            <p:nvPr/>
          </p:nvGrpSpPr>
          <p:grpSpPr>
            <a:xfrm>
              <a:off x="5424480" y="5476680"/>
              <a:ext cx="406440" cy="573840"/>
              <a:chOff x="5424480" y="5476680"/>
              <a:chExt cx="406440" cy="573840"/>
            </a:xfrm>
          </p:grpSpPr>
          <p:sp>
            <p:nvSpPr>
              <p:cNvPr id="522" name=""/>
              <p:cNvSpPr/>
              <p:nvPr/>
            </p:nvSpPr>
            <p:spPr>
              <a:xfrm flipV="1">
                <a:off x="5443560" y="5580360"/>
                <a:ext cx="387360" cy="469800"/>
              </a:xfrm>
              <a:custGeom>
                <a:avLst/>
                <a:gdLst/>
                <a:ahLst/>
                <a:rect l="l" t="t" r="r" b="b"/>
                <a:pathLst>
                  <a:path w="244" h="296">
                    <a:moveTo>
                      <a:pt x="0" y="296"/>
                    </a:moveTo>
                    <a:lnTo>
                      <a:pt x="244" y="296"/>
                    </a:lnTo>
                    <a:lnTo>
                      <a:pt x="244" y="0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5424480" y="5476680"/>
                <a:ext cx="0" cy="247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4" name=""/>
            <p:cNvGrpSpPr/>
            <p:nvPr/>
          </p:nvGrpSpPr>
          <p:grpSpPr>
            <a:xfrm>
              <a:off x="5424480" y="4656960"/>
              <a:ext cx="406440" cy="574920"/>
              <a:chOff x="5424480" y="4656960"/>
              <a:chExt cx="406440" cy="574920"/>
            </a:xfrm>
          </p:grpSpPr>
          <p:sp>
            <p:nvSpPr>
              <p:cNvPr id="525" name=""/>
              <p:cNvSpPr/>
              <p:nvPr/>
            </p:nvSpPr>
            <p:spPr>
              <a:xfrm>
                <a:off x="5443560" y="4656960"/>
                <a:ext cx="387360" cy="470160"/>
              </a:xfrm>
              <a:custGeom>
                <a:avLst/>
                <a:gdLst/>
                <a:ahLst/>
                <a:rect l="l" t="t" r="r" b="b"/>
                <a:pathLst>
                  <a:path w="244" h="296">
                    <a:moveTo>
                      <a:pt x="0" y="296"/>
                    </a:moveTo>
                    <a:lnTo>
                      <a:pt x="244" y="296"/>
                    </a:lnTo>
                    <a:lnTo>
                      <a:pt x="244" y="0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 flipV="1">
                <a:off x="5424480" y="4984200"/>
                <a:ext cx="0" cy="247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27" name=""/>
            <p:cNvSpPr/>
            <p:nvPr/>
          </p:nvSpPr>
          <p:spPr>
            <a:xfrm>
              <a:off x="5419800" y="526716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4705200" y="4981320"/>
              <a:ext cx="590760" cy="723960"/>
            </a:xfrm>
            <a:custGeom>
              <a:avLst/>
              <a:gdLst/>
              <a:ahLst/>
              <a:rect l="l" t="t" r="r" b="b"/>
              <a:pathLst>
                <a:path w="372" h="456">
                  <a:moveTo>
                    <a:pt x="372" y="0"/>
                  </a:moveTo>
                  <a:lnTo>
                    <a:pt x="372" y="456"/>
                  </a:lnTo>
                  <a:lnTo>
                    <a:pt x="0" y="45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 flipV="1">
              <a:off x="5829120" y="5321160"/>
              <a:ext cx="0" cy="272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"/>
          <p:cNvGrpSpPr/>
          <p:nvPr/>
        </p:nvGrpSpPr>
        <p:grpSpPr>
          <a:xfrm>
            <a:off x="4735440" y="5738400"/>
            <a:ext cx="488520" cy="943560"/>
            <a:chOff x="4735440" y="5738400"/>
            <a:chExt cx="488520" cy="943560"/>
          </a:xfrm>
        </p:grpSpPr>
        <p:sp>
          <p:nvSpPr>
            <p:cNvPr id="531" name=""/>
            <p:cNvSpPr/>
            <p:nvPr/>
          </p:nvSpPr>
          <p:spPr>
            <a:xfrm>
              <a:off x="4738680" y="6093720"/>
              <a:ext cx="485280" cy="0"/>
            </a:xfrm>
            <a:prstGeom prst="line">
              <a:avLst/>
            </a:prstGeom>
            <a:ln w="5724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4735440" y="6339600"/>
              <a:ext cx="485280" cy="0"/>
            </a:xfrm>
            <a:prstGeom prst="line">
              <a:avLst/>
            </a:prstGeom>
            <a:ln w="5724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 flipV="1">
              <a:off x="4955040" y="5738400"/>
              <a:ext cx="0" cy="344520"/>
            </a:xfrm>
            <a:prstGeom prst="line">
              <a:avLst/>
            </a:prstGeom>
            <a:ln w="381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4965840" y="6350760"/>
              <a:ext cx="0" cy="331200"/>
            </a:xfrm>
            <a:prstGeom prst="line">
              <a:avLst/>
            </a:prstGeom>
            <a:ln w="381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5" name=""/>
          <p:cNvSpPr/>
          <p:nvPr/>
        </p:nvSpPr>
        <p:spPr>
          <a:xfrm>
            <a:off x="5827680" y="5962680"/>
            <a:ext cx="0" cy="716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 flipH="1">
            <a:off x="4687920" y="6691320"/>
            <a:ext cx="1139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3919680" y="6027840"/>
            <a:ext cx="7142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8080"/>
                </a:solidFill>
                <a:latin typeface="Arial"/>
              </a:rPr>
              <a:t>(C</a:t>
            </a:r>
            <a:r>
              <a:rPr b="1" lang="es-ES" sz="1800" spc="-1" strike="noStrike" baseline="-25000">
                <a:solidFill>
                  <a:srgbClr val="008080"/>
                </a:solidFill>
                <a:latin typeface="Arial"/>
              </a:rPr>
              <a:t>iss</a:t>
            </a:r>
            <a:r>
              <a:rPr b="1" lang="es-ES" sz="1800" spc="-1" strike="noStrike">
                <a:solidFill>
                  <a:srgbClr val="00808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1074600" y="6031080"/>
            <a:ext cx="2743200" cy="3682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Orden de magnitud: n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"/>
          <p:cNvSpPr/>
          <p:nvPr/>
        </p:nvSpPr>
        <p:spPr>
          <a:xfrm>
            <a:off x="501480" y="0"/>
            <a:ext cx="71640" cy="685800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 rot="16200000">
            <a:off x="-2933280" y="3193920"/>
            <a:ext cx="640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EL MOSFET  DE POT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635040" y="63360"/>
            <a:ext cx="339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Características de puer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85880" y="635040"/>
            <a:ext cx="8004240" cy="8229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uanto más alta es la tensión de puerta, menor es la R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Arial"/>
              </a:rPr>
              <a:t>DS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Interesa manejarlo con la tensión más alta posible (dentro del marge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3" name="" descr=""/>
          <p:cNvPicPr/>
          <p:nvPr/>
        </p:nvPicPr>
        <p:blipFill>
          <a:blip r:embed="rId1"/>
          <a:stretch/>
        </p:blipFill>
        <p:spPr>
          <a:xfrm>
            <a:off x="741240" y="2990880"/>
            <a:ext cx="3929040" cy="3714840"/>
          </a:xfrm>
          <a:prstGeom prst="rect">
            <a:avLst/>
          </a:prstGeom>
          <a:ln w="0">
            <a:noFill/>
          </a:ln>
        </p:spPr>
      </p:pic>
      <p:pic>
        <p:nvPicPr>
          <p:cNvPr id="544" name="" descr=""/>
          <p:cNvPicPr/>
          <p:nvPr/>
        </p:nvPicPr>
        <p:blipFill>
          <a:blip r:embed="rId2"/>
          <a:stretch/>
        </p:blipFill>
        <p:spPr>
          <a:xfrm>
            <a:off x="4838760" y="3021120"/>
            <a:ext cx="3854520" cy="3747960"/>
          </a:xfrm>
          <a:prstGeom prst="rect">
            <a:avLst/>
          </a:prstGeom>
          <a:ln w="0">
            <a:noFill/>
          </a:ln>
        </p:spPr>
      </p:pic>
      <p:sp>
        <p:nvSpPr>
          <p:cNvPr id="545" name=""/>
          <p:cNvSpPr/>
          <p:nvPr/>
        </p:nvSpPr>
        <p:spPr>
          <a:xfrm>
            <a:off x="757080" y="1717560"/>
            <a:ext cx="478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urvas de salida reales de un MOSF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2411280" y="2755800"/>
            <a:ext cx="14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a50021"/>
                </a:solidFill>
                <a:latin typeface="Arial"/>
              </a:rPr>
              <a:t>25 º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6497640" y="2803680"/>
            <a:ext cx="14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a50021"/>
                </a:solidFill>
                <a:latin typeface="Arial"/>
              </a:rPr>
              <a:t>175 º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6678720" y="3276720"/>
            <a:ext cx="450720" cy="252360"/>
          </a:xfrm>
          <a:prstGeom prst="rightArrow">
            <a:avLst>
              <a:gd name="adj1" fmla="val 50000"/>
              <a:gd name="adj2" fmla="val 44650"/>
            </a:avLst>
          </a:prstGeom>
          <a:solidFill>
            <a:srgbClr val="a50021"/>
          </a:solidFill>
          <a:ln w="284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847800" y="2252520"/>
            <a:ext cx="375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Influencia de la temperatu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"/>
          <p:cNvSpPr/>
          <p:nvPr/>
        </p:nvSpPr>
        <p:spPr>
          <a:xfrm>
            <a:off x="2955960" y="5672160"/>
            <a:ext cx="2768400" cy="92700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01480" y="0"/>
            <a:ext cx="71640" cy="685800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 rot="16200000">
            <a:off x="-2933280" y="3193920"/>
            <a:ext cx="640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EL MOSFET  DE POT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900000" y="649440"/>
            <a:ext cx="699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a hacer que el MOSFET se abra y se cierre, debemos cargar y descargar el condensador de puer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635040" y="63360"/>
            <a:ext cx="339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Características de puer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5" name=""/>
          <p:cNvGrpSpPr/>
          <p:nvPr/>
        </p:nvGrpSpPr>
        <p:grpSpPr>
          <a:xfrm>
            <a:off x="3582360" y="1467000"/>
            <a:ext cx="1553760" cy="1526400"/>
            <a:chOff x="3582360" y="1467000"/>
            <a:chExt cx="1553760" cy="1526400"/>
          </a:xfrm>
        </p:grpSpPr>
        <p:sp>
          <p:nvSpPr>
            <p:cNvPr id="556" name=""/>
            <p:cNvSpPr/>
            <p:nvPr/>
          </p:nvSpPr>
          <p:spPr>
            <a:xfrm>
              <a:off x="4366800" y="2206800"/>
              <a:ext cx="390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3582360" y="216216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a50021"/>
                  </a:solidFill>
                  <a:latin typeface="Arial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4735800" y="14670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a50021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732200" y="25336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a50021"/>
                  </a:solidFill>
                  <a:latin typeface="Arial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0" name=""/>
            <p:cNvGrpSpPr/>
            <p:nvPr/>
          </p:nvGrpSpPr>
          <p:grpSpPr>
            <a:xfrm>
              <a:off x="4349520" y="2351160"/>
              <a:ext cx="406440" cy="573840"/>
              <a:chOff x="4349520" y="2351160"/>
              <a:chExt cx="406440" cy="573840"/>
            </a:xfrm>
          </p:grpSpPr>
          <p:sp>
            <p:nvSpPr>
              <p:cNvPr id="561" name=""/>
              <p:cNvSpPr/>
              <p:nvPr/>
            </p:nvSpPr>
            <p:spPr>
              <a:xfrm flipV="1">
                <a:off x="4368600" y="2454840"/>
                <a:ext cx="387360" cy="469800"/>
              </a:xfrm>
              <a:custGeom>
                <a:avLst/>
                <a:gdLst/>
                <a:ahLst/>
                <a:rect l="l" t="t" r="r" b="b"/>
                <a:pathLst>
                  <a:path w="244" h="296">
                    <a:moveTo>
                      <a:pt x="0" y="296"/>
                    </a:moveTo>
                    <a:lnTo>
                      <a:pt x="244" y="296"/>
                    </a:lnTo>
                    <a:lnTo>
                      <a:pt x="244" y="0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4349520" y="2351160"/>
                <a:ext cx="0" cy="247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3" name=""/>
            <p:cNvGrpSpPr/>
            <p:nvPr/>
          </p:nvGrpSpPr>
          <p:grpSpPr>
            <a:xfrm>
              <a:off x="4349520" y="1531440"/>
              <a:ext cx="406440" cy="574920"/>
              <a:chOff x="4349520" y="1531440"/>
              <a:chExt cx="406440" cy="574920"/>
            </a:xfrm>
          </p:grpSpPr>
          <p:sp>
            <p:nvSpPr>
              <p:cNvPr id="564" name=""/>
              <p:cNvSpPr/>
              <p:nvPr/>
            </p:nvSpPr>
            <p:spPr>
              <a:xfrm>
                <a:off x="4368600" y="1531440"/>
                <a:ext cx="387360" cy="470160"/>
              </a:xfrm>
              <a:custGeom>
                <a:avLst/>
                <a:gdLst/>
                <a:ahLst/>
                <a:rect l="l" t="t" r="r" b="b"/>
                <a:pathLst>
                  <a:path w="244" h="296">
                    <a:moveTo>
                      <a:pt x="0" y="296"/>
                    </a:moveTo>
                    <a:lnTo>
                      <a:pt x="244" y="296"/>
                    </a:lnTo>
                    <a:lnTo>
                      <a:pt x="244" y="0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 flipV="1">
                <a:off x="4349520" y="1858680"/>
                <a:ext cx="0" cy="247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6" name=""/>
            <p:cNvSpPr/>
            <p:nvPr/>
          </p:nvSpPr>
          <p:spPr>
            <a:xfrm>
              <a:off x="4344840" y="214164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630240" y="1855800"/>
              <a:ext cx="590760" cy="723960"/>
            </a:xfrm>
            <a:custGeom>
              <a:avLst/>
              <a:gdLst/>
              <a:ahLst/>
              <a:rect l="l" t="t" r="r" b="b"/>
              <a:pathLst>
                <a:path w="372" h="456">
                  <a:moveTo>
                    <a:pt x="372" y="0"/>
                  </a:moveTo>
                  <a:lnTo>
                    <a:pt x="372" y="456"/>
                  </a:lnTo>
                  <a:lnTo>
                    <a:pt x="0" y="45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 flipV="1">
              <a:off x="4754160" y="2195640"/>
              <a:ext cx="0" cy="272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9" name=""/>
          <p:cNvGrpSpPr/>
          <p:nvPr/>
        </p:nvGrpSpPr>
        <p:grpSpPr>
          <a:xfrm>
            <a:off x="3660840" y="2612520"/>
            <a:ext cx="488520" cy="943560"/>
            <a:chOff x="3660840" y="2612520"/>
            <a:chExt cx="488520" cy="943560"/>
          </a:xfrm>
        </p:grpSpPr>
        <p:sp>
          <p:nvSpPr>
            <p:cNvPr id="570" name=""/>
            <p:cNvSpPr/>
            <p:nvPr/>
          </p:nvSpPr>
          <p:spPr>
            <a:xfrm>
              <a:off x="3664080" y="2967840"/>
              <a:ext cx="485280" cy="0"/>
            </a:xfrm>
            <a:prstGeom prst="line">
              <a:avLst/>
            </a:prstGeom>
            <a:ln w="5724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660840" y="3213720"/>
              <a:ext cx="485280" cy="0"/>
            </a:xfrm>
            <a:prstGeom prst="line">
              <a:avLst/>
            </a:prstGeom>
            <a:ln w="5724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 flipV="1">
              <a:off x="3880440" y="2612520"/>
              <a:ext cx="0" cy="344520"/>
            </a:xfrm>
            <a:prstGeom prst="line">
              <a:avLst/>
            </a:prstGeom>
            <a:ln w="381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891240" y="3224880"/>
              <a:ext cx="0" cy="331200"/>
            </a:xfrm>
            <a:prstGeom prst="line">
              <a:avLst/>
            </a:prstGeom>
            <a:ln w="381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"/>
          <p:cNvSpPr/>
          <p:nvPr/>
        </p:nvSpPr>
        <p:spPr>
          <a:xfrm>
            <a:off x="4753080" y="2836800"/>
            <a:ext cx="0" cy="716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 flipH="1">
            <a:off x="3613320" y="3565440"/>
            <a:ext cx="1139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2332080" y="2690640"/>
            <a:ext cx="1006560" cy="981360"/>
          </a:xfrm>
          <a:custGeom>
            <a:avLst/>
            <a:gdLst>
              <a:gd name="textAreaLeft" fmla="*/ 0 w 1006560"/>
              <a:gd name="textAreaRight" fmla="*/ 1006920 w 1006560"/>
              <a:gd name="textAreaTop" fmla="*/ 0 h 981360"/>
              <a:gd name="textAreaBottom" fmla="*/ 981720 h 981360"/>
            </a:gdLst>
            <a:ahLst/>
            <a:rect l="textAreaLeft" t="textAreaTop" r="textAreaRight" b="textAreaBottom"/>
            <a:pathLst>
              <a:path w="21600" h="21600">
                <a:moveTo>
                  <a:pt x="2794" y="10800"/>
                </a:moveTo>
                <a:arcTo wR="-8006" hR="-8006" stAng="-10800000" swAng="-10618537"/>
                <a:lnTo>
                  <a:pt x="15" y="10230"/>
                </a:lnTo>
                <a:arcTo wR="10800" hR="10800" stAng="-10618537" swAng="10618537"/>
                <a:lnTo>
                  <a:pt x="24300" y="10800"/>
                </a:lnTo>
                <a:lnTo>
                  <a:pt x="20203" y="14897"/>
                </a:lnTo>
                <a:lnTo>
                  <a:pt x="16106" y="10800"/>
                </a:lnTo>
                <a:close/>
              </a:path>
            </a:pathLst>
          </a:custGeom>
          <a:solidFill>
            <a:srgbClr val="a500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 flipH="1">
            <a:off x="2111400" y="2708280"/>
            <a:ext cx="968400" cy="981000"/>
          </a:xfrm>
          <a:custGeom>
            <a:avLst/>
            <a:gdLst>
              <a:gd name="textAreaLeft" fmla="*/ 360 w 968400"/>
              <a:gd name="textAreaRight" fmla="*/ 969120 w 968400"/>
              <a:gd name="textAreaTop" fmla="*/ 0 h 981000"/>
              <a:gd name="textAreaBottom" fmla="*/ 981360 h 981000"/>
            </a:gdLst>
            <a:ahLst/>
            <a:rect l="textAreaLeft" t="textAreaTop" r="textAreaRight" b="textAreaBottom"/>
            <a:pathLst>
              <a:path w="21600" h="21600">
                <a:moveTo>
                  <a:pt x="2794" y="10800"/>
                </a:moveTo>
                <a:arcTo wR="-8006" hR="-8006" stAng="-10800000" swAng="-10618537"/>
                <a:lnTo>
                  <a:pt x="15" y="10230"/>
                </a:lnTo>
                <a:arcTo wR="10800" hR="10800" stAng="-10618537" swAng="10618537"/>
                <a:lnTo>
                  <a:pt x="24300" y="10800"/>
                </a:lnTo>
                <a:lnTo>
                  <a:pt x="20203" y="14897"/>
                </a:lnTo>
                <a:lnTo>
                  <a:pt x="16106" y="10800"/>
                </a:lnTo>
                <a:close/>
              </a:path>
            </a:pathLst>
          </a:cu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4254480" y="2938320"/>
            <a:ext cx="144360" cy="62244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847800" y="4175280"/>
            <a:ext cx="34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ergía utilizada en cargarl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0" name=""/>
              <p:cNvSpPr txBox="1"/>
              <p:nvPr/>
            </p:nvSpPr>
            <p:spPr>
              <a:xfrm>
                <a:off x="4229280" y="4041720"/>
                <a:ext cx="1204560" cy="69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ss</m:t>
                        </m:r>
                      </m:sub>
                    </m:sSub>
                    <m:r>
                      <m:t xml:space="preserve">·</m:t>
                    </m:r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GS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581" name=""/>
          <p:cNvSpPr/>
          <p:nvPr/>
        </p:nvSpPr>
        <p:spPr>
          <a:xfrm>
            <a:off x="808200" y="4862520"/>
            <a:ext cx="7646760" cy="642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sa energía se pierde, por tanto, el hecho de manejar el MOSFET implica pérdi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2" name=""/>
              <p:cNvSpPr txBox="1"/>
              <p:nvPr/>
            </p:nvSpPr>
            <p:spPr>
              <a:xfrm>
                <a:off x="3265560" y="5829480"/>
                <a:ext cx="1911240" cy="63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ss</m:t>
                        </m:r>
                      </m:sub>
                    </m:sSub>
                    <m:r>
                      <m:t xml:space="preserve">·</m:t>
                    </m:r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GS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·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9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181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"/>
          <p:cNvSpPr/>
          <p:nvPr/>
        </p:nvSpPr>
        <p:spPr>
          <a:xfrm>
            <a:off x="673200" y="0"/>
            <a:ext cx="406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Características fundament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4" name=""/>
          <p:cNvGrpSpPr/>
          <p:nvPr/>
        </p:nvGrpSpPr>
        <p:grpSpPr>
          <a:xfrm>
            <a:off x="3618000" y="3144960"/>
            <a:ext cx="500760" cy="205920"/>
            <a:chOff x="3618000" y="3144960"/>
            <a:chExt cx="500760" cy="205920"/>
          </a:xfrm>
        </p:grpSpPr>
        <p:sp>
          <p:nvSpPr>
            <p:cNvPr id="585" name=""/>
            <p:cNvSpPr/>
            <p:nvPr/>
          </p:nvSpPr>
          <p:spPr>
            <a:xfrm flipV="1">
              <a:off x="3743280" y="3144960"/>
              <a:ext cx="7920" cy="96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 flipH="1" flipV="1">
              <a:off x="3750480" y="3148560"/>
              <a:ext cx="67680" cy="198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 flipV="1">
              <a:off x="3817080" y="3153960"/>
              <a:ext cx="3276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8" name=""/>
            <p:cNvGrpSpPr/>
            <p:nvPr/>
          </p:nvGrpSpPr>
          <p:grpSpPr>
            <a:xfrm>
              <a:off x="3915360" y="3144960"/>
              <a:ext cx="97920" cy="201600"/>
              <a:chOff x="3915360" y="3144960"/>
              <a:chExt cx="97920" cy="201600"/>
            </a:xfrm>
          </p:grpSpPr>
          <p:sp>
            <p:nvSpPr>
              <p:cNvPr id="589" name=""/>
              <p:cNvSpPr/>
              <p:nvPr/>
            </p:nvSpPr>
            <p:spPr>
              <a:xfrm flipH="1" flipV="1">
                <a:off x="3946680" y="3144960"/>
                <a:ext cx="66600" cy="1972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flipV="1">
                <a:off x="3915360" y="3148560"/>
                <a:ext cx="32760" cy="1980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1" name=""/>
            <p:cNvSpPr/>
            <p:nvPr/>
          </p:nvSpPr>
          <p:spPr>
            <a:xfrm flipH="1" flipV="1">
              <a:off x="3848400" y="3153960"/>
              <a:ext cx="6804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 flipV="1">
              <a:off x="4015080" y="3250440"/>
              <a:ext cx="7920" cy="95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 flipH="1">
              <a:off x="3618000" y="3249000"/>
              <a:ext cx="125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H="1">
              <a:off x="4018320" y="3243240"/>
              <a:ext cx="1004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5" name=""/>
          <p:cNvGrpSpPr/>
          <p:nvPr/>
        </p:nvGrpSpPr>
        <p:grpSpPr>
          <a:xfrm>
            <a:off x="4484160" y="3141720"/>
            <a:ext cx="501480" cy="205920"/>
            <a:chOff x="4484160" y="3141720"/>
            <a:chExt cx="501480" cy="205920"/>
          </a:xfrm>
        </p:grpSpPr>
        <p:sp>
          <p:nvSpPr>
            <p:cNvPr id="596" name=""/>
            <p:cNvSpPr/>
            <p:nvPr/>
          </p:nvSpPr>
          <p:spPr>
            <a:xfrm flipV="1">
              <a:off x="4610160" y="3141720"/>
              <a:ext cx="7920" cy="96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 flipH="1" flipV="1">
              <a:off x="4617000" y="3145320"/>
              <a:ext cx="67680" cy="198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 flipV="1">
              <a:off x="4683960" y="3150720"/>
              <a:ext cx="3276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9" name=""/>
            <p:cNvGrpSpPr/>
            <p:nvPr/>
          </p:nvGrpSpPr>
          <p:grpSpPr>
            <a:xfrm>
              <a:off x="4782240" y="3141720"/>
              <a:ext cx="97920" cy="201600"/>
              <a:chOff x="4782240" y="3141720"/>
              <a:chExt cx="97920" cy="201600"/>
            </a:xfrm>
          </p:grpSpPr>
          <p:sp>
            <p:nvSpPr>
              <p:cNvPr id="600" name=""/>
              <p:cNvSpPr/>
              <p:nvPr/>
            </p:nvSpPr>
            <p:spPr>
              <a:xfrm flipH="1" flipV="1">
                <a:off x="4813560" y="3141720"/>
                <a:ext cx="66600" cy="1972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flipV="1">
                <a:off x="4782240" y="3145320"/>
                <a:ext cx="32760" cy="1980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2" name=""/>
            <p:cNvSpPr/>
            <p:nvPr/>
          </p:nvSpPr>
          <p:spPr>
            <a:xfrm flipH="1" flipV="1">
              <a:off x="4714920" y="3150720"/>
              <a:ext cx="6804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4881960" y="3247200"/>
              <a:ext cx="7920" cy="95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 flipH="1">
              <a:off x="4484160" y="3245760"/>
              <a:ext cx="125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 flipH="1">
              <a:off x="4885200" y="3240000"/>
              <a:ext cx="1004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6" name=""/>
          <p:cNvSpPr/>
          <p:nvPr/>
        </p:nvSpPr>
        <p:spPr>
          <a:xfrm>
            <a:off x="2973240" y="3789360"/>
            <a:ext cx="573120" cy="7095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 flipV="1">
            <a:off x="3246480" y="3952800"/>
            <a:ext cx="0" cy="4240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 flipV="1">
            <a:off x="3232080" y="3257280"/>
            <a:ext cx="0" cy="531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3232080" y="3257640"/>
            <a:ext cx="395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105440" y="3243240"/>
            <a:ext cx="382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3232080" y="4513320"/>
            <a:ext cx="0" cy="695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3232080" y="5235480"/>
            <a:ext cx="28400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 flipV="1">
            <a:off x="6081840" y="4498920"/>
            <a:ext cx="0" cy="736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5921280" y="4513320"/>
            <a:ext cx="3272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5743440" y="4349880"/>
            <a:ext cx="6685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 flipV="1">
            <a:off x="6058080" y="3230280"/>
            <a:ext cx="0" cy="1104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 flipH="1">
            <a:off x="4951440" y="3243240"/>
            <a:ext cx="1106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2379600" y="3854520"/>
            <a:ext cx="560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P (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3492360" y="2643120"/>
            <a:ext cx="900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a50021"/>
                </a:solidFill>
                <a:latin typeface="Arial"/>
              </a:rPr>
              <a:t>R</a:t>
            </a:r>
            <a:r>
              <a:rPr b="1" lang="es-ES" sz="1800" spc="-1" strike="noStrike" baseline="-25000">
                <a:solidFill>
                  <a:srgbClr val="a50021"/>
                </a:solidFill>
                <a:latin typeface="Arial"/>
              </a:rPr>
              <a:t>THj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4444920" y="2681280"/>
            <a:ext cx="900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a50021"/>
                </a:solidFill>
                <a:latin typeface="Arial"/>
              </a:rPr>
              <a:t>R</a:t>
            </a:r>
            <a:r>
              <a:rPr b="1" lang="es-ES" sz="1800" spc="-1" strike="noStrike" baseline="-25000">
                <a:solidFill>
                  <a:srgbClr val="a50021"/>
                </a:solidFill>
                <a:latin typeface="Arial"/>
              </a:rPr>
              <a:t>TH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5197320" y="4267080"/>
            <a:ext cx="6145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a50021"/>
                </a:solidFill>
                <a:latin typeface="Arial"/>
              </a:rPr>
              <a:t>T</a:t>
            </a:r>
            <a:r>
              <a:rPr b="1" lang="es-ES" sz="2000" spc="-1" strike="noStrike" baseline="-25000">
                <a:solidFill>
                  <a:srgbClr val="a50021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178080" y="3189240"/>
            <a:ext cx="136800" cy="135000"/>
          </a:xfrm>
          <a:prstGeom prst="ellipse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4281480" y="3173400"/>
            <a:ext cx="136440" cy="135000"/>
          </a:xfrm>
          <a:prstGeom prst="ellipse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6000840" y="3173400"/>
            <a:ext cx="136440" cy="135000"/>
          </a:xfrm>
          <a:prstGeom prst="ellipse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743200" y="2754360"/>
            <a:ext cx="69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80"/>
                </a:solidFill>
                <a:latin typeface="Arial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4032360" y="3352680"/>
            <a:ext cx="69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8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5751360" y="2676600"/>
            <a:ext cx="69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8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3286080" y="5372280"/>
            <a:ext cx="3440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a50021"/>
                </a:solidFill>
                <a:latin typeface="Arial"/>
              </a:rPr>
              <a:t>T</a:t>
            </a:r>
            <a:r>
              <a:rPr b="1" lang="es-ES" sz="1800" spc="-1" strike="noStrike" baseline="-25000">
                <a:solidFill>
                  <a:srgbClr val="a50021"/>
                </a:solidFill>
                <a:latin typeface="Arial"/>
              </a:rPr>
              <a:t>a</a:t>
            </a:r>
            <a:r>
              <a:rPr b="1" lang="es-ES" sz="1800" spc="-1" strike="noStrike">
                <a:solidFill>
                  <a:srgbClr val="a50021"/>
                </a:solidFill>
                <a:latin typeface="Arial"/>
              </a:rPr>
              <a:t> : Temperatura ambi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501480" y="0"/>
            <a:ext cx="71640" cy="685800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 rot="16200000">
            <a:off x="-2933280" y="3193920"/>
            <a:ext cx="640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EL MOSFET  DE POT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1" name="" descr=""/>
          <p:cNvPicPr/>
          <p:nvPr/>
        </p:nvPicPr>
        <p:blipFill>
          <a:blip r:embed="rId1"/>
          <a:stretch/>
        </p:blipFill>
        <p:spPr>
          <a:xfrm>
            <a:off x="585720" y="1204920"/>
            <a:ext cx="7631280" cy="1063440"/>
          </a:xfrm>
          <a:prstGeom prst="rect">
            <a:avLst/>
          </a:prstGeom>
          <a:ln w="0">
            <a:noFill/>
          </a:ln>
        </p:spPr>
      </p:pic>
      <p:sp>
        <p:nvSpPr>
          <p:cNvPr id="632" name=""/>
          <p:cNvSpPr/>
          <p:nvPr/>
        </p:nvSpPr>
        <p:spPr>
          <a:xfrm>
            <a:off x="793800" y="584280"/>
            <a:ext cx="2638440" cy="3682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istencia Térm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1033560" y="6162840"/>
            <a:ext cx="7646760" cy="36828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os valores dependen fundamentalmente del tipo de encapsul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"/>
          <p:cNvSpPr/>
          <p:nvPr/>
        </p:nvSpPr>
        <p:spPr>
          <a:xfrm>
            <a:off x="673200" y="0"/>
            <a:ext cx="345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Características dinám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963720" y="517680"/>
            <a:ext cx="7232400" cy="642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 rapidez de las conmutaciones depende en gran medida del modo en que se maneje la puer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501480" y="0"/>
            <a:ext cx="71640" cy="685800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 rot="16200000">
            <a:off x="-2933280" y="3193920"/>
            <a:ext cx="640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EL MOSFET  DE POT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8" name=""/>
          <p:cNvGrpSpPr/>
          <p:nvPr/>
        </p:nvGrpSpPr>
        <p:grpSpPr>
          <a:xfrm>
            <a:off x="601200" y="1187280"/>
            <a:ext cx="1771560" cy="1678680"/>
            <a:chOff x="601200" y="1187280"/>
            <a:chExt cx="1771560" cy="1678680"/>
          </a:xfrm>
        </p:grpSpPr>
        <p:grpSp>
          <p:nvGrpSpPr>
            <p:cNvPr id="639" name=""/>
            <p:cNvGrpSpPr/>
            <p:nvPr/>
          </p:nvGrpSpPr>
          <p:grpSpPr>
            <a:xfrm>
              <a:off x="601200" y="1187280"/>
              <a:ext cx="1634760" cy="1678680"/>
              <a:chOff x="601200" y="1187280"/>
              <a:chExt cx="1634760" cy="1678680"/>
            </a:xfrm>
          </p:grpSpPr>
          <p:grpSp>
            <p:nvGrpSpPr>
              <p:cNvPr id="640" name=""/>
              <p:cNvGrpSpPr/>
              <p:nvPr/>
            </p:nvGrpSpPr>
            <p:grpSpPr>
              <a:xfrm>
                <a:off x="601200" y="1187280"/>
                <a:ext cx="1634760" cy="1678680"/>
                <a:chOff x="601200" y="1187280"/>
                <a:chExt cx="1634760" cy="1678680"/>
              </a:xfrm>
            </p:grpSpPr>
            <p:sp>
              <p:nvSpPr>
                <p:cNvPr id="641" name=""/>
                <p:cNvSpPr/>
                <p:nvPr/>
              </p:nvSpPr>
              <p:spPr>
                <a:xfrm>
                  <a:off x="1442880" y="2079360"/>
                  <a:ext cx="39024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2" name=""/>
                <p:cNvSpPr/>
                <p:nvPr/>
              </p:nvSpPr>
              <p:spPr>
                <a:xfrm>
                  <a:off x="601200" y="2035080"/>
                  <a:ext cx="418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2400" spc="-1" strike="noStrike">
                      <a:solidFill>
                        <a:srgbClr val="a50021"/>
                      </a:solidFill>
                      <a:latin typeface="Arial"/>
                    </a:rPr>
                    <a:t>G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3" name=""/>
                <p:cNvSpPr/>
                <p:nvPr/>
              </p:nvSpPr>
              <p:spPr>
                <a:xfrm>
                  <a:off x="1811520" y="1187280"/>
                  <a:ext cx="400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2400" spc="-1" strike="noStrike">
                      <a:solidFill>
                        <a:srgbClr val="a50021"/>
                      </a:solidFill>
                      <a:latin typeface="Arial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4" name=""/>
                <p:cNvSpPr/>
                <p:nvPr/>
              </p:nvSpPr>
              <p:spPr>
                <a:xfrm>
                  <a:off x="1852560" y="2406240"/>
                  <a:ext cx="383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2400" spc="-1" strike="noStrike">
                      <a:solidFill>
                        <a:srgbClr val="a50021"/>
                      </a:solidFill>
                      <a:latin typeface="Arial"/>
                    </a:rPr>
                    <a:t>S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45" name=""/>
                <p:cNvGrpSpPr/>
                <p:nvPr/>
              </p:nvGrpSpPr>
              <p:grpSpPr>
                <a:xfrm>
                  <a:off x="1425600" y="2223720"/>
                  <a:ext cx="405360" cy="574920"/>
                  <a:chOff x="1425600" y="2223720"/>
                  <a:chExt cx="405360" cy="574920"/>
                </a:xfrm>
              </p:grpSpPr>
              <p:sp>
                <p:nvSpPr>
                  <p:cNvPr id="646" name=""/>
                  <p:cNvSpPr/>
                  <p:nvPr/>
                </p:nvSpPr>
                <p:spPr>
                  <a:xfrm flipV="1">
                    <a:off x="1444320" y="2328480"/>
                    <a:ext cx="386640" cy="47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44" h="296">
                        <a:moveTo>
                          <a:pt x="0" y="296"/>
                        </a:moveTo>
                        <a:lnTo>
                          <a:pt x="244" y="296"/>
                        </a:lnTo>
                        <a:lnTo>
                          <a:pt x="244" y="0"/>
                        </a:lnTo>
                      </a:path>
                    </a:pathLst>
                  </a:custGeom>
                  <a:noFill/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7" name=""/>
                  <p:cNvSpPr/>
                  <p:nvPr/>
                </p:nvSpPr>
                <p:spPr>
                  <a:xfrm>
                    <a:off x="1425600" y="2223720"/>
                    <a:ext cx="0" cy="2476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48" name=""/>
                <p:cNvGrpSpPr/>
                <p:nvPr/>
              </p:nvGrpSpPr>
              <p:grpSpPr>
                <a:xfrm>
                  <a:off x="1425600" y="1405440"/>
                  <a:ext cx="405360" cy="573840"/>
                  <a:chOff x="1425600" y="1405440"/>
                  <a:chExt cx="405360" cy="573840"/>
                </a:xfrm>
              </p:grpSpPr>
              <p:sp>
                <p:nvSpPr>
                  <p:cNvPr id="649" name=""/>
                  <p:cNvSpPr/>
                  <p:nvPr/>
                </p:nvSpPr>
                <p:spPr>
                  <a:xfrm>
                    <a:off x="1444320" y="1405440"/>
                    <a:ext cx="386640" cy="46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44" h="296">
                        <a:moveTo>
                          <a:pt x="0" y="296"/>
                        </a:moveTo>
                        <a:lnTo>
                          <a:pt x="244" y="296"/>
                        </a:lnTo>
                        <a:lnTo>
                          <a:pt x="244" y="0"/>
                        </a:lnTo>
                      </a:path>
                    </a:pathLst>
                  </a:custGeom>
                  <a:noFill/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0" name=""/>
                  <p:cNvSpPr/>
                  <p:nvPr/>
                </p:nvSpPr>
                <p:spPr>
                  <a:xfrm flipV="1">
                    <a:off x="1425600" y="1731960"/>
                    <a:ext cx="0" cy="2473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51" name=""/>
                <p:cNvSpPr/>
                <p:nvPr/>
              </p:nvSpPr>
              <p:spPr>
                <a:xfrm>
                  <a:off x="1420560" y="2014200"/>
                  <a:ext cx="0" cy="1526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2" name=""/>
                <p:cNvSpPr/>
                <p:nvPr/>
              </p:nvSpPr>
              <p:spPr>
                <a:xfrm>
                  <a:off x="706320" y="1728720"/>
                  <a:ext cx="590040" cy="723600"/>
                </a:xfrm>
                <a:custGeom>
                  <a:avLst/>
                  <a:gdLst/>
                  <a:ahLst/>
                  <a:rect l="l" t="t" r="r" b="b"/>
                  <a:pathLst>
                    <a:path w="372" h="456">
                      <a:moveTo>
                        <a:pt x="372" y="0"/>
                      </a:moveTo>
                      <a:lnTo>
                        <a:pt x="372" y="456"/>
                      </a:lnTo>
                      <a:lnTo>
                        <a:pt x="0" y="456"/>
                      </a:ln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53" name=""/>
              <p:cNvSpPr/>
              <p:nvPr/>
            </p:nvSpPr>
            <p:spPr>
              <a:xfrm flipV="1">
                <a:off x="1829880" y="2067840"/>
                <a:ext cx="0" cy="272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4" name=""/>
            <p:cNvGrpSpPr/>
            <p:nvPr/>
          </p:nvGrpSpPr>
          <p:grpSpPr>
            <a:xfrm>
              <a:off x="1844640" y="1744560"/>
              <a:ext cx="528120" cy="672480"/>
              <a:chOff x="1844640" y="1744560"/>
              <a:chExt cx="528120" cy="672480"/>
            </a:xfrm>
          </p:grpSpPr>
          <p:sp>
            <p:nvSpPr>
              <p:cNvPr id="655" name=""/>
              <p:cNvSpPr/>
              <p:nvPr/>
            </p:nvSpPr>
            <p:spPr>
              <a:xfrm flipH="1" flipV="1" rot="10800000">
                <a:off x="2010960" y="2001240"/>
                <a:ext cx="320400" cy="198000"/>
              </a:xfrm>
              <a:prstGeom prst="triangle">
                <a:avLst>
                  <a:gd name="adj" fmla="val 49995"/>
                </a:avLst>
              </a:prstGeom>
              <a:solidFill>
                <a:srgbClr val="ffffff"/>
              </a:solidFill>
              <a:ln w="38160">
                <a:solidFill>
                  <a:srgbClr val="a5002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 flipV="1">
                <a:off x="1971360" y="1917000"/>
                <a:ext cx="401400" cy="63360"/>
              </a:xfrm>
              <a:prstGeom prst="rect">
                <a:avLst/>
              </a:prstGeom>
              <a:solidFill>
                <a:srgbClr val="a50021"/>
              </a:solidFill>
              <a:ln w="38160">
                <a:solidFill>
                  <a:srgbClr val="a5002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560" bIns="16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 flipV="1">
                <a:off x="1844640" y="2188800"/>
                <a:ext cx="329760" cy="228240"/>
              </a:xfrm>
              <a:custGeom>
                <a:avLst/>
                <a:gdLst/>
                <a:ahLst/>
                <a:rect l="l" t="t" r="r" b="b"/>
                <a:pathLst>
                  <a:path w="208" h="144">
                    <a:moveTo>
                      <a:pt x="0" y="0"/>
                    </a:moveTo>
                    <a:lnTo>
                      <a:pt x="208" y="0"/>
                    </a:lnTo>
                    <a:lnTo>
                      <a:pt x="208" y="144"/>
                    </a:lnTo>
                  </a:path>
                </a:pathLst>
              </a:custGeom>
              <a:noFill/>
              <a:ln w="38160">
                <a:solidFill>
                  <a:srgbClr val="a5002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1844640" y="1744560"/>
                <a:ext cx="329760" cy="228240"/>
              </a:xfrm>
              <a:custGeom>
                <a:avLst/>
                <a:gdLst/>
                <a:ahLst/>
                <a:rect l="l" t="t" r="r" b="b"/>
                <a:pathLst>
                  <a:path w="208" h="144">
                    <a:moveTo>
                      <a:pt x="0" y="0"/>
                    </a:moveTo>
                    <a:lnTo>
                      <a:pt x="208" y="0"/>
                    </a:lnTo>
                    <a:lnTo>
                      <a:pt x="208" y="144"/>
                    </a:lnTo>
                  </a:path>
                </a:pathLst>
              </a:custGeom>
              <a:noFill/>
              <a:ln w="38160">
                <a:solidFill>
                  <a:srgbClr val="a5002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59" name=""/>
          <p:cNvSpPr/>
          <p:nvPr/>
        </p:nvSpPr>
        <p:spPr>
          <a:xfrm>
            <a:off x="2408400" y="1628640"/>
            <a:ext cx="66942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El diodo parásito es lento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 el diodo está conduciendo, aunque el MOSFET se abra, el diodo puede seguir conduciendo un cierto tiemp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668160" y="2960640"/>
            <a:ext cx="812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Arial"/>
              </a:rPr>
              <a:t>Además de la capacidad de puerta, hay otros dos condensad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4675320" y="4160880"/>
            <a:ext cx="3902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3407760" y="439596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a50021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5745600" y="32767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a50021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5813640" y="43689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a50021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5" name=""/>
          <p:cNvGrpSpPr/>
          <p:nvPr/>
        </p:nvGrpSpPr>
        <p:grpSpPr>
          <a:xfrm>
            <a:off x="4657680" y="4305240"/>
            <a:ext cx="406440" cy="573840"/>
            <a:chOff x="4657680" y="4305240"/>
            <a:chExt cx="406440" cy="573840"/>
          </a:xfrm>
        </p:grpSpPr>
        <p:sp>
          <p:nvSpPr>
            <p:cNvPr id="666" name=""/>
            <p:cNvSpPr/>
            <p:nvPr/>
          </p:nvSpPr>
          <p:spPr>
            <a:xfrm flipV="1">
              <a:off x="4676760" y="4408920"/>
              <a:ext cx="387360" cy="469800"/>
            </a:xfrm>
            <a:custGeom>
              <a:avLst/>
              <a:gdLst/>
              <a:ahLst/>
              <a:rect l="l" t="t" r="r" b="b"/>
              <a:pathLst>
                <a:path w="244" h="296">
                  <a:moveTo>
                    <a:pt x="0" y="296"/>
                  </a:moveTo>
                  <a:lnTo>
                    <a:pt x="244" y="296"/>
                  </a:lnTo>
                  <a:lnTo>
                    <a:pt x="244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4657680" y="4305240"/>
              <a:ext cx="0" cy="247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8" name=""/>
          <p:cNvGrpSpPr/>
          <p:nvPr/>
        </p:nvGrpSpPr>
        <p:grpSpPr>
          <a:xfrm>
            <a:off x="4657680" y="3486960"/>
            <a:ext cx="406440" cy="573840"/>
            <a:chOff x="4657680" y="3486960"/>
            <a:chExt cx="406440" cy="573840"/>
          </a:xfrm>
        </p:grpSpPr>
        <p:sp>
          <p:nvSpPr>
            <p:cNvPr id="669" name=""/>
            <p:cNvSpPr/>
            <p:nvPr/>
          </p:nvSpPr>
          <p:spPr>
            <a:xfrm>
              <a:off x="4676760" y="3486960"/>
              <a:ext cx="387360" cy="469800"/>
            </a:xfrm>
            <a:custGeom>
              <a:avLst/>
              <a:gdLst/>
              <a:ahLst/>
              <a:rect l="l" t="t" r="r" b="b"/>
              <a:pathLst>
                <a:path w="244" h="296">
                  <a:moveTo>
                    <a:pt x="0" y="296"/>
                  </a:moveTo>
                  <a:lnTo>
                    <a:pt x="244" y="296"/>
                  </a:lnTo>
                  <a:lnTo>
                    <a:pt x="244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 flipV="1">
              <a:off x="4657680" y="3813480"/>
              <a:ext cx="0" cy="247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1" name=""/>
          <p:cNvSpPr/>
          <p:nvPr/>
        </p:nvSpPr>
        <p:spPr>
          <a:xfrm>
            <a:off x="4653000" y="40957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3938760" y="3809880"/>
            <a:ext cx="590400" cy="723960"/>
          </a:xfrm>
          <a:custGeom>
            <a:avLst/>
            <a:gdLst/>
            <a:ahLst/>
            <a:rect l="l" t="t" r="r" b="b"/>
            <a:pathLst>
              <a:path w="372" h="456">
                <a:moveTo>
                  <a:pt x="372" y="0"/>
                </a:moveTo>
                <a:lnTo>
                  <a:pt x="372" y="456"/>
                </a:lnTo>
                <a:lnTo>
                  <a:pt x="0" y="456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 flipV="1">
            <a:off x="5062680" y="4149720"/>
            <a:ext cx="0" cy="272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4" name=""/>
          <p:cNvGrpSpPr/>
          <p:nvPr/>
        </p:nvGrpSpPr>
        <p:grpSpPr>
          <a:xfrm>
            <a:off x="3968640" y="4567320"/>
            <a:ext cx="488880" cy="942480"/>
            <a:chOff x="3968640" y="4567320"/>
            <a:chExt cx="488880" cy="942480"/>
          </a:xfrm>
        </p:grpSpPr>
        <p:sp>
          <p:nvSpPr>
            <p:cNvPr id="675" name=""/>
            <p:cNvSpPr/>
            <p:nvPr/>
          </p:nvSpPr>
          <p:spPr>
            <a:xfrm>
              <a:off x="3971880" y="4922280"/>
              <a:ext cx="485640" cy="0"/>
            </a:xfrm>
            <a:prstGeom prst="line">
              <a:avLst/>
            </a:prstGeom>
            <a:ln w="5724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3968640" y="5168160"/>
              <a:ext cx="485640" cy="0"/>
            </a:xfrm>
            <a:prstGeom prst="line">
              <a:avLst/>
            </a:prstGeom>
            <a:ln w="5724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 flipV="1">
              <a:off x="4188600" y="4567320"/>
              <a:ext cx="0" cy="344160"/>
            </a:xfrm>
            <a:prstGeom prst="line">
              <a:avLst/>
            </a:prstGeom>
            <a:ln w="381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199040" y="5178960"/>
              <a:ext cx="0" cy="330840"/>
            </a:xfrm>
            <a:prstGeom prst="line">
              <a:avLst/>
            </a:prstGeom>
            <a:ln w="381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9" name=""/>
          <p:cNvSpPr/>
          <p:nvPr/>
        </p:nvSpPr>
        <p:spPr>
          <a:xfrm>
            <a:off x="5060880" y="4791240"/>
            <a:ext cx="0" cy="715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 flipH="1">
            <a:off x="3921120" y="5519880"/>
            <a:ext cx="1139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1" name=""/>
          <p:cNvGrpSpPr/>
          <p:nvPr/>
        </p:nvGrpSpPr>
        <p:grpSpPr>
          <a:xfrm>
            <a:off x="3855960" y="3551400"/>
            <a:ext cx="488520" cy="942480"/>
            <a:chOff x="3855960" y="3551400"/>
            <a:chExt cx="488520" cy="942480"/>
          </a:xfrm>
        </p:grpSpPr>
        <p:sp>
          <p:nvSpPr>
            <p:cNvPr id="682" name=""/>
            <p:cNvSpPr/>
            <p:nvPr/>
          </p:nvSpPr>
          <p:spPr>
            <a:xfrm>
              <a:off x="3859200" y="3906360"/>
              <a:ext cx="485280" cy="0"/>
            </a:xfrm>
            <a:prstGeom prst="line">
              <a:avLst/>
            </a:prstGeom>
            <a:ln w="5724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3855960" y="4152240"/>
              <a:ext cx="485280" cy="0"/>
            </a:xfrm>
            <a:prstGeom prst="line">
              <a:avLst/>
            </a:prstGeom>
            <a:ln w="5724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 flipV="1">
              <a:off x="4075560" y="3551400"/>
              <a:ext cx="0" cy="344160"/>
            </a:xfrm>
            <a:prstGeom prst="line">
              <a:avLst/>
            </a:prstGeom>
            <a:ln w="381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4086360" y="4163040"/>
              <a:ext cx="0" cy="330840"/>
            </a:xfrm>
            <a:prstGeom prst="line">
              <a:avLst/>
            </a:prstGeom>
            <a:ln w="381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6" name=""/>
          <p:cNvGrpSpPr/>
          <p:nvPr/>
        </p:nvGrpSpPr>
        <p:grpSpPr>
          <a:xfrm>
            <a:off x="5460840" y="3583080"/>
            <a:ext cx="488880" cy="942480"/>
            <a:chOff x="5460840" y="3583080"/>
            <a:chExt cx="488880" cy="942480"/>
          </a:xfrm>
        </p:grpSpPr>
        <p:sp>
          <p:nvSpPr>
            <p:cNvPr id="687" name=""/>
            <p:cNvSpPr/>
            <p:nvPr/>
          </p:nvSpPr>
          <p:spPr>
            <a:xfrm>
              <a:off x="5464080" y="3938040"/>
              <a:ext cx="485640" cy="0"/>
            </a:xfrm>
            <a:prstGeom prst="line">
              <a:avLst/>
            </a:prstGeom>
            <a:ln w="5724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5460840" y="4183920"/>
              <a:ext cx="485640" cy="0"/>
            </a:xfrm>
            <a:prstGeom prst="line">
              <a:avLst/>
            </a:prstGeom>
            <a:ln w="5724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 flipV="1">
              <a:off x="5680800" y="3583080"/>
              <a:ext cx="0" cy="344160"/>
            </a:xfrm>
            <a:prstGeom prst="line">
              <a:avLst/>
            </a:prstGeom>
            <a:ln w="381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5691240" y="4194720"/>
              <a:ext cx="0" cy="330840"/>
            </a:xfrm>
            <a:prstGeom prst="line">
              <a:avLst/>
            </a:prstGeom>
            <a:ln w="381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1" name=""/>
          <p:cNvSpPr/>
          <p:nvPr/>
        </p:nvSpPr>
        <p:spPr>
          <a:xfrm>
            <a:off x="4081320" y="3567240"/>
            <a:ext cx="968400" cy="0"/>
          </a:xfrm>
          <a:prstGeom prst="line">
            <a:avLst/>
          </a:prstGeom>
          <a:ln w="381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5062680" y="3567240"/>
            <a:ext cx="622080" cy="0"/>
          </a:xfrm>
          <a:prstGeom prst="line">
            <a:avLst/>
          </a:prstGeom>
          <a:ln w="381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5094360" y="4552920"/>
            <a:ext cx="622080" cy="0"/>
          </a:xfrm>
          <a:prstGeom prst="line">
            <a:avLst/>
          </a:prstGeom>
          <a:ln w="381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6056280" y="3844800"/>
            <a:ext cx="7430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8080"/>
                </a:solidFill>
                <a:latin typeface="Arial"/>
              </a:rPr>
              <a:t>C</a:t>
            </a:r>
            <a:r>
              <a:rPr b="1" lang="es-ES" sz="2000" spc="-1" strike="noStrike" baseline="-25000">
                <a:solidFill>
                  <a:srgbClr val="008080"/>
                </a:solidFill>
                <a:latin typeface="Arial"/>
              </a:rPr>
              <a:t>o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3179880" y="3733920"/>
            <a:ext cx="742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8080"/>
                </a:solidFill>
                <a:latin typeface="Arial"/>
              </a:rPr>
              <a:t>C</a:t>
            </a:r>
            <a:r>
              <a:rPr b="1" lang="es-ES" sz="2000" spc="-1" strike="noStrike" baseline="-25000">
                <a:solidFill>
                  <a:srgbClr val="008080"/>
                </a:solidFill>
                <a:latin typeface="Arial"/>
              </a:rPr>
              <a:t>r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6864480" y="3805200"/>
            <a:ext cx="1484280" cy="642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pacidad de sali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1353960" y="3610080"/>
            <a:ext cx="1697040" cy="6426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pacidad de transferen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8" name="" descr=""/>
          <p:cNvPicPr/>
          <p:nvPr/>
        </p:nvPicPr>
        <p:blipFill>
          <a:blip r:embed="rId1"/>
          <a:stretch/>
        </p:blipFill>
        <p:spPr>
          <a:xfrm>
            <a:off x="843120" y="6051600"/>
            <a:ext cx="7920000" cy="69228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>
            <a:off x="851040" y="5668920"/>
            <a:ext cx="205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lores re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"/>
          <p:cNvSpPr/>
          <p:nvPr/>
        </p:nvSpPr>
        <p:spPr>
          <a:xfrm>
            <a:off x="3206880" y="2951280"/>
            <a:ext cx="1496880" cy="927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1" name=""/>
          <p:cNvGrpSpPr/>
          <p:nvPr/>
        </p:nvGrpSpPr>
        <p:grpSpPr>
          <a:xfrm>
            <a:off x="5845320" y="1414440"/>
            <a:ext cx="2901960" cy="2430360"/>
            <a:chOff x="5845320" y="1414440"/>
            <a:chExt cx="2901960" cy="2430360"/>
          </a:xfrm>
        </p:grpSpPr>
        <p:sp>
          <p:nvSpPr>
            <p:cNvPr id="702" name=""/>
            <p:cNvSpPr/>
            <p:nvPr/>
          </p:nvSpPr>
          <p:spPr>
            <a:xfrm>
              <a:off x="5845320" y="1414440"/>
              <a:ext cx="15120" cy="243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5852520" y="2397240"/>
              <a:ext cx="2677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5845320" y="1816560"/>
              <a:ext cx="2901960" cy="577080"/>
            </a:xfrm>
            <a:custGeom>
              <a:avLst/>
              <a:gdLst/>
              <a:ahLst/>
              <a:rect l="l" t="t" r="r" b="b"/>
              <a:pathLst>
                <a:path w="3224" h="641">
                  <a:moveTo>
                    <a:pt x="0" y="0"/>
                  </a:moveTo>
                  <a:lnTo>
                    <a:pt x="877" y="0"/>
                  </a:lnTo>
                  <a:lnTo>
                    <a:pt x="935" y="641"/>
                  </a:lnTo>
                  <a:lnTo>
                    <a:pt x="2529" y="641"/>
                  </a:lnTo>
                  <a:lnTo>
                    <a:pt x="2573" y="9"/>
                  </a:lnTo>
                  <a:lnTo>
                    <a:pt x="3224" y="9"/>
                  </a:lnTo>
                </a:path>
              </a:pathLst>
            </a:custGeom>
            <a:noFill/>
            <a:ln w="38160">
              <a:solidFill>
                <a:srgbClr val="0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5873760" y="3672720"/>
              <a:ext cx="2677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6634800" y="1816560"/>
              <a:ext cx="0" cy="185724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8173800" y="1816560"/>
              <a:ext cx="0" cy="183456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852520" y="3076920"/>
              <a:ext cx="2716560" cy="581400"/>
            </a:xfrm>
            <a:custGeom>
              <a:avLst/>
              <a:gdLst/>
              <a:ahLst/>
              <a:rect l="l" t="t" r="r" b="b"/>
              <a:pathLst>
                <a:path w="3018" h="646">
                  <a:moveTo>
                    <a:pt x="0" y="646"/>
                  </a:moveTo>
                  <a:lnTo>
                    <a:pt x="869" y="646"/>
                  </a:lnTo>
                  <a:lnTo>
                    <a:pt x="910" y="0"/>
                  </a:lnTo>
                  <a:lnTo>
                    <a:pt x="2538" y="9"/>
                  </a:lnTo>
                  <a:lnTo>
                    <a:pt x="2571" y="635"/>
                  </a:lnTo>
                  <a:lnTo>
                    <a:pt x="3018" y="638"/>
                  </a:lnTo>
                </a:path>
              </a:pathLst>
            </a:custGeom>
            <a:noFill/>
            <a:ln w="381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9" name=""/>
          <p:cNvSpPr/>
          <p:nvPr/>
        </p:nvSpPr>
        <p:spPr>
          <a:xfrm>
            <a:off x="5265720" y="1214280"/>
            <a:ext cx="6238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V</a:t>
            </a:r>
            <a:r>
              <a:rPr b="1" lang="en-US" sz="2000" spc="-1" strike="noStrike" baseline="-25000">
                <a:solidFill>
                  <a:srgbClr val="008080"/>
                </a:solidFill>
                <a:latin typeface="Arial"/>
              </a:rPr>
              <a:t>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501480" y="0"/>
            <a:ext cx="71640" cy="685800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 rot="16200000">
            <a:off x="-2933280" y="3193920"/>
            <a:ext cx="640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EL MOSFET  DE POT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673200" y="0"/>
            <a:ext cx="345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Características dinám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770040" y="517680"/>
            <a:ext cx="7381800" cy="3682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s condensadores influyen fuertemente en las conmutac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5238720" y="2801880"/>
            <a:ext cx="666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V</a:t>
            </a:r>
            <a:r>
              <a:rPr b="1" lang="en-US" sz="2000" spc="-1" strike="noStrike" baseline="-25000">
                <a:solidFill>
                  <a:srgbClr val="a50021"/>
                </a:solidFill>
                <a:latin typeface="Arial"/>
              </a:rPr>
              <a:t>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381400" y="2076480"/>
            <a:ext cx="3902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1299960" y="226548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a50021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3387960" y="23050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a50021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8" name=""/>
          <p:cNvGrpSpPr/>
          <p:nvPr/>
        </p:nvGrpSpPr>
        <p:grpSpPr>
          <a:xfrm>
            <a:off x="2363760" y="2220840"/>
            <a:ext cx="406440" cy="574920"/>
            <a:chOff x="2363760" y="2220840"/>
            <a:chExt cx="406440" cy="574920"/>
          </a:xfrm>
        </p:grpSpPr>
        <p:sp>
          <p:nvSpPr>
            <p:cNvPr id="719" name=""/>
            <p:cNvSpPr/>
            <p:nvPr/>
          </p:nvSpPr>
          <p:spPr>
            <a:xfrm flipV="1">
              <a:off x="2382840" y="2325600"/>
              <a:ext cx="387360" cy="470160"/>
            </a:xfrm>
            <a:custGeom>
              <a:avLst/>
              <a:gdLst/>
              <a:ahLst/>
              <a:rect l="l" t="t" r="r" b="b"/>
              <a:pathLst>
                <a:path w="244" h="296">
                  <a:moveTo>
                    <a:pt x="0" y="296"/>
                  </a:moveTo>
                  <a:lnTo>
                    <a:pt x="244" y="296"/>
                  </a:lnTo>
                  <a:lnTo>
                    <a:pt x="244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2363760" y="2220840"/>
              <a:ext cx="0" cy="247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1" name=""/>
          <p:cNvGrpSpPr/>
          <p:nvPr/>
        </p:nvGrpSpPr>
        <p:grpSpPr>
          <a:xfrm>
            <a:off x="2363760" y="1402560"/>
            <a:ext cx="406440" cy="573840"/>
            <a:chOff x="2363760" y="1402560"/>
            <a:chExt cx="406440" cy="573840"/>
          </a:xfrm>
        </p:grpSpPr>
        <p:sp>
          <p:nvSpPr>
            <p:cNvPr id="722" name=""/>
            <p:cNvSpPr/>
            <p:nvPr/>
          </p:nvSpPr>
          <p:spPr>
            <a:xfrm>
              <a:off x="2382840" y="1402560"/>
              <a:ext cx="387360" cy="469800"/>
            </a:xfrm>
            <a:custGeom>
              <a:avLst/>
              <a:gdLst/>
              <a:ahLst/>
              <a:rect l="l" t="t" r="r" b="b"/>
              <a:pathLst>
                <a:path w="244" h="296">
                  <a:moveTo>
                    <a:pt x="0" y="296"/>
                  </a:moveTo>
                  <a:lnTo>
                    <a:pt x="244" y="296"/>
                  </a:lnTo>
                  <a:lnTo>
                    <a:pt x="244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 flipV="1">
              <a:off x="2363760" y="1729080"/>
              <a:ext cx="0" cy="247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4" name=""/>
          <p:cNvSpPr/>
          <p:nvPr/>
        </p:nvSpPr>
        <p:spPr>
          <a:xfrm>
            <a:off x="2359080" y="2011320"/>
            <a:ext cx="0" cy="15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1644480" y="1725480"/>
            <a:ext cx="590760" cy="723960"/>
          </a:xfrm>
          <a:custGeom>
            <a:avLst/>
            <a:gdLst/>
            <a:ahLst/>
            <a:rect l="l" t="t" r="r" b="b"/>
            <a:pathLst>
              <a:path w="372" h="456">
                <a:moveTo>
                  <a:pt x="372" y="0"/>
                </a:moveTo>
                <a:lnTo>
                  <a:pt x="372" y="456"/>
                </a:lnTo>
                <a:lnTo>
                  <a:pt x="0" y="456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 flipV="1">
            <a:off x="2768760" y="2064960"/>
            <a:ext cx="0" cy="273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1674720" y="2482920"/>
            <a:ext cx="488520" cy="942480"/>
            <a:chOff x="1674720" y="2482920"/>
            <a:chExt cx="488520" cy="942480"/>
          </a:xfrm>
        </p:grpSpPr>
        <p:sp>
          <p:nvSpPr>
            <p:cNvPr id="728" name=""/>
            <p:cNvSpPr/>
            <p:nvPr/>
          </p:nvSpPr>
          <p:spPr>
            <a:xfrm>
              <a:off x="1677960" y="2837880"/>
              <a:ext cx="485280" cy="0"/>
            </a:xfrm>
            <a:prstGeom prst="line">
              <a:avLst/>
            </a:prstGeom>
            <a:ln w="5724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1674720" y="3083760"/>
              <a:ext cx="485280" cy="0"/>
            </a:xfrm>
            <a:prstGeom prst="line">
              <a:avLst/>
            </a:prstGeom>
            <a:ln w="5724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 flipV="1">
              <a:off x="1894320" y="2482920"/>
              <a:ext cx="0" cy="344160"/>
            </a:xfrm>
            <a:prstGeom prst="line">
              <a:avLst/>
            </a:prstGeom>
            <a:ln w="381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1905120" y="3094560"/>
              <a:ext cx="0" cy="330840"/>
            </a:xfrm>
            <a:prstGeom prst="line">
              <a:avLst/>
            </a:prstGeom>
            <a:ln w="381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2" name=""/>
          <p:cNvSpPr/>
          <p:nvPr/>
        </p:nvSpPr>
        <p:spPr>
          <a:xfrm>
            <a:off x="2766960" y="2706840"/>
            <a:ext cx="0" cy="715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 flipH="1">
            <a:off x="1627200" y="3435480"/>
            <a:ext cx="1139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4" name=""/>
          <p:cNvGrpSpPr/>
          <p:nvPr/>
        </p:nvGrpSpPr>
        <p:grpSpPr>
          <a:xfrm>
            <a:off x="1562040" y="1467000"/>
            <a:ext cx="488520" cy="942480"/>
            <a:chOff x="1562040" y="1467000"/>
            <a:chExt cx="488520" cy="942480"/>
          </a:xfrm>
        </p:grpSpPr>
        <p:sp>
          <p:nvSpPr>
            <p:cNvPr id="735" name=""/>
            <p:cNvSpPr/>
            <p:nvPr/>
          </p:nvSpPr>
          <p:spPr>
            <a:xfrm>
              <a:off x="1565280" y="1821960"/>
              <a:ext cx="485280" cy="0"/>
            </a:xfrm>
            <a:prstGeom prst="line">
              <a:avLst/>
            </a:prstGeom>
            <a:ln w="5724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1562040" y="2067840"/>
              <a:ext cx="485280" cy="0"/>
            </a:xfrm>
            <a:prstGeom prst="line">
              <a:avLst/>
            </a:prstGeom>
            <a:ln w="5724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 flipV="1">
              <a:off x="1781640" y="1467000"/>
              <a:ext cx="0" cy="344160"/>
            </a:xfrm>
            <a:prstGeom prst="line">
              <a:avLst/>
            </a:prstGeom>
            <a:ln w="381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1792440" y="2078640"/>
              <a:ext cx="0" cy="330840"/>
            </a:xfrm>
            <a:prstGeom prst="line">
              <a:avLst/>
            </a:prstGeom>
            <a:ln w="381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9" name=""/>
          <p:cNvGrpSpPr/>
          <p:nvPr/>
        </p:nvGrpSpPr>
        <p:grpSpPr>
          <a:xfrm>
            <a:off x="3166920" y="1498680"/>
            <a:ext cx="488880" cy="942480"/>
            <a:chOff x="3166920" y="1498680"/>
            <a:chExt cx="488880" cy="942480"/>
          </a:xfrm>
        </p:grpSpPr>
        <p:sp>
          <p:nvSpPr>
            <p:cNvPr id="740" name=""/>
            <p:cNvSpPr/>
            <p:nvPr/>
          </p:nvSpPr>
          <p:spPr>
            <a:xfrm>
              <a:off x="3170160" y="1853640"/>
              <a:ext cx="485640" cy="0"/>
            </a:xfrm>
            <a:prstGeom prst="line">
              <a:avLst/>
            </a:prstGeom>
            <a:ln w="5724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3166920" y="2099520"/>
              <a:ext cx="485640" cy="0"/>
            </a:xfrm>
            <a:prstGeom prst="line">
              <a:avLst/>
            </a:prstGeom>
            <a:ln w="5724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 flipV="1">
              <a:off x="3386880" y="1498680"/>
              <a:ext cx="0" cy="344160"/>
            </a:xfrm>
            <a:prstGeom prst="line">
              <a:avLst/>
            </a:prstGeom>
            <a:ln w="381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3397320" y="2110320"/>
              <a:ext cx="0" cy="330840"/>
            </a:xfrm>
            <a:prstGeom prst="line">
              <a:avLst/>
            </a:prstGeom>
            <a:ln w="38160">
              <a:solidFill>
                <a:srgbClr val="0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4" name=""/>
          <p:cNvSpPr/>
          <p:nvPr/>
        </p:nvSpPr>
        <p:spPr>
          <a:xfrm>
            <a:off x="1787400" y="1482840"/>
            <a:ext cx="968400" cy="0"/>
          </a:xfrm>
          <a:prstGeom prst="line">
            <a:avLst/>
          </a:prstGeom>
          <a:ln w="381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2768760" y="1482840"/>
            <a:ext cx="622080" cy="0"/>
          </a:xfrm>
          <a:prstGeom prst="line">
            <a:avLst/>
          </a:prstGeom>
          <a:ln w="381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2800440" y="2468520"/>
            <a:ext cx="622080" cy="0"/>
          </a:xfrm>
          <a:prstGeom prst="line">
            <a:avLst/>
          </a:prstGeom>
          <a:ln w="381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3762360" y="1760400"/>
            <a:ext cx="7430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8080"/>
                </a:solidFill>
                <a:latin typeface="Arial"/>
              </a:rPr>
              <a:t>C</a:t>
            </a:r>
            <a:r>
              <a:rPr b="1" lang="es-ES" sz="2000" spc="-1" strike="noStrike" baseline="-25000">
                <a:solidFill>
                  <a:srgbClr val="008080"/>
                </a:solidFill>
                <a:latin typeface="Arial"/>
              </a:rPr>
              <a:t>o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885960" y="1649520"/>
            <a:ext cx="7426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8080"/>
                </a:solidFill>
                <a:latin typeface="Arial"/>
              </a:rPr>
              <a:t>C</a:t>
            </a:r>
            <a:r>
              <a:rPr b="1" lang="es-ES" sz="2000" spc="-1" strike="noStrike" baseline="-25000">
                <a:solidFill>
                  <a:srgbClr val="008080"/>
                </a:solidFill>
                <a:latin typeface="Arial"/>
              </a:rPr>
              <a:t>r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 flipV="1">
            <a:off x="4413240" y="1545840"/>
            <a:ext cx="0" cy="927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 flipV="1">
            <a:off x="1276200" y="2503080"/>
            <a:ext cx="0" cy="927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4405320" y="1863720"/>
            <a:ext cx="6238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V</a:t>
            </a:r>
            <a:r>
              <a:rPr b="1" lang="en-US" sz="2000" spc="-1" strike="noStrike" baseline="-25000">
                <a:solidFill>
                  <a:srgbClr val="008080"/>
                </a:solidFill>
                <a:latin typeface="Arial"/>
              </a:rPr>
              <a:t>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700200" y="2674800"/>
            <a:ext cx="666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V</a:t>
            </a:r>
            <a:r>
              <a:rPr b="1" lang="en-US" sz="2000" spc="-1" strike="noStrike" baseline="-25000">
                <a:solidFill>
                  <a:srgbClr val="a50021"/>
                </a:solidFill>
                <a:latin typeface="Arial"/>
              </a:rPr>
              <a:t>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2602080" y="10368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a50021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6051600" y="1336680"/>
            <a:ext cx="11271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8080"/>
                </a:solidFill>
                <a:latin typeface="Arial"/>
              </a:rPr>
              <a:t>V</a:t>
            </a:r>
            <a:r>
              <a:rPr b="1" lang="es-ES" sz="2000" spc="-1" strike="noStrike" baseline="-25000">
                <a:solidFill>
                  <a:srgbClr val="008080"/>
                </a:solidFill>
                <a:latin typeface="Arial"/>
              </a:rPr>
              <a:t>DSma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596880" y="3971880"/>
            <a:ext cx="833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 necesita una cierta cantidad de energía para cargar los condensad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6" name=""/>
              <p:cNvSpPr txBox="1"/>
              <p:nvPr/>
            </p:nvSpPr>
            <p:spPr>
              <a:xfrm>
                <a:off x="3476520" y="3108240"/>
                <a:ext cx="1060560" cy="58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oss</m:t>
                        </m:r>
                      </m:sub>
                    </m:sSub>
                    <m:r>
                      <m:t xml:space="preserve">·</m:t>
                    </m:r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GS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757" name=""/>
          <p:cNvSpPr/>
          <p:nvPr/>
        </p:nvSpPr>
        <p:spPr>
          <a:xfrm>
            <a:off x="3365640" y="2552760"/>
            <a:ext cx="220680" cy="385560"/>
          </a:xfrm>
          <a:prstGeom prst="line">
            <a:avLst/>
          </a:prstGeom>
          <a:ln w="7632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754200" y="4678200"/>
            <a:ext cx="1682640" cy="36828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Efecto Mill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6916680" y="1670040"/>
            <a:ext cx="345960" cy="411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7102440" y="2076480"/>
            <a:ext cx="58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Arial"/>
              </a:rPr>
              <a:t>0 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2529000" y="4557600"/>
            <a:ext cx="644184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l cargar el condensador de puerta se produce un cambio en la impedancia del condensador C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Arial"/>
              </a:rPr>
              <a:t>rss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5327640" y="5234040"/>
            <a:ext cx="0" cy="1404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5313240" y="6413400"/>
            <a:ext cx="2638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5313240" y="5354640"/>
            <a:ext cx="2678400" cy="1058760"/>
          </a:xfrm>
          <a:custGeom>
            <a:avLst/>
            <a:gdLst/>
            <a:ahLst/>
            <a:rect l="l" t="t" r="r" b="b"/>
            <a:pathLst>
              <a:path w="1687" h="667">
                <a:moveTo>
                  <a:pt x="0" y="667"/>
                </a:moveTo>
                <a:lnTo>
                  <a:pt x="268" y="308"/>
                </a:lnTo>
                <a:lnTo>
                  <a:pt x="794" y="308"/>
                </a:lnTo>
                <a:lnTo>
                  <a:pt x="1102" y="0"/>
                </a:lnTo>
                <a:lnTo>
                  <a:pt x="1687" y="0"/>
                </a:lnTo>
              </a:path>
            </a:pathLst>
          </a:custGeom>
          <a:noFill/>
          <a:ln w="38160">
            <a:solidFill>
              <a:srgbClr val="a5002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4632480" y="5126040"/>
            <a:ext cx="666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Arial"/>
              </a:rPr>
              <a:t>V</a:t>
            </a:r>
            <a:r>
              <a:rPr b="1" lang="en-US" sz="2000" spc="-1" strike="noStrike" baseline="-25000">
                <a:solidFill>
                  <a:srgbClr val="a50021"/>
                </a:solidFill>
                <a:latin typeface="Arial"/>
              </a:rPr>
              <a:t>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822240" y="5683320"/>
            <a:ext cx="334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ma de onda que genera este cambio de impedan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4038480" y="5835600"/>
            <a:ext cx="582840" cy="357120"/>
          </a:xfrm>
          <a:prstGeom prst="rightArrow">
            <a:avLst>
              <a:gd name="adj1" fmla="val 50000"/>
              <a:gd name="adj2" fmla="val 40801"/>
            </a:avLst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7383600" y="5962680"/>
            <a:ext cx="7142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G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 flipH="1" flipV="1">
            <a:off x="6268680" y="5923080"/>
            <a:ext cx="1033560" cy="279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"/>
          <p:cNvSpPr/>
          <p:nvPr/>
        </p:nvSpPr>
        <p:spPr>
          <a:xfrm>
            <a:off x="2954160" y="4253040"/>
            <a:ext cx="3418200" cy="15364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2278080" y="1174680"/>
            <a:ext cx="14400" cy="229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2292480" y="3252960"/>
            <a:ext cx="47228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2279520" y="1658880"/>
            <a:ext cx="5118120" cy="1584360"/>
          </a:xfrm>
          <a:custGeom>
            <a:avLst/>
            <a:gdLst/>
            <a:ahLst/>
            <a:rect l="l" t="t" r="r" b="b"/>
            <a:pathLst>
              <a:path w="3224" h="998">
                <a:moveTo>
                  <a:pt x="0" y="0"/>
                </a:moveTo>
                <a:lnTo>
                  <a:pt x="877" y="0"/>
                </a:lnTo>
                <a:lnTo>
                  <a:pt x="1246" y="998"/>
                </a:lnTo>
                <a:lnTo>
                  <a:pt x="2209" y="998"/>
                </a:lnTo>
                <a:lnTo>
                  <a:pt x="2963" y="17"/>
                </a:lnTo>
                <a:lnTo>
                  <a:pt x="3224" y="14"/>
                </a:lnTo>
              </a:path>
            </a:pathLst>
          </a:custGeom>
          <a:noFill/>
          <a:ln w="3816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2425680" y="1119240"/>
            <a:ext cx="889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80"/>
                </a:solidFill>
                <a:latin typeface="Arial"/>
              </a:rPr>
              <a:t>V</a:t>
            </a:r>
            <a:r>
              <a:rPr b="1" lang="en-US" sz="2400" spc="-1" strike="noStrike" baseline="-25000">
                <a:solidFill>
                  <a:srgbClr val="008080"/>
                </a:solidFill>
                <a:latin typeface="Arial"/>
              </a:rPr>
              <a:t>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3805200" y="3686040"/>
            <a:ext cx="504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s-ES" sz="20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6039000" y="3670200"/>
            <a:ext cx="70308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6203880" y="3672000"/>
            <a:ext cx="504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s-ES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655560" y="596880"/>
            <a:ext cx="4505400" cy="36828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finición de tiempos de conmut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501480" y="0"/>
            <a:ext cx="71640" cy="685800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 rot="16200000">
            <a:off x="-2933280" y="3193920"/>
            <a:ext cx="640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EL MOSFET  DE POT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673200" y="0"/>
            <a:ext cx="345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Características dinám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2347920" y="1650960"/>
            <a:ext cx="4791240" cy="1589040"/>
          </a:xfrm>
          <a:custGeom>
            <a:avLst/>
            <a:gdLst/>
            <a:ahLst/>
            <a:rect l="l" t="t" r="r" b="b"/>
            <a:pathLst>
              <a:path w="3018" h="1001">
                <a:moveTo>
                  <a:pt x="0" y="1001"/>
                </a:moveTo>
                <a:lnTo>
                  <a:pt x="575" y="999"/>
                </a:lnTo>
                <a:lnTo>
                  <a:pt x="1230" y="0"/>
                </a:lnTo>
                <a:lnTo>
                  <a:pt x="1810" y="5"/>
                </a:lnTo>
                <a:lnTo>
                  <a:pt x="2541" y="988"/>
                </a:lnTo>
                <a:lnTo>
                  <a:pt x="3018" y="988"/>
                </a:lnTo>
              </a:path>
            </a:pathLst>
          </a:custGeom>
          <a:noFill/>
          <a:ln w="38160">
            <a:solidFill>
              <a:srgbClr val="a5002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4354560" y="1114560"/>
            <a:ext cx="888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V</a:t>
            </a:r>
            <a:r>
              <a:rPr b="1" lang="en-US" sz="2400" spc="-1" strike="noStrike" baseline="-25000">
                <a:solidFill>
                  <a:srgbClr val="a50021"/>
                </a:solidFill>
                <a:latin typeface="Arial"/>
              </a:rPr>
              <a:t>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2265480" y="1978200"/>
            <a:ext cx="514188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2290680" y="2943360"/>
            <a:ext cx="514188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1684440" y="2719440"/>
            <a:ext cx="82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1646280" y="1760400"/>
            <a:ext cx="82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9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3459240" y="2932200"/>
            <a:ext cx="0" cy="714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3776760" y="1963800"/>
            <a:ext cx="0" cy="1697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4140360" y="2936880"/>
            <a:ext cx="0" cy="714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3440160" y="3651120"/>
            <a:ext cx="33336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3800520" y="3641760"/>
            <a:ext cx="33336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3166920" y="3670200"/>
            <a:ext cx="7048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s-ES" sz="2000" spc="-1" strike="noStrike" baseline="-25000">
                <a:solidFill>
                  <a:srgbClr val="000000"/>
                </a:solidFill>
                <a:latin typeface="Arial"/>
              </a:rPr>
              <a:t>d(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5392800" y="3678120"/>
            <a:ext cx="7048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s-ES" sz="2000" spc="-1" strike="noStrike" baseline="-25000">
                <a:solidFill>
                  <a:srgbClr val="000000"/>
                </a:solidFill>
                <a:latin typeface="Arial"/>
              </a:rPr>
              <a:t>d(off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5446800" y="1963800"/>
            <a:ext cx="0" cy="1697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6016680" y="2944800"/>
            <a:ext cx="0" cy="768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6762600" y="1994040"/>
            <a:ext cx="0" cy="1697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5446800" y="3673440"/>
            <a:ext cx="55728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3040200" y="4624560"/>
            <a:ext cx="3222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: tiempo de baja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3041640" y="4248000"/>
            <a:ext cx="2639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: tiempo de subid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3036960" y="5011560"/>
            <a:ext cx="3476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Arial"/>
              </a:rPr>
              <a:t>d(on)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: Retraso de encendi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3036960" y="5416560"/>
            <a:ext cx="3779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Arial"/>
              </a:rPr>
              <a:t>d(off)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: Retraso de apag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3" name="" descr=""/>
          <p:cNvPicPr/>
          <p:nvPr/>
        </p:nvPicPr>
        <p:blipFill>
          <a:blip r:embed="rId1"/>
          <a:stretch/>
        </p:blipFill>
        <p:spPr>
          <a:xfrm>
            <a:off x="660240" y="5896080"/>
            <a:ext cx="8331480" cy="88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"/>
          <p:cNvSpPr/>
          <p:nvPr/>
        </p:nvSpPr>
        <p:spPr>
          <a:xfrm>
            <a:off x="2278080" y="1238400"/>
            <a:ext cx="33480" cy="5319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2292480" y="3811680"/>
            <a:ext cx="47228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2279520" y="2720880"/>
            <a:ext cx="5118120" cy="1092240"/>
          </a:xfrm>
          <a:custGeom>
            <a:avLst/>
            <a:gdLst/>
            <a:ahLst/>
            <a:rect l="l" t="t" r="r" b="b"/>
            <a:pathLst>
              <a:path w="3224" h="688">
                <a:moveTo>
                  <a:pt x="0" y="0"/>
                </a:moveTo>
                <a:lnTo>
                  <a:pt x="977" y="4"/>
                </a:lnTo>
                <a:lnTo>
                  <a:pt x="1143" y="680"/>
                </a:lnTo>
                <a:lnTo>
                  <a:pt x="2396" y="688"/>
                </a:lnTo>
                <a:lnTo>
                  <a:pt x="2604" y="20"/>
                </a:lnTo>
                <a:lnTo>
                  <a:pt x="3224" y="10"/>
                </a:lnTo>
              </a:path>
            </a:pathLst>
          </a:custGeom>
          <a:noFill/>
          <a:ln w="3816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2330280" y="5083200"/>
            <a:ext cx="47228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3494160" y="2233440"/>
            <a:ext cx="0" cy="40212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6716880" y="2219400"/>
            <a:ext cx="0" cy="40338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2292480" y="4054320"/>
            <a:ext cx="4790880" cy="1006560"/>
          </a:xfrm>
          <a:custGeom>
            <a:avLst/>
            <a:gdLst/>
            <a:ahLst/>
            <a:rect l="l" t="t" r="r" b="b"/>
            <a:pathLst>
              <a:path w="3018" h="634">
                <a:moveTo>
                  <a:pt x="0" y="632"/>
                </a:moveTo>
                <a:lnTo>
                  <a:pt x="751" y="634"/>
                </a:lnTo>
                <a:lnTo>
                  <a:pt x="969" y="16"/>
                </a:lnTo>
                <a:lnTo>
                  <a:pt x="2596" y="0"/>
                </a:lnTo>
                <a:lnTo>
                  <a:pt x="2780" y="617"/>
                </a:lnTo>
                <a:lnTo>
                  <a:pt x="3018" y="624"/>
                </a:lnTo>
              </a:path>
            </a:pathLst>
          </a:custGeom>
          <a:noFill/>
          <a:ln w="38160">
            <a:solidFill>
              <a:srgbClr val="a5002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3836880" y="1854360"/>
            <a:ext cx="0" cy="34290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6434280" y="1879560"/>
            <a:ext cx="0" cy="33908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1538280" y="2394000"/>
            <a:ext cx="888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80"/>
                </a:solidFill>
                <a:latin typeface="Arial"/>
              </a:rPr>
              <a:t>V</a:t>
            </a:r>
            <a:r>
              <a:rPr b="1" lang="en-US" sz="2400" spc="-1" strike="noStrike" baseline="-25000">
                <a:solidFill>
                  <a:srgbClr val="008080"/>
                </a:solidFill>
                <a:latin typeface="Arial"/>
              </a:rPr>
              <a:t>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1851120" y="3878280"/>
            <a:ext cx="654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I</a:t>
            </a:r>
            <a:r>
              <a:rPr b="1" lang="en-US" sz="2400" spc="-1" strike="noStrike" baseline="-25000">
                <a:solidFill>
                  <a:srgbClr val="a50021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7261200" y="5578560"/>
            <a:ext cx="144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50021"/>
                </a:solidFill>
                <a:latin typeface="Arial"/>
              </a:rPr>
              <a:t>PÉRDI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655560" y="334800"/>
            <a:ext cx="608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s conmutaciones no son ide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urante un cierto tiempo conviven tensión y corri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501480" y="0"/>
            <a:ext cx="71640" cy="685800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 rot="16200000">
            <a:off x="-2933280" y="3193920"/>
            <a:ext cx="640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EL MOSFET  DE POT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673200" y="0"/>
            <a:ext cx="345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Características dinám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1544760" y="1150920"/>
            <a:ext cx="888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V</a:t>
            </a:r>
            <a:r>
              <a:rPr b="1" lang="en-US" sz="2400" spc="-1" strike="noStrike" baseline="-25000">
                <a:solidFill>
                  <a:srgbClr val="ffcc00"/>
                </a:solidFill>
                <a:latin typeface="Arial"/>
              </a:rPr>
              <a:t>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2282760" y="2414520"/>
            <a:ext cx="47228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2279520" y="1351080"/>
            <a:ext cx="4173840" cy="1035000"/>
          </a:xfrm>
          <a:custGeom>
            <a:avLst/>
            <a:gdLst/>
            <a:ahLst/>
            <a:rect l="l" t="t" r="r" b="b"/>
            <a:pathLst>
              <a:path w="2629" h="652">
                <a:moveTo>
                  <a:pt x="0" y="652"/>
                </a:moveTo>
                <a:lnTo>
                  <a:pt x="668" y="652"/>
                </a:lnTo>
                <a:lnTo>
                  <a:pt x="960" y="334"/>
                </a:lnTo>
                <a:lnTo>
                  <a:pt x="1152" y="334"/>
                </a:lnTo>
                <a:lnTo>
                  <a:pt x="1302" y="0"/>
                </a:lnTo>
                <a:lnTo>
                  <a:pt x="2212" y="9"/>
                </a:lnTo>
                <a:lnTo>
                  <a:pt x="2379" y="326"/>
                </a:lnTo>
                <a:lnTo>
                  <a:pt x="2629" y="326"/>
                </a:lnTo>
              </a:path>
            </a:pathLst>
          </a:custGeom>
          <a:noFill/>
          <a:ln w="5724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2292480" y="2208240"/>
            <a:ext cx="437184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1263600" y="1866960"/>
            <a:ext cx="928800" cy="4406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1" lang="es-ES" sz="2000" spc="-1" strike="noStrike" baseline="-25000">
                <a:solidFill>
                  <a:srgbClr val="000000"/>
                </a:solidFill>
                <a:latin typeface="Arial"/>
              </a:rPr>
              <a:t>GS(th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6427800" y="1881360"/>
            <a:ext cx="396720" cy="517320"/>
          </a:xfrm>
          <a:prstGeom prst="line">
            <a:avLst/>
          </a:prstGeom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6824520" y="2398680"/>
            <a:ext cx="663840" cy="0"/>
          </a:xfrm>
          <a:prstGeom prst="line">
            <a:avLst/>
          </a:prstGeom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4108320" y="1895400"/>
            <a:ext cx="0" cy="43340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6066000" y="1866960"/>
            <a:ext cx="0" cy="44006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2293920" y="6267600"/>
            <a:ext cx="47228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1352520" y="5219640"/>
            <a:ext cx="1046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Arial"/>
              </a:rPr>
              <a:t>Mosf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2306520" y="5273640"/>
            <a:ext cx="4743720" cy="968400"/>
          </a:xfrm>
          <a:custGeom>
            <a:avLst/>
            <a:gdLst/>
            <a:ahLst/>
            <a:rect l="l" t="t" r="r" b="b"/>
            <a:pathLst>
              <a:path w="2988" h="610">
                <a:moveTo>
                  <a:pt x="0" y="601"/>
                </a:moveTo>
                <a:lnTo>
                  <a:pt x="742" y="601"/>
                </a:lnTo>
                <a:lnTo>
                  <a:pt x="960" y="0"/>
                </a:lnTo>
                <a:lnTo>
                  <a:pt x="1123" y="610"/>
                </a:lnTo>
                <a:lnTo>
                  <a:pt x="2362" y="610"/>
                </a:lnTo>
                <a:lnTo>
                  <a:pt x="2596" y="9"/>
                </a:lnTo>
                <a:lnTo>
                  <a:pt x="2771" y="610"/>
                </a:lnTo>
                <a:lnTo>
                  <a:pt x="2988" y="61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3525840" y="5313240"/>
            <a:ext cx="568440" cy="928800"/>
          </a:xfrm>
          <a:custGeom>
            <a:avLst/>
            <a:gdLst/>
            <a:ahLst/>
            <a:rect l="l" t="t" r="r" b="b"/>
            <a:pathLst>
              <a:path w="375" h="585">
                <a:moveTo>
                  <a:pt x="0" y="576"/>
                </a:moveTo>
                <a:lnTo>
                  <a:pt x="200" y="0"/>
                </a:lnTo>
                <a:lnTo>
                  <a:pt x="375" y="585"/>
                </a:lnTo>
                <a:lnTo>
                  <a:pt x="175" y="585"/>
                </a:lnTo>
                <a:lnTo>
                  <a:pt x="0" y="576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6100920" y="5330880"/>
            <a:ext cx="595080" cy="928800"/>
          </a:xfrm>
          <a:custGeom>
            <a:avLst/>
            <a:gdLst/>
            <a:ahLst/>
            <a:rect l="l" t="t" r="r" b="b"/>
            <a:pathLst>
              <a:path w="375" h="585">
                <a:moveTo>
                  <a:pt x="0" y="576"/>
                </a:moveTo>
                <a:lnTo>
                  <a:pt x="200" y="0"/>
                </a:lnTo>
                <a:lnTo>
                  <a:pt x="375" y="585"/>
                </a:lnTo>
                <a:lnTo>
                  <a:pt x="175" y="585"/>
                </a:lnTo>
                <a:lnTo>
                  <a:pt x="0" y="576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06800" y="1495440"/>
            <a:ext cx="4860720" cy="158436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46080" y="2028960"/>
            <a:ext cx="14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Arial"/>
              </a:rPr>
              <a:t>TEMA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567160" y="1531800"/>
            <a:ext cx="4429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arte 1: Introduc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Parte 2: Dispositivos de Poten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arte 3: Conversiones Energétic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arte 4: Aplicac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arte 5: Normati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55640" y="0"/>
            <a:ext cx="71280" cy="685800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6200000">
            <a:off x="-2818800" y="3193920"/>
            <a:ext cx="640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ELECTRÓNICA DE POT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88840" y="38160"/>
            <a:ext cx="3492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lectrónica Indust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imer Cuatrimest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146320" y="1066680"/>
            <a:ext cx="355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Arial"/>
              </a:rPr>
              <a:t>Electrónica de Poten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873080" y="3406680"/>
            <a:ext cx="5653080" cy="32767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017800" y="3587760"/>
            <a:ext cx="611964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Lección 4:   Diodos de Poten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Lección 5:   El Transistor bipolar de Poten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Lección 6:   El MOSFET de Poten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Lección 7:   El IGB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Lección 8:   Tirist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Lección 9:   Circuitos de control y gobier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Lección 10: Protección eléctrica de semiconduct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Lección 11: Protección térmica de semiconduct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Lección 12: Resistencias y condensadores de poten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Lección 13: Bobin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Lección 14: Transformad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60520" y="4119480"/>
            <a:ext cx="6502320" cy="292320"/>
          </a:xfrm>
          <a:prstGeom prst="rect">
            <a:avLst/>
          </a:prstGeom>
          <a:noFill/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"/>
          <p:cNvSpPr/>
          <p:nvPr/>
        </p:nvSpPr>
        <p:spPr>
          <a:xfrm>
            <a:off x="673200" y="0"/>
            <a:ext cx="351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Características dinám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501480" y="0"/>
            <a:ext cx="71640" cy="685800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 rot="16200000">
            <a:off x="-2933280" y="3193920"/>
            <a:ext cx="640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EL MOSFET  DE POT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689040" y="622440"/>
            <a:ext cx="390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érdidas de conduc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771480" y="3613320"/>
            <a:ext cx="390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érdidas de conmut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9" name=""/>
          <p:cNvGrpSpPr/>
          <p:nvPr/>
        </p:nvGrpSpPr>
        <p:grpSpPr>
          <a:xfrm>
            <a:off x="860040" y="1035000"/>
            <a:ext cx="1553760" cy="1526400"/>
            <a:chOff x="860040" y="1035000"/>
            <a:chExt cx="1553760" cy="1526400"/>
          </a:xfrm>
        </p:grpSpPr>
        <p:sp>
          <p:nvSpPr>
            <p:cNvPr id="840" name=""/>
            <p:cNvSpPr/>
            <p:nvPr/>
          </p:nvSpPr>
          <p:spPr>
            <a:xfrm>
              <a:off x="1644480" y="1774800"/>
              <a:ext cx="390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860040" y="173016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a50021"/>
                  </a:solidFill>
                  <a:latin typeface="Arial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013480" y="10350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a50021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2009880" y="21016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a50021"/>
                  </a:solidFill>
                  <a:latin typeface="Arial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44" name=""/>
            <p:cNvGrpSpPr/>
            <p:nvPr/>
          </p:nvGrpSpPr>
          <p:grpSpPr>
            <a:xfrm>
              <a:off x="1627200" y="1919160"/>
              <a:ext cx="406440" cy="573840"/>
              <a:chOff x="1627200" y="1919160"/>
              <a:chExt cx="406440" cy="573840"/>
            </a:xfrm>
          </p:grpSpPr>
          <p:sp>
            <p:nvSpPr>
              <p:cNvPr id="845" name=""/>
              <p:cNvSpPr/>
              <p:nvPr/>
            </p:nvSpPr>
            <p:spPr>
              <a:xfrm flipV="1">
                <a:off x="1646280" y="2022840"/>
                <a:ext cx="387360" cy="469800"/>
              </a:xfrm>
              <a:custGeom>
                <a:avLst/>
                <a:gdLst/>
                <a:ahLst/>
                <a:rect l="l" t="t" r="r" b="b"/>
                <a:pathLst>
                  <a:path w="244" h="296">
                    <a:moveTo>
                      <a:pt x="0" y="296"/>
                    </a:moveTo>
                    <a:lnTo>
                      <a:pt x="244" y="296"/>
                    </a:lnTo>
                    <a:lnTo>
                      <a:pt x="244" y="0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1627200" y="1919160"/>
                <a:ext cx="0" cy="247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7" name=""/>
            <p:cNvGrpSpPr/>
            <p:nvPr/>
          </p:nvGrpSpPr>
          <p:grpSpPr>
            <a:xfrm>
              <a:off x="1627200" y="1099440"/>
              <a:ext cx="406440" cy="574920"/>
              <a:chOff x="1627200" y="1099440"/>
              <a:chExt cx="406440" cy="574920"/>
            </a:xfrm>
          </p:grpSpPr>
          <p:sp>
            <p:nvSpPr>
              <p:cNvPr id="848" name=""/>
              <p:cNvSpPr/>
              <p:nvPr/>
            </p:nvSpPr>
            <p:spPr>
              <a:xfrm>
                <a:off x="1646280" y="1099440"/>
                <a:ext cx="387360" cy="470160"/>
              </a:xfrm>
              <a:custGeom>
                <a:avLst/>
                <a:gdLst/>
                <a:ahLst/>
                <a:rect l="l" t="t" r="r" b="b"/>
                <a:pathLst>
                  <a:path w="244" h="296">
                    <a:moveTo>
                      <a:pt x="0" y="296"/>
                    </a:moveTo>
                    <a:lnTo>
                      <a:pt x="244" y="296"/>
                    </a:lnTo>
                    <a:lnTo>
                      <a:pt x="244" y="0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V="1">
                <a:off x="1627200" y="1426680"/>
                <a:ext cx="0" cy="247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0" name=""/>
            <p:cNvSpPr/>
            <p:nvPr/>
          </p:nvSpPr>
          <p:spPr>
            <a:xfrm>
              <a:off x="1622520" y="170964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907920" y="1423800"/>
              <a:ext cx="590760" cy="723960"/>
            </a:xfrm>
            <a:custGeom>
              <a:avLst/>
              <a:gdLst/>
              <a:ahLst/>
              <a:rect l="l" t="t" r="r" b="b"/>
              <a:pathLst>
                <a:path w="372" h="456">
                  <a:moveTo>
                    <a:pt x="372" y="0"/>
                  </a:moveTo>
                  <a:lnTo>
                    <a:pt x="372" y="456"/>
                  </a:lnTo>
                  <a:lnTo>
                    <a:pt x="0" y="45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 flipV="1">
              <a:off x="2031840" y="1763640"/>
              <a:ext cx="0" cy="272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3" name=""/>
          <p:cNvSpPr/>
          <p:nvPr/>
        </p:nvSpPr>
        <p:spPr>
          <a:xfrm>
            <a:off x="2502000" y="1628640"/>
            <a:ext cx="649080" cy="384480"/>
          </a:xfrm>
          <a:prstGeom prst="leftRightArrow">
            <a:avLst>
              <a:gd name="adj1" fmla="val 50000"/>
              <a:gd name="adj2" fmla="val 33608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4" name=""/>
          <p:cNvGrpSpPr/>
          <p:nvPr/>
        </p:nvGrpSpPr>
        <p:grpSpPr>
          <a:xfrm>
            <a:off x="3252960" y="1373760"/>
            <a:ext cx="391680" cy="951840"/>
            <a:chOff x="3252960" y="1373760"/>
            <a:chExt cx="391680" cy="951840"/>
          </a:xfrm>
        </p:grpSpPr>
        <p:sp>
          <p:nvSpPr>
            <p:cNvPr id="855" name=""/>
            <p:cNvSpPr/>
            <p:nvPr/>
          </p:nvSpPr>
          <p:spPr>
            <a:xfrm flipH="1" flipV="1">
              <a:off x="3252960" y="2072520"/>
              <a:ext cx="182880" cy="1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 flipH="1">
              <a:off x="3259800" y="1945800"/>
              <a:ext cx="376200" cy="128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 flipH="1" flipV="1">
              <a:off x="3270600" y="1884960"/>
              <a:ext cx="374040" cy="62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58" name=""/>
            <p:cNvGrpSpPr/>
            <p:nvPr/>
          </p:nvGrpSpPr>
          <p:grpSpPr>
            <a:xfrm>
              <a:off x="3253320" y="1574280"/>
              <a:ext cx="382680" cy="186120"/>
              <a:chOff x="3253320" y="1574280"/>
              <a:chExt cx="382680" cy="186120"/>
            </a:xfrm>
          </p:grpSpPr>
          <p:sp>
            <p:nvSpPr>
              <p:cNvPr id="859" name=""/>
              <p:cNvSpPr/>
              <p:nvPr/>
            </p:nvSpPr>
            <p:spPr>
              <a:xfrm flipH="1">
                <a:off x="3253320" y="1574280"/>
                <a:ext cx="374400" cy="1263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flipH="1" flipV="1">
                <a:off x="3260160" y="1698120"/>
                <a:ext cx="375840" cy="622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61" name=""/>
            <p:cNvSpPr/>
            <p:nvPr/>
          </p:nvSpPr>
          <p:spPr>
            <a:xfrm flipH="1">
              <a:off x="3270600" y="1758600"/>
              <a:ext cx="374040" cy="128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 flipH="1" flipV="1">
              <a:off x="3453480" y="1556640"/>
              <a:ext cx="180720" cy="1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450960" y="2087280"/>
              <a:ext cx="0" cy="23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3440160" y="1373760"/>
              <a:ext cx="0" cy="191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5" name=""/>
          <p:cNvSpPr/>
          <p:nvPr/>
        </p:nvSpPr>
        <p:spPr>
          <a:xfrm>
            <a:off x="3814920" y="1587600"/>
            <a:ext cx="1298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a50021"/>
                </a:solidFill>
                <a:latin typeface="Arial"/>
              </a:rPr>
              <a:t>R</a:t>
            </a:r>
            <a:r>
              <a:rPr b="1" lang="es-ES" sz="2400" spc="-1" strike="noStrike" baseline="-25000">
                <a:solidFill>
                  <a:srgbClr val="a50021"/>
                </a:solidFill>
                <a:latin typeface="Arial"/>
              </a:rPr>
              <a:t>D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5880240" y="884160"/>
            <a:ext cx="653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I</a:t>
            </a:r>
            <a:r>
              <a:rPr b="1" lang="en-US" sz="2400" spc="-1" strike="noStrike" baseline="-25000">
                <a:solidFill>
                  <a:srgbClr val="a50021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6283440" y="1152000"/>
            <a:ext cx="2496960" cy="1219320"/>
            <a:chOff x="6283440" y="1152000"/>
            <a:chExt cx="2496960" cy="1219320"/>
          </a:xfrm>
        </p:grpSpPr>
        <p:sp>
          <p:nvSpPr>
            <p:cNvPr id="868" name=""/>
            <p:cNvSpPr/>
            <p:nvPr/>
          </p:nvSpPr>
          <p:spPr>
            <a:xfrm>
              <a:off x="6283440" y="2192040"/>
              <a:ext cx="24969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292800" y="1389600"/>
              <a:ext cx="1375200" cy="784800"/>
            </a:xfrm>
            <a:custGeom>
              <a:avLst/>
              <a:gdLst/>
              <a:ahLst/>
              <a:rect l="l" t="t" r="r" b="b"/>
              <a:pathLst>
                <a:path w="3018" h="634">
                  <a:moveTo>
                    <a:pt x="0" y="632"/>
                  </a:moveTo>
                  <a:lnTo>
                    <a:pt x="751" y="634"/>
                  </a:lnTo>
                  <a:lnTo>
                    <a:pt x="969" y="16"/>
                  </a:lnTo>
                  <a:lnTo>
                    <a:pt x="2596" y="0"/>
                  </a:lnTo>
                  <a:lnTo>
                    <a:pt x="2780" y="617"/>
                  </a:lnTo>
                  <a:lnTo>
                    <a:pt x="3018" y="624"/>
                  </a:lnTo>
                </a:path>
              </a:pathLst>
            </a:custGeom>
            <a:noFill/>
            <a:ln w="38160">
              <a:solidFill>
                <a:srgbClr val="a5002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7575120" y="2165040"/>
              <a:ext cx="1058040" cy="0"/>
            </a:xfrm>
            <a:prstGeom prst="line">
              <a:avLst/>
            </a:prstGeom>
            <a:ln w="381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 flipV="1">
              <a:off x="6284880" y="1152000"/>
              <a:ext cx="0" cy="1219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2" name=""/>
          <p:cNvSpPr/>
          <p:nvPr/>
        </p:nvSpPr>
        <p:spPr>
          <a:xfrm>
            <a:off x="6638760" y="2425680"/>
            <a:ext cx="201456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7448400" y="2413080"/>
            <a:ext cx="57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8640720" y="2160720"/>
            <a:ext cx="0" cy="3571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6616800" y="2179800"/>
            <a:ext cx="0" cy="3571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3379680" y="2651040"/>
            <a:ext cx="2718000" cy="4406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s-ES" sz="2000" spc="-1" strike="noStrike" baseline="-25000">
                <a:solidFill>
                  <a:srgbClr val="000000"/>
                </a:solidFill>
                <a:latin typeface="Arial"/>
              </a:rPr>
              <a:t>conducción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= R</a:t>
            </a:r>
            <a:r>
              <a:rPr b="1" lang="es-ES" sz="2000" spc="-1" strike="noStrike" baseline="-25000">
                <a:solidFill>
                  <a:srgbClr val="000000"/>
                </a:solidFill>
                <a:latin typeface="Arial"/>
              </a:rPr>
              <a:t>DSon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· I</a:t>
            </a:r>
            <a:r>
              <a:rPr b="1" lang="es-ES" sz="2000" spc="-1" strike="noStrike" baseline="-25000">
                <a:solidFill>
                  <a:srgbClr val="000000"/>
                </a:solidFill>
                <a:latin typeface="Arial"/>
              </a:rPr>
              <a:t>ef</a:t>
            </a:r>
            <a:r>
              <a:rPr b="1" lang="es-E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644480" y="5830920"/>
            <a:ext cx="47228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782640" y="4583160"/>
            <a:ext cx="1046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es-ES" sz="1800" spc="-1" strike="noStrike" baseline="-25000">
                <a:solidFill>
                  <a:srgbClr val="000000"/>
                </a:solidFill>
                <a:latin typeface="Arial"/>
              </a:rPr>
              <a:t>Mosf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1657440" y="4836960"/>
            <a:ext cx="4743360" cy="968400"/>
          </a:xfrm>
          <a:custGeom>
            <a:avLst/>
            <a:gdLst/>
            <a:ahLst/>
            <a:rect l="l" t="t" r="r" b="b"/>
            <a:pathLst>
              <a:path w="2988" h="610">
                <a:moveTo>
                  <a:pt x="0" y="601"/>
                </a:moveTo>
                <a:lnTo>
                  <a:pt x="742" y="601"/>
                </a:lnTo>
                <a:lnTo>
                  <a:pt x="960" y="0"/>
                </a:lnTo>
                <a:lnTo>
                  <a:pt x="1123" y="610"/>
                </a:lnTo>
                <a:lnTo>
                  <a:pt x="2362" y="610"/>
                </a:lnTo>
                <a:lnTo>
                  <a:pt x="2596" y="9"/>
                </a:lnTo>
                <a:lnTo>
                  <a:pt x="2771" y="610"/>
                </a:lnTo>
                <a:lnTo>
                  <a:pt x="2988" y="61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2876400" y="4876920"/>
            <a:ext cx="568440" cy="928440"/>
          </a:xfrm>
          <a:custGeom>
            <a:avLst/>
            <a:gdLst/>
            <a:ahLst/>
            <a:rect l="l" t="t" r="r" b="b"/>
            <a:pathLst>
              <a:path w="375" h="585">
                <a:moveTo>
                  <a:pt x="0" y="576"/>
                </a:moveTo>
                <a:lnTo>
                  <a:pt x="200" y="0"/>
                </a:lnTo>
                <a:lnTo>
                  <a:pt x="375" y="585"/>
                </a:lnTo>
                <a:lnTo>
                  <a:pt x="175" y="585"/>
                </a:lnTo>
                <a:lnTo>
                  <a:pt x="0" y="576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5451480" y="4894200"/>
            <a:ext cx="595440" cy="928800"/>
          </a:xfrm>
          <a:custGeom>
            <a:avLst/>
            <a:gdLst/>
            <a:ahLst/>
            <a:rect l="l" t="t" r="r" b="b"/>
            <a:pathLst>
              <a:path w="375" h="585">
                <a:moveTo>
                  <a:pt x="0" y="576"/>
                </a:moveTo>
                <a:lnTo>
                  <a:pt x="200" y="0"/>
                </a:lnTo>
                <a:lnTo>
                  <a:pt x="375" y="585"/>
                </a:lnTo>
                <a:lnTo>
                  <a:pt x="175" y="585"/>
                </a:lnTo>
                <a:lnTo>
                  <a:pt x="0" y="576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 flipV="1">
            <a:off x="1657440" y="4413240"/>
            <a:ext cx="0" cy="1563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1655640" y="5433840"/>
            <a:ext cx="4943520" cy="0"/>
          </a:xfrm>
          <a:prstGeom prst="line">
            <a:avLst/>
          </a:prstGeom>
          <a:ln w="57240">
            <a:solidFill>
              <a:srgbClr val="0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6626160" y="4941720"/>
            <a:ext cx="2265480" cy="9169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álculo del valor medio de la forma de on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rcRect l="28786" t="3376" r="0" b="0"/>
          <a:stretch/>
        </p:blipFill>
        <p:spPr>
          <a:xfrm>
            <a:off x="34920" y="549360"/>
            <a:ext cx="4897440" cy="618156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3855960" y="2133720"/>
            <a:ext cx="170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ección 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124000" y="3859200"/>
            <a:ext cx="5112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808080"/>
                </a:solidFill>
                <a:latin typeface="Arial"/>
              </a:rPr>
              <a:t>Electrónica Indust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808080"/>
                </a:solidFill>
                <a:latin typeface="Arial"/>
              </a:rPr>
              <a:t>5º Curso. Ingeniería Indust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808080"/>
                </a:solidFill>
                <a:latin typeface="Arial"/>
              </a:rPr>
              <a:t>Intensificación Electrotécn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4211640" y="692280"/>
            <a:ext cx="1106640" cy="1224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2781360" y="2897280"/>
            <a:ext cx="4135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449440" y="2743200"/>
            <a:ext cx="414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 MOSFET DE POT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615960" y="0"/>
            <a:ext cx="71280" cy="685800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6200000">
            <a:off x="-2818800" y="3193920"/>
            <a:ext cx="640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EL MOSFET  DE POT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980640" y="2043000"/>
            <a:ext cx="1553760" cy="1526400"/>
            <a:chOff x="980640" y="2043000"/>
            <a:chExt cx="1553760" cy="1526400"/>
          </a:xfrm>
        </p:grpSpPr>
        <p:sp>
          <p:nvSpPr>
            <p:cNvPr id="66" name=""/>
            <p:cNvSpPr/>
            <p:nvPr/>
          </p:nvSpPr>
          <p:spPr>
            <a:xfrm>
              <a:off x="1765080" y="2782800"/>
              <a:ext cx="390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980640" y="273816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a50021"/>
                  </a:solidFill>
                  <a:latin typeface="Arial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4080" y="20430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a50021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130480" y="31096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a50021"/>
                  </a:solidFill>
                  <a:latin typeface="Arial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" name=""/>
            <p:cNvGrpSpPr/>
            <p:nvPr/>
          </p:nvGrpSpPr>
          <p:grpSpPr>
            <a:xfrm>
              <a:off x="1747800" y="2927160"/>
              <a:ext cx="406440" cy="573840"/>
              <a:chOff x="1747800" y="2927160"/>
              <a:chExt cx="406440" cy="573840"/>
            </a:xfrm>
          </p:grpSpPr>
          <p:sp>
            <p:nvSpPr>
              <p:cNvPr id="71" name=""/>
              <p:cNvSpPr/>
              <p:nvPr/>
            </p:nvSpPr>
            <p:spPr>
              <a:xfrm flipV="1">
                <a:off x="1766880" y="3030840"/>
                <a:ext cx="387360" cy="469800"/>
              </a:xfrm>
              <a:custGeom>
                <a:avLst/>
                <a:gdLst/>
                <a:ahLst/>
                <a:rect l="l" t="t" r="r" b="b"/>
                <a:pathLst>
                  <a:path w="244" h="296">
                    <a:moveTo>
                      <a:pt x="0" y="296"/>
                    </a:moveTo>
                    <a:lnTo>
                      <a:pt x="244" y="296"/>
                    </a:lnTo>
                    <a:lnTo>
                      <a:pt x="244" y="0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1747800" y="2927160"/>
                <a:ext cx="0" cy="247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" name=""/>
            <p:cNvGrpSpPr/>
            <p:nvPr/>
          </p:nvGrpSpPr>
          <p:grpSpPr>
            <a:xfrm>
              <a:off x="1747800" y="2107440"/>
              <a:ext cx="406440" cy="574920"/>
              <a:chOff x="1747800" y="2107440"/>
              <a:chExt cx="406440" cy="574920"/>
            </a:xfrm>
          </p:grpSpPr>
          <p:sp>
            <p:nvSpPr>
              <p:cNvPr id="74" name=""/>
              <p:cNvSpPr/>
              <p:nvPr/>
            </p:nvSpPr>
            <p:spPr>
              <a:xfrm>
                <a:off x="1766880" y="2107440"/>
                <a:ext cx="387360" cy="470160"/>
              </a:xfrm>
              <a:custGeom>
                <a:avLst/>
                <a:gdLst/>
                <a:ahLst/>
                <a:rect l="l" t="t" r="r" b="b"/>
                <a:pathLst>
                  <a:path w="244" h="296">
                    <a:moveTo>
                      <a:pt x="0" y="296"/>
                    </a:moveTo>
                    <a:lnTo>
                      <a:pt x="244" y="296"/>
                    </a:lnTo>
                    <a:lnTo>
                      <a:pt x="244" y="0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V="1">
                <a:off x="1747800" y="2434680"/>
                <a:ext cx="0" cy="247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6" name=""/>
            <p:cNvSpPr/>
            <p:nvPr/>
          </p:nvSpPr>
          <p:spPr>
            <a:xfrm>
              <a:off x="1743120" y="271764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028520" y="2431800"/>
              <a:ext cx="590760" cy="723960"/>
            </a:xfrm>
            <a:custGeom>
              <a:avLst/>
              <a:gdLst/>
              <a:ahLst/>
              <a:rect l="l" t="t" r="r" b="b"/>
              <a:pathLst>
                <a:path w="372" h="456">
                  <a:moveTo>
                    <a:pt x="372" y="0"/>
                  </a:moveTo>
                  <a:lnTo>
                    <a:pt x="372" y="456"/>
                  </a:lnTo>
                  <a:lnTo>
                    <a:pt x="0" y="45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V="1">
              <a:off x="2152440" y="2771640"/>
              <a:ext cx="0" cy="272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" name=""/>
          <p:cNvSpPr/>
          <p:nvPr/>
        </p:nvSpPr>
        <p:spPr>
          <a:xfrm>
            <a:off x="2108880" y="40323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a50021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955080" y="4097880"/>
            <a:ext cx="1533240" cy="1460520"/>
            <a:chOff x="955080" y="4097880"/>
            <a:chExt cx="1533240" cy="1460520"/>
          </a:xfrm>
        </p:grpSpPr>
        <p:sp>
          <p:nvSpPr>
            <p:cNvPr id="81" name=""/>
            <p:cNvSpPr/>
            <p:nvPr/>
          </p:nvSpPr>
          <p:spPr>
            <a:xfrm flipH="1">
              <a:off x="1833120" y="4777920"/>
              <a:ext cx="1760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955080" y="472716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a50021"/>
                  </a:solidFill>
                  <a:latin typeface="Arial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104920" y="50986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a50021"/>
                  </a:solidFill>
                  <a:latin typeface="Arial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4" name=""/>
            <p:cNvGrpSpPr/>
            <p:nvPr/>
          </p:nvGrpSpPr>
          <p:grpSpPr>
            <a:xfrm>
              <a:off x="1722240" y="4916160"/>
              <a:ext cx="406440" cy="573840"/>
              <a:chOff x="1722240" y="4916160"/>
              <a:chExt cx="406440" cy="573840"/>
            </a:xfrm>
          </p:grpSpPr>
          <p:sp>
            <p:nvSpPr>
              <p:cNvPr id="85" name=""/>
              <p:cNvSpPr/>
              <p:nvPr/>
            </p:nvSpPr>
            <p:spPr>
              <a:xfrm flipV="1">
                <a:off x="1741320" y="5019840"/>
                <a:ext cx="387360" cy="469800"/>
              </a:xfrm>
              <a:custGeom>
                <a:avLst/>
                <a:gdLst/>
                <a:ahLst/>
                <a:rect l="l" t="t" r="r" b="b"/>
                <a:pathLst>
                  <a:path w="244" h="296">
                    <a:moveTo>
                      <a:pt x="0" y="296"/>
                    </a:moveTo>
                    <a:lnTo>
                      <a:pt x="244" y="296"/>
                    </a:lnTo>
                    <a:lnTo>
                      <a:pt x="244" y="0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1722240" y="4916160"/>
                <a:ext cx="0" cy="247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1722240" y="4097880"/>
              <a:ext cx="406440" cy="573840"/>
              <a:chOff x="1722240" y="4097880"/>
              <a:chExt cx="406440" cy="573840"/>
            </a:xfrm>
          </p:grpSpPr>
          <p:sp>
            <p:nvSpPr>
              <p:cNvPr id="88" name=""/>
              <p:cNvSpPr/>
              <p:nvPr/>
            </p:nvSpPr>
            <p:spPr>
              <a:xfrm>
                <a:off x="1741320" y="4097880"/>
                <a:ext cx="387360" cy="469800"/>
              </a:xfrm>
              <a:custGeom>
                <a:avLst/>
                <a:gdLst/>
                <a:ahLst/>
                <a:rect l="l" t="t" r="r" b="b"/>
                <a:pathLst>
                  <a:path w="244" h="296">
                    <a:moveTo>
                      <a:pt x="0" y="296"/>
                    </a:moveTo>
                    <a:lnTo>
                      <a:pt x="244" y="296"/>
                    </a:lnTo>
                    <a:lnTo>
                      <a:pt x="244" y="0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>
                <a:off x="1722240" y="4424400"/>
                <a:ext cx="0" cy="247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0" name=""/>
            <p:cNvSpPr/>
            <p:nvPr/>
          </p:nvSpPr>
          <p:spPr>
            <a:xfrm>
              <a:off x="1717560" y="470664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002960" y="4420800"/>
              <a:ext cx="590760" cy="723960"/>
            </a:xfrm>
            <a:custGeom>
              <a:avLst/>
              <a:gdLst/>
              <a:ahLst/>
              <a:rect l="l" t="t" r="r" b="b"/>
              <a:pathLst>
                <a:path w="372" h="456">
                  <a:moveTo>
                    <a:pt x="372" y="0"/>
                  </a:moveTo>
                  <a:lnTo>
                    <a:pt x="372" y="456"/>
                  </a:lnTo>
                  <a:lnTo>
                    <a:pt x="0" y="45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V="1">
              <a:off x="2126880" y="4760640"/>
              <a:ext cx="0" cy="272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>
              <a:off x="1720800" y="4779720"/>
              <a:ext cx="4111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2962440" y="2692440"/>
            <a:ext cx="112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nal 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908440" y="4646520"/>
            <a:ext cx="112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nal 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76160" y="79200"/>
            <a:ext cx="72262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8080"/>
                </a:solidFill>
                <a:latin typeface="Arial"/>
              </a:rPr>
              <a:t>El transistor de Efecto de Campo Metal-Óxido-Semicondu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a50021"/>
                </a:solidFill>
                <a:latin typeface="Arial"/>
              </a:rPr>
              <a:t>M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etal </a:t>
            </a:r>
            <a:r>
              <a:rPr b="1" i="1" lang="es-ES" sz="1800" spc="-1" strike="noStrike">
                <a:solidFill>
                  <a:srgbClr val="a50021"/>
                </a:solidFill>
                <a:latin typeface="Arial"/>
              </a:rPr>
              <a:t>O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xide </a:t>
            </a:r>
            <a:r>
              <a:rPr b="1" i="1" lang="es-ES" sz="1800" spc="-1" strike="noStrike">
                <a:solidFill>
                  <a:srgbClr val="a50021"/>
                </a:solidFill>
                <a:latin typeface="Arial"/>
              </a:rPr>
              <a:t>S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emiconductor </a:t>
            </a:r>
            <a:r>
              <a:rPr b="1" i="1" lang="es-ES" sz="1800" spc="-1" strike="noStrike">
                <a:solidFill>
                  <a:srgbClr val="a50021"/>
                </a:solidFill>
                <a:latin typeface="Arial"/>
              </a:rPr>
              <a:t>F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ield </a:t>
            </a:r>
            <a:r>
              <a:rPr b="1" i="1" lang="es-ES" sz="1800" spc="-1" strike="noStrike">
                <a:solidFill>
                  <a:srgbClr val="a50021"/>
                </a:solidFill>
                <a:latin typeface="Arial"/>
              </a:rPr>
              <a:t>E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ffect </a:t>
            </a:r>
            <a:r>
              <a:rPr b="1" i="1" lang="es-ES" sz="1800" spc="-1" strike="noStrike">
                <a:solidFill>
                  <a:srgbClr val="a50021"/>
                </a:solidFill>
                <a:latin typeface="Arial"/>
              </a:rPr>
              <a:t>T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ransistor (MOSFE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082520" y="1057320"/>
            <a:ext cx="6656400" cy="7855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s un dispositivo unipolar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 conducción sólo es debida a un tipo de porta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506840" y="2556000"/>
            <a:ext cx="435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Arial"/>
              </a:rPr>
              <a:t>Conducción debida a electr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525920" y="4587840"/>
            <a:ext cx="435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Arial"/>
              </a:rPr>
              <a:t>Conducción debida a huec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9160" y="5846760"/>
            <a:ext cx="8191800" cy="78552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os más usados son los MOSFET de canal 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 conducción es debida a los electrones y por tanto, son más rápi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9040" y="44280"/>
            <a:ext cx="4994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8080"/>
                </a:solidFill>
                <a:latin typeface="Arial"/>
              </a:rPr>
              <a:t>Curvas</a:t>
            </a:r>
            <a:r>
              <a:rPr b="1" sz="2000" spc="-1" strike="noStrike">
                <a:solidFill>
                  <a:srgbClr val="008080"/>
                </a:solidFill>
                <a:latin typeface="Arial"/>
              </a:rPr>
              <a:t> característica</a:t>
            </a:r>
            <a:r>
              <a:rPr b="1" lang="es-ES" sz="2000" spc="-1" strike="noStrike">
                <a:solidFill>
                  <a:srgbClr val="008080"/>
                </a:solidFill>
                <a:latin typeface="Arial"/>
              </a:rPr>
              <a:t>s</a:t>
            </a:r>
            <a:r>
              <a:rPr b="1" sz="2000" spc="-1" strike="noStrike">
                <a:solidFill>
                  <a:srgbClr val="00808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8080"/>
                </a:solidFill>
                <a:latin typeface="Arial"/>
              </a:rPr>
              <a:t>del MOSF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5960" y="0"/>
            <a:ext cx="71280" cy="685800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rot="16200000">
            <a:off x="-2818800" y="3193920"/>
            <a:ext cx="640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EL MOSFET  DE POT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4209840" y="1644480"/>
            <a:ext cx="4932720" cy="3425760"/>
            <a:chOff x="4209840" y="1644480"/>
            <a:chExt cx="4932720" cy="3425760"/>
          </a:xfrm>
        </p:grpSpPr>
        <p:sp>
          <p:nvSpPr>
            <p:cNvPr id="105" name=""/>
            <p:cNvSpPr/>
            <p:nvPr/>
          </p:nvSpPr>
          <p:spPr>
            <a:xfrm>
              <a:off x="4809960" y="1644480"/>
              <a:ext cx="1188720" cy="55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1" lang="es-ES_tradnl" sz="2400" spc="-1" strike="noStrike" baseline="-25000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1" lang="es-ES_tradnl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[mA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020800" y="4044600"/>
              <a:ext cx="112176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1" lang="es-ES_tradnl" sz="2400" spc="-1" strike="noStrike" baseline="-25000">
                  <a:solidFill>
                    <a:srgbClr val="000000"/>
                  </a:solidFill>
                  <a:latin typeface="Arial"/>
                </a:rPr>
                <a:t>DS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 [V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822560" y="4581360"/>
              <a:ext cx="18072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4276080" y="4533120"/>
              <a:ext cx="3895560" cy="145800"/>
              <a:chOff x="4276080" y="4533120"/>
              <a:chExt cx="3895560" cy="145800"/>
            </a:xfrm>
          </p:grpSpPr>
          <p:sp>
            <p:nvSpPr>
              <p:cNvPr id="109" name=""/>
              <p:cNvSpPr/>
              <p:nvPr/>
            </p:nvSpPr>
            <p:spPr>
              <a:xfrm flipV="1">
                <a:off x="4793040" y="4533120"/>
                <a:ext cx="0" cy="145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flipV="1">
                <a:off x="5267160" y="4533120"/>
                <a:ext cx="0" cy="145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V="1">
                <a:off x="5735880" y="4533120"/>
                <a:ext cx="0" cy="145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208200" y="4533120"/>
                <a:ext cx="0" cy="145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6679440" y="4533120"/>
                <a:ext cx="0" cy="145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7152120" y="4533120"/>
                <a:ext cx="0" cy="145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24800" y="4533120"/>
                <a:ext cx="0" cy="145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4798800" y="4541040"/>
                <a:ext cx="45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7573320" y="4541040"/>
                <a:ext cx="453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4276080" y="4541040"/>
                <a:ext cx="38955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4690800" y="4543200"/>
              <a:ext cx="93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690800" y="4035240"/>
              <a:ext cx="93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690800" y="3533400"/>
              <a:ext cx="93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690800" y="3027240"/>
              <a:ext cx="93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690800" y="2522160"/>
              <a:ext cx="93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>
              <a:off x="4790880" y="4474440"/>
              <a:ext cx="0" cy="74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790880" y="1995120"/>
              <a:ext cx="0" cy="3075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6" name=""/>
            <p:cNvGrpSpPr/>
            <p:nvPr/>
          </p:nvGrpSpPr>
          <p:grpSpPr>
            <a:xfrm>
              <a:off x="4209840" y="2285640"/>
              <a:ext cx="435960" cy="1427760"/>
              <a:chOff x="4209840" y="2285640"/>
              <a:chExt cx="435960" cy="1427760"/>
            </a:xfrm>
          </p:grpSpPr>
          <p:sp>
            <p:nvSpPr>
              <p:cNvPr id="127" name=""/>
              <p:cNvSpPr/>
              <p:nvPr/>
            </p:nvSpPr>
            <p:spPr>
              <a:xfrm>
                <a:off x="4209840" y="2285640"/>
                <a:ext cx="43596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s-ES_tradnl" sz="24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209840" y="3258720"/>
                <a:ext cx="43596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s-ES_tradnl" sz="2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9" name=""/>
            <p:cNvSpPr/>
            <p:nvPr/>
          </p:nvSpPr>
          <p:spPr>
            <a:xfrm>
              <a:off x="6516720" y="4605120"/>
              <a:ext cx="350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549760" y="4606560"/>
              <a:ext cx="54900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434000" y="4586040"/>
              <a:ext cx="35064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446720" y="44874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4983120" y="866880"/>
            <a:ext cx="3257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buClr>
                <a:srgbClr val="0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808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8080"/>
                </a:solidFill>
                <a:latin typeface="Arial"/>
              </a:rPr>
              <a:t>Curvas de sal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858960" y="6087960"/>
            <a:ext cx="514980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a50021"/>
                </a:solidFill>
                <a:latin typeface="Arial"/>
              </a:rPr>
              <a:t>Curvas de entrad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No tienen interés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(puerta aislada del can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43120" y="919080"/>
            <a:ext cx="3541680" cy="3988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Referencias normalizad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817560" y="2003400"/>
            <a:ext cx="3156840" cy="2362680"/>
            <a:chOff x="817560" y="2003400"/>
            <a:chExt cx="3156840" cy="2362680"/>
          </a:xfrm>
        </p:grpSpPr>
        <p:grpSp>
          <p:nvGrpSpPr>
            <p:cNvPr id="137" name=""/>
            <p:cNvGrpSpPr/>
            <p:nvPr/>
          </p:nvGrpSpPr>
          <p:grpSpPr>
            <a:xfrm>
              <a:off x="3171600" y="3066840"/>
              <a:ext cx="550800" cy="228240"/>
              <a:chOff x="3171600" y="3066840"/>
              <a:chExt cx="550800" cy="228240"/>
            </a:xfrm>
          </p:grpSpPr>
          <p:sp>
            <p:nvSpPr>
              <p:cNvPr id="138" name=""/>
              <p:cNvSpPr/>
              <p:nvPr/>
            </p:nvSpPr>
            <p:spPr>
              <a:xfrm flipH="1" flipV="1" rot="16200000">
                <a:off x="3421440" y="2817000"/>
                <a:ext cx="51120" cy="55080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 flipH="1" flipV="1" rot="16200000">
                <a:off x="3404520" y="3117600"/>
                <a:ext cx="83880" cy="27000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 flipH="1" flipV="1">
              <a:off x="3426840" y="2209680"/>
              <a:ext cx="1800" cy="866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flipV="1">
              <a:off x="3446280" y="3281400"/>
              <a:ext cx="0" cy="993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101600" y="3336840"/>
              <a:ext cx="781200" cy="547560"/>
            </a:xfrm>
            <a:custGeom>
              <a:avLst/>
              <a:gdLst/>
              <a:ahLst/>
              <a:rect l="l" t="t" r="r" b="b"/>
              <a:pathLst>
                <a:path w="522" h="345">
                  <a:moveTo>
                    <a:pt x="522" y="0"/>
                  </a:moveTo>
                  <a:lnTo>
                    <a:pt x="0" y="0"/>
                  </a:lnTo>
                  <a:lnTo>
                    <a:pt x="0" y="345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093680" y="3990960"/>
              <a:ext cx="2362320" cy="295200"/>
            </a:xfrm>
            <a:custGeom>
              <a:avLst/>
              <a:gdLst/>
              <a:ahLst/>
              <a:rect l="l" t="t" r="r" b="b"/>
              <a:pathLst>
                <a:path w="1500" h="646">
                  <a:moveTo>
                    <a:pt x="0" y="0"/>
                  </a:moveTo>
                  <a:lnTo>
                    <a:pt x="0" y="646"/>
                  </a:lnTo>
                  <a:lnTo>
                    <a:pt x="1500" y="64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525760" y="2208240"/>
              <a:ext cx="922320" cy="144360"/>
            </a:xfrm>
            <a:custGeom>
              <a:avLst/>
              <a:gdLst/>
              <a:ahLst/>
              <a:rect l="l" t="t" r="r" b="b"/>
              <a:pathLst>
                <a:path w="564" h="91">
                  <a:moveTo>
                    <a:pt x="0" y="91"/>
                  </a:moveTo>
                  <a:lnTo>
                    <a:pt x="0" y="0"/>
                  </a:lnTo>
                  <a:lnTo>
                    <a:pt x="564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5" name=""/>
            <p:cNvGrpSpPr/>
            <p:nvPr/>
          </p:nvGrpSpPr>
          <p:grpSpPr>
            <a:xfrm>
              <a:off x="2599200" y="2539800"/>
              <a:ext cx="710640" cy="1136160"/>
              <a:chOff x="2599200" y="2539800"/>
              <a:chExt cx="710640" cy="1136160"/>
            </a:xfrm>
          </p:grpSpPr>
          <p:sp>
            <p:nvSpPr>
              <p:cNvPr id="146" name=""/>
              <p:cNvSpPr/>
              <p:nvPr/>
            </p:nvSpPr>
            <p:spPr>
              <a:xfrm>
                <a:off x="2647800" y="2539800"/>
                <a:ext cx="358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008080"/>
                    </a:solidFill>
                    <a:latin typeface="Arial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7" name=""/>
              <p:cNvGrpSpPr/>
              <p:nvPr/>
            </p:nvGrpSpPr>
            <p:grpSpPr>
              <a:xfrm>
                <a:off x="2599200" y="2747880"/>
                <a:ext cx="710640" cy="928080"/>
                <a:chOff x="2599200" y="2747880"/>
                <a:chExt cx="710640" cy="928080"/>
              </a:xfrm>
            </p:grpSpPr>
            <p:sp>
              <p:nvSpPr>
                <p:cNvPr id="148" name=""/>
                <p:cNvSpPr/>
                <p:nvPr/>
              </p:nvSpPr>
              <p:spPr>
                <a:xfrm>
                  <a:off x="2652480" y="2747880"/>
                  <a:ext cx="0" cy="771480"/>
                </a:xfrm>
                <a:prstGeom prst="line">
                  <a:avLst/>
                </a:prstGeom>
                <a:ln w="38160">
                  <a:solidFill>
                    <a:srgbClr val="008080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2599200" y="3216240"/>
                  <a:ext cx="3682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2400" spc="-1" strike="noStrike">
                      <a:solidFill>
                        <a:srgbClr val="008080"/>
                      </a:solidFill>
                      <a:latin typeface="Arial"/>
                    </a:rPr>
                    <a:t> </a:t>
                  </a:r>
                  <a:r>
                    <a:rPr b="1" lang="es-ES_tradnl" sz="2400" spc="-1" strike="noStrike">
                      <a:solidFill>
                        <a:srgbClr val="008080"/>
                      </a:solidFill>
                      <a:latin typeface="Arial"/>
                    </a:rPr>
                    <a:t>-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2641680" y="2901960"/>
                  <a:ext cx="66816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2400" spc="-1" strike="noStrike">
                      <a:solidFill>
                        <a:srgbClr val="008080"/>
                      </a:solidFill>
                      <a:latin typeface="Arial"/>
                    </a:rPr>
                    <a:t>V</a:t>
                  </a:r>
                  <a:r>
                    <a:rPr b="1" lang="es-ES_tradnl" sz="2400" spc="-1" strike="noStrike" baseline="-25000">
                      <a:solidFill>
                        <a:srgbClr val="008080"/>
                      </a:solidFill>
                      <a:latin typeface="Arial"/>
                    </a:rPr>
                    <a:t>DS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51" name=""/>
            <p:cNvSpPr/>
            <p:nvPr/>
          </p:nvSpPr>
          <p:spPr>
            <a:xfrm>
              <a:off x="2376360" y="2009520"/>
              <a:ext cx="1190520" cy="277920"/>
            </a:xfrm>
            <a:custGeom>
              <a:avLst/>
              <a:gdLst/>
              <a:ahLst/>
              <a:rect l="l" t="t" r="r" b="b"/>
              <a:pathLst>
                <a:path w="750" h="408">
                  <a:moveTo>
                    <a:pt x="750" y="324"/>
                  </a:moveTo>
                  <a:lnTo>
                    <a:pt x="750" y="0"/>
                  </a:lnTo>
                  <a:lnTo>
                    <a:pt x="0" y="0"/>
                  </a:lnTo>
                  <a:lnTo>
                    <a:pt x="0" y="408"/>
                  </a:lnTo>
                </a:path>
              </a:pathLst>
            </a:custGeom>
            <a:noFill/>
            <a:ln w="38160">
              <a:solidFill>
                <a:srgbClr val="a50021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580200" y="2003400"/>
              <a:ext cx="394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a50021"/>
                  </a:solidFill>
                  <a:latin typeface="Arial"/>
                </a:rPr>
                <a:t>I</a:t>
              </a:r>
              <a:r>
                <a:rPr b="1" lang="es-ES_tradnl" sz="2400" spc="-1" strike="noStrike" baseline="-25000">
                  <a:solidFill>
                    <a:srgbClr val="a50021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3" name=""/>
            <p:cNvGrpSpPr/>
            <p:nvPr/>
          </p:nvGrpSpPr>
          <p:grpSpPr>
            <a:xfrm>
              <a:off x="817560" y="3831480"/>
              <a:ext cx="550800" cy="226800"/>
              <a:chOff x="817560" y="3831480"/>
              <a:chExt cx="550800" cy="226800"/>
            </a:xfrm>
          </p:grpSpPr>
          <p:sp>
            <p:nvSpPr>
              <p:cNvPr id="154" name=""/>
              <p:cNvSpPr/>
              <p:nvPr/>
            </p:nvSpPr>
            <p:spPr>
              <a:xfrm flipH="1" flipV="1" rot="16200000">
                <a:off x="1067400" y="3580920"/>
                <a:ext cx="50760" cy="55080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 flipH="1" flipV="1" rot="16200000">
                <a:off x="1049400" y="3881160"/>
                <a:ext cx="83880" cy="26964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6" name=""/>
            <p:cNvGrpSpPr/>
            <p:nvPr/>
          </p:nvGrpSpPr>
          <p:grpSpPr>
            <a:xfrm>
              <a:off x="1550160" y="3230280"/>
              <a:ext cx="797760" cy="1135800"/>
              <a:chOff x="1550160" y="3230280"/>
              <a:chExt cx="797760" cy="1135800"/>
            </a:xfrm>
          </p:grpSpPr>
          <p:sp>
            <p:nvSpPr>
              <p:cNvPr id="157" name=""/>
              <p:cNvSpPr/>
              <p:nvPr/>
            </p:nvSpPr>
            <p:spPr>
              <a:xfrm>
                <a:off x="1603440" y="3438000"/>
                <a:ext cx="0" cy="771480"/>
              </a:xfrm>
              <a:prstGeom prst="line">
                <a:avLst/>
              </a:prstGeom>
              <a:ln w="38160">
                <a:solidFill>
                  <a:srgbClr val="00808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1598760" y="3230280"/>
                <a:ext cx="358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008080"/>
                    </a:solidFill>
                    <a:latin typeface="Arial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1550160" y="3906360"/>
                <a:ext cx="368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cc0066"/>
                    </a:solidFill>
                    <a:latin typeface="Arial"/>
                  </a:rPr>
                  <a:t> </a:t>
                </a:r>
                <a:r>
                  <a:rPr b="1" lang="es-ES_tradnl" sz="2400" spc="-1" strike="noStrike">
                    <a:solidFill>
                      <a:srgbClr val="008080"/>
                    </a:solidFill>
                    <a:latin typeface="Arial"/>
                  </a:rPr>
                  <a:t>-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1578240" y="3592080"/>
                <a:ext cx="7696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008080"/>
                    </a:solidFill>
                    <a:latin typeface="Arial"/>
                  </a:rPr>
                  <a:t>V</a:t>
                </a:r>
                <a:r>
                  <a:rPr b="1" lang="es-ES_tradnl" sz="2400" spc="-1" strike="noStrike" baseline="-25000">
                    <a:solidFill>
                      <a:srgbClr val="008080"/>
                    </a:solidFill>
                    <a:latin typeface="Arial"/>
                  </a:rPr>
                  <a:t>G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1" name=""/>
            <p:cNvSpPr/>
            <p:nvPr/>
          </p:nvSpPr>
          <p:spPr>
            <a:xfrm>
              <a:off x="1490040" y="2851200"/>
              <a:ext cx="418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a50021"/>
                  </a:solidFill>
                  <a:latin typeface="Arial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161080" y="23000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a50021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167200" y="320832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a50021"/>
                  </a:solidFill>
                  <a:latin typeface="Arial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136600" y="2963880"/>
              <a:ext cx="390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V="1">
              <a:off x="2138400" y="3212280"/>
              <a:ext cx="387360" cy="1090440"/>
            </a:xfrm>
            <a:custGeom>
              <a:avLst/>
              <a:gdLst/>
              <a:ahLst/>
              <a:rect l="l" t="t" r="r" b="b"/>
              <a:pathLst>
                <a:path w="244" h="296">
                  <a:moveTo>
                    <a:pt x="0" y="296"/>
                  </a:moveTo>
                  <a:lnTo>
                    <a:pt x="244" y="296"/>
                  </a:lnTo>
                  <a:lnTo>
                    <a:pt x="244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119320" y="3108240"/>
              <a:ext cx="0" cy="247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7" name=""/>
            <p:cNvGrpSpPr/>
            <p:nvPr/>
          </p:nvGrpSpPr>
          <p:grpSpPr>
            <a:xfrm>
              <a:off x="2119320" y="2289960"/>
              <a:ext cx="406440" cy="573840"/>
              <a:chOff x="2119320" y="2289960"/>
              <a:chExt cx="406440" cy="573840"/>
            </a:xfrm>
          </p:grpSpPr>
          <p:sp>
            <p:nvSpPr>
              <p:cNvPr id="168" name=""/>
              <p:cNvSpPr/>
              <p:nvPr/>
            </p:nvSpPr>
            <p:spPr>
              <a:xfrm>
                <a:off x="2138400" y="2289960"/>
                <a:ext cx="387360" cy="469800"/>
              </a:xfrm>
              <a:custGeom>
                <a:avLst/>
                <a:gdLst/>
                <a:ahLst/>
                <a:rect l="l" t="t" r="r" b="b"/>
                <a:pathLst>
                  <a:path w="244" h="296">
                    <a:moveTo>
                      <a:pt x="0" y="296"/>
                    </a:moveTo>
                    <a:lnTo>
                      <a:pt x="244" y="296"/>
                    </a:lnTo>
                    <a:lnTo>
                      <a:pt x="244" y="0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 flipV="1">
                <a:off x="2119320" y="2616480"/>
                <a:ext cx="0" cy="2473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>
              <a:off x="2114280" y="28987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400040" y="2612880"/>
              <a:ext cx="590400" cy="723960"/>
            </a:xfrm>
            <a:custGeom>
              <a:avLst/>
              <a:gdLst/>
              <a:ahLst/>
              <a:rect l="l" t="t" r="r" b="b"/>
              <a:pathLst>
                <a:path w="372" h="456">
                  <a:moveTo>
                    <a:pt x="372" y="0"/>
                  </a:moveTo>
                  <a:lnTo>
                    <a:pt x="372" y="456"/>
                  </a:lnTo>
                  <a:lnTo>
                    <a:pt x="0" y="45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525760" y="2944800"/>
              <a:ext cx="0" cy="390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4791240" y="4537080"/>
            <a:ext cx="4066560" cy="767160"/>
            <a:chOff x="4791240" y="4537080"/>
            <a:chExt cx="4066560" cy="767160"/>
          </a:xfrm>
        </p:grpSpPr>
        <p:sp>
          <p:nvSpPr>
            <p:cNvPr id="174" name=""/>
            <p:cNvSpPr/>
            <p:nvPr/>
          </p:nvSpPr>
          <p:spPr>
            <a:xfrm>
              <a:off x="4791240" y="4537080"/>
              <a:ext cx="3174480" cy="0"/>
            </a:xfrm>
            <a:prstGeom prst="line">
              <a:avLst/>
            </a:prstGeom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169040" y="4903560"/>
              <a:ext cx="168876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00ff"/>
                  </a:solidFill>
                  <a:latin typeface="Arial"/>
                </a:rPr>
                <a:t>V</a:t>
              </a:r>
              <a:r>
                <a:rPr b="1" lang="es-ES_tradnl" sz="1800" spc="-1" strike="noStrike" baseline="-25000">
                  <a:solidFill>
                    <a:srgbClr val="ff00ff"/>
                  </a:solidFill>
                  <a:latin typeface="Arial"/>
                </a:rPr>
                <a:t>GS </a:t>
              </a:r>
              <a:r>
                <a:rPr b="1" lang="es-ES_tradnl" sz="1800" spc="-1" strike="noStrike">
                  <a:solidFill>
                    <a:srgbClr val="ff00ff"/>
                  </a:solidFill>
                  <a:latin typeface="Arial"/>
                </a:rPr>
                <a:t>&lt; V</a:t>
              </a:r>
              <a:r>
                <a:rPr b="1" lang="es-ES_tradnl" sz="1800" spc="-1" strike="noStrike" baseline="-25000">
                  <a:solidFill>
                    <a:srgbClr val="ff00ff"/>
                  </a:solidFill>
                  <a:latin typeface="Arial"/>
                </a:rPr>
                <a:t>TH</a:t>
              </a:r>
              <a:r>
                <a:rPr b="1" lang="es-ES_tradnl" sz="1800" spc="-1" strike="noStrike">
                  <a:solidFill>
                    <a:srgbClr val="ff00ff"/>
                  </a:solidFill>
                  <a:latin typeface="Arial"/>
                </a:rPr>
                <a:t> = 2V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932520" y="4562280"/>
              <a:ext cx="402840" cy="558360"/>
            </a:xfrm>
            <a:custGeom>
              <a:avLst/>
              <a:gdLst/>
              <a:ahLst/>
              <a:rect l="l" t="t" r="r" b="b"/>
              <a:pathLst>
                <a:path w="254" h="352">
                  <a:moveTo>
                    <a:pt x="195" y="352"/>
                  </a:moveTo>
                  <a:cubicBezTo>
                    <a:pt x="141" y="352"/>
                    <a:pt x="87" y="352"/>
                    <a:pt x="59" y="328"/>
                  </a:cubicBezTo>
                  <a:cubicBezTo>
                    <a:pt x="31" y="304"/>
                    <a:pt x="0" y="240"/>
                    <a:pt x="27" y="208"/>
                  </a:cubicBezTo>
                  <a:cubicBezTo>
                    <a:pt x="54" y="176"/>
                    <a:pt x="184" y="171"/>
                    <a:pt x="219" y="136"/>
                  </a:cubicBezTo>
                  <a:cubicBezTo>
                    <a:pt x="254" y="101"/>
                    <a:pt x="244" y="50"/>
                    <a:pt x="235" y="0"/>
                  </a:cubicBezTo>
                </a:path>
              </a:pathLst>
            </a:custGeom>
            <a:noFill/>
            <a:ln w="38160">
              <a:solidFill>
                <a:srgbClr val="ff00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4809960" y="4091040"/>
            <a:ext cx="3168720" cy="446040"/>
            <a:chOff x="4809960" y="4091040"/>
            <a:chExt cx="3168720" cy="446040"/>
          </a:xfrm>
        </p:grpSpPr>
        <p:sp>
          <p:nvSpPr>
            <p:cNvPr id="178" name=""/>
            <p:cNvSpPr/>
            <p:nvPr/>
          </p:nvSpPr>
          <p:spPr>
            <a:xfrm>
              <a:off x="4809960" y="4446720"/>
              <a:ext cx="3168720" cy="90360"/>
            </a:xfrm>
            <a:custGeom>
              <a:avLst/>
              <a:gdLst/>
              <a:ahLst/>
              <a:rect l="l" t="t" r="r" b="b"/>
              <a:pathLst>
                <a:path w="1996" h="57">
                  <a:moveTo>
                    <a:pt x="0" y="57"/>
                  </a:moveTo>
                  <a:lnTo>
                    <a:pt x="150" y="4"/>
                  </a:lnTo>
                  <a:lnTo>
                    <a:pt x="158" y="1"/>
                  </a:lnTo>
                  <a:lnTo>
                    <a:pt x="166" y="1"/>
                  </a:lnTo>
                  <a:lnTo>
                    <a:pt x="174" y="1"/>
                  </a:lnTo>
                  <a:lnTo>
                    <a:pt x="188" y="0"/>
                  </a:lnTo>
                  <a:lnTo>
                    <a:pt x="208" y="0"/>
                  </a:lnTo>
                  <a:lnTo>
                    <a:pt x="1996" y="2"/>
                  </a:lnTo>
                </a:path>
              </a:pathLst>
            </a:custGeom>
            <a:noFill/>
            <a:ln cap="rnd" w="3816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tIns="44640" bIns="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601680" y="4091040"/>
              <a:ext cx="122976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ccccff"/>
                  </a:solidFill>
                  <a:latin typeface="Arial"/>
                </a:rPr>
                <a:t>V</a:t>
              </a:r>
              <a:r>
                <a:rPr b="1" lang="es-ES_tradnl" sz="1800" spc="-1" strike="noStrike" baseline="-25000">
                  <a:solidFill>
                    <a:srgbClr val="ccccff"/>
                  </a:solidFill>
                  <a:latin typeface="Arial"/>
                </a:rPr>
                <a:t>GS </a:t>
              </a:r>
              <a:r>
                <a:rPr b="1" lang="es-ES_tradnl" sz="1800" spc="-1" strike="noStrike">
                  <a:solidFill>
                    <a:srgbClr val="ccccff"/>
                  </a:solidFill>
                  <a:latin typeface="Arial"/>
                </a:rPr>
                <a:t>= 2,5V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4816440" y="3780000"/>
            <a:ext cx="3193920" cy="738000"/>
            <a:chOff x="4816440" y="3780000"/>
            <a:chExt cx="3193920" cy="738000"/>
          </a:xfrm>
        </p:grpSpPr>
        <p:sp>
          <p:nvSpPr>
            <p:cNvPr id="181" name=""/>
            <p:cNvSpPr/>
            <p:nvPr/>
          </p:nvSpPr>
          <p:spPr>
            <a:xfrm>
              <a:off x="4816440" y="4141800"/>
              <a:ext cx="3193920" cy="376200"/>
            </a:xfrm>
            <a:custGeom>
              <a:avLst/>
              <a:gdLst/>
              <a:ahLst/>
              <a:rect l="l" t="t" r="r" b="b"/>
              <a:pathLst>
                <a:path w="2012" h="237">
                  <a:moveTo>
                    <a:pt x="0" y="237"/>
                  </a:moveTo>
                  <a:lnTo>
                    <a:pt x="275" y="18"/>
                  </a:lnTo>
                  <a:lnTo>
                    <a:pt x="289" y="8"/>
                  </a:lnTo>
                  <a:lnTo>
                    <a:pt x="303" y="7"/>
                  </a:lnTo>
                  <a:lnTo>
                    <a:pt x="319" y="2"/>
                  </a:lnTo>
                  <a:lnTo>
                    <a:pt x="345" y="0"/>
                  </a:lnTo>
                  <a:lnTo>
                    <a:pt x="380" y="0"/>
                  </a:lnTo>
                  <a:lnTo>
                    <a:pt x="2012" y="1"/>
                  </a:lnTo>
                </a:path>
              </a:pathLst>
            </a:custGeom>
            <a:noFill/>
            <a:ln cap="rnd" w="38160">
              <a:solidFill>
                <a:srgbClr val="ef91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480720" y="3780000"/>
              <a:ext cx="110340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ff9900"/>
                  </a:solidFill>
                  <a:latin typeface="Arial"/>
                </a:rPr>
                <a:t>V</a:t>
              </a:r>
              <a:r>
                <a:rPr b="1" lang="es-ES_tradnl" sz="1800" spc="-1" strike="noStrike" baseline="-25000">
                  <a:solidFill>
                    <a:srgbClr val="ff9900"/>
                  </a:solidFill>
                  <a:latin typeface="Arial"/>
                </a:rPr>
                <a:t>GS </a:t>
              </a:r>
              <a:r>
                <a:rPr b="1" lang="es-ES_tradnl" sz="1800" spc="-1" strike="noStrike">
                  <a:solidFill>
                    <a:srgbClr val="ff9900"/>
                  </a:solidFill>
                  <a:latin typeface="Arial"/>
                </a:rPr>
                <a:t>=  3V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4816440" y="3417840"/>
            <a:ext cx="3225600" cy="1100160"/>
            <a:chOff x="4816440" y="3417840"/>
            <a:chExt cx="3225600" cy="1100160"/>
          </a:xfrm>
        </p:grpSpPr>
        <p:sp>
          <p:nvSpPr>
            <p:cNvPr id="184" name=""/>
            <p:cNvSpPr/>
            <p:nvPr/>
          </p:nvSpPr>
          <p:spPr>
            <a:xfrm>
              <a:off x="4816440" y="3800520"/>
              <a:ext cx="3225600" cy="717480"/>
            </a:xfrm>
            <a:custGeom>
              <a:avLst/>
              <a:gdLst/>
              <a:ahLst/>
              <a:rect l="l" t="t" r="r" b="b"/>
              <a:pathLst>
                <a:path w="2032" h="536">
                  <a:moveTo>
                    <a:pt x="0" y="536"/>
                  </a:moveTo>
                  <a:lnTo>
                    <a:pt x="426" y="62"/>
                  </a:lnTo>
                  <a:lnTo>
                    <a:pt x="447" y="42"/>
                  </a:lnTo>
                  <a:lnTo>
                    <a:pt x="469" y="38"/>
                  </a:lnTo>
                  <a:lnTo>
                    <a:pt x="492" y="28"/>
                  </a:lnTo>
                  <a:lnTo>
                    <a:pt x="533" y="23"/>
                  </a:lnTo>
                  <a:lnTo>
                    <a:pt x="588" y="23"/>
                  </a:lnTo>
                  <a:lnTo>
                    <a:pt x="2032" y="0"/>
                  </a:lnTo>
                </a:path>
              </a:pathLst>
            </a:custGeom>
            <a:noFill/>
            <a:ln cap="rnd" w="38160">
              <a:solidFill>
                <a:srgbClr val="037c0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58760" y="3417840"/>
              <a:ext cx="1347480" cy="43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37c03"/>
                  </a:solidFill>
                  <a:latin typeface="Arial"/>
                </a:rPr>
                <a:t>V</a:t>
              </a:r>
              <a:r>
                <a:rPr b="1" lang="es-ES_tradnl" sz="2000" spc="-1" strike="noStrike" baseline="-25000">
                  <a:solidFill>
                    <a:srgbClr val="037c03"/>
                  </a:solidFill>
                  <a:latin typeface="Arial"/>
                </a:rPr>
                <a:t>GS </a:t>
              </a:r>
              <a:r>
                <a:rPr b="1" lang="es-ES_tradnl" sz="2000" spc="-1" strike="noStrike">
                  <a:solidFill>
                    <a:srgbClr val="037c03"/>
                  </a:solidFill>
                  <a:latin typeface="Arial"/>
                </a:rPr>
                <a:t>= 3,5V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4797360" y="2846520"/>
            <a:ext cx="3263760" cy="1709640"/>
            <a:chOff x="4797360" y="2846520"/>
            <a:chExt cx="3263760" cy="1709640"/>
          </a:xfrm>
        </p:grpSpPr>
        <p:sp>
          <p:nvSpPr>
            <p:cNvPr id="187" name=""/>
            <p:cNvSpPr/>
            <p:nvPr/>
          </p:nvSpPr>
          <p:spPr>
            <a:xfrm>
              <a:off x="6420960" y="2846520"/>
              <a:ext cx="1135440" cy="43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6600ff"/>
                  </a:solidFill>
                  <a:latin typeface="Arial"/>
                </a:rPr>
                <a:t>V</a:t>
              </a:r>
              <a:r>
                <a:rPr b="1" lang="es-ES_tradnl" sz="2000" spc="-1" strike="noStrike" baseline="-25000">
                  <a:solidFill>
                    <a:srgbClr val="6600ff"/>
                  </a:solidFill>
                  <a:latin typeface="Arial"/>
                </a:rPr>
                <a:t>GS </a:t>
              </a:r>
              <a:r>
                <a:rPr b="1" lang="es-ES_tradnl" sz="2000" spc="-1" strike="noStrike">
                  <a:solidFill>
                    <a:srgbClr val="6600ff"/>
                  </a:solidFill>
                  <a:latin typeface="Arial"/>
                </a:rPr>
                <a:t>= 4V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797360" y="3222720"/>
              <a:ext cx="3263760" cy="1333440"/>
            </a:xfrm>
            <a:custGeom>
              <a:avLst/>
              <a:gdLst/>
              <a:ahLst/>
              <a:rect l="l" t="t" r="r" b="b"/>
              <a:pathLst>
                <a:path w="2056" h="840">
                  <a:moveTo>
                    <a:pt x="0" y="840"/>
                  </a:moveTo>
                  <a:lnTo>
                    <a:pt x="554" y="100"/>
                  </a:lnTo>
                  <a:lnTo>
                    <a:pt x="582" y="70"/>
                  </a:lnTo>
                  <a:lnTo>
                    <a:pt x="610" y="63"/>
                  </a:lnTo>
                  <a:lnTo>
                    <a:pt x="639" y="48"/>
                  </a:lnTo>
                  <a:lnTo>
                    <a:pt x="693" y="40"/>
                  </a:lnTo>
                  <a:lnTo>
                    <a:pt x="764" y="40"/>
                  </a:lnTo>
                  <a:lnTo>
                    <a:pt x="2056" y="0"/>
                  </a:lnTo>
                </a:path>
              </a:pathLst>
            </a:custGeom>
            <a:noFill/>
            <a:ln cap="rnd" w="38160">
              <a:solidFill>
                <a:srgbClr val="66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4797360" y="2154240"/>
            <a:ext cx="3244680" cy="2382840"/>
            <a:chOff x="4797360" y="2154240"/>
            <a:chExt cx="3244680" cy="2382840"/>
          </a:xfrm>
        </p:grpSpPr>
        <p:sp>
          <p:nvSpPr>
            <p:cNvPr id="190" name=""/>
            <p:cNvSpPr/>
            <p:nvPr/>
          </p:nvSpPr>
          <p:spPr>
            <a:xfrm>
              <a:off x="6344280" y="2154240"/>
              <a:ext cx="1347480" cy="43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9933ff"/>
                  </a:solidFill>
                  <a:latin typeface="Arial"/>
                </a:rPr>
                <a:t>V</a:t>
              </a:r>
              <a:r>
                <a:rPr b="1" lang="es-ES_tradnl" sz="2000" spc="-1" strike="noStrike" baseline="-25000">
                  <a:solidFill>
                    <a:srgbClr val="9933ff"/>
                  </a:solidFill>
                  <a:latin typeface="Arial"/>
                </a:rPr>
                <a:t>GS </a:t>
              </a:r>
              <a:r>
                <a:rPr b="1" lang="es-ES_tradnl" sz="2000" spc="-1" strike="noStrike">
                  <a:solidFill>
                    <a:srgbClr val="9933ff"/>
                  </a:solidFill>
                  <a:latin typeface="Arial"/>
                </a:rPr>
                <a:t>= 4,5V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797360" y="2505240"/>
              <a:ext cx="3244680" cy="2031840"/>
            </a:xfrm>
            <a:custGeom>
              <a:avLst/>
              <a:gdLst/>
              <a:ahLst/>
              <a:rect l="l" t="t" r="r" b="b"/>
              <a:pathLst>
                <a:path w="2044" h="1280">
                  <a:moveTo>
                    <a:pt x="0" y="1280"/>
                  </a:moveTo>
                  <a:lnTo>
                    <a:pt x="625" y="201"/>
                  </a:lnTo>
                  <a:lnTo>
                    <a:pt x="679" y="123"/>
                  </a:lnTo>
                  <a:lnTo>
                    <a:pt x="728" y="79"/>
                  </a:lnTo>
                  <a:lnTo>
                    <a:pt x="763" y="56"/>
                  </a:lnTo>
                  <a:lnTo>
                    <a:pt x="827" y="44"/>
                  </a:lnTo>
                  <a:lnTo>
                    <a:pt x="940" y="39"/>
                  </a:lnTo>
                  <a:lnTo>
                    <a:pt x="2044" y="0"/>
                  </a:lnTo>
                </a:path>
              </a:pathLst>
            </a:custGeom>
            <a:noFill/>
            <a:ln cap="rnd" w="38160">
              <a:solidFill>
                <a:srgbClr val="9933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463680" y="0"/>
            <a:ext cx="71280" cy="685800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rot="16200000">
            <a:off x="-2971080" y="3193920"/>
            <a:ext cx="640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EL MOSFET  DE POT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4552920" y="1362240"/>
            <a:ext cx="3005280" cy="2581200"/>
            <a:chOff x="4552920" y="1362240"/>
            <a:chExt cx="3005280" cy="2581200"/>
          </a:xfrm>
        </p:grpSpPr>
        <p:grpSp>
          <p:nvGrpSpPr>
            <p:cNvPr id="195" name=""/>
            <p:cNvGrpSpPr/>
            <p:nvPr/>
          </p:nvGrpSpPr>
          <p:grpSpPr>
            <a:xfrm>
              <a:off x="4552920" y="1362240"/>
              <a:ext cx="3005280" cy="2581200"/>
              <a:chOff x="4552920" y="1362240"/>
              <a:chExt cx="3005280" cy="2581200"/>
            </a:xfrm>
          </p:grpSpPr>
          <p:sp>
            <p:nvSpPr>
              <p:cNvPr id="196" name=""/>
              <p:cNvSpPr/>
              <p:nvPr/>
            </p:nvSpPr>
            <p:spPr>
              <a:xfrm>
                <a:off x="4552920" y="1362240"/>
                <a:ext cx="3005280" cy="2581200"/>
              </a:xfrm>
              <a:prstGeom prst="line">
                <a:avLst/>
              </a:prstGeom>
              <a:ln w="572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4892760" y="1641600"/>
                <a:ext cx="139680" cy="1396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8" name=""/>
            <p:cNvSpPr/>
            <p:nvPr/>
          </p:nvSpPr>
          <p:spPr>
            <a:xfrm>
              <a:off x="7247160" y="3660840"/>
              <a:ext cx="139680" cy="139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4384440" y="835200"/>
            <a:ext cx="4799880" cy="3457800"/>
            <a:chOff x="4384440" y="835200"/>
            <a:chExt cx="4799880" cy="3457800"/>
          </a:xfrm>
        </p:grpSpPr>
        <p:sp>
          <p:nvSpPr>
            <p:cNvPr id="200" name=""/>
            <p:cNvSpPr/>
            <p:nvPr/>
          </p:nvSpPr>
          <p:spPr>
            <a:xfrm>
              <a:off x="8062560" y="3787920"/>
              <a:ext cx="112176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1" lang="es-ES_tradnl" sz="2400" spc="-1" strike="noStrike" baseline="-25000">
                  <a:solidFill>
                    <a:srgbClr val="000000"/>
                  </a:solidFill>
                  <a:latin typeface="Arial"/>
                </a:rPr>
                <a:t>DS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 [V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1" name=""/>
            <p:cNvGrpSpPr/>
            <p:nvPr/>
          </p:nvGrpSpPr>
          <p:grpSpPr>
            <a:xfrm>
              <a:off x="4384440" y="835200"/>
              <a:ext cx="3962880" cy="3425760"/>
              <a:chOff x="4384440" y="835200"/>
              <a:chExt cx="3962880" cy="3425760"/>
            </a:xfrm>
          </p:grpSpPr>
          <p:sp>
            <p:nvSpPr>
              <p:cNvPr id="202" name=""/>
              <p:cNvSpPr/>
              <p:nvPr/>
            </p:nvSpPr>
            <p:spPr>
              <a:xfrm>
                <a:off x="4984920" y="835200"/>
                <a:ext cx="1188720" cy="55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r>
                  <a:rPr b="1" lang="es-ES_tradnl" sz="2400" spc="-1" strike="noStrike" baseline="-25000">
                    <a:solidFill>
                      <a:srgbClr val="000000"/>
                    </a:solidFill>
                    <a:latin typeface="Arial"/>
                  </a:rPr>
                  <a:t>D</a:t>
                </a:r>
                <a:r>
                  <a:rPr b="1" lang="es-ES_tradnl" sz="2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s-ES_tradnl" sz="2400" spc="-1" strike="noStrike">
                    <a:solidFill>
                      <a:srgbClr val="000000"/>
                    </a:solidFill>
                    <a:latin typeface="Arial"/>
                  </a:rPr>
                  <a:t>[mA]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997520" y="3772080"/>
                <a:ext cx="181080" cy="39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4" name=""/>
              <p:cNvGrpSpPr/>
              <p:nvPr/>
            </p:nvGrpSpPr>
            <p:grpSpPr>
              <a:xfrm>
                <a:off x="4451400" y="3723840"/>
                <a:ext cx="3895920" cy="145800"/>
                <a:chOff x="4451400" y="3723840"/>
                <a:chExt cx="3895920" cy="145800"/>
              </a:xfrm>
            </p:grpSpPr>
            <p:sp>
              <p:nvSpPr>
                <p:cNvPr id="205" name=""/>
                <p:cNvSpPr/>
                <p:nvPr/>
              </p:nvSpPr>
              <p:spPr>
                <a:xfrm flipV="1">
                  <a:off x="4968000" y="3723840"/>
                  <a:ext cx="0" cy="145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 flipV="1">
                  <a:off x="5442120" y="3723840"/>
                  <a:ext cx="0" cy="145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 flipV="1">
                  <a:off x="5910840" y="3723840"/>
                  <a:ext cx="0" cy="145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V="1">
                  <a:off x="6383160" y="3723840"/>
                  <a:ext cx="0" cy="145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V="1">
                  <a:off x="6854400" y="3723840"/>
                  <a:ext cx="0" cy="145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 flipV="1">
                  <a:off x="7327440" y="3723840"/>
                  <a:ext cx="0" cy="145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 flipV="1">
                  <a:off x="7800120" y="3723840"/>
                  <a:ext cx="0" cy="1458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4973760" y="3731760"/>
                  <a:ext cx="453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7748640" y="3731760"/>
                  <a:ext cx="453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 flipH="1">
                  <a:off x="4451400" y="3731760"/>
                  <a:ext cx="389592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5" name=""/>
              <p:cNvSpPr/>
              <p:nvPr/>
            </p:nvSpPr>
            <p:spPr>
              <a:xfrm>
                <a:off x="4865760" y="3733920"/>
                <a:ext cx="93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4865760" y="3225960"/>
                <a:ext cx="93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4865760" y="2724120"/>
                <a:ext cx="93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4865760" y="2217600"/>
                <a:ext cx="93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4865760" y="1712880"/>
                <a:ext cx="93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V="1">
                <a:off x="4965840" y="3665160"/>
                <a:ext cx="0" cy="74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965840" y="1185840"/>
                <a:ext cx="0" cy="30751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22" name=""/>
              <p:cNvGrpSpPr/>
              <p:nvPr/>
            </p:nvGrpSpPr>
            <p:grpSpPr>
              <a:xfrm>
                <a:off x="4384440" y="1476360"/>
                <a:ext cx="435960" cy="1427400"/>
                <a:chOff x="4384440" y="1476360"/>
                <a:chExt cx="435960" cy="1427400"/>
              </a:xfrm>
            </p:grpSpPr>
            <p:sp>
              <p:nvSpPr>
                <p:cNvPr id="223" name=""/>
                <p:cNvSpPr/>
                <p:nvPr/>
              </p:nvSpPr>
              <p:spPr>
                <a:xfrm>
                  <a:off x="4384440" y="1476360"/>
                  <a:ext cx="435960" cy="45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24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1" lang="es-ES_tradnl" sz="2400" spc="-1" strike="noStrike">
                      <a:solidFill>
                        <a:srgbClr val="000000"/>
                      </a:solidFill>
                      <a:latin typeface="Arial"/>
                    </a:rPr>
                    <a:t>4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4384440" y="2449080"/>
                  <a:ext cx="435960" cy="45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24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1" lang="es-ES_tradnl" sz="2400" spc="-1" strike="noStrike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5" name=""/>
              <p:cNvSpPr/>
              <p:nvPr/>
            </p:nvSpPr>
            <p:spPr>
              <a:xfrm>
                <a:off x="6691320" y="3795840"/>
                <a:ext cx="35064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5724720" y="3797280"/>
                <a:ext cx="54936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7552080" y="3776760"/>
                <a:ext cx="51984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000000"/>
                    </a:solidFill>
                    <a:latin typeface="Arial"/>
                  </a:rPr>
                  <a:t>12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4621680" y="367812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29" name=""/>
          <p:cNvGrpSpPr/>
          <p:nvPr/>
        </p:nvGrpSpPr>
        <p:grpSpPr>
          <a:xfrm>
            <a:off x="4984920" y="3319560"/>
            <a:ext cx="3941640" cy="407880"/>
            <a:chOff x="4984920" y="3319560"/>
            <a:chExt cx="3941640" cy="407880"/>
          </a:xfrm>
        </p:grpSpPr>
        <p:grpSp>
          <p:nvGrpSpPr>
            <p:cNvPr id="230" name=""/>
            <p:cNvGrpSpPr/>
            <p:nvPr/>
          </p:nvGrpSpPr>
          <p:grpSpPr>
            <a:xfrm>
              <a:off x="4984920" y="3319560"/>
              <a:ext cx="3941640" cy="407880"/>
              <a:chOff x="4984920" y="3319560"/>
              <a:chExt cx="3941640" cy="407880"/>
            </a:xfrm>
          </p:grpSpPr>
          <p:sp>
            <p:nvSpPr>
              <p:cNvPr id="231" name=""/>
              <p:cNvSpPr/>
              <p:nvPr/>
            </p:nvSpPr>
            <p:spPr>
              <a:xfrm>
                <a:off x="4984920" y="3581280"/>
                <a:ext cx="2711160" cy="146160"/>
              </a:xfrm>
              <a:custGeom>
                <a:avLst/>
                <a:gdLst/>
                <a:ahLst/>
                <a:rect l="l" t="t" r="r" b="b"/>
                <a:pathLst>
                  <a:path w="1708" h="92">
                    <a:moveTo>
                      <a:pt x="0" y="92"/>
                    </a:moveTo>
                    <a:lnTo>
                      <a:pt x="83" y="17"/>
                    </a:lnTo>
                    <a:lnTo>
                      <a:pt x="88" y="12"/>
                    </a:lnTo>
                    <a:lnTo>
                      <a:pt x="92" y="12"/>
                    </a:lnTo>
                    <a:lnTo>
                      <a:pt x="97" y="12"/>
                    </a:lnTo>
                    <a:lnTo>
                      <a:pt x="104" y="11"/>
                    </a:lnTo>
                    <a:lnTo>
                      <a:pt x="115" y="11"/>
                    </a:lnTo>
                    <a:lnTo>
                      <a:pt x="1708" y="0"/>
                    </a:lnTo>
                  </a:path>
                </a:pathLst>
              </a:custGeom>
              <a:noFill/>
              <a:ln cap="rnd" w="38160">
                <a:solidFill>
                  <a:srgbClr val="fc012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7696800" y="3319560"/>
                <a:ext cx="1229760" cy="40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ccccff"/>
                    </a:solidFill>
                    <a:latin typeface="Arial"/>
                  </a:rPr>
                  <a:t>V</a:t>
                </a:r>
                <a:r>
                  <a:rPr b="1" lang="es-ES_tradnl" sz="1800" spc="-1" strike="noStrike" baseline="-25000">
                    <a:solidFill>
                      <a:srgbClr val="ccccff"/>
                    </a:solidFill>
                    <a:latin typeface="Arial"/>
                  </a:rPr>
                  <a:t>GS </a:t>
                </a:r>
                <a:r>
                  <a:rPr b="1" lang="es-ES_tradnl" sz="1800" spc="-1" strike="noStrike">
                    <a:solidFill>
                      <a:srgbClr val="ccccff"/>
                    </a:solidFill>
                    <a:latin typeface="Arial"/>
                  </a:rPr>
                  <a:t>= 2,5V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3" name=""/>
            <p:cNvSpPr/>
            <p:nvPr/>
          </p:nvSpPr>
          <p:spPr>
            <a:xfrm>
              <a:off x="7073640" y="3527280"/>
              <a:ext cx="123480" cy="1238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"/>
          <p:cNvGrpSpPr/>
          <p:nvPr/>
        </p:nvGrpSpPr>
        <p:grpSpPr>
          <a:xfrm>
            <a:off x="4981680" y="2951280"/>
            <a:ext cx="3659760" cy="757080"/>
            <a:chOff x="4981680" y="2951280"/>
            <a:chExt cx="3659760" cy="757080"/>
          </a:xfrm>
        </p:grpSpPr>
        <p:grpSp>
          <p:nvGrpSpPr>
            <p:cNvPr id="235" name=""/>
            <p:cNvGrpSpPr/>
            <p:nvPr/>
          </p:nvGrpSpPr>
          <p:grpSpPr>
            <a:xfrm>
              <a:off x="4981680" y="2951280"/>
              <a:ext cx="3659760" cy="757080"/>
              <a:chOff x="4981680" y="2951280"/>
              <a:chExt cx="3659760" cy="757080"/>
            </a:xfrm>
          </p:grpSpPr>
          <p:sp>
            <p:nvSpPr>
              <p:cNvPr id="236" name=""/>
              <p:cNvSpPr/>
              <p:nvPr/>
            </p:nvSpPr>
            <p:spPr>
              <a:xfrm>
                <a:off x="4981680" y="3332160"/>
                <a:ext cx="2676600" cy="376200"/>
              </a:xfrm>
              <a:custGeom>
                <a:avLst/>
                <a:gdLst/>
                <a:ahLst/>
                <a:rect l="l" t="t" r="r" b="b"/>
                <a:pathLst>
                  <a:path w="1686" h="237">
                    <a:moveTo>
                      <a:pt x="0" y="237"/>
                    </a:moveTo>
                    <a:lnTo>
                      <a:pt x="127" y="18"/>
                    </a:lnTo>
                    <a:lnTo>
                      <a:pt x="134" y="8"/>
                    </a:lnTo>
                    <a:lnTo>
                      <a:pt x="140" y="7"/>
                    </a:lnTo>
                    <a:lnTo>
                      <a:pt x="148" y="2"/>
                    </a:lnTo>
                    <a:lnTo>
                      <a:pt x="160" y="0"/>
                    </a:lnTo>
                    <a:lnTo>
                      <a:pt x="176" y="0"/>
                    </a:lnTo>
                    <a:lnTo>
                      <a:pt x="1686" y="1"/>
                    </a:lnTo>
                  </a:path>
                </a:pathLst>
              </a:custGeom>
              <a:noFill/>
              <a:ln cap="rnd" w="38160">
                <a:solidFill>
                  <a:srgbClr val="ef91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7602120" y="2951280"/>
                <a:ext cx="1039320" cy="40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800" spc="-1" strike="noStrike">
                    <a:solidFill>
                      <a:srgbClr val="ff9900"/>
                    </a:solidFill>
                    <a:latin typeface="Arial"/>
                  </a:rPr>
                  <a:t>V</a:t>
                </a:r>
                <a:r>
                  <a:rPr b="1" lang="es-ES_tradnl" sz="1800" spc="-1" strike="noStrike" baseline="-25000">
                    <a:solidFill>
                      <a:srgbClr val="ff9900"/>
                    </a:solidFill>
                    <a:latin typeface="Arial"/>
                  </a:rPr>
                  <a:t>GS </a:t>
                </a:r>
                <a:r>
                  <a:rPr b="1" lang="es-ES_tradnl" sz="1800" spc="-1" strike="noStrike">
                    <a:solidFill>
                      <a:srgbClr val="ff9900"/>
                    </a:solidFill>
                    <a:latin typeface="Arial"/>
                  </a:rPr>
                  <a:t>= 3V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8" name=""/>
            <p:cNvSpPr/>
            <p:nvPr/>
          </p:nvSpPr>
          <p:spPr>
            <a:xfrm>
              <a:off x="6769080" y="3267000"/>
              <a:ext cx="123840" cy="1238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9" name=""/>
          <p:cNvGrpSpPr/>
          <p:nvPr/>
        </p:nvGrpSpPr>
        <p:grpSpPr>
          <a:xfrm>
            <a:off x="4981680" y="2532240"/>
            <a:ext cx="4010040" cy="1176120"/>
            <a:chOff x="4981680" y="2532240"/>
            <a:chExt cx="4010040" cy="1176120"/>
          </a:xfrm>
        </p:grpSpPr>
        <p:grpSp>
          <p:nvGrpSpPr>
            <p:cNvPr id="240" name=""/>
            <p:cNvGrpSpPr/>
            <p:nvPr/>
          </p:nvGrpSpPr>
          <p:grpSpPr>
            <a:xfrm>
              <a:off x="4981680" y="2532240"/>
              <a:ext cx="4010040" cy="1176120"/>
              <a:chOff x="4981680" y="2532240"/>
              <a:chExt cx="4010040" cy="1176120"/>
            </a:xfrm>
          </p:grpSpPr>
          <p:sp>
            <p:nvSpPr>
              <p:cNvPr id="241" name=""/>
              <p:cNvSpPr/>
              <p:nvPr/>
            </p:nvSpPr>
            <p:spPr>
              <a:xfrm>
                <a:off x="7644240" y="2532240"/>
                <a:ext cx="1347480" cy="435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0" spc="-1" strike="noStrike">
                    <a:solidFill>
                      <a:srgbClr val="037c03"/>
                    </a:solidFill>
                    <a:latin typeface="Arial"/>
                  </a:rPr>
                  <a:t>V</a:t>
                </a:r>
                <a:r>
                  <a:rPr b="1" lang="es-ES_tradnl" sz="2000" spc="-1" strike="noStrike" baseline="-25000">
                    <a:solidFill>
                      <a:srgbClr val="037c03"/>
                    </a:solidFill>
                    <a:latin typeface="Arial"/>
                  </a:rPr>
                  <a:t>GS </a:t>
                </a:r>
                <a:r>
                  <a:rPr b="1" lang="es-ES_tradnl" sz="2000" spc="-1" strike="noStrike">
                    <a:solidFill>
                      <a:srgbClr val="037c03"/>
                    </a:solidFill>
                    <a:latin typeface="Arial"/>
                  </a:rPr>
                  <a:t>= 3,5V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4981680" y="2952720"/>
                <a:ext cx="2695320" cy="755640"/>
              </a:xfrm>
              <a:custGeom>
                <a:avLst/>
                <a:gdLst/>
                <a:ahLst/>
                <a:rect l="l" t="t" r="r" b="b"/>
                <a:pathLst>
                  <a:path w="1698" h="476">
                    <a:moveTo>
                      <a:pt x="0" y="476"/>
                    </a:moveTo>
                    <a:lnTo>
                      <a:pt x="197" y="76"/>
                    </a:lnTo>
                    <a:lnTo>
                      <a:pt x="207" y="59"/>
                    </a:lnTo>
                    <a:lnTo>
                      <a:pt x="217" y="56"/>
                    </a:lnTo>
                    <a:lnTo>
                      <a:pt x="228" y="48"/>
                    </a:lnTo>
                    <a:lnTo>
                      <a:pt x="247" y="43"/>
                    </a:lnTo>
                    <a:lnTo>
                      <a:pt x="272" y="43"/>
                    </a:lnTo>
                    <a:lnTo>
                      <a:pt x="1698" y="0"/>
                    </a:lnTo>
                  </a:path>
                </a:pathLst>
              </a:custGeom>
              <a:noFill/>
              <a:ln cap="rnd" w="38160">
                <a:solidFill>
                  <a:srgbClr val="037c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3" name=""/>
            <p:cNvSpPr/>
            <p:nvPr/>
          </p:nvSpPr>
          <p:spPr>
            <a:xfrm>
              <a:off x="6378480" y="2924280"/>
              <a:ext cx="123480" cy="1238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4971960" y="1998720"/>
            <a:ext cx="3703680" cy="1747800"/>
            <a:chOff x="4971960" y="1998720"/>
            <a:chExt cx="3703680" cy="1747800"/>
          </a:xfrm>
        </p:grpSpPr>
        <p:grpSp>
          <p:nvGrpSpPr>
            <p:cNvPr id="245" name=""/>
            <p:cNvGrpSpPr/>
            <p:nvPr/>
          </p:nvGrpSpPr>
          <p:grpSpPr>
            <a:xfrm>
              <a:off x="4971960" y="1998720"/>
              <a:ext cx="3703680" cy="1747800"/>
              <a:chOff x="4971960" y="1998720"/>
              <a:chExt cx="3703680" cy="1747800"/>
            </a:xfrm>
          </p:grpSpPr>
          <p:sp>
            <p:nvSpPr>
              <p:cNvPr id="246" name=""/>
              <p:cNvSpPr/>
              <p:nvPr/>
            </p:nvSpPr>
            <p:spPr>
              <a:xfrm>
                <a:off x="7540200" y="1998720"/>
                <a:ext cx="1135440" cy="435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0" spc="-1" strike="noStrike">
                    <a:solidFill>
                      <a:srgbClr val="003399"/>
                    </a:solidFill>
                    <a:latin typeface="Arial"/>
                  </a:rPr>
                  <a:t>V</a:t>
                </a:r>
                <a:r>
                  <a:rPr b="1" lang="es-ES_tradnl" sz="2000" spc="-1" strike="noStrike" baseline="-25000">
                    <a:solidFill>
                      <a:srgbClr val="003399"/>
                    </a:solidFill>
                    <a:latin typeface="Arial"/>
                  </a:rPr>
                  <a:t>GS </a:t>
                </a:r>
                <a:r>
                  <a:rPr b="1" lang="es-ES_tradnl" sz="2000" spc="-1" strike="noStrike">
                    <a:solidFill>
                      <a:srgbClr val="003399"/>
                    </a:solidFill>
                    <a:latin typeface="Arial"/>
                  </a:rPr>
                  <a:t>= 4V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4971960" y="2400480"/>
                <a:ext cx="2743200" cy="1346040"/>
              </a:xfrm>
              <a:custGeom>
                <a:avLst/>
                <a:gdLst/>
                <a:ahLst/>
                <a:rect l="l" t="t" r="r" b="b"/>
                <a:pathLst>
                  <a:path w="1728" h="848">
                    <a:moveTo>
                      <a:pt x="0" y="848"/>
                    </a:moveTo>
                    <a:lnTo>
                      <a:pt x="257" y="108"/>
                    </a:lnTo>
                    <a:lnTo>
                      <a:pt x="269" y="78"/>
                    </a:lnTo>
                    <a:lnTo>
                      <a:pt x="282" y="71"/>
                    </a:lnTo>
                    <a:lnTo>
                      <a:pt x="296" y="56"/>
                    </a:lnTo>
                    <a:lnTo>
                      <a:pt x="321" y="48"/>
                    </a:lnTo>
                    <a:lnTo>
                      <a:pt x="354" y="48"/>
                    </a:lnTo>
                    <a:lnTo>
                      <a:pt x="1728" y="0"/>
                    </a:lnTo>
                  </a:path>
                </a:pathLst>
              </a:custGeom>
              <a:noFill/>
              <a:ln cap="rnd" w="38160">
                <a:solidFill>
                  <a:srgbClr val="00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8" name=""/>
            <p:cNvSpPr/>
            <p:nvPr/>
          </p:nvSpPr>
          <p:spPr>
            <a:xfrm>
              <a:off x="5778360" y="2400480"/>
              <a:ext cx="123840" cy="1238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9" name=""/>
          <p:cNvGrpSpPr/>
          <p:nvPr/>
        </p:nvGrpSpPr>
        <p:grpSpPr>
          <a:xfrm>
            <a:off x="4971960" y="1344600"/>
            <a:ext cx="4061160" cy="2382840"/>
            <a:chOff x="4971960" y="1344600"/>
            <a:chExt cx="4061160" cy="2382840"/>
          </a:xfrm>
        </p:grpSpPr>
        <p:grpSp>
          <p:nvGrpSpPr>
            <p:cNvPr id="250" name=""/>
            <p:cNvGrpSpPr/>
            <p:nvPr/>
          </p:nvGrpSpPr>
          <p:grpSpPr>
            <a:xfrm>
              <a:off x="4971960" y="1344600"/>
              <a:ext cx="4061160" cy="2382840"/>
              <a:chOff x="4971960" y="1344600"/>
              <a:chExt cx="4061160" cy="2382840"/>
            </a:xfrm>
          </p:grpSpPr>
          <p:sp>
            <p:nvSpPr>
              <p:cNvPr id="251" name=""/>
              <p:cNvSpPr/>
              <p:nvPr/>
            </p:nvSpPr>
            <p:spPr>
              <a:xfrm>
                <a:off x="7685640" y="1344600"/>
                <a:ext cx="1347480" cy="435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000" spc="-1" strike="noStrike">
                    <a:solidFill>
                      <a:srgbClr val="9933ff"/>
                    </a:solidFill>
                    <a:latin typeface="Arial"/>
                  </a:rPr>
                  <a:t>V</a:t>
                </a:r>
                <a:r>
                  <a:rPr b="1" lang="es-ES_tradnl" sz="2000" spc="-1" strike="noStrike" baseline="-25000">
                    <a:solidFill>
                      <a:srgbClr val="9933ff"/>
                    </a:solidFill>
                    <a:latin typeface="Arial"/>
                  </a:rPr>
                  <a:t>GS </a:t>
                </a:r>
                <a:r>
                  <a:rPr b="1" lang="es-ES_tradnl" sz="2000" spc="-1" strike="noStrike">
                    <a:solidFill>
                      <a:srgbClr val="9933ff"/>
                    </a:solidFill>
                    <a:latin typeface="Arial"/>
                  </a:rPr>
                  <a:t>= 4,5V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4971960" y="1695600"/>
                <a:ext cx="2743200" cy="2031840"/>
              </a:xfrm>
              <a:custGeom>
                <a:avLst/>
                <a:gdLst/>
                <a:ahLst/>
                <a:rect l="l" t="t" r="r" b="b"/>
                <a:pathLst>
                  <a:path w="1728" h="1280">
                    <a:moveTo>
                      <a:pt x="0" y="1280"/>
                    </a:moveTo>
                    <a:lnTo>
                      <a:pt x="289" y="201"/>
                    </a:lnTo>
                    <a:lnTo>
                      <a:pt x="314" y="123"/>
                    </a:lnTo>
                    <a:lnTo>
                      <a:pt x="337" y="79"/>
                    </a:lnTo>
                    <a:lnTo>
                      <a:pt x="353" y="56"/>
                    </a:lnTo>
                    <a:lnTo>
                      <a:pt x="383" y="44"/>
                    </a:lnTo>
                    <a:lnTo>
                      <a:pt x="435" y="39"/>
                    </a:lnTo>
                    <a:lnTo>
                      <a:pt x="1728" y="0"/>
                    </a:lnTo>
                  </a:path>
                </a:pathLst>
              </a:custGeom>
              <a:noFill/>
              <a:ln cap="rnd" w="38160">
                <a:solidFill>
                  <a:srgbClr val="9933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3" name=""/>
            <p:cNvSpPr/>
            <p:nvPr/>
          </p:nvSpPr>
          <p:spPr>
            <a:xfrm>
              <a:off x="5343120" y="2048040"/>
              <a:ext cx="123840" cy="1238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" name=""/>
          <p:cNvSpPr/>
          <p:nvPr/>
        </p:nvSpPr>
        <p:spPr>
          <a:xfrm>
            <a:off x="585720" y="4421160"/>
            <a:ext cx="1134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a50021"/>
                </a:solidFill>
                <a:latin typeface="Arial"/>
              </a:rPr>
              <a:t>V</a:t>
            </a:r>
            <a:r>
              <a:rPr b="1" lang="es-ES_tradnl" sz="2000" spc="-1" strike="noStrike" baseline="-25000">
                <a:solidFill>
                  <a:srgbClr val="a50021"/>
                </a:solidFill>
                <a:latin typeface="Arial"/>
              </a:rPr>
              <a:t>GS </a:t>
            </a:r>
            <a:r>
              <a:rPr b="1" lang="es-ES_tradnl" sz="2000" spc="-1" strike="noStrike">
                <a:solidFill>
                  <a:srgbClr val="a50021"/>
                </a:solidFill>
                <a:latin typeface="Arial"/>
              </a:rPr>
              <a:t>= 0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56000" y="4421160"/>
            <a:ext cx="92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a50021"/>
                </a:solidFill>
                <a:latin typeface="Arial"/>
              </a:rPr>
              <a:t>&lt; 2,5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4520" y="4421160"/>
            <a:ext cx="85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a50021"/>
                </a:solidFill>
                <a:latin typeface="Arial"/>
              </a:rPr>
              <a:t>&lt; 3V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237120" y="4421160"/>
            <a:ext cx="99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a50021"/>
                </a:solidFill>
                <a:latin typeface="Arial"/>
              </a:rPr>
              <a:t>&lt; 3,5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237920" y="4421160"/>
            <a:ext cx="78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a50021"/>
                </a:solidFill>
                <a:latin typeface="Arial"/>
              </a:rPr>
              <a:t>&lt; 4V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974880" y="2190600"/>
            <a:ext cx="5692680" cy="3219840"/>
            <a:chOff x="974880" y="2190600"/>
            <a:chExt cx="5692680" cy="3219840"/>
          </a:xfrm>
        </p:grpSpPr>
        <p:sp>
          <p:nvSpPr>
            <p:cNvPr id="260" name=""/>
            <p:cNvSpPr/>
            <p:nvPr/>
          </p:nvSpPr>
          <p:spPr>
            <a:xfrm>
              <a:off x="5391000" y="2190600"/>
              <a:ext cx="1276560" cy="3203640"/>
            </a:xfrm>
            <a:custGeom>
              <a:avLst/>
              <a:gdLst/>
              <a:ahLst/>
              <a:rect l="l" t="t" r="r" b="b"/>
              <a:pathLst>
                <a:path w="768" h="2018">
                  <a:moveTo>
                    <a:pt x="288" y="1812"/>
                  </a:moveTo>
                  <a:cubicBezTo>
                    <a:pt x="528" y="1915"/>
                    <a:pt x="768" y="2018"/>
                    <a:pt x="720" y="1716"/>
                  </a:cubicBezTo>
                  <a:cubicBezTo>
                    <a:pt x="672" y="1414"/>
                    <a:pt x="120" y="288"/>
                    <a:pt x="0" y="0"/>
                  </a:cubicBezTo>
                </a:path>
              </a:pathLst>
            </a:custGeom>
            <a:noFill/>
            <a:ln w="38160">
              <a:solidFill>
                <a:srgbClr val="a50021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974880" y="5011560"/>
              <a:ext cx="4913280" cy="3988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Comportamiento resistiv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955800" y="2533680"/>
            <a:ext cx="7242120" cy="3524400"/>
            <a:chOff x="955800" y="2533680"/>
            <a:chExt cx="7242120" cy="3524400"/>
          </a:xfrm>
        </p:grpSpPr>
        <p:sp>
          <p:nvSpPr>
            <p:cNvPr id="263" name=""/>
            <p:cNvSpPr/>
            <p:nvPr/>
          </p:nvSpPr>
          <p:spPr>
            <a:xfrm>
              <a:off x="955800" y="5659200"/>
              <a:ext cx="7242120" cy="3988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Comportamiento como fuente de corrient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829480" y="2533680"/>
              <a:ext cx="1320480" cy="3105000"/>
            </a:xfrm>
            <a:custGeom>
              <a:avLst/>
              <a:gdLst/>
              <a:ahLst/>
              <a:rect l="l" t="t" r="r" b="b"/>
              <a:pathLst>
                <a:path w="832" h="1956">
                  <a:moveTo>
                    <a:pt x="0" y="0"/>
                  </a:moveTo>
                  <a:cubicBezTo>
                    <a:pt x="185" y="428"/>
                    <a:pt x="370" y="856"/>
                    <a:pt x="504" y="1128"/>
                  </a:cubicBezTo>
                  <a:cubicBezTo>
                    <a:pt x="638" y="1400"/>
                    <a:pt x="776" y="1516"/>
                    <a:pt x="804" y="1632"/>
                  </a:cubicBezTo>
                  <a:cubicBezTo>
                    <a:pt x="832" y="1748"/>
                    <a:pt x="794" y="1770"/>
                    <a:pt x="672" y="1824"/>
                  </a:cubicBezTo>
                  <a:cubicBezTo>
                    <a:pt x="550" y="1878"/>
                    <a:pt x="311" y="1917"/>
                    <a:pt x="72" y="1956"/>
                  </a:cubicBezTo>
                </a:path>
              </a:pathLst>
            </a:custGeom>
            <a:noFill/>
            <a:ln w="38160">
              <a:solidFill>
                <a:srgbClr val="a50021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191280" y="2990880"/>
              <a:ext cx="209520" cy="399960"/>
            </a:xfrm>
            <a:custGeom>
              <a:avLst/>
              <a:gdLst/>
              <a:ahLst/>
              <a:rect l="l" t="t" r="r" b="b"/>
              <a:pathLst>
                <a:path w="132" h="252">
                  <a:moveTo>
                    <a:pt x="0" y="252"/>
                  </a:moveTo>
                  <a:cubicBezTo>
                    <a:pt x="1" y="189"/>
                    <a:pt x="2" y="126"/>
                    <a:pt x="24" y="84"/>
                  </a:cubicBezTo>
                  <a:cubicBezTo>
                    <a:pt x="46" y="42"/>
                    <a:pt x="114" y="12"/>
                    <a:pt x="132" y="0"/>
                  </a:cubicBezTo>
                </a:path>
              </a:pathLst>
            </a:custGeom>
            <a:noFill/>
            <a:ln w="38160">
              <a:solidFill>
                <a:srgbClr val="a50021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305400" y="3333600"/>
              <a:ext cx="495360" cy="324000"/>
            </a:xfrm>
            <a:custGeom>
              <a:avLst/>
              <a:gdLst/>
              <a:ahLst/>
              <a:rect l="l" t="t" r="r" b="b"/>
              <a:pathLst>
                <a:path w="312" h="204">
                  <a:moveTo>
                    <a:pt x="0" y="204"/>
                  </a:moveTo>
                  <a:cubicBezTo>
                    <a:pt x="28" y="149"/>
                    <a:pt x="56" y="94"/>
                    <a:pt x="108" y="60"/>
                  </a:cubicBezTo>
                  <a:cubicBezTo>
                    <a:pt x="160" y="26"/>
                    <a:pt x="252" y="40"/>
                    <a:pt x="312" y="0"/>
                  </a:cubicBezTo>
                </a:path>
              </a:pathLst>
            </a:custGeom>
            <a:noFill/>
            <a:ln w="38160">
              <a:solidFill>
                <a:srgbClr val="a50021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438960" y="3483000"/>
              <a:ext cx="647640" cy="460080"/>
            </a:xfrm>
            <a:custGeom>
              <a:avLst/>
              <a:gdLst/>
              <a:ahLst/>
              <a:rect l="l" t="t" r="r" b="b"/>
              <a:pathLst>
                <a:path w="408" h="290">
                  <a:moveTo>
                    <a:pt x="0" y="290"/>
                  </a:moveTo>
                  <a:cubicBezTo>
                    <a:pt x="44" y="183"/>
                    <a:pt x="88" y="76"/>
                    <a:pt x="156" y="38"/>
                  </a:cubicBezTo>
                  <a:cubicBezTo>
                    <a:pt x="224" y="0"/>
                    <a:pt x="316" y="31"/>
                    <a:pt x="408" y="62"/>
                  </a:cubicBezTo>
                </a:path>
              </a:pathLst>
            </a:custGeom>
            <a:noFill/>
            <a:ln w="38160">
              <a:solidFill>
                <a:srgbClr val="a50021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4965840" y="3652920"/>
            <a:ext cx="4215600" cy="941760"/>
            <a:chOff x="4965840" y="3652920"/>
            <a:chExt cx="4215600" cy="941760"/>
          </a:xfrm>
        </p:grpSpPr>
        <p:sp>
          <p:nvSpPr>
            <p:cNvPr id="269" name=""/>
            <p:cNvSpPr/>
            <p:nvPr/>
          </p:nvSpPr>
          <p:spPr>
            <a:xfrm>
              <a:off x="7550640" y="4194000"/>
              <a:ext cx="163080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a50021"/>
                  </a:solidFill>
                  <a:latin typeface="Arial"/>
                </a:rPr>
                <a:t>V</a:t>
              </a:r>
              <a:r>
                <a:rPr b="1" lang="es-ES_tradnl" sz="1800" spc="-1" strike="noStrike" baseline="-25000">
                  <a:solidFill>
                    <a:srgbClr val="a50021"/>
                  </a:solidFill>
                  <a:latin typeface="Arial"/>
                </a:rPr>
                <a:t>GS </a:t>
              </a:r>
              <a:r>
                <a:rPr b="1" lang="es-ES_tradnl" sz="1800" spc="-1" strike="noStrike">
                  <a:solidFill>
                    <a:srgbClr val="a50021"/>
                  </a:solidFill>
                  <a:latin typeface="Arial"/>
                </a:rPr>
                <a:t>&lt; V</a:t>
              </a:r>
              <a:r>
                <a:rPr b="1" lang="es-ES_tradnl" sz="1800" spc="-1" strike="noStrike" baseline="-25000">
                  <a:solidFill>
                    <a:srgbClr val="a50021"/>
                  </a:solidFill>
                  <a:latin typeface="Arial"/>
                </a:rPr>
                <a:t>TH</a:t>
              </a:r>
              <a:r>
                <a:rPr b="1" lang="es-ES_tradnl" sz="1800" spc="-1" strike="noStrike">
                  <a:solidFill>
                    <a:srgbClr val="a50021"/>
                  </a:solidFill>
                  <a:latin typeface="Arial"/>
                </a:rPr>
                <a:t> = 2V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0" name=""/>
            <p:cNvGrpSpPr/>
            <p:nvPr/>
          </p:nvGrpSpPr>
          <p:grpSpPr>
            <a:xfrm>
              <a:off x="4965840" y="3652920"/>
              <a:ext cx="2762280" cy="123480"/>
              <a:chOff x="4965840" y="3652920"/>
              <a:chExt cx="2762280" cy="123480"/>
            </a:xfrm>
          </p:grpSpPr>
          <p:sp>
            <p:nvSpPr>
              <p:cNvPr id="271" name=""/>
              <p:cNvSpPr/>
              <p:nvPr/>
            </p:nvSpPr>
            <p:spPr>
              <a:xfrm>
                <a:off x="4965840" y="3725640"/>
                <a:ext cx="2762280" cy="0"/>
              </a:xfrm>
              <a:prstGeom prst="line">
                <a:avLst/>
              </a:prstGeom>
              <a:ln w="38160">
                <a:solidFill>
                  <a:srgbClr val="cc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7251840" y="3652920"/>
                <a:ext cx="123840" cy="123480"/>
              </a:xfrm>
              <a:prstGeom prst="ellipse">
                <a:avLst/>
              </a:prstGeom>
              <a:solidFill>
                <a:srgbClr val="0000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0680" bIns="406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323120" y="3719520"/>
              <a:ext cx="363600" cy="621720"/>
            </a:xfrm>
            <a:custGeom>
              <a:avLst/>
              <a:gdLst/>
              <a:ahLst/>
              <a:rect l="l" t="t" r="r" b="b"/>
              <a:pathLst>
                <a:path w="229" h="392">
                  <a:moveTo>
                    <a:pt x="139" y="392"/>
                  </a:moveTo>
                  <a:cubicBezTo>
                    <a:pt x="116" y="383"/>
                    <a:pt x="94" y="375"/>
                    <a:pt x="75" y="356"/>
                  </a:cubicBezTo>
                  <a:cubicBezTo>
                    <a:pt x="56" y="337"/>
                    <a:pt x="0" y="312"/>
                    <a:pt x="23" y="280"/>
                  </a:cubicBezTo>
                  <a:cubicBezTo>
                    <a:pt x="46" y="248"/>
                    <a:pt x="193" y="211"/>
                    <a:pt x="211" y="164"/>
                  </a:cubicBezTo>
                  <a:cubicBezTo>
                    <a:pt x="229" y="117"/>
                    <a:pt x="145" y="27"/>
                    <a:pt x="131" y="0"/>
                  </a:cubicBezTo>
                </a:path>
              </a:pathLst>
            </a:custGeom>
            <a:noFill/>
            <a:ln w="28440">
              <a:solidFill>
                <a:srgbClr val="cc0066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4" name=""/>
          <p:cNvSpPr/>
          <p:nvPr/>
        </p:nvSpPr>
        <p:spPr>
          <a:xfrm>
            <a:off x="4947120" y="4414680"/>
            <a:ext cx="99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a50021"/>
                </a:solidFill>
                <a:latin typeface="Arial"/>
              </a:rPr>
              <a:t>&lt; 4,5V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993600" y="3790800"/>
            <a:ext cx="7645680" cy="2914920"/>
            <a:chOff x="993600" y="3790800"/>
            <a:chExt cx="7645680" cy="2914920"/>
          </a:xfrm>
        </p:grpSpPr>
        <p:sp>
          <p:nvSpPr>
            <p:cNvPr id="276" name=""/>
            <p:cNvSpPr/>
            <p:nvPr/>
          </p:nvSpPr>
          <p:spPr>
            <a:xfrm>
              <a:off x="7042320" y="3790800"/>
              <a:ext cx="1596960" cy="2666880"/>
            </a:xfrm>
            <a:custGeom>
              <a:avLst/>
              <a:gdLst/>
              <a:ahLst/>
              <a:rect l="l" t="t" r="r" b="b"/>
              <a:pathLst>
                <a:path w="1006" h="1680">
                  <a:moveTo>
                    <a:pt x="148" y="0"/>
                  </a:moveTo>
                  <a:cubicBezTo>
                    <a:pt x="78" y="83"/>
                    <a:pt x="8" y="166"/>
                    <a:pt x="4" y="264"/>
                  </a:cubicBezTo>
                  <a:cubicBezTo>
                    <a:pt x="0" y="362"/>
                    <a:pt x="70" y="468"/>
                    <a:pt x="124" y="588"/>
                  </a:cubicBezTo>
                  <a:cubicBezTo>
                    <a:pt x="178" y="708"/>
                    <a:pt x="210" y="896"/>
                    <a:pt x="328" y="984"/>
                  </a:cubicBezTo>
                  <a:cubicBezTo>
                    <a:pt x="446" y="1072"/>
                    <a:pt x="736" y="1032"/>
                    <a:pt x="832" y="1116"/>
                  </a:cubicBezTo>
                  <a:cubicBezTo>
                    <a:pt x="928" y="1200"/>
                    <a:pt x="1006" y="1394"/>
                    <a:pt x="904" y="1488"/>
                  </a:cubicBezTo>
                  <a:cubicBezTo>
                    <a:pt x="802" y="1582"/>
                    <a:pt x="334" y="1644"/>
                    <a:pt x="220" y="1680"/>
                  </a:cubicBezTo>
                </a:path>
              </a:pathLst>
            </a:custGeom>
            <a:noFill/>
            <a:ln w="38160">
              <a:solidFill>
                <a:srgbClr val="a50021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993600" y="6306840"/>
              <a:ext cx="6404040" cy="3988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Comportamiento como circuito abiert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"/>
          <p:cNvGrpSpPr/>
          <p:nvPr/>
        </p:nvGrpSpPr>
        <p:grpSpPr>
          <a:xfrm>
            <a:off x="649080" y="1138320"/>
            <a:ext cx="3819600" cy="2907720"/>
            <a:chOff x="649080" y="1138320"/>
            <a:chExt cx="3819600" cy="2907720"/>
          </a:xfrm>
        </p:grpSpPr>
        <p:grpSp>
          <p:nvGrpSpPr>
            <p:cNvPr id="279" name=""/>
            <p:cNvGrpSpPr/>
            <p:nvPr/>
          </p:nvGrpSpPr>
          <p:grpSpPr>
            <a:xfrm>
              <a:off x="3579480" y="2648160"/>
              <a:ext cx="536400" cy="228240"/>
              <a:chOff x="3579480" y="2648160"/>
              <a:chExt cx="536400" cy="228240"/>
            </a:xfrm>
          </p:grpSpPr>
          <p:sp>
            <p:nvSpPr>
              <p:cNvPr id="280" name=""/>
              <p:cNvSpPr/>
              <p:nvPr/>
            </p:nvSpPr>
            <p:spPr>
              <a:xfrm flipH="1" flipV="1" rot="16200000">
                <a:off x="3822120" y="2405520"/>
                <a:ext cx="51120" cy="53640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flipH="1" flipV="1" rot="16200000">
                <a:off x="3805200" y="2702520"/>
                <a:ext cx="83880" cy="26280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2" name=""/>
            <p:cNvSpPr/>
            <p:nvPr/>
          </p:nvSpPr>
          <p:spPr>
            <a:xfrm flipV="1">
              <a:off x="3840120" y="2816280"/>
              <a:ext cx="0" cy="1138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927000" y="3068640"/>
              <a:ext cx="1275840" cy="427320"/>
            </a:xfrm>
            <a:custGeom>
              <a:avLst/>
              <a:gdLst/>
              <a:ahLst/>
              <a:rect l="l" t="t" r="r" b="b"/>
              <a:pathLst>
                <a:path w="522" h="345">
                  <a:moveTo>
                    <a:pt x="522" y="0"/>
                  </a:moveTo>
                  <a:lnTo>
                    <a:pt x="0" y="0"/>
                  </a:lnTo>
                  <a:lnTo>
                    <a:pt x="0" y="345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919080" y="3649680"/>
              <a:ext cx="2942640" cy="304920"/>
            </a:xfrm>
            <a:custGeom>
              <a:avLst/>
              <a:gdLst/>
              <a:ahLst/>
              <a:rect l="l" t="t" r="r" b="b"/>
              <a:pathLst>
                <a:path w="1500" h="646">
                  <a:moveTo>
                    <a:pt x="0" y="0"/>
                  </a:moveTo>
                  <a:lnTo>
                    <a:pt x="0" y="646"/>
                  </a:lnTo>
                  <a:lnTo>
                    <a:pt x="1500" y="64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855520" y="1443240"/>
              <a:ext cx="990360" cy="1257120"/>
            </a:xfrm>
            <a:custGeom>
              <a:avLst/>
              <a:gdLst/>
              <a:ahLst/>
              <a:rect l="l" t="t" r="r" b="b"/>
              <a:pathLst>
                <a:path w="624" h="792">
                  <a:moveTo>
                    <a:pt x="0" y="92"/>
                  </a:moveTo>
                  <a:lnTo>
                    <a:pt x="0" y="1"/>
                  </a:lnTo>
                  <a:lnTo>
                    <a:pt x="624" y="0"/>
                  </a:lnTo>
                  <a:lnTo>
                    <a:pt x="624" y="792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6" name=""/>
            <p:cNvGrpSpPr/>
            <p:nvPr/>
          </p:nvGrpSpPr>
          <p:grpSpPr>
            <a:xfrm>
              <a:off x="2978640" y="2224440"/>
              <a:ext cx="695520" cy="1135800"/>
              <a:chOff x="2978640" y="2224440"/>
              <a:chExt cx="695520" cy="1135800"/>
            </a:xfrm>
          </p:grpSpPr>
          <p:sp>
            <p:nvSpPr>
              <p:cNvPr id="287" name=""/>
              <p:cNvSpPr/>
              <p:nvPr/>
            </p:nvSpPr>
            <p:spPr>
              <a:xfrm>
                <a:off x="3031560" y="2432160"/>
                <a:ext cx="0" cy="771120"/>
              </a:xfrm>
              <a:prstGeom prst="line">
                <a:avLst/>
              </a:prstGeom>
              <a:ln w="38160">
                <a:solidFill>
                  <a:srgbClr val="00808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3026520" y="2224440"/>
                <a:ext cx="358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008080"/>
                    </a:solidFill>
                    <a:latin typeface="Arial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2978640" y="2900520"/>
                <a:ext cx="368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008080"/>
                    </a:solidFill>
                    <a:latin typeface="Arial"/>
                  </a:rPr>
                  <a:t> </a:t>
                </a:r>
                <a:r>
                  <a:rPr b="1" lang="es-ES_tradnl" sz="2400" spc="-1" strike="noStrike">
                    <a:solidFill>
                      <a:srgbClr val="008080"/>
                    </a:solidFill>
                    <a:latin typeface="Arial"/>
                  </a:rPr>
                  <a:t>-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3006000" y="2586240"/>
                <a:ext cx="66816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008080"/>
                    </a:solidFill>
                    <a:latin typeface="Arial"/>
                  </a:rPr>
                  <a:t>V</a:t>
                </a:r>
                <a:r>
                  <a:rPr b="1" lang="es-ES_tradnl" sz="2400" spc="-1" strike="noStrike" baseline="-25000">
                    <a:solidFill>
                      <a:srgbClr val="008080"/>
                    </a:solidFill>
                    <a:latin typeface="Arial"/>
                  </a:rPr>
                  <a:t>D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1" name=""/>
            <p:cNvSpPr/>
            <p:nvPr/>
          </p:nvSpPr>
          <p:spPr>
            <a:xfrm>
              <a:off x="2744640" y="1281240"/>
              <a:ext cx="1190160" cy="279360"/>
            </a:xfrm>
            <a:custGeom>
              <a:avLst/>
              <a:gdLst/>
              <a:ahLst/>
              <a:rect l="l" t="t" r="r" b="b"/>
              <a:pathLst>
                <a:path w="750" h="408">
                  <a:moveTo>
                    <a:pt x="750" y="324"/>
                  </a:moveTo>
                  <a:lnTo>
                    <a:pt x="750" y="0"/>
                  </a:lnTo>
                  <a:lnTo>
                    <a:pt x="0" y="0"/>
                  </a:lnTo>
                  <a:lnTo>
                    <a:pt x="0" y="408"/>
                  </a:lnTo>
                </a:path>
              </a:pathLst>
            </a:custGeom>
            <a:noFill/>
            <a:ln w="38160">
              <a:solidFill>
                <a:srgbClr val="cc00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929040" y="1138320"/>
              <a:ext cx="394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cc0066"/>
                  </a:solidFill>
                  <a:latin typeface="Arial"/>
                </a:rPr>
                <a:t>I</a:t>
              </a:r>
              <a:r>
                <a:rPr b="1" lang="es-ES_tradnl" sz="2400" spc="-1" strike="noStrike" baseline="-25000">
                  <a:solidFill>
                    <a:srgbClr val="cc0066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3" name=""/>
            <p:cNvGrpSpPr/>
            <p:nvPr/>
          </p:nvGrpSpPr>
          <p:grpSpPr>
            <a:xfrm>
              <a:off x="649080" y="3473640"/>
              <a:ext cx="550440" cy="228240"/>
              <a:chOff x="649080" y="3473640"/>
              <a:chExt cx="550440" cy="228240"/>
            </a:xfrm>
          </p:grpSpPr>
          <p:sp>
            <p:nvSpPr>
              <p:cNvPr id="294" name=""/>
              <p:cNvSpPr/>
              <p:nvPr/>
            </p:nvSpPr>
            <p:spPr>
              <a:xfrm flipH="1" flipV="1" rot="16200000">
                <a:off x="898200" y="3223800"/>
                <a:ext cx="51120" cy="55044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flipH="1" flipV="1" rot="16200000">
                <a:off x="881640" y="3524400"/>
                <a:ext cx="83880" cy="27000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6" name=""/>
            <p:cNvGrpSpPr/>
            <p:nvPr/>
          </p:nvGrpSpPr>
          <p:grpSpPr>
            <a:xfrm>
              <a:off x="1464120" y="2973600"/>
              <a:ext cx="1095480" cy="1072440"/>
              <a:chOff x="1464120" y="2973600"/>
              <a:chExt cx="1095480" cy="1072440"/>
            </a:xfrm>
          </p:grpSpPr>
          <p:sp>
            <p:nvSpPr>
              <p:cNvPr id="297" name=""/>
              <p:cNvSpPr/>
              <p:nvPr/>
            </p:nvSpPr>
            <p:spPr>
              <a:xfrm>
                <a:off x="1783800" y="3238560"/>
                <a:ext cx="0" cy="581040"/>
              </a:xfrm>
              <a:prstGeom prst="line">
                <a:avLst/>
              </a:prstGeom>
              <a:ln w="38160">
                <a:solidFill>
                  <a:srgbClr val="00808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1469160" y="2973600"/>
                <a:ext cx="358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008080"/>
                    </a:solidFill>
                    <a:latin typeface="Arial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1464120" y="3586320"/>
                <a:ext cx="368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cc0066"/>
                    </a:solidFill>
                    <a:latin typeface="Arial"/>
                  </a:rPr>
                  <a:t> </a:t>
                </a:r>
                <a:r>
                  <a:rPr b="1" lang="es-ES_tradnl" sz="2400" spc="-1" strike="noStrike">
                    <a:solidFill>
                      <a:srgbClr val="008080"/>
                    </a:solidFill>
                    <a:latin typeface="Arial"/>
                  </a:rPr>
                  <a:t>-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1790280" y="3341880"/>
                <a:ext cx="76932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008080"/>
                    </a:solidFill>
                    <a:latin typeface="Arial"/>
                  </a:rPr>
                  <a:t>V</a:t>
                </a:r>
                <a:r>
                  <a:rPr b="1" lang="es-ES_tradnl" sz="2400" spc="-1" strike="noStrike" baseline="-25000">
                    <a:solidFill>
                      <a:srgbClr val="008080"/>
                    </a:solidFill>
                    <a:latin typeface="Arial"/>
                  </a:rPr>
                  <a:t>G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1" name=""/>
            <p:cNvGrpSpPr/>
            <p:nvPr/>
          </p:nvGrpSpPr>
          <p:grpSpPr>
            <a:xfrm>
              <a:off x="2717640" y="1582560"/>
              <a:ext cx="259560" cy="446040"/>
              <a:chOff x="2717640" y="1582560"/>
              <a:chExt cx="259560" cy="446040"/>
            </a:xfrm>
          </p:grpSpPr>
          <p:sp>
            <p:nvSpPr>
              <p:cNvPr id="302" name=""/>
              <p:cNvSpPr/>
              <p:nvPr/>
            </p:nvSpPr>
            <p:spPr>
              <a:xfrm flipH="1" flipV="1">
                <a:off x="2717640" y="1963080"/>
                <a:ext cx="128880" cy="655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721600" y="1920960"/>
                <a:ext cx="248400" cy="435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 flipV="1">
                <a:off x="2730240" y="1826640"/>
                <a:ext cx="246960" cy="954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05" name=""/>
              <p:cNvGrpSpPr/>
              <p:nvPr/>
            </p:nvGrpSpPr>
            <p:grpSpPr>
              <a:xfrm>
                <a:off x="2719080" y="1650240"/>
                <a:ext cx="252360" cy="135720"/>
                <a:chOff x="2719080" y="1650240"/>
                <a:chExt cx="252360" cy="135720"/>
              </a:xfrm>
            </p:grpSpPr>
            <p:sp>
              <p:nvSpPr>
                <p:cNvPr id="306" name=""/>
                <p:cNvSpPr/>
                <p:nvPr/>
              </p:nvSpPr>
              <p:spPr>
                <a:xfrm flipH="1">
                  <a:off x="2719080" y="1650240"/>
                  <a:ext cx="246960" cy="421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" bIns="-4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 flipH="1" flipV="1">
                  <a:off x="2723400" y="1690920"/>
                  <a:ext cx="248040" cy="9504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08" name=""/>
              <p:cNvSpPr/>
              <p:nvPr/>
            </p:nvSpPr>
            <p:spPr>
              <a:xfrm flipH="1">
                <a:off x="2730240" y="1784520"/>
                <a:ext cx="246960" cy="439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flipH="1" flipV="1">
                <a:off x="2842200" y="1582560"/>
                <a:ext cx="127800" cy="658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080" bIns="19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0" name=""/>
            <p:cNvSpPr/>
            <p:nvPr/>
          </p:nvSpPr>
          <p:spPr>
            <a:xfrm>
              <a:off x="1626120" y="1500480"/>
              <a:ext cx="9144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2000" spc="-1" strike="noStrike">
                  <a:solidFill>
                    <a:srgbClr val="000000"/>
                  </a:solidFill>
                  <a:latin typeface="Arial"/>
                </a:rPr>
                <a:t>2,5K</a:t>
              </a:r>
              <a:r>
                <a:rPr b="1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3834720" y="2838600"/>
              <a:ext cx="63396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2000" spc="-1" strike="noStrike">
                  <a:solidFill>
                    <a:srgbClr val="000000"/>
                  </a:solidFill>
                  <a:latin typeface="Arial"/>
                </a:rPr>
                <a:t>10V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972800" y="273240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a50021"/>
                  </a:solidFill>
                  <a:latin typeface="Arial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554200" y="217044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a50021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512800" y="295776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a50021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465280" y="2697480"/>
              <a:ext cx="389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flipV="1">
              <a:off x="2466720" y="2945880"/>
              <a:ext cx="387000" cy="1009800"/>
            </a:xfrm>
            <a:custGeom>
              <a:avLst/>
              <a:gdLst/>
              <a:ahLst/>
              <a:rect l="l" t="t" r="r" b="b"/>
              <a:pathLst>
                <a:path w="244" h="296">
                  <a:moveTo>
                    <a:pt x="0" y="296"/>
                  </a:moveTo>
                  <a:lnTo>
                    <a:pt x="244" y="296"/>
                  </a:lnTo>
                  <a:lnTo>
                    <a:pt x="244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447640" y="2841840"/>
              <a:ext cx="0" cy="247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8" name=""/>
            <p:cNvGrpSpPr/>
            <p:nvPr/>
          </p:nvGrpSpPr>
          <p:grpSpPr>
            <a:xfrm>
              <a:off x="2447640" y="2022120"/>
              <a:ext cx="405720" cy="574920"/>
              <a:chOff x="2447640" y="2022120"/>
              <a:chExt cx="405720" cy="574920"/>
            </a:xfrm>
          </p:grpSpPr>
          <p:sp>
            <p:nvSpPr>
              <p:cNvPr id="319" name=""/>
              <p:cNvSpPr/>
              <p:nvPr/>
            </p:nvSpPr>
            <p:spPr>
              <a:xfrm>
                <a:off x="2466360" y="2022120"/>
                <a:ext cx="387000" cy="470160"/>
              </a:xfrm>
              <a:custGeom>
                <a:avLst/>
                <a:gdLst/>
                <a:ahLst/>
                <a:rect l="l" t="t" r="r" b="b"/>
                <a:pathLst>
                  <a:path w="244" h="296">
                    <a:moveTo>
                      <a:pt x="0" y="296"/>
                    </a:moveTo>
                    <a:lnTo>
                      <a:pt x="244" y="296"/>
                    </a:lnTo>
                    <a:lnTo>
                      <a:pt x="244" y="0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flipV="1">
                <a:off x="2447640" y="2349360"/>
                <a:ext cx="0" cy="2476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442960" y="26323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728720" y="2346480"/>
              <a:ext cx="590040" cy="723960"/>
            </a:xfrm>
            <a:custGeom>
              <a:avLst/>
              <a:gdLst/>
              <a:ahLst/>
              <a:rect l="l" t="t" r="r" b="b"/>
              <a:pathLst>
                <a:path w="372" h="456">
                  <a:moveTo>
                    <a:pt x="372" y="0"/>
                  </a:moveTo>
                  <a:lnTo>
                    <a:pt x="372" y="456"/>
                  </a:lnTo>
                  <a:lnTo>
                    <a:pt x="0" y="45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2854080" y="2679480"/>
              <a:ext cx="0" cy="390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4" name=""/>
          <p:cNvSpPr/>
          <p:nvPr/>
        </p:nvSpPr>
        <p:spPr>
          <a:xfrm>
            <a:off x="587520" y="44280"/>
            <a:ext cx="4994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8080"/>
                </a:solidFill>
                <a:latin typeface="Arial"/>
              </a:rPr>
              <a:t>Curvas</a:t>
            </a:r>
            <a:r>
              <a:rPr b="1" sz="2000" spc="-1" strike="noStrike">
                <a:solidFill>
                  <a:srgbClr val="008080"/>
                </a:solidFill>
                <a:latin typeface="Arial"/>
              </a:rPr>
              <a:t> característica</a:t>
            </a:r>
            <a:r>
              <a:rPr b="1" lang="es-ES" sz="2000" spc="-1" strike="noStrike">
                <a:solidFill>
                  <a:srgbClr val="008080"/>
                </a:solidFill>
                <a:latin typeface="Arial"/>
              </a:rPr>
              <a:t>s</a:t>
            </a:r>
            <a:r>
              <a:rPr b="1" sz="2000" spc="-1" strike="noStrike">
                <a:solidFill>
                  <a:srgbClr val="00808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8080"/>
                </a:solidFill>
                <a:latin typeface="Arial"/>
              </a:rPr>
              <a:t>del MOSF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8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1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536400" y="0"/>
            <a:ext cx="62611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8080"/>
                </a:solidFill>
                <a:latin typeface="Arial"/>
              </a:rPr>
              <a:t>Precauciones en el uso de transistores MOSF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6522480" y="1754280"/>
            <a:ext cx="1635120" cy="1678680"/>
            <a:chOff x="6522480" y="1754280"/>
            <a:chExt cx="1635120" cy="1678680"/>
          </a:xfrm>
        </p:grpSpPr>
        <p:grpSp>
          <p:nvGrpSpPr>
            <p:cNvPr id="327" name=""/>
            <p:cNvGrpSpPr/>
            <p:nvPr/>
          </p:nvGrpSpPr>
          <p:grpSpPr>
            <a:xfrm>
              <a:off x="6522480" y="1754280"/>
              <a:ext cx="1635120" cy="1678680"/>
              <a:chOff x="6522480" y="1754280"/>
              <a:chExt cx="1635120" cy="1678680"/>
            </a:xfrm>
          </p:grpSpPr>
          <p:sp>
            <p:nvSpPr>
              <p:cNvPr id="328" name=""/>
              <p:cNvSpPr/>
              <p:nvPr/>
            </p:nvSpPr>
            <p:spPr>
              <a:xfrm>
                <a:off x="7364520" y="2646360"/>
                <a:ext cx="3906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6522480" y="2602080"/>
                <a:ext cx="418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a50021"/>
                    </a:solidFill>
                    <a:latin typeface="Arial"/>
                  </a:rPr>
                  <a:t>G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7733520" y="175428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a50021"/>
                    </a:solidFill>
                    <a:latin typeface="Arial"/>
                  </a:rPr>
                  <a:t>D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7774200" y="2973240"/>
                <a:ext cx="383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2400" spc="-1" strike="noStrike">
                    <a:solidFill>
                      <a:srgbClr val="a50021"/>
                    </a:solidFill>
                    <a:latin typeface="Arial"/>
                  </a:rPr>
                  <a:t>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32" name=""/>
              <p:cNvGrpSpPr/>
              <p:nvPr/>
            </p:nvGrpSpPr>
            <p:grpSpPr>
              <a:xfrm>
                <a:off x="7347240" y="2790720"/>
                <a:ext cx="405720" cy="574920"/>
                <a:chOff x="7347240" y="2790720"/>
                <a:chExt cx="405720" cy="574920"/>
              </a:xfrm>
            </p:grpSpPr>
            <p:sp>
              <p:nvSpPr>
                <p:cNvPr id="333" name=""/>
                <p:cNvSpPr/>
                <p:nvPr/>
              </p:nvSpPr>
              <p:spPr>
                <a:xfrm flipV="1">
                  <a:off x="7365960" y="2895480"/>
                  <a:ext cx="387000" cy="470160"/>
                </a:xfrm>
                <a:custGeom>
                  <a:avLst/>
                  <a:gdLst/>
                  <a:ahLst/>
                  <a:rect l="l" t="t" r="r" b="b"/>
                  <a:pathLst>
                    <a:path w="244" h="296">
                      <a:moveTo>
                        <a:pt x="0" y="296"/>
                      </a:moveTo>
                      <a:lnTo>
                        <a:pt x="244" y="296"/>
                      </a:lnTo>
                      <a:lnTo>
                        <a:pt x="244" y="0"/>
                      </a:ln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>
                  <a:off x="7347240" y="2790720"/>
                  <a:ext cx="0" cy="2476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5" name=""/>
              <p:cNvGrpSpPr/>
              <p:nvPr/>
            </p:nvGrpSpPr>
            <p:grpSpPr>
              <a:xfrm>
                <a:off x="7347240" y="1972440"/>
                <a:ext cx="405720" cy="573840"/>
                <a:chOff x="7347240" y="1972440"/>
                <a:chExt cx="405720" cy="573840"/>
              </a:xfrm>
            </p:grpSpPr>
            <p:sp>
              <p:nvSpPr>
                <p:cNvPr id="336" name=""/>
                <p:cNvSpPr/>
                <p:nvPr/>
              </p:nvSpPr>
              <p:spPr>
                <a:xfrm>
                  <a:off x="7365960" y="1972440"/>
                  <a:ext cx="387000" cy="469800"/>
                </a:xfrm>
                <a:custGeom>
                  <a:avLst/>
                  <a:gdLst/>
                  <a:ahLst/>
                  <a:rect l="l" t="t" r="r" b="b"/>
                  <a:pathLst>
                    <a:path w="244" h="296">
                      <a:moveTo>
                        <a:pt x="0" y="296"/>
                      </a:moveTo>
                      <a:lnTo>
                        <a:pt x="244" y="296"/>
                      </a:lnTo>
                      <a:lnTo>
                        <a:pt x="244" y="0"/>
                      </a:ln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 flipV="1">
                  <a:off x="7347240" y="2298960"/>
                  <a:ext cx="0" cy="2473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8" name=""/>
              <p:cNvSpPr/>
              <p:nvPr/>
            </p:nvSpPr>
            <p:spPr>
              <a:xfrm>
                <a:off x="7342200" y="2581200"/>
                <a:ext cx="0" cy="152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6627960" y="2295720"/>
                <a:ext cx="590400" cy="723600"/>
              </a:xfrm>
              <a:custGeom>
                <a:avLst/>
                <a:gdLst/>
                <a:ahLst/>
                <a:rect l="l" t="t" r="r" b="b"/>
                <a:pathLst>
                  <a:path w="372" h="456">
                    <a:moveTo>
                      <a:pt x="372" y="0"/>
                    </a:moveTo>
                    <a:lnTo>
                      <a:pt x="372" y="456"/>
                    </a:lnTo>
                    <a:lnTo>
                      <a:pt x="0" y="456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0" name=""/>
            <p:cNvSpPr/>
            <p:nvPr/>
          </p:nvSpPr>
          <p:spPr>
            <a:xfrm flipV="1">
              <a:off x="7751520" y="2634840"/>
              <a:ext cx="0" cy="272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1" name=""/>
          <p:cNvGrpSpPr/>
          <p:nvPr/>
        </p:nvGrpSpPr>
        <p:grpSpPr>
          <a:xfrm>
            <a:off x="1400040" y="1144080"/>
            <a:ext cx="3795840" cy="2932920"/>
            <a:chOff x="1400040" y="1144080"/>
            <a:chExt cx="3795840" cy="2932920"/>
          </a:xfrm>
        </p:grpSpPr>
        <p:sp>
          <p:nvSpPr>
            <p:cNvPr id="342" name=""/>
            <p:cNvSpPr/>
            <p:nvPr/>
          </p:nvSpPr>
          <p:spPr>
            <a:xfrm>
              <a:off x="4723200" y="153324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a50021"/>
                  </a:solidFill>
                  <a:latin typeface="Arial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097360" y="153324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a50021"/>
                  </a:solidFill>
                  <a:latin typeface="Arial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633840" y="1533240"/>
              <a:ext cx="456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a50021"/>
                  </a:solidFill>
                  <a:latin typeface="Arial"/>
                </a:rPr>
                <a:t>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895400" y="2468160"/>
              <a:ext cx="3257640" cy="851040"/>
            </a:xfrm>
            <a:prstGeom prst="rect">
              <a:avLst/>
            </a:prstGeom>
            <a:solidFill>
              <a:srgbClr val="ffcc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522680" y="3344760"/>
              <a:ext cx="28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 baseline="30000">
                  <a:solidFill>
                    <a:srgbClr val="ffffff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100240" y="2788920"/>
              <a:ext cx="44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lang="es-ES_tradnl" sz="2400" spc="-1" strike="noStrike" baseline="30000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124000" y="2070000"/>
              <a:ext cx="736560" cy="1522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1876320" y="3341520"/>
              <a:ext cx="3294000" cy="2206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 flipV="1">
              <a:off x="2502000" y="1625400"/>
              <a:ext cx="0" cy="4824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V="1">
              <a:off x="4722840" y="1620720"/>
              <a:ext cx="0" cy="4824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686400" y="3678120"/>
              <a:ext cx="1369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Substrat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421160" y="2469960"/>
              <a:ext cx="633240" cy="347760"/>
            </a:xfrm>
            <a:custGeom>
              <a:avLst/>
              <a:gdLst/>
              <a:ahLst/>
              <a:rect l="l" t="t" r="r" b="b"/>
              <a:pathLst>
                <a:path w="1671" h="543">
                  <a:moveTo>
                    <a:pt x="0" y="3"/>
                  </a:moveTo>
                  <a:lnTo>
                    <a:pt x="0" y="273"/>
                  </a:lnTo>
                  <a:lnTo>
                    <a:pt x="9" y="342"/>
                  </a:lnTo>
                  <a:lnTo>
                    <a:pt x="30" y="384"/>
                  </a:lnTo>
                  <a:lnTo>
                    <a:pt x="54" y="429"/>
                  </a:lnTo>
                  <a:lnTo>
                    <a:pt x="93" y="471"/>
                  </a:lnTo>
                  <a:lnTo>
                    <a:pt x="123" y="498"/>
                  </a:lnTo>
                  <a:lnTo>
                    <a:pt x="174" y="519"/>
                  </a:lnTo>
                  <a:lnTo>
                    <a:pt x="237" y="543"/>
                  </a:lnTo>
                  <a:lnTo>
                    <a:pt x="306" y="543"/>
                  </a:lnTo>
                  <a:lnTo>
                    <a:pt x="1416" y="543"/>
                  </a:lnTo>
                  <a:lnTo>
                    <a:pt x="1473" y="528"/>
                  </a:lnTo>
                  <a:lnTo>
                    <a:pt x="1530" y="501"/>
                  </a:lnTo>
                  <a:lnTo>
                    <a:pt x="1596" y="453"/>
                  </a:lnTo>
                  <a:lnTo>
                    <a:pt x="1644" y="366"/>
                  </a:lnTo>
                  <a:lnTo>
                    <a:pt x="1662" y="315"/>
                  </a:lnTo>
                  <a:lnTo>
                    <a:pt x="1668" y="237"/>
                  </a:lnTo>
                  <a:lnTo>
                    <a:pt x="1665" y="162"/>
                  </a:lnTo>
                  <a:lnTo>
                    <a:pt x="1671" y="45"/>
                  </a:lnTo>
                  <a:lnTo>
                    <a:pt x="1668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2185920" y="2462040"/>
              <a:ext cx="633240" cy="347400"/>
            </a:xfrm>
            <a:custGeom>
              <a:avLst/>
              <a:gdLst/>
              <a:ahLst/>
              <a:rect l="l" t="t" r="r" b="b"/>
              <a:pathLst>
                <a:path w="1671" h="543">
                  <a:moveTo>
                    <a:pt x="0" y="3"/>
                  </a:moveTo>
                  <a:lnTo>
                    <a:pt x="0" y="273"/>
                  </a:lnTo>
                  <a:lnTo>
                    <a:pt x="9" y="342"/>
                  </a:lnTo>
                  <a:lnTo>
                    <a:pt x="30" y="384"/>
                  </a:lnTo>
                  <a:lnTo>
                    <a:pt x="54" y="429"/>
                  </a:lnTo>
                  <a:lnTo>
                    <a:pt x="93" y="471"/>
                  </a:lnTo>
                  <a:lnTo>
                    <a:pt x="123" y="498"/>
                  </a:lnTo>
                  <a:lnTo>
                    <a:pt x="174" y="519"/>
                  </a:lnTo>
                  <a:lnTo>
                    <a:pt x="237" y="543"/>
                  </a:lnTo>
                  <a:lnTo>
                    <a:pt x="306" y="543"/>
                  </a:lnTo>
                  <a:lnTo>
                    <a:pt x="1416" y="543"/>
                  </a:lnTo>
                  <a:lnTo>
                    <a:pt x="1473" y="528"/>
                  </a:lnTo>
                  <a:lnTo>
                    <a:pt x="1530" y="501"/>
                  </a:lnTo>
                  <a:lnTo>
                    <a:pt x="1596" y="453"/>
                  </a:lnTo>
                  <a:lnTo>
                    <a:pt x="1644" y="366"/>
                  </a:lnTo>
                  <a:lnTo>
                    <a:pt x="1662" y="315"/>
                  </a:lnTo>
                  <a:lnTo>
                    <a:pt x="1668" y="237"/>
                  </a:lnTo>
                  <a:lnTo>
                    <a:pt x="1665" y="162"/>
                  </a:lnTo>
                  <a:lnTo>
                    <a:pt x="1671" y="45"/>
                  </a:lnTo>
                  <a:lnTo>
                    <a:pt x="1668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333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254320" y="2420640"/>
              <a:ext cx="50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r>
                <a:rPr b="1" lang="es-ES_tradnl" sz="2400" spc="-1" strike="noStrike" baseline="30000">
                  <a:solidFill>
                    <a:srgbClr val="ffffff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4502520" y="2420640"/>
              <a:ext cx="50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r>
                <a:rPr b="1" lang="es-ES_tradnl" sz="2400" spc="-1" strike="noStrike" baseline="30000">
                  <a:solidFill>
                    <a:srgbClr val="ffffff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900080" y="2233440"/>
              <a:ext cx="3295800" cy="228600"/>
            </a:xfrm>
            <a:prstGeom prst="rect">
              <a:avLst/>
            </a:prstGeom>
            <a:solidFill>
              <a:srgbClr val="ffff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313000" y="2228760"/>
              <a:ext cx="368280" cy="2286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4556160" y="2220480"/>
              <a:ext cx="368280" cy="2286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002040" y="2047680"/>
              <a:ext cx="1193760" cy="17136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352760" y="2071440"/>
              <a:ext cx="736560" cy="1522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 flipV="1">
              <a:off x="3618000" y="1144080"/>
              <a:ext cx="0" cy="9586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3618000" y="3449520"/>
              <a:ext cx="0" cy="4824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400040" y="1149120"/>
              <a:ext cx="2209680" cy="2685960"/>
            </a:xfrm>
            <a:custGeom>
              <a:avLst/>
              <a:gdLst/>
              <a:ahLst/>
              <a:rect l="l" t="t" r="r" b="b"/>
              <a:pathLst>
                <a:path w="1392" h="1692">
                  <a:moveTo>
                    <a:pt x="696" y="324"/>
                  </a:moveTo>
                  <a:lnTo>
                    <a:pt x="696" y="0"/>
                  </a:lnTo>
                  <a:lnTo>
                    <a:pt x="0" y="0"/>
                  </a:lnTo>
                  <a:lnTo>
                    <a:pt x="0" y="1692"/>
                  </a:lnTo>
                  <a:lnTo>
                    <a:pt x="1392" y="1692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5" name=""/>
          <p:cNvSpPr/>
          <p:nvPr/>
        </p:nvSpPr>
        <p:spPr>
          <a:xfrm>
            <a:off x="1025640" y="4206960"/>
            <a:ext cx="724536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spcAft>
                <a:spcPts val="499"/>
              </a:spcAft>
              <a:buClr>
                <a:srgbClr val="0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8080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008080"/>
                </a:solidFill>
                <a:latin typeface="Arial"/>
              </a:rPr>
              <a:t>El terminal puerta al aire es muy sensible a los rui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6" name=""/>
          <p:cNvGrpSpPr/>
          <p:nvPr/>
        </p:nvGrpSpPr>
        <p:grpSpPr>
          <a:xfrm>
            <a:off x="2481120" y="1311120"/>
            <a:ext cx="1178640" cy="609120"/>
            <a:chOff x="2481120" y="1311120"/>
            <a:chExt cx="1178640" cy="609120"/>
          </a:xfrm>
        </p:grpSpPr>
        <p:grpSp>
          <p:nvGrpSpPr>
            <p:cNvPr id="367" name=""/>
            <p:cNvGrpSpPr/>
            <p:nvPr/>
          </p:nvGrpSpPr>
          <p:grpSpPr>
            <a:xfrm>
              <a:off x="2481120" y="1313640"/>
              <a:ext cx="705960" cy="606600"/>
              <a:chOff x="2481120" y="1313640"/>
              <a:chExt cx="705960" cy="606600"/>
            </a:xfrm>
          </p:grpSpPr>
          <p:sp>
            <p:nvSpPr>
              <p:cNvPr id="368" name=""/>
              <p:cNvSpPr/>
              <p:nvPr/>
            </p:nvSpPr>
            <p:spPr>
              <a:xfrm>
                <a:off x="2961000" y="1617840"/>
                <a:ext cx="226080" cy="0"/>
              </a:xfrm>
              <a:prstGeom prst="line">
                <a:avLst/>
              </a:prstGeom>
              <a:ln w="38160">
                <a:solidFill>
                  <a:srgbClr val="a5002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69" name=""/>
              <p:cNvGrpSpPr/>
              <p:nvPr/>
            </p:nvGrpSpPr>
            <p:grpSpPr>
              <a:xfrm>
                <a:off x="2481120" y="1313640"/>
                <a:ext cx="605520" cy="606600"/>
                <a:chOff x="2481120" y="1313640"/>
                <a:chExt cx="605520" cy="606600"/>
              </a:xfrm>
            </p:grpSpPr>
            <p:grpSp>
              <p:nvGrpSpPr>
                <p:cNvPr id="370" name=""/>
                <p:cNvGrpSpPr/>
                <p:nvPr/>
              </p:nvGrpSpPr>
              <p:grpSpPr>
                <a:xfrm>
                  <a:off x="2481120" y="1452240"/>
                  <a:ext cx="434880" cy="331200"/>
                  <a:chOff x="2481120" y="1452240"/>
                  <a:chExt cx="434880" cy="331200"/>
                </a:xfrm>
              </p:grpSpPr>
              <p:sp>
                <p:nvSpPr>
                  <p:cNvPr id="371" name=""/>
                  <p:cNvSpPr/>
                  <p:nvPr/>
                </p:nvSpPr>
                <p:spPr>
                  <a:xfrm flipH="1" rot="5400000">
                    <a:off x="2648160" y="1515600"/>
                    <a:ext cx="331200" cy="204480"/>
                  </a:xfrm>
                  <a:prstGeom prst="triangle">
                    <a:avLst>
                      <a:gd name="adj" fmla="val 49995"/>
                    </a:avLst>
                  </a:prstGeom>
                  <a:noFill/>
                  <a:ln w="38160">
                    <a:solidFill>
                      <a:srgbClr val="a5002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600" bIns="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2" name=""/>
                  <p:cNvSpPr/>
                  <p:nvPr/>
                </p:nvSpPr>
                <p:spPr>
                  <a:xfrm>
                    <a:off x="2481120" y="1617840"/>
                    <a:ext cx="226080" cy="0"/>
                  </a:xfrm>
                  <a:prstGeom prst="line">
                    <a:avLst/>
                  </a:prstGeom>
                  <a:ln w="38160">
                    <a:solidFill>
                      <a:srgbClr val="a5002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73" name=""/>
                <p:cNvSpPr/>
                <p:nvPr/>
              </p:nvSpPr>
              <p:spPr>
                <a:xfrm rot="16200000">
                  <a:off x="2662200" y="1495800"/>
                  <a:ext cx="606600" cy="242280"/>
                </a:xfrm>
                <a:custGeom>
                  <a:avLst/>
                  <a:gdLst/>
                  <a:ahLst/>
                  <a:rect l="l" t="t" r="r" b="b"/>
                  <a:pathLst>
                    <a:path w="557" h="223">
                      <a:moveTo>
                        <a:pt x="0" y="223"/>
                      </a:moveTo>
                      <a:lnTo>
                        <a:pt x="119" y="111"/>
                      </a:lnTo>
                      <a:lnTo>
                        <a:pt x="441" y="111"/>
                      </a:lnTo>
                      <a:lnTo>
                        <a:pt x="557" y="0"/>
                      </a:lnTo>
                    </a:path>
                  </a:pathLst>
                </a:custGeom>
                <a:noFill/>
                <a:ln w="38160">
                  <a:solidFill>
                    <a:srgbClr val="a50021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74" name=""/>
            <p:cNvGrpSpPr/>
            <p:nvPr/>
          </p:nvGrpSpPr>
          <p:grpSpPr>
            <a:xfrm>
              <a:off x="3054240" y="1311120"/>
              <a:ext cx="605520" cy="606240"/>
              <a:chOff x="3054240" y="1311120"/>
              <a:chExt cx="605520" cy="606240"/>
            </a:xfrm>
          </p:grpSpPr>
          <p:grpSp>
            <p:nvGrpSpPr>
              <p:cNvPr id="375" name=""/>
              <p:cNvGrpSpPr/>
              <p:nvPr/>
            </p:nvGrpSpPr>
            <p:grpSpPr>
              <a:xfrm>
                <a:off x="3225960" y="1445040"/>
                <a:ext cx="433800" cy="331560"/>
                <a:chOff x="3225960" y="1445040"/>
                <a:chExt cx="433800" cy="331560"/>
              </a:xfrm>
            </p:grpSpPr>
            <p:sp>
              <p:nvSpPr>
                <p:cNvPr id="376" name=""/>
                <p:cNvSpPr/>
                <p:nvPr/>
              </p:nvSpPr>
              <p:spPr>
                <a:xfrm flipV="1" rot="5400000">
                  <a:off x="3162240" y="1508400"/>
                  <a:ext cx="331560" cy="204120"/>
                </a:xfrm>
                <a:prstGeom prst="triangle">
                  <a:avLst>
                    <a:gd name="adj" fmla="val 49995"/>
                  </a:avLst>
                </a:prstGeom>
                <a:noFill/>
                <a:ln w="38160">
                  <a:solidFill>
                    <a:srgbClr val="a5002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240" bIns="21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 flipH="1">
                  <a:off x="3434040" y="1611360"/>
                  <a:ext cx="225720" cy="0"/>
                </a:xfrm>
                <a:prstGeom prst="line">
                  <a:avLst/>
                </a:prstGeom>
                <a:ln w="38160">
                  <a:solidFill>
                    <a:srgbClr val="a5002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78" name=""/>
              <p:cNvSpPr/>
              <p:nvPr/>
            </p:nvSpPr>
            <p:spPr>
              <a:xfrm flipH="1" flipV="1" rot="16200000">
                <a:off x="2872440" y="1492920"/>
                <a:ext cx="606240" cy="242640"/>
              </a:xfrm>
              <a:custGeom>
                <a:avLst/>
                <a:gdLst/>
                <a:ahLst/>
                <a:rect l="l" t="t" r="r" b="b"/>
                <a:pathLst>
                  <a:path w="557" h="223">
                    <a:moveTo>
                      <a:pt x="0" y="223"/>
                    </a:moveTo>
                    <a:lnTo>
                      <a:pt x="119" y="111"/>
                    </a:lnTo>
                    <a:lnTo>
                      <a:pt x="441" y="111"/>
                    </a:lnTo>
                    <a:lnTo>
                      <a:pt x="557" y="0"/>
                    </a:lnTo>
                  </a:path>
                </a:pathLst>
              </a:custGeom>
              <a:noFill/>
              <a:ln w="38160">
                <a:solidFill>
                  <a:srgbClr val="a5002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79" name=""/>
          <p:cNvGrpSpPr/>
          <p:nvPr/>
        </p:nvGrpSpPr>
        <p:grpSpPr>
          <a:xfrm>
            <a:off x="5073480" y="2184480"/>
            <a:ext cx="3221280" cy="1256040"/>
            <a:chOff x="5073480" y="2184480"/>
            <a:chExt cx="3221280" cy="1256040"/>
          </a:xfrm>
        </p:grpSpPr>
        <p:grpSp>
          <p:nvGrpSpPr>
            <p:cNvPr id="380" name=""/>
            <p:cNvGrpSpPr/>
            <p:nvPr/>
          </p:nvGrpSpPr>
          <p:grpSpPr>
            <a:xfrm>
              <a:off x="7765920" y="2311200"/>
              <a:ext cx="528840" cy="672480"/>
              <a:chOff x="7765920" y="2311200"/>
              <a:chExt cx="528840" cy="672480"/>
            </a:xfrm>
          </p:grpSpPr>
          <p:sp>
            <p:nvSpPr>
              <p:cNvPr id="381" name=""/>
              <p:cNvSpPr/>
              <p:nvPr/>
            </p:nvSpPr>
            <p:spPr>
              <a:xfrm flipH="1" flipV="1" rot="10800000">
                <a:off x="7931520" y="2567880"/>
                <a:ext cx="320760" cy="198000"/>
              </a:xfrm>
              <a:prstGeom prst="triangle">
                <a:avLst>
                  <a:gd name="adj" fmla="val 49995"/>
                </a:avLst>
              </a:prstGeom>
              <a:solidFill>
                <a:srgbClr val="ffffff"/>
              </a:solidFill>
              <a:ln w="38160">
                <a:solidFill>
                  <a:srgbClr val="a5002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 flipV="1">
                <a:off x="7893000" y="2483640"/>
                <a:ext cx="401760" cy="63360"/>
              </a:xfrm>
              <a:prstGeom prst="rect">
                <a:avLst/>
              </a:prstGeom>
              <a:solidFill>
                <a:srgbClr val="a50021"/>
              </a:solidFill>
              <a:ln w="38160">
                <a:solidFill>
                  <a:srgbClr val="a5002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560" bIns="16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 flipV="1">
                <a:off x="7765920" y="2755440"/>
                <a:ext cx="330120" cy="228240"/>
              </a:xfrm>
              <a:custGeom>
                <a:avLst/>
                <a:gdLst/>
                <a:ahLst/>
                <a:rect l="l" t="t" r="r" b="b"/>
                <a:pathLst>
                  <a:path w="208" h="144">
                    <a:moveTo>
                      <a:pt x="0" y="0"/>
                    </a:moveTo>
                    <a:lnTo>
                      <a:pt x="208" y="0"/>
                    </a:lnTo>
                    <a:lnTo>
                      <a:pt x="208" y="144"/>
                    </a:lnTo>
                  </a:path>
                </a:pathLst>
              </a:custGeom>
              <a:noFill/>
              <a:ln w="38160">
                <a:solidFill>
                  <a:srgbClr val="a5002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7765920" y="2311200"/>
                <a:ext cx="330120" cy="228240"/>
              </a:xfrm>
              <a:custGeom>
                <a:avLst/>
                <a:gdLst/>
                <a:ahLst/>
                <a:rect l="l" t="t" r="r" b="b"/>
                <a:pathLst>
                  <a:path w="208" h="144">
                    <a:moveTo>
                      <a:pt x="0" y="0"/>
                    </a:moveTo>
                    <a:lnTo>
                      <a:pt x="208" y="0"/>
                    </a:lnTo>
                    <a:lnTo>
                      <a:pt x="208" y="144"/>
                    </a:lnTo>
                  </a:path>
                </a:pathLst>
              </a:custGeom>
              <a:noFill/>
              <a:ln w="38160">
                <a:solidFill>
                  <a:srgbClr val="a5002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5" name=""/>
            <p:cNvGrpSpPr/>
            <p:nvPr/>
          </p:nvGrpSpPr>
          <p:grpSpPr>
            <a:xfrm>
              <a:off x="5073480" y="2184480"/>
              <a:ext cx="986760" cy="1256040"/>
              <a:chOff x="5073480" y="2184480"/>
              <a:chExt cx="986760" cy="1256040"/>
            </a:xfrm>
          </p:grpSpPr>
          <p:sp>
            <p:nvSpPr>
              <p:cNvPr id="386" name=""/>
              <p:cNvSpPr/>
              <p:nvPr/>
            </p:nvSpPr>
            <p:spPr>
              <a:xfrm flipH="1" flipV="1" rot="10800000">
                <a:off x="5383440" y="2664000"/>
                <a:ext cx="598680" cy="370080"/>
              </a:xfrm>
              <a:prstGeom prst="triangle">
                <a:avLst>
                  <a:gd name="adj" fmla="val 49995"/>
                </a:avLst>
              </a:prstGeom>
              <a:solidFill>
                <a:srgbClr val="ffffff"/>
              </a:solidFill>
              <a:ln w="57240">
                <a:solidFill>
                  <a:srgbClr val="a5002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 flipV="1">
                <a:off x="5310360" y="2507040"/>
                <a:ext cx="749880" cy="118800"/>
              </a:xfrm>
              <a:prstGeom prst="rect">
                <a:avLst/>
              </a:prstGeom>
              <a:solidFill>
                <a:srgbClr val="a50021"/>
              </a:solidFill>
              <a:ln w="57240">
                <a:solidFill>
                  <a:srgbClr val="a5002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 flipV="1">
                <a:off x="5073480" y="3013560"/>
                <a:ext cx="615960" cy="426600"/>
              </a:xfrm>
              <a:custGeom>
                <a:avLst/>
                <a:gdLst/>
                <a:ahLst/>
                <a:rect l="l" t="t" r="r" b="b"/>
                <a:pathLst>
                  <a:path w="208" h="144">
                    <a:moveTo>
                      <a:pt x="0" y="0"/>
                    </a:moveTo>
                    <a:lnTo>
                      <a:pt x="208" y="0"/>
                    </a:lnTo>
                    <a:lnTo>
                      <a:pt x="208" y="144"/>
                    </a:lnTo>
                  </a:path>
                </a:pathLst>
              </a:custGeom>
              <a:noFill/>
              <a:ln w="57240">
                <a:solidFill>
                  <a:srgbClr val="a5002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5073480" y="2184480"/>
                <a:ext cx="615960" cy="426600"/>
              </a:xfrm>
              <a:custGeom>
                <a:avLst/>
                <a:gdLst/>
                <a:ahLst/>
                <a:rect l="l" t="t" r="r" b="b"/>
                <a:pathLst>
                  <a:path w="208" h="144">
                    <a:moveTo>
                      <a:pt x="0" y="0"/>
                    </a:moveTo>
                    <a:lnTo>
                      <a:pt x="208" y="0"/>
                    </a:lnTo>
                    <a:lnTo>
                      <a:pt x="208" y="144"/>
                    </a:lnTo>
                  </a:path>
                </a:pathLst>
              </a:custGeom>
              <a:noFill/>
              <a:ln w="57240">
                <a:solidFill>
                  <a:srgbClr val="a5002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90" name=""/>
          <p:cNvSpPr/>
          <p:nvPr/>
        </p:nvSpPr>
        <p:spPr>
          <a:xfrm>
            <a:off x="1025640" y="4975200"/>
            <a:ext cx="78166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spcAft>
                <a:spcPts val="499"/>
              </a:spcAft>
              <a:buClr>
                <a:srgbClr val="0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8080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008080"/>
                </a:solidFill>
                <a:latin typeface="Arial"/>
              </a:rPr>
              <a:t>El óxido se puede llegar a perforar por la electricidad estática de los dedos. A veces se integran diodos zener de protec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1025640" y="5938920"/>
            <a:ext cx="79437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spcAft>
                <a:spcPts val="499"/>
              </a:spcAft>
              <a:buClr>
                <a:srgbClr val="0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8080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008080"/>
                </a:solidFill>
                <a:latin typeface="Arial"/>
              </a:rPr>
              <a:t>Existe un diodo parásito entre fuente y drenador en los MOSFET de enriquecimien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63680" y="0"/>
            <a:ext cx="71280" cy="685800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 rot="16200000">
            <a:off x="-2971080" y="3193920"/>
            <a:ext cx="640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EL MOSFET  DE POT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509760" y="0"/>
            <a:ext cx="3473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808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8080"/>
                </a:solidFill>
                <a:latin typeface="Arial"/>
              </a:rPr>
              <a:t>Encapsulados de MOSF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2846520" y="1317600"/>
            <a:ext cx="167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 2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6" name="" descr=""/>
          <p:cNvPicPr/>
          <p:nvPr/>
        </p:nvPicPr>
        <p:blipFill>
          <a:blip r:embed="rId1"/>
          <a:stretch/>
        </p:blipFill>
        <p:spPr>
          <a:xfrm>
            <a:off x="4923000" y="774720"/>
            <a:ext cx="2049480" cy="1692360"/>
          </a:xfrm>
          <a:prstGeom prst="rect">
            <a:avLst/>
          </a:prstGeom>
          <a:ln w="0">
            <a:noFill/>
          </a:ln>
        </p:spPr>
      </p:pic>
      <p:sp>
        <p:nvSpPr>
          <p:cNvPr id="397" name=""/>
          <p:cNvSpPr/>
          <p:nvPr/>
        </p:nvSpPr>
        <p:spPr>
          <a:xfrm>
            <a:off x="7459560" y="103968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 6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8" name="" descr=""/>
          <p:cNvPicPr/>
          <p:nvPr/>
        </p:nvPicPr>
        <p:blipFill>
          <a:blip r:embed="rId2"/>
          <a:stretch/>
        </p:blipFill>
        <p:spPr>
          <a:xfrm>
            <a:off x="900000" y="2781360"/>
            <a:ext cx="2936880" cy="2038320"/>
          </a:xfrm>
          <a:prstGeom prst="rect">
            <a:avLst/>
          </a:prstGeom>
          <a:ln w="0">
            <a:noFill/>
          </a:ln>
        </p:spPr>
      </p:pic>
      <p:sp>
        <p:nvSpPr>
          <p:cNvPr id="399" name=""/>
          <p:cNvSpPr/>
          <p:nvPr/>
        </p:nvSpPr>
        <p:spPr>
          <a:xfrm>
            <a:off x="2901960" y="3046320"/>
            <a:ext cx="167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 24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0" name="" descr=""/>
          <p:cNvPicPr/>
          <p:nvPr/>
        </p:nvPicPr>
        <p:blipFill>
          <a:blip r:embed="rId3"/>
          <a:stretch/>
        </p:blipFill>
        <p:spPr>
          <a:xfrm>
            <a:off x="1208160" y="763560"/>
            <a:ext cx="1365120" cy="1940040"/>
          </a:xfrm>
          <a:prstGeom prst="rect">
            <a:avLst/>
          </a:prstGeom>
          <a:ln w="0">
            <a:noFill/>
          </a:ln>
        </p:spPr>
      </p:pic>
      <p:sp>
        <p:nvSpPr>
          <p:cNvPr id="401" name=""/>
          <p:cNvSpPr/>
          <p:nvPr/>
        </p:nvSpPr>
        <p:spPr>
          <a:xfrm>
            <a:off x="501480" y="0"/>
            <a:ext cx="71640" cy="685800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 rot="16200000">
            <a:off x="-2933280" y="3193920"/>
            <a:ext cx="640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EL MOSFET  DE POT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3" name="" descr=""/>
          <p:cNvPicPr/>
          <p:nvPr/>
        </p:nvPicPr>
        <p:blipFill>
          <a:blip r:embed="rId4"/>
          <a:stretch/>
        </p:blipFill>
        <p:spPr>
          <a:xfrm>
            <a:off x="1170000" y="5278320"/>
            <a:ext cx="1459080" cy="133200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/>
          <p:nvPr/>
        </p:nvSpPr>
        <p:spPr>
          <a:xfrm>
            <a:off x="2982960" y="5672160"/>
            <a:ext cx="167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/>
          <p:nvPr/>
        </p:nvSpPr>
        <p:spPr>
          <a:xfrm>
            <a:off x="501480" y="0"/>
            <a:ext cx="71640" cy="685800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 rot="16200000">
            <a:off x="-2933280" y="3193920"/>
            <a:ext cx="640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EL MOSFET  DE POT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87520" y="111240"/>
            <a:ext cx="738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Parámetros fundamentales para seleccionar un MOSF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045120" y="3581280"/>
            <a:ext cx="1104840" cy="1735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606840" y="3581280"/>
            <a:ext cx="1104840" cy="17654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282680" y="3606840"/>
            <a:ext cx="1104840" cy="24130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273400" y="596880"/>
            <a:ext cx="4025880" cy="154152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654280" y="812880"/>
            <a:ext cx="3861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nsión de ruptu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istencia en conduc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rriente máxi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838080" y="2629080"/>
            <a:ext cx="582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80"/>
                </a:solidFill>
                <a:latin typeface="Arial"/>
              </a:rPr>
              <a:t>Tensiones de ruptura de dispositivos comerci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181160" y="3073320"/>
            <a:ext cx="161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ja tens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365640" y="3073320"/>
            <a:ext cx="199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dia tens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905440" y="3073320"/>
            <a:ext cx="161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ta tens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1498680" y="3568680"/>
            <a:ext cx="101592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5 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0 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5 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5 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0 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0 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59120" y="3568680"/>
            <a:ext cx="123192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0 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50 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 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00 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146640" y="3594240"/>
            <a:ext cx="119412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00 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00 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00 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00 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1T14:08:53Z</dcterms:created>
  <dc:creator>Arturo Fernández González</dc:creator>
  <dc:description/>
  <dc:language>en-US</dc:language>
  <cp:lastModifiedBy>arturo</cp:lastModifiedBy>
  <dcterms:modified xsi:type="dcterms:W3CDTF">2003-10-10T15:45:48Z</dcterms:modified>
  <cp:revision>221</cp:revision>
  <dc:subject/>
  <dc:title>Presentación de PowerPoint</dc:title>
</cp:coreProperties>
</file>