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wmf" ContentType="image/x-wmf"/>
  <Override PartName="/ppt/media/image2.wmf" ContentType="image/x-wmf"/>
  <Override PartName="/ppt/media/image23.jpeg" ContentType="image/jpeg"/>
  <Override PartName="/ppt/media/image1.png" ContentType="image/png"/>
  <Override PartName="/ppt/media/image14.png" ContentType="image/png"/>
  <Override PartName="/ppt/media/image29.png" ContentType="image/png"/>
  <Override PartName="/ppt/media/image17.png" ContentType="image/png"/>
  <Override PartName="/ppt/media/image27.png" ContentType="image/png"/>
  <Override PartName="/ppt/media/image26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28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788000" y="4428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Área de Tecnología Electró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92360" y="6334200"/>
            <a:ext cx="56516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9840" y="6237360"/>
            <a:ext cx="539640" cy="5443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12720" y="63612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dad de 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6200" y="442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ónica y Automat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87640" y="640548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scuela Universitaria de Ingenierías Técnicas de Mie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8.wmf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omroncomponents.co.uk/pdfs/Sensors/Opto-Switches/Non-Amplified%20Slotted/Photo-Darlington/SJ3WB.pdf" TargetMode="External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92360" y="141300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ÓNICA Y AUTOMAT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4720" y="21319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º Curso de Instalaciones Electromecánicas Mi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068640"/>
            <a:ext cx="61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Tema 1: Componentes Electr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l transistor bi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522936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or: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Javier Ribas B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5900760"/>
            <a:ext cx="84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i="1" lang="en-US" sz="1600" spc="-1" strike="noStrike">
                <a:solidFill>
                  <a:srgbClr val="008000"/>
                </a:solidFill>
                <a:latin typeface="Arial"/>
              </a:rPr>
              <a:t>Las animaciones contenidas en esta presentación requieren Office XP o pos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635280" y="2276640"/>
            <a:ext cx="1657440" cy="162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321440" y="39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Principio de funcionamiento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5271480" y="2276640"/>
            <a:ext cx="1547640" cy="16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464520" y="39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087640" y="2276640"/>
            <a:ext cx="1547640" cy="16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125800" y="39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3417840" y="2282760"/>
            <a:ext cx="434880" cy="1614600"/>
            <a:chOff x="3417840" y="2282760"/>
            <a:chExt cx="434880" cy="1614600"/>
          </a:xfrm>
        </p:grpSpPr>
        <p:sp>
          <p:nvSpPr>
            <p:cNvPr id="734" name=""/>
            <p:cNvSpPr/>
            <p:nvPr/>
          </p:nvSpPr>
          <p:spPr>
            <a:xfrm flipH="1">
              <a:off x="3635280" y="2282760"/>
              <a:ext cx="217440" cy="16146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3417840" y="2282760"/>
              <a:ext cx="217440" cy="1614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697280" y="2282760"/>
            <a:ext cx="1152360" cy="1608120"/>
            <a:chOff x="4697280" y="2282760"/>
            <a:chExt cx="1152360" cy="1608120"/>
          </a:xfrm>
        </p:grpSpPr>
        <p:sp>
          <p:nvSpPr>
            <p:cNvPr id="737" name=""/>
            <p:cNvSpPr/>
            <p:nvPr/>
          </p:nvSpPr>
          <p:spPr>
            <a:xfrm>
              <a:off x="4697280" y="2282760"/>
              <a:ext cx="576360" cy="16081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73640" y="2282760"/>
              <a:ext cx="576000" cy="1608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"/>
          <p:cNvSpPr/>
          <p:nvPr/>
        </p:nvSpPr>
        <p:spPr>
          <a:xfrm rot="16200000">
            <a:off x="1908000" y="242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1439640" y="2312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4068720" y="231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rot="16200000">
            <a:off x="3564000" y="242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16200000">
            <a:off x="3095640" y="234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rot="16200000">
            <a:off x="2556000" y="23140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-2449080" y="2526840"/>
            <a:ext cx="9073440" cy="1335240"/>
            <a:chOff x="-2449080" y="2526840"/>
            <a:chExt cx="9073440" cy="1335240"/>
          </a:xfrm>
        </p:grpSpPr>
        <p:grpSp>
          <p:nvGrpSpPr>
            <p:cNvPr id="746" name=""/>
            <p:cNvGrpSpPr/>
            <p:nvPr/>
          </p:nvGrpSpPr>
          <p:grpSpPr>
            <a:xfrm>
              <a:off x="2232000" y="2528640"/>
              <a:ext cx="4392360" cy="1333440"/>
              <a:chOff x="2232000" y="2528640"/>
              <a:chExt cx="4392360" cy="1333440"/>
            </a:xfrm>
          </p:grpSpPr>
          <p:sp>
            <p:nvSpPr>
              <p:cNvPr id="747" name=""/>
              <p:cNvSpPr/>
              <p:nvPr/>
            </p:nvSpPr>
            <p:spPr>
              <a:xfrm rot="16200000">
                <a:off x="5795640" y="278100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16200000">
                <a:off x="5832360" y="335736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6200000">
                <a:off x="6443640" y="35366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6200000">
                <a:off x="6156000" y="314136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6200000">
                <a:off x="6443640" y="25650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6200000">
                <a:off x="5256000" y="32126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6200000">
                <a:off x="5292360" y="270792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6200000">
                <a:off x="5580000" y="306828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6200000">
                <a:off x="6551280" y="296028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6200000">
                <a:off x="6227640" y="34999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6200000">
                <a:off x="5508360" y="37890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6200000">
                <a:off x="5940360" y="37890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6200000">
                <a:off x="5543280" y="35366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6200000">
                <a:off x="6264000" y="26730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6200000">
                <a:off x="4392360" y="263664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6200000">
                <a:off x="4429080" y="32126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6200000">
                <a:off x="5040000" y="36079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6200000">
                <a:off x="4752720" y="299700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6200000">
                <a:off x="3852720" y="306828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6200000">
                <a:off x="3889080" y="25635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6200000">
                <a:off x="4176360" y="292392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6200000">
                <a:off x="5111640" y="2925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6200000">
                <a:off x="4824360" y="33555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6200000">
                <a:off x="4176720" y="3753000"/>
                <a:ext cx="7272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6200000">
                <a:off x="4536720" y="353664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6200000">
                <a:off x="4140000" y="339228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6200000">
                <a:off x="4860720" y="25286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6200000">
                <a:off x="3311280" y="26730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6200000">
                <a:off x="3348000" y="3249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6200000">
                <a:off x="3527280" y="285228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2771640" y="31046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6200000">
                <a:off x="2808000" y="25999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6200000">
                <a:off x="3095280" y="296028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6200000">
                <a:off x="3743280" y="339228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6200000">
                <a:off x="3024000" y="36810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6200000">
                <a:off x="3455640" y="368100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6200000">
                <a:off x="3058920" y="34286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6200000">
                <a:off x="2232000" y="30697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6200000">
                <a:off x="2268360" y="25650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6200000">
                <a:off x="2555640" y="2925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6200000">
                <a:off x="2484360" y="364608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6200000">
                <a:off x="2519280" y="33937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-2449080" y="2526840"/>
              <a:ext cx="4392000" cy="1333440"/>
              <a:chOff x="-2449080" y="2526840"/>
              <a:chExt cx="4392000" cy="1333440"/>
            </a:xfrm>
          </p:grpSpPr>
          <p:sp>
            <p:nvSpPr>
              <p:cNvPr id="790" name=""/>
              <p:cNvSpPr/>
              <p:nvPr/>
            </p:nvSpPr>
            <p:spPr>
              <a:xfrm rot="16200000">
                <a:off x="1114200" y="277920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6200000">
                <a:off x="1150920" y="335556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6200000">
                <a:off x="1762200" y="35348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6200000">
                <a:off x="1474560" y="313956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6200000">
                <a:off x="1762200" y="25632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6200000">
                <a:off x="574560" y="32108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6200000">
                <a:off x="610920" y="270612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6200000">
                <a:off x="898560" y="306648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6200000">
                <a:off x="1869840" y="295848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6200000">
                <a:off x="1546200" y="34981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6200000">
                <a:off x="826920" y="37872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6200000">
                <a:off x="1258920" y="37872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16200000">
                <a:off x="861840" y="35348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6200000">
                <a:off x="1582560" y="26712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16200000">
                <a:off x="-288360" y="263484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16200000">
                <a:off x="-251640" y="32112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16200000">
                <a:off x="358560" y="36061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16200000">
                <a:off x="71280" y="299520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6200000">
                <a:off x="-828000" y="30668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6200000">
                <a:off x="-791640" y="25621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6200000">
                <a:off x="-504000" y="292248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6200000">
                <a:off x="430200" y="29235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16200000">
                <a:off x="142920" y="33537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16200000">
                <a:off x="-504360" y="3751200"/>
                <a:ext cx="7272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6200000">
                <a:off x="-143640" y="353520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6200000">
                <a:off x="-540720" y="339048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16200000">
                <a:off x="179280" y="25268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16200000">
                <a:off x="-1369440" y="26715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16200000">
                <a:off x="-1332720" y="32479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16200000">
                <a:off x="-1153440" y="28508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16200000">
                <a:off x="-1909080" y="31032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16200000">
                <a:off x="-1872720" y="259848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16200000">
                <a:off x="-1585080" y="295884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16200000">
                <a:off x="-937440" y="339048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16200000">
                <a:off x="-1656720" y="36795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16200000">
                <a:off x="-1224720" y="3679560"/>
                <a:ext cx="73080" cy="72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16200000">
                <a:off x="-1621800" y="342720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16200000">
                <a:off x="-2449080" y="306828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16200000">
                <a:off x="-2412360" y="25635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16200000">
                <a:off x="-2125080" y="29239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16200000">
                <a:off x="-2196360" y="36446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16200000">
                <a:off x="-2161440" y="339228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2" name=""/>
          <p:cNvSpPr/>
          <p:nvPr/>
        </p:nvSpPr>
        <p:spPr>
          <a:xfrm rot="16200000">
            <a:off x="3959280" y="198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rot="16200000">
            <a:off x="3311640" y="202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6200000">
            <a:off x="2519280" y="202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16200000">
            <a:off x="1871640" y="216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1449360"/>
            <a:ext cx="2087640" cy="244800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836720" y="1449360"/>
            <a:ext cx="2735280" cy="82728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6835680" y="1449360"/>
            <a:ext cx="2308320" cy="244800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4408560" y="1449360"/>
            <a:ext cx="2674800" cy="82728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6835680" y="2708280"/>
            <a:ext cx="106560" cy="72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942240" y="3105000"/>
            <a:ext cx="31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7259760" y="1808280"/>
            <a:ext cx="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740560" y="1808280"/>
            <a:ext cx="151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5543640" y="1521000"/>
            <a:ext cx="176040" cy="576000"/>
            <a:chOff x="5543640" y="1521000"/>
            <a:chExt cx="176040" cy="576000"/>
          </a:xfrm>
        </p:grpSpPr>
        <p:sp>
          <p:nvSpPr>
            <p:cNvPr id="845" name=""/>
            <p:cNvSpPr/>
            <p:nvPr/>
          </p:nvSpPr>
          <p:spPr>
            <a:xfrm>
              <a:off x="5719680" y="1521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543640" y="1665360"/>
              <a:ext cx="69840" cy="25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"/>
          <p:cNvSpPr/>
          <p:nvPr/>
        </p:nvSpPr>
        <p:spPr>
          <a:xfrm flipH="1">
            <a:off x="4397040" y="1808280"/>
            <a:ext cx="116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655640" y="1521000"/>
            <a:ext cx="3240360" cy="1908000"/>
            <a:chOff x="1655640" y="1521000"/>
            <a:chExt cx="3240360" cy="1908000"/>
          </a:xfrm>
        </p:grpSpPr>
        <p:sp>
          <p:nvSpPr>
            <p:cNvPr id="849" name=""/>
            <p:cNvSpPr/>
            <p:nvPr/>
          </p:nvSpPr>
          <p:spPr>
            <a:xfrm>
              <a:off x="1979640" y="2708280"/>
              <a:ext cx="10800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1655640" y="3105000"/>
              <a:ext cx="3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1655640" y="1808280"/>
              <a:ext cx="0" cy="12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411280" y="1700280"/>
              <a:ext cx="613080" cy="216000"/>
            </a:xfrm>
            <a:prstGeom prst="rect">
              <a:avLst/>
            </a:prstGeom>
            <a:solidFill>
              <a:srgbClr val="ddff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655640" y="180828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24360" y="180828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3492000" y="1521000"/>
              <a:ext cx="179640" cy="576000"/>
              <a:chOff x="3492000" y="1521000"/>
              <a:chExt cx="179640" cy="576000"/>
            </a:xfrm>
          </p:grpSpPr>
          <p:sp>
            <p:nvSpPr>
              <p:cNvPr id="856" name=""/>
              <p:cNvSpPr/>
              <p:nvPr/>
            </p:nvSpPr>
            <p:spPr>
              <a:xfrm>
                <a:off x="3671640" y="1521000"/>
                <a:ext cx="0" cy="57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3491640" y="1665360"/>
                <a:ext cx="71640" cy="252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3672000" y="1808280"/>
              <a:ext cx="90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572000" y="1808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16200000">
              <a:off x="4410720" y="1791000"/>
              <a:ext cx="142920" cy="82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431640" y="4616280"/>
            <a:ext cx="8425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omporta de forma equivalente al transistor PNP, salvo que la corriente se debe mayoritariamente al movimiento de electr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un transistor NPN en conducción, la corriente por emisor, colector y base circula en sentido opuesto a la de un PN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2987640" y="2627280"/>
            <a:ext cx="2664000" cy="9460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826920" y="112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stor N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-7.40741E-007 L 0.5158 -7.40741E-007 E">
                                      <p:cBhvr>
                                        <p:cTn id="797" dur="5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5 -2.59259E-006 C 0.01285 -0.00069 0.0151 0.00255 0.0184 -0.0037 C 0.0217 -0.00995 0.03576 -0.02916 0.0191 -0.03703 C 0.00243 -0.0449 -0.03924 -0.05115 -0.0816 -0.05092 C -0.12396 -0.05069 -0.21129 -0.04629 -0.23507 -0.03611 C -0.25886 -0.02592 -0.23906 0.00278 -0.22396 0.01019 C -0.20886 0.0176 -0.17205 0.00996 -0.14479 0.00834 C -0.11754 0.00672 -0.0849 0.00139 -0.06077 -2.59259E-006 C -0.03663 -0.00139 -0.01354 0.0007 -0.00035 -2.59259E-006 Z">
                                      <p:cBhvr>
                                        <p:cTn id="799" dur="6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0.00092 C 0.03455 -0.00069 0.04497 0.00139 0.05972 -0.0037 C 0.07448 -0.00879 0.09201 -0.0243 0.08819 -0.03148 C 0.08438 -0.03865 0.08003 -0.0456 0.03681 -0.04629 C -0.00642 -0.04699 -0.1408 -0.04213 -0.17153 -0.03518 C -0.20226 -0.02824 -0.17569 -0.01041 -0.14722 -0.00463 C -0.11875 0.00116 -0.03455 -0.00115 5.55112E-017 -0.00092 Z">
                                      <p:cBhvr>
                                        <p:cTn id="801" dur="6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17 0.00023 C 0.03021 0.00023 0.06042 0.00231 0.08316 0.00115 C 0.10591 3.33333000000009E-006 0.12605 0.00069 0.13594 -0.00625 C 0.14584 -0.0132 0.15903 -0.0338 0.14219 -0.04051 C 0.12535 -0.04723 0.07466 -0.04676 0.03525 -0.04607 C -0.00416 -0.04537 -0.06684 -0.04213 -0.09392 -0.03681 C -0.121 -0.03148 -0.12638 -0.02084 -0.12725 -0.01459 C -0.12812 -0.00834 -0.12083 -0.00139 -0.09947 0.00115 C -0.07812 0.0037 -0.03055 0.00023 -0.00017 0.00023 Z">
                                      <p:cBhvr>
                                        <p:cTn id="803" dur="6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18 0.0007 C 0.03541 0.00139 0.12257 0.00417 0.15399 0.00255 C 0.18541 0.00093 0.18333 -0.00162 0.18871 -0.00856 C 0.19409 -0.01551 0.20642 -0.03287 0.18593 -0.03912 C 0.16545 -0.04537 0.10694 -0.04745 0.0651 -0.04652 C 0.02326 -0.0456 -0.04393 -0.04097 -0.06476 -0.03356 C -0.08559 -0.02615 -0.07066 -0.00763 -0.0599 -0.00208 C -0.04913 0.00348 -0.03577 -4.07407000000001E-006 -0.00018 0.0007 Z">
                                      <p:cBhvr>
                                        <p:cTn id="805" dur="6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17 -3.7037E-007 C -0.02691 -0.0044 -0.07813 -0.00463 -0.11545 -0.00185 C -0.15278 0.00093 -0.20938 0.00718 -0.22448 0.01667 C -0.23958 0.02616 -0.23004 0.04907 -0.20573 0.05556 C -0.18142 0.06204 -0.11597 0.05579 -0.07865 0.05556 C -0.04132 0.05532 -0.00208 0.0588 0.01858 0.0537 C 0.03924 0.04861 0.04809 0.03403 0.04496 0.025 C 0.04184 0.01597 0.02656 0.0044 -0.00017 -3.7037E-007 Z">
                                      <p:cBhvr>
                                        <p:cTn id="807" dur="6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18 -0.00046 C -0.03855 -0.00115 -0.09184 0.00047 -0.11754 0.00324 C -0.14323 0.00602 -0.15087 0.00834 -0.15434 0.01621 C -0.15782 0.02408 -0.15834 0.04514 -0.13837 0.05047 C -0.11841 0.05579 -0.06528 0.04908 -0.03421 0.04861 C -0.00313 0.04815 0.02482 0.04861 0.04774 0.04769 C 0.07066 0.04676 0.09253 0.04977 0.10329 0.04306 C 0.11406 0.03635 0.12951 0.01412 0.11232 0.00695 C 0.09513 -0.00023 0.03819 0.00023 -0.00018 -0.00046 Z">
                                      <p:cBhvr>
                                        <p:cTn id="809" dur="60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5 -0.00092 C -0.03784 0.00093 -0.046 -0.00069 -0.05729 0.00556 C -0.06857 0.01181 -0.07482 0.02894 -0.06701 0.03611 C -0.0592 0.04329 -0.04479 0.04584 -0.01007 0.04815 C 0.02466 0.05047 0.10677 0.05348 0.14132 0.05 C 0.17587 0.04653 0.19184 0.03704 0.19757 0.02778 C 0.2033 0.01852 0.20886 -0.00069 0.17605 -0.00555 C 0.14323 -0.01041 0.03993 -0.00277 0.00105 -0.00092 Z">
                                      <p:cBhvr>
                                        <p:cTn id="811" dur="6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5 -0.00023 C -0.00087 0.00578 -0.01024 0.01435 0.00451 0.01921 C 0.01927 0.02407 0.04948 0.02824 0.08854 0.0294 C 0.1276 0.03055 0.20868 0.03287 0.23924 0.02662 C 0.26979 0.02037 0.27865 0.000920000000000001 0.27188 -0.00857 C 0.2651 -0.01806 0.22622 -0.02685 0.19826 -0.02986 C 0.17031 -0.03287 0.13559 -0.02824 0.10382 -0.02616 C 0.07205 -0.02408 0.02465 -0.0213 0.00729 -0.0169 C -0.01007 -0.0125 0.00017 -0.00625 -0.00035 -0.00023 Z">
                                      <p:cBhvr>
                                        <p:cTn id="813" dur="6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9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8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Principio de funcionamiento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1655640" y="310500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1655640" y="1808280"/>
            <a:ext cx="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411280" y="1700280"/>
            <a:ext cx="613080" cy="216000"/>
          </a:xfrm>
          <a:prstGeom prst="rect">
            <a:avLst/>
          </a:prstGeom>
          <a:solidFill>
            <a:srgbClr val="ddff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655640" y="1808280"/>
            <a:ext cx="7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024360" y="1808280"/>
            <a:ext cx="46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492000" y="1521000"/>
            <a:ext cx="179640" cy="576000"/>
            <a:chOff x="3492000" y="1521000"/>
            <a:chExt cx="179640" cy="576000"/>
          </a:xfrm>
        </p:grpSpPr>
        <p:sp>
          <p:nvSpPr>
            <p:cNvPr id="871" name=""/>
            <p:cNvSpPr/>
            <p:nvPr/>
          </p:nvSpPr>
          <p:spPr>
            <a:xfrm>
              <a:off x="3671640" y="1521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3491640" y="1665360"/>
              <a:ext cx="71640" cy="25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3672000" y="1808280"/>
            <a:ext cx="9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942240" y="3105000"/>
            <a:ext cx="31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59760" y="1808280"/>
            <a:ext cx="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5740560" y="1808280"/>
            <a:ext cx="151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543640" y="1521000"/>
            <a:ext cx="176040" cy="576000"/>
            <a:chOff x="5543640" y="1521000"/>
            <a:chExt cx="176040" cy="576000"/>
          </a:xfrm>
        </p:grpSpPr>
        <p:sp>
          <p:nvSpPr>
            <p:cNvPr id="878" name=""/>
            <p:cNvSpPr/>
            <p:nvPr/>
          </p:nvSpPr>
          <p:spPr>
            <a:xfrm>
              <a:off x="5719680" y="1521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5543640" y="1665360"/>
              <a:ext cx="69840" cy="25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 flipH="1">
            <a:off x="4572000" y="18082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572000" y="1808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979640" y="2133360"/>
            <a:ext cx="4962600" cy="2203560"/>
            <a:chOff x="1979640" y="2133360"/>
            <a:chExt cx="4962600" cy="2203560"/>
          </a:xfrm>
        </p:grpSpPr>
        <p:sp>
          <p:nvSpPr>
            <p:cNvPr id="883" name=""/>
            <p:cNvSpPr/>
            <p:nvPr/>
          </p:nvSpPr>
          <p:spPr>
            <a:xfrm>
              <a:off x="3635280" y="2276640"/>
              <a:ext cx="1657440" cy="1620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321440" y="3968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271480" y="2276640"/>
              <a:ext cx="1547640" cy="16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64520" y="396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87640" y="2276640"/>
              <a:ext cx="1547640" cy="161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25800" y="396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3417840" y="2282760"/>
              <a:ext cx="434880" cy="1614600"/>
              <a:chOff x="3417840" y="2282760"/>
              <a:chExt cx="434880" cy="1614600"/>
            </a:xfrm>
          </p:grpSpPr>
          <p:sp>
            <p:nvSpPr>
              <p:cNvPr id="890" name=""/>
              <p:cNvSpPr/>
              <p:nvPr/>
            </p:nvSpPr>
            <p:spPr>
              <a:xfrm flipH="1">
                <a:off x="3635280" y="2282760"/>
                <a:ext cx="217440" cy="16146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cc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3417840" y="2282760"/>
                <a:ext cx="217440" cy="16146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4697280" y="2282760"/>
              <a:ext cx="1152360" cy="1608120"/>
              <a:chOff x="4697280" y="2282760"/>
              <a:chExt cx="1152360" cy="1608120"/>
            </a:xfrm>
          </p:grpSpPr>
          <p:sp>
            <p:nvSpPr>
              <p:cNvPr id="893" name=""/>
              <p:cNvSpPr/>
              <p:nvPr/>
            </p:nvSpPr>
            <p:spPr>
              <a:xfrm>
                <a:off x="4697280" y="2282760"/>
                <a:ext cx="576360" cy="16081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cc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273640" y="2282760"/>
                <a:ext cx="576000" cy="16081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1979640" y="2708280"/>
              <a:ext cx="10800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835680" y="2708280"/>
              <a:ext cx="10656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6200000">
              <a:off x="4410720" y="1791000"/>
              <a:ext cx="142920" cy="82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95280" y="4508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yor movilidad que presentan los electrones hace que las características del transistor NPN sean mejores que las de un PNP de forma y tamaño equivalente. Los NPN se emplean en mayor número de apl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1943280" y="2168640"/>
            <a:ext cx="5041800" cy="936360"/>
            <a:chOff x="1943280" y="2168640"/>
            <a:chExt cx="5041800" cy="936360"/>
          </a:xfrm>
        </p:grpSpPr>
        <p:sp>
          <p:nvSpPr>
            <p:cNvPr id="900" name=""/>
            <p:cNvSpPr/>
            <p:nvPr/>
          </p:nvSpPr>
          <p:spPr>
            <a:xfrm>
              <a:off x="1943280" y="3105000"/>
              <a:ext cx="23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788000" y="3105000"/>
              <a:ext cx="21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72000" y="2168640"/>
              <a:ext cx="0" cy="68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4319280" y="2852640"/>
              <a:ext cx="14292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319640" y="2852640"/>
              <a:ext cx="46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78200" y="2852640"/>
              <a:ext cx="10800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3387240" y="31050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573440" y="23842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935240" y="31291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527280" y="353700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ansistor N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826920" y="1125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stor N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2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2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80"/>
                                        <p:tgtEl>
                                          <p:spTgt spid="8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Principio de funcionamiento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11280" y="1125360"/>
            <a:ext cx="831672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clus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transistor bipolar está formado por dos uniones P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que sea un transistor y no dos diodos deben de cumplirse dos condi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zona de Base debe ser muy estr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 emisor debe de estar muy dop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mente, el colector está muy poco dopado y es mucho may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792000" y="3645000"/>
            <a:ext cx="2233440" cy="2298600"/>
            <a:chOff x="792000" y="3645000"/>
            <a:chExt cx="2233440" cy="2298600"/>
          </a:xfrm>
        </p:grpSpPr>
        <p:sp>
          <p:nvSpPr>
            <p:cNvPr id="914" name=""/>
            <p:cNvSpPr/>
            <p:nvPr/>
          </p:nvSpPr>
          <p:spPr>
            <a:xfrm>
              <a:off x="792000" y="4351320"/>
              <a:ext cx="2232000" cy="1008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92000" y="4998960"/>
              <a:ext cx="2232000" cy="360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439640" y="5070600"/>
              <a:ext cx="1585800" cy="288720"/>
            </a:xfrm>
            <a:prstGeom prst="rect">
              <a:avLst/>
            </a:prstGeom>
            <a:solidFill>
              <a:srgbClr val="00e9e4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s-ES" sz="1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02960" y="499896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797480" y="4422960"/>
              <a:ext cx="39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92000" y="4351320"/>
              <a:ext cx="22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1871280" y="391788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848600" y="364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584000" y="5359320"/>
              <a:ext cx="14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2303280" y="535932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06160" y="557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2000" y="535932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1079280" y="5359320"/>
              <a:ext cx="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73880" y="55753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7272360" y="4581360"/>
            <a:ext cx="1692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cubiertos por Shockley, Brattain y Barden en 1947 (Laboratorios Be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5545080" y="4287960"/>
            <a:ext cx="1727280" cy="152244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3384720" y="4149720"/>
            <a:ext cx="212400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144880" y="2430360"/>
            <a:ext cx="1079280" cy="237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360880" y="3079800"/>
            <a:ext cx="431640" cy="1007280"/>
            <a:chOff x="2360880" y="3079800"/>
            <a:chExt cx="431640" cy="1007280"/>
          </a:xfrm>
        </p:grpSpPr>
        <p:sp>
          <p:nvSpPr>
            <p:cNvPr id="934" name=""/>
            <p:cNvSpPr/>
            <p:nvPr/>
          </p:nvSpPr>
          <p:spPr>
            <a:xfrm>
              <a:off x="2792520" y="3079800"/>
              <a:ext cx="0" cy="16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2504520" y="3247200"/>
              <a:ext cx="288000" cy="16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04520" y="3247200"/>
              <a:ext cx="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04520" y="3750840"/>
              <a:ext cx="288000" cy="16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792520" y="392040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2360880" y="3583440"/>
              <a:ext cx="14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2792520" y="4087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352520" y="437508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792520" y="26474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92520" y="264780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1352520" y="35830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208160" y="3655800"/>
            <a:ext cx="0" cy="647640"/>
          </a:xfrm>
          <a:prstGeom prst="line">
            <a:avLst/>
          </a:prstGeom>
          <a:ln w="936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232160" y="2792160"/>
            <a:ext cx="0" cy="1439640"/>
          </a:xfrm>
          <a:prstGeom prst="line">
            <a:avLst/>
          </a:prstGeom>
          <a:ln w="936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212720" y="2451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213080" y="40356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045800" y="3314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046160" y="4179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639800" y="3583080"/>
            <a:ext cx="287280" cy="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3368160" y="2647800"/>
            <a:ext cx="287640" cy="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299840" y="324324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303720" y="214776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99480" y="374796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627200" y="317196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2086920" y="2435400"/>
            <a:ext cx="1118160" cy="1866240"/>
            <a:chOff x="2086920" y="2435400"/>
            <a:chExt cx="1118160" cy="1866240"/>
          </a:xfrm>
        </p:grpSpPr>
        <p:sp>
          <p:nvSpPr>
            <p:cNvPr id="958" name=""/>
            <p:cNvSpPr/>
            <p:nvPr/>
          </p:nvSpPr>
          <p:spPr>
            <a:xfrm>
              <a:off x="2792520" y="4014720"/>
              <a:ext cx="0" cy="28692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71720" y="3876480"/>
              <a:ext cx="333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06320" y="24354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17600" y="32274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2360520" y="2719440"/>
              <a:ext cx="287640" cy="647280"/>
            </a:xfrm>
            <a:prstGeom prst="line">
              <a:avLst/>
            </a:prstGeom>
            <a:ln w="936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086920" y="2652480"/>
              <a:ext cx="524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C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4932360" y="1295280"/>
            <a:ext cx="3981600" cy="5229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 principio necesitamos conocer 3 tensiones y 3 corr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I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I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CE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V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BE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V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C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 la práctica basta con conocer solo 2 corrientes y 2 ten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ormalmente se trabaja con I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I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V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CE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y V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BE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or supuesto las otras dos pueden obtenerse fácilmen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= I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+ I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CB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CE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1" lang="en-US" sz="1600" spc="-1" strike="noStrike" baseline="-25000">
                <a:solidFill>
                  <a:srgbClr val="333399"/>
                </a:solidFill>
                <a:latin typeface="Arial"/>
              </a:rPr>
              <a:t>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214200" y="1730520"/>
            <a:ext cx="4487760" cy="1652040"/>
            <a:chOff x="214200" y="1730520"/>
            <a:chExt cx="4487760" cy="1652040"/>
          </a:xfrm>
        </p:grpSpPr>
        <p:sp>
          <p:nvSpPr>
            <p:cNvPr id="966" name=""/>
            <p:cNvSpPr/>
            <p:nvPr/>
          </p:nvSpPr>
          <p:spPr>
            <a:xfrm>
              <a:off x="214200" y="1730520"/>
              <a:ext cx="44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I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B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= f(V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BE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, V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)  Característica de ent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98560" y="2158920"/>
              <a:ext cx="504720" cy="1223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493920" y="3309840"/>
            <a:ext cx="4134240" cy="2571120"/>
            <a:chOff x="493920" y="3309840"/>
            <a:chExt cx="4134240" cy="2571120"/>
          </a:xfrm>
        </p:grpSpPr>
        <p:sp>
          <p:nvSpPr>
            <p:cNvPr id="969" name=""/>
            <p:cNvSpPr/>
            <p:nvPr/>
          </p:nvSpPr>
          <p:spPr>
            <a:xfrm>
              <a:off x="493920" y="5475240"/>
              <a:ext cx="413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I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C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= f(V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, I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B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)  Característica de 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3346200" y="3309840"/>
              <a:ext cx="504720" cy="22334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755640" y="11955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stor N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144880" y="2430360"/>
            <a:ext cx="1079280" cy="237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2360880" y="3079800"/>
            <a:ext cx="431640" cy="1007280"/>
            <a:chOff x="2360880" y="3079800"/>
            <a:chExt cx="431640" cy="1007280"/>
          </a:xfrm>
        </p:grpSpPr>
        <p:sp>
          <p:nvSpPr>
            <p:cNvPr id="975" name=""/>
            <p:cNvSpPr/>
            <p:nvPr/>
          </p:nvSpPr>
          <p:spPr>
            <a:xfrm>
              <a:off x="2792520" y="3079800"/>
              <a:ext cx="0" cy="16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2504520" y="3247200"/>
              <a:ext cx="288000" cy="16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04520" y="3247200"/>
              <a:ext cx="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04520" y="3750840"/>
              <a:ext cx="288000" cy="16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92520" y="392040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360880" y="3583440"/>
              <a:ext cx="14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2792520" y="4087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352520" y="437508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2792520" y="26474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792520" y="264780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1352520" y="35830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1208160" y="365580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4232160" y="2792160"/>
            <a:ext cx="0" cy="1439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212720" y="2451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213080" y="40356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045800" y="3314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046160" y="4179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639800" y="3583080"/>
            <a:ext cx="287280" cy="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368160" y="2647800"/>
            <a:ext cx="287640" cy="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299840" y="324324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303720" y="214776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99480" y="374796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627200" y="317196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14200" y="1730520"/>
            <a:ext cx="4487760" cy="1652040"/>
            <a:chOff x="214200" y="1730520"/>
            <a:chExt cx="4487760" cy="1652040"/>
          </a:xfrm>
        </p:grpSpPr>
        <p:sp>
          <p:nvSpPr>
            <p:cNvPr id="999" name=""/>
            <p:cNvSpPr/>
            <p:nvPr/>
          </p:nvSpPr>
          <p:spPr>
            <a:xfrm>
              <a:off x="214200" y="1730520"/>
              <a:ext cx="44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I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B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= f(V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BE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, V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)  Característica de ent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98560" y="2158920"/>
              <a:ext cx="504720" cy="1223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755640" y="11955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stor N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5724360" y="2060640"/>
            <a:ext cx="2361240" cy="2169360"/>
            <a:chOff x="5724360" y="2060640"/>
            <a:chExt cx="2361240" cy="2169360"/>
          </a:xfrm>
        </p:grpSpPr>
        <p:sp>
          <p:nvSpPr>
            <p:cNvPr id="1003" name=""/>
            <p:cNvSpPr/>
            <p:nvPr/>
          </p:nvSpPr>
          <p:spPr>
            <a:xfrm flipV="1">
              <a:off x="6300720" y="2097000"/>
              <a:ext cx="0" cy="21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724360" y="3824280"/>
              <a:ext cx="223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568280" y="382428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951520" y="206064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5727600" y="2205000"/>
            <a:ext cx="1287720" cy="1657440"/>
          </a:xfrm>
          <a:custGeom>
            <a:avLst/>
            <a:gdLst/>
            <a:ahLst/>
            <a:rect l="l" t="t" r="r" b="b"/>
            <a:pathLst>
              <a:path w="811" h="1044">
                <a:moveTo>
                  <a:pt x="0" y="1035"/>
                </a:moveTo>
                <a:cubicBezTo>
                  <a:pt x="54" y="1034"/>
                  <a:pt x="222" y="1044"/>
                  <a:pt x="324" y="1024"/>
                </a:cubicBezTo>
                <a:cubicBezTo>
                  <a:pt x="426" y="1004"/>
                  <a:pt x="540" y="999"/>
                  <a:pt x="610" y="917"/>
                </a:cubicBezTo>
                <a:cubicBezTo>
                  <a:pt x="680" y="835"/>
                  <a:pt x="716" y="689"/>
                  <a:pt x="746" y="536"/>
                </a:cubicBezTo>
                <a:cubicBezTo>
                  <a:pt x="776" y="383"/>
                  <a:pt x="811" y="56"/>
                  <a:pt x="792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724360" y="2349360"/>
            <a:ext cx="1368720" cy="1513080"/>
          </a:xfrm>
          <a:custGeom>
            <a:avLst/>
            <a:gdLst/>
            <a:ahLst/>
            <a:rect l="l" t="t" r="r" b="b"/>
            <a:pathLst>
              <a:path w="811" h="1044">
                <a:moveTo>
                  <a:pt x="0" y="1035"/>
                </a:moveTo>
                <a:cubicBezTo>
                  <a:pt x="54" y="1034"/>
                  <a:pt x="222" y="1044"/>
                  <a:pt x="324" y="1024"/>
                </a:cubicBezTo>
                <a:cubicBezTo>
                  <a:pt x="426" y="1004"/>
                  <a:pt x="540" y="999"/>
                  <a:pt x="610" y="917"/>
                </a:cubicBezTo>
                <a:cubicBezTo>
                  <a:pt x="680" y="835"/>
                  <a:pt x="716" y="689"/>
                  <a:pt x="746" y="536"/>
                </a:cubicBezTo>
                <a:cubicBezTo>
                  <a:pt x="776" y="383"/>
                  <a:pt x="811" y="56"/>
                  <a:pt x="792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948360" y="1662120"/>
            <a:ext cx="749520" cy="506520"/>
            <a:chOff x="6948360" y="1662120"/>
            <a:chExt cx="749520" cy="506520"/>
          </a:xfrm>
        </p:grpSpPr>
        <p:sp>
          <p:nvSpPr>
            <p:cNvPr id="1010" name=""/>
            <p:cNvSpPr/>
            <p:nvPr/>
          </p:nvSpPr>
          <p:spPr>
            <a:xfrm>
              <a:off x="6985080" y="2023920"/>
              <a:ext cx="250920" cy="144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948360" y="1662120"/>
              <a:ext cx="749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431640" y="494172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 base y emisor el transistor se comporta como un di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31640" y="5408640"/>
            <a:ext cx="871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aracterística de este diodo depende de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o la variación es pequeñ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5688000" y="2347920"/>
            <a:ext cx="1368360" cy="1512720"/>
          </a:xfrm>
          <a:custGeom>
            <a:avLst/>
            <a:gdLst/>
            <a:ahLst/>
            <a:rect l="l" t="t" r="r" b="b"/>
            <a:pathLst>
              <a:path w="811" h="1044">
                <a:moveTo>
                  <a:pt x="0" y="1035"/>
                </a:moveTo>
                <a:cubicBezTo>
                  <a:pt x="54" y="1034"/>
                  <a:pt x="222" y="1044"/>
                  <a:pt x="324" y="1024"/>
                </a:cubicBezTo>
                <a:cubicBezTo>
                  <a:pt x="426" y="1004"/>
                  <a:pt x="540" y="999"/>
                  <a:pt x="610" y="917"/>
                </a:cubicBezTo>
                <a:cubicBezTo>
                  <a:pt x="680" y="835"/>
                  <a:pt x="716" y="689"/>
                  <a:pt x="746" y="536"/>
                </a:cubicBezTo>
                <a:cubicBezTo>
                  <a:pt x="776" y="383"/>
                  <a:pt x="811" y="56"/>
                  <a:pt x="792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2075400" y="3841200"/>
            <a:ext cx="494280" cy="362880"/>
            <a:chOff x="2075400" y="3841200"/>
            <a:chExt cx="494280" cy="362880"/>
          </a:xfrm>
        </p:grpSpPr>
        <p:sp>
          <p:nvSpPr>
            <p:cNvPr id="1016" name=""/>
            <p:cNvSpPr/>
            <p:nvPr/>
          </p:nvSpPr>
          <p:spPr>
            <a:xfrm flipH="1" flipV="1">
              <a:off x="2075400" y="3841200"/>
              <a:ext cx="132840" cy="97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flipV="1">
              <a:off x="2404800" y="4083120"/>
              <a:ext cx="164880" cy="120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2178000">
              <a:off x="2185200" y="3888720"/>
              <a:ext cx="228240" cy="235440"/>
            </a:xfrm>
            <a:custGeom>
              <a:avLst/>
              <a:gdLst/>
              <a:ahLst/>
              <a:rect l="l" t="t" r="r" b="b"/>
              <a:pathLst>
                <a:path w="659" h="680">
                  <a:moveTo>
                    <a:pt x="1" y="680"/>
                  </a:moveTo>
                  <a:lnTo>
                    <a:pt x="0" y="0"/>
                  </a:lnTo>
                  <a:lnTo>
                    <a:pt x="659" y="339"/>
                  </a:lnTo>
                  <a:lnTo>
                    <a:pt x="1" y="68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2178000">
              <a:off x="2390400" y="3953160"/>
              <a:ext cx="15480" cy="250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7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2600"/>
                            </p:stCondLst>
                            <p:childTnLst>
                              <p:par>
                                <p:cTn id="9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2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2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600"/>
                            </p:stCondLst>
                            <p:childTnLst>
                              <p:par>
                                <p:cTn id="9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144880" y="2430360"/>
            <a:ext cx="1079280" cy="237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360880" y="3079800"/>
            <a:ext cx="431640" cy="1007280"/>
            <a:chOff x="2360880" y="3079800"/>
            <a:chExt cx="431640" cy="1007280"/>
          </a:xfrm>
        </p:grpSpPr>
        <p:sp>
          <p:nvSpPr>
            <p:cNvPr id="1023" name=""/>
            <p:cNvSpPr/>
            <p:nvPr/>
          </p:nvSpPr>
          <p:spPr>
            <a:xfrm>
              <a:off x="2792520" y="3079800"/>
              <a:ext cx="0" cy="167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504520" y="3247200"/>
              <a:ext cx="288000" cy="16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504520" y="3247200"/>
              <a:ext cx="0" cy="67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04520" y="3750840"/>
              <a:ext cx="288000" cy="16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792520" y="392040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360880" y="3583440"/>
              <a:ext cx="14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"/>
          <p:cNvSpPr/>
          <p:nvPr/>
        </p:nvSpPr>
        <p:spPr>
          <a:xfrm>
            <a:off x="2792520" y="4087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352520" y="437508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2792520" y="26474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792520" y="264780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352520" y="35830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1208160" y="365580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4232160" y="2792160"/>
            <a:ext cx="0" cy="1439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212720" y="2451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213080" y="40356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1045800" y="33148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046160" y="41799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639800" y="3583080"/>
            <a:ext cx="287280" cy="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3368160" y="2647800"/>
            <a:ext cx="287640" cy="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299840" y="324324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303720" y="214776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99480" y="374796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627200" y="317196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7000" y="1730520"/>
            <a:ext cx="413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= f(I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, V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CE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)  Característica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755640" y="11955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stor N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5335560" y="2097000"/>
            <a:ext cx="3145320" cy="2493360"/>
            <a:chOff x="5335560" y="2097000"/>
            <a:chExt cx="3145320" cy="2493360"/>
          </a:xfrm>
        </p:grpSpPr>
        <p:sp>
          <p:nvSpPr>
            <p:cNvPr id="1049" name=""/>
            <p:cNvSpPr/>
            <p:nvPr/>
          </p:nvSpPr>
          <p:spPr>
            <a:xfrm flipV="1">
              <a:off x="5724360" y="2097000"/>
              <a:ext cx="0" cy="21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724360" y="4221000"/>
              <a:ext cx="266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963560" y="418464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35560" y="209700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431640" y="4941720"/>
            <a:ext cx="842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rriente que circula por el colector se controla mediante la corriente de base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300720" y="3176280"/>
            <a:ext cx="1692360" cy="36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8109000" y="296064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5724360" y="2528640"/>
            <a:ext cx="2268360" cy="1692360"/>
            <a:chOff x="5724360" y="2528640"/>
            <a:chExt cx="2268360" cy="1692360"/>
          </a:xfrm>
        </p:grpSpPr>
        <p:sp>
          <p:nvSpPr>
            <p:cNvPr id="1057" name=""/>
            <p:cNvSpPr/>
            <p:nvPr/>
          </p:nvSpPr>
          <p:spPr>
            <a:xfrm>
              <a:off x="5724360" y="2597040"/>
              <a:ext cx="503280" cy="1623960"/>
            </a:xfrm>
            <a:custGeom>
              <a:avLst/>
              <a:gdLst/>
              <a:ahLst/>
              <a:rect l="l" t="t" r="r" b="b"/>
              <a:pathLst>
                <a:path w="317" h="1023">
                  <a:moveTo>
                    <a:pt x="0" y="1023"/>
                  </a:moveTo>
                  <a:cubicBezTo>
                    <a:pt x="7" y="1017"/>
                    <a:pt x="16" y="1013"/>
                    <a:pt x="22" y="980"/>
                  </a:cubicBezTo>
                  <a:cubicBezTo>
                    <a:pt x="28" y="947"/>
                    <a:pt x="30" y="958"/>
                    <a:pt x="38" y="824"/>
                  </a:cubicBezTo>
                  <a:cubicBezTo>
                    <a:pt x="46" y="690"/>
                    <a:pt x="22" y="311"/>
                    <a:pt x="68" y="174"/>
                  </a:cubicBezTo>
                  <a:cubicBezTo>
                    <a:pt x="114" y="37"/>
                    <a:pt x="215" y="17"/>
                    <a:pt x="317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6227640" y="2528640"/>
              <a:ext cx="1692360" cy="680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6011640" y="3753000"/>
              <a:ext cx="1981080" cy="36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72240" y="3789360"/>
              <a:ext cx="239760" cy="26820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151" y="0"/>
                  </a:moveTo>
                  <a:cubicBezTo>
                    <a:pt x="135" y="5"/>
                    <a:pt x="81" y="1"/>
                    <a:pt x="56" y="29"/>
                  </a:cubicBezTo>
                  <a:cubicBezTo>
                    <a:pt x="31" y="57"/>
                    <a:pt x="12" y="140"/>
                    <a:pt x="0" y="169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75480" y="3213000"/>
              <a:ext cx="525240" cy="457200"/>
            </a:xfrm>
            <a:custGeom>
              <a:avLst/>
              <a:gdLst/>
              <a:ahLst/>
              <a:rect l="l" t="t" r="r" b="b"/>
              <a:pathLst>
                <a:path w="331" h="288">
                  <a:moveTo>
                    <a:pt x="331" y="0"/>
                  </a:moveTo>
                  <a:cubicBezTo>
                    <a:pt x="290" y="5"/>
                    <a:pt x="139" y="2"/>
                    <a:pt x="86" y="28"/>
                  </a:cubicBezTo>
                  <a:cubicBezTo>
                    <a:pt x="33" y="54"/>
                    <a:pt x="26" y="116"/>
                    <a:pt x="13" y="159"/>
                  </a:cubicBezTo>
                  <a:cubicBezTo>
                    <a:pt x="0" y="202"/>
                    <a:pt x="7" y="261"/>
                    <a:pt x="6" y="288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4.07407E-006 L -7.5E-006 -0.05324 L -7.5E-006 0.05787 L -7.5E-006 -0.05556 L -7.5E-006 4.07407E-006 Z">
                                      <p:cBhvr>
                                        <p:cTn id="987" dur="5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0"/>
                            </p:stCondLst>
                            <p:childTnLst>
                              <p:par>
                                <p:cTn id="9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2232000" y="3176640"/>
            <a:ext cx="468360" cy="10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55640" y="1195560"/>
            <a:ext cx="69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valente hidráulico del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482920" y="3173400"/>
            <a:ext cx="2247840" cy="968400"/>
          </a:xfrm>
          <a:custGeom>
            <a:avLst/>
            <a:gdLst/>
            <a:ahLst/>
            <a:rect l="l" t="t" r="r" b="b"/>
            <a:pathLst>
              <a:path w="1814" h="907">
                <a:moveTo>
                  <a:pt x="907" y="907"/>
                </a:moveTo>
                <a:lnTo>
                  <a:pt x="0" y="453"/>
                </a:lnTo>
                <a:lnTo>
                  <a:pt x="907" y="0"/>
                </a:lnTo>
                <a:lnTo>
                  <a:pt x="1814" y="453"/>
                </a:lnTo>
                <a:lnTo>
                  <a:pt x="907" y="907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46320" y="3706920"/>
            <a:ext cx="2247840" cy="966600"/>
          </a:xfrm>
          <a:custGeom>
            <a:avLst/>
            <a:gdLst/>
            <a:ahLst/>
            <a:rect l="l" t="t" r="r" b="b"/>
            <a:pathLst>
              <a:path w="1814" h="907">
                <a:moveTo>
                  <a:pt x="907" y="907"/>
                </a:moveTo>
                <a:lnTo>
                  <a:pt x="0" y="453"/>
                </a:lnTo>
                <a:lnTo>
                  <a:pt x="907" y="0"/>
                </a:lnTo>
                <a:lnTo>
                  <a:pt x="1814" y="453"/>
                </a:lnTo>
                <a:lnTo>
                  <a:pt x="907" y="907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482920" y="2448000"/>
            <a:ext cx="1123920" cy="1209600"/>
          </a:xfrm>
          <a:custGeom>
            <a:avLst/>
            <a:gdLst/>
            <a:ahLst/>
            <a:rect l="l" t="t" r="r" b="b"/>
            <a:pathLst>
              <a:path w="907" h="1134">
                <a:moveTo>
                  <a:pt x="0" y="1134"/>
                </a:moveTo>
                <a:lnTo>
                  <a:pt x="907" y="681"/>
                </a:lnTo>
                <a:lnTo>
                  <a:pt x="907" y="0"/>
                </a:lnTo>
                <a:lnTo>
                  <a:pt x="0" y="454"/>
                </a:lnTo>
                <a:lnTo>
                  <a:pt x="0" y="113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144880" y="2205000"/>
            <a:ext cx="1461960" cy="727200"/>
          </a:xfrm>
          <a:custGeom>
            <a:avLst/>
            <a:gdLst/>
            <a:ahLst/>
            <a:rect l="l" t="t" r="r" b="b"/>
            <a:pathLst>
              <a:path w="1180" h="681">
                <a:moveTo>
                  <a:pt x="273" y="681"/>
                </a:moveTo>
                <a:lnTo>
                  <a:pt x="0" y="545"/>
                </a:lnTo>
                <a:lnTo>
                  <a:pt x="0" y="363"/>
                </a:lnTo>
                <a:lnTo>
                  <a:pt x="726" y="0"/>
                </a:lnTo>
                <a:lnTo>
                  <a:pt x="1180" y="227"/>
                </a:lnTo>
                <a:lnTo>
                  <a:pt x="273" y="681"/>
                </a:lnTo>
                <a:close/>
              </a:path>
            </a:pathLst>
          </a:custGeom>
          <a:solidFill>
            <a:srgbClr val="4d4d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370240" y="2979720"/>
            <a:ext cx="2360520" cy="1015920"/>
          </a:xfrm>
          <a:custGeom>
            <a:avLst/>
            <a:gdLst/>
            <a:ahLst/>
            <a:rect l="l" t="t" r="r" b="b"/>
            <a:pathLst>
              <a:path w="1905" h="952">
                <a:moveTo>
                  <a:pt x="907" y="952"/>
                </a:moveTo>
                <a:lnTo>
                  <a:pt x="1905" y="453"/>
                </a:lnTo>
                <a:lnTo>
                  <a:pt x="998" y="0"/>
                </a:lnTo>
                <a:lnTo>
                  <a:pt x="0" y="499"/>
                </a:lnTo>
                <a:lnTo>
                  <a:pt x="907" y="952"/>
                </a:lnTo>
                <a:close/>
              </a:path>
            </a:pathLst>
          </a:custGeom>
          <a:blipFill rotWithShape="0">
            <a:blip r:embed="rId1">
              <a:alphaModFix amt="6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2033640" y="2495520"/>
            <a:ext cx="1797120" cy="1402920"/>
            <a:chOff x="2033640" y="2495520"/>
            <a:chExt cx="1797120" cy="1402920"/>
          </a:xfrm>
        </p:grpSpPr>
        <p:sp>
          <p:nvSpPr>
            <p:cNvPr id="1071" name=""/>
            <p:cNvSpPr/>
            <p:nvPr/>
          </p:nvSpPr>
          <p:spPr>
            <a:xfrm>
              <a:off x="2033640" y="2543400"/>
              <a:ext cx="1684440" cy="1355040"/>
            </a:xfrm>
            <a:custGeom>
              <a:avLst/>
              <a:gdLst/>
              <a:ahLst/>
              <a:rect l="l" t="t" r="r" b="b"/>
              <a:pathLst>
                <a:path w="1360" h="1271">
                  <a:moveTo>
                    <a:pt x="0" y="590"/>
                  </a:moveTo>
                  <a:lnTo>
                    <a:pt x="1360" y="1271"/>
                  </a:lnTo>
                  <a:lnTo>
                    <a:pt x="1360" y="681"/>
                  </a:lnTo>
                  <a:lnTo>
                    <a:pt x="0" y="0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718080" y="3220560"/>
              <a:ext cx="112320" cy="677880"/>
            </a:xfrm>
            <a:custGeom>
              <a:avLst/>
              <a:gdLst/>
              <a:ahLst/>
              <a:rect l="l" t="t" r="r" b="b"/>
              <a:pathLst>
                <a:path w="91" h="636">
                  <a:moveTo>
                    <a:pt x="0" y="636"/>
                  </a:moveTo>
                  <a:lnTo>
                    <a:pt x="91" y="590"/>
                  </a:lnTo>
                  <a:lnTo>
                    <a:pt x="91" y="0"/>
                  </a:lnTo>
                  <a:lnTo>
                    <a:pt x="0" y="46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2495520"/>
              <a:ext cx="1797120" cy="774360"/>
            </a:xfrm>
            <a:custGeom>
              <a:avLst/>
              <a:gdLst/>
              <a:ahLst/>
              <a:rect l="l" t="t" r="r" b="b"/>
              <a:pathLst>
                <a:path w="1451" h="726">
                  <a:moveTo>
                    <a:pt x="1360" y="726"/>
                  </a:moveTo>
                  <a:lnTo>
                    <a:pt x="0" y="45"/>
                  </a:lnTo>
                  <a:lnTo>
                    <a:pt x="90" y="0"/>
                  </a:lnTo>
                  <a:lnTo>
                    <a:pt x="1451" y="680"/>
                  </a:lnTo>
                  <a:lnTo>
                    <a:pt x="1360" y="726"/>
                  </a:ln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46320" y="2979720"/>
            <a:ext cx="1123920" cy="1209600"/>
          </a:xfrm>
          <a:custGeom>
            <a:avLst/>
            <a:gdLst/>
            <a:ahLst/>
            <a:rect l="l" t="t" r="r" b="b"/>
            <a:pathLst>
              <a:path w="907" h="1134">
                <a:moveTo>
                  <a:pt x="0" y="1134"/>
                </a:moveTo>
                <a:lnTo>
                  <a:pt x="907" y="681"/>
                </a:lnTo>
                <a:lnTo>
                  <a:pt x="907" y="0"/>
                </a:lnTo>
                <a:lnTo>
                  <a:pt x="0" y="454"/>
                </a:lnTo>
                <a:lnTo>
                  <a:pt x="0" y="113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84360" y="2637000"/>
            <a:ext cx="1685880" cy="826920"/>
          </a:xfrm>
          <a:custGeom>
            <a:avLst/>
            <a:gdLst/>
            <a:ahLst/>
            <a:rect l="l" t="t" r="r" b="b"/>
            <a:pathLst>
              <a:path w="1361" h="775">
                <a:moveTo>
                  <a:pt x="454" y="775"/>
                </a:moveTo>
                <a:lnTo>
                  <a:pt x="1361" y="321"/>
                </a:lnTo>
                <a:lnTo>
                  <a:pt x="1088" y="188"/>
                </a:lnTo>
                <a:lnTo>
                  <a:pt x="1088" y="0"/>
                </a:lnTo>
                <a:lnTo>
                  <a:pt x="0" y="548"/>
                </a:lnTo>
                <a:lnTo>
                  <a:pt x="454" y="775"/>
                </a:lnTo>
                <a:close/>
              </a:path>
            </a:pathLst>
          </a:custGeom>
          <a:solidFill>
            <a:srgbClr val="4d4d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1246320" y="3511440"/>
            <a:ext cx="2247840" cy="1404720"/>
            <a:chOff x="1246320" y="3511440"/>
            <a:chExt cx="2247840" cy="1404720"/>
          </a:xfrm>
        </p:grpSpPr>
        <p:sp>
          <p:nvSpPr>
            <p:cNvPr id="1077" name=""/>
            <p:cNvSpPr/>
            <p:nvPr/>
          </p:nvSpPr>
          <p:spPr>
            <a:xfrm>
              <a:off x="1246320" y="3511440"/>
              <a:ext cx="2247840" cy="968400"/>
            </a:xfrm>
            <a:custGeom>
              <a:avLst/>
              <a:gdLst/>
              <a:ahLst/>
              <a:rect l="l" t="t" r="r" b="b"/>
              <a:pathLst>
                <a:path w="1814" h="907">
                  <a:moveTo>
                    <a:pt x="907" y="907"/>
                  </a:moveTo>
                  <a:lnTo>
                    <a:pt x="0" y="453"/>
                  </a:lnTo>
                  <a:lnTo>
                    <a:pt x="907" y="0"/>
                  </a:lnTo>
                  <a:lnTo>
                    <a:pt x="1814" y="453"/>
                  </a:lnTo>
                  <a:lnTo>
                    <a:pt x="907" y="907"/>
                  </a:lnTo>
                  <a:close/>
                </a:path>
              </a:pathLst>
            </a:custGeom>
            <a:blipFill rotWithShape="0">
              <a:blip r:embed="rId2">
                <a:alphaModFix amt="66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246320" y="3996000"/>
              <a:ext cx="1123560" cy="920160"/>
            </a:xfrm>
            <a:custGeom>
              <a:avLst/>
              <a:gdLst/>
              <a:ahLst/>
              <a:rect l="l" t="t" r="r" b="b"/>
              <a:pathLst>
                <a:path w="907" h="862">
                  <a:moveTo>
                    <a:pt x="0" y="408"/>
                  </a:moveTo>
                  <a:lnTo>
                    <a:pt x="0" y="0"/>
                  </a:lnTo>
                  <a:lnTo>
                    <a:pt x="907" y="453"/>
                  </a:lnTo>
                  <a:lnTo>
                    <a:pt x="907" y="862"/>
                  </a:lnTo>
                  <a:lnTo>
                    <a:pt x="0" y="408"/>
                  </a:lnTo>
                  <a:close/>
                </a:path>
              </a:pathLst>
            </a:custGeom>
            <a:blipFill rotWithShape="0">
              <a:blip r:embed="rId3">
                <a:alphaModFix amt="41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2932200" y="3173400"/>
            <a:ext cx="2360520" cy="1984320"/>
          </a:xfrm>
          <a:custGeom>
            <a:avLst/>
            <a:gdLst/>
            <a:ahLst/>
            <a:rect l="l" t="t" r="r" b="b"/>
            <a:pathLst>
              <a:path w="1906" h="1859">
                <a:moveTo>
                  <a:pt x="0" y="1859"/>
                </a:moveTo>
                <a:lnTo>
                  <a:pt x="0" y="952"/>
                </a:lnTo>
                <a:lnTo>
                  <a:pt x="1906" y="0"/>
                </a:lnTo>
                <a:lnTo>
                  <a:pt x="1906" y="907"/>
                </a:lnTo>
                <a:lnTo>
                  <a:pt x="0" y="1859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370240" y="2932200"/>
            <a:ext cx="2922480" cy="1257120"/>
          </a:xfrm>
          <a:custGeom>
            <a:avLst/>
            <a:gdLst/>
            <a:ahLst/>
            <a:rect l="l" t="t" r="r" b="b"/>
            <a:pathLst>
              <a:path w="2359" h="1179">
                <a:moveTo>
                  <a:pt x="0" y="952"/>
                </a:moveTo>
                <a:lnTo>
                  <a:pt x="907" y="499"/>
                </a:lnTo>
                <a:lnTo>
                  <a:pt x="1088" y="590"/>
                </a:lnTo>
                <a:lnTo>
                  <a:pt x="1180" y="545"/>
                </a:lnTo>
                <a:lnTo>
                  <a:pt x="1183" y="329"/>
                </a:lnTo>
                <a:lnTo>
                  <a:pt x="1905" y="0"/>
                </a:lnTo>
                <a:lnTo>
                  <a:pt x="2359" y="227"/>
                </a:lnTo>
                <a:lnTo>
                  <a:pt x="453" y="1179"/>
                </a:lnTo>
                <a:lnTo>
                  <a:pt x="0" y="952"/>
                </a:lnTo>
                <a:close/>
              </a:path>
            </a:pathLst>
          </a:custGeom>
          <a:solidFill>
            <a:srgbClr val="4d4d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246320" y="4245120"/>
            <a:ext cx="1125360" cy="666720"/>
          </a:xfrm>
          <a:custGeom>
            <a:avLst/>
            <a:gdLst/>
            <a:ahLst/>
            <a:rect l="l" t="t" r="r" b="b"/>
            <a:pathLst>
              <a:path w="709" h="420">
                <a:moveTo>
                  <a:pt x="1" y="116"/>
                </a:moveTo>
                <a:lnTo>
                  <a:pt x="0" y="0"/>
                </a:lnTo>
                <a:lnTo>
                  <a:pt x="708" y="305"/>
                </a:lnTo>
                <a:lnTo>
                  <a:pt x="709" y="420"/>
                </a:lnTo>
                <a:lnTo>
                  <a:pt x="1" y="116"/>
                </a:lnTo>
                <a:close/>
              </a:path>
            </a:pathLst>
          </a:custGeom>
          <a:blipFill rotWithShape="0">
            <a:blip r:embed="rId4">
              <a:alphaModFix amt="4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84360" y="3222720"/>
            <a:ext cx="2247840" cy="1935000"/>
          </a:xfrm>
          <a:custGeom>
            <a:avLst/>
            <a:gdLst/>
            <a:ahLst/>
            <a:rect l="l" t="t" r="r" b="b"/>
            <a:pathLst>
              <a:path w="1814" h="1814">
                <a:moveTo>
                  <a:pt x="0" y="907"/>
                </a:moveTo>
                <a:lnTo>
                  <a:pt x="0" y="0"/>
                </a:lnTo>
                <a:lnTo>
                  <a:pt x="454" y="227"/>
                </a:lnTo>
                <a:lnTo>
                  <a:pt x="454" y="907"/>
                </a:lnTo>
                <a:lnTo>
                  <a:pt x="1361" y="1361"/>
                </a:lnTo>
                <a:lnTo>
                  <a:pt x="1361" y="680"/>
                </a:lnTo>
                <a:lnTo>
                  <a:pt x="1814" y="907"/>
                </a:lnTo>
                <a:lnTo>
                  <a:pt x="1814" y="1814"/>
                </a:lnTo>
                <a:lnTo>
                  <a:pt x="0" y="907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5348160" y="2378160"/>
            <a:ext cx="3363120" cy="1996200"/>
            <a:chOff x="5348160" y="2378160"/>
            <a:chExt cx="3363120" cy="1996200"/>
          </a:xfrm>
        </p:grpSpPr>
        <p:sp>
          <p:nvSpPr>
            <p:cNvPr id="1084" name=""/>
            <p:cNvSpPr/>
            <p:nvPr/>
          </p:nvSpPr>
          <p:spPr>
            <a:xfrm flipV="1">
              <a:off x="6313320" y="2390760"/>
              <a:ext cx="0" cy="154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13320" y="3932280"/>
              <a:ext cx="230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927200" y="3968640"/>
              <a:ext cx="78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- h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8160" y="237816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Caud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"/>
          <p:cNvSpPr/>
          <p:nvPr/>
        </p:nvSpPr>
        <p:spPr>
          <a:xfrm>
            <a:off x="6313320" y="2867040"/>
            <a:ext cx="503280" cy="1065240"/>
          </a:xfrm>
          <a:custGeom>
            <a:avLst/>
            <a:gdLst/>
            <a:ahLst/>
            <a:rect l="l" t="t" r="r" b="b"/>
            <a:pathLst>
              <a:path w="317" h="1023">
                <a:moveTo>
                  <a:pt x="0" y="1023"/>
                </a:moveTo>
                <a:cubicBezTo>
                  <a:pt x="7" y="1017"/>
                  <a:pt x="16" y="1013"/>
                  <a:pt x="22" y="980"/>
                </a:cubicBezTo>
                <a:cubicBezTo>
                  <a:pt x="28" y="947"/>
                  <a:pt x="30" y="958"/>
                  <a:pt x="38" y="824"/>
                </a:cubicBezTo>
                <a:cubicBezTo>
                  <a:pt x="46" y="690"/>
                  <a:pt x="22" y="311"/>
                  <a:pt x="68" y="174"/>
                </a:cubicBezTo>
                <a:cubicBezTo>
                  <a:pt x="114" y="37"/>
                  <a:pt x="215" y="17"/>
                  <a:pt x="317" y="0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6816600" y="2417760"/>
            <a:ext cx="1772280" cy="449280"/>
            <a:chOff x="6816600" y="2417760"/>
            <a:chExt cx="1772280" cy="449280"/>
          </a:xfrm>
        </p:grpSpPr>
        <p:sp>
          <p:nvSpPr>
            <p:cNvPr id="1090" name=""/>
            <p:cNvSpPr/>
            <p:nvPr/>
          </p:nvSpPr>
          <p:spPr>
            <a:xfrm>
              <a:off x="7457040" y="2417760"/>
              <a:ext cx="11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Arial"/>
                </a:rPr>
                <a:t>Aper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816600" y="2822400"/>
              <a:ext cx="1692360" cy="446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933840" y="479736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008960" y="240048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1.38889E-006 -0.02777 E">
                                      <p:cBhvr>
                                        <p:cTn id="1009" dur="5000" fill="hold"/>
                                        <p:tgtEl>
                                          <p:spTgt spid="1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85185E-006 L -4.44444E-006 -0.02916 E">
                                      <p:cBhvr>
                                        <p:cTn id="1011" dur="5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2731 L -1.38889E-006 -0.04907 E">
                                      <p:cBhvr>
                                        <p:cTn id="1018" dur="5000" fill="hold"/>
                                        <p:tgtEl>
                                          <p:spTgt spid="1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92 L -3.05556E-006 -0.02269 E">
                                      <p:cBhvr>
                                        <p:cTn id="1022" dur="5000" fill="hold"/>
                                        <p:tgtEl>
                                          <p:spTgt spid="10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"/>
          <p:cNvGrpSpPr/>
          <p:nvPr/>
        </p:nvGrpSpPr>
        <p:grpSpPr>
          <a:xfrm>
            <a:off x="3005280" y="2492280"/>
            <a:ext cx="1782720" cy="2377800"/>
            <a:chOff x="3005280" y="2492280"/>
            <a:chExt cx="1782720" cy="2377800"/>
          </a:xfrm>
        </p:grpSpPr>
        <p:sp>
          <p:nvSpPr>
            <p:cNvPr id="1095" name=""/>
            <p:cNvSpPr/>
            <p:nvPr/>
          </p:nvSpPr>
          <p:spPr>
            <a:xfrm>
              <a:off x="4572000" y="2492280"/>
              <a:ext cx="216000" cy="151308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1513080"/>
                <a:gd name="textAreaBottom" fmla="*/ 1502640 h 1513080"/>
              </a:gdLst>
              <a:ahLst/>
              <a:rect l="textAreaLeft" t="textAreaTop" r="textAreaRight" b="textAreaBottom"/>
              <a:pathLst>
                <a:path w="21600" h="151092">
                  <a:moveTo>
                    <a:pt x="3600" y="0"/>
                  </a:moveTo>
                  <a:arcTo wR="3600" hR="3600" stAng="16200000" swAng="-5400000"/>
                  <a:lnTo>
                    <a:pt x="0" y="147492"/>
                  </a:lnTo>
                  <a:arcTo wR="3600" hR="3600" stAng="10800000" swAng="-5400000"/>
                  <a:lnTo>
                    <a:pt x="18000" y="1510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5280" y="4227480"/>
              <a:ext cx="133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Zon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satu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4211640" y="4005360"/>
              <a:ext cx="324000" cy="395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788000" y="4113360"/>
            <a:ext cx="2381400" cy="928440"/>
            <a:chOff x="4788000" y="4113360"/>
            <a:chExt cx="2381400" cy="928440"/>
          </a:xfrm>
        </p:grpSpPr>
        <p:sp>
          <p:nvSpPr>
            <p:cNvPr id="1099" name=""/>
            <p:cNvSpPr/>
            <p:nvPr/>
          </p:nvSpPr>
          <p:spPr>
            <a:xfrm>
              <a:off x="4788000" y="4113360"/>
              <a:ext cx="1979640" cy="21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488920" y="467352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Zona de c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87880" y="4329000"/>
              <a:ext cx="384120" cy="576360"/>
            </a:xfrm>
            <a:custGeom>
              <a:avLst/>
              <a:gdLst/>
              <a:ahLst/>
              <a:rect l="l" t="t" r="r" b="b"/>
              <a:pathLst>
                <a:path w="242" h="363">
                  <a:moveTo>
                    <a:pt x="242" y="363"/>
                  </a:moveTo>
                  <a:cubicBezTo>
                    <a:pt x="159" y="347"/>
                    <a:pt x="76" y="332"/>
                    <a:pt x="38" y="272"/>
                  </a:cubicBezTo>
                  <a:cubicBezTo>
                    <a:pt x="0" y="212"/>
                    <a:pt x="7" y="106"/>
                    <a:pt x="15" y="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4896000" y="1736640"/>
            <a:ext cx="2854080" cy="2305080"/>
            <a:chOff x="4896000" y="1736640"/>
            <a:chExt cx="2854080" cy="2305080"/>
          </a:xfrm>
        </p:grpSpPr>
        <p:sp>
          <p:nvSpPr>
            <p:cNvPr id="1103" name=""/>
            <p:cNvSpPr/>
            <p:nvPr/>
          </p:nvSpPr>
          <p:spPr>
            <a:xfrm>
              <a:off x="4896000" y="2349360"/>
              <a:ext cx="1981080" cy="1692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5297400" y="1736640"/>
              <a:ext cx="2452680" cy="576360"/>
              <a:chOff x="5297400" y="1736640"/>
              <a:chExt cx="2452680" cy="576360"/>
            </a:xfrm>
          </p:grpSpPr>
          <p:sp>
            <p:nvSpPr>
              <p:cNvPr id="1105" name=""/>
              <p:cNvSpPr/>
              <p:nvPr/>
            </p:nvSpPr>
            <p:spPr>
              <a:xfrm>
                <a:off x="5516280" y="1736640"/>
                <a:ext cx="2233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333399"/>
                    </a:solidFill>
                    <a:latin typeface="Arial"/>
                  </a:rPr>
                  <a:t>Zona activa: I</a:t>
                </a:r>
                <a:r>
                  <a:rPr b="1" lang="es-ES" sz="1800" spc="-1" strike="noStrike" baseline="-25000">
                    <a:solidFill>
                      <a:srgbClr val="333399"/>
                    </a:solidFill>
                    <a:latin typeface="Arial"/>
                  </a:rPr>
                  <a:t>C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</a:t>
                </a:r>
                <a:r>
                  <a:rPr b="1" lang="es-ES" sz="1800" spc="-1" strike="noStrike">
                    <a:solidFill>
                      <a:srgbClr val="333399"/>
                    </a:solidFill>
                    <a:latin typeface="Arial"/>
                  </a:rPr>
                  <a:t>·I</a:t>
                </a:r>
                <a:r>
                  <a:rPr b="1" lang="es-ES" sz="1800" spc="-1" strike="noStrike" baseline="-25000">
                    <a:solidFill>
                      <a:srgbClr val="333399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97400" y="1952640"/>
                <a:ext cx="211320" cy="360360"/>
              </a:xfrm>
              <a:custGeom>
                <a:avLst/>
                <a:gdLst/>
                <a:ahLst/>
                <a:rect l="l" t="t" r="r" b="b"/>
                <a:pathLst>
                  <a:path w="133" h="227">
                    <a:moveTo>
                      <a:pt x="133" y="0"/>
                    </a:moveTo>
                    <a:cubicBezTo>
                      <a:pt x="85" y="26"/>
                      <a:pt x="38" y="53"/>
                      <a:pt x="19" y="91"/>
                    </a:cubicBezTo>
                    <a:cubicBezTo>
                      <a:pt x="0" y="129"/>
                      <a:pt x="9" y="178"/>
                      <a:pt x="19" y="227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7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: line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55640" y="1195560"/>
            <a:ext cx="76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istor NPN: linealización de la característica de sal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4687920" y="2097000"/>
            <a:ext cx="0" cy="21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687920" y="422100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691320" y="4186080"/>
            <a:ext cx="82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C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48040" y="2097000"/>
            <a:ext cx="86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s-ES" sz="1800" spc="-1" strike="noStrike" baseline="-25000">
                <a:solidFill>
                  <a:srgbClr val="f0005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f0005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00050"/>
                </a:solidFill>
                <a:latin typeface="Arial"/>
              </a:rPr>
              <a:t>(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03280" y="515772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l parámetro fundamental que describe la característica de salida del transistor es la ganancia de corriente </a:t>
            </a:r>
            <a:r>
              <a:rPr b="1" lang="en-US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4687920" y="2602080"/>
            <a:ext cx="2124000" cy="1618920"/>
            <a:chOff x="4687920" y="2602080"/>
            <a:chExt cx="2124000" cy="1618920"/>
          </a:xfrm>
        </p:grpSpPr>
        <p:sp>
          <p:nvSpPr>
            <p:cNvPr id="1115" name=""/>
            <p:cNvSpPr/>
            <p:nvPr/>
          </p:nvSpPr>
          <p:spPr>
            <a:xfrm>
              <a:off x="4690800" y="2636640"/>
              <a:ext cx="235080" cy="1577880"/>
            </a:xfrm>
            <a:custGeom>
              <a:avLst/>
              <a:gdLst/>
              <a:ahLst/>
              <a:rect l="l" t="t" r="r" b="b"/>
              <a:pathLst>
                <a:path w="148" h="996">
                  <a:moveTo>
                    <a:pt x="0" y="996"/>
                  </a:moveTo>
                  <a:cubicBezTo>
                    <a:pt x="18" y="985"/>
                    <a:pt x="37" y="975"/>
                    <a:pt x="48" y="920"/>
                  </a:cubicBezTo>
                  <a:cubicBezTo>
                    <a:pt x="59" y="865"/>
                    <a:pt x="63" y="788"/>
                    <a:pt x="68" y="664"/>
                  </a:cubicBezTo>
                  <a:cubicBezTo>
                    <a:pt x="73" y="540"/>
                    <a:pt x="73" y="279"/>
                    <a:pt x="76" y="176"/>
                  </a:cubicBezTo>
                  <a:cubicBezTo>
                    <a:pt x="79" y="73"/>
                    <a:pt x="80" y="71"/>
                    <a:pt x="84" y="44"/>
                  </a:cubicBezTo>
                  <a:cubicBezTo>
                    <a:pt x="88" y="17"/>
                    <a:pt x="89" y="19"/>
                    <a:pt x="100" y="12"/>
                  </a:cubicBezTo>
                  <a:cubicBezTo>
                    <a:pt x="111" y="5"/>
                    <a:pt x="138" y="3"/>
                    <a:pt x="148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4903560" y="2602080"/>
              <a:ext cx="1908360" cy="345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87920" y="3068640"/>
              <a:ext cx="234720" cy="1145880"/>
            </a:xfrm>
            <a:custGeom>
              <a:avLst/>
              <a:gdLst/>
              <a:ahLst/>
              <a:rect l="l" t="t" r="r" b="b"/>
              <a:pathLst>
                <a:path w="148" h="996">
                  <a:moveTo>
                    <a:pt x="0" y="996"/>
                  </a:moveTo>
                  <a:cubicBezTo>
                    <a:pt x="18" y="985"/>
                    <a:pt x="37" y="975"/>
                    <a:pt x="48" y="920"/>
                  </a:cubicBezTo>
                  <a:cubicBezTo>
                    <a:pt x="59" y="865"/>
                    <a:pt x="63" y="788"/>
                    <a:pt x="68" y="664"/>
                  </a:cubicBezTo>
                  <a:cubicBezTo>
                    <a:pt x="73" y="540"/>
                    <a:pt x="73" y="279"/>
                    <a:pt x="76" y="176"/>
                  </a:cubicBezTo>
                  <a:cubicBezTo>
                    <a:pt x="79" y="73"/>
                    <a:pt x="80" y="71"/>
                    <a:pt x="84" y="44"/>
                  </a:cubicBezTo>
                  <a:cubicBezTo>
                    <a:pt x="88" y="17"/>
                    <a:pt x="89" y="19"/>
                    <a:pt x="100" y="12"/>
                  </a:cubicBezTo>
                  <a:cubicBezTo>
                    <a:pt x="111" y="5"/>
                    <a:pt x="138" y="3"/>
                    <a:pt x="148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87920" y="3502080"/>
              <a:ext cx="234720" cy="712440"/>
            </a:xfrm>
            <a:custGeom>
              <a:avLst/>
              <a:gdLst/>
              <a:ahLst/>
              <a:rect l="l" t="t" r="r" b="b"/>
              <a:pathLst>
                <a:path w="148" h="996">
                  <a:moveTo>
                    <a:pt x="0" y="996"/>
                  </a:moveTo>
                  <a:cubicBezTo>
                    <a:pt x="18" y="985"/>
                    <a:pt x="37" y="975"/>
                    <a:pt x="48" y="920"/>
                  </a:cubicBezTo>
                  <a:cubicBezTo>
                    <a:pt x="59" y="865"/>
                    <a:pt x="63" y="788"/>
                    <a:pt x="68" y="664"/>
                  </a:cubicBezTo>
                  <a:cubicBezTo>
                    <a:pt x="73" y="540"/>
                    <a:pt x="73" y="279"/>
                    <a:pt x="76" y="176"/>
                  </a:cubicBezTo>
                  <a:cubicBezTo>
                    <a:pt x="79" y="73"/>
                    <a:pt x="80" y="71"/>
                    <a:pt x="84" y="44"/>
                  </a:cubicBezTo>
                  <a:cubicBezTo>
                    <a:pt x="88" y="17"/>
                    <a:pt x="89" y="19"/>
                    <a:pt x="100" y="12"/>
                  </a:cubicBezTo>
                  <a:cubicBezTo>
                    <a:pt x="111" y="5"/>
                    <a:pt x="138" y="3"/>
                    <a:pt x="148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87920" y="3933720"/>
              <a:ext cx="234720" cy="280800"/>
            </a:xfrm>
            <a:custGeom>
              <a:avLst/>
              <a:gdLst/>
              <a:ahLst/>
              <a:rect l="l" t="t" r="r" b="b"/>
              <a:pathLst>
                <a:path w="148" h="996">
                  <a:moveTo>
                    <a:pt x="0" y="996"/>
                  </a:moveTo>
                  <a:cubicBezTo>
                    <a:pt x="18" y="985"/>
                    <a:pt x="37" y="975"/>
                    <a:pt x="48" y="920"/>
                  </a:cubicBezTo>
                  <a:cubicBezTo>
                    <a:pt x="59" y="865"/>
                    <a:pt x="63" y="788"/>
                    <a:pt x="68" y="664"/>
                  </a:cubicBezTo>
                  <a:cubicBezTo>
                    <a:pt x="73" y="540"/>
                    <a:pt x="73" y="279"/>
                    <a:pt x="76" y="176"/>
                  </a:cubicBezTo>
                  <a:cubicBezTo>
                    <a:pt x="79" y="73"/>
                    <a:pt x="80" y="71"/>
                    <a:pt x="84" y="44"/>
                  </a:cubicBezTo>
                  <a:cubicBezTo>
                    <a:pt x="88" y="17"/>
                    <a:pt x="89" y="19"/>
                    <a:pt x="100" y="12"/>
                  </a:cubicBezTo>
                  <a:cubicBezTo>
                    <a:pt x="111" y="5"/>
                    <a:pt x="138" y="3"/>
                    <a:pt x="148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4903560" y="3033720"/>
              <a:ext cx="1908360" cy="345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4903560" y="3465360"/>
              <a:ext cx="1908360" cy="345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4903560" y="3897360"/>
              <a:ext cx="1908360" cy="345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87920" y="4221000"/>
              <a:ext cx="212400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4651200" y="382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651200" y="342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651200" y="30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651200" y="26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5514840" y="4185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6343560" y="4185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821640" y="2060640"/>
            <a:ext cx="80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es-ES" sz="1800" spc="-1" strike="noStrike" baseline="-25000">
                <a:solidFill>
                  <a:srgbClr val="009999"/>
                </a:solidFill>
                <a:latin typeface="Arial"/>
              </a:rPr>
              <a:t>B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l-GR" sz="1600" spc="-1" strike="noStrike">
                <a:solidFill>
                  <a:srgbClr val="009999"/>
                </a:solidFill>
                <a:latin typeface="Arial"/>
              </a:rPr>
              <a:t>μ</a:t>
            </a:r>
            <a:r>
              <a:rPr b="1" lang="es-ES" sz="1600" spc="-1" strike="noStrike">
                <a:solidFill>
                  <a:srgbClr val="009999"/>
                </a:solidFill>
                <a:latin typeface="Arial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5364360" y="4192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181920" y="4192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759360" y="37051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777000" y="3286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756120" y="28526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759360" y="2444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279680" y="3645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279680" y="3249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279680" y="2852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279680" y="2457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4687920" y="2637000"/>
            <a:ext cx="2124000" cy="1584000"/>
            <a:chOff x="4687920" y="2637000"/>
            <a:chExt cx="2124000" cy="1584000"/>
          </a:xfrm>
        </p:grpSpPr>
        <p:sp>
          <p:nvSpPr>
            <p:cNvPr id="1142" name=""/>
            <p:cNvSpPr/>
            <p:nvPr/>
          </p:nvSpPr>
          <p:spPr>
            <a:xfrm flipV="1">
              <a:off x="4687920" y="2637000"/>
              <a:ext cx="0" cy="158400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87920" y="2637000"/>
              <a:ext cx="2124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87920" y="3033720"/>
              <a:ext cx="2124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87920" y="3429000"/>
              <a:ext cx="2124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87920" y="3825720"/>
              <a:ext cx="2124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87920" y="4221000"/>
              <a:ext cx="212400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6769080" y="3933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"/>
          <p:cNvGrpSpPr/>
          <p:nvPr/>
        </p:nvGrpSpPr>
        <p:grpSpPr>
          <a:xfrm>
            <a:off x="194400" y="2023920"/>
            <a:ext cx="2993760" cy="2162160"/>
            <a:chOff x="194400" y="2023920"/>
            <a:chExt cx="2993760" cy="2162160"/>
          </a:xfrm>
        </p:grpSpPr>
        <p:grpSp>
          <p:nvGrpSpPr>
            <p:cNvPr id="1150" name=""/>
            <p:cNvGrpSpPr/>
            <p:nvPr/>
          </p:nvGrpSpPr>
          <p:grpSpPr>
            <a:xfrm>
              <a:off x="1435320" y="2862360"/>
              <a:ext cx="375480" cy="875880"/>
              <a:chOff x="1435320" y="2862360"/>
              <a:chExt cx="375480" cy="875880"/>
            </a:xfrm>
          </p:grpSpPr>
          <p:sp>
            <p:nvSpPr>
              <p:cNvPr id="1151" name=""/>
              <p:cNvSpPr/>
              <p:nvPr/>
            </p:nvSpPr>
            <p:spPr>
              <a:xfrm>
                <a:off x="1810800" y="2862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1560240" y="3007080"/>
                <a:ext cx="250560" cy="14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560240" y="3007800"/>
                <a:ext cx="0" cy="58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560240" y="3445920"/>
                <a:ext cx="250560" cy="14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810800" y="3593160"/>
                <a:ext cx="0" cy="14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1435320" y="3300120"/>
                <a:ext cx="12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1811160" y="3738600"/>
              <a:ext cx="0" cy="24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11080" y="3987720"/>
              <a:ext cx="178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1811160" y="248724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811160" y="248760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810720" y="3298680"/>
              <a:ext cx="6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706320" y="3362040"/>
              <a:ext cx="0" cy="563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2610000" y="2612520"/>
              <a:ext cx="0" cy="1251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593440" y="23162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593800" y="3692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64480" y="3067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65200" y="3817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081080" y="3298680"/>
              <a:ext cx="249120" cy="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2030400" y="2487600"/>
              <a:ext cx="249120" cy="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70840" y="300348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94400" y="339264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071720" y="285264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987560" y="202392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4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5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6" dur="80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8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55640" y="1195560"/>
            <a:ext cx="76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nsistor NPN: linealización de la característica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194400" y="2023920"/>
            <a:ext cx="2993760" cy="2162160"/>
            <a:chOff x="194400" y="2023920"/>
            <a:chExt cx="2993760" cy="2162160"/>
          </a:xfrm>
        </p:grpSpPr>
        <p:grpSp>
          <p:nvGrpSpPr>
            <p:cNvPr id="1177" name=""/>
            <p:cNvGrpSpPr/>
            <p:nvPr/>
          </p:nvGrpSpPr>
          <p:grpSpPr>
            <a:xfrm>
              <a:off x="1435320" y="2862360"/>
              <a:ext cx="375480" cy="875880"/>
              <a:chOff x="1435320" y="2862360"/>
              <a:chExt cx="375480" cy="875880"/>
            </a:xfrm>
          </p:grpSpPr>
          <p:sp>
            <p:nvSpPr>
              <p:cNvPr id="1178" name=""/>
              <p:cNvSpPr/>
              <p:nvPr/>
            </p:nvSpPr>
            <p:spPr>
              <a:xfrm>
                <a:off x="1810800" y="2862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1560240" y="3007080"/>
                <a:ext cx="250560" cy="14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560240" y="3007800"/>
                <a:ext cx="0" cy="58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560240" y="3445920"/>
                <a:ext cx="250560" cy="14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810800" y="3593160"/>
                <a:ext cx="0" cy="14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1435320" y="3300120"/>
                <a:ext cx="12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>
              <a:off x="1811160" y="3738600"/>
              <a:ext cx="0" cy="249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11080" y="3987720"/>
              <a:ext cx="178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1811160" y="248724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811160" y="248760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810720" y="3298680"/>
              <a:ext cx="6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706320" y="3362040"/>
              <a:ext cx="0" cy="563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2610000" y="2612520"/>
              <a:ext cx="0" cy="1251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593440" y="23162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93800" y="3692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64480" y="3067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65200" y="3817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081080" y="3298680"/>
              <a:ext cx="249120" cy="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2030400" y="2487600"/>
              <a:ext cx="249120" cy="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70840" y="300348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400" y="339264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071720" y="285264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987560" y="202392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4716360" y="2060640"/>
            <a:ext cx="2361240" cy="2169360"/>
            <a:chOff x="4716360" y="2060640"/>
            <a:chExt cx="2361240" cy="2169360"/>
          </a:xfrm>
        </p:grpSpPr>
        <p:sp>
          <p:nvSpPr>
            <p:cNvPr id="1202" name=""/>
            <p:cNvSpPr/>
            <p:nvPr/>
          </p:nvSpPr>
          <p:spPr>
            <a:xfrm flipV="1">
              <a:off x="5292720" y="2097000"/>
              <a:ext cx="0" cy="21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16360" y="3824280"/>
              <a:ext cx="223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560280" y="382428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943520" y="206064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4719600" y="2205000"/>
            <a:ext cx="1287360" cy="1657440"/>
          </a:xfrm>
          <a:custGeom>
            <a:avLst/>
            <a:gdLst/>
            <a:ahLst/>
            <a:rect l="l" t="t" r="r" b="b"/>
            <a:pathLst>
              <a:path w="811" h="1044">
                <a:moveTo>
                  <a:pt x="0" y="1035"/>
                </a:moveTo>
                <a:cubicBezTo>
                  <a:pt x="54" y="1034"/>
                  <a:pt x="222" y="1044"/>
                  <a:pt x="324" y="1024"/>
                </a:cubicBezTo>
                <a:cubicBezTo>
                  <a:pt x="426" y="1004"/>
                  <a:pt x="540" y="999"/>
                  <a:pt x="610" y="917"/>
                </a:cubicBezTo>
                <a:cubicBezTo>
                  <a:pt x="680" y="835"/>
                  <a:pt x="716" y="689"/>
                  <a:pt x="746" y="536"/>
                </a:cubicBezTo>
                <a:cubicBezTo>
                  <a:pt x="776" y="383"/>
                  <a:pt x="811" y="56"/>
                  <a:pt x="792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716360" y="2349360"/>
            <a:ext cx="1368360" cy="1513080"/>
          </a:xfrm>
          <a:custGeom>
            <a:avLst/>
            <a:gdLst/>
            <a:ahLst/>
            <a:rect l="l" t="t" r="r" b="b"/>
            <a:pathLst>
              <a:path w="811" h="1044">
                <a:moveTo>
                  <a:pt x="0" y="1035"/>
                </a:moveTo>
                <a:cubicBezTo>
                  <a:pt x="54" y="1034"/>
                  <a:pt x="222" y="1044"/>
                  <a:pt x="324" y="1024"/>
                </a:cubicBezTo>
                <a:cubicBezTo>
                  <a:pt x="426" y="1004"/>
                  <a:pt x="540" y="999"/>
                  <a:pt x="610" y="917"/>
                </a:cubicBezTo>
                <a:cubicBezTo>
                  <a:pt x="680" y="835"/>
                  <a:pt x="716" y="689"/>
                  <a:pt x="746" y="536"/>
                </a:cubicBezTo>
                <a:cubicBezTo>
                  <a:pt x="776" y="383"/>
                  <a:pt x="811" y="56"/>
                  <a:pt x="792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5940360" y="1662120"/>
            <a:ext cx="749520" cy="506520"/>
            <a:chOff x="5940360" y="1662120"/>
            <a:chExt cx="749520" cy="506520"/>
          </a:xfrm>
        </p:grpSpPr>
        <p:sp>
          <p:nvSpPr>
            <p:cNvPr id="1209" name=""/>
            <p:cNvSpPr/>
            <p:nvPr/>
          </p:nvSpPr>
          <p:spPr>
            <a:xfrm>
              <a:off x="5977080" y="2023920"/>
              <a:ext cx="250920" cy="144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940360" y="1662120"/>
              <a:ext cx="749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4680000" y="2347920"/>
            <a:ext cx="1368360" cy="1512720"/>
          </a:xfrm>
          <a:custGeom>
            <a:avLst/>
            <a:gdLst/>
            <a:ahLst/>
            <a:rect l="l" t="t" r="r" b="b"/>
            <a:pathLst>
              <a:path w="811" h="1044">
                <a:moveTo>
                  <a:pt x="0" y="1035"/>
                </a:moveTo>
                <a:cubicBezTo>
                  <a:pt x="54" y="1034"/>
                  <a:pt x="222" y="1044"/>
                  <a:pt x="324" y="1024"/>
                </a:cubicBezTo>
                <a:cubicBezTo>
                  <a:pt x="426" y="1004"/>
                  <a:pt x="540" y="999"/>
                  <a:pt x="610" y="917"/>
                </a:cubicBezTo>
                <a:cubicBezTo>
                  <a:pt x="680" y="835"/>
                  <a:pt x="716" y="689"/>
                  <a:pt x="746" y="536"/>
                </a:cubicBezTo>
                <a:cubicBezTo>
                  <a:pt x="776" y="383"/>
                  <a:pt x="811" y="56"/>
                  <a:pt x="792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1102320" y="3480840"/>
            <a:ext cx="493200" cy="362160"/>
            <a:chOff x="1102320" y="3480840"/>
            <a:chExt cx="493200" cy="362160"/>
          </a:xfrm>
        </p:grpSpPr>
        <p:sp>
          <p:nvSpPr>
            <p:cNvPr id="1213" name=""/>
            <p:cNvSpPr/>
            <p:nvPr/>
          </p:nvSpPr>
          <p:spPr>
            <a:xfrm flipH="1" flipV="1">
              <a:off x="1102320" y="3480840"/>
              <a:ext cx="132840" cy="97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 flipV="1">
              <a:off x="1431000" y="3722400"/>
              <a:ext cx="164520" cy="120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2178000">
              <a:off x="1212120" y="3528360"/>
              <a:ext cx="228240" cy="235440"/>
            </a:xfrm>
            <a:custGeom>
              <a:avLst/>
              <a:gdLst/>
              <a:ahLst/>
              <a:rect l="l" t="t" r="r" b="b"/>
              <a:pathLst>
                <a:path w="659" h="680">
                  <a:moveTo>
                    <a:pt x="1" y="680"/>
                  </a:moveTo>
                  <a:lnTo>
                    <a:pt x="0" y="0"/>
                  </a:lnTo>
                  <a:lnTo>
                    <a:pt x="659" y="339"/>
                  </a:lnTo>
                  <a:lnTo>
                    <a:pt x="1" y="68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2178000">
              <a:off x="1416960" y="3592800"/>
              <a:ext cx="15480" cy="250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"/>
          <p:cNvSpPr/>
          <p:nvPr/>
        </p:nvSpPr>
        <p:spPr>
          <a:xfrm>
            <a:off x="503280" y="494172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característica de entrada corresponde a la de un diodo y se emplean las aproximaciones lineales vistas en el tema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8" name=""/>
          <p:cNvGrpSpPr/>
          <p:nvPr/>
        </p:nvGrpSpPr>
        <p:grpSpPr>
          <a:xfrm>
            <a:off x="4751280" y="2349000"/>
            <a:ext cx="1297080" cy="1475280"/>
            <a:chOff x="4751280" y="2349000"/>
            <a:chExt cx="1297080" cy="1475280"/>
          </a:xfrm>
        </p:grpSpPr>
        <p:sp>
          <p:nvSpPr>
            <p:cNvPr id="1219" name=""/>
            <p:cNvSpPr/>
            <p:nvPr/>
          </p:nvSpPr>
          <p:spPr>
            <a:xfrm>
              <a:off x="4751280" y="3824280"/>
              <a:ext cx="1008000" cy="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5759280" y="2349000"/>
              <a:ext cx="289080" cy="1474920"/>
            </a:xfrm>
            <a:prstGeom prst="line">
              <a:avLst/>
            </a:prstGeom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4373280" y="2457000"/>
            <a:ext cx="919440" cy="1367280"/>
            <a:chOff x="4373280" y="2457000"/>
            <a:chExt cx="919440" cy="1367280"/>
          </a:xfrm>
        </p:grpSpPr>
        <p:grpSp>
          <p:nvGrpSpPr>
            <p:cNvPr id="1222" name=""/>
            <p:cNvGrpSpPr/>
            <p:nvPr/>
          </p:nvGrpSpPr>
          <p:grpSpPr>
            <a:xfrm>
              <a:off x="4716360" y="2457000"/>
              <a:ext cx="576360" cy="1367280"/>
              <a:chOff x="4716360" y="2457000"/>
              <a:chExt cx="576360" cy="1367280"/>
            </a:xfrm>
          </p:grpSpPr>
          <p:sp>
            <p:nvSpPr>
              <p:cNvPr id="1223" name=""/>
              <p:cNvSpPr/>
              <p:nvPr/>
            </p:nvSpPr>
            <p:spPr>
              <a:xfrm>
                <a:off x="4716360" y="3824280"/>
                <a:ext cx="5763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V="1">
                <a:off x="5292720" y="2457000"/>
                <a:ext cx="0" cy="13669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4373280" y="288936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33"/>
                  </a:solidFill>
                  <a:latin typeface="Arial"/>
                </a:rPr>
                <a:t>Ide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74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2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0" dur="80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/>
          <p:nvPr/>
        </p:nvSpPr>
        <p:spPr>
          <a:xfrm>
            <a:off x="971640" y="5481720"/>
            <a:ext cx="1512720" cy="1429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755640" y="4221000"/>
            <a:ext cx="179280" cy="1260720"/>
          </a:xfrm>
          <a:custGeom>
            <a:avLst/>
            <a:gdLst>
              <a:gd name="textAreaLeft" fmla="*/ 8640 w 179280"/>
              <a:gd name="textAreaRight" fmla="*/ 170640 w 179280"/>
              <a:gd name="textAreaTop" fmla="*/ 8640 h 1260720"/>
              <a:gd name="textAreaBottom" fmla="*/ 1252080 h 1260720"/>
            </a:gdLst>
            <a:ahLst/>
            <a:rect l="textAreaLeft" t="textAreaTop" r="textAreaRight" b="textAreaBottom"/>
            <a:pathLst>
              <a:path w="21600" h="151633">
                <a:moveTo>
                  <a:pt x="3600" y="0"/>
                </a:moveTo>
                <a:arcTo wR="3600" hR="3600" stAng="16200000" swAng="-5400000"/>
                <a:lnTo>
                  <a:pt x="0" y="148033"/>
                </a:lnTo>
                <a:arcTo wR="3600" hR="3600" stAng="10800000" swAng="-5400000"/>
                <a:lnTo>
                  <a:pt x="18000" y="1516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934920" y="4221000"/>
            <a:ext cx="1657440" cy="12240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755640" y="1125360"/>
            <a:ext cx="76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stor NPN: zonas de funcionamiento del transistor id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266040" y="1909800"/>
            <a:ext cx="2993760" cy="1563480"/>
            <a:chOff x="266040" y="1909800"/>
            <a:chExt cx="2993760" cy="1563480"/>
          </a:xfrm>
        </p:grpSpPr>
        <p:grpSp>
          <p:nvGrpSpPr>
            <p:cNvPr id="1232" name=""/>
            <p:cNvGrpSpPr/>
            <p:nvPr/>
          </p:nvGrpSpPr>
          <p:grpSpPr>
            <a:xfrm>
              <a:off x="1506960" y="2395440"/>
              <a:ext cx="375480" cy="875880"/>
              <a:chOff x="1506960" y="2395440"/>
              <a:chExt cx="375480" cy="875880"/>
            </a:xfrm>
          </p:grpSpPr>
          <p:sp>
            <p:nvSpPr>
              <p:cNvPr id="1233" name=""/>
              <p:cNvSpPr/>
              <p:nvPr/>
            </p:nvSpPr>
            <p:spPr>
              <a:xfrm>
                <a:off x="1882440" y="23954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H="1">
                <a:off x="1631880" y="2540160"/>
                <a:ext cx="250560" cy="14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631880" y="2540880"/>
                <a:ext cx="0" cy="58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631880" y="2979000"/>
                <a:ext cx="250560" cy="147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882440" y="3126240"/>
                <a:ext cx="0" cy="14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1506960" y="2833200"/>
                <a:ext cx="12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>
              <a:off x="1882800" y="3271680"/>
              <a:ext cx="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63640" y="3321000"/>
              <a:ext cx="181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1882800" y="2349000"/>
              <a:ext cx="0" cy="17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871640" y="234936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882360" y="2832120"/>
              <a:ext cx="6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777960" y="2895480"/>
              <a:ext cx="0" cy="3542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2681280" y="2418840"/>
              <a:ext cx="0" cy="793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65080" y="21621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65440" y="31050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6120" y="2600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6480" y="31050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52360" y="2832120"/>
              <a:ext cx="249480" cy="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2101320" y="2349360"/>
              <a:ext cx="249480" cy="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2480" y="253692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6040" y="292572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43000" y="238608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135160" y="190980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511200" y="3897000"/>
            <a:ext cx="2498040" cy="2026800"/>
            <a:chOff x="511200" y="3897000"/>
            <a:chExt cx="2498040" cy="2026800"/>
          </a:xfrm>
        </p:grpSpPr>
        <p:sp>
          <p:nvSpPr>
            <p:cNvPr id="1257" name=""/>
            <p:cNvSpPr/>
            <p:nvPr/>
          </p:nvSpPr>
          <p:spPr>
            <a:xfrm flipV="1">
              <a:off x="835200" y="3897000"/>
              <a:ext cx="0" cy="16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35200" y="5553000"/>
              <a:ext cx="215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91920" y="551808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11200" y="396900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835200" y="4400280"/>
              <a:ext cx="1684440" cy="1152720"/>
              <a:chOff x="835200" y="4400280"/>
              <a:chExt cx="1684440" cy="1152720"/>
            </a:xfrm>
          </p:grpSpPr>
          <p:sp>
            <p:nvSpPr>
              <p:cNvPr id="1262" name=""/>
              <p:cNvSpPr/>
              <p:nvPr/>
            </p:nvSpPr>
            <p:spPr>
              <a:xfrm flipV="1">
                <a:off x="835200" y="4400280"/>
                <a:ext cx="0" cy="115236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35200" y="4400640"/>
                <a:ext cx="168444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35200" y="4689360"/>
                <a:ext cx="168444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35200" y="4977000"/>
                <a:ext cx="168444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35200" y="5265360"/>
                <a:ext cx="168444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35200" y="5553000"/>
                <a:ext cx="1684440" cy="0"/>
              </a:xfrm>
              <a:prstGeom prst="line">
                <a:avLst/>
              </a:prstGeom>
              <a:ln w="381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598840" y="418464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9999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3276720" y="1521000"/>
            <a:ext cx="4967280" cy="1563480"/>
            <a:chOff x="3276720" y="1521000"/>
            <a:chExt cx="4967280" cy="1563480"/>
          </a:xfrm>
        </p:grpSpPr>
        <p:sp>
          <p:nvSpPr>
            <p:cNvPr id="1270" name=""/>
            <p:cNvSpPr/>
            <p:nvPr/>
          </p:nvSpPr>
          <p:spPr>
            <a:xfrm>
              <a:off x="3276720" y="1592280"/>
              <a:ext cx="4967280" cy="1441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5163480" y="1521000"/>
              <a:ext cx="2993760" cy="1563480"/>
              <a:chOff x="5163480" y="1521000"/>
              <a:chExt cx="2993760" cy="1563480"/>
            </a:xfrm>
          </p:grpSpPr>
          <p:sp>
            <p:nvSpPr>
              <p:cNvPr id="1272" name=""/>
              <p:cNvSpPr/>
              <p:nvPr/>
            </p:nvSpPr>
            <p:spPr>
              <a:xfrm>
                <a:off x="5761080" y="2932200"/>
                <a:ext cx="181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6780240" y="196056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769080" y="1960560"/>
                <a:ext cx="781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5795640" y="2457360"/>
                <a:ext cx="6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5675400" y="2506320"/>
                <a:ext cx="0" cy="3538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7578720" y="2030040"/>
                <a:ext cx="0" cy="79380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562520" y="177336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562880" y="27162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533560" y="22114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533920" y="27162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048360" y="2457360"/>
                <a:ext cx="249120" cy="0"/>
              </a:xfrm>
              <a:prstGeom prst="line">
                <a:avLst/>
              </a:prstGeom>
              <a:ln w="57240">
                <a:solidFill>
                  <a:srgbClr val="f00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6999480" y="1960560"/>
                <a:ext cx="249120" cy="0"/>
              </a:xfrm>
              <a:prstGeom prst="line">
                <a:avLst/>
              </a:prstGeom>
              <a:ln w="57240">
                <a:solidFill>
                  <a:srgbClr val="f00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639920" y="2148120"/>
                <a:ext cx="517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V</a:t>
                </a:r>
                <a:r>
                  <a:rPr b="1" lang="en-US" sz="1800" spc="-1" strike="noStrike" baseline="-25000">
                    <a:solidFill>
                      <a:srgbClr val="333399"/>
                    </a:solidFill>
                    <a:latin typeface="Arial"/>
                  </a:rPr>
                  <a:t>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163480" y="2536920"/>
                <a:ext cx="517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99"/>
                    </a:solidFill>
                    <a:latin typeface="Arial"/>
                  </a:rPr>
                  <a:t>V</a:t>
                </a:r>
                <a:r>
                  <a:rPr b="1" lang="en-US" sz="1800" spc="-1" strike="noStrike" baseline="-25000">
                    <a:solidFill>
                      <a:srgbClr val="333399"/>
                    </a:solidFill>
                    <a:latin typeface="Arial"/>
                  </a:rPr>
                  <a:t>B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040440" y="1997280"/>
                <a:ext cx="3409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00050"/>
                    </a:solidFill>
                    <a:latin typeface="Arial"/>
                  </a:rPr>
                  <a:t>I</a:t>
                </a:r>
                <a:r>
                  <a:rPr b="1" lang="en-US" sz="1800" spc="-1" strike="noStrike" baseline="-25000">
                    <a:solidFill>
                      <a:srgbClr val="f0005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032600" y="1521000"/>
                <a:ext cx="3409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00050"/>
                    </a:solidFill>
                    <a:latin typeface="Arial"/>
                  </a:rPr>
                  <a:t>I</a:t>
                </a:r>
                <a:r>
                  <a:rPr b="1" lang="en-US" sz="1800" spc="-1" strike="noStrike" baseline="-25000">
                    <a:solidFill>
                      <a:srgbClr val="f0005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659640" y="2133720"/>
                <a:ext cx="217440" cy="61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408720" y="2457360"/>
                <a:ext cx="0" cy="46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V="1">
                <a:off x="6769080" y="274500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769080" y="2205000"/>
                <a:ext cx="0" cy="46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842880" y="2238480"/>
                <a:ext cx="5418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·I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3" name=""/>
            <p:cNvSpPr/>
            <p:nvPr/>
          </p:nvSpPr>
          <p:spPr>
            <a:xfrm>
              <a:off x="3492360" y="1898640"/>
              <a:ext cx="151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Zona ac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3311640" y="3090960"/>
            <a:ext cx="4968720" cy="1563480"/>
            <a:chOff x="3311640" y="3090960"/>
            <a:chExt cx="4968720" cy="1563480"/>
          </a:xfrm>
        </p:grpSpPr>
        <p:sp>
          <p:nvSpPr>
            <p:cNvPr id="1295" name=""/>
            <p:cNvSpPr/>
            <p:nvPr/>
          </p:nvSpPr>
          <p:spPr>
            <a:xfrm>
              <a:off x="3313080" y="3176640"/>
              <a:ext cx="4967280" cy="1404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689440" y="4502160"/>
              <a:ext cx="181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6696000" y="3537000"/>
              <a:ext cx="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97800" y="3530520"/>
              <a:ext cx="78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5724000" y="4027320"/>
              <a:ext cx="6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5603760" y="4076640"/>
              <a:ext cx="0" cy="3542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7507440" y="3600000"/>
              <a:ext cx="0" cy="793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90880" y="33433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491240" y="42861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461920" y="37814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462640" y="428616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977080" y="4027320"/>
              <a:ext cx="249120" cy="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6927840" y="3530520"/>
              <a:ext cx="249120" cy="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503480" y="3746520"/>
              <a:ext cx="748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r>
                <a:rPr b="1" lang="es-ES" sz="1600" spc="-1" strike="noStrike">
                  <a:solidFill>
                    <a:srgbClr val="333399"/>
                  </a:solidFill>
                  <a:latin typeface="Arial"/>
                </a:rPr>
                <a:t>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91840" y="410688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969160" y="356724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961320" y="309096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37440" y="402732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6696000" y="3681360"/>
              <a:ext cx="0" cy="80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667560" y="3808440"/>
              <a:ext cx="83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·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1640" y="3429000"/>
              <a:ext cx="180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Zona de satu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3313080" y="4689360"/>
            <a:ext cx="4967280" cy="1563840"/>
            <a:chOff x="3313080" y="4689360"/>
            <a:chExt cx="4967280" cy="1563840"/>
          </a:xfrm>
        </p:grpSpPr>
        <p:sp>
          <p:nvSpPr>
            <p:cNvPr id="1317" name=""/>
            <p:cNvSpPr/>
            <p:nvPr/>
          </p:nvSpPr>
          <p:spPr>
            <a:xfrm>
              <a:off x="3313080" y="4724280"/>
              <a:ext cx="4967280" cy="1490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616720" y="6100560"/>
              <a:ext cx="181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6635880" y="5129280"/>
              <a:ext cx="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624720" y="5129280"/>
              <a:ext cx="78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5651280" y="5626080"/>
              <a:ext cx="6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5530680" y="5675040"/>
              <a:ext cx="0" cy="3542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7434360" y="5199120"/>
              <a:ext cx="0" cy="793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417800" y="4941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418160" y="5884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389200" y="53798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389560" y="5884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904000" y="5626080"/>
              <a:ext cx="249120" cy="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6854400" y="5129280"/>
              <a:ext cx="249480" cy="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495560" y="531648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18760" y="570528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896080" y="516564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88240" y="468936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s-ES" sz="1800" spc="-1" strike="noStrike" baseline="-25000">
                  <a:solidFill>
                    <a:srgbClr val="f00050"/>
                  </a:solidFill>
                  <a:latin typeface="Arial"/>
                </a:rPr>
                <a:t>C</a:t>
              </a:r>
              <a:r>
                <a:rPr b="1" lang="es-ES" sz="1800" spc="-1" strike="noStrike">
                  <a:solidFill>
                    <a:srgbClr val="f0005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6624720" y="5913360"/>
              <a:ext cx="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419640" y="5062320"/>
              <a:ext cx="165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Zona de cor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0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3" dur="2000" fill="hold"/>
                                        <p:tgtEl>
                                          <p:spTgt spid="126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3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6" dur="2000" fill="hold"/>
                                        <p:tgtEl>
                                          <p:spTgt spid="129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836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omponentes electrónicos: El transistor bi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557360"/>
            <a:ext cx="8424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ción: tipos de transi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io de funcionamiento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istor tipo P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istor tipo N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ísticas eléctricas de un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foto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Funcionamiento en conmutación de un transistor N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2195640" y="1341360"/>
            <a:ext cx="1066320" cy="457200"/>
            <a:chOff x="2195640" y="1341360"/>
            <a:chExt cx="1066320" cy="457200"/>
          </a:xfrm>
        </p:grpSpPr>
        <p:grpSp>
          <p:nvGrpSpPr>
            <p:cNvPr id="1338" name=""/>
            <p:cNvGrpSpPr/>
            <p:nvPr/>
          </p:nvGrpSpPr>
          <p:grpSpPr>
            <a:xfrm>
              <a:off x="2195640" y="1341360"/>
              <a:ext cx="1066320" cy="457200"/>
              <a:chOff x="2195640" y="1341360"/>
              <a:chExt cx="1066320" cy="457200"/>
            </a:xfrm>
          </p:grpSpPr>
          <p:sp>
            <p:nvSpPr>
              <p:cNvPr id="1339" name=""/>
              <p:cNvSpPr/>
              <p:nvPr/>
            </p:nvSpPr>
            <p:spPr>
              <a:xfrm flipH="1">
                <a:off x="2499480" y="1341360"/>
                <a:ext cx="7621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0" name=""/>
              <p:cNvGrpSpPr/>
              <p:nvPr/>
            </p:nvGrpSpPr>
            <p:grpSpPr>
              <a:xfrm>
                <a:off x="2195640" y="1417680"/>
                <a:ext cx="352080" cy="304920"/>
                <a:chOff x="2195640" y="1417680"/>
                <a:chExt cx="352080" cy="304920"/>
              </a:xfrm>
            </p:grpSpPr>
            <p:grpSp>
              <p:nvGrpSpPr>
                <p:cNvPr id="1341" name=""/>
                <p:cNvGrpSpPr/>
                <p:nvPr/>
              </p:nvGrpSpPr>
              <p:grpSpPr>
                <a:xfrm>
                  <a:off x="2283840" y="1417680"/>
                  <a:ext cx="263880" cy="304920"/>
                  <a:chOff x="2283840" y="1417680"/>
                  <a:chExt cx="263880" cy="30492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 flipH="1">
                    <a:off x="2283480" y="1417680"/>
                    <a:ext cx="26388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4">
                        <a:moveTo>
                          <a:pt x="0" y="10"/>
                        </a:moveTo>
                        <a:cubicBezTo>
                          <a:pt x="2" y="2"/>
                          <a:pt x="3" y="0"/>
                          <a:pt x="11" y="3"/>
                        </a:cubicBezTo>
                        <a:cubicBezTo>
                          <a:pt x="15" y="8"/>
                          <a:pt x="16" y="10"/>
                          <a:pt x="23" y="9"/>
                        </a:cubicBezTo>
                        <a:cubicBezTo>
                          <a:pt x="27" y="2"/>
                          <a:pt x="30" y="3"/>
                          <a:pt x="38" y="4"/>
                        </a:cubicBezTo>
                        <a:cubicBezTo>
                          <a:pt x="44" y="14"/>
                          <a:pt x="53" y="5"/>
                          <a:pt x="62" y="3"/>
                        </a:cubicBezTo>
                        <a:cubicBezTo>
                          <a:pt x="70" y="4"/>
                          <a:pt x="69" y="9"/>
                          <a:pt x="77" y="10"/>
                        </a:cubicBezTo>
                        <a:cubicBezTo>
                          <a:pt x="85" y="9"/>
                          <a:pt x="84" y="4"/>
                          <a:pt x="92" y="3"/>
                        </a:cubicBezTo>
                        <a:cubicBezTo>
                          <a:pt x="101" y="4"/>
                          <a:pt x="99" y="8"/>
                          <a:pt x="107" y="10"/>
                        </a:cubicBezTo>
                        <a:cubicBezTo>
                          <a:pt x="112" y="6"/>
                          <a:pt x="115" y="4"/>
                          <a:pt x="122" y="3"/>
                        </a:cubicBezTo>
                        <a:cubicBezTo>
                          <a:pt x="131" y="4"/>
                          <a:pt x="132" y="4"/>
                          <a:pt x="138" y="1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 flipH="1" flipV="1">
                    <a:off x="2283480" y="1569960"/>
                    <a:ext cx="2638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4">
                        <a:moveTo>
                          <a:pt x="0" y="10"/>
                        </a:moveTo>
                        <a:cubicBezTo>
                          <a:pt x="2" y="2"/>
                          <a:pt x="3" y="0"/>
                          <a:pt x="11" y="3"/>
                        </a:cubicBezTo>
                        <a:cubicBezTo>
                          <a:pt x="15" y="8"/>
                          <a:pt x="16" y="10"/>
                          <a:pt x="23" y="9"/>
                        </a:cubicBezTo>
                        <a:cubicBezTo>
                          <a:pt x="27" y="2"/>
                          <a:pt x="30" y="3"/>
                          <a:pt x="38" y="4"/>
                        </a:cubicBezTo>
                        <a:cubicBezTo>
                          <a:pt x="44" y="14"/>
                          <a:pt x="53" y="5"/>
                          <a:pt x="62" y="3"/>
                        </a:cubicBezTo>
                        <a:cubicBezTo>
                          <a:pt x="70" y="4"/>
                          <a:pt x="69" y="9"/>
                          <a:pt x="77" y="10"/>
                        </a:cubicBezTo>
                        <a:cubicBezTo>
                          <a:pt x="85" y="9"/>
                          <a:pt x="84" y="4"/>
                          <a:pt x="92" y="3"/>
                        </a:cubicBezTo>
                        <a:cubicBezTo>
                          <a:pt x="101" y="4"/>
                          <a:pt x="99" y="8"/>
                          <a:pt x="107" y="10"/>
                        </a:cubicBezTo>
                        <a:cubicBezTo>
                          <a:pt x="112" y="6"/>
                          <a:pt x="115" y="4"/>
                          <a:pt x="122" y="3"/>
                        </a:cubicBezTo>
                        <a:cubicBezTo>
                          <a:pt x="131" y="4"/>
                          <a:pt x="132" y="4"/>
                          <a:pt x="138" y="1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2283840" y="149400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2547720" y="149400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2283840" y="1494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 flipH="1">
                    <a:off x="2283480" y="1494000"/>
                    <a:ext cx="263880" cy="1522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8" name=""/>
                <p:cNvSpPr/>
                <p:nvPr/>
              </p:nvSpPr>
              <p:spPr>
                <a:xfrm flipH="1">
                  <a:off x="2195640" y="1494000"/>
                  <a:ext cx="87840" cy="15228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0" y="0"/>
                      </a:moveTo>
                      <a:cubicBezTo>
                        <a:pt x="24" y="16"/>
                        <a:pt x="48" y="32"/>
                        <a:pt x="48" y="48"/>
                      </a:cubicBezTo>
                      <a:cubicBezTo>
                        <a:pt x="48" y="64"/>
                        <a:pt x="24" y="80"/>
                        <a:pt x="0" y="96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9" name=""/>
            <p:cNvSpPr/>
            <p:nvPr/>
          </p:nvSpPr>
          <p:spPr>
            <a:xfrm flipV="1">
              <a:off x="2500200" y="1417680"/>
              <a:ext cx="304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424240" y="1569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424240" y="1569960"/>
              <a:ext cx="5331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2754000" y="1417680"/>
              <a:ext cx="355680" cy="304920"/>
            </a:xfrm>
            <a:custGeom>
              <a:avLst/>
              <a:gdLst/>
              <a:ahLst/>
              <a:rect l="l" t="t" r="r" b="b"/>
              <a:pathLst>
                <a:path w="224" h="192">
                  <a:moveTo>
                    <a:pt x="192" y="0"/>
                  </a:moveTo>
                  <a:cubicBezTo>
                    <a:pt x="208" y="16"/>
                    <a:pt x="224" y="32"/>
                    <a:pt x="192" y="48"/>
                  </a:cubicBezTo>
                  <a:cubicBezTo>
                    <a:pt x="160" y="64"/>
                    <a:pt x="0" y="80"/>
                    <a:pt x="0" y="96"/>
                  </a:cubicBezTo>
                  <a:cubicBezTo>
                    <a:pt x="0" y="112"/>
                    <a:pt x="176" y="128"/>
                    <a:pt x="192" y="144"/>
                  </a:cubicBezTo>
                  <a:cubicBezTo>
                    <a:pt x="208" y="160"/>
                    <a:pt x="152" y="176"/>
                    <a:pt x="96" y="192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1042920" y="1557360"/>
            <a:ext cx="12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042920" y="155736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38200" y="2349360"/>
            <a:ext cx="10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826920" y="24940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042920" y="249408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042920" y="29988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411280" y="163044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411280" y="2349360"/>
            <a:ext cx="14472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411280" y="26384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52720" y="2065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328920" y="1289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411280" y="1846440"/>
            <a:ext cx="0" cy="28872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465280" y="1793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176200" y="2297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7" name=""/>
          <p:cNvGrpSpPr/>
          <p:nvPr/>
        </p:nvGrpSpPr>
        <p:grpSpPr>
          <a:xfrm>
            <a:off x="5005440" y="1128600"/>
            <a:ext cx="3954240" cy="2068560"/>
            <a:chOff x="5005440" y="1128600"/>
            <a:chExt cx="3954240" cy="2068560"/>
          </a:xfrm>
        </p:grpSpPr>
        <p:grpSp>
          <p:nvGrpSpPr>
            <p:cNvPr id="1368" name=""/>
            <p:cNvGrpSpPr/>
            <p:nvPr/>
          </p:nvGrpSpPr>
          <p:grpSpPr>
            <a:xfrm>
              <a:off x="7112520" y="1181160"/>
              <a:ext cx="1066320" cy="457200"/>
              <a:chOff x="7112520" y="1181160"/>
              <a:chExt cx="1066320" cy="45720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7112520" y="1181160"/>
                <a:ext cx="1066320" cy="457200"/>
                <a:chOff x="7112520" y="1181160"/>
                <a:chExt cx="1066320" cy="457200"/>
              </a:xfrm>
            </p:grpSpPr>
            <p:sp>
              <p:nvSpPr>
                <p:cNvPr id="1370" name=""/>
                <p:cNvSpPr/>
                <p:nvPr/>
              </p:nvSpPr>
              <p:spPr>
                <a:xfrm flipH="1">
                  <a:off x="7416360" y="1181160"/>
                  <a:ext cx="762120" cy="457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1" name=""/>
                <p:cNvGrpSpPr/>
                <p:nvPr/>
              </p:nvGrpSpPr>
              <p:grpSpPr>
                <a:xfrm>
                  <a:off x="7112520" y="1257480"/>
                  <a:ext cx="352080" cy="304920"/>
                  <a:chOff x="7112520" y="1257480"/>
                  <a:chExt cx="352080" cy="304920"/>
                </a:xfrm>
              </p:grpSpPr>
              <p:grpSp>
                <p:nvGrpSpPr>
                  <p:cNvPr id="1372" name=""/>
                  <p:cNvGrpSpPr/>
                  <p:nvPr/>
                </p:nvGrpSpPr>
                <p:grpSpPr>
                  <a:xfrm>
                    <a:off x="7200720" y="1257480"/>
                    <a:ext cx="263880" cy="304920"/>
                    <a:chOff x="7200720" y="1257480"/>
                    <a:chExt cx="263880" cy="304920"/>
                  </a:xfrm>
                </p:grpSpPr>
                <p:sp>
                  <p:nvSpPr>
                    <p:cNvPr id="1373" name=""/>
                    <p:cNvSpPr/>
                    <p:nvPr/>
                  </p:nvSpPr>
                  <p:spPr>
                    <a:xfrm flipH="1">
                      <a:off x="7200360" y="1257480"/>
                      <a:ext cx="263880" cy="1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4">
                          <a:moveTo>
                            <a:pt x="0" y="10"/>
                          </a:moveTo>
                          <a:cubicBezTo>
                            <a:pt x="2" y="2"/>
                            <a:pt x="3" y="0"/>
                            <a:pt x="11" y="3"/>
                          </a:cubicBezTo>
                          <a:cubicBezTo>
                            <a:pt x="15" y="8"/>
                            <a:pt x="16" y="10"/>
                            <a:pt x="23" y="9"/>
                          </a:cubicBezTo>
                          <a:cubicBezTo>
                            <a:pt x="27" y="2"/>
                            <a:pt x="30" y="3"/>
                            <a:pt x="38" y="4"/>
                          </a:cubicBezTo>
                          <a:cubicBezTo>
                            <a:pt x="44" y="14"/>
                            <a:pt x="53" y="5"/>
                            <a:pt x="62" y="3"/>
                          </a:cubicBezTo>
                          <a:cubicBezTo>
                            <a:pt x="70" y="4"/>
                            <a:pt x="69" y="9"/>
                            <a:pt x="77" y="10"/>
                          </a:cubicBezTo>
                          <a:cubicBezTo>
                            <a:pt x="85" y="9"/>
                            <a:pt x="84" y="4"/>
                            <a:pt x="92" y="3"/>
                          </a:cubicBezTo>
                          <a:cubicBezTo>
                            <a:pt x="101" y="4"/>
                            <a:pt x="99" y="8"/>
                            <a:pt x="107" y="10"/>
                          </a:cubicBezTo>
                          <a:cubicBezTo>
                            <a:pt x="112" y="6"/>
                            <a:pt x="115" y="4"/>
                            <a:pt x="122" y="3"/>
                          </a:cubicBezTo>
                          <a:cubicBezTo>
                            <a:pt x="131" y="4"/>
                            <a:pt x="132" y="4"/>
                            <a:pt x="138" y="1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"/>
                    <p:cNvSpPr/>
                    <p:nvPr/>
                  </p:nvSpPr>
                  <p:spPr>
                    <a:xfrm flipH="1" flipV="1">
                      <a:off x="7200360" y="1409760"/>
                      <a:ext cx="26388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4">
                          <a:moveTo>
                            <a:pt x="0" y="10"/>
                          </a:moveTo>
                          <a:cubicBezTo>
                            <a:pt x="2" y="2"/>
                            <a:pt x="3" y="0"/>
                            <a:pt x="11" y="3"/>
                          </a:cubicBezTo>
                          <a:cubicBezTo>
                            <a:pt x="15" y="8"/>
                            <a:pt x="16" y="10"/>
                            <a:pt x="23" y="9"/>
                          </a:cubicBezTo>
                          <a:cubicBezTo>
                            <a:pt x="27" y="2"/>
                            <a:pt x="30" y="3"/>
                            <a:pt x="38" y="4"/>
                          </a:cubicBezTo>
                          <a:cubicBezTo>
                            <a:pt x="44" y="14"/>
                            <a:pt x="53" y="5"/>
                            <a:pt x="62" y="3"/>
                          </a:cubicBezTo>
                          <a:cubicBezTo>
                            <a:pt x="70" y="4"/>
                            <a:pt x="69" y="9"/>
                            <a:pt x="77" y="10"/>
                          </a:cubicBezTo>
                          <a:cubicBezTo>
                            <a:pt x="85" y="9"/>
                            <a:pt x="84" y="4"/>
                            <a:pt x="92" y="3"/>
                          </a:cubicBezTo>
                          <a:cubicBezTo>
                            <a:pt x="101" y="4"/>
                            <a:pt x="99" y="8"/>
                            <a:pt x="107" y="10"/>
                          </a:cubicBezTo>
                          <a:cubicBezTo>
                            <a:pt x="112" y="6"/>
                            <a:pt x="115" y="4"/>
                            <a:pt x="122" y="3"/>
                          </a:cubicBezTo>
                          <a:cubicBezTo>
                            <a:pt x="131" y="4"/>
                            <a:pt x="132" y="4"/>
                            <a:pt x="138" y="1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5" name=""/>
                    <p:cNvSpPr/>
                    <p:nvPr/>
                  </p:nvSpPr>
                  <p:spPr>
                    <a:xfrm>
                      <a:off x="7200720" y="1333800"/>
                      <a:ext cx="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6" name=""/>
                    <p:cNvSpPr/>
                    <p:nvPr/>
                  </p:nvSpPr>
                  <p:spPr>
                    <a:xfrm>
                      <a:off x="7464600" y="1333800"/>
                      <a:ext cx="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7" name=""/>
                    <p:cNvSpPr/>
                    <p:nvPr/>
                  </p:nvSpPr>
                  <p:spPr>
                    <a:xfrm>
                      <a:off x="7200720" y="1333800"/>
                      <a:ext cx="0" cy="1522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 flipH="1">
                      <a:off x="7200360" y="1333800"/>
                      <a:ext cx="263880" cy="1522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9" name=""/>
                  <p:cNvSpPr/>
                  <p:nvPr/>
                </p:nvSpPr>
                <p:spPr>
                  <a:xfrm flipH="1">
                    <a:off x="7112520" y="1333800"/>
                    <a:ext cx="8784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0" y="0"/>
                        </a:moveTo>
                        <a:cubicBezTo>
                          <a:pt x="24" y="16"/>
                          <a:pt x="48" y="32"/>
                          <a:pt x="48" y="48"/>
                        </a:cubicBezTo>
                        <a:cubicBezTo>
                          <a:pt x="48" y="64"/>
                          <a:pt x="24" y="80"/>
                          <a:pt x="0" y="96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80" name=""/>
              <p:cNvSpPr/>
              <p:nvPr/>
            </p:nvSpPr>
            <p:spPr>
              <a:xfrm flipV="1">
                <a:off x="7417080" y="1257480"/>
                <a:ext cx="3049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341120" y="140976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341120" y="1409760"/>
                <a:ext cx="53316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7670880" y="1257480"/>
                <a:ext cx="355680" cy="304920"/>
              </a:xfrm>
              <a:custGeom>
                <a:avLst/>
                <a:gdLst/>
                <a:ahLst/>
                <a:rect l="l" t="t" r="r" b="b"/>
                <a:pathLst>
                  <a:path w="224" h="192">
                    <a:moveTo>
                      <a:pt x="192" y="0"/>
                    </a:moveTo>
                    <a:cubicBezTo>
                      <a:pt x="208" y="16"/>
                      <a:pt x="224" y="32"/>
                      <a:pt x="192" y="48"/>
                    </a:cubicBezTo>
                    <a:cubicBezTo>
                      <a:pt x="160" y="64"/>
                      <a:pt x="0" y="80"/>
                      <a:pt x="0" y="96"/>
                    </a:cubicBezTo>
                    <a:cubicBezTo>
                      <a:pt x="0" y="112"/>
                      <a:pt x="176" y="128"/>
                      <a:pt x="192" y="144"/>
                    </a:cubicBezTo>
                    <a:cubicBezTo>
                      <a:pt x="208" y="160"/>
                      <a:pt x="152" y="176"/>
                      <a:pt x="96" y="192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4" name=""/>
            <p:cNvSpPr/>
            <p:nvPr/>
          </p:nvSpPr>
          <p:spPr>
            <a:xfrm>
              <a:off x="5816520" y="1397160"/>
              <a:ext cx="136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816520" y="1397160"/>
              <a:ext cx="0" cy="9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311800" y="2333520"/>
              <a:ext cx="10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00520" y="2476440"/>
              <a:ext cx="43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16520" y="2476440"/>
              <a:ext cx="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816520" y="3197160"/>
              <a:ext cx="151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327800" y="283680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005440" y="1920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245440" y="1128600"/>
              <a:ext cx="71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 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381800" y="1633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392520" y="18334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6608520" y="1541880"/>
              <a:ext cx="152640" cy="380520"/>
              <a:chOff x="6608520" y="1541880"/>
              <a:chExt cx="152640" cy="380520"/>
            </a:xfrm>
          </p:grpSpPr>
          <p:sp>
            <p:nvSpPr>
              <p:cNvPr id="1396" name=""/>
              <p:cNvSpPr/>
              <p:nvPr/>
            </p:nvSpPr>
            <p:spPr>
              <a:xfrm flipV="1">
                <a:off x="6684840" y="1880280"/>
                <a:ext cx="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 flipV="1">
                <a:off x="6608520" y="1838160"/>
                <a:ext cx="759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6608880" y="1795680"/>
                <a:ext cx="15228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 flipV="1">
                <a:off x="6608520" y="1753560"/>
                <a:ext cx="15228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6608880" y="1711080"/>
                <a:ext cx="15228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 flipV="1">
                <a:off x="6608520" y="1668960"/>
                <a:ext cx="15228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V="1">
                <a:off x="6608880" y="1626480"/>
                <a:ext cx="15228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flipV="1">
                <a:off x="6684480" y="1584000"/>
                <a:ext cx="7596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V="1">
                <a:off x="6684840" y="1541880"/>
                <a:ext cx="0" cy="4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5" name=""/>
            <p:cNvSpPr/>
            <p:nvPr/>
          </p:nvSpPr>
          <p:spPr>
            <a:xfrm flipH="1">
              <a:off x="7183080" y="2463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183440" y="2463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183440" y="2692440"/>
              <a:ext cx="13968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80160" y="1397160"/>
              <a:ext cx="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80160" y="190188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6679800" y="1973160"/>
              <a:ext cx="14436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327800" y="1325520"/>
              <a:ext cx="0" cy="11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327800" y="1685880"/>
              <a:ext cx="0" cy="28908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680160" y="2620800"/>
              <a:ext cx="503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680160" y="226044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51440" y="2620800"/>
              <a:ext cx="289080" cy="0"/>
            </a:xfrm>
            <a:prstGeom prst="line">
              <a:avLst/>
            </a:prstGeom>
            <a:ln w="57240">
              <a:solidFill>
                <a:srgbClr val="f00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382160" y="2349360"/>
              <a:ext cx="9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392880" y="26971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0 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395280" y="3429000"/>
            <a:ext cx="3816360" cy="2651400"/>
          </a:xfrm>
          <a:prstGeom prst="rect">
            <a:avLst/>
          </a:prstGeom>
          <a:solidFill>
            <a:srgbClr val="8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ustituimos el interruptor principal por un transis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La corriente de base debe ser suficiente para asegurar la zona de satu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Ventaj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No desgaste, sin chispas, rapidez,  permite control desde sistema lóg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lectrónica de Potencia y Electrónica dig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4573080" y="3274920"/>
            <a:ext cx="4357080" cy="2687760"/>
            <a:chOff x="4573080" y="3274920"/>
            <a:chExt cx="4357080" cy="2687760"/>
          </a:xfrm>
        </p:grpSpPr>
        <p:sp>
          <p:nvSpPr>
            <p:cNvPr id="1420" name=""/>
            <p:cNvSpPr/>
            <p:nvPr/>
          </p:nvSpPr>
          <p:spPr>
            <a:xfrm flipV="1">
              <a:off x="5959440" y="3486240"/>
              <a:ext cx="0" cy="180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959440" y="5286240"/>
              <a:ext cx="21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5959440" y="4133520"/>
              <a:ext cx="0" cy="1152360"/>
            </a:xfrm>
            <a:prstGeom prst="line">
              <a:avLst/>
            </a:prstGeom>
            <a:ln w="38160">
              <a:solidFill>
                <a:srgbClr val="f0005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5959440" y="4133880"/>
              <a:ext cx="1727280" cy="0"/>
            </a:xfrm>
            <a:prstGeom prst="line">
              <a:avLst/>
            </a:prstGeom>
            <a:ln w="38160">
              <a:solidFill>
                <a:srgbClr val="f0005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674840" y="3865680"/>
              <a:ext cx="1255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= 40 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456160" y="392256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607000" y="327492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898760" y="530532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86360" y="4421160"/>
              <a:ext cx="144360" cy="14436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56160" y="42829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804360" y="559440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F (OF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5940360" y="5300640"/>
              <a:ext cx="1727280" cy="0"/>
            </a:xfrm>
            <a:prstGeom prst="line">
              <a:avLst/>
            </a:prstGeom>
            <a:ln w="38160">
              <a:solidFill>
                <a:srgbClr val="333399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164360" y="5229360"/>
              <a:ext cx="144360" cy="144360"/>
            </a:xfrm>
            <a:prstGeom prst="su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021800" y="5376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084720" y="4437000"/>
              <a:ext cx="1150920" cy="719280"/>
            </a:xfrm>
            <a:custGeom>
              <a:avLst/>
              <a:gdLst/>
              <a:ahLst/>
              <a:rect l="l" t="t" r="r" b="b"/>
              <a:pathLst>
                <a:path w="725" h="453">
                  <a:moveTo>
                    <a:pt x="725" y="453"/>
                  </a:moveTo>
                  <a:cubicBezTo>
                    <a:pt x="672" y="309"/>
                    <a:pt x="619" y="165"/>
                    <a:pt x="498" y="90"/>
                  </a:cubicBezTo>
                  <a:cubicBezTo>
                    <a:pt x="377" y="15"/>
                    <a:pt x="188" y="7"/>
                    <a:pt x="0" y="0"/>
                  </a:cubicBezTo>
                </a:path>
              </a:pathLst>
            </a:custGeom>
            <a:noFill/>
            <a:ln w="12600">
              <a:solidFill>
                <a:srgbClr val="f0005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 rot="10800000">
              <a:off x="6084720" y="4508280"/>
              <a:ext cx="935280" cy="718920"/>
            </a:xfrm>
            <a:custGeom>
              <a:avLst/>
              <a:gdLst/>
              <a:ahLst/>
              <a:rect l="l" t="t" r="r" b="b"/>
              <a:pathLst>
                <a:path w="725" h="453">
                  <a:moveTo>
                    <a:pt x="725" y="453"/>
                  </a:moveTo>
                  <a:cubicBezTo>
                    <a:pt x="672" y="309"/>
                    <a:pt x="619" y="165"/>
                    <a:pt x="498" y="90"/>
                  </a:cubicBezTo>
                  <a:cubicBezTo>
                    <a:pt x="377" y="15"/>
                    <a:pt x="188" y="7"/>
                    <a:pt x="0" y="0"/>
                  </a:cubicBezTo>
                </a:path>
              </a:pathLst>
            </a:custGeom>
            <a:noFill/>
            <a:ln w="12600">
              <a:solidFill>
                <a:srgbClr val="33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573080" y="429732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F (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58000" y="42400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00050"/>
                  </a:solidFill>
                  <a:latin typeface="Arial"/>
                </a:rPr>
                <a:t>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280920" y="47451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9" name=""/>
          <p:cNvSpPr/>
          <p:nvPr/>
        </p:nvSpPr>
        <p:spPr>
          <a:xfrm>
            <a:off x="3382920" y="1844640"/>
            <a:ext cx="1513080" cy="1044720"/>
          </a:xfrm>
          <a:prstGeom prst="rightArrow">
            <a:avLst>
              <a:gd name="adj1" fmla="val 50000"/>
              <a:gd name="adj2" fmla="val 36208"/>
            </a:avLst>
          </a:prstGeom>
          <a:solidFill>
            <a:srgbClr val="f00050"/>
          </a:solidFill>
          <a:ln w="9360">
            <a:solidFill>
              <a:srgbClr val="f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144880" y="2430360"/>
            <a:ext cx="1079280" cy="237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792520" y="307980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2503440" y="3246480"/>
            <a:ext cx="287280" cy="1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505240" y="3246480"/>
            <a:ext cx="0" cy="67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 flipV="1">
            <a:off x="2503440" y="3751200"/>
            <a:ext cx="28728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792520" y="39211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2358720" y="35845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792520" y="4087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352520" y="437508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792520" y="26474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792520" y="264780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1352520" y="35830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208160" y="365616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232160" y="2792520"/>
            <a:ext cx="0" cy="1439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219200" y="4184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241880" y="2457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05192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081080" y="3357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1639800" y="3583080"/>
            <a:ext cx="287280" cy="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367800" y="2647800"/>
            <a:ext cx="287640" cy="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4299840" y="324324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303720" y="214776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99480" y="374796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627200" y="317196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5" name=""/>
          <p:cNvGrpSpPr/>
          <p:nvPr/>
        </p:nvGrpSpPr>
        <p:grpSpPr>
          <a:xfrm>
            <a:off x="214200" y="1730520"/>
            <a:ext cx="4487760" cy="1652040"/>
            <a:chOff x="214200" y="1730520"/>
            <a:chExt cx="4487760" cy="1652040"/>
          </a:xfrm>
        </p:grpSpPr>
        <p:sp>
          <p:nvSpPr>
            <p:cNvPr id="1466" name=""/>
            <p:cNvSpPr/>
            <p:nvPr/>
          </p:nvSpPr>
          <p:spPr>
            <a:xfrm>
              <a:off x="214200" y="1730520"/>
              <a:ext cx="448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I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B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= f(V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BE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, V</a:t>
              </a:r>
              <a:r>
                <a:rPr b="1" lang="es-ES" sz="1800" spc="-1" strike="noStrike" baseline="-25000">
                  <a:solidFill>
                    <a:srgbClr val="333399"/>
                  </a:solidFill>
                  <a:latin typeface="Arial"/>
                </a:rPr>
                <a:t>EC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)  Característica de ent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98560" y="2158920"/>
              <a:ext cx="504720" cy="122364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755640" y="11955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stor P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5724360" y="2060640"/>
            <a:ext cx="2361240" cy="2169360"/>
            <a:chOff x="5724360" y="2060640"/>
            <a:chExt cx="2361240" cy="2169360"/>
          </a:xfrm>
        </p:grpSpPr>
        <p:sp>
          <p:nvSpPr>
            <p:cNvPr id="1470" name=""/>
            <p:cNvSpPr/>
            <p:nvPr/>
          </p:nvSpPr>
          <p:spPr>
            <a:xfrm flipV="1">
              <a:off x="6300720" y="2097000"/>
              <a:ext cx="0" cy="21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24360" y="3824280"/>
              <a:ext cx="223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568280" y="382428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E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951520" y="206064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5727600" y="2205000"/>
            <a:ext cx="1287720" cy="1657440"/>
          </a:xfrm>
          <a:custGeom>
            <a:avLst/>
            <a:gdLst/>
            <a:ahLst/>
            <a:rect l="l" t="t" r="r" b="b"/>
            <a:pathLst>
              <a:path w="811" h="1044">
                <a:moveTo>
                  <a:pt x="0" y="1035"/>
                </a:moveTo>
                <a:cubicBezTo>
                  <a:pt x="54" y="1034"/>
                  <a:pt x="222" y="1044"/>
                  <a:pt x="324" y="1024"/>
                </a:cubicBezTo>
                <a:cubicBezTo>
                  <a:pt x="426" y="1004"/>
                  <a:pt x="540" y="999"/>
                  <a:pt x="610" y="917"/>
                </a:cubicBezTo>
                <a:cubicBezTo>
                  <a:pt x="680" y="835"/>
                  <a:pt x="716" y="689"/>
                  <a:pt x="746" y="536"/>
                </a:cubicBezTo>
                <a:cubicBezTo>
                  <a:pt x="776" y="383"/>
                  <a:pt x="811" y="56"/>
                  <a:pt x="792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724360" y="2349360"/>
            <a:ext cx="1368720" cy="1513080"/>
          </a:xfrm>
          <a:custGeom>
            <a:avLst/>
            <a:gdLst/>
            <a:ahLst/>
            <a:rect l="l" t="t" r="r" b="b"/>
            <a:pathLst>
              <a:path w="811" h="1044">
                <a:moveTo>
                  <a:pt x="0" y="1035"/>
                </a:moveTo>
                <a:cubicBezTo>
                  <a:pt x="54" y="1034"/>
                  <a:pt x="222" y="1044"/>
                  <a:pt x="324" y="1024"/>
                </a:cubicBezTo>
                <a:cubicBezTo>
                  <a:pt x="426" y="1004"/>
                  <a:pt x="540" y="999"/>
                  <a:pt x="610" y="917"/>
                </a:cubicBezTo>
                <a:cubicBezTo>
                  <a:pt x="680" y="835"/>
                  <a:pt x="716" y="689"/>
                  <a:pt x="746" y="536"/>
                </a:cubicBezTo>
                <a:cubicBezTo>
                  <a:pt x="776" y="383"/>
                  <a:pt x="811" y="56"/>
                  <a:pt x="792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6948360" y="1662120"/>
            <a:ext cx="749520" cy="506520"/>
            <a:chOff x="6948360" y="1662120"/>
            <a:chExt cx="749520" cy="506520"/>
          </a:xfrm>
        </p:grpSpPr>
        <p:sp>
          <p:nvSpPr>
            <p:cNvPr id="1477" name=""/>
            <p:cNvSpPr/>
            <p:nvPr/>
          </p:nvSpPr>
          <p:spPr>
            <a:xfrm>
              <a:off x="6985080" y="2023920"/>
              <a:ext cx="250920" cy="144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48360" y="1662120"/>
              <a:ext cx="749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287280" y="4941720"/>
            <a:ext cx="88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tensiones y corrientes van en sentido contrario a las de un transistor NP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87280" y="5408640"/>
            <a:ext cx="87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e emisor y base se comporta como un diodo. La corriente por la base es sa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5688000" y="2347920"/>
            <a:ext cx="1368360" cy="1512720"/>
          </a:xfrm>
          <a:custGeom>
            <a:avLst/>
            <a:gdLst/>
            <a:ahLst/>
            <a:rect l="l" t="t" r="r" b="b"/>
            <a:pathLst>
              <a:path w="811" h="1044">
                <a:moveTo>
                  <a:pt x="0" y="1035"/>
                </a:moveTo>
                <a:cubicBezTo>
                  <a:pt x="54" y="1034"/>
                  <a:pt x="222" y="1044"/>
                  <a:pt x="324" y="1024"/>
                </a:cubicBezTo>
                <a:cubicBezTo>
                  <a:pt x="426" y="1004"/>
                  <a:pt x="540" y="999"/>
                  <a:pt x="610" y="917"/>
                </a:cubicBezTo>
                <a:cubicBezTo>
                  <a:pt x="680" y="835"/>
                  <a:pt x="716" y="689"/>
                  <a:pt x="746" y="536"/>
                </a:cubicBezTo>
                <a:cubicBezTo>
                  <a:pt x="776" y="383"/>
                  <a:pt x="811" y="56"/>
                  <a:pt x="792" y="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2075040" y="3841200"/>
            <a:ext cx="494280" cy="362880"/>
            <a:chOff x="2075040" y="3841200"/>
            <a:chExt cx="494280" cy="362880"/>
          </a:xfrm>
        </p:grpSpPr>
        <p:sp>
          <p:nvSpPr>
            <p:cNvPr id="1483" name=""/>
            <p:cNvSpPr/>
            <p:nvPr/>
          </p:nvSpPr>
          <p:spPr>
            <a:xfrm>
              <a:off x="2436480" y="4106520"/>
              <a:ext cx="132840" cy="97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075040" y="3841200"/>
              <a:ext cx="164880" cy="120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rot="12977400">
              <a:off x="2230920" y="3920760"/>
              <a:ext cx="228240" cy="235440"/>
            </a:xfrm>
            <a:custGeom>
              <a:avLst/>
              <a:gdLst/>
              <a:ahLst/>
              <a:rect l="l" t="t" r="r" b="b"/>
              <a:pathLst>
                <a:path w="659" h="680">
                  <a:moveTo>
                    <a:pt x="1" y="680"/>
                  </a:moveTo>
                  <a:lnTo>
                    <a:pt x="0" y="0"/>
                  </a:lnTo>
                  <a:lnTo>
                    <a:pt x="659" y="339"/>
                  </a:lnTo>
                  <a:lnTo>
                    <a:pt x="1" y="68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2977400">
              <a:off x="2238480" y="3840840"/>
              <a:ext cx="15480" cy="250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mph" presetID="10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186" dur="20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96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80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6" dur="80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7" dur="80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8" dur="80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800"/>
                            </p:stCondLst>
                            <p:childTnLst>
                              <p:par>
                                <p:cTn id="12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1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4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7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4800"/>
                            </p:stCondLst>
                            <p:childTnLst>
                              <p:par>
                                <p:cTn id="1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07000" y="1730520"/>
            <a:ext cx="413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 = f(I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, V</a:t>
            </a:r>
            <a:r>
              <a:rPr b="1" lang="es-ES" sz="1800" spc="-1" strike="noStrike" baseline="-25000">
                <a:solidFill>
                  <a:srgbClr val="333399"/>
                </a:solidFill>
                <a:latin typeface="Arial"/>
              </a:rPr>
              <a:t>CE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)  Característica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755640" y="11955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stor P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0" name=""/>
          <p:cNvGrpSpPr/>
          <p:nvPr/>
        </p:nvGrpSpPr>
        <p:grpSpPr>
          <a:xfrm>
            <a:off x="5335560" y="2097000"/>
            <a:ext cx="3145320" cy="2493360"/>
            <a:chOff x="5335560" y="2097000"/>
            <a:chExt cx="3145320" cy="2493360"/>
          </a:xfrm>
        </p:grpSpPr>
        <p:sp>
          <p:nvSpPr>
            <p:cNvPr id="1491" name=""/>
            <p:cNvSpPr/>
            <p:nvPr/>
          </p:nvSpPr>
          <p:spPr>
            <a:xfrm flipV="1">
              <a:off x="5724360" y="2097000"/>
              <a:ext cx="0" cy="212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724360" y="4221000"/>
              <a:ext cx="266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963560" y="4184640"/>
              <a:ext cx="51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333399"/>
                  </a:solidFill>
                  <a:latin typeface="Arial"/>
                </a:rPr>
                <a:t>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335560" y="2097000"/>
              <a:ext cx="340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0050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f0005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431640" y="4941720"/>
            <a:ext cx="842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rriente que circula por el colector es saliente y se controla mediante la corriente de base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6300720" y="3176280"/>
            <a:ext cx="1692360" cy="36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8109000" y="296064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5724360" y="2528640"/>
            <a:ext cx="2268360" cy="1692360"/>
            <a:chOff x="5724360" y="2528640"/>
            <a:chExt cx="2268360" cy="1692360"/>
          </a:xfrm>
        </p:grpSpPr>
        <p:sp>
          <p:nvSpPr>
            <p:cNvPr id="1499" name=""/>
            <p:cNvSpPr/>
            <p:nvPr/>
          </p:nvSpPr>
          <p:spPr>
            <a:xfrm>
              <a:off x="5724360" y="2597040"/>
              <a:ext cx="503280" cy="1623960"/>
            </a:xfrm>
            <a:custGeom>
              <a:avLst/>
              <a:gdLst/>
              <a:ahLst/>
              <a:rect l="l" t="t" r="r" b="b"/>
              <a:pathLst>
                <a:path w="317" h="1023">
                  <a:moveTo>
                    <a:pt x="0" y="1023"/>
                  </a:moveTo>
                  <a:cubicBezTo>
                    <a:pt x="7" y="1017"/>
                    <a:pt x="16" y="1013"/>
                    <a:pt x="22" y="980"/>
                  </a:cubicBezTo>
                  <a:cubicBezTo>
                    <a:pt x="28" y="947"/>
                    <a:pt x="30" y="958"/>
                    <a:pt x="38" y="824"/>
                  </a:cubicBezTo>
                  <a:cubicBezTo>
                    <a:pt x="46" y="690"/>
                    <a:pt x="22" y="311"/>
                    <a:pt x="68" y="174"/>
                  </a:cubicBezTo>
                  <a:cubicBezTo>
                    <a:pt x="114" y="37"/>
                    <a:pt x="215" y="17"/>
                    <a:pt x="317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6227640" y="2528640"/>
              <a:ext cx="1692360" cy="680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6011640" y="3753000"/>
              <a:ext cx="1981080" cy="36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72240" y="3789360"/>
              <a:ext cx="239760" cy="26820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151" y="0"/>
                  </a:moveTo>
                  <a:cubicBezTo>
                    <a:pt x="135" y="5"/>
                    <a:pt x="81" y="1"/>
                    <a:pt x="56" y="29"/>
                  </a:cubicBezTo>
                  <a:cubicBezTo>
                    <a:pt x="31" y="57"/>
                    <a:pt x="12" y="140"/>
                    <a:pt x="0" y="169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775480" y="3213000"/>
              <a:ext cx="525240" cy="457200"/>
            </a:xfrm>
            <a:custGeom>
              <a:avLst/>
              <a:gdLst/>
              <a:ahLst/>
              <a:rect l="l" t="t" r="r" b="b"/>
              <a:pathLst>
                <a:path w="331" h="288">
                  <a:moveTo>
                    <a:pt x="331" y="0"/>
                  </a:moveTo>
                  <a:cubicBezTo>
                    <a:pt x="290" y="5"/>
                    <a:pt x="139" y="2"/>
                    <a:pt x="86" y="28"/>
                  </a:cubicBezTo>
                  <a:cubicBezTo>
                    <a:pt x="33" y="54"/>
                    <a:pt x="26" y="116"/>
                    <a:pt x="13" y="159"/>
                  </a:cubicBezTo>
                  <a:cubicBezTo>
                    <a:pt x="0" y="202"/>
                    <a:pt x="7" y="261"/>
                    <a:pt x="6" y="288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2144880" y="2430360"/>
            <a:ext cx="1079280" cy="237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792520" y="307980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503440" y="3246480"/>
            <a:ext cx="287280" cy="169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505240" y="3246480"/>
            <a:ext cx="0" cy="67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H="1" flipV="1">
            <a:off x="2503440" y="3751200"/>
            <a:ext cx="287280" cy="169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792520" y="39211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2358720" y="35845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792520" y="4087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352520" y="437508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2792520" y="26474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792520" y="264780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1352520" y="35830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208160" y="365616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232160" y="2792520"/>
            <a:ext cx="0" cy="14396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219200" y="4184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241880" y="2457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1051920" y="422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1081080" y="3357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1639800" y="3583080"/>
            <a:ext cx="287280" cy="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367800" y="2647800"/>
            <a:ext cx="287640" cy="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299840" y="324324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99480" y="374796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333399"/>
                </a:solidFill>
                <a:latin typeface="Arial"/>
              </a:rPr>
              <a:t>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627200" y="317196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3303720" y="214776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f0005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2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4.07407E-006 L -7.5E-006 -0.05324 L -7.5E-006 0.05787 L -7.5E-006 -0.05556 L -7.5E-006 4.07407E-006 Z">
                                      <p:cBhvr>
                                        <p:cTn id="1256" dur="50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1" dur="80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80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Funcionamiento en conmutación de un transistor P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2195640" y="1521000"/>
            <a:ext cx="1066320" cy="457200"/>
            <a:chOff x="2195640" y="1521000"/>
            <a:chExt cx="1066320" cy="457200"/>
          </a:xfrm>
        </p:grpSpPr>
        <p:grpSp>
          <p:nvGrpSpPr>
            <p:cNvPr id="1530" name=""/>
            <p:cNvGrpSpPr/>
            <p:nvPr/>
          </p:nvGrpSpPr>
          <p:grpSpPr>
            <a:xfrm>
              <a:off x="2195640" y="1521000"/>
              <a:ext cx="1066320" cy="457200"/>
              <a:chOff x="2195640" y="1521000"/>
              <a:chExt cx="1066320" cy="457200"/>
            </a:xfrm>
          </p:grpSpPr>
          <p:sp>
            <p:nvSpPr>
              <p:cNvPr id="1531" name=""/>
              <p:cNvSpPr/>
              <p:nvPr/>
            </p:nvSpPr>
            <p:spPr>
              <a:xfrm flipH="1">
                <a:off x="2499480" y="1521000"/>
                <a:ext cx="7621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2" name=""/>
              <p:cNvGrpSpPr/>
              <p:nvPr/>
            </p:nvGrpSpPr>
            <p:grpSpPr>
              <a:xfrm>
                <a:off x="2195640" y="1597320"/>
                <a:ext cx="352080" cy="304920"/>
                <a:chOff x="2195640" y="1597320"/>
                <a:chExt cx="352080" cy="304920"/>
              </a:xfrm>
            </p:grpSpPr>
            <p:grpSp>
              <p:nvGrpSpPr>
                <p:cNvPr id="1533" name=""/>
                <p:cNvGrpSpPr/>
                <p:nvPr/>
              </p:nvGrpSpPr>
              <p:grpSpPr>
                <a:xfrm>
                  <a:off x="2283840" y="1597320"/>
                  <a:ext cx="263880" cy="304920"/>
                  <a:chOff x="2283840" y="1597320"/>
                  <a:chExt cx="263880" cy="304920"/>
                </a:xfrm>
              </p:grpSpPr>
              <p:sp>
                <p:nvSpPr>
                  <p:cNvPr id="1534" name=""/>
                  <p:cNvSpPr/>
                  <p:nvPr/>
                </p:nvSpPr>
                <p:spPr>
                  <a:xfrm flipH="1">
                    <a:off x="2283480" y="1597320"/>
                    <a:ext cx="26388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4">
                        <a:moveTo>
                          <a:pt x="0" y="10"/>
                        </a:moveTo>
                        <a:cubicBezTo>
                          <a:pt x="2" y="2"/>
                          <a:pt x="3" y="0"/>
                          <a:pt x="11" y="3"/>
                        </a:cubicBezTo>
                        <a:cubicBezTo>
                          <a:pt x="15" y="8"/>
                          <a:pt x="16" y="10"/>
                          <a:pt x="23" y="9"/>
                        </a:cubicBezTo>
                        <a:cubicBezTo>
                          <a:pt x="27" y="2"/>
                          <a:pt x="30" y="3"/>
                          <a:pt x="38" y="4"/>
                        </a:cubicBezTo>
                        <a:cubicBezTo>
                          <a:pt x="44" y="14"/>
                          <a:pt x="53" y="5"/>
                          <a:pt x="62" y="3"/>
                        </a:cubicBezTo>
                        <a:cubicBezTo>
                          <a:pt x="70" y="4"/>
                          <a:pt x="69" y="9"/>
                          <a:pt x="77" y="10"/>
                        </a:cubicBezTo>
                        <a:cubicBezTo>
                          <a:pt x="85" y="9"/>
                          <a:pt x="84" y="4"/>
                          <a:pt x="92" y="3"/>
                        </a:cubicBezTo>
                        <a:cubicBezTo>
                          <a:pt x="101" y="4"/>
                          <a:pt x="99" y="8"/>
                          <a:pt x="107" y="10"/>
                        </a:cubicBezTo>
                        <a:cubicBezTo>
                          <a:pt x="112" y="6"/>
                          <a:pt x="115" y="4"/>
                          <a:pt x="122" y="3"/>
                        </a:cubicBezTo>
                        <a:cubicBezTo>
                          <a:pt x="131" y="4"/>
                          <a:pt x="132" y="4"/>
                          <a:pt x="138" y="1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 flipH="1" flipV="1">
                    <a:off x="2283480" y="1749600"/>
                    <a:ext cx="2638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4">
                        <a:moveTo>
                          <a:pt x="0" y="10"/>
                        </a:moveTo>
                        <a:cubicBezTo>
                          <a:pt x="2" y="2"/>
                          <a:pt x="3" y="0"/>
                          <a:pt x="11" y="3"/>
                        </a:cubicBezTo>
                        <a:cubicBezTo>
                          <a:pt x="15" y="8"/>
                          <a:pt x="16" y="10"/>
                          <a:pt x="23" y="9"/>
                        </a:cubicBezTo>
                        <a:cubicBezTo>
                          <a:pt x="27" y="2"/>
                          <a:pt x="30" y="3"/>
                          <a:pt x="38" y="4"/>
                        </a:cubicBezTo>
                        <a:cubicBezTo>
                          <a:pt x="44" y="14"/>
                          <a:pt x="53" y="5"/>
                          <a:pt x="62" y="3"/>
                        </a:cubicBezTo>
                        <a:cubicBezTo>
                          <a:pt x="70" y="4"/>
                          <a:pt x="69" y="9"/>
                          <a:pt x="77" y="10"/>
                        </a:cubicBezTo>
                        <a:cubicBezTo>
                          <a:pt x="85" y="9"/>
                          <a:pt x="84" y="4"/>
                          <a:pt x="92" y="3"/>
                        </a:cubicBezTo>
                        <a:cubicBezTo>
                          <a:pt x="101" y="4"/>
                          <a:pt x="99" y="8"/>
                          <a:pt x="107" y="10"/>
                        </a:cubicBezTo>
                        <a:cubicBezTo>
                          <a:pt x="112" y="6"/>
                          <a:pt x="115" y="4"/>
                          <a:pt x="122" y="3"/>
                        </a:cubicBezTo>
                        <a:cubicBezTo>
                          <a:pt x="131" y="4"/>
                          <a:pt x="132" y="4"/>
                          <a:pt x="138" y="1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2283840" y="167364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2547720" y="167364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2283840" y="167364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H="1">
                    <a:off x="2283480" y="1673640"/>
                    <a:ext cx="263880" cy="1522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0" name=""/>
                <p:cNvSpPr/>
                <p:nvPr/>
              </p:nvSpPr>
              <p:spPr>
                <a:xfrm flipH="1">
                  <a:off x="2195640" y="1673640"/>
                  <a:ext cx="87840" cy="15228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0" y="0"/>
                      </a:moveTo>
                      <a:cubicBezTo>
                        <a:pt x="24" y="16"/>
                        <a:pt x="48" y="32"/>
                        <a:pt x="48" y="48"/>
                      </a:cubicBezTo>
                      <a:cubicBezTo>
                        <a:pt x="48" y="64"/>
                        <a:pt x="24" y="80"/>
                        <a:pt x="0" y="96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41" name=""/>
            <p:cNvSpPr/>
            <p:nvPr/>
          </p:nvSpPr>
          <p:spPr>
            <a:xfrm flipV="1">
              <a:off x="2500200" y="1597320"/>
              <a:ext cx="304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424240" y="17496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424240" y="1749600"/>
              <a:ext cx="5331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2754000" y="1597320"/>
              <a:ext cx="355680" cy="304920"/>
            </a:xfrm>
            <a:custGeom>
              <a:avLst/>
              <a:gdLst/>
              <a:ahLst/>
              <a:rect l="l" t="t" r="r" b="b"/>
              <a:pathLst>
                <a:path w="224" h="192">
                  <a:moveTo>
                    <a:pt x="192" y="0"/>
                  </a:moveTo>
                  <a:cubicBezTo>
                    <a:pt x="208" y="16"/>
                    <a:pt x="224" y="32"/>
                    <a:pt x="192" y="48"/>
                  </a:cubicBezTo>
                  <a:cubicBezTo>
                    <a:pt x="160" y="64"/>
                    <a:pt x="0" y="80"/>
                    <a:pt x="0" y="96"/>
                  </a:cubicBezTo>
                  <a:cubicBezTo>
                    <a:pt x="0" y="112"/>
                    <a:pt x="176" y="128"/>
                    <a:pt x="192" y="144"/>
                  </a:cubicBezTo>
                  <a:cubicBezTo>
                    <a:pt x="208" y="160"/>
                    <a:pt x="152" y="176"/>
                    <a:pt x="96" y="192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5" name=""/>
          <p:cNvSpPr/>
          <p:nvPr/>
        </p:nvSpPr>
        <p:spPr>
          <a:xfrm>
            <a:off x="1042920" y="1736640"/>
            <a:ext cx="12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1042920" y="173664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538200" y="2529000"/>
            <a:ext cx="10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826920" y="267336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042920" y="267336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1042920" y="317808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2411280" y="180972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2411280" y="2529000"/>
            <a:ext cx="14472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411280" y="28177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52720" y="22446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3328920" y="14684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411280" y="2025720"/>
            <a:ext cx="0" cy="28872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465280" y="19731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176200" y="2476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7199280" y="3103560"/>
            <a:ext cx="1066320" cy="457200"/>
            <a:chOff x="7199280" y="3103560"/>
            <a:chExt cx="1066320" cy="457200"/>
          </a:xfrm>
        </p:grpSpPr>
        <p:grpSp>
          <p:nvGrpSpPr>
            <p:cNvPr id="1560" name=""/>
            <p:cNvGrpSpPr/>
            <p:nvPr/>
          </p:nvGrpSpPr>
          <p:grpSpPr>
            <a:xfrm>
              <a:off x="7199280" y="3103560"/>
              <a:ext cx="1066320" cy="457200"/>
              <a:chOff x="7199280" y="3103560"/>
              <a:chExt cx="1066320" cy="457200"/>
            </a:xfrm>
          </p:grpSpPr>
          <p:sp>
            <p:nvSpPr>
              <p:cNvPr id="1561" name=""/>
              <p:cNvSpPr/>
              <p:nvPr/>
            </p:nvSpPr>
            <p:spPr>
              <a:xfrm flipH="1">
                <a:off x="7503120" y="3103560"/>
                <a:ext cx="7621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2" name=""/>
              <p:cNvGrpSpPr/>
              <p:nvPr/>
            </p:nvGrpSpPr>
            <p:grpSpPr>
              <a:xfrm>
                <a:off x="7199280" y="3179880"/>
                <a:ext cx="352080" cy="304920"/>
                <a:chOff x="7199280" y="3179880"/>
                <a:chExt cx="352080" cy="304920"/>
              </a:xfrm>
            </p:grpSpPr>
            <p:grpSp>
              <p:nvGrpSpPr>
                <p:cNvPr id="1563" name=""/>
                <p:cNvGrpSpPr/>
                <p:nvPr/>
              </p:nvGrpSpPr>
              <p:grpSpPr>
                <a:xfrm>
                  <a:off x="7287480" y="3179880"/>
                  <a:ext cx="263880" cy="304920"/>
                  <a:chOff x="7287480" y="3179880"/>
                  <a:chExt cx="263880" cy="304920"/>
                </a:xfrm>
              </p:grpSpPr>
              <p:sp>
                <p:nvSpPr>
                  <p:cNvPr id="1564" name=""/>
                  <p:cNvSpPr/>
                  <p:nvPr/>
                </p:nvSpPr>
                <p:spPr>
                  <a:xfrm flipH="1">
                    <a:off x="7287120" y="3179880"/>
                    <a:ext cx="26388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4">
                        <a:moveTo>
                          <a:pt x="0" y="10"/>
                        </a:moveTo>
                        <a:cubicBezTo>
                          <a:pt x="2" y="2"/>
                          <a:pt x="3" y="0"/>
                          <a:pt x="11" y="3"/>
                        </a:cubicBezTo>
                        <a:cubicBezTo>
                          <a:pt x="15" y="8"/>
                          <a:pt x="16" y="10"/>
                          <a:pt x="23" y="9"/>
                        </a:cubicBezTo>
                        <a:cubicBezTo>
                          <a:pt x="27" y="2"/>
                          <a:pt x="30" y="3"/>
                          <a:pt x="38" y="4"/>
                        </a:cubicBezTo>
                        <a:cubicBezTo>
                          <a:pt x="44" y="14"/>
                          <a:pt x="53" y="5"/>
                          <a:pt x="62" y="3"/>
                        </a:cubicBezTo>
                        <a:cubicBezTo>
                          <a:pt x="70" y="4"/>
                          <a:pt x="69" y="9"/>
                          <a:pt x="77" y="10"/>
                        </a:cubicBezTo>
                        <a:cubicBezTo>
                          <a:pt x="85" y="9"/>
                          <a:pt x="84" y="4"/>
                          <a:pt x="92" y="3"/>
                        </a:cubicBezTo>
                        <a:cubicBezTo>
                          <a:pt x="101" y="4"/>
                          <a:pt x="99" y="8"/>
                          <a:pt x="107" y="10"/>
                        </a:cubicBezTo>
                        <a:cubicBezTo>
                          <a:pt x="112" y="6"/>
                          <a:pt x="115" y="4"/>
                          <a:pt x="122" y="3"/>
                        </a:cubicBezTo>
                        <a:cubicBezTo>
                          <a:pt x="131" y="4"/>
                          <a:pt x="132" y="4"/>
                          <a:pt x="138" y="1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 flipV="1">
                    <a:off x="7287120" y="3332160"/>
                    <a:ext cx="26388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4">
                        <a:moveTo>
                          <a:pt x="0" y="10"/>
                        </a:moveTo>
                        <a:cubicBezTo>
                          <a:pt x="2" y="2"/>
                          <a:pt x="3" y="0"/>
                          <a:pt x="11" y="3"/>
                        </a:cubicBezTo>
                        <a:cubicBezTo>
                          <a:pt x="15" y="8"/>
                          <a:pt x="16" y="10"/>
                          <a:pt x="23" y="9"/>
                        </a:cubicBezTo>
                        <a:cubicBezTo>
                          <a:pt x="27" y="2"/>
                          <a:pt x="30" y="3"/>
                          <a:pt x="38" y="4"/>
                        </a:cubicBezTo>
                        <a:cubicBezTo>
                          <a:pt x="44" y="14"/>
                          <a:pt x="53" y="5"/>
                          <a:pt x="62" y="3"/>
                        </a:cubicBezTo>
                        <a:cubicBezTo>
                          <a:pt x="70" y="4"/>
                          <a:pt x="69" y="9"/>
                          <a:pt x="77" y="10"/>
                        </a:cubicBezTo>
                        <a:cubicBezTo>
                          <a:pt x="85" y="9"/>
                          <a:pt x="84" y="4"/>
                          <a:pt x="92" y="3"/>
                        </a:cubicBezTo>
                        <a:cubicBezTo>
                          <a:pt x="101" y="4"/>
                          <a:pt x="99" y="8"/>
                          <a:pt x="107" y="10"/>
                        </a:cubicBezTo>
                        <a:cubicBezTo>
                          <a:pt x="112" y="6"/>
                          <a:pt x="115" y="4"/>
                          <a:pt x="122" y="3"/>
                        </a:cubicBezTo>
                        <a:cubicBezTo>
                          <a:pt x="131" y="4"/>
                          <a:pt x="132" y="4"/>
                          <a:pt x="138" y="1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7287480" y="325620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7551360" y="325620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7287480" y="32562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H="1">
                    <a:off x="7287120" y="3256200"/>
                    <a:ext cx="263880" cy="1522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0" name=""/>
                <p:cNvSpPr/>
                <p:nvPr/>
              </p:nvSpPr>
              <p:spPr>
                <a:xfrm flipH="1">
                  <a:off x="7199280" y="3256200"/>
                  <a:ext cx="87840" cy="15228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0" y="0"/>
                      </a:moveTo>
                      <a:cubicBezTo>
                        <a:pt x="24" y="16"/>
                        <a:pt x="48" y="32"/>
                        <a:pt x="48" y="48"/>
                      </a:cubicBezTo>
                      <a:cubicBezTo>
                        <a:pt x="48" y="64"/>
                        <a:pt x="24" y="80"/>
                        <a:pt x="0" y="96"/>
                      </a:cubicBez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1" name=""/>
            <p:cNvSpPr/>
            <p:nvPr/>
          </p:nvSpPr>
          <p:spPr>
            <a:xfrm flipV="1">
              <a:off x="7503840" y="3179880"/>
              <a:ext cx="304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427880" y="3332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427880" y="3332160"/>
              <a:ext cx="5331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7757640" y="3179880"/>
              <a:ext cx="355680" cy="304920"/>
            </a:xfrm>
            <a:custGeom>
              <a:avLst/>
              <a:gdLst/>
              <a:ahLst/>
              <a:rect l="l" t="t" r="r" b="b"/>
              <a:pathLst>
                <a:path w="224" h="192">
                  <a:moveTo>
                    <a:pt x="192" y="0"/>
                  </a:moveTo>
                  <a:cubicBezTo>
                    <a:pt x="208" y="16"/>
                    <a:pt x="224" y="32"/>
                    <a:pt x="192" y="48"/>
                  </a:cubicBezTo>
                  <a:cubicBezTo>
                    <a:pt x="160" y="64"/>
                    <a:pt x="0" y="80"/>
                    <a:pt x="0" y="96"/>
                  </a:cubicBezTo>
                  <a:cubicBezTo>
                    <a:pt x="0" y="112"/>
                    <a:pt x="176" y="128"/>
                    <a:pt x="192" y="144"/>
                  </a:cubicBezTo>
                  <a:cubicBezTo>
                    <a:pt x="208" y="160"/>
                    <a:pt x="152" y="176"/>
                    <a:pt x="96" y="192"/>
                  </a:cubicBez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5796000" y="1555920"/>
            <a:ext cx="165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796000" y="15559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291280" y="2492280"/>
            <a:ext cx="10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580000" y="2600280"/>
            <a:ext cx="43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796000" y="26370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796000" y="3355920"/>
            <a:ext cx="14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7451640" y="1555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005440" y="2100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8101080" y="25336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524720" y="19922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265800" y="19573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6480000" y="2708640"/>
            <a:ext cx="152640" cy="380520"/>
            <a:chOff x="6480000" y="2708640"/>
            <a:chExt cx="152640" cy="380520"/>
          </a:xfrm>
        </p:grpSpPr>
        <p:sp>
          <p:nvSpPr>
            <p:cNvPr id="1587" name=""/>
            <p:cNvSpPr/>
            <p:nvPr/>
          </p:nvSpPr>
          <p:spPr>
            <a:xfrm flipV="1">
              <a:off x="6556320" y="3047040"/>
              <a:ext cx="0" cy="4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flipV="1">
              <a:off x="6480000" y="3004920"/>
              <a:ext cx="76320" cy="4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6480000" y="2962440"/>
              <a:ext cx="152640" cy="4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6480000" y="2920320"/>
              <a:ext cx="152640" cy="4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6480000" y="2877840"/>
              <a:ext cx="152640" cy="4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 flipV="1">
              <a:off x="6480000" y="2835720"/>
              <a:ext cx="152640" cy="4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6480000" y="2793240"/>
              <a:ext cx="152640" cy="4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6556320" y="2750760"/>
              <a:ext cx="76320" cy="4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6556320" y="2708640"/>
              <a:ext cx="0" cy="4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 flipH="1" flipV="1">
            <a:off x="7306920" y="1955520"/>
            <a:ext cx="144360" cy="68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7307280" y="17366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 flipH="1">
            <a:off x="7306920" y="1700280"/>
            <a:ext cx="144360" cy="1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6551640" y="3103200"/>
            <a:ext cx="0" cy="252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6551640" y="1879560"/>
            <a:ext cx="0" cy="250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6551280" y="2060640"/>
            <a:ext cx="14436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551640" y="23479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7633080" y="141300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6229440" y="15606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0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5959440" y="3665160"/>
            <a:ext cx="0" cy="18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5959440" y="5465880"/>
            <a:ext cx="215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 flipV="1">
            <a:off x="5959440" y="4313160"/>
            <a:ext cx="0" cy="1152720"/>
          </a:xfrm>
          <a:prstGeom prst="line">
            <a:avLst/>
          </a:prstGeom>
          <a:ln w="38160">
            <a:solidFill>
              <a:srgbClr val="f0005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5959440" y="4313160"/>
            <a:ext cx="1727280" cy="0"/>
          </a:xfrm>
          <a:prstGeom prst="line">
            <a:avLst/>
          </a:prstGeom>
          <a:ln w="38160">
            <a:solidFill>
              <a:srgbClr val="f0005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7674840" y="4044960"/>
            <a:ext cx="125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40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5456160" y="4102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5607000" y="345456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7898760" y="548496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886360" y="4600440"/>
            <a:ext cx="144720" cy="14472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5456160" y="4462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6804360" y="57736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 (OF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466560" y="3895560"/>
            <a:ext cx="3816360" cy="1372680"/>
          </a:xfrm>
          <a:prstGeom prst="rect">
            <a:avLst/>
          </a:prstGeom>
          <a:solidFill>
            <a:srgbClr val="8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</a:rPr>
              <a:t>Al igual que antes, sustituimos el interruptor principal por un transist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99"/>
                </a:solidFill>
                <a:latin typeface="Arial"/>
              </a:rPr>
              <a:t>La corriente de base (ahora circula al reves) debe ser suficiente para asegurar la zona de satu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5940360" y="5479920"/>
            <a:ext cx="1727280" cy="0"/>
          </a:xfrm>
          <a:prstGeom prst="line">
            <a:avLst/>
          </a:prstGeom>
          <a:ln w="38160">
            <a:solidFill>
              <a:srgbClr val="333399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7164360" y="5408640"/>
            <a:ext cx="144360" cy="14436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7021800" y="55562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084720" y="4616280"/>
            <a:ext cx="1151280" cy="719280"/>
          </a:xfrm>
          <a:custGeom>
            <a:avLst/>
            <a:gdLst/>
            <a:ahLst/>
            <a:rect l="l" t="t" r="r" b="b"/>
            <a:pathLst>
              <a:path w="725" h="453">
                <a:moveTo>
                  <a:pt x="725" y="453"/>
                </a:moveTo>
                <a:cubicBezTo>
                  <a:pt x="672" y="309"/>
                  <a:pt x="619" y="165"/>
                  <a:pt x="498" y="90"/>
                </a:cubicBezTo>
                <a:cubicBezTo>
                  <a:pt x="377" y="15"/>
                  <a:pt x="188" y="7"/>
                  <a:pt x="0" y="0"/>
                </a:cubicBezTo>
              </a:path>
            </a:pathLst>
          </a:custGeom>
          <a:noFill/>
          <a:ln w="12600">
            <a:solidFill>
              <a:srgbClr val="f0005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rot="10800000">
            <a:off x="6084720" y="4687920"/>
            <a:ext cx="935280" cy="719280"/>
          </a:xfrm>
          <a:custGeom>
            <a:avLst/>
            <a:gdLst/>
            <a:ahLst/>
            <a:rect l="l" t="t" r="r" b="b"/>
            <a:pathLst>
              <a:path w="725" h="453">
                <a:moveTo>
                  <a:pt x="725" y="453"/>
                </a:moveTo>
                <a:cubicBezTo>
                  <a:pt x="672" y="309"/>
                  <a:pt x="619" y="165"/>
                  <a:pt x="498" y="90"/>
                </a:cubicBezTo>
                <a:cubicBezTo>
                  <a:pt x="377" y="15"/>
                  <a:pt x="188" y="7"/>
                  <a:pt x="0" y="0"/>
                </a:cubicBezTo>
              </a:path>
            </a:pathLst>
          </a:custGeom>
          <a:noFill/>
          <a:ln w="1260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4573080" y="44766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 (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6858000" y="44197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0050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6280920" y="492444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7451640" y="2023920"/>
            <a:ext cx="0" cy="126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7451640" y="2203560"/>
            <a:ext cx="0" cy="28872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6551640" y="1879560"/>
            <a:ext cx="75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6911640" y="1879560"/>
            <a:ext cx="289080" cy="0"/>
          </a:xfrm>
          <a:prstGeom prst="line">
            <a:avLst/>
          </a:prstGeom>
          <a:ln w="5724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0" name=""/>
          <p:cNvGrpSpPr/>
          <p:nvPr/>
        </p:nvGrpSpPr>
        <p:grpSpPr>
          <a:xfrm>
            <a:off x="920880" y="2027160"/>
            <a:ext cx="2251080" cy="3377880"/>
            <a:chOff x="920880" y="2027160"/>
            <a:chExt cx="2251080" cy="3377880"/>
          </a:xfrm>
        </p:grpSpPr>
        <p:graphicFrame>
          <p:nvGraphicFramePr>
            <p:cNvPr id="1631" name=""/>
            <p:cNvGraphicFramePr/>
            <p:nvPr/>
          </p:nvGraphicFramePr>
          <p:xfrm>
            <a:off x="920880" y="2027160"/>
            <a:ext cx="2251080" cy="2519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20880" y="2027160"/>
                      <a:ext cx="2251080" cy="25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3" name=""/>
            <p:cNvSpPr/>
            <p:nvPr/>
          </p:nvSpPr>
          <p:spPr>
            <a:xfrm>
              <a:off x="920880" y="4762440"/>
              <a:ext cx="210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cc"/>
                  </a:solidFill>
                  <a:latin typeface="Arial"/>
                </a:rPr>
                <a:t>Caracter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66cc"/>
                  </a:solidFill>
                  <a:latin typeface="Arial"/>
                </a:rPr>
                <a:t>de Ent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4" name=""/>
          <p:cNvGrpSpPr/>
          <p:nvPr/>
        </p:nvGrpSpPr>
        <p:grpSpPr>
          <a:xfrm>
            <a:off x="3800520" y="1666800"/>
            <a:ext cx="5472000" cy="4248000"/>
            <a:chOff x="3800520" y="1666800"/>
            <a:chExt cx="5472000" cy="4248000"/>
          </a:xfrm>
        </p:grpSpPr>
        <p:graphicFrame>
          <p:nvGraphicFramePr>
            <p:cNvPr id="1635" name=""/>
            <p:cNvGraphicFramePr/>
            <p:nvPr/>
          </p:nvGraphicFramePr>
          <p:xfrm>
            <a:off x="3800520" y="1666800"/>
            <a:ext cx="5472000" cy="362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0520" y="1666800"/>
                      <a:ext cx="5472000" cy="36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7" name=""/>
            <p:cNvSpPr/>
            <p:nvPr/>
          </p:nvSpPr>
          <p:spPr>
            <a:xfrm>
              <a:off x="5712120" y="5272200"/>
              <a:ext cx="168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cc"/>
                  </a:solidFill>
                  <a:latin typeface="Arial"/>
                </a:rPr>
                <a:t>Caracter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66cc"/>
                  </a:solidFill>
                  <a:latin typeface="Arial"/>
                </a:rPr>
                <a:t>de 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8" name=""/>
          <p:cNvSpPr/>
          <p:nvPr/>
        </p:nvSpPr>
        <p:spPr>
          <a:xfrm>
            <a:off x="611280" y="1195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ísticas reales (NP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2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5892840" y="2847960"/>
            <a:ext cx="2171520" cy="2028960"/>
          </a:xfrm>
          <a:custGeom>
            <a:avLst/>
            <a:gdLst/>
            <a:ahLst/>
            <a:rect l="l" t="t" r="r" b="b"/>
            <a:pathLst>
              <a:path w="1368" h="1278">
                <a:moveTo>
                  <a:pt x="726" y="0"/>
                </a:moveTo>
                <a:lnTo>
                  <a:pt x="6" y="0"/>
                </a:lnTo>
                <a:lnTo>
                  <a:pt x="0" y="1278"/>
                </a:lnTo>
                <a:lnTo>
                  <a:pt x="1362" y="1260"/>
                </a:lnTo>
                <a:lnTo>
                  <a:pt x="1368" y="630"/>
                </a:lnTo>
                <a:lnTo>
                  <a:pt x="1182" y="630"/>
                </a:lnTo>
                <a:lnTo>
                  <a:pt x="1080" y="630"/>
                </a:lnTo>
                <a:lnTo>
                  <a:pt x="936" y="588"/>
                </a:lnTo>
                <a:lnTo>
                  <a:pt x="816" y="498"/>
                </a:lnTo>
                <a:lnTo>
                  <a:pt x="774" y="384"/>
                </a:lnTo>
                <a:lnTo>
                  <a:pt x="744" y="270"/>
                </a:lnTo>
                <a:lnTo>
                  <a:pt x="726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45960" y="2332080"/>
            <a:ext cx="4946400" cy="2482560"/>
          </a:xfrm>
          <a:prstGeom prst="rect">
            <a:avLst/>
          </a:prstGeom>
          <a:solidFill>
            <a:srgbClr val="8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C-MAX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orriente máxima de co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CE-MAX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ensión máxima 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MAX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tencia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CE-SAT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ensión C.E. de satu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s-ES_tradnl" sz="1800" spc="-1" strike="noStrike" baseline="-25000">
                <a:solidFill>
                  <a:srgbClr val="333399"/>
                </a:solidFill>
                <a:latin typeface="Arial"/>
              </a:rPr>
              <a:t>FE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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a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 flipV="1">
            <a:off x="5904000" y="206028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5904000" y="4869000"/>
            <a:ext cx="266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5904000" y="2852640"/>
            <a:ext cx="1152360" cy="0"/>
          </a:xfrm>
          <a:prstGeom prst="line">
            <a:avLst/>
          </a:prstGeom>
          <a:ln w="28440">
            <a:solidFill>
              <a:srgbClr val="f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064360" y="3860640"/>
            <a:ext cx="0" cy="1008360"/>
          </a:xfrm>
          <a:prstGeom prst="line">
            <a:avLst/>
          </a:prstGeom>
          <a:ln w="28440">
            <a:solidFill>
              <a:srgbClr val="f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7056360" y="2852640"/>
            <a:ext cx="1008000" cy="1008000"/>
          </a:xfrm>
          <a:custGeom>
            <a:avLst/>
            <a:gdLst/>
            <a:ahLst/>
            <a:rect l="l" t="t" r="r" b="b"/>
            <a:pathLst>
              <a:path w="680" h="650">
                <a:moveTo>
                  <a:pt x="0" y="0"/>
                </a:moveTo>
                <a:cubicBezTo>
                  <a:pt x="11" y="219"/>
                  <a:pt x="23" y="438"/>
                  <a:pt x="136" y="544"/>
                </a:cubicBezTo>
                <a:cubicBezTo>
                  <a:pt x="249" y="650"/>
                  <a:pt x="464" y="642"/>
                  <a:pt x="680" y="635"/>
                </a:cubicBezTo>
              </a:path>
            </a:pathLst>
          </a:custGeom>
          <a:noFill/>
          <a:ln w="28440">
            <a:solidFill>
              <a:srgbClr val="f00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6273360" y="2440080"/>
            <a:ext cx="62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224480" y="325116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8123760" y="4116240"/>
            <a:ext cx="84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E-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266880" y="37958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5310720" y="5176800"/>
            <a:ext cx="29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00050"/>
                </a:solidFill>
                <a:latin typeface="Arial"/>
              </a:rPr>
              <a:t>Área de operación se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0005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Safety Operation Area</a:t>
            </a:r>
            <a:r>
              <a:rPr b="1" lang="es-ES" sz="1800" spc="-1" strike="noStrike">
                <a:solidFill>
                  <a:srgbClr val="f0005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V="1">
            <a:off x="5977080" y="4508640"/>
            <a:ext cx="502920" cy="720720"/>
          </a:xfrm>
          <a:prstGeom prst="line">
            <a:avLst/>
          </a:prstGeom>
          <a:ln w="38160">
            <a:solidFill>
              <a:srgbClr val="f00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5865840" y="171288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8465400" y="4876920"/>
            <a:ext cx="517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7310520" y="1881360"/>
            <a:ext cx="896760" cy="1333440"/>
            <a:chOff x="7310520" y="1881360"/>
            <a:chExt cx="896760" cy="1333440"/>
          </a:xfrm>
        </p:grpSpPr>
        <p:grpSp>
          <p:nvGrpSpPr>
            <p:cNvPr id="1656" name=""/>
            <p:cNvGrpSpPr/>
            <p:nvPr/>
          </p:nvGrpSpPr>
          <p:grpSpPr>
            <a:xfrm>
              <a:off x="7632720" y="2224080"/>
              <a:ext cx="360000" cy="646920"/>
              <a:chOff x="7632720" y="2224080"/>
              <a:chExt cx="360000" cy="646920"/>
            </a:xfrm>
          </p:grpSpPr>
          <p:sp>
            <p:nvSpPr>
              <p:cNvPr id="1657" name=""/>
              <p:cNvSpPr/>
              <p:nvPr/>
            </p:nvSpPr>
            <p:spPr>
              <a:xfrm>
                <a:off x="7992720" y="222408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>
                <a:off x="7752240" y="2332080"/>
                <a:ext cx="24048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752240" y="2332080"/>
                <a:ext cx="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752240" y="2655720"/>
                <a:ext cx="24048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992720" y="2763720"/>
                <a:ext cx="0" cy="10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>
                <a:off x="7632720" y="2547720"/>
                <a:ext cx="11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3" name=""/>
            <p:cNvSpPr/>
            <p:nvPr/>
          </p:nvSpPr>
          <p:spPr>
            <a:xfrm>
              <a:off x="7850520" y="1881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874280" y="2846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310520" y="2371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6" name=""/>
          <p:cNvSpPr/>
          <p:nvPr/>
        </p:nvSpPr>
        <p:spPr>
          <a:xfrm>
            <a:off x="611280" y="1195560"/>
            <a:ext cx="83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ísticas reales: datos proporcionados por los fabric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aracterísticas eléctricas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8" name="" descr=""/>
          <p:cNvPicPr/>
          <p:nvPr/>
        </p:nvPicPr>
        <p:blipFill>
          <a:blip r:embed="rId1"/>
          <a:stretch/>
        </p:blipFill>
        <p:spPr>
          <a:xfrm>
            <a:off x="3189240" y="3753000"/>
            <a:ext cx="2814840" cy="479160"/>
          </a:xfrm>
          <a:prstGeom prst="rect">
            <a:avLst/>
          </a:prstGeom>
          <a:ln w="0">
            <a:noFill/>
          </a:ln>
        </p:spPr>
      </p:pic>
      <p:pic>
        <p:nvPicPr>
          <p:cNvPr id="1669" name="" descr=""/>
          <p:cNvPicPr/>
          <p:nvPr/>
        </p:nvPicPr>
        <p:blipFill>
          <a:blip r:embed="rId2"/>
          <a:stretch/>
        </p:blipFill>
        <p:spPr>
          <a:xfrm>
            <a:off x="7308720" y="3789360"/>
            <a:ext cx="1546200" cy="1028880"/>
          </a:xfrm>
          <a:prstGeom prst="rect">
            <a:avLst/>
          </a:prstGeom>
          <a:ln w="0">
            <a:noFill/>
          </a:ln>
        </p:spPr>
      </p:pic>
      <p:pic>
        <p:nvPicPr>
          <p:cNvPr id="1670" name="" descr=""/>
          <p:cNvPicPr/>
          <p:nvPr/>
        </p:nvPicPr>
        <p:blipFill>
          <a:blip r:embed="rId3"/>
          <a:stretch/>
        </p:blipFill>
        <p:spPr>
          <a:xfrm>
            <a:off x="7201080" y="5013360"/>
            <a:ext cx="1439640" cy="860400"/>
          </a:xfrm>
          <a:prstGeom prst="rect">
            <a:avLst/>
          </a:prstGeom>
          <a:ln w="0">
            <a:noFill/>
          </a:ln>
        </p:spPr>
      </p:pic>
      <p:pic>
        <p:nvPicPr>
          <p:cNvPr id="1671" name="" descr=""/>
          <p:cNvPicPr/>
          <p:nvPr/>
        </p:nvPicPr>
        <p:blipFill>
          <a:blip r:embed="rId4"/>
          <a:stretch/>
        </p:blipFill>
        <p:spPr>
          <a:xfrm>
            <a:off x="287280" y="2023920"/>
            <a:ext cx="3483000" cy="487440"/>
          </a:xfrm>
          <a:prstGeom prst="rect">
            <a:avLst/>
          </a:prstGeom>
          <a:ln w="0">
            <a:noFill/>
          </a:ln>
        </p:spPr>
      </p:pic>
      <p:pic>
        <p:nvPicPr>
          <p:cNvPr id="1672" name="" descr=""/>
          <p:cNvPicPr/>
          <p:nvPr/>
        </p:nvPicPr>
        <p:blipFill>
          <a:blip r:embed="rId5"/>
          <a:stretch/>
        </p:blipFill>
        <p:spPr>
          <a:xfrm>
            <a:off x="1465200" y="2546280"/>
            <a:ext cx="960480" cy="236520"/>
          </a:xfrm>
          <a:prstGeom prst="rect">
            <a:avLst/>
          </a:prstGeom>
          <a:ln w="0">
            <a:noFill/>
          </a:ln>
        </p:spPr>
      </p:pic>
      <p:pic>
        <p:nvPicPr>
          <p:cNvPr id="1673" name="" descr=""/>
          <p:cNvPicPr/>
          <p:nvPr/>
        </p:nvPicPr>
        <p:blipFill>
          <a:blip r:embed="rId6"/>
          <a:stretch/>
        </p:blipFill>
        <p:spPr>
          <a:xfrm>
            <a:off x="776160" y="2889360"/>
            <a:ext cx="1862280" cy="163332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>
            <a:off x="1044000" y="4694400"/>
            <a:ext cx="128556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1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F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5" name="" descr=""/>
          <p:cNvPicPr/>
          <p:nvPr/>
        </p:nvPicPr>
        <p:blipFill>
          <a:blip r:embed="rId7"/>
          <a:stretch/>
        </p:blipFill>
        <p:spPr>
          <a:xfrm>
            <a:off x="3224160" y="4473720"/>
            <a:ext cx="1303560" cy="1257120"/>
          </a:xfrm>
          <a:prstGeom prst="rect">
            <a:avLst/>
          </a:prstGeom>
          <a:ln w="0">
            <a:noFill/>
          </a:ln>
        </p:spPr>
      </p:pic>
      <p:pic>
        <p:nvPicPr>
          <p:cNvPr id="1676" name="" descr=""/>
          <p:cNvPicPr/>
          <p:nvPr/>
        </p:nvPicPr>
        <p:blipFill>
          <a:blip r:embed="rId8"/>
          <a:stretch/>
        </p:blipFill>
        <p:spPr>
          <a:xfrm>
            <a:off x="3100320" y="5904000"/>
            <a:ext cx="156204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7" name=""/>
          <p:cNvGraphicFramePr/>
          <p:nvPr/>
        </p:nvGraphicFramePr>
        <p:xfrm>
          <a:off x="5219640" y="4473720"/>
          <a:ext cx="1322280" cy="48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4473720"/>
                    <a:ext cx="132228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9" name="" descr=""/>
          <p:cNvPicPr/>
          <p:nvPr/>
        </p:nvPicPr>
        <p:blipFill>
          <a:blip r:embed="rId11"/>
          <a:stretch/>
        </p:blipFill>
        <p:spPr>
          <a:xfrm>
            <a:off x="4976640" y="5184720"/>
            <a:ext cx="1828800" cy="993960"/>
          </a:xfrm>
          <a:prstGeom prst="rect">
            <a:avLst/>
          </a:prstGeom>
          <a:ln w="0">
            <a:noFill/>
          </a:ln>
        </p:spPr>
      </p:pic>
      <p:pic>
        <p:nvPicPr>
          <p:cNvPr id="1680" name="" descr=""/>
          <p:cNvPicPr/>
          <p:nvPr/>
        </p:nvPicPr>
        <p:blipFill>
          <a:blip r:embed="rId12"/>
          <a:stretch/>
        </p:blipFill>
        <p:spPr>
          <a:xfrm>
            <a:off x="5616720" y="1160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El foto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1800360" y="2021040"/>
            <a:ext cx="934920" cy="115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250920" y="1197000"/>
            <a:ext cx="85341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a luz (fotones de una cierta longitud de onda) al incidir en la zona de base desempeñan el papel de corriente de 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395280" y="1947960"/>
            <a:ext cx="735120" cy="1655640"/>
          </a:xfrm>
          <a:prstGeom prst="rect">
            <a:avLst/>
          </a:prstGeom>
          <a:ln w="0">
            <a:noFill/>
          </a:ln>
        </p:spPr>
      </p:pic>
      <p:pic>
        <p:nvPicPr>
          <p:cNvPr id="1685" name="" descr=""/>
          <p:cNvPicPr/>
          <p:nvPr/>
        </p:nvPicPr>
        <p:blipFill>
          <a:blip r:embed="rId2"/>
          <a:stretch/>
        </p:blipFill>
        <p:spPr>
          <a:xfrm>
            <a:off x="324000" y="3968640"/>
            <a:ext cx="151128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686" name=""/>
          <p:cNvGrpSpPr/>
          <p:nvPr/>
        </p:nvGrpSpPr>
        <p:grpSpPr>
          <a:xfrm>
            <a:off x="1835280" y="2025720"/>
            <a:ext cx="778680" cy="1233360"/>
            <a:chOff x="1835280" y="2025720"/>
            <a:chExt cx="778680" cy="1233360"/>
          </a:xfrm>
        </p:grpSpPr>
        <p:grpSp>
          <p:nvGrpSpPr>
            <p:cNvPr id="1687" name=""/>
            <p:cNvGrpSpPr/>
            <p:nvPr/>
          </p:nvGrpSpPr>
          <p:grpSpPr>
            <a:xfrm>
              <a:off x="2050920" y="2309760"/>
              <a:ext cx="359640" cy="646920"/>
              <a:chOff x="2050920" y="2309760"/>
              <a:chExt cx="359640" cy="646920"/>
            </a:xfrm>
          </p:grpSpPr>
          <p:sp>
            <p:nvSpPr>
              <p:cNvPr id="1688" name=""/>
              <p:cNvSpPr/>
              <p:nvPr/>
            </p:nvSpPr>
            <p:spPr>
              <a:xfrm>
                <a:off x="2410560" y="2309760"/>
                <a:ext cx="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2170080" y="2417760"/>
                <a:ext cx="24012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170440" y="2417760"/>
                <a:ext cx="0" cy="43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170440" y="2741400"/>
                <a:ext cx="24012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410560" y="2849400"/>
                <a:ext cx="0" cy="10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2050920" y="2633400"/>
                <a:ext cx="119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2268720" y="2025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68360" y="2890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871640" y="2344680"/>
              <a:ext cx="180360" cy="1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835280" y="2416320"/>
              <a:ext cx="18072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8" name=""/>
          <p:cNvSpPr/>
          <p:nvPr/>
        </p:nvSpPr>
        <p:spPr>
          <a:xfrm>
            <a:off x="3203640" y="2152800"/>
            <a:ext cx="568800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El terminal de Base, puede estar presente o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No confundir con un fotodi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9" name="" descr=""/>
          <p:cNvPicPr/>
          <p:nvPr/>
        </p:nvPicPr>
        <p:blipFill>
          <a:blip r:embed="rId3"/>
          <a:stretch/>
        </p:blipFill>
        <p:spPr>
          <a:xfrm>
            <a:off x="1979640" y="3608280"/>
            <a:ext cx="3421080" cy="2519640"/>
          </a:xfrm>
          <a:prstGeom prst="rect">
            <a:avLst/>
          </a:prstGeom>
          <a:ln w="0">
            <a:noFill/>
          </a:ln>
        </p:spPr>
      </p:pic>
      <p:pic>
        <p:nvPicPr>
          <p:cNvPr id="1700" name="" descr=""/>
          <p:cNvPicPr/>
          <p:nvPr/>
        </p:nvPicPr>
        <p:blipFill>
          <a:blip r:embed="rId4"/>
          <a:stretch/>
        </p:blipFill>
        <p:spPr>
          <a:xfrm>
            <a:off x="5472000" y="3429000"/>
            <a:ext cx="3449880" cy="27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El foto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2" name="" descr=""/>
          <p:cNvPicPr/>
          <p:nvPr/>
        </p:nvPicPr>
        <p:blipFill>
          <a:blip r:embed="rId1"/>
          <a:stretch/>
        </p:blipFill>
        <p:spPr>
          <a:xfrm>
            <a:off x="333360" y="1341360"/>
            <a:ext cx="3767040" cy="4356000"/>
          </a:xfrm>
          <a:prstGeom prst="rect">
            <a:avLst/>
          </a:prstGeom>
          <a:ln w="0">
            <a:noFill/>
          </a:ln>
        </p:spPr>
      </p:pic>
      <p:pic>
        <p:nvPicPr>
          <p:cNvPr id="1703" name="" descr=""/>
          <p:cNvPicPr/>
          <p:nvPr/>
        </p:nvPicPr>
        <p:blipFill>
          <a:blip r:embed="rId2"/>
          <a:stretch/>
        </p:blipFill>
        <p:spPr>
          <a:xfrm>
            <a:off x="4129200" y="1052640"/>
            <a:ext cx="472752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El foto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142920" y="1595520"/>
            <a:ext cx="8893080" cy="3597120"/>
          </a:xfrm>
          <a:prstGeom prst="rect">
            <a:avLst/>
          </a:prstGeom>
          <a:ln w="0">
            <a:noFill/>
          </a:ln>
        </p:spPr>
      </p:pic>
      <p:sp>
        <p:nvSpPr>
          <p:cNvPr id="1706" name=""/>
          <p:cNvSpPr/>
          <p:nvPr/>
        </p:nvSpPr>
        <p:spPr>
          <a:xfrm>
            <a:off x="5973840" y="1739880"/>
            <a:ext cx="277344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ISTINTOS ENCAPSUL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Introducción: tipos de transi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0720" y="1773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IPOL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71320" y="1482840"/>
            <a:ext cx="60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43040" y="3905280"/>
            <a:ext cx="15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FECTO DE CA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4160" y="31496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UN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55920" y="45705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ETAL-OXIDO-SEMICON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23840" y="2844720"/>
            <a:ext cx="204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NAL N  (JFET-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NAL P (JFET-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0600" y="4468680"/>
            <a:ext cx="239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NAL N  (MOSFET-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ANAL P (MOSFET-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899880" y="1378080"/>
            <a:ext cx="245880" cy="1046160"/>
          </a:xfrm>
          <a:custGeom>
            <a:avLst/>
            <a:gdLst>
              <a:gd name="textAreaLeft" fmla="*/ 0 w 245880"/>
              <a:gd name="textAreaRight" fmla="*/ 88920 w 245880"/>
              <a:gd name="textAreaTop" fmla="*/ 27000 h 1046160"/>
              <a:gd name="textAreaBottom" fmla="*/ 1019160 h 10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940920" y="2973240"/>
            <a:ext cx="290520" cy="2570400"/>
          </a:xfrm>
          <a:custGeom>
            <a:avLst/>
            <a:gdLst>
              <a:gd name="textAreaLeft" fmla="*/ 0 w 290520"/>
              <a:gd name="textAreaRight" fmla="*/ 104760 w 290520"/>
              <a:gd name="textAreaTop" fmla="*/ 66960 h 2570400"/>
              <a:gd name="textAreaBottom" fmla="*/ 2503440 h 257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249160" y="2757600"/>
            <a:ext cx="245880" cy="1046160"/>
          </a:xfrm>
          <a:custGeom>
            <a:avLst/>
            <a:gdLst>
              <a:gd name="textAreaLeft" fmla="*/ 0 w 245880"/>
              <a:gd name="textAreaRight" fmla="*/ 88920 w 245880"/>
              <a:gd name="textAreaTop" fmla="*/ 27000 h 1046160"/>
              <a:gd name="textAreaBottom" fmla="*/ 1019160 h 10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265800" y="4368960"/>
            <a:ext cx="246240" cy="1046160"/>
          </a:xfrm>
          <a:custGeom>
            <a:avLst/>
            <a:gdLst>
              <a:gd name="textAreaLeft" fmla="*/ 360 w 246240"/>
              <a:gd name="textAreaRight" fmla="*/ 89280 w 246240"/>
              <a:gd name="textAreaTop" fmla="*/ 27000 h 1046160"/>
              <a:gd name="textAreaBottom" fmla="*/ 1019160 h 10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187720" y="1663560"/>
            <a:ext cx="420480" cy="2919600"/>
          </a:xfrm>
          <a:custGeom>
            <a:avLst/>
            <a:gdLst>
              <a:gd name="textAreaLeft" fmla="*/ 0 w 420480"/>
              <a:gd name="textAreaRight" fmla="*/ 151920 w 420480"/>
              <a:gd name="textAreaTop" fmla="*/ 75960 h 2919600"/>
              <a:gd name="textAreaBottom" fmla="*/ 2843640 h 291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440" y="293364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RANSI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74080" y="5877000"/>
            <a:ext cx="3016800" cy="337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00050"/>
                </a:solidFill>
                <a:latin typeface="Arial"/>
              </a:rPr>
              <a:t>* FET : </a:t>
            </a:r>
            <a:r>
              <a:rPr b="1" lang="en-US" sz="1600" spc="-1" strike="noStrike">
                <a:solidFill>
                  <a:srgbClr val="f00050"/>
                </a:solidFill>
                <a:latin typeface="Arial"/>
              </a:rPr>
              <a:t>Field Effect 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El foto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884160" y="1160640"/>
            <a:ext cx="7345440" cy="500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1676160" y="2349720"/>
            <a:ext cx="290520" cy="647640"/>
            <a:chOff x="1676160" y="2349720"/>
            <a:chExt cx="290520" cy="647640"/>
          </a:xfrm>
        </p:grpSpPr>
        <p:sp>
          <p:nvSpPr>
            <p:cNvPr id="1710" name=""/>
            <p:cNvSpPr/>
            <p:nvPr/>
          </p:nvSpPr>
          <p:spPr>
            <a:xfrm rot="10800000">
              <a:off x="1676160" y="2535480"/>
              <a:ext cx="290520" cy="245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1820880" y="234972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676520" y="278136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3" name=""/>
          <p:cNvSpPr/>
          <p:nvPr/>
        </p:nvSpPr>
        <p:spPr>
          <a:xfrm>
            <a:off x="2720880" y="2276640"/>
            <a:ext cx="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2481120" y="2494080"/>
            <a:ext cx="239760" cy="1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2481120" y="249408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2481120" y="2817720"/>
            <a:ext cx="239760" cy="1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2720880" y="2925720"/>
            <a:ext cx="0" cy="1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282680" y="12733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OACOPL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281240" y="3860640"/>
            <a:ext cx="376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00050"/>
                </a:solidFill>
                <a:uFillTx/>
                <a:latin typeface="Arial"/>
              </a:rPr>
              <a:t>OBJETIV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00050"/>
                </a:solidFill>
                <a:latin typeface="Arial"/>
              </a:rPr>
              <a:t>Proporcionar aislamiento galvánico y protección eléct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00050"/>
                </a:solidFill>
                <a:latin typeface="Arial"/>
              </a:rPr>
              <a:t>Detección de obstácu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2720880" y="2276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2720880" y="303228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H="1">
            <a:off x="1388880" y="29973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 flipH="1">
            <a:off x="1388880" y="234936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073240" y="2600280"/>
            <a:ext cx="28728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2073240" y="2708280"/>
            <a:ext cx="287280" cy="3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568520" y="2097000"/>
            <a:ext cx="1368360" cy="1116000"/>
          </a:xfrm>
          <a:prstGeom prst="rect">
            <a:avLst/>
          </a:prstGeom>
          <a:noFill/>
          <a:ln w="19080">
            <a:solidFill>
              <a:srgbClr val="f00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990000" y="3289320"/>
            <a:ext cx="40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junto fotodiodo + fototransi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8" name="" descr=""/>
          <p:cNvPicPr/>
          <p:nvPr/>
        </p:nvPicPr>
        <p:blipFill>
          <a:blip r:embed="rId1"/>
          <a:stretch/>
        </p:blipFill>
        <p:spPr>
          <a:xfrm>
            <a:off x="5924520" y="1449360"/>
            <a:ext cx="1817640" cy="4645080"/>
          </a:xfrm>
          <a:prstGeom prst="rect">
            <a:avLst/>
          </a:prstGeom>
          <a:ln w="0">
            <a:noFill/>
          </a:ln>
        </p:spPr>
      </p:pic>
      <p:pic>
        <p:nvPicPr>
          <p:cNvPr id="172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48160" y="1952640"/>
            <a:ext cx="96336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95280" y="1282680"/>
            <a:ext cx="8569440" cy="4483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bre el uso del transistor como interruptor se profundiza en </a:t>
            </a: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Electrónica de Potenci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y en </a:t>
            </a: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Electrónica Digita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bre el uso del transistor como amplificador se profundiza en </a:t>
            </a:r>
            <a:r>
              <a:rPr b="1" lang="en-US" sz="1800" spc="-1" strike="noStrike">
                <a:solidFill>
                  <a:srgbClr val="f00050"/>
                </a:solidFill>
                <a:latin typeface="Arial"/>
              </a:rPr>
              <a:t>Electrónica Analógic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o se ha visto ambos transistores bipolares son bastante intercambiables y constructivamente simi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olamente se diferencian en la rapidez: El transistor NPN funciona básicamente con electrones mientras que el PNP lo hace con huecos (Mayoritarios del emisor en cada ca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acuérdese que la movilidad de los electrones es mayor que la de los huecos, es decir, el transistor NPN es mas rápido que le PNP en igualdad de condi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Principio de funcionamiento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2276640"/>
            <a:ext cx="1548000" cy="1618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74920" y="2276640"/>
            <a:ext cx="1547640" cy="16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157480" y="2282760"/>
            <a:ext cx="434880" cy="1614600"/>
            <a:chOff x="2157480" y="2282760"/>
            <a:chExt cx="434880" cy="1614600"/>
          </a:xfrm>
        </p:grpSpPr>
        <p:sp>
          <p:nvSpPr>
            <p:cNvPr id="69" name=""/>
            <p:cNvSpPr/>
            <p:nvPr/>
          </p:nvSpPr>
          <p:spPr>
            <a:xfrm>
              <a:off x="2157480" y="2282760"/>
              <a:ext cx="217440" cy="16146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74920" y="2282760"/>
              <a:ext cx="217440" cy="1614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 rot="16200000">
            <a:off x="1403280" y="2781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1440000" y="3357720"/>
            <a:ext cx="7272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2050920" y="3536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763640" y="31413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2050920" y="2565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863640" y="3212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900000" y="27079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187280" y="30682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1690560" y="23839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2158920" y="29602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1834920" y="349992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116000" y="3789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1547640" y="3789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150920" y="3536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1187280" y="23839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871640" y="2673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63640" y="2312640"/>
            <a:ext cx="3000240" cy="1560960"/>
            <a:chOff x="863640" y="2312640"/>
            <a:chExt cx="3000240" cy="1560960"/>
          </a:xfrm>
        </p:grpSpPr>
        <p:sp>
          <p:nvSpPr>
            <p:cNvPr id="88" name=""/>
            <p:cNvSpPr/>
            <p:nvPr/>
          </p:nvSpPr>
          <p:spPr>
            <a:xfrm>
              <a:off x="971640" y="3249720"/>
              <a:ext cx="228600" cy="2268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3640" y="231300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3640" y="292428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79640" y="263700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3640" y="360828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95280" y="357336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47640" y="267336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8360" y="234936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32000" y="303372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79640" y="231300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71640" y="288936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24000" y="2637000"/>
              <a:ext cx="227160" cy="2268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84360" y="328464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55640" y="364500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9640" y="321300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87640" y="360828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2533680" y="359388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2951280" y="328428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3635280" y="360792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3598920" y="328428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3565440" y="241884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3166920" y="270792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2475720" y="3137400"/>
              <a:ext cx="228600" cy="227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2698920" y="270792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2411280" y="252864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2698920" y="231264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3635280" y="285228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3024360" y="238392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3240000" y="353664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2879640" y="364464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3312360" y="3067560"/>
              <a:ext cx="22716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2879640" y="299700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556000" y="2312640"/>
            <a:ext cx="1260360" cy="1584360"/>
            <a:chOff x="2556000" y="2312640"/>
            <a:chExt cx="1260360" cy="1584360"/>
          </a:xfrm>
        </p:grpSpPr>
        <p:sp>
          <p:nvSpPr>
            <p:cNvPr id="121" name=""/>
            <p:cNvSpPr/>
            <p:nvPr/>
          </p:nvSpPr>
          <p:spPr>
            <a:xfrm rot="16200000">
              <a:off x="2592360" y="2889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3058920" y="288720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3672000" y="31395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3527280" y="3536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3348000" y="25635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3743280" y="27079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2879640" y="34999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3598920" y="2312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3456000" y="28872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2951280" y="25999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3311640" y="33555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2556000" y="23475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3492360" y="3789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2771640" y="31762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2771640" y="38239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2627280" y="3428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H="1">
            <a:off x="6766920" y="2305080"/>
            <a:ext cx="1547640" cy="1619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19640" y="2305080"/>
            <a:ext cx="1548000" cy="16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479640" y="2311560"/>
            <a:ext cx="574920" cy="1614240"/>
            <a:chOff x="6479640" y="2311560"/>
            <a:chExt cx="574920" cy="1614240"/>
          </a:xfrm>
        </p:grpSpPr>
        <p:sp>
          <p:nvSpPr>
            <p:cNvPr id="140" name=""/>
            <p:cNvSpPr/>
            <p:nvPr/>
          </p:nvSpPr>
          <p:spPr>
            <a:xfrm flipH="1">
              <a:off x="6766560" y="2311560"/>
              <a:ext cx="287640" cy="16142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6479640" y="2311560"/>
              <a:ext cx="287280" cy="1614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193080" y="2311560"/>
            <a:ext cx="1152360" cy="1608120"/>
            <a:chOff x="6193080" y="2311560"/>
            <a:chExt cx="1152360" cy="1608120"/>
          </a:xfrm>
        </p:grpSpPr>
        <p:sp>
          <p:nvSpPr>
            <p:cNvPr id="143" name=""/>
            <p:cNvSpPr/>
            <p:nvPr/>
          </p:nvSpPr>
          <p:spPr>
            <a:xfrm flipH="1">
              <a:off x="6768720" y="2311560"/>
              <a:ext cx="576360" cy="16081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193080" y="2311560"/>
              <a:ext cx="576000" cy="1608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910200" y="2413080"/>
            <a:ext cx="1368720" cy="1477440"/>
            <a:chOff x="6910200" y="2413080"/>
            <a:chExt cx="1368720" cy="1477440"/>
          </a:xfrm>
        </p:grpSpPr>
        <p:sp>
          <p:nvSpPr>
            <p:cNvPr id="146" name=""/>
            <p:cNvSpPr/>
            <p:nvPr/>
          </p:nvSpPr>
          <p:spPr>
            <a:xfrm flipH="1" rot="5400000">
              <a:off x="7665480" y="280944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rot="5400000">
              <a:off x="7629480" y="3385440"/>
              <a:ext cx="7236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rot="5400000">
              <a:off x="7017840" y="356508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rot="5400000">
              <a:off x="7305120" y="316980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rot="5400000">
              <a:off x="7017840" y="259344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5400000">
              <a:off x="8206200" y="3241440"/>
              <a:ext cx="7272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rot="5400000">
              <a:off x="8168760" y="273636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rot="5400000">
              <a:off x="7881480" y="309672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5400000">
              <a:off x="7378200" y="241272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rot="5400000">
              <a:off x="6909840" y="298872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5400000">
              <a:off x="7233840" y="352836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5400000">
              <a:off x="7952760" y="381744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5400000">
              <a:off x="7521120" y="381744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rot="5400000">
              <a:off x="7917840" y="356508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rot="5400000">
              <a:off x="7881480" y="241272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rot="5400000">
              <a:off x="7197120" y="270144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78320" y="2341080"/>
            <a:ext cx="3000240" cy="1560960"/>
            <a:chOff x="5278320" y="2341080"/>
            <a:chExt cx="3000240" cy="1560960"/>
          </a:xfrm>
        </p:grpSpPr>
        <p:sp>
          <p:nvSpPr>
            <p:cNvPr id="163" name=""/>
            <p:cNvSpPr/>
            <p:nvPr/>
          </p:nvSpPr>
          <p:spPr>
            <a:xfrm flipH="1">
              <a:off x="7941600" y="3278160"/>
              <a:ext cx="228600" cy="2268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049600" y="234144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049600" y="295272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833600" y="266544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049600" y="363672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617960" y="360180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365600" y="270180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7544880" y="237780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581240" y="306216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933600" y="234144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041600" y="291780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790680" y="2665440"/>
              <a:ext cx="227160" cy="2268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328880" y="331308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257600" y="367344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600" y="324144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825600" y="3636720"/>
              <a:ext cx="22860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5400000">
              <a:off x="6379560" y="362232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rot="5400000">
              <a:off x="5961960" y="331272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5400000">
              <a:off x="5277960" y="363636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5400000">
              <a:off x="5314320" y="331272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5400000">
              <a:off x="5347800" y="244728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5400000">
              <a:off x="5746320" y="273636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rot="5400000">
              <a:off x="6437520" y="3165840"/>
              <a:ext cx="228600" cy="2271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5400000">
              <a:off x="6214320" y="273636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400000">
              <a:off x="6501960" y="255708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5400000">
              <a:off x="6214320" y="234108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5400000">
              <a:off x="5277960" y="288072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rot="5400000">
              <a:off x="5888880" y="241236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rot="5400000">
              <a:off x="5673240" y="356508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400000">
              <a:off x="6033600" y="367308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5400000">
              <a:off x="5602320" y="3096000"/>
              <a:ext cx="22716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5400000">
              <a:off x="6033600" y="3025440"/>
              <a:ext cx="228600" cy="2286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397120" y="2341440"/>
            <a:ext cx="1189080" cy="1584000"/>
            <a:chOff x="5397120" y="2341440"/>
            <a:chExt cx="1189080" cy="1584000"/>
          </a:xfrm>
        </p:grpSpPr>
        <p:sp>
          <p:nvSpPr>
            <p:cNvPr id="196" name=""/>
            <p:cNvSpPr/>
            <p:nvPr/>
          </p:nvSpPr>
          <p:spPr>
            <a:xfrm flipH="1" rot="5400000">
              <a:off x="6476400" y="29170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rot="5400000">
              <a:off x="6009480" y="2915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rot="5400000">
              <a:off x="5396760" y="3168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5400000">
              <a:off x="5541120" y="35647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5400000">
              <a:off x="5721120" y="259164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rot="5400000">
              <a:off x="5434920" y="2736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rot="5400000">
              <a:off x="6189480" y="352836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5400000">
              <a:off x="5469840" y="234108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rot="5400000">
              <a:off x="5612760" y="2915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rot="5400000">
              <a:off x="6117480" y="2628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rot="5400000">
              <a:off x="5757120" y="3384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rot="5400000">
              <a:off x="6512760" y="237600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rot="5400000">
              <a:off x="5576040" y="381744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rot="5400000">
              <a:off x="6296760" y="3204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5400000">
              <a:off x="6296760" y="3852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rot="5400000">
              <a:off x="6441480" y="345708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65440" y="39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2160" y="39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86520" y="4033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59960" y="403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727280" y="4292640"/>
            <a:ext cx="1259640" cy="517320"/>
            <a:chOff x="1727280" y="4292640"/>
            <a:chExt cx="1259640" cy="517320"/>
          </a:xfrm>
        </p:grpSpPr>
        <p:sp>
          <p:nvSpPr>
            <p:cNvPr id="217" name=""/>
            <p:cNvSpPr/>
            <p:nvPr/>
          </p:nvSpPr>
          <p:spPr>
            <a:xfrm flipH="1">
              <a:off x="1727280" y="4550760"/>
              <a:ext cx="33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566800" y="4550760"/>
              <a:ext cx="4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65680" y="4308840"/>
              <a:ext cx="469440" cy="485280"/>
            </a:xfrm>
            <a:custGeom>
              <a:avLst/>
              <a:gdLst/>
              <a:ahLst/>
              <a:rect l="l" t="t" r="r" b="b"/>
              <a:pathLst>
                <a:path w="659" h="680">
                  <a:moveTo>
                    <a:pt x="1" y="680"/>
                  </a:moveTo>
                  <a:lnTo>
                    <a:pt x="0" y="0"/>
                  </a:lnTo>
                  <a:lnTo>
                    <a:pt x="659" y="339"/>
                  </a:lnTo>
                  <a:lnTo>
                    <a:pt x="1" y="6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35120" y="4292640"/>
              <a:ext cx="32040" cy="51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120360" y="4329000"/>
            <a:ext cx="1260000" cy="517680"/>
            <a:chOff x="6120360" y="4329000"/>
            <a:chExt cx="1260000" cy="517680"/>
          </a:xfrm>
        </p:grpSpPr>
        <p:sp>
          <p:nvSpPr>
            <p:cNvPr id="222" name=""/>
            <p:cNvSpPr/>
            <p:nvPr/>
          </p:nvSpPr>
          <p:spPr>
            <a:xfrm>
              <a:off x="7041240" y="4587480"/>
              <a:ext cx="33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20360" y="4587480"/>
              <a:ext cx="4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572520" y="4345200"/>
              <a:ext cx="469440" cy="485640"/>
            </a:xfrm>
            <a:custGeom>
              <a:avLst/>
              <a:gdLst/>
              <a:ahLst/>
              <a:rect l="l" t="t" r="r" b="b"/>
              <a:pathLst>
                <a:path w="659" h="680">
                  <a:moveTo>
                    <a:pt x="1" y="680"/>
                  </a:moveTo>
                  <a:lnTo>
                    <a:pt x="0" y="0"/>
                  </a:lnTo>
                  <a:lnTo>
                    <a:pt x="659" y="339"/>
                  </a:lnTo>
                  <a:lnTo>
                    <a:pt x="1" y="6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539760" y="4329000"/>
              <a:ext cx="32040" cy="517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 rot="16200000">
            <a:off x="3527280" y="27460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3779640" y="324936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3781440" y="2420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3600360" y="30333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3421080" y="2420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3567240" y="3392640"/>
            <a:ext cx="7272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3452760" y="27824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3705120" y="3285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706920" y="2457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525840" y="3069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346560" y="2457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3525840" y="335736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3454200" y="281916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3706920" y="332244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08360" y="24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3527280" y="31064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3348000" y="24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3527280" y="33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3416400" y="28159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3668760" y="33192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3670200" y="24904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3489120" y="310320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3309840" y="24904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3489120" y="339048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3417840" y="28191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3670200" y="332244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3672000" y="24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3490920" y="31064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3311640" y="24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3490920" y="33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376360" y="2276640"/>
            <a:ext cx="1547640" cy="1620720"/>
            <a:chOff x="2376360" y="2276640"/>
            <a:chExt cx="1547640" cy="1620720"/>
          </a:xfrm>
        </p:grpSpPr>
        <p:sp>
          <p:nvSpPr>
            <p:cNvPr id="257" name=""/>
            <p:cNvSpPr/>
            <p:nvPr/>
          </p:nvSpPr>
          <p:spPr>
            <a:xfrm>
              <a:off x="2376360" y="2276640"/>
              <a:ext cx="1081080" cy="1620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bbe0e3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57440" y="2311560"/>
              <a:ext cx="466560" cy="1584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0" y="1449360"/>
            <a:ext cx="3887640" cy="2448000"/>
            <a:chOff x="0" y="1449360"/>
            <a:chExt cx="3887640" cy="2448000"/>
          </a:xfrm>
        </p:grpSpPr>
        <p:sp>
          <p:nvSpPr>
            <p:cNvPr id="260" name=""/>
            <p:cNvSpPr/>
            <p:nvPr/>
          </p:nvSpPr>
          <p:spPr>
            <a:xfrm>
              <a:off x="0" y="1449360"/>
              <a:ext cx="826920" cy="244800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6360" y="1449360"/>
              <a:ext cx="3311280" cy="82728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9280" y="2708280"/>
              <a:ext cx="10764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200000">
              <a:off x="3276360" y="1700280"/>
              <a:ext cx="108000" cy="10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95280" y="3105000"/>
              <a:ext cx="3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95280" y="1808280"/>
              <a:ext cx="0" cy="12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50920" y="1700280"/>
              <a:ext cx="612720" cy="216000"/>
            </a:xfrm>
            <a:prstGeom prst="rect">
              <a:avLst/>
            </a:prstGeom>
            <a:solidFill>
              <a:srgbClr val="ddff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5280" y="180828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63640" y="180828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32000" y="1521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40000" y="1665360"/>
              <a:ext cx="71280" cy="25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1808280"/>
              <a:ext cx="90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11640" y="1808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7960" y="4113360"/>
            <a:ext cx="3163320" cy="1296720"/>
            <a:chOff x="687960" y="4113360"/>
            <a:chExt cx="3163320" cy="1296720"/>
          </a:xfrm>
        </p:grpSpPr>
        <p:grpSp>
          <p:nvGrpSpPr>
            <p:cNvPr id="274" name=""/>
            <p:cNvGrpSpPr/>
            <p:nvPr/>
          </p:nvGrpSpPr>
          <p:grpSpPr>
            <a:xfrm>
              <a:off x="836640" y="4113360"/>
              <a:ext cx="3014640" cy="1296720"/>
              <a:chOff x="836640" y="4113360"/>
              <a:chExt cx="3014640" cy="1296720"/>
            </a:xfrm>
          </p:grpSpPr>
          <p:sp>
            <p:nvSpPr>
              <p:cNvPr id="275" name=""/>
              <p:cNvSpPr/>
              <p:nvPr/>
            </p:nvSpPr>
            <p:spPr>
              <a:xfrm>
                <a:off x="2343960" y="4113360"/>
                <a:ext cx="0" cy="129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36640" y="5410080"/>
                <a:ext cx="301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836640" y="4546440"/>
              <a:ext cx="3014280" cy="844560"/>
              <a:chOff x="836640" y="4546440"/>
              <a:chExt cx="3014280" cy="844560"/>
            </a:xfrm>
          </p:grpSpPr>
          <p:sp>
            <p:nvSpPr>
              <p:cNvPr id="278" name=""/>
              <p:cNvSpPr/>
              <p:nvPr/>
            </p:nvSpPr>
            <p:spPr>
              <a:xfrm>
                <a:off x="836640" y="4546440"/>
                <a:ext cx="15073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43960" y="4546440"/>
                <a:ext cx="934920" cy="844560"/>
              </a:xfrm>
              <a:custGeom>
                <a:avLst/>
                <a:gdLst/>
                <a:ahLst/>
                <a:rect l="l" t="t" r="r" b="b"/>
                <a:pathLst>
                  <a:path w="1224" h="635">
                    <a:moveTo>
                      <a:pt x="0" y="0"/>
                    </a:moveTo>
                    <a:cubicBezTo>
                      <a:pt x="90" y="185"/>
                      <a:pt x="181" y="370"/>
                      <a:pt x="385" y="476"/>
                    </a:cubicBezTo>
                    <a:cubicBezTo>
                      <a:pt x="589" y="582"/>
                      <a:pt x="906" y="608"/>
                      <a:pt x="1224" y="635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78880" y="5391000"/>
                <a:ext cx="5720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687960" y="4581360"/>
              <a:ext cx="165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oncentr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de hue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 flipH="1" rot="5400000">
            <a:off x="5976720" y="357300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184360" y="1476360"/>
            <a:ext cx="3959280" cy="2448000"/>
            <a:chOff x="5184360" y="1476360"/>
            <a:chExt cx="3959280" cy="2448000"/>
          </a:xfrm>
        </p:grpSpPr>
        <p:sp>
          <p:nvSpPr>
            <p:cNvPr id="284" name=""/>
            <p:cNvSpPr/>
            <p:nvPr/>
          </p:nvSpPr>
          <p:spPr>
            <a:xfrm flipH="1">
              <a:off x="8316360" y="1476360"/>
              <a:ext cx="826920" cy="244800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184000" y="1476360"/>
              <a:ext cx="3382920" cy="82728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5290920" y="1548000"/>
              <a:ext cx="3457800" cy="1908000"/>
              <a:chOff x="5290920" y="1548000"/>
              <a:chExt cx="3457800" cy="1908000"/>
            </a:xfrm>
          </p:grpSpPr>
          <p:sp>
            <p:nvSpPr>
              <p:cNvPr id="287" name=""/>
              <p:cNvSpPr/>
              <p:nvPr/>
            </p:nvSpPr>
            <p:spPr>
              <a:xfrm flipH="1">
                <a:off x="8316360" y="2735280"/>
                <a:ext cx="107640" cy="720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5400000">
                <a:off x="5758560" y="1727280"/>
                <a:ext cx="108000" cy="1044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424720" y="3132360"/>
                <a:ext cx="32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8748720" y="1834920"/>
                <a:ext cx="0" cy="129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200720" y="1835280"/>
                <a:ext cx="15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7056360" y="1548000"/>
                <a:ext cx="179280" cy="576000"/>
                <a:chOff x="7056360" y="1548000"/>
                <a:chExt cx="179280" cy="5760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7056360" y="1548000"/>
                  <a:ext cx="0" cy="57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164360" y="1692360"/>
                  <a:ext cx="71280" cy="252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5" name=""/>
              <p:cNvSpPr/>
              <p:nvPr/>
            </p:nvSpPr>
            <p:spPr>
              <a:xfrm flipH="1">
                <a:off x="5832000" y="1835280"/>
                <a:ext cx="118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32360" y="183528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6336000" y="3789360"/>
            <a:ext cx="8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3 -0.00047 C 0.00087 -0.02477 0.00139 -0.04885 -0.01545 -0.06065 C -0.03229 -0.07246 -0.04861 -0.06968 -0.10086 -0.07084 C -0.15312 -0.07199 -0.2868 -0.08218 -0.32934 -0.06806 C -0.37187 -0.05394 -0.3559 -0.0044 -0.35642 0.01435 C -0.35694 0.0331 -0.34131 0.04467 -0.33211 0.0449 C -0.32291 0.04513 -0.31579 0.0243 -0.30156 0.01527 C -0.28732 0.00625 -0.28107 -0.00371 -0.2467 -0.0088 C -0.21232 -0.01389 -0.13263 -0.01574 -0.09531 -0.01528 C -0.05798 -0.01482 -0.03402 -0.00811 -0.02309 -0.00602 L 0.00053 -0.00047 Z">
                                      <p:cBhvr>
                                        <p:cTn id="188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047 C 0.00521 -0.00811 0.01077 -0.01551 0.01285 -0.02454 C 0.01494 -0.03357 0.0231 -0.04537 0.01216 -0.0551 C 0.00122 -0.06482 -0.00989 -0.07987 -0.05312 -0.08287 C -0.09635 -0.08588 -0.20296 -0.08681 -0.24757 -0.07269 C -0.29219 -0.05857 -0.31337 -0.02037 -0.32119 0.00138 C -0.329 0.02314 -0.31563 0.05578 -0.2948 0.05787 C -0.27396 0.05995 -0.22657 0.02384 -0.19619 0.01435 C -0.1658 0.00486 -0.14254 0.00185 -0.11285 0.00046 C -0.08315 -0.00093 -0.0342 0.00486 -0.0184 0.00601 L -0.00034 -0.00047 Z">
                                      <p:cBhvr>
                                        <p:cTn id="190" dur="5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0.00069 C 0.0059 -0.00069 0.01198 -0.00185 0.01527 -0.01319 C 0.01857 -0.02454 0.02083 -0.05324 0.01944 -0.06782 C 0.01805 -0.08241 0.03142 -0.09259 0.00694 -0.10116 C -0.01754 -0.10972 -0.07396 -0.11875 -0.12778 -0.11875 C -0.1816 -0.11875 -0.2842 -0.12083 -0.31598 -0.10116 C -0.34775 -0.08148 -0.32448 -0.01875 -0.31875 -0.00023 C -0.31302 0.01829 -0.2974 0.01134 -0.28125 0.00995 C -0.26511 0.00856 -0.25018 -0.00463 -0.22223 -0.00857 C -0.19445 -0.0125 -0.14723 -0.01505 -0.11459 -0.01412 C -0.08195 -0.01319 -0.04445 -0.00417 -0.02639 -0.00301 L 3.05556E-006 0.00069 Z">
                                      <p:cBhvr>
                                        <p:cTn id="192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2.22222E-006 C 0.03143 -0.00533 0.01337 -0.01042 0.01354 -0.03148 C 0.01372 -0.05255 0.01233 -0.10556 0.00174 -0.12593 C -0.00885 -0.1463 -0.00121 -0.14931 -0.04965 -0.15371 C -0.09809 -0.1581 -0.24062 -0.16736 -0.28854 -0.15278 C -0.33646 -0.1382 -0.3335 -0.09051 -0.33715 -0.06667 C -0.3408 -0.04283 -0.33819 -0.02153 -0.31076 -0.01019 C -0.28333 0.00116 -0.22413 -0.0007 -0.17257 0.00092 C -0.12135 0.00254 -0.03073 0.00532 0.00035 2.22222E-006 Z">
                                      <p:cBhvr>
                                        <p:cTn id="194" dur="5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4 0.00116 C 0.00243 -0.04375 0.00382 -0.08843 0.00035 -0.11829 C -0.00312 -0.14815 -0.00382 -0.16482 -0.01979 -0.17755 C -0.03576 -0.19028 -0.04149 -0.19306 -0.09548 -0.19421 C -0.14948 -0.19537 -0.30417 -0.21736 -0.3434 -0.18403 C -0.38264 -0.1507 -0.36302 -0.03403 -0.3309 0.00579 C -0.29878 0.0456 -0.20469 0.05208 -0.15104 0.05486 C -0.09739 0.05764 -0.03177 0.03333 -0.00868 0.02245 L 0.00104 0.00116 Z">
                                      <p:cBhvr>
                                        <p:cTn id="196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0.00254 C 0.00782 -0.0081 0.01042 0.00579 0.00955 -0.02523 C 0.00868 -0.05625 0.01563 -0.15255 -0.00642 -0.18357 C -0.02847 -0.21459 -0.07413 -0.2081 -0.12309 -0.21134 C -0.17205 -0.21459 -0.26475 -0.22616 -0.30017 -0.20301 C -0.33559 -0.17986 -0.33437 -0.10463 -0.33559 -0.07246 C -0.3368 -0.04028 -0.32083 -0.02801 -0.30711 -0.01042 C -0.2934 0.00717 -0.27916 0.02361 -0.25295 0.0331 C -0.22673 0.04259 -0.18455 0.04514 -0.15017 0.04606 C -0.1158 0.04699 -0.0717 0.04583 -0.04705 0.03866 C -0.02187 0.03148 -0.01093 0.01319 -0.00156 0.00254 Z">
                                      <p:cBhvr>
                                        <p:cTn id="198" dur="5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7 0.00069 C 0.02743 -0.00347 0.09913 -0.00093 0.12014 -0.00857 C 0.14114 -0.0162 0.14358 -0.03357 0.125 -0.0456 C 0.10642 -0.05764 0.04427 -0.07361 0.00833 -0.08079 C -0.02761 -0.08796 -0.06424 -0.09907 -0.09028 -0.0882 C -0.11632 -0.07732 -0.14549 -0.0412 -0.14792 -0.01597 C -0.15035 0.00926 -0.12136 0.05833 -0.10486 0.06366 C -0.08837 0.06898 -0.06615 0.02708 -0.04861 0.01643 C -0.03108 0.00579 -0.02882 0.00486 -0.0007 0.00069 Z">
                                      <p:cBhvr>
                                        <p:cTn id="200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069 C 0.03056 -0.00185 0.12639 0.00162 0.16337 -0.00023 C 0.20035 -0.00208 0.21146 -0.00278 0.2224 -0.01042 C 0.23334 -0.01806 0.23768 -0.0338 0.22934 -0.0456 C 0.22101 -0.05741 0.2033 -0.07245 0.1724 -0.08079 C 0.1415 -0.08912 0.08612 -0.09722 0.04393 -0.0956 C 0.00174 -0.09398 -0.05711 -0.09028 -0.08107 -0.07153 C -0.10503 -0.05278 -0.1052 -0.00278 -0.09982 0.01736 C -0.09444 0.0375 -0.06197 0.05023 -0.04843 0.04977 C -0.03489 0.0493 -0.02656 0.02292 -0.01857 0.01458 C -0.01059 0.00625 -0.0302 0.00324 0.00018 0.00069 Z">
                                      <p:cBhvr>
                                        <p:cTn id="20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52 0.00023 C 0.02361 -0.00209 0.05868 -0.0007 0.08073 -0.0044 C 0.10278 -0.0081 0.12153 -0.01065 0.13212 -0.02199 C 0.14271 -0.03334 0.15208 -0.05949 0.14462 -0.07292 C 0.13715 -0.08634 0.11875 -0.09722 0.08698 -0.10255 C 0.05521 -0.10787 -0.00608 -0.10718 -0.04566 -0.1044 C -0.08524 -0.10162 -0.12847 -0.10648 -0.15052 -0.08588 C -0.17257 -0.06528 -0.17969 -0.00371 -0.1783 0.01967 C -0.17691 0.04305 -0.16111 0.05648 -0.14219 0.05486 C -0.12327 0.05324 -0.0882 0.01852 -0.06441 0.00949 C -0.04063 0.00046 -0.02465 0.00254 -0.00052 0.00023 Z">
                                      <p:cBhvr>
                                        <p:cTn id="204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-0.00162 C 0.0217 -0.00116 0.08038 0.00069 0.10556 -0.00162 C 0.1316 -0.00394 0.14063 -0.00417 0.15139 -0.01551 C 0.16094 -0.02685 0.1684 -0.05324 0.17066 -0.07014 C 0.17292 -0.08704 0.17986 -0.10463 0.16493 -0.11644 C 0.14965 -0.12824 0.11528 -0.13704 0.08125 -0.14051 C 0.04792 -0.14398 0.00347 -0.14213 -0.03559 -0.13773 C -0.07483 -0.13333 -0.13507 -0.14144 -0.15226 -0.11366 C -0.16944 -0.08588 -0.15833 0.01065 -0.13906 0.02893 C -0.12014 0.04722 -0.05955 0.00092 -0.03646 -0.0044 C -0.01354 -0.00972 -0.02569 -0.00208 -0.00156 -0.00162 Z">
                                      <p:cBhvr>
                                        <p:cTn id="206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5 0.0007 C 0.00955 -0.0044 0.00851 -0.01944 0.03299 -0.0243 C 0.05747 -0.02917 0.11389 -0.02639 0.14618 -0.02801 C 0.17847 -0.02963 0.21024 -0.02546 0.22674 -0.03356 C 0.24323 -0.04167 0.24566 -0.06157 0.24549 -0.07616 C 0.24531 -0.09074 0.25295 -0.11018 0.22604 -0.1206 C 0.19913 -0.13102 0.12101 -0.13727 0.08368 -0.13819 C 0.04635 -0.13912 0.02413 -0.1412 0.00243 -0.12616 C -0.01927 -0.11111 -0.04219 -0.07037 -0.04687 -0.04838 C -0.05156 -0.02639 -0.03385 -0.00185 -0.02604 0.00625 C -0.01823 0.01435 -0.01024 0.00579 -0.00035 0.0007 Z">
                                      <p:cBhvr>
                                        <p:cTn id="208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7 0.00023 C 0.02534 0.00231 0.03194 -0.00093 0.05711 -0.00162 C 0.08211 -0.00232 0.12829 3.70369999999794E-007 0.15086 -0.00347 C 0.17326 -0.00694 0.18368 -0.00903 0.19236 -0.02292 C 0.20138 -0.03681 0.20625 -0.06875 0.20364 -0.08681 C 0.20104 -0.10486 0.1967 -0.1213 0.17638 -0.13125 C 0.15607 -0.1412 0.11527 -0.14352 0.08194 -0.14607 C 0.04895 -0.14861 0.00694 -0.15116 -0.02205 -0.14699 C -0.05105 -0.14282 -0.07882 -0.14306 -0.0915 -0.12107 C -0.10417 -0.09907 -0.11303 -0.03472 -0.09775 -0.01458 C -0.08247 0.00556 -0.02639 -0.00185 -0.0007 0.00023 Z">
                                      <p:cBhvr>
                                        <p:cTn id="210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21 0.00023 C 0.02014 -0.00139 0.06146 0.00347 0.08316 -0.0044 C 0.10521 -0.01227 0.12084 -0.02824 0.12917 -0.04699 C 0.1375 -0.06574 0.13889 -0.09838 0.13351 -0.11644 C 0.12778 -0.13449 0.12709 -0.14769 0.09584 -0.15533 C 0.06476 -0.16297 -0.00937 -0.16505 -0.05277 -0.16273 C -0.09583 -0.16042 -0.14305 -0.16806 -0.16302 -0.14144 C -0.18316 -0.11482 -0.19288 -0.02709 -0.17343 -0.00255 C -0.15399 0.02199 -0.075 0.00509 -0.04652 0.00578 C -0.0177 0.00648 -0.02291 0.00185 -0.00121 0.00023 Z">
                                      <p:cBhvr>
                                        <p:cTn id="212" dur="5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0.00116 C 0.03334 0.00625 0.08629 0.01041 0.12257 0.00856 C 0.15868 0.00671 0.19705 0.00254 0.21841 -0.00996 C 0.23976 -0.02246 0.24566 -0.04398 0.25035 -0.06644 C 0.25504 -0.08889 0.26372 -0.12616 0.24688 -0.14514 C 0.23004 -0.16412 0.19219 -0.17593 0.14966 -0.18033 C 0.10695 -0.18472 0.02952 -0.18334 -0.00868 -0.17199 C -0.04687 -0.16065 -0.0684 -0.13773 -0.07951 -0.11273 C -0.09062 -0.08773 -0.08854 -0.04097 -0.07534 -0.02199 C -0.06215 -0.00301 -0.03263 -0.00394 0.00035 0.00116 Z">
                                      <p:cBhvr>
                                        <p:cTn id="214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66667E-006 -2.96296E-006 C 0.03733 0.00116 0.07865 0.00949 0.11181 0.00278 C 0.14497 -0.00394 0.18577 -0.01528 0.19931 -0.03982 C 0.21285 -0.06435 0.20955 -0.11968 0.19306 -0.14445 C 0.17657 -0.16921 0.14601 -0.18241 0.1007 -0.18889 C 0.05539 -0.19537 -0.03872 -0.19699 -0.07917 -0.18333 C -0.11962 -0.16968 -0.13681 -0.13727 -0.14237 -0.10741 C -0.14792 -0.07755 -0.13629 -0.02153 -0.11251 -0.0037 C -0.08872 0.01412 -0.03732 -0.00116 1.66667E-006 -2.96296E-006 Z">
                                      <p:cBhvr>
                                        <p:cTn id="216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7 0.00023 C 0.01284 0.00185 0.01024 -0.00046 0.05087 0.00023 C 0.09149 0.00093 0.20625 0.0294 0.24392 0.00486 C 0.28159 -0.01967 0.28368 -0.11389 0.27725 -0.14699 C 0.27083 -0.18009 0.25069 -0.18634 0.20573 -0.19421 C 0.16076 -0.20208 0.05052 -0.2081 0.00781 -0.19421 C -0.0349 -0.18032 -0.04514 -0.14166 -0.05052 -0.11088 C -0.05591 -0.08009 -0.03316 -0.02754 -0.02483 -0.00903 C -0.0165 0.00949 -0.0125 -0.00139 0.00017 0.00023 Z">
                                      <p:cBhvr>
                                        <p:cTn id="218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18 0.00278 C 0.02882 0.00949 0.05417 0.00903 0.08524 0.00926 C 0.11632 0.00949 0.16371 0.02615 0.18663 0.0037 C 0.20955 -0.01875 0.22118 -0.09121 0.22274 -0.12593 C 0.2243 -0.16065 0.22396 -0.18866 0.19566 -0.20463 C 0.16736 -0.2206 0.1026 -0.22315 0.0526 -0.2213 C 0.0026 -0.21945 -0.08073 -0.22523 -0.10434 -0.19352 C -0.12795 -0.16181 -0.10643 -0.06412 -0.08906 -0.03148 C -0.0717 0.00115 -0.02917 -0.00394 -0.00018 0.00278 Z">
                                      <p:cBhvr>
                                        <p:cTn id="220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7 -7.40741E-007 C 0.02882 0.00301 0.05833 0.0081 0.08489 0.00463 C 0.11146 0.00116 0.14479 0.01111 0.15989 -0.0213 C 0.175 -0.0537 0.1901 -0.15162 0.17517 -0.18981 C 0.16024 -0.22801 0.11962 -0.24329 0.07031 -0.25 C 0.021 -0.25671 -0.08368 -0.25463 -0.12066 -0.22963 C -0.15764 -0.20463 -0.15695 -0.13611 -0.15122 -0.1 C -0.14549 -0.06389 -0.11181 -0.02963 -0.08663 -0.01296 C -0.06146 0.0037 -0.02847 -0.00301 0.00017 -7.40741E-007 Z">
                                      <p:cBhvr>
                                        <p:cTn id="22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69 0.0007 C 0.02413 0.00718 0.06962 0.01204 0.10417 0.01274 C 0.13872 0.01343 0.18108 0.0132 0.20625 0.0044 C 0.23142 -0.00439 0.24601 -0.00601 0.25486 -0.04004 C 0.26372 -0.07407 0.28646 -0.16643 0.25972 -0.20023 C 0.23299 -0.23402 0.14549 -0.23726 0.09445 -0.24282 C 0.0434 -0.24837 -0.01771 -0.2574 -0.04653 -0.23356 C -0.07535 -0.20972 -0.07864 -0.13379 -0.07847 -0.0993 C -0.0783 -0.06481 -0.05816 -0.04282 -0.04514 -0.02615 C -0.03212 -0.00949 -0.02552 -0.00578 -0.00069 0.0007 Z">
                                      <p:cBhvr>
                                        <p:cTn id="224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8.33333E-007 2.59259E-006 C 0.02031 -0.00116 0.0526 0.01019 0.07291 -0.00648 C 0.09323 -0.02315 0.11302 -0.06828 0.12153 -0.1 C 0.13003 -0.13171 0.13385 -0.17477 0.12361 -0.19722 C 0.11337 -0.21967 0.09219 -0.22569 0.06041 -0.23426 C 0.02864 -0.24282 -0.02969 -0.25393 -0.06667 -0.24815 C -0.10365 -0.24236 -0.1467 -0.23171 -0.16111 -0.19907 C -0.17552 -0.16643 -0.17136 -0.08611 -0.15278 -0.05278 C -0.1342 -0.01944 -0.07483 -0.00764 -0.04931 0.00093 C -0.02379 0.00949 -0.02031 0.00116 8.33333E-007 2.59259E-006 Z">
                                      <p:cBhvr>
                                        <p:cTn id="22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16667E-006 1.11111E-006 C 0.02291 0.00324 0.05902 0.00694 0.0868 0.00463 C 0.11458 0.00231 0.14444 -0.00116 0.16649 -0.01389 C 0.18888 -0.02662 0.21093 -0.04398 0.22013 -0.0713 C 0.22934 -0.09861 0.22413 -0.14583 0.22222 -0.17778 C 0.22031 -0.20972 0.24062 -0.24468 0.20833 -0.26296 C 0.17604 -0.28125 0.0802 -0.28958 0.02847 -0.28796 C -0.02396 -0.28634 -0.08177 -0.28426 -0.10417 -0.25278 C -0.12657 -0.2213 -0.11112 -0.13079 -0.10556 -0.09908 C -0.1 -0.06736 -0.08004 -0.07616 -0.07084 -0.06204 C -0.06164 -0.04792 -0.0625 -0.02523 -0.0507 -0.01482 C -0.03889 -0.0044 -0.02327 -0.00324 4.16667E-006 1.11111E-006 Z">
                                      <p:cBhvr>
                                        <p:cTn id="228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1.48148E-006 C 0.02726 -0.00023 0.10868 -0.00023 0.15069 -0.00556 C 0.19271 -0.01088 0.23281 -0.00509 0.25208 -0.03241 C 0.27135 -0.05972 0.26423 -0.13542 0.26597 -0.16945 C 0.26771 -0.20347 0.2717 -0.2169 0.2625 -0.23704 C 0.2533 -0.25718 0.25694 -0.28148 0.21042 -0.29074 C 0.16389 -0.3 0.02899 -0.3132 -0.01667 -0.29259 C -0.06233 -0.27199 -0.05938 -0.20533 -0.0632 -0.16759 C -0.06702 -0.12986 -0.04566 -0.08449 -0.03958 -0.06574 C -0.03351 -0.04699 -0.0309 -0.06597 -0.02639 -0.05556 C -0.02188 -0.04514 -0.01684 -0.01296 -0.0125 -0.00371 C -0.00816 0.00555 -0.02726 0.00023 1.38889E-006 1.48148E-006 Z">
                                      <p:cBhvr>
                                        <p:cTn id="230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3 -0.00047 C 0.00087 -0.02477 0.00139 -0.04885 -0.01545 -0.06065 C -0.03229 -0.07246 -0.04861 -0.06968 -0.10086 -0.07084 C -0.15312 -0.07199 -0.2868 -0.08218 -0.32934 -0.06806 C -0.37187 -0.05394 -0.3559 -0.0044 -0.35642 0.01435 C -0.35694 0.0331 -0.34131 0.04467 -0.33211 0.0449 C -0.32291 0.04513 -0.31579 0.0243 -0.30156 0.01527 C -0.28732 0.00625 -0.28107 -0.00371 -0.2467 -0.0088 C -0.21232 -0.01389 -0.13263 -0.01574 -0.09531 -0.01528 C -0.05798 -0.01482 -0.03402 -0.00811 -0.02309 -0.00602 L 0.00053 -0.00047 Z">
                                      <p:cBhvr>
                                        <p:cTn id="232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047 C 0.00521 -0.00811 0.01077 -0.01551 0.01285 -0.02454 C 0.01494 -0.03357 0.0231 -0.04537 0.01216 -0.0551 C 0.00122 -0.06482 -0.00989 -0.07987 -0.05312 -0.08287 C -0.09635 -0.08588 -0.20296 -0.08681 -0.24757 -0.07269 C -0.29219 -0.05857 -0.31337 -0.02037 -0.32119 0.00138 C -0.329 0.02314 -0.31563 0.05578 -0.2948 0.05787 C -0.27396 0.05995 -0.22657 0.02384 -0.19619 0.01435 C -0.1658 0.00486 -0.14254 0.00185 -0.11285 0.00046 C -0.08315 -0.00093 -0.0342 0.00486 -0.0184 0.00601 L -0.00034 -0.00047 Z">
                                      <p:cBhvr>
                                        <p:cTn id="234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0.00069 C 0.0059 -0.00069 0.01198 -0.00185 0.01527 -0.01319 C 0.01857 -0.02454 0.02083 -0.05324 0.01944 -0.06782 C 0.01805 -0.08241 0.03142 -0.09259 0.00694 -0.10116 C -0.01754 -0.10972 -0.07396 -0.11875 -0.12778 -0.11875 C -0.1816 -0.11875 -0.2842 -0.12083 -0.31598 -0.10116 C -0.34775 -0.08148 -0.32448 -0.01875 -0.31875 -0.00023 C -0.31302 0.01829 -0.2974 0.01134 -0.28125 0.00995 C -0.26511 0.00856 -0.25018 -0.00463 -0.22223 -0.00857 C -0.19445 -0.0125 -0.14723 -0.01505 -0.11459 -0.01412 C -0.08195 -0.01319 -0.04445 -0.00417 -0.02639 -0.00301 L 3.05556E-006 0.00069 Z">
                                      <p:cBhvr>
                                        <p:cTn id="236" dur="5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2.22222E-006 C 0.03143 -0.00533 0.01337 -0.01042 0.01354 -0.03148 C 0.01372 -0.05255 0.01233 -0.10556 0.00174 -0.12593 C -0.00885 -0.1463 -0.00121 -0.14931 -0.04965 -0.15371 C -0.09809 -0.1581 -0.24062 -0.16736 -0.28854 -0.15278 C -0.33646 -0.1382 -0.3335 -0.09051 -0.33715 -0.06667 C -0.3408 -0.04283 -0.33819 -0.02153 -0.31076 -0.01019 C -0.28333 0.00116 -0.22413 -0.0007 -0.17257 0.00092 C -0.12135 0.00254 -0.03073 0.00532 0.00035 2.22222E-006 Z">
                                      <p:cBhvr>
                                        <p:cTn id="238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4 0.00116 C 0.00243 -0.04375 0.00382 -0.08843 0.00035 -0.11829 C -0.00312 -0.14815 -0.00382 -0.16482 -0.01979 -0.17755 C -0.03576 -0.19028 -0.04149 -0.19306 -0.09548 -0.19421 C -0.14948 -0.19537 -0.30417 -0.21736 -0.3434 -0.18403 C -0.38264 -0.1507 -0.36302 -0.03403 -0.3309 0.00579 C -0.29878 0.0456 -0.20469 0.05208 -0.15104 0.05486 C -0.09739 0.05764 -0.03177 0.03333 -0.00868 0.02245 L 0.00104 0.00116 Z">
                                      <p:cBhvr>
                                        <p:cTn id="240" dur="5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0.00254 C 0.00782 -0.0081 0.01042 0.00579 0.00955 -0.02523 C 0.00868 -0.05625 0.01563 -0.15255 -0.00642 -0.18357 C -0.02847 -0.21459 -0.07413 -0.2081 -0.12309 -0.21134 C -0.17205 -0.21459 -0.26475 -0.22616 -0.30017 -0.20301 C -0.33559 -0.17986 -0.33437 -0.10463 -0.33559 -0.07246 C -0.3368 -0.04028 -0.32083 -0.02801 -0.30711 -0.01042 C -0.2934 0.00717 -0.27916 0.02361 -0.25295 0.0331 C -0.22673 0.04259 -0.18455 0.04514 -0.15017 0.04606 C -0.1158 0.04699 -0.0717 0.04583 -0.04705 0.03866 C -0.02187 0.03148 -0.01093 0.01319 -0.00156 0.00254 Z">
                                      <p:cBhvr>
                                        <p:cTn id="242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3 -0.00047 C 0.00087 -0.02477 0.00139 -0.04885 -0.01545 -0.06065 C -0.03229 -0.07246 -0.04861 -0.06968 -0.10086 -0.07084 C -0.15312 -0.07199 -0.2868 -0.08218 -0.32934 -0.06806 C -0.37187 -0.05394 -0.3559 -0.0044 -0.35642 0.01435 C -0.35694 0.0331 -0.34131 0.04467 -0.33211 0.0449 C -0.32291 0.04513 -0.31579 0.0243 -0.30156 0.01527 C -0.28732 0.00625 -0.28107 -0.00371 -0.2467 -0.0088 C -0.21232 -0.01389 -0.13263 -0.01574 -0.09531 -0.01528 C -0.05798 -0.01482 -0.03402 -0.00811 -0.02309 -0.00602 L 0.00053 -0.00047 Z">
                                      <p:cBhvr>
                                        <p:cTn id="262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047 C 0.00521 -0.00811 0.01077 -0.01551 0.01285 -0.02454 C 0.01494 -0.03357 0.0231 -0.04537 0.01216 -0.0551 C 0.00122 -0.06482 -0.00989 -0.07987 -0.05312 -0.08287 C -0.09635 -0.08588 -0.20296 -0.08681 -0.24757 -0.07269 C -0.29219 -0.05857 -0.31337 -0.02037 -0.32119 0.00138 C -0.329 0.02314 -0.31563 0.05578 -0.2948 0.05787 C -0.27396 0.05995 -0.22657 0.02384 -0.19619 0.01435 C -0.1658 0.00486 -0.14254 0.00185 -0.11285 0.00046 C -0.08315 -0.00093 -0.0342 0.00486 -0.0184 0.00601 L -0.00034 -0.00047 Z">
                                      <p:cBhvr>
                                        <p:cTn id="264" dur="5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0.00069 C 0.0059 -0.00069 0.01198 -0.00185 0.01527 -0.01319 C 0.01857 -0.02454 0.02083 -0.05324 0.01944 -0.06782 C 0.01805 -0.08241 0.03142 -0.09259 0.00694 -0.10116 C -0.01754 -0.10972 -0.07396 -0.11875 -0.12778 -0.11875 C -0.1816 -0.11875 -0.2842 -0.12083 -0.31598 -0.10116 C -0.34775 -0.08148 -0.32448 -0.01875 -0.31875 -0.00023 C -0.31302 0.01829 -0.2974 0.01134 -0.28125 0.00995 C -0.26511 0.00856 -0.25018 -0.00463 -0.22223 -0.00857 C -0.19445 -0.0125 -0.14723 -0.01505 -0.11459 -0.01412 C -0.08195 -0.01319 -0.04445 -0.00417 -0.02639 -0.00301 L 3.05556E-006 0.00069 Z">
                                      <p:cBhvr>
                                        <p:cTn id="266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2.22222E-006 C 0.03143 -0.00533 0.01337 -0.01042 0.01354 -0.03148 C 0.01372 -0.05255 0.01233 -0.10556 0.00174 -0.12593 C -0.00885 -0.1463 -0.00121 -0.14931 -0.04965 -0.15371 C -0.09809 -0.1581 -0.24062 -0.16736 -0.28854 -0.15278 C -0.33646 -0.1382 -0.3335 -0.09051 -0.33715 -0.06667 C -0.3408 -0.04283 -0.33819 -0.02153 -0.31076 -0.01019 C -0.28333 0.00116 -0.22413 -0.0007 -0.17257 0.00092 C -0.12135 0.00254 -0.03073 0.00532 0.00035 2.22222E-006 Z">
                                      <p:cBhvr>
                                        <p:cTn id="268" dur="5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4 0.00116 C 0.00243 -0.04375 0.00382 -0.08843 0.00035 -0.11829 C -0.00312 -0.14815 -0.00382 -0.16482 -0.01979 -0.17755 C -0.03576 -0.19028 -0.04149 -0.19306 -0.09548 -0.19421 C -0.14948 -0.19537 -0.30417 -0.21736 -0.3434 -0.18403 C -0.38264 -0.1507 -0.36302 -0.03403 -0.3309 0.00579 C -0.29878 0.0456 -0.20469 0.05208 -0.15104 0.05486 C -0.09739 0.05764 -0.03177 0.03333 -0.00868 0.02245 L 0.00104 0.00116 Z">
                                      <p:cBhvr>
                                        <p:cTn id="270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0.00254 C 0.00782 -0.0081 0.01042 0.00579 0.00955 -0.02523 C 0.00868 -0.05625 0.01563 -0.15255 -0.00642 -0.18357 C -0.02847 -0.21459 -0.07413 -0.2081 -0.12309 -0.21134 C -0.17205 -0.21459 -0.26475 -0.22616 -0.30017 -0.20301 C -0.33559 -0.17986 -0.33437 -0.10463 -0.33559 -0.07246 C -0.3368 -0.04028 -0.32083 -0.02801 -0.30711 -0.01042 C -0.2934 0.00717 -0.27916 0.02361 -0.25295 0.0331 C -0.22673 0.04259 -0.18455 0.04514 -0.15017 0.04606 C -0.1158 0.04699 -0.0717 0.04583 -0.04705 0.03866 C -0.02187 0.03148 -0.01093 0.01319 -0.00156 0.00254 Z">
                                      <p:cBhvr>
                                        <p:cTn id="272" dur="5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3 -0.00047 C 0.00087 -0.02477 0.00139 -0.04885 -0.01545 -0.06065 C -0.03229 -0.07246 -0.04861 -0.06968 -0.10086 -0.07084 C -0.15312 -0.07199 -0.2868 -0.08218 -0.32934 -0.06806 C -0.37187 -0.05394 -0.3559 -0.0044 -0.35642 0.01435 C -0.35694 0.0331 -0.34131 0.04467 -0.33211 0.0449 C -0.32291 0.04513 -0.31579 0.0243 -0.30156 0.01527 C -0.28732 0.00625 -0.28107 -0.00371 -0.2467 -0.0088 C -0.21232 -0.01389 -0.13263 -0.01574 -0.09531 -0.01528 C -0.05798 -0.01482 -0.03402 -0.00811 -0.02309 -0.00602 L 0.00053 -0.00047 Z">
                                      <p:cBhvr>
                                        <p:cTn id="292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047 C 0.00521 -0.00811 0.01077 -0.01551 0.01285 -0.02454 C 0.01494 -0.03357 0.0231 -0.04537 0.01216 -0.0551 C 0.00122 -0.06482 -0.00989 -0.07987 -0.05312 -0.08287 C -0.09635 -0.08588 -0.20296 -0.08681 -0.24757 -0.07269 C -0.29219 -0.05857 -0.31337 -0.02037 -0.32119 0.00138 C -0.329 0.02314 -0.31563 0.05578 -0.2948 0.05787 C -0.27396 0.05995 -0.22657 0.02384 -0.19619 0.01435 C -0.1658 0.00486 -0.14254 0.00185 -0.11285 0.00046 C -0.08315 -0.00093 -0.0342 0.00486 -0.0184 0.00601 L -0.00034 -0.00047 Z">
                                      <p:cBhvr>
                                        <p:cTn id="294" dur="5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0.00069 C 0.0059 -0.00069 0.01198 -0.00185 0.01527 -0.01319 C 0.01857 -0.02454 0.02083 -0.05324 0.01944 -0.06782 C 0.01805 -0.08241 0.03142 -0.09259 0.00694 -0.10116 C -0.01754 -0.10972 -0.07396 -0.11875 -0.12778 -0.11875 C -0.1816 -0.11875 -0.2842 -0.12083 -0.31598 -0.10116 C -0.34775 -0.08148 -0.32448 -0.01875 -0.31875 -0.00023 C -0.31302 0.01829 -0.2974 0.01134 -0.28125 0.00995 C -0.26511 0.00856 -0.25018 -0.00463 -0.22223 -0.00857 C -0.19445 -0.0125 -0.14723 -0.01505 -0.11459 -0.01412 C -0.08195 -0.01319 -0.04445 -0.00417 -0.02639 -0.00301 L 3.05556E-006 0.00069 Z">
                                      <p:cBhvr>
                                        <p:cTn id="296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2.22222E-006 C 0.03143 -0.00533 0.01337 -0.01042 0.01354 -0.03148 C 0.01372 -0.05255 0.01233 -0.10556 0.00174 -0.12593 C -0.00885 -0.1463 -0.00121 -0.14931 -0.04965 -0.15371 C -0.09809 -0.1581 -0.24062 -0.16736 -0.28854 -0.15278 C -0.33646 -0.1382 -0.3335 -0.09051 -0.33715 -0.06667 C -0.3408 -0.04283 -0.33819 -0.02153 -0.31076 -0.01019 C -0.28333 0.00116 -0.22413 -0.0007 -0.17257 0.00092 C -0.12135 0.00254 -0.03073 0.00532 0.00035 2.22222E-006 Z">
                                      <p:cBhvr>
                                        <p:cTn id="298" dur="5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4 0.00116 C 0.00243 -0.04375 0.00382 -0.08843 0.00035 -0.11829 C -0.00312 -0.14815 -0.00382 -0.16482 -0.01979 -0.17755 C -0.03576 -0.19028 -0.04149 -0.19306 -0.09548 -0.19421 C -0.14948 -0.19537 -0.30417 -0.21736 -0.3434 -0.18403 C -0.38264 -0.1507 -0.36302 -0.03403 -0.3309 0.00579 C -0.29878 0.0456 -0.20469 0.05208 -0.15104 0.05486 C -0.09739 0.05764 -0.03177 0.03333 -0.00868 0.02245 L 0.00104 0.00116 Z">
                                      <p:cBhvr>
                                        <p:cTn id="300" dur="5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0.00254 C 0.00782 -0.0081 0.01042 0.00579 0.00955 -0.02523 C 0.00868 -0.05625 0.01563 -0.15255 -0.00642 -0.18357 C -0.02847 -0.21459 -0.07413 -0.2081 -0.12309 -0.21134 C -0.17205 -0.21459 -0.26475 -0.22616 -0.30017 -0.20301 C -0.33559 -0.17986 -0.33437 -0.10463 -0.33559 -0.07246 C -0.3368 -0.04028 -0.32083 -0.02801 -0.30711 -0.01042 C -0.2934 0.00717 -0.27916 0.02361 -0.25295 0.0331 C -0.22673 0.04259 -0.18455 0.04514 -0.15017 0.04606 C -0.1158 0.04699 -0.0717 0.04583 -0.04705 0.03866 C -0.02187 0.03148 -0.01093 0.01319 -0.00156 0.00254 Z">
                                      <p:cBhvr>
                                        <p:cTn id="302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3 -0.00047 C 0.00087 -0.02477 0.00139 -0.04885 -0.01545 -0.06065 C -0.03229 -0.07246 -0.04861 -0.06968 -0.10086 -0.07084 C -0.15312 -0.07199 -0.2868 -0.08218 -0.32934 -0.06806 C -0.37187 -0.05394 -0.3559 -0.0044 -0.35642 0.01435 C -0.35694 0.0331 -0.34131 0.04467 -0.33211 0.0449 C -0.32291 0.04513 -0.31579 0.0243 -0.30156 0.01527 C -0.28732 0.00625 -0.28107 -0.00371 -0.2467 -0.0088 C -0.21232 -0.01389 -0.13263 -0.01574 -0.09531 -0.01528 C -0.05798 -0.01482 -0.03402 -0.00811 -0.02309 -0.00602 L 0.00053 -0.00047 Z">
                                      <p:cBhvr>
                                        <p:cTn id="322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047 C 0.00521 -0.00811 0.01077 -0.01551 0.01285 -0.02454 C 0.01494 -0.03357 0.0231 -0.04537 0.01216 -0.0551 C 0.00122 -0.06482 -0.00989 -0.07987 -0.05312 -0.08287 C -0.09635 -0.08588 -0.20296 -0.08681 -0.24757 -0.07269 C -0.29219 -0.05857 -0.31337 -0.02037 -0.32119 0.00138 C -0.329 0.02314 -0.31563 0.05578 -0.2948 0.05787 C -0.27396 0.05995 -0.22657 0.02384 -0.19619 0.01435 C -0.1658 0.00486 -0.14254 0.00185 -0.11285 0.00046 C -0.08315 -0.00093 -0.0342 0.00486 -0.0184 0.00601 L -0.00034 -0.00047 Z">
                                      <p:cBhvr>
                                        <p:cTn id="324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0.00069 C 0.0059 -0.00069 0.01198 -0.00185 0.01527 -0.01319 C 0.01857 -0.02454 0.02083 -0.05324 0.01944 -0.06782 C 0.01805 -0.08241 0.03142 -0.09259 0.00694 -0.10116 C -0.01754 -0.10972 -0.07396 -0.11875 -0.12778 -0.11875 C -0.1816 -0.11875 -0.2842 -0.12083 -0.31598 -0.10116 C -0.34775 -0.08148 -0.32448 -0.01875 -0.31875 -0.00023 C -0.31302 0.01829 -0.2974 0.01134 -0.28125 0.00995 C -0.26511 0.00856 -0.25018 -0.00463 -0.22223 -0.00857 C -0.19445 -0.0125 -0.14723 -0.01505 -0.11459 -0.01412 C -0.08195 -0.01319 -0.04445 -0.00417 -0.02639 -0.00301 L 3.05556E-006 0.00069 Z">
                                      <p:cBhvr>
                                        <p:cTn id="326" dur="5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2.22222E-006 C 0.03143 -0.00533 0.01337 -0.01042 0.01354 -0.03148 C 0.01372 -0.05255 0.01233 -0.10556 0.00174 -0.12593 C -0.00885 -0.1463 -0.00121 -0.14931 -0.04965 -0.15371 C -0.09809 -0.1581 -0.24062 -0.16736 -0.28854 -0.15278 C -0.33646 -0.1382 -0.3335 -0.09051 -0.33715 -0.06667 C -0.3408 -0.04283 -0.33819 -0.02153 -0.31076 -0.01019 C -0.28333 0.00116 -0.22413 -0.0007 -0.17257 0.00092 C -0.12135 0.00254 -0.03073 0.00532 0.00035 2.22222E-006 Z">
                                      <p:cBhvr>
                                        <p:cTn id="328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4 0.00116 C 0.00243 -0.04375 0.00382 -0.08843 0.00035 -0.11829 C -0.00312 -0.14815 -0.00382 -0.16482 -0.01979 -0.17755 C -0.03576 -0.19028 -0.04149 -0.19306 -0.09548 -0.19421 C -0.14948 -0.19537 -0.30417 -0.21736 -0.3434 -0.18403 C -0.38264 -0.1507 -0.36302 -0.03403 -0.3309 0.00579 C -0.29878 0.0456 -0.20469 0.05208 -0.15104 0.05486 C -0.09739 0.05764 -0.03177 0.03333 -0.00868 0.02245 L 0.00104 0.00116 Z">
                                      <p:cBhvr>
                                        <p:cTn id="330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0.00254 C 0.00782 -0.0081 0.01042 0.00579 0.00955 -0.02523 C 0.00868 -0.05625 0.01563 -0.15255 -0.00642 -0.18357 C -0.02847 -0.21459 -0.07413 -0.2081 -0.12309 -0.21134 C -0.17205 -0.21459 -0.26475 -0.22616 -0.30017 -0.20301 C -0.33559 -0.17986 -0.33437 -0.10463 -0.33559 -0.07246 C -0.3368 -0.04028 -0.32083 -0.02801 -0.30711 -0.01042 C -0.2934 0.00717 -0.27916 0.02361 -0.25295 0.0331 C -0.22673 0.04259 -0.18455 0.04514 -0.15017 0.04606 C -0.1158 0.04699 -0.0717 0.04583 -0.04705 0.03866 C -0.02187 0.03148 -0.01093 0.01319 -0.00156 0.00254 Z">
                                      <p:cBhvr>
                                        <p:cTn id="332" dur="5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C -0.00469 2.22222E-006 -0.00938 0.00023 -0.01215 -0.00463 C -0.01511 -0.00949 -0.01632 -0.01968 -0.01736 -0.02963 E">
                                      <p:cBhvr>
                                        <p:cTn id="386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59259E-006 L 0.02778 2.59259E-006 E">
                                      <p:cBhvr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46821E-007 L 0.15347 -3.46821E-007 E">
                                      <p:cBhvr>
                                        <p:cTn id="41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2341440" y="2168640"/>
            <a:ext cx="4391280" cy="2168280"/>
            <a:chOff x="2341440" y="2168640"/>
            <a:chExt cx="4391280" cy="2168280"/>
          </a:xfrm>
        </p:grpSpPr>
        <p:sp>
          <p:nvSpPr>
            <p:cNvPr id="299" name=""/>
            <p:cNvSpPr/>
            <p:nvPr/>
          </p:nvSpPr>
          <p:spPr>
            <a:xfrm>
              <a:off x="2341440" y="2276640"/>
              <a:ext cx="4391280" cy="16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21440" y="396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4626000" y="1359000"/>
              <a:ext cx="108000" cy="172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Principio de funcionamiento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" y="2276640"/>
            <a:ext cx="1548000" cy="1618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766920" y="2276640"/>
            <a:ext cx="1547640" cy="1618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65440" y="39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374920" y="2276640"/>
            <a:ext cx="4392720" cy="2125440"/>
            <a:chOff x="2374920" y="2276640"/>
            <a:chExt cx="4392720" cy="2125440"/>
          </a:xfrm>
        </p:grpSpPr>
        <p:sp>
          <p:nvSpPr>
            <p:cNvPr id="307" name=""/>
            <p:cNvSpPr/>
            <p:nvPr/>
          </p:nvSpPr>
          <p:spPr>
            <a:xfrm>
              <a:off x="2374920" y="2276640"/>
              <a:ext cx="1547640" cy="16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219640" y="2276640"/>
              <a:ext cx="1548000" cy="16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02160" y="396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6520" y="4033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7959960" y="403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8331120" y="1449360"/>
            <a:ext cx="812880" cy="244800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364000" y="1449360"/>
            <a:ext cx="3214800" cy="827280"/>
          </a:xfrm>
          <a:prstGeom prst="rect">
            <a:avLst/>
          </a:prstGeom>
          <a:solidFill>
            <a:srgbClr val="ddff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360760" y="1521000"/>
            <a:ext cx="3394440" cy="1908000"/>
            <a:chOff x="5360760" y="1521000"/>
            <a:chExt cx="3394440" cy="1908000"/>
          </a:xfrm>
        </p:grpSpPr>
        <p:sp>
          <p:nvSpPr>
            <p:cNvPr id="315" name=""/>
            <p:cNvSpPr/>
            <p:nvPr/>
          </p:nvSpPr>
          <p:spPr>
            <a:xfrm flipH="1">
              <a:off x="8330400" y="2708280"/>
              <a:ext cx="10548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5400000">
              <a:off x="5818680" y="1710000"/>
              <a:ext cx="108000" cy="102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36960" y="3105360"/>
              <a:ext cx="31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8755200" y="1807920"/>
              <a:ext cx="0" cy="12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235640" y="1808280"/>
              <a:ext cx="151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7093440" y="1521000"/>
              <a:ext cx="176040" cy="576000"/>
              <a:chOff x="7093440" y="1521000"/>
              <a:chExt cx="176040" cy="576000"/>
            </a:xfrm>
          </p:grpSpPr>
          <p:sp>
            <p:nvSpPr>
              <p:cNvPr id="321" name=""/>
              <p:cNvSpPr/>
              <p:nvPr/>
            </p:nvSpPr>
            <p:spPr>
              <a:xfrm>
                <a:off x="7093440" y="1521000"/>
                <a:ext cx="0" cy="57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199640" y="1665360"/>
                <a:ext cx="69840" cy="252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H="1">
              <a:off x="5892120" y="1808280"/>
              <a:ext cx="116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92120" y="1808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157480" y="2282760"/>
            <a:ext cx="434880" cy="1614600"/>
            <a:chOff x="2157480" y="2282760"/>
            <a:chExt cx="434880" cy="1614600"/>
          </a:xfrm>
        </p:grpSpPr>
        <p:sp>
          <p:nvSpPr>
            <p:cNvPr id="326" name=""/>
            <p:cNvSpPr/>
            <p:nvPr/>
          </p:nvSpPr>
          <p:spPr>
            <a:xfrm>
              <a:off x="2157480" y="2282760"/>
              <a:ext cx="217440" cy="16146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74920" y="2282760"/>
              <a:ext cx="217440" cy="1614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93080" y="2282760"/>
            <a:ext cx="1152360" cy="1608120"/>
            <a:chOff x="6193080" y="2282760"/>
            <a:chExt cx="1152360" cy="1608120"/>
          </a:xfrm>
        </p:grpSpPr>
        <p:sp>
          <p:nvSpPr>
            <p:cNvPr id="329" name=""/>
            <p:cNvSpPr/>
            <p:nvPr/>
          </p:nvSpPr>
          <p:spPr>
            <a:xfrm flipH="1">
              <a:off x="6768720" y="2282760"/>
              <a:ext cx="576360" cy="16081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193080" y="2282760"/>
              <a:ext cx="576000" cy="1608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 rot="16200000">
            <a:off x="1403280" y="2781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6200000">
            <a:off x="1440000" y="3357720"/>
            <a:ext cx="7272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6200000">
            <a:off x="2050920" y="3536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1763640" y="31413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2050920" y="2565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863640" y="3212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900000" y="27079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1187280" y="30682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1690560" y="23839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2158920" y="29602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1834920" y="349992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1116000" y="3789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1547640" y="3789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1150920" y="3536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1187280" y="23839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1871640" y="2673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3527280" y="27460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3779640" y="324936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3781440" y="2420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3600360" y="30333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3421080" y="2420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6200000">
            <a:off x="3567240" y="3392640"/>
            <a:ext cx="7272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3452760" y="27824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6200000">
            <a:off x="3705120" y="3285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16200000">
            <a:off x="3706920" y="2457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3525840" y="3069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3346560" y="2457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3525840" y="335736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54200" y="281916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3706920" y="332244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3708360" y="24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3527280" y="31064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3348000" y="24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3527280" y="33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6200000">
            <a:off x="3416400" y="28159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3668760" y="33192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3670200" y="24904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3489120" y="310320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3309840" y="24904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3489120" y="339048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3417840" y="28191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3670200" y="332244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3672000" y="24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3490920" y="31064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3311640" y="24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3490920" y="339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448000" y="2276640"/>
            <a:ext cx="1547640" cy="1620720"/>
            <a:chOff x="2448000" y="2276640"/>
            <a:chExt cx="1547640" cy="1620720"/>
          </a:xfrm>
        </p:grpSpPr>
        <p:sp>
          <p:nvSpPr>
            <p:cNvPr id="378" name=""/>
            <p:cNvSpPr/>
            <p:nvPr/>
          </p:nvSpPr>
          <p:spPr>
            <a:xfrm>
              <a:off x="2448000" y="2276640"/>
              <a:ext cx="1081080" cy="1620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bbe0e3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29080" y="2311560"/>
              <a:ext cx="466560" cy="1584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0" y="1449360"/>
            <a:ext cx="3852720" cy="2448000"/>
            <a:chOff x="0" y="1449360"/>
            <a:chExt cx="3852720" cy="2448000"/>
          </a:xfrm>
        </p:grpSpPr>
        <p:grpSp>
          <p:nvGrpSpPr>
            <p:cNvPr id="381" name=""/>
            <p:cNvGrpSpPr/>
            <p:nvPr/>
          </p:nvGrpSpPr>
          <p:grpSpPr>
            <a:xfrm>
              <a:off x="0" y="1449360"/>
              <a:ext cx="3851280" cy="2448000"/>
              <a:chOff x="0" y="1449360"/>
              <a:chExt cx="3851280" cy="2448000"/>
            </a:xfrm>
          </p:grpSpPr>
          <p:sp>
            <p:nvSpPr>
              <p:cNvPr id="382" name=""/>
              <p:cNvSpPr/>
              <p:nvPr/>
            </p:nvSpPr>
            <p:spPr>
              <a:xfrm>
                <a:off x="0" y="1449360"/>
                <a:ext cx="826920" cy="2448000"/>
              </a:xfrm>
              <a:prstGeom prst="rect">
                <a:avLst/>
              </a:pr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76360" y="1449360"/>
                <a:ext cx="3274920" cy="827280"/>
              </a:xfrm>
              <a:prstGeom prst="rect">
                <a:avLst/>
              </a:prstGeom>
              <a:solidFill>
                <a:srgbClr val="dd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395280" y="1521000"/>
              <a:ext cx="3457440" cy="1908000"/>
              <a:chOff x="395280" y="1521000"/>
              <a:chExt cx="3457440" cy="1908000"/>
            </a:xfrm>
          </p:grpSpPr>
          <p:sp>
            <p:nvSpPr>
              <p:cNvPr id="385" name=""/>
              <p:cNvSpPr/>
              <p:nvPr/>
            </p:nvSpPr>
            <p:spPr>
              <a:xfrm>
                <a:off x="719280" y="2708280"/>
                <a:ext cx="107640" cy="720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6200000">
                <a:off x="3276360" y="1700280"/>
                <a:ext cx="108000" cy="1044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395280" y="3105000"/>
                <a:ext cx="32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395280" y="1808280"/>
                <a:ext cx="0" cy="12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50920" y="1700280"/>
                <a:ext cx="612720" cy="216000"/>
              </a:xfrm>
              <a:prstGeom prst="rect">
                <a:avLst/>
              </a:prstGeom>
              <a:solidFill>
                <a:srgbClr val="ddffd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5280" y="1808280"/>
                <a:ext cx="75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63640" y="180828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232000" y="1521000"/>
                <a:ext cx="0" cy="57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340000" y="1665360"/>
                <a:ext cx="71280" cy="252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411280" y="1808280"/>
                <a:ext cx="90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311640" y="180828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"/>
          <p:cNvSpPr/>
          <p:nvPr/>
        </p:nvSpPr>
        <p:spPr>
          <a:xfrm>
            <a:off x="431640" y="4689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la zona central es muy ancha el comportamiento es el dos diodos en serie: el funcionamiento de la primera unión no afecta al de la segu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3 -0.00047 C 0.00087 -0.02477 0.00139 -0.04885 -0.01545 -0.06065 C -0.03229 -0.07246 -0.04861 -0.06968 -0.10086 -0.07084 C -0.15312 -0.07199 -0.2868 -0.08218 -0.32934 -0.06806 C -0.37187 -0.05394 -0.3559 -0.0044 -0.35642 0.01435 C -0.35694 0.0331 -0.34131 0.04467 -0.33211 0.0449 C -0.32291 0.04513 -0.31579 0.0243 -0.30156 0.01527 C -0.28732 0.00625 -0.28107 -0.00371 -0.2467 -0.0088 C -0.21232 -0.01389 -0.13263 -0.01574 -0.09531 -0.01528 C -0.05798 -0.01482 -0.03402 -0.00811 -0.02309 -0.00602 L 0.00053 -0.00047 Z">
                                      <p:cBhvr>
                                        <p:cTn id="515" dur="5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047 C 0.00521 -0.00811 0.01077 -0.01551 0.01285 -0.02454 C 0.01494 -0.03357 0.0231 -0.04537 0.01216 -0.0551 C 0.00122 -0.06482 -0.00989 -0.07987 -0.05312 -0.08287 C -0.09635 -0.08588 -0.20296 -0.08681 -0.24757 -0.07269 C -0.29219 -0.05857 -0.31337 -0.02037 -0.32119 0.00138 C -0.329 0.02314 -0.31563 0.05578 -0.2948 0.05787 C -0.27396 0.05995 -0.22657 0.02384 -0.19619 0.01435 C -0.1658 0.00486 -0.14254 0.00185 -0.11285 0.00046 C -0.08315 -0.00093 -0.0342 0.00486 -0.0184 0.00601 L -0.00034 -0.00047 Z">
                                      <p:cBhvr>
                                        <p:cTn id="517" dur="5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0.00069 C 0.0059 -0.00069 0.01198 -0.00185 0.01527 -0.01319 C 0.01857 -0.02454 0.02083 -0.05324 0.01944 -0.06782 C 0.01805 -0.08241 0.03142 -0.09259 0.00694 -0.10116 C -0.01754 -0.10972 -0.07396 -0.11875 -0.12778 -0.11875 C -0.1816 -0.11875 -0.2842 -0.12083 -0.31598 -0.10116 C -0.34775 -0.08148 -0.32448 -0.01875 -0.31875 -0.00023 C -0.31302 0.01829 -0.2974 0.01134 -0.28125 0.00995 C -0.26511 0.00856 -0.25018 -0.00463 -0.22223 -0.00857 C -0.19445 -0.0125 -0.14723 -0.01505 -0.11459 -0.01412 C -0.08195 -0.01319 -0.04445 -0.00417 -0.02639 -0.00301 L 3.05556E-006 0.00069 Z">
                                      <p:cBhvr>
                                        <p:cTn id="519" dur="5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2.22222E-006 C 0.03143 -0.00533 0.01337 -0.01042 0.01354 -0.03148 C 0.01372 -0.05255 0.01233 -0.10556 0.00174 -0.12593 C -0.00885 -0.1463 -0.00121 -0.14931 -0.04965 -0.15371 C -0.09809 -0.1581 -0.24062 -0.16736 -0.28854 -0.15278 C -0.33646 -0.1382 -0.3335 -0.09051 -0.33715 -0.06667 C -0.3408 -0.04283 -0.33819 -0.02153 -0.31076 -0.01019 C -0.28333 0.00116 -0.22413 -0.0007 -0.17257 0.00092 C -0.12135 0.00254 -0.03073 0.00532 0.00035 2.22222E-006 Z">
                                      <p:cBhvr>
                                        <p:cTn id="521" dur="5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4 0.00116 C 0.00243 -0.04375 0.00382 -0.08843 0.00035 -0.11829 C -0.00312 -0.14815 -0.00382 -0.16482 -0.01979 -0.17755 C -0.03576 -0.19028 -0.04149 -0.19306 -0.09548 -0.19421 C -0.14948 -0.19537 -0.30417 -0.21736 -0.3434 -0.18403 C -0.38264 -0.1507 -0.36302 -0.03403 -0.3309 0.00579 C -0.29878 0.0456 -0.20469 0.05208 -0.15104 0.05486 C -0.09739 0.05764 -0.03177 0.03333 -0.00868 0.02245 L 0.00104 0.00116 Z">
                                      <p:cBhvr>
                                        <p:cTn id="523" dur="5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0.00254 C 0.00782 -0.0081 0.01042 0.00579 0.00955 -0.02523 C 0.00868 -0.05625 0.01563 -0.15255 -0.00642 -0.18357 C -0.02847 -0.21459 -0.07413 -0.2081 -0.12309 -0.21134 C -0.17205 -0.21459 -0.26475 -0.22616 -0.30017 -0.20301 C -0.33559 -0.17986 -0.33437 -0.10463 -0.33559 -0.07246 C -0.3368 -0.04028 -0.32083 -0.02801 -0.30711 -0.01042 C -0.2934 0.00717 -0.27916 0.02361 -0.25295 0.0331 C -0.22673 0.04259 -0.18455 0.04514 -0.15017 0.04606 C -0.1158 0.04699 -0.0717 0.04583 -0.04705 0.03866 C -0.02187 0.03148 -0.01093 0.01319 -0.00156 0.00254 Z">
                                      <p:cBhvr>
                                        <p:cTn id="525" dur="5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7 0.00069 C 0.02743 -0.00347 0.09913 -0.00093 0.12014 -0.00857 C 0.14114 -0.0162 0.14358 -0.03357 0.125 -0.0456 C 0.10642 -0.05764 0.04427 -0.07361 0.00833 -0.08079 C -0.02761 -0.08796 -0.06424 -0.09907 -0.09028 -0.0882 C -0.11632 -0.07732 -0.14549 -0.0412 -0.14792 -0.01597 C -0.15035 0.00926 -0.12136 0.05833 -0.10486 0.06366 C -0.08837 0.06898 -0.06615 0.02708 -0.04861 0.01643 C -0.03108 0.00579 -0.02882 0.00486 -0.0007 0.00069 Z">
                                      <p:cBhvr>
                                        <p:cTn id="527" dur="5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069 C 0.03056 -0.00185 0.12639 0.00162 0.16337 -0.00023 C 0.20035 -0.00208 0.21146 -0.00278 0.2224 -0.01042 C 0.23334 -0.01806 0.23768 -0.0338 0.22934 -0.0456 C 0.22101 -0.05741 0.2033 -0.07245 0.1724 -0.08079 C 0.1415 -0.08912 0.08612 -0.09722 0.04393 -0.0956 C 0.00174 -0.09398 -0.05711 -0.09028 -0.08107 -0.07153 C -0.10503 -0.05278 -0.1052 -0.00278 -0.09982 0.01736 C -0.09444 0.0375 -0.06197 0.05023 -0.04843 0.04977 C -0.03489 0.0493 -0.02656 0.02292 -0.01857 0.01458 C -0.01059 0.00625 -0.0302 0.00324 0.00018 0.00069 Z">
                                      <p:cBhvr>
                                        <p:cTn id="529" dur="5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52 0.00023 C 0.02361 -0.00209 0.05868 -0.0007 0.08073 -0.0044 C 0.10278 -0.0081 0.12153 -0.01065 0.13212 -0.02199 C 0.14271 -0.03334 0.15208 -0.05949 0.14462 -0.07292 C 0.13715 -0.08634 0.11875 -0.09722 0.08698 -0.10255 C 0.05521 -0.10787 -0.00608 -0.10718 -0.04566 -0.1044 C -0.08524 -0.10162 -0.12847 -0.10648 -0.15052 -0.08588 C -0.17257 -0.06528 -0.17969 -0.00371 -0.1783 0.01967 C -0.17691 0.04305 -0.16111 0.05648 -0.14219 0.05486 C -0.12327 0.05324 -0.0882 0.01852 -0.06441 0.00949 C -0.04063 0.00046 -0.02465 0.00254 -0.00052 0.00023 Z">
                                      <p:cBhvr>
                                        <p:cTn id="531" dur="5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-0.00162 C 0.0217 -0.00116 0.08038 0.00069 0.10556 -0.00162 C 0.1316 -0.00394 0.14063 -0.00417 0.15139 -0.01551 C 0.16094 -0.02685 0.1684 -0.05324 0.17066 -0.07014 C 0.17292 -0.08704 0.17986 -0.10463 0.16493 -0.11644 C 0.14965 -0.12824 0.11528 -0.13704 0.08125 -0.14051 C 0.04792 -0.14398 0.00347 -0.14213 -0.03559 -0.13773 C -0.07483 -0.13333 -0.13507 -0.14144 -0.15226 -0.11366 C -0.16944 -0.08588 -0.15833 0.01065 -0.13906 0.02893 C -0.12014 0.04722 -0.05955 0.00092 -0.03646 -0.0044 C -0.01354 -0.00972 -0.02569 -0.00208 -0.00156 -0.00162 Z">
                                      <p:cBhvr>
                                        <p:cTn id="533" dur="5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5 0.0007 C 0.00955 -0.0044 0.00851 -0.01944 0.03299 -0.0243 C 0.05747 -0.02917 0.11389 -0.02639 0.14618 -0.02801 C 0.17847 -0.02963 0.21024 -0.02546 0.22674 -0.03356 C 0.24323 -0.04167 0.24566 -0.06157 0.24549 -0.07616 C 0.24531 -0.09074 0.25295 -0.11018 0.22604 -0.1206 C 0.19913 -0.13102 0.12101 -0.13727 0.08368 -0.13819 C 0.04635 -0.13912 0.02413 -0.1412 0.00243 -0.12616 C -0.01927 -0.11111 -0.04219 -0.07037 -0.04687 -0.04838 C -0.05156 -0.02639 -0.03385 -0.00185 -0.02604 0.00625 C -0.01823 0.01435 -0.01024 0.00579 -0.00035 0.0007 Z">
                                      <p:cBhvr>
                                        <p:cTn id="535" dur="5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7 0.00023 C 0.02534 0.00231 0.03194 -0.00093 0.05711 -0.00162 C 0.08211 -0.00232 0.12829 3.70369999999794E-007 0.15086 -0.00347 C 0.17326 -0.00694 0.18368 -0.00903 0.19236 -0.02292 C 0.20138 -0.03681 0.20625 -0.06875 0.20364 -0.08681 C 0.20104 -0.10486 0.1967 -0.1213 0.17638 -0.13125 C 0.15607 -0.1412 0.11527 -0.14352 0.08194 -0.14607 C 0.04895 -0.14861 0.00694 -0.15116 -0.02205 -0.14699 C -0.05105 -0.14282 -0.07882 -0.14306 -0.0915 -0.12107 C -0.10417 -0.09907 -0.11303 -0.03472 -0.09775 -0.01458 C -0.08247 0.00556 -0.02639 -0.00185 -0.0007 0.00023 Z">
                                      <p:cBhvr>
                                        <p:cTn id="537" dur="5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21 0.00023 C 0.02014 -0.00139 0.06146 0.00347 0.08316 -0.0044 C 0.10521 -0.01227 0.12084 -0.02824 0.12917 -0.04699 C 0.1375 -0.06574 0.13889 -0.09838 0.13351 -0.11644 C 0.12778 -0.13449 0.12709 -0.14769 0.09584 -0.15533 C 0.06476 -0.16297 -0.00937 -0.16505 -0.05277 -0.16273 C -0.09583 -0.16042 -0.14305 -0.16806 -0.16302 -0.14144 C -0.18316 -0.11482 -0.19288 -0.02709 -0.17343 -0.00255 C -0.15399 0.02199 -0.075 0.00509 -0.04652 0.00578 C -0.0177 0.00648 -0.02291 0.00185 -0.00121 0.00023 Z">
                                      <p:cBhvr>
                                        <p:cTn id="539" dur="5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0.00116 C 0.03334 0.00625 0.08629 0.01041 0.12257 0.00856 C 0.15868 0.00671 0.19705 0.00254 0.21841 -0.00996 C 0.23976 -0.02246 0.24566 -0.04398 0.25035 -0.06644 C 0.25504 -0.08889 0.26372 -0.12616 0.24688 -0.14514 C 0.23004 -0.16412 0.19219 -0.17593 0.14966 -0.18033 C 0.10695 -0.18472 0.02952 -0.18334 -0.00868 -0.17199 C -0.04687 -0.16065 -0.0684 -0.13773 -0.07951 -0.11273 C -0.09062 -0.08773 -0.08854 -0.04097 -0.07534 -0.02199 C -0.06215 -0.00301 -0.03263 -0.00394 0.00035 0.00116 Z">
                                      <p:cBhvr>
                                        <p:cTn id="541" dur="5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66667E-006 -2.96296E-006 C 0.03733 0.00116 0.07865 0.00949 0.11181 0.00278 C 0.14497 -0.00394 0.18577 -0.01528 0.19931 -0.03982 C 0.21285 -0.06435 0.20955 -0.11968 0.19306 -0.14445 C 0.17657 -0.16921 0.14601 -0.18241 0.1007 -0.18889 C 0.05539 -0.19537 -0.03872 -0.19699 -0.07917 -0.18333 C -0.11962 -0.16968 -0.13681 -0.13727 -0.14237 -0.10741 C -0.14792 -0.07755 -0.13629 -0.02153 -0.11251 -0.0037 C -0.08872 0.01412 -0.03732 -0.00116 1.66667E-006 -2.96296E-006 Z">
                                      <p:cBhvr>
                                        <p:cTn id="543" dur="5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7 0.00023 C 0.01284 0.00185 0.01024 -0.00046 0.05087 0.00023 C 0.09149 0.00093 0.20625 0.0294 0.24392 0.00486 C 0.28159 -0.01967 0.28368 -0.11389 0.27725 -0.14699 C 0.27083 -0.18009 0.25069 -0.18634 0.20573 -0.19421 C 0.16076 -0.20208 0.05052 -0.2081 0.00781 -0.19421 C -0.0349 -0.18032 -0.04514 -0.14166 -0.05052 -0.11088 C -0.05591 -0.08009 -0.03316 -0.02754 -0.02483 -0.00903 C -0.0165 0.00949 -0.0125 -0.00139 0.00017 0.00023 Z">
                                      <p:cBhvr>
                                        <p:cTn id="545" dur="5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18 0.00278 C 0.02882 0.00949 0.05417 0.00903 0.08524 0.00926 C 0.11632 0.00949 0.16371 0.02615 0.18663 0.0037 C 0.20955 -0.01875 0.22118 -0.09121 0.22274 -0.12593 C 0.2243 -0.16065 0.22396 -0.18866 0.19566 -0.20463 C 0.16736 -0.2206 0.1026 -0.22315 0.0526 -0.2213 C 0.0026 -0.21945 -0.08073 -0.22523 -0.10434 -0.19352 C -0.12795 -0.16181 -0.10643 -0.06412 -0.08906 -0.03148 C -0.0717 0.00115 -0.02917 -0.00394 -0.00018 0.00278 Z">
                                      <p:cBhvr>
                                        <p:cTn id="547" dur="5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7 -7.40741E-007 C 0.02882 0.00301 0.05833 0.0081 0.08489 0.00463 C 0.11146 0.00116 0.14479 0.01111 0.15989 -0.0213 C 0.175 -0.0537 0.1901 -0.15162 0.17517 -0.18981 C 0.16024 -0.22801 0.11962 -0.24329 0.07031 -0.25 C 0.021 -0.25671 -0.08368 -0.25463 -0.12066 -0.22963 C -0.15764 -0.20463 -0.15695 -0.13611 -0.15122 -0.1 C -0.14549 -0.06389 -0.11181 -0.02963 -0.08663 -0.01296 C -0.06146 0.0037 -0.02847 -0.00301 0.00017 -7.40741E-007 Z">
                                      <p:cBhvr>
                                        <p:cTn id="549" dur="5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69 0.0007 C 0.02413 0.00718 0.06962 0.01204 0.10417 0.01274 C 0.13872 0.01343 0.18108 0.0132 0.20625 0.0044 C 0.23142 -0.00439 0.24601 -0.00601 0.25486 -0.04004 C 0.26372 -0.07407 0.28646 -0.16643 0.25972 -0.20023 C 0.23299 -0.23402 0.14549 -0.23726 0.09445 -0.24282 C 0.0434 -0.24837 -0.01771 -0.2574 -0.04653 -0.23356 C -0.07535 -0.20972 -0.07864 -0.13379 -0.07847 -0.0993 C -0.0783 -0.06481 -0.05816 -0.04282 -0.04514 -0.02615 C -0.03212 -0.00949 -0.02552 -0.00578 -0.00069 0.0007 Z">
                                      <p:cBhvr>
                                        <p:cTn id="551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8.33333E-007 2.59259E-006 C 0.02031 -0.00116 0.0526 0.01019 0.07291 -0.00648 C 0.09323 -0.02315 0.11302 -0.06828 0.12153 -0.1 C 0.13003 -0.13171 0.13385 -0.17477 0.12361 -0.19722 C 0.11337 -0.21967 0.09219 -0.22569 0.06041 -0.23426 C 0.02864 -0.24282 -0.02969 -0.25393 -0.06667 -0.24815 C -0.10365 -0.24236 -0.1467 -0.23171 -0.16111 -0.19907 C -0.17552 -0.16643 -0.17136 -0.08611 -0.15278 -0.05278 C -0.1342 -0.01944 -0.07483 -0.00764 -0.04931 0.00093 C -0.02379 0.00949 -0.02031 0.00116 8.33333E-007 2.59259E-006 Z">
                                      <p:cBhvr>
                                        <p:cTn id="553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16667E-006 1.11111E-006 C 0.02291 0.00324 0.05902 0.00694 0.0868 0.00463 C 0.11458 0.00231 0.14444 -0.00116 0.16649 -0.01389 C 0.18888 -0.02662 0.21093 -0.04398 0.22013 -0.0713 C 0.22934 -0.09861 0.22413 -0.14583 0.22222 -0.17778 C 0.22031 -0.20972 0.24062 -0.24468 0.20833 -0.26296 C 0.17604 -0.28125 0.0802 -0.28958 0.02847 -0.28796 C -0.02396 -0.28634 -0.08177 -0.28426 -0.10417 -0.25278 C -0.12657 -0.2213 -0.11112 -0.13079 -0.10556 -0.09908 C -0.1 -0.06736 -0.08004 -0.07616 -0.07084 -0.06204 C -0.06164 -0.04792 -0.0625 -0.02523 -0.0507 -0.01482 C -0.03889 -0.0044 -0.02327 -0.00324 4.16667E-006 1.11111E-006 Z">
                                      <p:cBhvr>
                                        <p:cTn id="555" dur="5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1.48148E-006 C 0.02726 -0.00023 0.10868 -0.00023 0.15069 -0.00556 C 0.19271 -0.01088 0.23281 -0.00509 0.25208 -0.03241 C 0.27135 -0.05972 0.26423 -0.13542 0.26597 -0.16945 C 0.26771 -0.20347 0.2717 -0.2169 0.2625 -0.23704 C 0.2533 -0.25718 0.25694 -0.28148 0.21042 -0.29074 C 0.16389 -0.3 0.02899 -0.3132 -0.01667 -0.29259 C -0.06233 -0.27199 -0.05938 -0.20533 -0.0632 -0.16759 C -0.06702 -0.12986 -0.04566 -0.08449 -0.03958 -0.06574 C -0.03351 -0.04699 -0.0309 -0.06597 -0.02639 -0.05556 C -0.02188 -0.04514 -0.01684 -0.01296 -0.0125 -0.00371 C -0.00816 0.00555 -0.02726 0.00023 1.38889E-006 1.48148E-006 Z">
                                      <p:cBhvr>
                                        <p:cTn id="557" dur="5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3 -0.00047 C 0.00087 -0.02477 0.00139 -0.04885 -0.01545 -0.06065 C -0.03229 -0.07246 -0.04861 -0.06968 -0.10086 -0.07084 C -0.15312 -0.07199 -0.2868 -0.08218 -0.32934 -0.06806 C -0.37187 -0.05394 -0.3559 -0.0044 -0.35642 0.01435 C -0.35694 0.0331 -0.34131 0.04467 -0.33211 0.0449 C -0.32291 0.04513 -0.31579 0.0243 -0.30156 0.01527 C -0.28732 0.00625 -0.28107 -0.00371 -0.2467 -0.0088 C -0.21232 -0.01389 -0.13263 -0.01574 -0.09531 -0.01528 C -0.05798 -0.01482 -0.03402 -0.00811 -0.02309 -0.00602 L 0.00053 -0.00047 Z">
                                      <p:cBhvr>
                                        <p:cTn id="559" dur="5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047 C 0.00521 -0.00811 0.01077 -0.01551 0.01285 -0.02454 C 0.01494 -0.03357 0.0231 -0.04537 0.01216 -0.0551 C 0.00122 -0.06482 -0.00989 -0.07987 -0.05312 -0.08287 C -0.09635 -0.08588 -0.20296 -0.08681 -0.24757 -0.07269 C -0.29219 -0.05857 -0.31337 -0.02037 -0.32119 0.00138 C -0.329 0.02314 -0.31563 0.05578 -0.2948 0.05787 C -0.27396 0.05995 -0.22657 0.02384 -0.19619 0.01435 C -0.1658 0.00486 -0.14254 0.00185 -0.11285 0.00046 C -0.08315 -0.00093 -0.0342 0.00486 -0.0184 0.00601 L -0.00034 -0.00047 Z">
                                      <p:cBhvr>
                                        <p:cTn id="561" dur="5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0.00069 C 0.0059 -0.00069 0.01198 -0.00185 0.01527 -0.01319 C 0.01857 -0.02454 0.02083 -0.05324 0.01944 -0.06782 C 0.01805 -0.08241 0.03142 -0.09259 0.00694 -0.10116 C -0.01754 -0.10972 -0.07396 -0.11875 -0.12778 -0.11875 C -0.1816 -0.11875 -0.2842 -0.12083 -0.31598 -0.10116 C -0.34775 -0.08148 -0.32448 -0.01875 -0.31875 -0.00023 C -0.31302 0.01829 -0.2974 0.01134 -0.28125 0.00995 C -0.26511 0.00856 -0.25018 -0.00463 -0.22223 -0.00857 C -0.19445 -0.0125 -0.14723 -0.01505 -0.11459 -0.01412 C -0.08195 -0.01319 -0.04445 -0.00417 -0.02639 -0.00301 L 3.05556E-006 0.00069 Z">
                                      <p:cBhvr>
                                        <p:cTn id="563" dur="5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2.22222E-006 C 0.03143 -0.00533 0.01337 -0.01042 0.01354 -0.03148 C 0.01372 -0.05255 0.01233 -0.10556 0.00174 -0.12593 C -0.00885 -0.1463 -0.00121 -0.14931 -0.04965 -0.15371 C -0.09809 -0.1581 -0.24062 -0.16736 -0.28854 -0.15278 C -0.33646 -0.1382 -0.3335 -0.09051 -0.33715 -0.06667 C -0.3408 -0.04283 -0.33819 -0.02153 -0.31076 -0.01019 C -0.28333 0.00116 -0.22413 -0.0007 -0.17257 0.00092 C -0.12135 0.00254 -0.03073 0.00532 0.00035 2.22222E-006 Z">
                                      <p:cBhvr>
                                        <p:cTn id="565" dur="5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4 0.00116 C 0.00243 -0.04375 0.00382 -0.08843 0.00035 -0.11829 C -0.00312 -0.14815 -0.00382 -0.16482 -0.01979 -0.17755 C -0.03576 -0.19028 -0.04149 -0.19306 -0.09548 -0.19421 C -0.14948 -0.19537 -0.30417 -0.21736 -0.3434 -0.18403 C -0.38264 -0.1507 -0.36302 -0.03403 -0.3309 0.00579 C -0.29878 0.0456 -0.20469 0.05208 -0.15104 0.05486 C -0.09739 0.05764 -0.03177 0.03333 -0.00868 0.02245 L 0.00104 0.00116 Z">
                                      <p:cBhvr>
                                        <p:cTn id="567" dur="5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0.00254 C 0.00782 -0.0081 0.01042 0.00579 0.00955 -0.02523 C 0.00868 -0.05625 0.01563 -0.15255 -0.00642 -0.18357 C -0.02847 -0.21459 -0.07413 -0.2081 -0.12309 -0.21134 C -0.17205 -0.21459 -0.26475 -0.22616 -0.30017 -0.20301 C -0.33559 -0.17986 -0.33437 -0.10463 -0.33559 -0.07246 C -0.3368 -0.04028 -0.32083 -0.02801 -0.30711 -0.01042 C -0.2934 0.00717 -0.27916 0.02361 -0.25295 0.0331 C -0.22673 0.04259 -0.18455 0.04514 -0.15017 0.04606 C -0.1158 0.04699 -0.0717 0.04583 -0.04705 0.03866 C -0.02187 0.03148 -0.01093 0.01319 -0.00156 0.00254 Z">
                                      <p:cBhvr>
                                        <p:cTn id="569" dur="5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3 -0.00047 C 0.00087 -0.02477 0.00139 -0.04885 -0.01545 -0.06065 C -0.03229 -0.07246 -0.04861 -0.06968 -0.10086 -0.07084 C -0.15312 -0.07199 -0.2868 -0.08218 -0.32934 -0.06806 C -0.37187 -0.05394 -0.3559 -0.0044 -0.35642 0.01435 C -0.35694 0.0331 -0.34131 0.04467 -0.33211 0.0449 C -0.32291 0.04513 -0.31579 0.0243 -0.30156 0.01527 C -0.28732 0.00625 -0.28107 -0.00371 -0.2467 -0.0088 C -0.21232 -0.01389 -0.13263 -0.01574 -0.09531 -0.01528 C -0.05798 -0.01482 -0.03402 -0.00811 -0.02309 -0.00602 L 0.00053 -0.00047 Z">
                                      <p:cBhvr>
                                        <p:cTn id="589" dur="5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047 C 0.00521 -0.00811 0.01077 -0.01551 0.01285 -0.02454 C 0.01494 -0.03357 0.0231 -0.04537 0.01216 -0.0551 C 0.00122 -0.06482 -0.00989 -0.07987 -0.05312 -0.08287 C -0.09635 -0.08588 -0.20296 -0.08681 -0.24757 -0.07269 C -0.29219 -0.05857 -0.31337 -0.02037 -0.32119 0.00138 C -0.329 0.02314 -0.31563 0.05578 -0.2948 0.05787 C -0.27396 0.05995 -0.22657 0.02384 -0.19619 0.01435 C -0.1658 0.00486 -0.14254 0.00185 -0.11285 0.00046 C -0.08315 -0.00093 -0.0342 0.00486 -0.0184 0.00601 L -0.00034 -0.00047 Z">
                                      <p:cBhvr>
                                        <p:cTn id="591" dur="5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0.00069 C 0.0059 -0.00069 0.01198 -0.00185 0.01527 -0.01319 C 0.01857 -0.02454 0.02083 -0.05324 0.01944 -0.06782 C 0.01805 -0.08241 0.03142 -0.09259 0.00694 -0.10116 C -0.01754 -0.10972 -0.07396 -0.11875 -0.12778 -0.11875 C -0.1816 -0.11875 -0.2842 -0.12083 -0.31598 -0.10116 C -0.34775 -0.08148 -0.32448 -0.01875 -0.31875 -0.00023 C -0.31302 0.01829 -0.2974 0.01134 -0.28125 0.00995 C -0.26511 0.00856 -0.25018 -0.00463 -0.22223 -0.00857 C -0.19445 -0.0125 -0.14723 -0.01505 -0.11459 -0.01412 C -0.08195 -0.01319 -0.04445 -0.00417 -0.02639 -0.00301 L 3.05556E-006 0.00069 Z">
                                      <p:cBhvr>
                                        <p:cTn id="593" dur="5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2.22222E-006 C 0.03143 -0.00533 0.01337 -0.01042 0.01354 -0.03148 C 0.01372 -0.05255 0.01233 -0.10556 0.00174 -0.12593 C -0.00885 -0.1463 -0.00121 -0.14931 -0.04965 -0.15371 C -0.09809 -0.1581 -0.24062 -0.16736 -0.28854 -0.15278 C -0.33646 -0.1382 -0.3335 -0.09051 -0.33715 -0.06667 C -0.3408 -0.04283 -0.33819 -0.02153 -0.31076 -0.01019 C -0.28333 0.00116 -0.22413 -0.0007 -0.17257 0.00092 C -0.12135 0.00254 -0.03073 0.00532 0.00035 2.22222E-006 Z">
                                      <p:cBhvr>
                                        <p:cTn id="595" dur="5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4 0.00116 C 0.00243 -0.04375 0.00382 -0.08843 0.00035 -0.11829 C -0.00312 -0.14815 -0.00382 -0.16482 -0.01979 -0.17755 C -0.03576 -0.19028 -0.04149 -0.19306 -0.09548 -0.19421 C -0.14948 -0.19537 -0.30417 -0.21736 -0.3434 -0.18403 C -0.38264 -0.1507 -0.36302 -0.03403 -0.3309 0.00579 C -0.29878 0.0456 -0.20469 0.05208 -0.15104 0.05486 C -0.09739 0.05764 -0.03177 0.03333 -0.00868 0.02245 L 0.00104 0.00116 Z">
                                      <p:cBhvr>
                                        <p:cTn id="597" dur="5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0.00254 C 0.00782 -0.0081 0.01042 0.00579 0.00955 -0.02523 C 0.00868 -0.05625 0.01563 -0.15255 -0.00642 -0.18357 C -0.02847 -0.21459 -0.07413 -0.2081 -0.12309 -0.21134 C -0.17205 -0.21459 -0.26475 -0.22616 -0.30017 -0.20301 C -0.33559 -0.17986 -0.33437 -0.10463 -0.33559 -0.07246 C -0.3368 -0.04028 -0.32083 -0.02801 -0.30711 -0.01042 C -0.2934 0.00717 -0.27916 0.02361 -0.25295 0.0331 C -0.22673 0.04259 -0.18455 0.04514 -0.15017 0.04606 C -0.1158 0.04699 -0.0717 0.04583 -0.04705 0.03866 C -0.02187 0.03148 -0.01093 0.01319 -0.00156 0.00254 Z">
                                      <p:cBhvr>
                                        <p:cTn id="599" dur="5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3 -0.00047 C 0.00087 -0.02477 0.00139 -0.04885 -0.01545 -0.06065 C -0.03229 -0.07246 -0.04861 -0.06968 -0.10086 -0.07084 C -0.15312 -0.07199 -0.2868 -0.08218 -0.32934 -0.06806 C -0.37187 -0.05394 -0.3559 -0.0044 -0.35642 0.01435 C -0.35694 0.0331 -0.34131 0.04467 -0.33211 0.0449 C -0.32291 0.04513 -0.31579 0.0243 -0.30156 0.01527 C -0.28732 0.00625 -0.28107 -0.00371 -0.2467 -0.0088 C -0.21232 -0.01389 -0.13263 -0.01574 -0.09531 -0.01528 C -0.05798 -0.01482 -0.03402 -0.00811 -0.02309 -0.00602 L 0.00053 -0.00047 Z">
                                      <p:cBhvr>
                                        <p:cTn id="619" dur="5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047 C 0.00521 -0.00811 0.01077 -0.01551 0.01285 -0.02454 C 0.01494 -0.03357 0.0231 -0.04537 0.01216 -0.0551 C 0.00122 -0.06482 -0.00989 -0.07987 -0.05312 -0.08287 C -0.09635 -0.08588 -0.20296 -0.08681 -0.24757 -0.07269 C -0.29219 -0.05857 -0.31337 -0.02037 -0.32119 0.00138 C -0.329 0.02314 -0.31563 0.05578 -0.2948 0.05787 C -0.27396 0.05995 -0.22657 0.02384 -0.19619 0.01435 C -0.1658 0.00486 -0.14254 0.00185 -0.11285 0.00046 C -0.08315 -0.00093 -0.0342 0.00486 -0.0184 0.00601 L -0.00034 -0.00047 Z">
                                      <p:cBhvr>
                                        <p:cTn id="621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0.00069 C 0.0059 -0.00069 0.01198 -0.00185 0.01527 -0.01319 C 0.01857 -0.02454 0.02083 -0.05324 0.01944 -0.06782 C 0.01805 -0.08241 0.03142 -0.09259 0.00694 -0.10116 C -0.01754 -0.10972 -0.07396 -0.11875 -0.12778 -0.11875 C -0.1816 -0.11875 -0.2842 -0.12083 -0.31598 -0.10116 C -0.34775 -0.08148 -0.32448 -0.01875 -0.31875 -0.00023 C -0.31302 0.01829 -0.2974 0.01134 -0.28125 0.00995 C -0.26511 0.00856 -0.25018 -0.00463 -0.22223 -0.00857 C -0.19445 -0.0125 -0.14723 -0.01505 -0.11459 -0.01412 C -0.08195 -0.01319 -0.04445 -0.00417 -0.02639 -0.00301 L 3.05556E-006 0.00069 Z">
                                      <p:cBhvr>
                                        <p:cTn id="623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2.22222E-006 C 0.03143 -0.00533 0.01337 -0.01042 0.01354 -0.03148 C 0.01372 -0.05255 0.01233 -0.10556 0.00174 -0.12593 C -0.00885 -0.1463 -0.00121 -0.14931 -0.04965 -0.15371 C -0.09809 -0.1581 -0.24062 -0.16736 -0.28854 -0.15278 C -0.33646 -0.1382 -0.3335 -0.09051 -0.33715 -0.06667 C -0.3408 -0.04283 -0.33819 -0.02153 -0.31076 -0.01019 C -0.28333 0.00116 -0.22413 -0.0007 -0.17257 0.00092 C -0.12135 0.00254 -0.03073 0.00532 0.00035 2.22222E-006 Z">
                                      <p:cBhvr>
                                        <p:cTn id="625" dur="5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4 0.00116 C 0.00243 -0.04375 0.00382 -0.08843 0.00035 -0.11829 C -0.00312 -0.14815 -0.00382 -0.16482 -0.01979 -0.17755 C -0.03576 -0.19028 -0.04149 -0.19306 -0.09548 -0.19421 C -0.14948 -0.19537 -0.30417 -0.21736 -0.3434 -0.18403 C -0.38264 -0.1507 -0.36302 -0.03403 -0.3309 0.00579 C -0.29878 0.0456 -0.20469 0.05208 -0.15104 0.05486 C -0.09739 0.05764 -0.03177 0.03333 -0.00868 0.02245 L 0.00104 0.00116 Z">
                                      <p:cBhvr>
                                        <p:cTn id="627" dur="5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0" repeatCount="indefinite">
                                  <p:stCondLst>
                                    <p:cond delay="3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0.00254 C 0.00782 -0.0081 0.01042 0.00579 0.00955 -0.02523 C 0.00868 -0.05625 0.01563 -0.15255 -0.00642 -0.18357 C -0.02847 -0.21459 -0.07413 -0.2081 -0.12309 -0.21134 C -0.17205 -0.21459 -0.26475 -0.22616 -0.30017 -0.20301 C -0.33559 -0.17986 -0.33437 -0.10463 -0.33559 -0.07246 C -0.3368 -0.04028 -0.32083 -0.02801 -0.30711 -0.01042 C -0.2934 0.00717 -0.27916 0.02361 -0.25295 0.0331 C -0.22673 0.04259 -0.18455 0.04514 -0.15017 0.04606 C -0.1158 0.04699 -0.0717 0.04583 -0.04705 0.03866 C -0.02187 0.03148 -0.01093 0.01319 -0.00156 0.00254 Z">
                                      <p:cBhvr>
                                        <p:cTn id="629" dur="5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3 -0.00047 C 0.00087 -0.02477 0.00139 -0.04885 -0.01545 -0.06065 C -0.03229 -0.07246 -0.04861 -0.06968 -0.10086 -0.07084 C -0.15312 -0.07199 -0.2868 -0.08218 -0.32934 -0.06806 C -0.37187 -0.05394 -0.3559 -0.0044 -0.35642 0.01435 C -0.35694 0.0331 -0.34131 0.04467 -0.33211 0.0449 C -0.32291 0.04513 -0.31579 0.0243 -0.30156 0.01527 C -0.28732 0.00625 -0.28107 -0.00371 -0.2467 -0.0088 C -0.21232 -0.01389 -0.13263 -0.01574 -0.09531 -0.01528 C -0.05798 -0.01482 -0.03402 -0.00811 -0.02309 -0.00602 L 0.00053 -0.00047 Z">
                                      <p:cBhvr>
                                        <p:cTn id="649" dur="5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4 -0.00047 C 0.00521 -0.00811 0.01077 -0.01551 0.01285 -0.02454 C 0.01494 -0.03357 0.0231 -0.04537 0.01216 -0.0551 C 0.00122 -0.06482 -0.00989 -0.07987 -0.05312 -0.08287 C -0.09635 -0.08588 -0.20296 -0.08681 -0.24757 -0.07269 C -0.29219 -0.05857 -0.31337 -0.02037 -0.32119 0.00138 C -0.329 0.02314 -0.31563 0.05578 -0.2948 0.05787 C -0.27396 0.05995 -0.22657 0.02384 -0.19619 0.01435 C -0.1658 0.00486 -0.14254 0.00185 -0.11285 0.00046 C -0.08315 -0.00093 -0.0342 0.00486 -0.0184 0.00601 L -0.00034 -0.00047 Z">
                                      <p:cBhvr>
                                        <p:cTn id="651" dur="5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0.00069 C 0.0059 -0.00069 0.01198 -0.00185 0.01527 -0.01319 C 0.01857 -0.02454 0.02083 -0.05324 0.01944 -0.06782 C 0.01805 -0.08241 0.03142 -0.09259 0.00694 -0.10116 C -0.01754 -0.10972 -0.07396 -0.11875 -0.12778 -0.11875 C -0.1816 -0.11875 -0.2842 -0.12083 -0.31598 -0.10116 C -0.34775 -0.08148 -0.32448 -0.01875 -0.31875 -0.00023 C -0.31302 0.01829 -0.2974 0.01134 -0.28125 0.00995 C -0.26511 0.00856 -0.25018 -0.00463 -0.22223 -0.00857 C -0.19445 -0.0125 -0.14723 -0.01505 -0.11459 -0.01412 C -0.08195 -0.01319 -0.04445 -0.00417 -0.02639 -0.00301 L 3.05556E-006 0.00069 Z">
                                      <p:cBhvr>
                                        <p:cTn id="653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35 2.22222E-006 C 0.03143 -0.00533 0.01337 -0.01042 0.01354 -0.03148 C 0.01372 -0.05255 0.01233 -0.10556 0.00174 -0.12593 C -0.00885 -0.1463 -0.00121 -0.14931 -0.04965 -0.15371 C -0.09809 -0.1581 -0.24062 -0.16736 -0.28854 -0.15278 C -0.33646 -0.1382 -0.3335 -0.09051 -0.33715 -0.06667 C -0.3408 -0.04283 -0.33819 -0.02153 -0.31076 -0.01019 C -0.28333 0.00116 -0.22413 -0.0007 -0.17257 0.00092 C -0.12135 0.00254 -0.03073 0.00532 0.00035 2.22222E-006 Z">
                                      <p:cBhvr>
                                        <p:cTn id="655" dur="5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4 0.00116 C 0.00243 -0.04375 0.00382 -0.08843 0.00035 -0.11829 C -0.00312 -0.14815 -0.00382 -0.16482 -0.01979 -0.17755 C -0.03576 -0.19028 -0.04149 -0.19306 -0.09548 -0.19421 C -0.14948 -0.19537 -0.30417 -0.21736 -0.3434 -0.18403 C -0.38264 -0.1507 -0.36302 -0.03403 -0.3309 0.00579 C -0.29878 0.0456 -0.20469 0.05208 -0.15104 0.05486 C -0.09739 0.05764 -0.03177 0.03333 -0.00868 0.02245 L 0.00104 0.00116 Z">
                                      <p:cBhvr>
                                        <p:cTn id="657" dur="5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156 0.00254 C 0.00782 -0.0081 0.01042 0.00579 0.00955 -0.02523 C 0.00868 -0.05625 0.01563 -0.15255 -0.00642 -0.18357 C -0.02847 -0.21459 -0.07413 -0.2081 -0.12309 -0.21134 C -0.17205 -0.21459 -0.26475 -0.22616 -0.30017 -0.20301 C -0.33559 -0.17986 -0.33437 -0.10463 -0.33559 -0.07246 C -0.3368 -0.04028 -0.32083 -0.02801 -0.30711 -0.01042 C -0.2934 0.00717 -0.27916 0.02361 -0.25295 0.0331 C -0.22673 0.04259 -0.18455 0.04514 -0.15017 0.04606 C -0.1158 0.04699 -0.0717 0.04583 -0.04705 0.03866 C -0.02187 0.03148 -0.01093 0.01319 -0.00156 0.00254 Z">
                                      <p:cBhvr>
                                        <p:cTn id="659" dur="5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1440" y="2276640"/>
            <a:ext cx="4391280" cy="16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21440" y="39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6200000">
            <a:off x="4500360" y="909360"/>
            <a:ext cx="142920" cy="259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Principio de funcionamiento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867280" y="1449360"/>
            <a:ext cx="3276720" cy="2952720"/>
            <a:chOff x="5867280" y="1449360"/>
            <a:chExt cx="3276720" cy="2952720"/>
          </a:xfrm>
        </p:grpSpPr>
        <p:sp>
          <p:nvSpPr>
            <p:cNvPr id="402" name=""/>
            <p:cNvSpPr/>
            <p:nvPr/>
          </p:nvSpPr>
          <p:spPr>
            <a:xfrm flipH="1">
              <a:off x="6766920" y="2276640"/>
              <a:ext cx="1547640" cy="1618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59960" y="4033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8331120" y="1449360"/>
              <a:ext cx="812880" cy="244800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904000" y="1449360"/>
              <a:ext cx="2674800" cy="82728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8331120" y="2708280"/>
              <a:ext cx="10656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5400000">
              <a:off x="6055200" y="1945080"/>
              <a:ext cx="142920" cy="51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37680" y="3105000"/>
              <a:ext cx="31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8755200" y="1808280"/>
              <a:ext cx="0" cy="12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236000" y="1808280"/>
              <a:ext cx="151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7094520" y="1521000"/>
              <a:ext cx="176400" cy="576000"/>
              <a:chOff x="7094520" y="1521000"/>
              <a:chExt cx="176400" cy="576000"/>
            </a:xfrm>
          </p:grpSpPr>
          <p:sp>
            <p:nvSpPr>
              <p:cNvPr id="412" name=""/>
              <p:cNvSpPr/>
              <p:nvPr/>
            </p:nvSpPr>
            <p:spPr>
              <a:xfrm>
                <a:off x="7094520" y="1521000"/>
                <a:ext cx="0" cy="57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201080" y="1665360"/>
                <a:ext cx="69840" cy="252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 flipH="1">
              <a:off x="5892480" y="1808280"/>
              <a:ext cx="116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92840" y="1808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6193080" y="2282760"/>
              <a:ext cx="1152360" cy="1608120"/>
              <a:chOff x="6193080" y="2282760"/>
              <a:chExt cx="1152360" cy="160812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6768720" y="2282760"/>
                <a:ext cx="576360" cy="16081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cc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6193080" y="2282760"/>
                <a:ext cx="576000" cy="16081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0" y="1449360"/>
            <a:ext cx="3311640" cy="2887560"/>
            <a:chOff x="0" y="1449360"/>
            <a:chExt cx="3311640" cy="2887560"/>
          </a:xfrm>
        </p:grpSpPr>
        <p:sp>
          <p:nvSpPr>
            <p:cNvPr id="420" name=""/>
            <p:cNvSpPr/>
            <p:nvPr/>
          </p:nvSpPr>
          <p:spPr>
            <a:xfrm>
              <a:off x="826920" y="2276640"/>
              <a:ext cx="1548000" cy="1618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5440" y="3968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157480" y="2282760"/>
              <a:ext cx="434880" cy="1614600"/>
              <a:chOff x="2157480" y="2282760"/>
              <a:chExt cx="434880" cy="1614600"/>
            </a:xfrm>
          </p:grpSpPr>
          <p:sp>
            <p:nvSpPr>
              <p:cNvPr id="423" name=""/>
              <p:cNvSpPr/>
              <p:nvPr/>
            </p:nvSpPr>
            <p:spPr>
              <a:xfrm>
                <a:off x="2157480" y="2282760"/>
                <a:ext cx="217440" cy="16146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cc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374920" y="2282760"/>
                <a:ext cx="217440" cy="16146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 rot="16200000">
              <a:off x="1403280" y="2781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1440000" y="3357720"/>
              <a:ext cx="7272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2050920" y="3536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1763640" y="314136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2050920" y="2565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863640" y="3212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900000" y="270792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1187280" y="30682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6200000">
              <a:off x="1690560" y="238392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6200000">
              <a:off x="2158920" y="29602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6200000">
              <a:off x="1834920" y="349992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6200000">
              <a:off x="1116000" y="3789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6200000">
              <a:off x="1547640" y="3789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6200000">
              <a:off x="1150920" y="3536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6200000">
              <a:off x="1187280" y="238392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6200000">
              <a:off x="1871640" y="2673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0" y="1449360"/>
              <a:ext cx="826920" cy="244800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6360" y="1449360"/>
              <a:ext cx="2735280" cy="82728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9280" y="2708280"/>
              <a:ext cx="10764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200000">
              <a:off x="2988360" y="1953000"/>
              <a:ext cx="142920" cy="503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395280" y="3105000"/>
              <a:ext cx="3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95280" y="1808280"/>
              <a:ext cx="0" cy="12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150920" y="1700280"/>
              <a:ext cx="612720" cy="216000"/>
            </a:xfrm>
            <a:prstGeom prst="rect">
              <a:avLst/>
            </a:prstGeom>
            <a:solidFill>
              <a:srgbClr val="ddff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5280" y="180828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63640" y="180828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32000" y="1521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40000" y="1665360"/>
              <a:ext cx="71280" cy="25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11280" y="1808280"/>
              <a:ext cx="90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11640" y="1808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0.16336 1.11111E-006 E">
                                      <p:cBhvr>
                                        <p:cTn id="672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0.13784 7.40741E-007 E">
                                      <p:cBhvr>
                                        <p:cTn id="674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3635280" y="2276640"/>
            <a:ext cx="1657440" cy="16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321440" y="39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Principio de funcionamiento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271480" y="2276640"/>
            <a:ext cx="1547640" cy="1618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64520" y="403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87640" y="2276640"/>
            <a:ext cx="1547640" cy="1618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25800" y="39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417840" y="2282760"/>
            <a:ext cx="434880" cy="1614600"/>
            <a:chOff x="3417840" y="2282760"/>
            <a:chExt cx="434880" cy="1614600"/>
          </a:xfrm>
        </p:grpSpPr>
        <p:sp>
          <p:nvSpPr>
            <p:cNvPr id="462" name=""/>
            <p:cNvSpPr/>
            <p:nvPr/>
          </p:nvSpPr>
          <p:spPr>
            <a:xfrm>
              <a:off x="3417840" y="2282760"/>
              <a:ext cx="217440" cy="16146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35280" y="2282760"/>
              <a:ext cx="217440" cy="1614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 rot="16200000">
            <a:off x="2951280" y="23839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2448000" y="23839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4697640" y="2282760"/>
            <a:ext cx="1152360" cy="1608120"/>
            <a:chOff x="4697640" y="2282760"/>
            <a:chExt cx="1152360" cy="1608120"/>
          </a:xfrm>
        </p:grpSpPr>
        <p:sp>
          <p:nvSpPr>
            <p:cNvPr id="467" name=""/>
            <p:cNvSpPr/>
            <p:nvPr/>
          </p:nvSpPr>
          <p:spPr>
            <a:xfrm flipH="1">
              <a:off x="5273280" y="2282760"/>
              <a:ext cx="576360" cy="16081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4697640" y="2282760"/>
              <a:ext cx="576000" cy="1608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 rot="16200000">
            <a:off x="1908000" y="2420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1439640" y="231264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-899640" y="2528640"/>
            <a:ext cx="4392000" cy="1333440"/>
            <a:chOff x="-899640" y="2528640"/>
            <a:chExt cx="4392000" cy="1333440"/>
          </a:xfrm>
        </p:grpSpPr>
        <p:sp>
          <p:nvSpPr>
            <p:cNvPr id="472" name=""/>
            <p:cNvSpPr/>
            <p:nvPr/>
          </p:nvSpPr>
          <p:spPr>
            <a:xfrm rot="16200000">
              <a:off x="2663640" y="278100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6200000">
              <a:off x="2700360" y="335736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3311640" y="3536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6200000">
              <a:off x="3024000" y="314136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6200000">
              <a:off x="3311640" y="2565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6200000">
              <a:off x="2124000" y="3212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6200000">
              <a:off x="2160360" y="270792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6200000">
              <a:off x="2448000" y="30682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6200000">
              <a:off x="3419280" y="296028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6200000">
              <a:off x="3095640" y="349992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6200000">
              <a:off x="2376360" y="3789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6200000">
              <a:off x="2808360" y="3789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6200000">
              <a:off x="2411280" y="3536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200000">
              <a:off x="3132000" y="2673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6200000">
              <a:off x="1260360" y="263664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6200000">
              <a:off x="1297080" y="3212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16200000">
              <a:off x="1908000" y="360792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6200000">
              <a:off x="1620720" y="299700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6200000">
              <a:off x="720720" y="30682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6200000">
              <a:off x="757080" y="256356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6200000">
              <a:off x="1044360" y="292392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16200000">
              <a:off x="1979640" y="292536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6200000">
              <a:off x="1692360" y="335556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16200000">
              <a:off x="1044720" y="3753000"/>
              <a:ext cx="7272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6200000">
              <a:off x="1404720" y="353664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6200000">
              <a:off x="1008000" y="339228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6200000">
              <a:off x="1728720" y="2528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6200000">
              <a:off x="179280" y="2673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6200000">
              <a:off x="216000" y="324936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6200000">
              <a:off x="395280" y="28522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6200000">
              <a:off x="-360000" y="3105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200000">
              <a:off x="-323640" y="26002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200000">
              <a:off x="-36360" y="296028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6200000">
              <a:off x="611280" y="339228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6200000">
              <a:off x="-107640" y="368136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6200000">
              <a:off x="323640" y="368100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6200000">
              <a:off x="-72720" y="3429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-899640" y="30700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-863280" y="256536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6200000">
              <a:off x="-576000" y="292572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00000">
              <a:off x="-647280" y="36464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-612360" y="33940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-576000" y="2312640"/>
            <a:ext cx="1585800" cy="181080"/>
            <a:chOff x="-576000" y="2312640"/>
            <a:chExt cx="1585800" cy="181080"/>
          </a:xfrm>
        </p:grpSpPr>
        <p:sp>
          <p:nvSpPr>
            <p:cNvPr id="515" name=""/>
            <p:cNvSpPr/>
            <p:nvPr/>
          </p:nvSpPr>
          <p:spPr>
            <a:xfrm rot="16200000">
              <a:off x="936720" y="2312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431640" y="2420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-36360" y="234900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6200000">
              <a:off x="-576000" y="23144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0" y="1449360"/>
            <a:ext cx="4572000" cy="2448000"/>
            <a:chOff x="0" y="1449360"/>
            <a:chExt cx="4572000" cy="2448000"/>
          </a:xfrm>
        </p:grpSpPr>
        <p:sp>
          <p:nvSpPr>
            <p:cNvPr id="520" name=""/>
            <p:cNvSpPr/>
            <p:nvPr/>
          </p:nvSpPr>
          <p:spPr>
            <a:xfrm>
              <a:off x="0" y="1449360"/>
              <a:ext cx="2087640" cy="244800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36720" y="1449360"/>
              <a:ext cx="2735280" cy="82728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79640" y="2708280"/>
              <a:ext cx="10800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1655640" y="3105000"/>
              <a:ext cx="3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1655640" y="1808280"/>
              <a:ext cx="0" cy="12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411280" y="1700280"/>
              <a:ext cx="613080" cy="216000"/>
            </a:xfrm>
            <a:prstGeom prst="rect">
              <a:avLst/>
            </a:prstGeom>
            <a:solidFill>
              <a:srgbClr val="ddff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55640" y="180828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24360" y="180828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92360" y="1521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0360" y="1665360"/>
              <a:ext cx="71640" cy="25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72000" y="1808280"/>
              <a:ext cx="90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4068720" y="1449360"/>
            <a:ext cx="3579840" cy="2448000"/>
            <a:chOff x="4068720" y="1449360"/>
            <a:chExt cx="3579840" cy="2448000"/>
          </a:xfrm>
        </p:grpSpPr>
        <p:sp>
          <p:nvSpPr>
            <p:cNvPr id="532" name=""/>
            <p:cNvSpPr/>
            <p:nvPr/>
          </p:nvSpPr>
          <p:spPr>
            <a:xfrm flipH="1">
              <a:off x="6835680" y="1449360"/>
              <a:ext cx="812880" cy="244800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408560" y="1449360"/>
              <a:ext cx="2674800" cy="82728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835680" y="2708280"/>
              <a:ext cx="10656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42240" y="3105000"/>
              <a:ext cx="31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259760" y="1808280"/>
              <a:ext cx="0" cy="12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740560" y="1808280"/>
              <a:ext cx="151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5599080" y="1521000"/>
              <a:ext cx="176400" cy="576000"/>
              <a:chOff x="5599080" y="1521000"/>
              <a:chExt cx="176400" cy="576000"/>
            </a:xfrm>
          </p:grpSpPr>
          <p:sp>
            <p:nvSpPr>
              <p:cNvPr id="539" name=""/>
              <p:cNvSpPr/>
              <p:nvPr/>
            </p:nvSpPr>
            <p:spPr>
              <a:xfrm>
                <a:off x="5599080" y="1521000"/>
                <a:ext cx="0" cy="57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705640" y="1665360"/>
                <a:ext cx="69840" cy="252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 flipH="1">
              <a:off x="4397040" y="1808280"/>
              <a:ext cx="116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72000" y="1808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6200000">
              <a:off x="4410720" y="1791000"/>
              <a:ext cx="142920" cy="82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34253 -2.22222E-006 E">
                                      <p:cBhvr>
                                        <p:cTn id="680" dur="4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23 C 0.0493 0.00023 0.09913 0.00069 0.12743 -0.00023 C 0.15573 -0.00116 0.15746 7.40741000000017E-007 0.16909 -0.00579 C 0.18073 -0.01157 0.18715 -0.02732 0.19757 -0.03542 C 0.20798 -0.04352 0.21389 -0.05139 0.23159 -0.05486 C 0.2493 -0.05833 0.29184 -0.05602 0.30382 -0.05671 E">
                                      <p:cBhvr>
                                        <p:cTn id="682" dur="4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23 C 0.07083 0.00231 0.14132 0.00509 0.17969 -0.00116 C 0.21806 -0.00741 0.21788 -0.02778 0.23038 -0.03727 C 0.24288 -0.04676 0.24306 -0.05486 0.25469 -0.05857 C 0.26632 -0.06227 0.28333 -0.06088 0.30052 -0.05949 E">
                                      <p:cBhvr>
                                        <p:cTn id="684" dur="4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92 C 0.06563 0.00023 0.13143 0.00139 0.17066 0.00093 C 0.2099 0.00047 0.22014 0.00232 0.23525 -0.0037 C 0.25035 -0.00972 0.24653 -0.02523 0.26094 -0.03518 C 0.27535 -0.04514 0.30868 -0.05902 0.32205 -0.06389 C 0.33542 -0.06875 0.33837 -0.06481 0.3415 -0.06481 E">
                                      <p:cBhvr>
                                        <p:cTn id="686" dur="4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2.59259E-006 C 0.10885 0.00232 0.21823 0.00486 0.27187 -2.59259E-006 C 0.32552 -0.00486 0.31354 -0.0243 0.32187 -0.02963 E">
                                      <p:cBhvr>
                                        <p:cTn id="688" dur="4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34254 -2.96296E-006 E">
                                      <p:cBhvr>
                                        <p:cTn id="690" dur="4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635280" y="2276640"/>
            <a:ext cx="1657440" cy="16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321440" y="396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Principio de funcionamiento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271480" y="2276640"/>
            <a:ext cx="1547640" cy="1618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64520" y="403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087640" y="2276640"/>
            <a:ext cx="1547640" cy="1618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25800" y="39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417840" y="2282760"/>
            <a:ext cx="434880" cy="1614600"/>
            <a:chOff x="3417840" y="2282760"/>
            <a:chExt cx="434880" cy="1614600"/>
          </a:xfrm>
        </p:grpSpPr>
        <p:sp>
          <p:nvSpPr>
            <p:cNvPr id="552" name=""/>
            <p:cNvSpPr/>
            <p:nvPr/>
          </p:nvSpPr>
          <p:spPr>
            <a:xfrm>
              <a:off x="3417840" y="2282760"/>
              <a:ext cx="217440" cy="161460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635280" y="2282760"/>
              <a:ext cx="217440" cy="1614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697640" y="2282760"/>
            <a:ext cx="1152360" cy="1608120"/>
            <a:chOff x="4697640" y="2282760"/>
            <a:chExt cx="1152360" cy="1608120"/>
          </a:xfrm>
        </p:grpSpPr>
        <p:sp>
          <p:nvSpPr>
            <p:cNvPr id="555" name=""/>
            <p:cNvSpPr/>
            <p:nvPr/>
          </p:nvSpPr>
          <p:spPr>
            <a:xfrm flipH="1">
              <a:off x="5273280" y="2282760"/>
              <a:ext cx="576360" cy="16081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697640" y="2282760"/>
              <a:ext cx="576000" cy="1608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 rot="16200000">
            <a:off x="1908000" y="2420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16200000">
            <a:off x="1439640" y="231264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16200000">
            <a:off x="4068720" y="2312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6200000">
            <a:off x="3564000" y="2420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3095640" y="2349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2556000" y="23140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-2449080" y="2526840"/>
            <a:ext cx="9073440" cy="1335240"/>
            <a:chOff x="-2449080" y="2526840"/>
            <a:chExt cx="9073440" cy="1335240"/>
          </a:xfrm>
        </p:grpSpPr>
        <p:grpSp>
          <p:nvGrpSpPr>
            <p:cNvPr id="564" name=""/>
            <p:cNvGrpSpPr/>
            <p:nvPr/>
          </p:nvGrpSpPr>
          <p:grpSpPr>
            <a:xfrm>
              <a:off x="2232000" y="2528640"/>
              <a:ext cx="4392360" cy="1333440"/>
              <a:chOff x="2232000" y="2528640"/>
              <a:chExt cx="4392360" cy="1333440"/>
            </a:xfrm>
          </p:grpSpPr>
          <p:sp>
            <p:nvSpPr>
              <p:cNvPr id="565" name=""/>
              <p:cNvSpPr/>
              <p:nvPr/>
            </p:nvSpPr>
            <p:spPr>
              <a:xfrm rot="16200000">
                <a:off x="5795640" y="278100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6200000">
                <a:off x="5832360" y="3357360"/>
                <a:ext cx="7272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6200000">
                <a:off x="6443640" y="35366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200000">
                <a:off x="6156000" y="314136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6200000">
                <a:off x="6443640" y="25650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6200000">
                <a:off x="5256000" y="32126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5292360" y="270792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6200000">
                <a:off x="5580000" y="306828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6200000">
                <a:off x="6551280" y="296028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200000">
                <a:off x="6227640" y="349992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6200000">
                <a:off x="5508360" y="37890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6200000">
                <a:off x="5940360" y="37890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6200000">
                <a:off x="5543280" y="35366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6200000">
                <a:off x="6264000" y="26730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200000">
                <a:off x="4392360" y="2636640"/>
                <a:ext cx="7272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6200000">
                <a:off x="4429080" y="32126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6200000">
                <a:off x="5040000" y="360792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6200000">
                <a:off x="4752720" y="2997000"/>
                <a:ext cx="7272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6200000">
                <a:off x="3852720" y="306828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6200000">
                <a:off x="3889080" y="256356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6200000">
                <a:off x="4176360" y="292392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6200000">
                <a:off x="5111640" y="292536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6200000">
                <a:off x="4824360" y="335556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6200000">
                <a:off x="4176720" y="3753000"/>
                <a:ext cx="7272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6200000">
                <a:off x="4536720" y="353664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6200000">
                <a:off x="4140000" y="3392280"/>
                <a:ext cx="7272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4860720" y="25286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6200000">
                <a:off x="3311280" y="26730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6200000">
                <a:off x="3348000" y="324936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200000">
                <a:off x="3527280" y="285228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6200000">
                <a:off x="2771640" y="31046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200000">
                <a:off x="2808000" y="259992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6200000">
                <a:off x="3095280" y="296028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6200000">
                <a:off x="3743280" y="3392280"/>
                <a:ext cx="7272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6200000">
                <a:off x="3024000" y="36810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6200000">
                <a:off x="3455640" y="368100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16200000">
                <a:off x="3058920" y="34286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6200000">
                <a:off x="2232000" y="306972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16200000">
                <a:off x="2268360" y="25650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2555640" y="292536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6200000">
                <a:off x="2484360" y="364608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16200000">
                <a:off x="2519280" y="339372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-2449080" y="2526840"/>
              <a:ext cx="4392000" cy="1333440"/>
              <a:chOff x="-2449080" y="2526840"/>
              <a:chExt cx="4392000" cy="1333440"/>
            </a:xfrm>
          </p:grpSpPr>
          <p:sp>
            <p:nvSpPr>
              <p:cNvPr id="608" name=""/>
              <p:cNvSpPr/>
              <p:nvPr/>
            </p:nvSpPr>
            <p:spPr>
              <a:xfrm rot="16200000">
                <a:off x="1114200" y="277920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16200000">
                <a:off x="1150920" y="3355560"/>
                <a:ext cx="7272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16200000">
                <a:off x="1762200" y="35348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16200000">
                <a:off x="1474560" y="313956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16200000">
                <a:off x="1762200" y="25632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574560" y="32108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16200000">
                <a:off x="610920" y="270612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16200000">
                <a:off x="898560" y="306648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6200000">
                <a:off x="1869840" y="295848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6200000">
                <a:off x="1546200" y="349812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6200000">
                <a:off x="826920" y="37872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6200000">
                <a:off x="1258920" y="37872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16200000">
                <a:off x="861840" y="35348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16200000">
                <a:off x="1582560" y="26712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6200000">
                <a:off x="-288360" y="2634840"/>
                <a:ext cx="7272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6200000">
                <a:off x="-251640" y="32112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16200000">
                <a:off x="358560" y="360612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16200000">
                <a:off x="71280" y="2995200"/>
                <a:ext cx="7272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6200000">
                <a:off x="-828000" y="30668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16200000">
                <a:off x="-791640" y="256212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16200000">
                <a:off x="-504000" y="292248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16200000">
                <a:off x="430200" y="292356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6200000">
                <a:off x="142920" y="335376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16200000">
                <a:off x="-504360" y="3751200"/>
                <a:ext cx="7272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6200000">
                <a:off x="-143640" y="353520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16200000">
                <a:off x="-540720" y="3390480"/>
                <a:ext cx="7272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16200000">
                <a:off x="179280" y="25268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16200000">
                <a:off x="-1369440" y="267156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16200000">
                <a:off x="-1332720" y="324792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16200000">
                <a:off x="-1153440" y="28508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16200000">
                <a:off x="-1909080" y="31032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16200000">
                <a:off x="-1872720" y="259848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16200000">
                <a:off x="-1585080" y="295884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16200000">
                <a:off x="-937440" y="3390480"/>
                <a:ext cx="7272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16200000">
                <a:off x="-1656720" y="367956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16200000">
                <a:off x="-1224720" y="3679560"/>
                <a:ext cx="73080" cy="7272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6200000">
                <a:off x="-1621800" y="342720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6200000">
                <a:off x="-2449080" y="306828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6200000">
                <a:off x="-2412360" y="256356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6200000">
                <a:off x="-2125080" y="292392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6200000">
                <a:off x="-2196360" y="364464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6200000">
                <a:off x="-2161440" y="3392280"/>
                <a:ext cx="73080" cy="73080"/>
              </a:xfrm>
              <a:prstGeom prst="ellipse">
                <a:avLst/>
              </a:prstGeom>
              <a:solidFill>
                <a:srgbClr val="ffcccc"/>
              </a:soli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"/>
          <p:cNvSpPr/>
          <p:nvPr/>
        </p:nvSpPr>
        <p:spPr>
          <a:xfrm rot="16200000">
            <a:off x="3959280" y="1988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rot="16200000">
            <a:off x="3311640" y="20235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rot="16200000">
            <a:off x="2519280" y="20235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rot="16200000">
            <a:off x="1871640" y="21682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0" y="1449360"/>
            <a:ext cx="4572000" cy="2448000"/>
            <a:chOff x="0" y="1449360"/>
            <a:chExt cx="4572000" cy="2448000"/>
          </a:xfrm>
        </p:grpSpPr>
        <p:sp>
          <p:nvSpPr>
            <p:cNvPr id="655" name=""/>
            <p:cNvSpPr/>
            <p:nvPr/>
          </p:nvSpPr>
          <p:spPr>
            <a:xfrm>
              <a:off x="0" y="1449360"/>
              <a:ext cx="2087640" cy="244800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6720" y="1449360"/>
              <a:ext cx="2735280" cy="82728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79640" y="2708280"/>
              <a:ext cx="10800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655640" y="3105000"/>
              <a:ext cx="32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1655640" y="1808280"/>
              <a:ext cx="0" cy="12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11280" y="1700280"/>
              <a:ext cx="613080" cy="216000"/>
            </a:xfrm>
            <a:prstGeom prst="rect">
              <a:avLst/>
            </a:prstGeom>
            <a:solidFill>
              <a:srgbClr val="ddffd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655640" y="180828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024360" y="180828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92360" y="1521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00360" y="1665360"/>
              <a:ext cx="71640" cy="25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72000" y="1808280"/>
              <a:ext cx="90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4068720" y="1449360"/>
            <a:ext cx="5075280" cy="2448000"/>
            <a:chOff x="4068720" y="1449360"/>
            <a:chExt cx="5075280" cy="2448000"/>
          </a:xfrm>
        </p:grpSpPr>
        <p:sp>
          <p:nvSpPr>
            <p:cNvPr id="667" name=""/>
            <p:cNvSpPr/>
            <p:nvPr/>
          </p:nvSpPr>
          <p:spPr>
            <a:xfrm flipH="1">
              <a:off x="6835680" y="1449360"/>
              <a:ext cx="2308320" cy="244800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4408560" y="1449360"/>
              <a:ext cx="2674800" cy="827280"/>
            </a:xfrm>
            <a:prstGeom prst="rect">
              <a:avLst/>
            </a:prstGeom>
            <a:solidFill>
              <a:srgbClr val="dd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35680" y="2708280"/>
              <a:ext cx="10656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42240" y="3105000"/>
              <a:ext cx="31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7259760" y="1808280"/>
              <a:ext cx="0" cy="12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5740560" y="1808280"/>
              <a:ext cx="151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5599080" y="1521000"/>
              <a:ext cx="176400" cy="576000"/>
              <a:chOff x="5599080" y="1521000"/>
              <a:chExt cx="176400" cy="576000"/>
            </a:xfrm>
          </p:grpSpPr>
          <p:sp>
            <p:nvSpPr>
              <p:cNvPr id="674" name=""/>
              <p:cNvSpPr/>
              <p:nvPr/>
            </p:nvSpPr>
            <p:spPr>
              <a:xfrm>
                <a:off x="5599080" y="1521000"/>
                <a:ext cx="0" cy="57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05640" y="1665360"/>
                <a:ext cx="69840" cy="252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>
              <a:off x="4397040" y="1808280"/>
              <a:ext cx="116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2000" y="1808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4410720" y="1791000"/>
              <a:ext cx="142920" cy="82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3024360" y="2430360"/>
            <a:ext cx="3168360" cy="117792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431640" y="4689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terminal central (base) maneja una fracción de la corriente que circula entre los otros dos terminales (emisor y colector):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EFECTO TRANSI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38889E-006 -7.40741E-007 L 0.5158 -7.40741E-007 E">
                                      <p:cBhvr>
                                        <p:cTn id="696" dur="5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5 -2.59259E-006 C 0.01285 -0.00069 0.0151 0.00255 0.0184 -0.0037 C 0.0217 -0.00995 0.03576 -0.02916 0.0191 -0.03703 C 0.00243 -0.0449 -0.03924 -0.05115 -0.0816 -0.05092 C -0.12396 -0.05069 -0.21129 -0.04629 -0.23507 -0.03611 C -0.25886 -0.02592 -0.23906 0.00278 -0.22396 0.01019 C -0.20886 0.0176 -0.17205 0.00996 -0.14479 0.00834 C -0.11754 0.00672 -0.0849 0.00139 -0.06077 -2.59259E-006 C -0.03663 -0.00139 -0.01354 0.0007 -0.00035 -2.59259E-006 Z">
                                      <p:cBhvr>
                                        <p:cTn id="698" dur="6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0.00092 C 0.03455 -0.00069 0.04497 0.00139 0.05972 -0.0037 C 0.07448 -0.00879 0.09201 -0.0243 0.08819 -0.03148 C 0.08438 -0.03865 0.08003 -0.0456 0.03681 -0.04629 C -0.00642 -0.04699 -0.1408 -0.04213 -0.17153 -0.03518 C -0.20226 -0.02824 -0.17569 -0.01041 -0.14722 -0.00463 C -0.11875 0.00116 -0.03455 -0.00115 5.55112E-017 -0.00092 Z">
                                      <p:cBhvr>
                                        <p:cTn id="700" dur="6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17 0.00023 C 0.03021 0.00023 0.06042 0.00231 0.08316 0.00115 C 0.10591 3.33333000000009E-006 0.12605 0.00069 0.13594 -0.00625 C 0.14584 -0.0132 0.15903 -0.0338 0.14219 -0.04051 C 0.12535 -0.04723 0.07466 -0.04676 0.03525 -0.04607 C -0.00416 -0.04537 -0.06684 -0.04213 -0.09392 -0.03681 C -0.121 -0.03148 -0.12638 -0.02084 -0.12725 -0.01459 C -0.12812 -0.00834 -0.12083 -0.00139 -0.09947 0.00115 C -0.07812 0.0037 -0.03055 0.00023 -0.00017 0.00023 Z">
                                      <p:cBhvr>
                                        <p:cTn id="702" dur="6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18 0.0007 C 0.03541 0.00139 0.12257 0.00417 0.15399 0.00255 C 0.18541 0.00093 0.18333 -0.00162 0.18871 -0.00856 C 0.19409 -0.01551 0.20642 -0.03287 0.18593 -0.03912 C 0.16545 -0.04537 0.10694 -0.04745 0.0651 -0.04652 C 0.02326 -0.0456 -0.04393 -0.04097 -0.06476 -0.03356 C -0.08559 -0.02615 -0.07066 -0.00763 -0.0599 -0.00208 C -0.04913 0.00348 -0.03577 -4.07407000000001E-006 -0.00018 0.0007 Z">
                                      <p:cBhvr>
                                        <p:cTn id="704" dur="60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17 -3.7037E-007 C -0.02691 -0.0044 -0.07813 -0.00463 -0.11545 -0.00185 C -0.15278 0.00093 -0.20938 0.00718 -0.22448 0.01667 C -0.23958 0.02616 -0.23004 0.04907 -0.20573 0.05556 C -0.18142 0.06204 -0.11597 0.05579 -0.07865 0.05556 C -0.04132 0.05532 -0.00208 0.0588 0.01858 0.0537 C 0.03924 0.04861 0.04809 0.03403 0.04496 0.025 C 0.04184 0.01597 0.02656 0.0044 -0.00017 -3.7037E-007 Z">
                                      <p:cBhvr>
                                        <p:cTn id="706" dur="6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18 -0.00046 C -0.03855 -0.00115 -0.09184 0.00047 -0.11754 0.00324 C -0.14323 0.00602 -0.15087 0.00834 -0.15434 0.01621 C -0.15782 0.02408 -0.15834 0.04514 -0.13837 0.05047 C -0.11841 0.05579 -0.06528 0.04908 -0.03421 0.04861 C -0.00313 0.04815 0.02482 0.04861 0.04774 0.04769 C 0.07066 0.04676 0.09253 0.04977 0.10329 0.04306 C 0.11406 0.03635 0.12951 0.01412 0.11232 0.00695 C 0.09513 -0.00023 0.03819 0.00023 -0.00018 -0.00046 Z">
                                      <p:cBhvr>
                                        <p:cTn id="708" dur="6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05 -0.00092 C -0.03784 0.00093 -0.046 -0.00069 -0.05729 0.00556 C -0.06857 0.01181 -0.07482 0.02894 -0.06701 0.03611 C -0.0592 0.04329 -0.04479 0.04584 -0.01007 0.04815 C 0.02466 0.05047 0.10677 0.05348 0.14132 0.05 C 0.17587 0.04653 0.19184 0.03704 0.19757 0.02778 C 0.2033 0.01852 0.20886 -0.00069 0.17605 -0.00555 C 0.14323 -0.01041 0.03993 -0.00277 0.00105 -0.00092 Z">
                                      <p:cBhvr>
                                        <p:cTn id="710" dur="6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035 -0.00023 C -0.00087 0.00578 -0.01024 0.01435 0.00451 0.01921 C 0.01927 0.02407 0.04948 0.02824 0.08854 0.0294 C 0.1276 0.03055 0.20868 0.03287 0.23924 0.02662 C 0.26979 0.02037 0.27865 0.000920000000000001 0.27188 -0.00857 C 0.2651 -0.01806 0.22622 -0.02685 0.19826 -0.02986 C 0.17031 -0.03287 0.13559 -0.02824 0.10382 -0.02616 C 0.07205 -0.02408 0.02465 -0.0213 0.00729 -0.0169 C -0.01007 -0.0125 0.00017 -0.00625 -0.00035 -0.00023 Z">
                                      <p:cBhvr>
                                        <p:cTn id="712" dur="6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9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2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5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3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3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Principio de funcionamiento del transistor b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1655640" y="3105000"/>
            <a:ext cx="3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655640" y="1808280"/>
            <a:ext cx="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411280" y="1700280"/>
            <a:ext cx="613080" cy="216000"/>
          </a:xfrm>
          <a:prstGeom prst="rect">
            <a:avLst/>
          </a:prstGeom>
          <a:solidFill>
            <a:srgbClr val="ddff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655640" y="1808280"/>
            <a:ext cx="7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024360" y="1808280"/>
            <a:ext cx="46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492360" y="152100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600360" y="1665360"/>
            <a:ext cx="71640" cy="2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72000" y="1808280"/>
            <a:ext cx="9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942240" y="3105000"/>
            <a:ext cx="317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7259760" y="1808280"/>
            <a:ext cx="0" cy="129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740560" y="1808280"/>
            <a:ext cx="1519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599080" y="1521000"/>
            <a:ext cx="176400" cy="576000"/>
            <a:chOff x="5599080" y="1521000"/>
            <a:chExt cx="176400" cy="576000"/>
          </a:xfrm>
        </p:grpSpPr>
        <p:sp>
          <p:nvSpPr>
            <p:cNvPr id="694" name=""/>
            <p:cNvSpPr/>
            <p:nvPr/>
          </p:nvSpPr>
          <p:spPr>
            <a:xfrm>
              <a:off x="5599080" y="1521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05640" y="1665360"/>
              <a:ext cx="69840" cy="25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 flipH="1">
            <a:off x="4572000" y="18082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0" y="1808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979640" y="2133360"/>
            <a:ext cx="4962600" cy="2268720"/>
            <a:chOff x="1979640" y="2133360"/>
            <a:chExt cx="4962600" cy="2268720"/>
          </a:xfrm>
        </p:grpSpPr>
        <p:sp>
          <p:nvSpPr>
            <p:cNvPr id="699" name=""/>
            <p:cNvSpPr/>
            <p:nvPr/>
          </p:nvSpPr>
          <p:spPr>
            <a:xfrm>
              <a:off x="3635280" y="2276640"/>
              <a:ext cx="1657440" cy="16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21440" y="396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271480" y="2276640"/>
              <a:ext cx="1547640" cy="1618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64520" y="4033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7640" y="2276640"/>
              <a:ext cx="1547640" cy="1618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25800" y="3968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417840" y="2282760"/>
              <a:ext cx="434880" cy="1614600"/>
              <a:chOff x="3417840" y="2282760"/>
              <a:chExt cx="434880" cy="1614600"/>
            </a:xfrm>
          </p:grpSpPr>
          <p:sp>
            <p:nvSpPr>
              <p:cNvPr id="706" name=""/>
              <p:cNvSpPr/>
              <p:nvPr/>
            </p:nvSpPr>
            <p:spPr>
              <a:xfrm>
                <a:off x="3417840" y="2282760"/>
                <a:ext cx="217440" cy="161460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cc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635280" y="2282760"/>
                <a:ext cx="217440" cy="16146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4697640" y="2282760"/>
              <a:ext cx="1152360" cy="1608120"/>
              <a:chOff x="4697640" y="2282760"/>
              <a:chExt cx="1152360" cy="1608120"/>
            </a:xfrm>
          </p:grpSpPr>
          <p:sp>
            <p:nvSpPr>
              <p:cNvPr id="709" name=""/>
              <p:cNvSpPr/>
              <p:nvPr/>
            </p:nvSpPr>
            <p:spPr>
              <a:xfrm flipH="1">
                <a:off x="5273280" y="2282760"/>
                <a:ext cx="576360" cy="1608120"/>
              </a:xfrm>
              <a:prstGeom prst="rect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ffcc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4697640" y="2282760"/>
                <a:ext cx="576000" cy="160812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ff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1979640" y="2708280"/>
              <a:ext cx="10800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835680" y="2708280"/>
              <a:ext cx="106560" cy="72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6200000">
              <a:off x="4410720" y="1791000"/>
              <a:ext cx="142920" cy="827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395280" y="4508640"/>
            <a:ext cx="842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terminal de base actúa como terminal de control manejando una fracción de la corriente mucho menor a la de emisor y el col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emisor tiene una concentración de impurezas muy superior a la del colector: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misor y colector no son intercamb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1943280" y="2168640"/>
            <a:ext cx="5041800" cy="936360"/>
            <a:chOff x="1943280" y="2168640"/>
            <a:chExt cx="5041800" cy="936360"/>
          </a:xfrm>
        </p:grpSpPr>
        <p:sp>
          <p:nvSpPr>
            <p:cNvPr id="716" name=""/>
            <p:cNvSpPr/>
            <p:nvPr/>
          </p:nvSpPr>
          <p:spPr>
            <a:xfrm>
              <a:off x="1943280" y="3105000"/>
              <a:ext cx="23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88000" y="3105000"/>
              <a:ext cx="21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72000" y="2168640"/>
              <a:ext cx="0" cy="68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319640" y="2852280"/>
              <a:ext cx="14292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319640" y="2852640"/>
              <a:ext cx="466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78200" y="2852640"/>
              <a:ext cx="10800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"/>
          <p:cNvSpPr/>
          <p:nvPr/>
        </p:nvSpPr>
        <p:spPr>
          <a:xfrm>
            <a:off x="3387240" y="31050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73440" y="23842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935240" y="31291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527640" y="3537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ransistor P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7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8:39:51Z</dcterms:created>
  <dc:creator>Javier Ribas Bueno</dc:creator>
  <dc:description/>
  <dc:language>en-US</dc:language>
  <cp:lastModifiedBy>Javier Ribas Bueno</cp:lastModifiedBy>
  <dcterms:modified xsi:type="dcterms:W3CDTF">2004-11-17T16:23:26Z</dcterms:modified>
  <cp:revision>98</cp:revision>
  <dc:subject/>
  <dc:title>Diapositiva 1</dc:title>
</cp:coreProperties>
</file>