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39E3-1592-40D8-9C18-485CC3251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0D67-04DB-43D3-9688-80491555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C49-D7CA-48AC-9234-E35BC75A6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799B-AD53-42FA-9159-2C97BCDE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0967-E1F8-4032-9578-6645943A7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40A-3D91-42BF-AFDB-D3C7BD703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C334D-0D68-45F4-9DAC-FD68E6CB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85F3-5CA9-48DE-9247-0EFB8E4A3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C35A-0D6F-46FB-8AF3-9FDBDCDA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1CFA-7474-4C7E-AB2A-72AD3EA2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C8CD-3265-4182-84A9-1D2FE838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0F4C-9C3C-42CC-AE5E-E0997BC2B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129E-B2C1-4F72-BE3F-1D35FDDF5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1.La unión PN en equilib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33880" y="990720"/>
            <a:ext cx="361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Gill Sans MT Shado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79360" y="990720"/>
            <a:ext cx="360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Gill Sans MT Shadow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04920" y="1447920"/>
            <a:ext cx="4828680" cy="1623960"/>
            <a:chOff x="304920" y="1447920"/>
            <a:chExt cx="4828680" cy="1623960"/>
          </a:xfrm>
        </p:grpSpPr>
        <p:sp>
          <p:nvSpPr>
            <p:cNvPr id="45" name=""/>
            <p:cNvSpPr/>
            <p:nvPr/>
          </p:nvSpPr>
          <p:spPr>
            <a:xfrm>
              <a:off x="304920" y="1447920"/>
              <a:ext cx="2412720" cy="162396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20880" y="1447920"/>
              <a:ext cx="2412720" cy="1623960"/>
            </a:xfrm>
            <a:prstGeom prst="rect">
              <a:avLst/>
            </a:prstGeom>
            <a:solidFill>
              <a:srgbClr val="cce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484200" y="1629000"/>
              <a:ext cx="253440" cy="222120"/>
              <a:chOff x="484200" y="1629000"/>
              <a:chExt cx="253440" cy="222120"/>
            </a:xfrm>
          </p:grpSpPr>
          <p:sp>
            <p:nvSpPr>
              <p:cNvPr id="48" name=""/>
              <p:cNvSpPr/>
              <p:nvPr/>
            </p:nvSpPr>
            <p:spPr>
              <a:xfrm>
                <a:off x="48420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7896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846000" y="1629000"/>
              <a:ext cx="253800" cy="222120"/>
              <a:chOff x="846000" y="1629000"/>
              <a:chExt cx="253800" cy="222120"/>
            </a:xfrm>
          </p:grpSpPr>
          <p:sp>
            <p:nvSpPr>
              <p:cNvPr id="51" name=""/>
              <p:cNvSpPr/>
              <p:nvPr/>
            </p:nvSpPr>
            <p:spPr>
              <a:xfrm>
                <a:off x="84600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4112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1206360" y="1629000"/>
              <a:ext cx="253800" cy="222120"/>
              <a:chOff x="1206360" y="1629000"/>
              <a:chExt cx="253800" cy="222120"/>
            </a:xfrm>
          </p:grpSpPr>
          <p:sp>
            <p:nvSpPr>
              <p:cNvPr id="54" name=""/>
              <p:cNvSpPr/>
              <p:nvPr/>
            </p:nvSpPr>
            <p:spPr>
              <a:xfrm>
                <a:off x="120636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40148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1566720" y="1629000"/>
              <a:ext cx="255240" cy="222120"/>
              <a:chOff x="1566720" y="1629000"/>
              <a:chExt cx="255240" cy="222120"/>
            </a:xfrm>
          </p:grpSpPr>
          <p:sp>
            <p:nvSpPr>
              <p:cNvPr id="57" name=""/>
              <p:cNvSpPr/>
              <p:nvPr/>
            </p:nvSpPr>
            <p:spPr>
              <a:xfrm>
                <a:off x="156672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62920" y="1629000"/>
                <a:ext cx="5904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927080" y="1629000"/>
              <a:ext cx="255240" cy="222120"/>
              <a:chOff x="1927080" y="1629000"/>
              <a:chExt cx="255240" cy="222120"/>
            </a:xfrm>
          </p:grpSpPr>
          <p:sp>
            <p:nvSpPr>
              <p:cNvPr id="60" name=""/>
              <p:cNvSpPr/>
              <p:nvPr/>
            </p:nvSpPr>
            <p:spPr>
              <a:xfrm>
                <a:off x="192708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23280" y="1629000"/>
                <a:ext cx="5904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2287440" y="1629000"/>
              <a:ext cx="253800" cy="222120"/>
              <a:chOff x="2287440" y="1629000"/>
              <a:chExt cx="253800" cy="222120"/>
            </a:xfrm>
          </p:grpSpPr>
          <p:sp>
            <p:nvSpPr>
              <p:cNvPr id="63" name=""/>
              <p:cNvSpPr/>
              <p:nvPr/>
            </p:nvSpPr>
            <p:spPr>
              <a:xfrm>
                <a:off x="228744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48256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484200" y="2170440"/>
              <a:ext cx="253440" cy="220680"/>
              <a:chOff x="484200" y="2170440"/>
              <a:chExt cx="253440" cy="220680"/>
            </a:xfrm>
          </p:grpSpPr>
          <p:sp>
            <p:nvSpPr>
              <p:cNvPr id="66" name=""/>
              <p:cNvSpPr/>
              <p:nvPr/>
            </p:nvSpPr>
            <p:spPr>
              <a:xfrm>
                <a:off x="48420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7896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46000" y="2170440"/>
              <a:ext cx="253800" cy="220680"/>
              <a:chOff x="846000" y="2170440"/>
              <a:chExt cx="253800" cy="220680"/>
            </a:xfrm>
          </p:grpSpPr>
          <p:sp>
            <p:nvSpPr>
              <p:cNvPr id="69" name=""/>
              <p:cNvSpPr/>
              <p:nvPr/>
            </p:nvSpPr>
            <p:spPr>
              <a:xfrm>
                <a:off x="84600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04112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1206360" y="2170440"/>
              <a:ext cx="253800" cy="220680"/>
              <a:chOff x="1206360" y="2170440"/>
              <a:chExt cx="253800" cy="220680"/>
            </a:xfrm>
          </p:grpSpPr>
          <p:sp>
            <p:nvSpPr>
              <p:cNvPr id="72" name=""/>
              <p:cNvSpPr/>
              <p:nvPr/>
            </p:nvSpPr>
            <p:spPr>
              <a:xfrm>
                <a:off x="120636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0148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1566720" y="2170440"/>
              <a:ext cx="255240" cy="220680"/>
              <a:chOff x="1566720" y="2170440"/>
              <a:chExt cx="255240" cy="220680"/>
            </a:xfrm>
          </p:grpSpPr>
          <p:sp>
            <p:nvSpPr>
              <p:cNvPr id="75" name=""/>
              <p:cNvSpPr/>
              <p:nvPr/>
            </p:nvSpPr>
            <p:spPr>
              <a:xfrm>
                <a:off x="156672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762920" y="217044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1927080" y="2170440"/>
              <a:ext cx="255240" cy="220680"/>
              <a:chOff x="1927080" y="2170440"/>
              <a:chExt cx="255240" cy="220680"/>
            </a:xfrm>
          </p:grpSpPr>
          <p:sp>
            <p:nvSpPr>
              <p:cNvPr id="78" name=""/>
              <p:cNvSpPr/>
              <p:nvPr/>
            </p:nvSpPr>
            <p:spPr>
              <a:xfrm>
                <a:off x="192708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123280" y="217044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2287440" y="2170440"/>
              <a:ext cx="253800" cy="220680"/>
              <a:chOff x="2287440" y="2170440"/>
              <a:chExt cx="253800" cy="220680"/>
            </a:xfrm>
          </p:grpSpPr>
          <p:sp>
            <p:nvSpPr>
              <p:cNvPr id="81" name=""/>
              <p:cNvSpPr/>
              <p:nvPr/>
            </p:nvSpPr>
            <p:spPr>
              <a:xfrm>
                <a:off x="228744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48256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484200" y="2710080"/>
              <a:ext cx="253440" cy="220680"/>
              <a:chOff x="484200" y="2710080"/>
              <a:chExt cx="253440" cy="220680"/>
            </a:xfrm>
          </p:grpSpPr>
          <p:sp>
            <p:nvSpPr>
              <p:cNvPr id="84" name=""/>
              <p:cNvSpPr/>
              <p:nvPr/>
            </p:nvSpPr>
            <p:spPr>
              <a:xfrm>
                <a:off x="48420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96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46000" y="2710080"/>
              <a:ext cx="253800" cy="220680"/>
              <a:chOff x="846000" y="2710080"/>
              <a:chExt cx="253800" cy="220680"/>
            </a:xfrm>
          </p:grpSpPr>
          <p:sp>
            <p:nvSpPr>
              <p:cNvPr id="87" name=""/>
              <p:cNvSpPr/>
              <p:nvPr/>
            </p:nvSpPr>
            <p:spPr>
              <a:xfrm>
                <a:off x="84600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4112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206360" y="2710080"/>
              <a:ext cx="253800" cy="220680"/>
              <a:chOff x="1206360" y="2710080"/>
              <a:chExt cx="253800" cy="220680"/>
            </a:xfrm>
          </p:grpSpPr>
          <p:sp>
            <p:nvSpPr>
              <p:cNvPr id="90" name=""/>
              <p:cNvSpPr/>
              <p:nvPr/>
            </p:nvSpPr>
            <p:spPr>
              <a:xfrm>
                <a:off x="120636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40148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566720" y="2710080"/>
              <a:ext cx="255240" cy="220680"/>
              <a:chOff x="1566720" y="2710080"/>
              <a:chExt cx="255240" cy="220680"/>
            </a:xfrm>
          </p:grpSpPr>
          <p:sp>
            <p:nvSpPr>
              <p:cNvPr id="93" name=""/>
              <p:cNvSpPr/>
              <p:nvPr/>
            </p:nvSpPr>
            <p:spPr>
              <a:xfrm>
                <a:off x="156672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62920" y="271008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1927080" y="2710080"/>
              <a:ext cx="255240" cy="220680"/>
              <a:chOff x="1927080" y="2710080"/>
              <a:chExt cx="255240" cy="220680"/>
            </a:xfrm>
          </p:grpSpPr>
          <p:sp>
            <p:nvSpPr>
              <p:cNvPr id="96" name=""/>
              <p:cNvSpPr/>
              <p:nvPr/>
            </p:nvSpPr>
            <p:spPr>
              <a:xfrm>
                <a:off x="192708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23280" y="271008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287440" y="2710080"/>
              <a:ext cx="253800" cy="220680"/>
              <a:chOff x="2287440" y="2710080"/>
              <a:chExt cx="253800" cy="220680"/>
            </a:xfrm>
          </p:grpSpPr>
          <p:sp>
            <p:nvSpPr>
              <p:cNvPr id="99" name=""/>
              <p:cNvSpPr/>
              <p:nvPr/>
            </p:nvSpPr>
            <p:spPr>
              <a:xfrm>
                <a:off x="228744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48256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900160" y="1629000"/>
              <a:ext cx="253800" cy="222120"/>
              <a:chOff x="2900160" y="1629000"/>
              <a:chExt cx="253800" cy="222120"/>
            </a:xfrm>
          </p:grpSpPr>
          <p:sp>
            <p:nvSpPr>
              <p:cNvPr id="102" name=""/>
              <p:cNvSpPr/>
              <p:nvPr/>
            </p:nvSpPr>
            <p:spPr>
              <a:xfrm>
                <a:off x="290016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9528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262320" y="1629000"/>
              <a:ext cx="253440" cy="222120"/>
              <a:chOff x="3262320" y="1629000"/>
              <a:chExt cx="253440" cy="222120"/>
            </a:xfrm>
          </p:grpSpPr>
          <p:sp>
            <p:nvSpPr>
              <p:cNvPr id="105" name=""/>
              <p:cNvSpPr/>
              <p:nvPr/>
            </p:nvSpPr>
            <p:spPr>
              <a:xfrm>
                <a:off x="326232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5708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3622680" y="1629000"/>
              <a:ext cx="253440" cy="222120"/>
              <a:chOff x="3622680" y="1629000"/>
              <a:chExt cx="253440" cy="222120"/>
            </a:xfrm>
          </p:grpSpPr>
          <p:sp>
            <p:nvSpPr>
              <p:cNvPr id="108" name=""/>
              <p:cNvSpPr/>
              <p:nvPr/>
            </p:nvSpPr>
            <p:spPr>
              <a:xfrm>
                <a:off x="362268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81744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983040" y="1629000"/>
              <a:ext cx="255240" cy="222120"/>
              <a:chOff x="3983040" y="1629000"/>
              <a:chExt cx="255240" cy="222120"/>
            </a:xfrm>
          </p:grpSpPr>
          <p:sp>
            <p:nvSpPr>
              <p:cNvPr id="111" name=""/>
              <p:cNvSpPr/>
              <p:nvPr/>
            </p:nvSpPr>
            <p:spPr>
              <a:xfrm>
                <a:off x="398304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179240" y="1629000"/>
                <a:ext cx="5904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343400" y="1629000"/>
              <a:ext cx="255240" cy="222120"/>
              <a:chOff x="4343400" y="1629000"/>
              <a:chExt cx="255240" cy="222120"/>
            </a:xfrm>
          </p:grpSpPr>
          <p:sp>
            <p:nvSpPr>
              <p:cNvPr id="114" name=""/>
              <p:cNvSpPr/>
              <p:nvPr/>
            </p:nvSpPr>
            <p:spPr>
              <a:xfrm>
                <a:off x="434340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39600" y="1629000"/>
                <a:ext cx="5904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703760" y="1629000"/>
              <a:ext cx="253440" cy="222120"/>
              <a:chOff x="4703760" y="1629000"/>
              <a:chExt cx="253440" cy="222120"/>
            </a:xfrm>
          </p:grpSpPr>
          <p:sp>
            <p:nvSpPr>
              <p:cNvPr id="117" name=""/>
              <p:cNvSpPr/>
              <p:nvPr/>
            </p:nvSpPr>
            <p:spPr>
              <a:xfrm>
                <a:off x="470376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9852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900160" y="2170440"/>
              <a:ext cx="253800" cy="220680"/>
              <a:chOff x="2900160" y="2170440"/>
              <a:chExt cx="253800" cy="220680"/>
            </a:xfrm>
          </p:grpSpPr>
          <p:sp>
            <p:nvSpPr>
              <p:cNvPr id="120" name=""/>
              <p:cNvSpPr/>
              <p:nvPr/>
            </p:nvSpPr>
            <p:spPr>
              <a:xfrm>
                <a:off x="290016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9528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262320" y="2170440"/>
              <a:ext cx="253440" cy="220680"/>
              <a:chOff x="3262320" y="2170440"/>
              <a:chExt cx="253440" cy="220680"/>
            </a:xfrm>
          </p:grpSpPr>
          <p:sp>
            <p:nvSpPr>
              <p:cNvPr id="123" name=""/>
              <p:cNvSpPr/>
              <p:nvPr/>
            </p:nvSpPr>
            <p:spPr>
              <a:xfrm>
                <a:off x="326232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45708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3622680" y="2170440"/>
              <a:ext cx="253440" cy="220680"/>
              <a:chOff x="3622680" y="2170440"/>
              <a:chExt cx="253440" cy="220680"/>
            </a:xfrm>
          </p:grpSpPr>
          <p:sp>
            <p:nvSpPr>
              <p:cNvPr id="126" name=""/>
              <p:cNvSpPr/>
              <p:nvPr/>
            </p:nvSpPr>
            <p:spPr>
              <a:xfrm>
                <a:off x="362268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81744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983040" y="2170440"/>
              <a:ext cx="255240" cy="220680"/>
              <a:chOff x="3983040" y="2170440"/>
              <a:chExt cx="255240" cy="220680"/>
            </a:xfrm>
          </p:grpSpPr>
          <p:sp>
            <p:nvSpPr>
              <p:cNvPr id="129" name=""/>
              <p:cNvSpPr/>
              <p:nvPr/>
            </p:nvSpPr>
            <p:spPr>
              <a:xfrm>
                <a:off x="398304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79240" y="217044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343400" y="2170440"/>
              <a:ext cx="255240" cy="220680"/>
              <a:chOff x="4343400" y="2170440"/>
              <a:chExt cx="255240" cy="220680"/>
            </a:xfrm>
          </p:grpSpPr>
          <p:sp>
            <p:nvSpPr>
              <p:cNvPr id="132" name=""/>
              <p:cNvSpPr/>
              <p:nvPr/>
            </p:nvSpPr>
            <p:spPr>
              <a:xfrm>
                <a:off x="434340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39600" y="217044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703760" y="2170440"/>
              <a:ext cx="253440" cy="220680"/>
              <a:chOff x="4703760" y="2170440"/>
              <a:chExt cx="253440" cy="220680"/>
            </a:xfrm>
          </p:grpSpPr>
          <p:sp>
            <p:nvSpPr>
              <p:cNvPr id="135" name=""/>
              <p:cNvSpPr/>
              <p:nvPr/>
            </p:nvSpPr>
            <p:spPr>
              <a:xfrm>
                <a:off x="470376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89852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2900160" y="2710080"/>
              <a:ext cx="253800" cy="220680"/>
              <a:chOff x="2900160" y="2710080"/>
              <a:chExt cx="253800" cy="22068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016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9528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262320" y="2710080"/>
              <a:ext cx="253440" cy="220680"/>
              <a:chOff x="3262320" y="2710080"/>
              <a:chExt cx="253440" cy="220680"/>
            </a:xfrm>
          </p:grpSpPr>
          <p:sp>
            <p:nvSpPr>
              <p:cNvPr id="141" name=""/>
              <p:cNvSpPr/>
              <p:nvPr/>
            </p:nvSpPr>
            <p:spPr>
              <a:xfrm>
                <a:off x="326232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45708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622680" y="2710080"/>
              <a:ext cx="253440" cy="220680"/>
              <a:chOff x="3622680" y="2710080"/>
              <a:chExt cx="253440" cy="220680"/>
            </a:xfrm>
          </p:grpSpPr>
          <p:sp>
            <p:nvSpPr>
              <p:cNvPr id="144" name=""/>
              <p:cNvSpPr/>
              <p:nvPr/>
            </p:nvSpPr>
            <p:spPr>
              <a:xfrm>
                <a:off x="362268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1744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983040" y="2710080"/>
              <a:ext cx="255240" cy="220680"/>
              <a:chOff x="3983040" y="2710080"/>
              <a:chExt cx="255240" cy="220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98304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179240" y="271008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343400" y="2710080"/>
              <a:ext cx="255240" cy="220680"/>
              <a:chOff x="4343400" y="2710080"/>
              <a:chExt cx="255240" cy="220680"/>
            </a:xfrm>
          </p:grpSpPr>
          <p:sp>
            <p:nvSpPr>
              <p:cNvPr id="150" name=""/>
              <p:cNvSpPr/>
              <p:nvPr/>
            </p:nvSpPr>
            <p:spPr>
              <a:xfrm>
                <a:off x="434340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39600" y="271008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703760" y="2710080"/>
              <a:ext cx="253440" cy="220680"/>
              <a:chOff x="4703760" y="2710080"/>
              <a:chExt cx="253440" cy="220680"/>
            </a:xfrm>
          </p:grpSpPr>
          <p:sp>
            <p:nvSpPr>
              <p:cNvPr id="153" name=""/>
              <p:cNvSpPr/>
              <p:nvPr/>
            </p:nvSpPr>
            <p:spPr>
              <a:xfrm>
                <a:off x="470376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89852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1676520" y="3124080"/>
            <a:ext cx="2286000" cy="797040"/>
            <a:chOff x="1676520" y="3124080"/>
            <a:chExt cx="2286000" cy="797040"/>
          </a:xfrm>
        </p:grpSpPr>
        <p:sp>
          <p:nvSpPr>
            <p:cNvPr id="156" name=""/>
            <p:cNvSpPr/>
            <p:nvPr/>
          </p:nvSpPr>
          <p:spPr>
            <a:xfrm>
              <a:off x="3326040" y="3522600"/>
              <a:ext cx="434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0000ff"/>
                  </a:solidFill>
                  <a:latin typeface="Arial"/>
                </a:rPr>
                <a:t>nd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26040" y="3124080"/>
              <a:ext cx="636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79bc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ff79bc"/>
                  </a:solidFill>
                  <a:latin typeface="Arial"/>
                </a:rPr>
                <a:t>p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76520" y="3124080"/>
              <a:ext cx="52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ff0000"/>
                  </a:solidFill>
                  <a:latin typeface="Arial"/>
                </a:rPr>
                <a:t>pd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6520" y="3522600"/>
              <a:ext cx="52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8000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008000"/>
                  </a:solidFill>
                  <a:latin typeface="Arial"/>
                </a:rPr>
                <a:t>n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327636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19520" y="358128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819520" y="327636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7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133720" y="358128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04920" y="1447920"/>
            <a:ext cx="4828680" cy="2190240"/>
            <a:chOff x="304920" y="1447920"/>
            <a:chExt cx="4828680" cy="2190240"/>
          </a:xfrm>
        </p:grpSpPr>
        <p:sp>
          <p:nvSpPr>
            <p:cNvPr id="165" name=""/>
            <p:cNvSpPr/>
            <p:nvPr/>
          </p:nvSpPr>
          <p:spPr>
            <a:xfrm>
              <a:off x="333360" y="3276360"/>
              <a:ext cx="9140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300 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20" y="1447920"/>
              <a:ext cx="2412720" cy="162360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20880" y="1447920"/>
              <a:ext cx="2412720" cy="1623600"/>
            </a:xfrm>
            <a:prstGeom prst="rect">
              <a:avLst/>
            </a:prstGeom>
            <a:solidFill>
              <a:srgbClr val="cce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20560" y="1628640"/>
              <a:ext cx="223560" cy="220320"/>
              <a:chOff x="520560" y="1628640"/>
              <a:chExt cx="223560" cy="220320"/>
            </a:xfrm>
          </p:grpSpPr>
          <p:sp>
            <p:nvSpPr>
              <p:cNvPr id="169" name=""/>
              <p:cNvSpPr/>
              <p:nvPr/>
            </p:nvSpPr>
            <p:spPr>
              <a:xfrm>
                <a:off x="52092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056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880920" y="1628640"/>
              <a:ext cx="223560" cy="220320"/>
              <a:chOff x="880920" y="1628640"/>
              <a:chExt cx="223560" cy="220320"/>
            </a:xfrm>
          </p:grpSpPr>
          <p:sp>
            <p:nvSpPr>
              <p:cNvPr id="172" name=""/>
              <p:cNvSpPr/>
              <p:nvPr/>
            </p:nvSpPr>
            <p:spPr>
              <a:xfrm>
                <a:off x="88128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092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241280" y="1628640"/>
              <a:ext cx="223560" cy="220320"/>
              <a:chOff x="1241280" y="1628640"/>
              <a:chExt cx="223560" cy="220320"/>
            </a:xfrm>
          </p:grpSpPr>
          <p:sp>
            <p:nvSpPr>
              <p:cNvPr id="175" name=""/>
              <p:cNvSpPr/>
              <p:nvPr/>
            </p:nvSpPr>
            <p:spPr>
              <a:xfrm>
                <a:off x="124164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24128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603080" y="1628640"/>
              <a:ext cx="223560" cy="220320"/>
              <a:chOff x="1603080" y="1628640"/>
              <a:chExt cx="223560" cy="220320"/>
            </a:xfrm>
          </p:grpSpPr>
          <p:sp>
            <p:nvSpPr>
              <p:cNvPr id="178" name=""/>
              <p:cNvSpPr/>
              <p:nvPr/>
            </p:nvSpPr>
            <p:spPr>
              <a:xfrm>
                <a:off x="160344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0308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963440" y="1628640"/>
              <a:ext cx="223560" cy="220320"/>
              <a:chOff x="1963440" y="1628640"/>
              <a:chExt cx="223560" cy="220320"/>
            </a:xfrm>
          </p:grpSpPr>
          <p:sp>
            <p:nvSpPr>
              <p:cNvPr id="181" name=""/>
              <p:cNvSpPr/>
              <p:nvPr/>
            </p:nvSpPr>
            <p:spPr>
              <a:xfrm>
                <a:off x="196380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6344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324160" y="1628640"/>
              <a:ext cx="221760" cy="220320"/>
              <a:chOff x="2324160" y="1628640"/>
              <a:chExt cx="221760" cy="220320"/>
            </a:xfrm>
          </p:grpSpPr>
          <p:sp>
            <p:nvSpPr>
              <p:cNvPr id="184" name=""/>
              <p:cNvSpPr/>
              <p:nvPr/>
            </p:nvSpPr>
            <p:spPr>
              <a:xfrm>
                <a:off x="2324520" y="1628640"/>
                <a:ext cx="2206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324160" y="173844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20560" y="2168280"/>
              <a:ext cx="221760" cy="222120"/>
              <a:chOff x="520560" y="2168280"/>
              <a:chExt cx="221760" cy="222120"/>
            </a:xfrm>
          </p:grpSpPr>
          <p:sp>
            <p:nvSpPr>
              <p:cNvPr id="187" name=""/>
              <p:cNvSpPr/>
              <p:nvPr/>
            </p:nvSpPr>
            <p:spPr>
              <a:xfrm>
                <a:off x="520920" y="216828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20560" y="22791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882360" y="2168280"/>
              <a:ext cx="223560" cy="222120"/>
              <a:chOff x="882360" y="2168280"/>
              <a:chExt cx="223560" cy="222120"/>
            </a:xfrm>
          </p:grpSpPr>
          <p:sp>
            <p:nvSpPr>
              <p:cNvPr id="190" name=""/>
              <p:cNvSpPr/>
              <p:nvPr/>
            </p:nvSpPr>
            <p:spPr>
              <a:xfrm>
                <a:off x="882720" y="216828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82360" y="2279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242720" y="2168280"/>
              <a:ext cx="223560" cy="222120"/>
              <a:chOff x="1242720" y="2168280"/>
              <a:chExt cx="223560" cy="222120"/>
            </a:xfrm>
          </p:grpSpPr>
          <p:sp>
            <p:nvSpPr>
              <p:cNvPr id="193" name=""/>
              <p:cNvSpPr/>
              <p:nvPr/>
            </p:nvSpPr>
            <p:spPr>
              <a:xfrm>
                <a:off x="1243080" y="216828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42720" y="2279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603080" y="2168280"/>
              <a:ext cx="222120" cy="222120"/>
              <a:chOff x="1603080" y="2168280"/>
              <a:chExt cx="222120" cy="222120"/>
            </a:xfrm>
          </p:grpSpPr>
          <p:sp>
            <p:nvSpPr>
              <p:cNvPr id="196" name=""/>
              <p:cNvSpPr/>
              <p:nvPr/>
            </p:nvSpPr>
            <p:spPr>
              <a:xfrm>
                <a:off x="1603440" y="2168280"/>
                <a:ext cx="2210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03080" y="2279160"/>
                <a:ext cx="22212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963440" y="2168280"/>
              <a:ext cx="223560" cy="222120"/>
              <a:chOff x="1963440" y="2168280"/>
              <a:chExt cx="223560" cy="222120"/>
            </a:xfrm>
          </p:grpSpPr>
          <p:sp>
            <p:nvSpPr>
              <p:cNvPr id="199" name=""/>
              <p:cNvSpPr/>
              <p:nvPr/>
            </p:nvSpPr>
            <p:spPr>
              <a:xfrm>
                <a:off x="1963800" y="216828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963440" y="2279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324160" y="2168280"/>
              <a:ext cx="223200" cy="222120"/>
              <a:chOff x="2324160" y="2168280"/>
              <a:chExt cx="223200" cy="222120"/>
            </a:xfrm>
          </p:grpSpPr>
          <p:sp>
            <p:nvSpPr>
              <p:cNvPr id="202" name=""/>
              <p:cNvSpPr/>
              <p:nvPr/>
            </p:nvSpPr>
            <p:spPr>
              <a:xfrm>
                <a:off x="2324520" y="216828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324160" y="2279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520560" y="2709720"/>
              <a:ext cx="221760" cy="221760"/>
              <a:chOff x="520560" y="2709720"/>
              <a:chExt cx="221760" cy="221760"/>
            </a:xfrm>
          </p:grpSpPr>
          <p:sp>
            <p:nvSpPr>
              <p:cNvPr id="205" name=""/>
              <p:cNvSpPr/>
              <p:nvPr/>
            </p:nvSpPr>
            <p:spPr>
              <a:xfrm>
                <a:off x="520920" y="270972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0560" y="282024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882360" y="2709720"/>
              <a:ext cx="223560" cy="221760"/>
              <a:chOff x="882360" y="2709720"/>
              <a:chExt cx="223560" cy="221760"/>
            </a:xfrm>
          </p:grpSpPr>
          <p:sp>
            <p:nvSpPr>
              <p:cNvPr id="208" name=""/>
              <p:cNvSpPr/>
              <p:nvPr/>
            </p:nvSpPr>
            <p:spPr>
              <a:xfrm>
                <a:off x="882720" y="270972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360" y="28202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1242720" y="2709720"/>
              <a:ext cx="223560" cy="221760"/>
              <a:chOff x="1242720" y="2709720"/>
              <a:chExt cx="223560" cy="221760"/>
            </a:xfrm>
          </p:grpSpPr>
          <p:sp>
            <p:nvSpPr>
              <p:cNvPr id="211" name=""/>
              <p:cNvSpPr/>
              <p:nvPr/>
            </p:nvSpPr>
            <p:spPr>
              <a:xfrm>
                <a:off x="1243080" y="270972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42720" y="28202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1603080" y="2709720"/>
              <a:ext cx="222120" cy="221760"/>
              <a:chOff x="1603080" y="2709720"/>
              <a:chExt cx="222120" cy="221760"/>
            </a:xfrm>
          </p:grpSpPr>
          <p:sp>
            <p:nvSpPr>
              <p:cNvPr id="214" name=""/>
              <p:cNvSpPr/>
              <p:nvPr/>
            </p:nvSpPr>
            <p:spPr>
              <a:xfrm>
                <a:off x="1603440" y="2709720"/>
                <a:ext cx="22104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03080" y="2820240"/>
                <a:ext cx="22212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1963440" y="2709720"/>
              <a:ext cx="223560" cy="221760"/>
              <a:chOff x="1963440" y="2709720"/>
              <a:chExt cx="223560" cy="221760"/>
            </a:xfrm>
          </p:grpSpPr>
          <p:sp>
            <p:nvSpPr>
              <p:cNvPr id="217" name=""/>
              <p:cNvSpPr/>
              <p:nvPr/>
            </p:nvSpPr>
            <p:spPr>
              <a:xfrm>
                <a:off x="1963800" y="270972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963440" y="28202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324160" y="2709720"/>
              <a:ext cx="223200" cy="221760"/>
              <a:chOff x="2324160" y="2709720"/>
              <a:chExt cx="223200" cy="221760"/>
            </a:xfrm>
          </p:grpSpPr>
          <p:sp>
            <p:nvSpPr>
              <p:cNvPr id="220" name=""/>
              <p:cNvSpPr/>
              <p:nvPr/>
            </p:nvSpPr>
            <p:spPr>
              <a:xfrm>
                <a:off x="2324520" y="270972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24160" y="28202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2900160" y="1627200"/>
              <a:ext cx="223560" cy="223200"/>
              <a:chOff x="2900160" y="1627200"/>
              <a:chExt cx="223560" cy="223200"/>
            </a:xfrm>
          </p:grpSpPr>
          <p:sp>
            <p:nvSpPr>
              <p:cNvPr id="223" name=""/>
              <p:cNvSpPr/>
              <p:nvPr/>
            </p:nvSpPr>
            <p:spPr>
              <a:xfrm>
                <a:off x="2900520" y="1628280"/>
                <a:ext cx="222480" cy="22140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900160" y="173880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11760" y="1627200"/>
                <a:ext cx="360" cy="22320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3260520" y="1628640"/>
              <a:ext cx="223560" cy="221760"/>
              <a:chOff x="3260520" y="1628640"/>
              <a:chExt cx="223560" cy="221760"/>
            </a:xfrm>
          </p:grpSpPr>
          <p:sp>
            <p:nvSpPr>
              <p:cNvPr id="227" name=""/>
              <p:cNvSpPr/>
              <p:nvPr/>
            </p:nvSpPr>
            <p:spPr>
              <a:xfrm>
                <a:off x="3260880" y="1629720"/>
                <a:ext cx="22248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260520" y="1739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7212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622680" y="1628640"/>
              <a:ext cx="223200" cy="221760"/>
              <a:chOff x="3622680" y="1628640"/>
              <a:chExt cx="223200" cy="221760"/>
            </a:xfrm>
          </p:grpSpPr>
          <p:sp>
            <p:nvSpPr>
              <p:cNvPr id="231" name=""/>
              <p:cNvSpPr/>
              <p:nvPr/>
            </p:nvSpPr>
            <p:spPr>
              <a:xfrm>
                <a:off x="3623040" y="1629720"/>
                <a:ext cx="22212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622680" y="17395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73428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983040" y="1628640"/>
              <a:ext cx="223200" cy="221760"/>
              <a:chOff x="3983040" y="1628640"/>
              <a:chExt cx="223200" cy="221760"/>
            </a:xfrm>
          </p:grpSpPr>
          <p:sp>
            <p:nvSpPr>
              <p:cNvPr id="235" name=""/>
              <p:cNvSpPr/>
              <p:nvPr/>
            </p:nvSpPr>
            <p:spPr>
              <a:xfrm>
                <a:off x="3983400" y="1629720"/>
                <a:ext cx="22212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983040" y="17395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09464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4343400" y="1628640"/>
              <a:ext cx="221760" cy="221760"/>
              <a:chOff x="4343400" y="1628640"/>
              <a:chExt cx="221760" cy="221760"/>
            </a:xfrm>
          </p:grpSpPr>
          <p:sp>
            <p:nvSpPr>
              <p:cNvPr id="239" name=""/>
              <p:cNvSpPr/>
              <p:nvPr/>
            </p:nvSpPr>
            <p:spPr>
              <a:xfrm>
                <a:off x="4343760" y="1629720"/>
                <a:ext cx="22068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343400" y="173952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45428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703760" y="1628640"/>
              <a:ext cx="223200" cy="221760"/>
              <a:chOff x="4703760" y="1628640"/>
              <a:chExt cx="223200" cy="221760"/>
            </a:xfrm>
          </p:grpSpPr>
          <p:sp>
            <p:nvSpPr>
              <p:cNvPr id="243" name=""/>
              <p:cNvSpPr/>
              <p:nvPr/>
            </p:nvSpPr>
            <p:spPr>
              <a:xfrm>
                <a:off x="4704120" y="1629720"/>
                <a:ext cx="22212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03760" y="17395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1536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900160" y="2168280"/>
              <a:ext cx="223560" cy="223560"/>
              <a:chOff x="2900160" y="2168280"/>
              <a:chExt cx="223560" cy="223560"/>
            </a:xfrm>
          </p:grpSpPr>
          <p:sp>
            <p:nvSpPr>
              <p:cNvPr id="247" name=""/>
              <p:cNvSpPr/>
              <p:nvPr/>
            </p:nvSpPr>
            <p:spPr>
              <a:xfrm>
                <a:off x="2900520" y="216936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900160" y="22798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011760" y="21682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260520" y="2170080"/>
              <a:ext cx="223560" cy="223560"/>
              <a:chOff x="3260520" y="2170080"/>
              <a:chExt cx="223560" cy="223560"/>
            </a:xfrm>
          </p:grpSpPr>
          <p:sp>
            <p:nvSpPr>
              <p:cNvPr id="251" name=""/>
              <p:cNvSpPr/>
              <p:nvPr/>
            </p:nvSpPr>
            <p:spPr>
              <a:xfrm>
                <a:off x="3260880" y="217116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60520" y="22816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37212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622680" y="2170080"/>
              <a:ext cx="223200" cy="223560"/>
              <a:chOff x="3622680" y="2170080"/>
              <a:chExt cx="223200" cy="223560"/>
            </a:xfrm>
          </p:grpSpPr>
          <p:sp>
            <p:nvSpPr>
              <p:cNvPr id="255" name=""/>
              <p:cNvSpPr/>
              <p:nvPr/>
            </p:nvSpPr>
            <p:spPr>
              <a:xfrm>
                <a:off x="3623040" y="217116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622680" y="228168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73428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983040" y="2170080"/>
              <a:ext cx="223200" cy="223560"/>
              <a:chOff x="3983040" y="2170080"/>
              <a:chExt cx="223200" cy="22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3983400" y="217116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983040" y="228168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9464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343400" y="2170080"/>
              <a:ext cx="221760" cy="223560"/>
              <a:chOff x="4343400" y="2170080"/>
              <a:chExt cx="221760" cy="223560"/>
            </a:xfrm>
          </p:grpSpPr>
          <p:sp>
            <p:nvSpPr>
              <p:cNvPr id="263" name=""/>
              <p:cNvSpPr/>
              <p:nvPr/>
            </p:nvSpPr>
            <p:spPr>
              <a:xfrm>
                <a:off x="4343760" y="217116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343400" y="228168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5428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703760" y="2170080"/>
              <a:ext cx="223200" cy="223560"/>
              <a:chOff x="4703760" y="2170080"/>
              <a:chExt cx="223200" cy="223560"/>
            </a:xfrm>
          </p:grpSpPr>
          <p:sp>
            <p:nvSpPr>
              <p:cNvPr id="267" name=""/>
              <p:cNvSpPr/>
              <p:nvPr/>
            </p:nvSpPr>
            <p:spPr>
              <a:xfrm>
                <a:off x="4704120" y="217116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03760" y="228168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1536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900160" y="2709720"/>
              <a:ext cx="223560" cy="223560"/>
              <a:chOff x="2900160" y="2709720"/>
              <a:chExt cx="223560" cy="223560"/>
            </a:xfrm>
          </p:grpSpPr>
          <p:sp>
            <p:nvSpPr>
              <p:cNvPr id="271" name=""/>
              <p:cNvSpPr/>
              <p:nvPr/>
            </p:nvSpPr>
            <p:spPr>
              <a:xfrm>
                <a:off x="2900520" y="271080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900160" y="28213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11760" y="270972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260520" y="2711160"/>
              <a:ext cx="223560" cy="223560"/>
              <a:chOff x="3260520" y="2711160"/>
              <a:chExt cx="223560" cy="223560"/>
            </a:xfrm>
          </p:grpSpPr>
          <p:sp>
            <p:nvSpPr>
              <p:cNvPr id="275" name=""/>
              <p:cNvSpPr/>
              <p:nvPr/>
            </p:nvSpPr>
            <p:spPr>
              <a:xfrm>
                <a:off x="3260880" y="271224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260520" y="28227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7212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3622680" y="2711160"/>
              <a:ext cx="223200" cy="223560"/>
              <a:chOff x="3622680" y="2711160"/>
              <a:chExt cx="223200" cy="223560"/>
            </a:xfrm>
          </p:grpSpPr>
          <p:sp>
            <p:nvSpPr>
              <p:cNvPr id="279" name=""/>
              <p:cNvSpPr/>
              <p:nvPr/>
            </p:nvSpPr>
            <p:spPr>
              <a:xfrm>
                <a:off x="3623040" y="27122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22680" y="28227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73428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983040" y="2711160"/>
              <a:ext cx="223200" cy="223560"/>
              <a:chOff x="3983040" y="2711160"/>
              <a:chExt cx="223200" cy="223560"/>
            </a:xfrm>
          </p:grpSpPr>
          <p:sp>
            <p:nvSpPr>
              <p:cNvPr id="283" name=""/>
              <p:cNvSpPr/>
              <p:nvPr/>
            </p:nvSpPr>
            <p:spPr>
              <a:xfrm>
                <a:off x="3983400" y="27122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983040" y="28227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09464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343400" y="2711160"/>
              <a:ext cx="221760" cy="223560"/>
              <a:chOff x="4343400" y="2711160"/>
              <a:chExt cx="221760" cy="223560"/>
            </a:xfrm>
          </p:grpSpPr>
          <p:sp>
            <p:nvSpPr>
              <p:cNvPr id="287" name=""/>
              <p:cNvSpPr/>
              <p:nvPr/>
            </p:nvSpPr>
            <p:spPr>
              <a:xfrm>
                <a:off x="4343760" y="271224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43400" y="28227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45428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703760" y="2711160"/>
              <a:ext cx="223200" cy="223560"/>
              <a:chOff x="4703760" y="2711160"/>
              <a:chExt cx="223200" cy="223560"/>
            </a:xfrm>
          </p:grpSpPr>
          <p:sp>
            <p:nvSpPr>
              <p:cNvPr id="291" name=""/>
              <p:cNvSpPr/>
              <p:nvPr/>
            </p:nvSpPr>
            <p:spPr>
              <a:xfrm>
                <a:off x="4704120" y="27122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03760" y="28227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81536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520560" y="1981080"/>
              <a:ext cx="58320" cy="60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0560" y="252252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69880" y="293184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5520" y="1542960"/>
              <a:ext cx="5868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64960" y="1542960"/>
              <a:ext cx="5868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8240" y="2923920"/>
              <a:ext cx="58320" cy="60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54160" y="1952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85800" y="254160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22760" y="253188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35160" y="240804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1560" y="294156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45040" y="291312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30640" y="248436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27560" y="252252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94280" y="172224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06720" y="162720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08360" y="198756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74880" y="1579320"/>
              <a:ext cx="5868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98880" y="2006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32280" y="258588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85600" y="197172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28760" y="2520720"/>
              <a:ext cx="59760" cy="60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0400" y="2547720"/>
              <a:ext cx="58320" cy="583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24120" y="2016000"/>
              <a:ext cx="58680" cy="583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44720" y="2498760"/>
              <a:ext cx="58320" cy="583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36480" y="197784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81160" y="2514600"/>
              <a:ext cx="5976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69880" y="2477880"/>
              <a:ext cx="5868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27120" y="2508120"/>
              <a:ext cx="58680" cy="60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58680" y="2565360"/>
              <a:ext cx="58680" cy="597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00240" y="1952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85840" y="193500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6680" y="251460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40280" y="2006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720" y="168120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87680" y="207936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38280" y="1536480"/>
              <a:ext cx="5976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41480" y="24048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89400" y="193500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59200" y="193500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106000" y="2327760"/>
              <a:ext cx="881640" cy="39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53" y="21594"/>
                  </a:moveTo>
                  <a:arcTo wR="10800" hR="10800" stAng="5510481" swAng="5469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53" y="21594"/>
                  </a:moveTo>
                  <a:arcTo wR="10800" hR="10800" stAng="5510481" swAng="5469120"/>
                </a:path>
              </a:pathLst>
            </a:custGeom>
            <a:noFill/>
            <a:ln w="19080">
              <a:solidFill>
                <a:srgbClr val="3333ff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531880" y="1935720"/>
              <a:ext cx="880200" cy="39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12" y="153"/>
                  </a:moveTo>
                  <a:arcTo wR="10800" hR="10800" stAng="-4820381" swAng="35211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12" y="153"/>
                  </a:moveTo>
                  <a:arcTo wR="10800" hR="10800" stAng="-4820381" swAng="3521169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33360" y="3276720"/>
            <a:ext cx="5414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04920" y="3879720"/>
            <a:ext cx="4828680" cy="2000160"/>
            <a:chOff x="304920" y="3879720"/>
            <a:chExt cx="4828680" cy="2000160"/>
          </a:xfrm>
        </p:grpSpPr>
        <p:sp>
          <p:nvSpPr>
            <p:cNvPr id="338" name=""/>
            <p:cNvSpPr/>
            <p:nvPr/>
          </p:nvSpPr>
          <p:spPr>
            <a:xfrm>
              <a:off x="2552760" y="3879720"/>
              <a:ext cx="2883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95480" y="3914640"/>
              <a:ext cx="286920" cy="287280"/>
            </a:xfrm>
            <a:prstGeom prst="plus">
              <a:avLst>
                <a:gd name="adj" fmla="val 3781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20880" y="4254480"/>
              <a:ext cx="2412720" cy="1623960"/>
            </a:xfrm>
            <a:prstGeom prst="rect">
              <a:avLst/>
            </a:prstGeom>
            <a:solidFill>
              <a:srgbClr val="cce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4920" y="4254480"/>
              <a:ext cx="2412720" cy="162396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25520" y="4051080"/>
              <a:ext cx="286920" cy="88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0560" y="4795920"/>
              <a:ext cx="601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520560" y="4435560"/>
              <a:ext cx="223560" cy="220320"/>
              <a:chOff x="520560" y="4435560"/>
              <a:chExt cx="223560" cy="220320"/>
            </a:xfrm>
          </p:grpSpPr>
          <p:sp>
            <p:nvSpPr>
              <p:cNvPr id="345" name=""/>
              <p:cNvSpPr/>
              <p:nvPr/>
            </p:nvSpPr>
            <p:spPr>
              <a:xfrm>
                <a:off x="52092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056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882360" y="4435560"/>
              <a:ext cx="222120" cy="220320"/>
              <a:chOff x="882360" y="4435560"/>
              <a:chExt cx="222120" cy="220320"/>
            </a:xfrm>
          </p:grpSpPr>
          <p:sp>
            <p:nvSpPr>
              <p:cNvPr id="348" name=""/>
              <p:cNvSpPr/>
              <p:nvPr/>
            </p:nvSpPr>
            <p:spPr>
              <a:xfrm>
                <a:off x="882720" y="4435560"/>
                <a:ext cx="22104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82360" y="4545360"/>
                <a:ext cx="22212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1242720" y="4435560"/>
              <a:ext cx="223560" cy="220320"/>
              <a:chOff x="1242720" y="4435560"/>
              <a:chExt cx="223560" cy="220320"/>
            </a:xfrm>
          </p:grpSpPr>
          <p:sp>
            <p:nvSpPr>
              <p:cNvPr id="351" name=""/>
              <p:cNvSpPr/>
              <p:nvPr/>
            </p:nvSpPr>
            <p:spPr>
              <a:xfrm>
                <a:off x="124308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24272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603080" y="4435560"/>
              <a:ext cx="223560" cy="220320"/>
              <a:chOff x="1603080" y="4435560"/>
              <a:chExt cx="223560" cy="220320"/>
            </a:xfrm>
          </p:grpSpPr>
          <p:sp>
            <p:nvSpPr>
              <p:cNvPr id="354" name=""/>
              <p:cNvSpPr/>
              <p:nvPr/>
            </p:nvSpPr>
            <p:spPr>
              <a:xfrm>
                <a:off x="160344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0308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20560" y="4975200"/>
              <a:ext cx="223560" cy="222120"/>
              <a:chOff x="520560" y="4975200"/>
              <a:chExt cx="223560" cy="222120"/>
            </a:xfrm>
          </p:grpSpPr>
          <p:sp>
            <p:nvSpPr>
              <p:cNvPr id="357" name=""/>
              <p:cNvSpPr/>
              <p:nvPr/>
            </p:nvSpPr>
            <p:spPr>
              <a:xfrm>
                <a:off x="52092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2056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882360" y="4975200"/>
              <a:ext cx="223560" cy="222120"/>
              <a:chOff x="882360" y="4975200"/>
              <a:chExt cx="223560" cy="222120"/>
            </a:xfrm>
          </p:grpSpPr>
          <p:sp>
            <p:nvSpPr>
              <p:cNvPr id="360" name=""/>
              <p:cNvSpPr/>
              <p:nvPr/>
            </p:nvSpPr>
            <p:spPr>
              <a:xfrm>
                <a:off x="88272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8236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1242720" y="4975200"/>
              <a:ext cx="223560" cy="222120"/>
              <a:chOff x="1242720" y="4975200"/>
              <a:chExt cx="223560" cy="222120"/>
            </a:xfrm>
          </p:grpSpPr>
          <p:sp>
            <p:nvSpPr>
              <p:cNvPr id="363" name=""/>
              <p:cNvSpPr/>
              <p:nvPr/>
            </p:nvSpPr>
            <p:spPr>
              <a:xfrm>
                <a:off x="124308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4272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1604880" y="4975200"/>
              <a:ext cx="221760" cy="222120"/>
              <a:chOff x="1604880" y="4975200"/>
              <a:chExt cx="221760" cy="222120"/>
            </a:xfrm>
          </p:grpSpPr>
          <p:sp>
            <p:nvSpPr>
              <p:cNvPr id="366" name=""/>
              <p:cNvSpPr/>
              <p:nvPr/>
            </p:nvSpPr>
            <p:spPr>
              <a:xfrm>
                <a:off x="1605240" y="497520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604880" y="508608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20560" y="5516640"/>
              <a:ext cx="223560" cy="222120"/>
              <a:chOff x="520560" y="5516640"/>
              <a:chExt cx="223560" cy="222120"/>
            </a:xfrm>
          </p:grpSpPr>
          <p:sp>
            <p:nvSpPr>
              <p:cNvPr id="369" name=""/>
              <p:cNvSpPr/>
              <p:nvPr/>
            </p:nvSpPr>
            <p:spPr>
              <a:xfrm>
                <a:off x="52092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2056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882360" y="5516640"/>
              <a:ext cx="223560" cy="222120"/>
              <a:chOff x="882360" y="5516640"/>
              <a:chExt cx="223560" cy="222120"/>
            </a:xfrm>
          </p:grpSpPr>
          <p:sp>
            <p:nvSpPr>
              <p:cNvPr id="372" name=""/>
              <p:cNvSpPr/>
              <p:nvPr/>
            </p:nvSpPr>
            <p:spPr>
              <a:xfrm>
                <a:off x="88272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8236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1242720" y="5516640"/>
              <a:ext cx="223560" cy="222120"/>
              <a:chOff x="1242720" y="5516640"/>
              <a:chExt cx="223560" cy="222120"/>
            </a:xfrm>
          </p:grpSpPr>
          <p:sp>
            <p:nvSpPr>
              <p:cNvPr id="375" name=""/>
              <p:cNvSpPr/>
              <p:nvPr/>
            </p:nvSpPr>
            <p:spPr>
              <a:xfrm>
                <a:off x="124308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24272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520560" y="5337000"/>
              <a:ext cx="601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1604880" y="5516640"/>
              <a:ext cx="221760" cy="222120"/>
              <a:chOff x="1604880" y="5516640"/>
              <a:chExt cx="221760" cy="222120"/>
            </a:xfrm>
          </p:grpSpPr>
          <p:sp>
            <p:nvSpPr>
              <p:cNvPr id="379" name=""/>
              <p:cNvSpPr/>
              <p:nvPr/>
            </p:nvSpPr>
            <p:spPr>
              <a:xfrm>
                <a:off x="1605240" y="551664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604880" y="562752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1471320" y="5745240"/>
              <a:ext cx="5868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7320" y="4357440"/>
              <a:ext cx="58320" cy="590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66760" y="4357440"/>
              <a:ext cx="58320" cy="590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8240" y="573876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55600" y="4767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3622680" y="4435560"/>
              <a:ext cx="223200" cy="223560"/>
              <a:chOff x="3622680" y="4435560"/>
              <a:chExt cx="223200" cy="223560"/>
            </a:xfrm>
          </p:grpSpPr>
          <p:sp>
            <p:nvSpPr>
              <p:cNvPr id="387" name=""/>
              <p:cNvSpPr/>
              <p:nvPr/>
            </p:nvSpPr>
            <p:spPr>
              <a:xfrm>
                <a:off x="3623040" y="44366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622680" y="4547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73428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3984480" y="4435560"/>
              <a:ext cx="221760" cy="223560"/>
              <a:chOff x="3984480" y="4435560"/>
              <a:chExt cx="221760" cy="223560"/>
            </a:xfrm>
          </p:grpSpPr>
          <p:sp>
            <p:nvSpPr>
              <p:cNvPr id="391" name=""/>
              <p:cNvSpPr/>
              <p:nvPr/>
            </p:nvSpPr>
            <p:spPr>
              <a:xfrm>
                <a:off x="3984840" y="443664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984480" y="45471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9536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4344840" y="4435560"/>
              <a:ext cx="223560" cy="223560"/>
              <a:chOff x="4344840" y="4435560"/>
              <a:chExt cx="223560" cy="223560"/>
            </a:xfrm>
          </p:grpSpPr>
          <p:sp>
            <p:nvSpPr>
              <p:cNvPr id="395" name=""/>
              <p:cNvSpPr/>
              <p:nvPr/>
            </p:nvSpPr>
            <p:spPr>
              <a:xfrm>
                <a:off x="4345200" y="443664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44840" y="4547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45644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1587240" y="5356080"/>
              <a:ext cx="5868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4705200" y="4435560"/>
              <a:ext cx="223560" cy="223560"/>
              <a:chOff x="4705200" y="4435560"/>
              <a:chExt cx="223560" cy="223560"/>
            </a:xfrm>
          </p:grpSpPr>
          <p:sp>
            <p:nvSpPr>
              <p:cNvPr id="400" name=""/>
              <p:cNvSpPr/>
              <p:nvPr/>
            </p:nvSpPr>
            <p:spPr>
              <a:xfrm>
                <a:off x="4705560" y="443664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05200" y="4547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81680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3622680" y="4976640"/>
              <a:ext cx="223200" cy="223920"/>
              <a:chOff x="3622680" y="4976640"/>
              <a:chExt cx="223200" cy="223920"/>
            </a:xfrm>
          </p:grpSpPr>
          <p:sp>
            <p:nvSpPr>
              <p:cNvPr id="404" name=""/>
              <p:cNvSpPr/>
              <p:nvPr/>
            </p:nvSpPr>
            <p:spPr>
              <a:xfrm>
                <a:off x="3623040" y="497772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622680" y="508860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3428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3984480" y="4976640"/>
              <a:ext cx="221760" cy="223920"/>
              <a:chOff x="3984480" y="4976640"/>
              <a:chExt cx="221760" cy="223920"/>
            </a:xfrm>
          </p:grpSpPr>
          <p:sp>
            <p:nvSpPr>
              <p:cNvPr id="408" name=""/>
              <p:cNvSpPr/>
              <p:nvPr/>
            </p:nvSpPr>
            <p:spPr>
              <a:xfrm>
                <a:off x="3984840" y="497772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984480" y="508860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09536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344840" y="4976640"/>
              <a:ext cx="223560" cy="223920"/>
              <a:chOff x="4344840" y="4976640"/>
              <a:chExt cx="223560" cy="223920"/>
            </a:xfrm>
          </p:grpSpPr>
          <p:sp>
            <p:nvSpPr>
              <p:cNvPr id="412" name=""/>
              <p:cNvSpPr/>
              <p:nvPr/>
            </p:nvSpPr>
            <p:spPr>
              <a:xfrm>
                <a:off x="4345200" y="497772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44840" y="508860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45644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4705200" y="4976640"/>
              <a:ext cx="223560" cy="223920"/>
              <a:chOff x="4705200" y="4976640"/>
              <a:chExt cx="223560" cy="223920"/>
            </a:xfrm>
          </p:grpSpPr>
          <p:sp>
            <p:nvSpPr>
              <p:cNvPr id="416" name=""/>
              <p:cNvSpPr/>
              <p:nvPr/>
            </p:nvSpPr>
            <p:spPr>
              <a:xfrm>
                <a:off x="4705560" y="497772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05200" y="508860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81680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3622680" y="5518080"/>
              <a:ext cx="223200" cy="223920"/>
              <a:chOff x="3622680" y="5518080"/>
              <a:chExt cx="223200" cy="223920"/>
            </a:xfrm>
          </p:grpSpPr>
          <p:sp>
            <p:nvSpPr>
              <p:cNvPr id="420" name=""/>
              <p:cNvSpPr/>
              <p:nvPr/>
            </p:nvSpPr>
            <p:spPr>
              <a:xfrm>
                <a:off x="3623040" y="551916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622680" y="56300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3428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3984480" y="5518080"/>
              <a:ext cx="221760" cy="223920"/>
              <a:chOff x="3984480" y="5518080"/>
              <a:chExt cx="221760" cy="223920"/>
            </a:xfrm>
          </p:grpSpPr>
          <p:sp>
            <p:nvSpPr>
              <p:cNvPr id="424" name=""/>
              <p:cNvSpPr/>
              <p:nvPr/>
            </p:nvSpPr>
            <p:spPr>
              <a:xfrm>
                <a:off x="3984840" y="551916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984480" y="563004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09536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4344840" y="5518080"/>
              <a:ext cx="223560" cy="223920"/>
              <a:chOff x="4344840" y="5518080"/>
              <a:chExt cx="223560" cy="223920"/>
            </a:xfrm>
          </p:grpSpPr>
          <p:sp>
            <p:nvSpPr>
              <p:cNvPr id="428" name=""/>
              <p:cNvSpPr/>
              <p:nvPr/>
            </p:nvSpPr>
            <p:spPr>
              <a:xfrm>
                <a:off x="4345200" y="551916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344840" y="56300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45644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4705200" y="5518080"/>
              <a:ext cx="223560" cy="223920"/>
              <a:chOff x="4705200" y="5518080"/>
              <a:chExt cx="223560" cy="223920"/>
            </a:xfrm>
          </p:grpSpPr>
          <p:sp>
            <p:nvSpPr>
              <p:cNvPr id="432" name=""/>
              <p:cNvSpPr/>
              <p:nvPr/>
            </p:nvSpPr>
            <p:spPr>
              <a:xfrm>
                <a:off x="4705560" y="551916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05200" y="56300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81680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4624200" y="534672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36960" y="522288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43360" y="5754600"/>
              <a:ext cx="58320" cy="60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45040" y="5726160"/>
              <a:ext cx="59760" cy="60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032080" y="5298840"/>
              <a:ext cx="58680" cy="590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29000" y="53370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95720" y="453708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06720" y="4441680"/>
              <a:ext cx="601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08360" y="48006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76680" y="43941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00320" y="4821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2280" y="5400720"/>
              <a:ext cx="5976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7400" y="47847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28760" y="53355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60400" y="5360760"/>
              <a:ext cx="59760" cy="5904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24120" y="4829040"/>
              <a:ext cx="60120" cy="58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46520" y="5311800"/>
              <a:ext cx="58320" cy="58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36480" y="479088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68120" y="5327640"/>
              <a:ext cx="5868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41720" y="4821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4520" y="449568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38280" y="4351320"/>
              <a:ext cx="5976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73400" y="53640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89400" y="4748040"/>
              <a:ext cx="59760" cy="60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60640" y="4748040"/>
              <a:ext cx="58680" cy="60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28920" y="53229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14600" y="476568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33360" y="4259160"/>
              <a:ext cx="1160280" cy="1620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325600" y="4435560"/>
              <a:ext cx="221760" cy="220320"/>
              <a:chOff x="2325600" y="4435560"/>
              <a:chExt cx="221760" cy="220320"/>
            </a:xfrm>
          </p:grpSpPr>
          <p:sp>
            <p:nvSpPr>
              <p:cNvPr id="464" name=""/>
              <p:cNvSpPr/>
              <p:nvPr/>
            </p:nvSpPr>
            <p:spPr>
              <a:xfrm>
                <a:off x="2325960" y="4435560"/>
                <a:ext cx="2206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25600" y="45453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2901960" y="4433760"/>
              <a:ext cx="223200" cy="223920"/>
              <a:chOff x="2901960" y="4433760"/>
              <a:chExt cx="223200" cy="223920"/>
            </a:xfrm>
          </p:grpSpPr>
          <p:sp>
            <p:nvSpPr>
              <p:cNvPr id="467" name=""/>
              <p:cNvSpPr/>
              <p:nvPr/>
            </p:nvSpPr>
            <p:spPr>
              <a:xfrm>
                <a:off x="2902320" y="443484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901960" y="45457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013560" y="443376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262320" y="4435560"/>
              <a:ext cx="223200" cy="223560"/>
              <a:chOff x="3262320" y="4435560"/>
              <a:chExt cx="223200" cy="223560"/>
            </a:xfrm>
          </p:grpSpPr>
          <p:sp>
            <p:nvSpPr>
              <p:cNvPr id="471" name=""/>
              <p:cNvSpPr/>
              <p:nvPr/>
            </p:nvSpPr>
            <p:spPr>
              <a:xfrm>
                <a:off x="3262680" y="44366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262320" y="4547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37392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2325600" y="4975200"/>
              <a:ext cx="223560" cy="222120"/>
              <a:chOff x="2325600" y="4975200"/>
              <a:chExt cx="223560" cy="222120"/>
            </a:xfrm>
          </p:grpSpPr>
          <p:sp>
            <p:nvSpPr>
              <p:cNvPr id="475" name=""/>
              <p:cNvSpPr/>
              <p:nvPr/>
            </p:nvSpPr>
            <p:spPr>
              <a:xfrm>
                <a:off x="232596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32560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2901960" y="4975200"/>
              <a:ext cx="223200" cy="223920"/>
              <a:chOff x="2901960" y="4975200"/>
              <a:chExt cx="223200" cy="223920"/>
            </a:xfrm>
          </p:grpSpPr>
          <p:sp>
            <p:nvSpPr>
              <p:cNvPr id="478" name=""/>
              <p:cNvSpPr/>
              <p:nvPr/>
            </p:nvSpPr>
            <p:spPr>
              <a:xfrm>
                <a:off x="2902320" y="497628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901960" y="5087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013560" y="497520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262320" y="4976640"/>
              <a:ext cx="223200" cy="223920"/>
              <a:chOff x="3262320" y="4976640"/>
              <a:chExt cx="223200" cy="223920"/>
            </a:xfrm>
          </p:grpSpPr>
          <p:sp>
            <p:nvSpPr>
              <p:cNvPr id="482" name=""/>
              <p:cNvSpPr/>
              <p:nvPr/>
            </p:nvSpPr>
            <p:spPr>
              <a:xfrm>
                <a:off x="3262680" y="497772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62320" y="508860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37392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2325600" y="5516640"/>
              <a:ext cx="223560" cy="222120"/>
              <a:chOff x="2325600" y="5516640"/>
              <a:chExt cx="223560" cy="222120"/>
            </a:xfrm>
          </p:grpSpPr>
          <p:sp>
            <p:nvSpPr>
              <p:cNvPr id="486" name=""/>
              <p:cNvSpPr/>
              <p:nvPr/>
            </p:nvSpPr>
            <p:spPr>
              <a:xfrm>
                <a:off x="232596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32560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2901960" y="5516640"/>
              <a:ext cx="223200" cy="223560"/>
              <a:chOff x="2901960" y="5516640"/>
              <a:chExt cx="223200" cy="223560"/>
            </a:xfrm>
          </p:grpSpPr>
          <p:sp>
            <p:nvSpPr>
              <p:cNvPr id="489" name=""/>
              <p:cNvSpPr/>
              <p:nvPr/>
            </p:nvSpPr>
            <p:spPr>
              <a:xfrm>
                <a:off x="2902320" y="551772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901960" y="56282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013560" y="551664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3262320" y="5518080"/>
              <a:ext cx="223200" cy="223920"/>
              <a:chOff x="3262320" y="5518080"/>
              <a:chExt cx="223200" cy="223920"/>
            </a:xfrm>
          </p:grpSpPr>
          <p:sp>
            <p:nvSpPr>
              <p:cNvPr id="493" name=""/>
              <p:cNvSpPr/>
              <p:nvPr/>
            </p:nvSpPr>
            <p:spPr>
              <a:xfrm>
                <a:off x="3262680" y="551916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262320" y="56300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37392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1888920" y="4709880"/>
              <a:ext cx="58320" cy="590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60480" y="5379840"/>
              <a:ext cx="58320" cy="58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96840" y="5222880"/>
              <a:ext cx="58320" cy="60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1963440" y="4435560"/>
              <a:ext cx="223560" cy="220320"/>
              <a:chOff x="1963440" y="4435560"/>
              <a:chExt cx="223560" cy="220320"/>
            </a:xfrm>
          </p:grpSpPr>
          <p:sp>
            <p:nvSpPr>
              <p:cNvPr id="500" name=""/>
              <p:cNvSpPr/>
              <p:nvPr/>
            </p:nvSpPr>
            <p:spPr>
              <a:xfrm>
                <a:off x="196380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96344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1965240" y="4975200"/>
              <a:ext cx="223560" cy="222120"/>
              <a:chOff x="1965240" y="4975200"/>
              <a:chExt cx="223560" cy="222120"/>
            </a:xfrm>
          </p:grpSpPr>
          <p:sp>
            <p:nvSpPr>
              <p:cNvPr id="503" name=""/>
              <p:cNvSpPr/>
              <p:nvPr/>
            </p:nvSpPr>
            <p:spPr>
              <a:xfrm>
                <a:off x="196560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96524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1965240" y="5516640"/>
              <a:ext cx="223560" cy="222120"/>
              <a:chOff x="1965240" y="5516640"/>
              <a:chExt cx="223560" cy="222120"/>
            </a:xfrm>
          </p:grpSpPr>
          <p:sp>
            <p:nvSpPr>
              <p:cNvPr id="506" name=""/>
              <p:cNvSpPr/>
              <p:nvPr/>
            </p:nvSpPr>
            <p:spPr>
              <a:xfrm>
                <a:off x="196560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96524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2081160" y="5327640"/>
              <a:ext cx="5976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01680" y="4767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141640" y="4184640"/>
            <a:ext cx="1158840" cy="663480"/>
            <a:chOff x="2141640" y="4184640"/>
            <a:chExt cx="1158840" cy="663480"/>
          </a:xfrm>
        </p:grpSpPr>
        <p:sp>
          <p:nvSpPr>
            <p:cNvPr id="511" name=""/>
            <p:cNvSpPr/>
            <p:nvPr/>
          </p:nvSpPr>
          <p:spPr>
            <a:xfrm>
              <a:off x="2141640" y="4848120"/>
              <a:ext cx="115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500920" y="4184640"/>
              <a:ext cx="4168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5349960" y="1203480"/>
            <a:ext cx="3794040" cy="55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 temperatura ambiente, los huecos de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pasan por difusión hacia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y los e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pasan a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la zona de la unión, huecos y e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se recombinan, quedando una estrecha zona de transición con una distribución de carga debida a la presencia de los iones de las impurezas y a la ausencia de huecos y e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crea, entonces un campo eléctrico que produce corrientes de desplazamiento, que equilibran a las de difu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932120" y="596592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51080" y="596592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3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3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24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3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87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4.El diodo como rectificador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oximaciones o modelo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890640" y="23623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modelo del diodo ideal se equipara éste a un cortocircuito o a un circuito abierto, según cómo esté conec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5484960" y="1676520"/>
            <a:ext cx="1054080" cy="304560"/>
            <a:chOff x="5484960" y="1676520"/>
            <a:chExt cx="1054080" cy="304560"/>
          </a:xfrm>
        </p:grpSpPr>
        <p:sp>
          <p:nvSpPr>
            <p:cNvPr id="1089" name=""/>
            <p:cNvSpPr/>
            <p:nvPr/>
          </p:nvSpPr>
          <p:spPr>
            <a:xfrm>
              <a:off x="5484960" y="1838160"/>
              <a:ext cx="10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 rot="16200000">
              <a:off x="5883120" y="1694160"/>
              <a:ext cx="26964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6188040" y="1676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1577880" y="34290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838080" y="4051440"/>
            <a:ext cx="338400" cy="79200"/>
            <a:chOff x="838080" y="4051440"/>
            <a:chExt cx="338400" cy="79200"/>
          </a:xfrm>
        </p:grpSpPr>
        <p:sp>
          <p:nvSpPr>
            <p:cNvPr id="1094" name=""/>
            <p:cNvSpPr/>
            <p:nvPr/>
          </p:nvSpPr>
          <p:spPr>
            <a:xfrm>
              <a:off x="934560" y="4130640"/>
              <a:ext cx="1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38080" y="4051440"/>
              <a:ext cx="3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1163520" y="3935520"/>
            <a:ext cx="945360" cy="9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7604760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760476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671480" y="4041720"/>
            <a:ext cx="3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97160" y="3813120"/>
            <a:ext cx="218880" cy="1034640"/>
            <a:chOff x="2297160" y="3813120"/>
            <a:chExt cx="218880" cy="1034640"/>
          </a:xfrm>
        </p:grpSpPr>
        <p:sp>
          <p:nvSpPr>
            <p:cNvPr id="1099" name=""/>
            <p:cNvSpPr/>
            <p:nvPr/>
          </p:nvSpPr>
          <p:spPr>
            <a:xfrm>
              <a:off x="2400840" y="381312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00840" y="4290120"/>
              <a:ext cx="0" cy="5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2297160" y="4090320"/>
              <a:ext cx="218880" cy="219600"/>
              <a:chOff x="2297160" y="4090320"/>
              <a:chExt cx="218880" cy="219600"/>
            </a:xfrm>
          </p:grpSpPr>
          <p:sp>
            <p:nvSpPr>
              <p:cNvPr id="1102" name=""/>
              <p:cNvSpPr/>
              <p:nvPr/>
            </p:nvSpPr>
            <p:spPr>
              <a:xfrm flipV="1">
                <a:off x="2304000" y="4089960"/>
                <a:ext cx="193320" cy="199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297160" y="430992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4" name=""/>
          <p:cNvGrpSpPr/>
          <p:nvPr/>
        </p:nvGrpSpPr>
        <p:grpSpPr>
          <a:xfrm>
            <a:off x="2862360" y="4051440"/>
            <a:ext cx="338040" cy="79200"/>
            <a:chOff x="2862360" y="4051440"/>
            <a:chExt cx="338040" cy="79200"/>
          </a:xfrm>
        </p:grpSpPr>
        <p:sp>
          <p:nvSpPr>
            <p:cNvPr id="1105" name=""/>
            <p:cNvSpPr/>
            <p:nvPr/>
          </p:nvSpPr>
          <p:spPr>
            <a:xfrm>
              <a:off x="2958840" y="4130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862360" y="4051440"/>
              <a:ext cx="3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3144600" y="3935520"/>
            <a:ext cx="946080" cy="9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7242025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7242025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652920" y="4041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2668680" y="4238640"/>
            <a:ext cx="152280" cy="152280"/>
            <a:chOff x="2668680" y="4238640"/>
            <a:chExt cx="152280" cy="152280"/>
          </a:xfrm>
        </p:grpSpPr>
        <p:sp>
          <p:nvSpPr>
            <p:cNvPr id="1110" name=""/>
            <p:cNvSpPr/>
            <p:nvPr/>
          </p:nvSpPr>
          <p:spPr>
            <a:xfrm>
              <a:off x="2668680" y="4238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668680" y="4314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668680" y="4390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4761000" y="4051440"/>
            <a:ext cx="338040" cy="79200"/>
            <a:chOff x="4761000" y="4051440"/>
            <a:chExt cx="338040" cy="79200"/>
          </a:xfrm>
        </p:grpSpPr>
        <p:sp>
          <p:nvSpPr>
            <p:cNvPr id="1114" name=""/>
            <p:cNvSpPr/>
            <p:nvPr/>
          </p:nvSpPr>
          <p:spPr>
            <a:xfrm>
              <a:off x="4857480" y="40514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761000" y="4130640"/>
              <a:ext cx="3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"/>
          <p:cNvSpPr/>
          <p:nvPr/>
        </p:nvSpPr>
        <p:spPr>
          <a:xfrm flipV="1">
            <a:off x="5087880" y="3804120"/>
            <a:ext cx="945720" cy="96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8461479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8461479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595840" y="4329000"/>
            <a:ext cx="3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221520" y="3813120"/>
            <a:ext cx="218880" cy="1034640"/>
            <a:chOff x="6221520" y="3813120"/>
            <a:chExt cx="218880" cy="1034640"/>
          </a:xfrm>
        </p:grpSpPr>
        <p:sp>
          <p:nvSpPr>
            <p:cNvPr id="1119" name=""/>
            <p:cNvSpPr/>
            <p:nvPr/>
          </p:nvSpPr>
          <p:spPr>
            <a:xfrm>
              <a:off x="6325200" y="381312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325200" y="4290120"/>
              <a:ext cx="0" cy="5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6221520" y="4090320"/>
              <a:ext cx="218880" cy="219600"/>
              <a:chOff x="6221520" y="4090320"/>
              <a:chExt cx="218880" cy="219600"/>
            </a:xfrm>
          </p:grpSpPr>
          <p:sp>
            <p:nvSpPr>
              <p:cNvPr id="1122" name=""/>
              <p:cNvSpPr/>
              <p:nvPr/>
            </p:nvSpPr>
            <p:spPr>
              <a:xfrm flipV="1">
                <a:off x="6228360" y="4089960"/>
                <a:ext cx="193320" cy="199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221520" y="430992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4" name=""/>
          <p:cNvGrpSpPr/>
          <p:nvPr/>
        </p:nvGrpSpPr>
        <p:grpSpPr>
          <a:xfrm>
            <a:off x="6786720" y="4051440"/>
            <a:ext cx="338040" cy="79200"/>
            <a:chOff x="6786720" y="4051440"/>
            <a:chExt cx="338040" cy="79200"/>
          </a:xfrm>
        </p:grpSpPr>
        <p:sp>
          <p:nvSpPr>
            <p:cNvPr id="1125" name=""/>
            <p:cNvSpPr/>
            <p:nvPr/>
          </p:nvSpPr>
          <p:spPr>
            <a:xfrm>
              <a:off x="6883200" y="40514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786720" y="4130640"/>
              <a:ext cx="3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6953400" y="4848120"/>
            <a:ext cx="135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6593040" y="4238640"/>
            <a:ext cx="152280" cy="152280"/>
            <a:chOff x="6593040" y="4238640"/>
            <a:chExt cx="152280" cy="152280"/>
          </a:xfrm>
        </p:grpSpPr>
        <p:sp>
          <p:nvSpPr>
            <p:cNvPr id="1129" name=""/>
            <p:cNvSpPr/>
            <p:nvPr/>
          </p:nvSpPr>
          <p:spPr>
            <a:xfrm>
              <a:off x="6593040" y="4238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593040" y="4314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593040" y="4390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609480" y="1600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ª aproximación: diodo i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025800" y="3809880"/>
            <a:ext cx="1395360" cy="1038240"/>
          </a:xfrm>
          <a:custGeom>
            <a:avLst/>
            <a:gdLst/>
            <a:ahLst/>
            <a:rect l="l" t="t" r="r" b="b"/>
            <a:pathLst>
              <a:path w="879" h="654">
                <a:moveTo>
                  <a:pt x="0" y="150"/>
                </a:moveTo>
                <a:lnTo>
                  <a:pt x="0" y="0"/>
                </a:lnTo>
                <a:lnTo>
                  <a:pt x="879" y="0"/>
                </a:lnTo>
                <a:lnTo>
                  <a:pt x="879" y="654"/>
                </a:lnTo>
                <a:lnTo>
                  <a:pt x="0" y="654"/>
                </a:lnTo>
                <a:lnTo>
                  <a:pt x="0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463920" y="375300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006560" y="3809880"/>
            <a:ext cx="1395360" cy="1038240"/>
          </a:xfrm>
          <a:custGeom>
            <a:avLst/>
            <a:gdLst/>
            <a:ahLst/>
            <a:rect l="l" t="t" r="r" b="b"/>
            <a:pathLst>
              <a:path w="879" h="654">
                <a:moveTo>
                  <a:pt x="0" y="150"/>
                </a:moveTo>
                <a:lnTo>
                  <a:pt x="0" y="0"/>
                </a:lnTo>
                <a:lnTo>
                  <a:pt x="879" y="0"/>
                </a:lnTo>
                <a:lnTo>
                  <a:pt x="879" y="654"/>
                </a:lnTo>
                <a:lnTo>
                  <a:pt x="0" y="654"/>
                </a:lnTo>
                <a:lnTo>
                  <a:pt x="0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482840" y="374328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929120" y="3809880"/>
            <a:ext cx="1395360" cy="1038240"/>
          </a:xfrm>
          <a:custGeom>
            <a:avLst/>
            <a:gdLst/>
            <a:ahLst/>
            <a:rect l="l" t="t" r="r" b="b"/>
            <a:pathLst>
              <a:path w="879" h="654">
                <a:moveTo>
                  <a:pt x="0" y="150"/>
                </a:moveTo>
                <a:lnTo>
                  <a:pt x="0" y="0"/>
                </a:lnTo>
                <a:lnTo>
                  <a:pt x="879" y="0"/>
                </a:lnTo>
                <a:lnTo>
                  <a:pt x="879" y="654"/>
                </a:lnTo>
                <a:lnTo>
                  <a:pt x="0" y="654"/>
                </a:lnTo>
                <a:lnTo>
                  <a:pt x="0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411880" y="375300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954840" y="4130640"/>
            <a:ext cx="1352520" cy="717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0"/>
                </a:moveTo>
                <a:lnTo>
                  <a:pt x="0" y="432"/>
                </a:lnTo>
                <a:lnTo>
                  <a:pt x="864" y="432"/>
                </a:lnTo>
                <a:lnTo>
                  <a:pt x="864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954840" y="3813120"/>
            <a:ext cx="1352520" cy="45720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144"/>
                </a:moveTo>
                <a:lnTo>
                  <a:pt x="0" y="0"/>
                </a:lnTo>
                <a:lnTo>
                  <a:pt x="864" y="0"/>
                </a:lnTo>
                <a:lnTo>
                  <a:pt x="864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392960" y="375300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487840" y="34290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4.El diodo como rectificador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oximaciones o modelos del diodo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39640" y="1557360"/>
            <a:ext cx="5486400" cy="31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polarización directa, se observa que el diodo necesita una tensión umbral, o tensión de codo para que pase la corriente I. Después ésta aumenta exponenci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la 2ª aproximación del diodo se puede suponer que V es constante para una amplio margen de intens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0.3 V para el diodo de 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0.7 V para el de 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5262480" y="5845320"/>
                <a:ext cx="32767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6" name=""/>
          <p:cNvGrpSpPr/>
          <p:nvPr/>
        </p:nvGrpSpPr>
        <p:grpSpPr>
          <a:xfrm>
            <a:off x="7700760" y="4365720"/>
            <a:ext cx="535320" cy="347040"/>
            <a:chOff x="7700760" y="4365720"/>
            <a:chExt cx="535320" cy="347040"/>
          </a:xfrm>
        </p:grpSpPr>
        <p:sp>
          <p:nvSpPr>
            <p:cNvPr id="1147" name=""/>
            <p:cNvSpPr/>
            <p:nvPr/>
          </p:nvSpPr>
          <p:spPr>
            <a:xfrm>
              <a:off x="7700760" y="436572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848360" y="4499280"/>
              <a:ext cx="38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 flipV="1">
            <a:off x="6329520" y="189216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262480" y="43308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386920" y="4330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100920" y="204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567400" y="1892160"/>
            <a:ext cx="2438280" cy="2438640"/>
          </a:xfrm>
          <a:custGeom>
            <a:avLst/>
            <a:gdLst/>
            <a:ahLst/>
            <a:rect l="l" t="t" r="r" b="b"/>
            <a:pathLst>
              <a:path w="1536" h="1536">
                <a:moveTo>
                  <a:pt x="0" y="1536"/>
                </a:moveTo>
                <a:lnTo>
                  <a:pt x="1536" y="1536"/>
                </a:lnTo>
                <a:lnTo>
                  <a:pt x="153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2540160" y="4788000"/>
            <a:ext cx="3332160" cy="1411200"/>
            <a:chOff x="2540160" y="4788000"/>
            <a:chExt cx="3332160" cy="1411200"/>
          </a:xfrm>
        </p:grpSpPr>
        <p:grpSp>
          <p:nvGrpSpPr>
            <p:cNvPr id="1155" name=""/>
            <p:cNvGrpSpPr/>
            <p:nvPr/>
          </p:nvGrpSpPr>
          <p:grpSpPr>
            <a:xfrm>
              <a:off x="3183120" y="5410440"/>
              <a:ext cx="320760" cy="74520"/>
              <a:chOff x="3183120" y="5410440"/>
              <a:chExt cx="320760" cy="74520"/>
            </a:xfrm>
          </p:grpSpPr>
          <p:sp>
            <p:nvSpPr>
              <p:cNvPr id="1156" name=""/>
              <p:cNvSpPr/>
              <p:nvPr/>
            </p:nvSpPr>
            <p:spPr>
              <a:xfrm>
                <a:off x="3274560" y="548496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183120" y="541044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8" name=""/>
            <p:cNvSpPr/>
            <p:nvPr/>
          </p:nvSpPr>
          <p:spPr>
            <a:xfrm>
              <a:off x="3635640" y="4788000"/>
              <a:ext cx="10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540160" y="5050080"/>
              <a:ext cx="9637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462840" y="5303880"/>
              <a:ext cx="89460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945240" y="5400720"/>
              <a:ext cx="3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637160" y="5550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4540320" y="5804280"/>
              <a:ext cx="206640" cy="203040"/>
              <a:chOff x="4540320" y="5804280"/>
              <a:chExt cx="206640" cy="203040"/>
            </a:xfrm>
          </p:grpSpPr>
          <p:sp>
            <p:nvSpPr>
              <p:cNvPr id="1164" name=""/>
              <p:cNvSpPr/>
              <p:nvPr/>
            </p:nvSpPr>
            <p:spPr>
              <a:xfrm flipV="1">
                <a:off x="4546800" y="5804280"/>
                <a:ext cx="182520" cy="184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540320" y="6007320"/>
                <a:ext cx="20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"/>
            <p:cNvSpPr/>
            <p:nvPr/>
          </p:nvSpPr>
          <p:spPr>
            <a:xfrm>
              <a:off x="4740480" y="5397840"/>
              <a:ext cx="113184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0.7 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41880" y="5183280"/>
              <a:ext cx="1295280" cy="97632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767400" y="5134320"/>
              <a:ext cx="457200" cy="11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4484880" y="5450040"/>
              <a:ext cx="320760" cy="82440"/>
              <a:chOff x="4484880" y="5450040"/>
              <a:chExt cx="320760" cy="82440"/>
            </a:xfrm>
          </p:grpSpPr>
          <p:sp>
            <p:nvSpPr>
              <p:cNvPr id="1170" name=""/>
              <p:cNvSpPr/>
              <p:nvPr/>
            </p:nvSpPr>
            <p:spPr>
              <a:xfrm>
                <a:off x="4561200" y="5450040"/>
                <a:ext cx="15228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"/>
              <p:cNvGrpSpPr/>
              <p:nvPr/>
            </p:nvGrpSpPr>
            <p:grpSpPr>
              <a:xfrm>
                <a:off x="4484880" y="5457960"/>
                <a:ext cx="320760" cy="74520"/>
                <a:chOff x="4484880" y="5457960"/>
                <a:chExt cx="320760" cy="7452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4576320" y="5532480"/>
                  <a:ext cx="13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4484880" y="5457960"/>
                  <a:ext cx="320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4" name=""/>
            <p:cNvGrpSpPr/>
            <p:nvPr/>
          </p:nvGrpSpPr>
          <p:grpSpPr>
            <a:xfrm>
              <a:off x="2695680" y="5599440"/>
              <a:ext cx="152280" cy="152280"/>
              <a:chOff x="2695680" y="5599440"/>
              <a:chExt cx="152280" cy="152280"/>
            </a:xfrm>
          </p:grpSpPr>
          <p:sp>
            <p:nvSpPr>
              <p:cNvPr id="1175" name=""/>
              <p:cNvSpPr/>
              <p:nvPr/>
            </p:nvSpPr>
            <p:spPr>
              <a:xfrm>
                <a:off x="2695680" y="55994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695680" y="56757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695680" y="5751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8" name=""/>
          <p:cNvGrpSpPr/>
          <p:nvPr/>
        </p:nvGrpSpPr>
        <p:grpSpPr>
          <a:xfrm>
            <a:off x="324000" y="4724280"/>
            <a:ext cx="2209680" cy="1411200"/>
            <a:chOff x="324000" y="4724280"/>
            <a:chExt cx="2209680" cy="1411200"/>
          </a:xfrm>
        </p:grpSpPr>
        <p:grpSp>
          <p:nvGrpSpPr>
            <p:cNvPr id="1179" name=""/>
            <p:cNvGrpSpPr/>
            <p:nvPr/>
          </p:nvGrpSpPr>
          <p:grpSpPr>
            <a:xfrm>
              <a:off x="977760" y="5346720"/>
              <a:ext cx="320760" cy="74520"/>
              <a:chOff x="977760" y="5346720"/>
              <a:chExt cx="320760" cy="74520"/>
            </a:xfrm>
          </p:grpSpPr>
          <p:sp>
            <p:nvSpPr>
              <p:cNvPr id="1180" name=""/>
              <p:cNvSpPr/>
              <p:nvPr/>
            </p:nvSpPr>
            <p:spPr>
              <a:xfrm>
                <a:off x="1069200" y="542124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977760" y="534672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2" name=""/>
            <p:cNvSpPr/>
            <p:nvPr/>
          </p:nvSpPr>
          <p:spPr>
            <a:xfrm>
              <a:off x="1430280" y="4724280"/>
              <a:ext cx="10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257840" y="5240160"/>
              <a:ext cx="89460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739880" y="533700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327400" y="558180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136520" y="5119560"/>
              <a:ext cx="1295640" cy="97632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562040" y="5070600"/>
              <a:ext cx="457200" cy="11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24000" y="4986360"/>
              <a:ext cx="96336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2338560" y="5395320"/>
              <a:ext cx="182520" cy="183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612720" y="1197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cc"/>
                </a:solidFill>
                <a:latin typeface="Arial"/>
              </a:rPr>
              <a:t>2ª Aproximación lin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4.El diodo como rectificador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oximaciones o modelos del diodo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24000" y="1557360"/>
            <a:ext cx="272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3ª aproximación es un diodo ideal con una resistencia en serie y una fuente de ten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250920" y="5013360"/>
            <a:ext cx="4723920" cy="1450440"/>
            <a:chOff x="250920" y="5013360"/>
            <a:chExt cx="4723920" cy="1450440"/>
          </a:xfrm>
        </p:grpSpPr>
        <p:grpSp>
          <p:nvGrpSpPr>
            <p:cNvPr id="1194" name=""/>
            <p:cNvGrpSpPr/>
            <p:nvPr/>
          </p:nvGrpSpPr>
          <p:grpSpPr>
            <a:xfrm>
              <a:off x="904680" y="5621400"/>
              <a:ext cx="320400" cy="74520"/>
              <a:chOff x="904680" y="5621400"/>
              <a:chExt cx="320400" cy="74520"/>
            </a:xfrm>
          </p:grpSpPr>
          <p:sp>
            <p:nvSpPr>
              <p:cNvPr id="1195" name=""/>
              <p:cNvSpPr/>
              <p:nvPr/>
            </p:nvSpPr>
            <p:spPr>
              <a:xfrm>
                <a:off x="996120" y="5695920"/>
                <a:ext cx="13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904680" y="562140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1241280" y="5013360"/>
              <a:ext cx="107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50920" y="5667120"/>
              <a:ext cx="83808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184400" y="5514840"/>
              <a:ext cx="89460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66800" y="5611680"/>
              <a:ext cx="3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2265120" y="5531760"/>
              <a:ext cx="182160" cy="183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53960" y="571824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63440" y="5394240"/>
              <a:ext cx="1294920" cy="97632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469880" y="5335560"/>
              <a:ext cx="456840" cy="11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16200000">
              <a:off x="2244240" y="5913000"/>
              <a:ext cx="228600" cy="7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276280" y="6126120"/>
              <a:ext cx="15192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7" name=""/>
            <p:cNvGrpSpPr/>
            <p:nvPr/>
          </p:nvGrpSpPr>
          <p:grpSpPr>
            <a:xfrm>
              <a:off x="2199960" y="6127560"/>
              <a:ext cx="320400" cy="74880"/>
              <a:chOff x="2199960" y="6127560"/>
              <a:chExt cx="320400" cy="74880"/>
            </a:xfrm>
          </p:grpSpPr>
          <p:sp>
            <p:nvSpPr>
              <p:cNvPr id="1208" name=""/>
              <p:cNvSpPr/>
              <p:nvPr/>
            </p:nvSpPr>
            <p:spPr>
              <a:xfrm>
                <a:off x="2291400" y="6202440"/>
                <a:ext cx="13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199960" y="612756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0" name=""/>
            <p:cNvSpPr/>
            <p:nvPr/>
          </p:nvSpPr>
          <p:spPr>
            <a:xfrm>
              <a:off x="2460600" y="5761080"/>
              <a:ext cx="2514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/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I=(ejemplo 25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384280" y="6065640"/>
              <a:ext cx="113148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0.7 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5035680" y="5857920"/>
                <a:ext cx="3682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3" name=""/>
          <p:cNvGrpSpPr/>
          <p:nvPr/>
        </p:nvGrpSpPr>
        <p:grpSpPr>
          <a:xfrm>
            <a:off x="457200" y="2954160"/>
            <a:ext cx="2209680" cy="1410840"/>
            <a:chOff x="457200" y="2954160"/>
            <a:chExt cx="2209680" cy="1410840"/>
          </a:xfrm>
        </p:grpSpPr>
        <p:grpSp>
          <p:nvGrpSpPr>
            <p:cNvPr id="1214" name=""/>
            <p:cNvGrpSpPr/>
            <p:nvPr/>
          </p:nvGrpSpPr>
          <p:grpSpPr>
            <a:xfrm>
              <a:off x="1111320" y="3576600"/>
              <a:ext cx="320760" cy="74520"/>
              <a:chOff x="1111320" y="3576600"/>
              <a:chExt cx="320760" cy="74520"/>
            </a:xfrm>
          </p:grpSpPr>
          <p:sp>
            <p:nvSpPr>
              <p:cNvPr id="1215" name=""/>
              <p:cNvSpPr/>
              <p:nvPr/>
            </p:nvSpPr>
            <p:spPr>
              <a:xfrm>
                <a:off x="1202760" y="365112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11320" y="357660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7" name=""/>
            <p:cNvSpPr/>
            <p:nvPr/>
          </p:nvSpPr>
          <p:spPr>
            <a:xfrm>
              <a:off x="1563840" y="2954160"/>
              <a:ext cx="10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7200" y="3622320"/>
              <a:ext cx="83808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391040" y="3470400"/>
              <a:ext cx="894600" cy="8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873080" y="356724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460600" y="381168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270080" y="3349800"/>
              <a:ext cx="1295280" cy="97596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695600" y="3300480"/>
              <a:ext cx="457200" cy="11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2471760" y="3625200"/>
              <a:ext cx="182520" cy="183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24000" y="1197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cc"/>
                </a:solidFill>
                <a:latin typeface="Arial"/>
              </a:rPr>
              <a:t>3ª Aproximación lin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6" name=""/>
          <p:cNvGraphicFramePr/>
          <p:nvPr/>
        </p:nvGraphicFramePr>
        <p:xfrm>
          <a:off x="3203640" y="1136520"/>
          <a:ext cx="59403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36520"/>
                    <a:ext cx="59403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5.Diodo Z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1"/>
          <a:stretch/>
        </p:blipFill>
        <p:spPr>
          <a:xfrm>
            <a:off x="3659040" y="1187280"/>
            <a:ext cx="5484960" cy="483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1230" name=""/>
          <p:cNvGrpSpPr/>
          <p:nvPr/>
        </p:nvGrpSpPr>
        <p:grpSpPr>
          <a:xfrm>
            <a:off x="7105680" y="4230720"/>
            <a:ext cx="819000" cy="441360"/>
            <a:chOff x="7105680" y="4230720"/>
            <a:chExt cx="819000" cy="441360"/>
          </a:xfrm>
        </p:grpSpPr>
        <p:sp>
          <p:nvSpPr>
            <p:cNvPr id="1231" name=""/>
            <p:cNvSpPr/>
            <p:nvPr/>
          </p:nvSpPr>
          <p:spPr>
            <a:xfrm>
              <a:off x="7105680" y="4451400"/>
              <a:ext cx="34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7575480" y="4451400"/>
              <a:ext cx="3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31120" y="4270320"/>
              <a:ext cx="18072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30" y="9982"/>
                  </a:lnTo>
                  <a:lnTo>
                    <a:pt x="0" y="199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538760" y="4230720"/>
              <a:ext cx="146160" cy="441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1"/>
                  </a:moveTo>
                  <a:lnTo>
                    <a:pt x="9956" y="18329"/>
                  </a:lnTo>
                  <a:lnTo>
                    <a:pt x="9956" y="1902"/>
                  </a:lnTo>
                  <a:lnTo>
                    <a:pt x="1991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5" name=""/>
          <p:cNvSpPr/>
          <p:nvPr/>
        </p:nvSpPr>
        <p:spPr>
          <a:xfrm>
            <a:off x="150840" y="1295280"/>
            <a:ext cx="3430440" cy="52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l diodo Zener trabaja con polarización inversa utilizando el fenómeno de conducción por ruptura o avalanch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Para una tensión inversa dada, llamada tensión Zener, ésta se mantiene constante aunque la corriente varí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n polarización directa trabaja como un diodo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a potencia en el diodo P = 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I no debe sobrepasar el valor indicado por el fabricante para que regule correctamente la ten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4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300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1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300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38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300"/>
                                        <p:tgtEl>
                                          <p:spTgt spid="1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odo Zener: a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1758960" y="2496960"/>
            <a:ext cx="385560" cy="96840"/>
            <a:chOff x="1758960" y="2496960"/>
            <a:chExt cx="385560" cy="96840"/>
          </a:xfrm>
        </p:grpSpPr>
        <p:sp>
          <p:nvSpPr>
            <p:cNvPr id="1238" name=""/>
            <p:cNvSpPr/>
            <p:nvPr/>
          </p:nvSpPr>
          <p:spPr>
            <a:xfrm>
              <a:off x="1868400" y="259380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58960" y="2496960"/>
              <a:ext cx="38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3575160" y="256068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2286000" y="1811160"/>
            <a:ext cx="9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=1k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82720" y="253836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2079000" y="2347920"/>
            <a:ext cx="1079640" cy="120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8218078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821807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660760" y="248112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5651640" y="3124080"/>
                <a:ext cx="27367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6" name=""/>
          <p:cNvSpPr/>
          <p:nvPr/>
        </p:nvSpPr>
        <p:spPr>
          <a:xfrm>
            <a:off x="5181480" y="3946680"/>
            <a:ext cx="365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 =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 = 5V·1mA = 5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3270240" y="3411360"/>
            <a:ext cx="457200" cy="304920"/>
            <a:chOff x="3270240" y="3411360"/>
            <a:chExt cx="457200" cy="304920"/>
          </a:xfrm>
        </p:grpSpPr>
        <p:sp>
          <p:nvSpPr>
            <p:cNvPr id="1248" name=""/>
            <p:cNvSpPr/>
            <p:nvPr/>
          </p:nvSpPr>
          <p:spPr>
            <a:xfrm>
              <a:off x="3498840" y="34113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270240" y="3564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422520" y="3716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346200" y="36399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4032360" y="203976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867280" y="213372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949400" y="2192400"/>
            <a:ext cx="2133720" cy="30456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444760" y="2120760"/>
            <a:ext cx="550800" cy="1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949400" y="2592360"/>
            <a:ext cx="2057400" cy="895320"/>
          </a:xfrm>
          <a:custGeom>
            <a:avLst/>
            <a:gdLst/>
            <a:ahLst/>
            <a:rect l="l" t="t" r="r" b="b"/>
            <a:pathLst>
              <a:path w="1296" h="576">
                <a:moveTo>
                  <a:pt x="0" y="0"/>
                </a:moveTo>
                <a:lnTo>
                  <a:pt x="0" y="576"/>
                </a:lnTo>
                <a:lnTo>
                  <a:pt x="1296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3498840" y="2192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3327480" y="2444760"/>
            <a:ext cx="330120" cy="347760"/>
            <a:chOff x="3327480" y="2444760"/>
            <a:chExt cx="330120" cy="347760"/>
          </a:xfrm>
        </p:grpSpPr>
        <p:sp>
          <p:nvSpPr>
            <p:cNvPr id="1259" name=""/>
            <p:cNvSpPr/>
            <p:nvPr/>
          </p:nvSpPr>
          <p:spPr>
            <a:xfrm>
              <a:off x="3382560" y="2544120"/>
              <a:ext cx="219960" cy="248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3327480" y="2444760"/>
              <a:ext cx="330120" cy="205920"/>
              <a:chOff x="3327480" y="2444760"/>
              <a:chExt cx="330120" cy="205920"/>
            </a:xfrm>
          </p:grpSpPr>
          <p:sp>
            <p:nvSpPr>
              <p:cNvPr id="1261" name=""/>
              <p:cNvSpPr/>
              <p:nvPr/>
            </p:nvSpPr>
            <p:spPr>
              <a:xfrm flipV="1">
                <a:off x="3327480" y="255132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327480" y="2551320"/>
                <a:ext cx="3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3657600" y="244476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4" name=""/>
          <p:cNvSpPr/>
          <p:nvPr/>
        </p:nvSpPr>
        <p:spPr>
          <a:xfrm>
            <a:off x="3835440" y="501660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546280" y="4267080"/>
            <a:ext cx="9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=1k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1219320" y="549288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339280" y="4803840"/>
            <a:ext cx="1080000" cy="120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8218078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821807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921040" y="493704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3530520" y="5867280"/>
            <a:ext cx="457200" cy="304920"/>
            <a:chOff x="3530520" y="5867280"/>
            <a:chExt cx="457200" cy="304920"/>
          </a:xfrm>
        </p:grpSpPr>
        <p:sp>
          <p:nvSpPr>
            <p:cNvPr id="1270" name=""/>
            <p:cNvSpPr/>
            <p:nvPr/>
          </p:nvSpPr>
          <p:spPr>
            <a:xfrm>
              <a:off x="3759120" y="5867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530520" y="6019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682800" y="6172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606480" y="6095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4292640" y="44956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209680" y="4648320"/>
            <a:ext cx="2133720" cy="85716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705040" y="4576680"/>
            <a:ext cx="550800" cy="1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209680" y="5607000"/>
            <a:ext cx="2057400" cy="336600"/>
          </a:xfrm>
          <a:custGeom>
            <a:avLst/>
            <a:gdLst/>
            <a:ahLst/>
            <a:rect l="l" t="t" r="r" b="b"/>
            <a:pathLst>
              <a:path w="1296" h="576">
                <a:moveTo>
                  <a:pt x="0" y="0"/>
                </a:moveTo>
                <a:lnTo>
                  <a:pt x="0" y="576"/>
                </a:lnTo>
                <a:lnTo>
                  <a:pt x="1296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375912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3587760" y="4900680"/>
            <a:ext cx="330120" cy="347760"/>
            <a:chOff x="3587760" y="4900680"/>
            <a:chExt cx="330120" cy="347760"/>
          </a:xfrm>
        </p:grpSpPr>
        <p:sp>
          <p:nvSpPr>
            <p:cNvPr id="1280" name=""/>
            <p:cNvSpPr/>
            <p:nvPr/>
          </p:nvSpPr>
          <p:spPr>
            <a:xfrm>
              <a:off x="3642840" y="5000040"/>
              <a:ext cx="219960" cy="248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587760" y="4900680"/>
              <a:ext cx="330120" cy="205920"/>
              <a:chOff x="3587760" y="4900680"/>
              <a:chExt cx="330120" cy="205920"/>
            </a:xfrm>
          </p:grpSpPr>
          <p:sp>
            <p:nvSpPr>
              <p:cNvPr id="1282" name=""/>
              <p:cNvSpPr/>
              <p:nvPr/>
            </p:nvSpPr>
            <p:spPr>
              <a:xfrm flipV="1">
                <a:off x="3587760" y="500724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587760" y="5007240"/>
                <a:ext cx="3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V="1">
                <a:off x="3917880" y="490068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019240" y="481968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019240" y="5505480"/>
            <a:ext cx="385560" cy="96840"/>
            <a:chOff x="2019240" y="5505480"/>
            <a:chExt cx="385560" cy="96840"/>
          </a:xfrm>
        </p:grpSpPr>
        <p:sp>
          <p:nvSpPr>
            <p:cNvPr id="1287" name=""/>
            <p:cNvSpPr/>
            <p:nvPr/>
          </p:nvSpPr>
          <p:spPr>
            <a:xfrm>
              <a:off x="2128680" y="560232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019240" y="5505480"/>
              <a:ext cx="38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466740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iz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50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03320" y="1263600"/>
            <a:ext cx="873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utiliza como limitador o regulador de tensión,  para atenuar el rizado de algunas señ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 flipV="1">
            <a:off x="2438280" y="2374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673320" y="3303000"/>
            <a:ext cx="304920" cy="291240"/>
            <a:chOff x="6673320" y="3303000"/>
            <a:chExt cx="304920" cy="291240"/>
          </a:xfrm>
        </p:grpSpPr>
        <p:sp>
          <p:nvSpPr>
            <p:cNvPr id="1293" name=""/>
            <p:cNvSpPr/>
            <p:nvPr/>
          </p:nvSpPr>
          <p:spPr>
            <a:xfrm rot="10800000">
              <a:off x="6689520" y="330300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6673320" y="35942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"/>
          <p:cNvSpPr/>
          <p:nvPr/>
        </p:nvSpPr>
        <p:spPr>
          <a:xfrm rot="16200000">
            <a:off x="1954080" y="3836520"/>
            <a:ext cx="95868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2438280" y="3060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667960" y="38228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5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728800" y="26798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059200" y="17654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2209680" y="4584600"/>
            <a:ext cx="457200" cy="304920"/>
            <a:chOff x="2209680" y="4584600"/>
            <a:chExt cx="457200" cy="304920"/>
          </a:xfrm>
        </p:grpSpPr>
        <p:sp>
          <p:nvSpPr>
            <p:cNvPr id="1301" name=""/>
            <p:cNvSpPr/>
            <p:nvPr/>
          </p:nvSpPr>
          <p:spPr>
            <a:xfrm>
              <a:off x="2438280" y="45846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209680" y="4737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361960" y="4889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285640" y="4813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"/>
          <p:cNvSpPr/>
          <p:nvPr/>
        </p:nvSpPr>
        <p:spPr>
          <a:xfrm flipV="1">
            <a:off x="2438280" y="443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74920" y="2311560"/>
            <a:ext cx="125280" cy="12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1981080" y="3137040"/>
            <a:ext cx="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526040" y="328824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4797360" y="3443400"/>
            <a:ext cx="762120" cy="164880"/>
            <a:chOff x="4797360" y="3443400"/>
            <a:chExt cx="762120" cy="164880"/>
          </a:xfrm>
        </p:grpSpPr>
        <p:sp>
          <p:nvSpPr>
            <p:cNvPr id="1310" name=""/>
            <p:cNvSpPr/>
            <p:nvPr/>
          </p:nvSpPr>
          <p:spPr>
            <a:xfrm>
              <a:off x="4797360" y="34434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987800" y="36082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"/>
          <p:cNvSpPr/>
          <p:nvPr/>
        </p:nvSpPr>
        <p:spPr>
          <a:xfrm>
            <a:off x="5524560" y="2222640"/>
            <a:ext cx="95868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181480" y="2374920"/>
            <a:ext cx="362160" cy="106668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0" y="1056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591880" y="17366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183280" y="29084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5181480" y="3593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2285640" y="2832480"/>
            <a:ext cx="304920" cy="291240"/>
            <a:chOff x="2285640" y="2832480"/>
            <a:chExt cx="304920" cy="291240"/>
          </a:xfrm>
        </p:grpSpPr>
        <p:sp>
          <p:nvSpPr>
            <p:cNvPr id="1318" name=""/>
            <p:cNvSpPr/>
            <p:nvPr/>
          </p:nvSpPr>
          <p:spPr>
            <a:xfrm rot="10800000">
              <a:off x="2301840" y="283248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285640" y="3123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"/>
          <p:cNvSpPr/>
          <p:nvPr/>
        </p:nvSpPr>
        <p:spPr>
          <a:xfrm flipH="1">
            <a:off x="6476400" y="2374920"/>
            <a:ext cx="361800" cy="190512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0" y="1056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4952880" y="4280040"/>
            <a:ext cx="457200" cy="304560"/>
            <a:chOff x="4952880" y="4280040"/>
            <a:chExt cx="457200" cy="304560"/>
          </a:xfrm>
        </p:grpSpPr>
        <p:sp>
          <p:nvSpPr>
            <p:cNvPr id="1322" name=""/>
            <p:cNvSpPr/>
            <p:nvPr/>
          </p:nvSpPr>
          <p:spPr>
            <a:xfrm>
              <a:off x="5181480" y="4280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952880" y="443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105160" y="4584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28840" y="4508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600960" y="4280040"/>
            <a:ext cx="457200" cy="304560"/>
            <a:chOff x="6600960" y="4280040"/>
            <a:chExt cx="457200" cy="304560"/>
          </a:xfrm>
        </p:grpSpPr>
        <p:sp>
          <p:nvSpPr>
            <p:cNvPr id="1327" name=""/>
            <p:cNvSpPr/>
            <p:nvPr/>
          </p:nvSpPr>
          <p:spPr>
            <a:xfrm>
              <a:off x="6829560" y="4280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00960" y="443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753240" y="4584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676920" y="4508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7543800" y="3137040"/>
            <a:ext cx="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7088760" y="328824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Intensidad a travé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 rot="16200000">
            <a:off x="4129200" y="2557080"/>
            <a:ext cx="95868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181320" y="1476360"/>
            <a:ext cx="95904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5667480" y="2086920"/>
            <a:ext cx="304560" cy="291240"/>
            <a:chOff x="5667480" y="2086920"/>
            <a:chExt cx="304560" cy="291240"/>
          </a:xfrm>
        </p:grpSpPr>
        <p:sp>
          <p:nvSpPr>
            <p:cNvPr id="1337" name=""/>
            <p:cNvSpPr/>
            <p:nvPr/>
          </p:nvSpPr>
          <p:spPr>
            <a:xfrm rot="10800000">
              <a:off x="5682600" y="2086920"/>
              <a:ext cx="26964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5667480" y="2378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"/>
          <p:cNvSpPr/>
          <p:nvPr/>
        </p:nvSpPr>
        <p:spPr>
          <a:xfrm rot="16200000">
            <a:off x="5348160" y="3090960"/>
            <a:ext cx="95904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371840" y="3838680"/>
            <a:ext cx="457200" cy="304560"/>
            <a:chOff x="4371840" y="3838680"/>
            <a:chExt cx="457200" cy="304560"/>
          </a:xfrm>
        </p:grpSpPr>
        <p:sp>
          <p:nvSpPr>
            <p:cNvPr id="1341" name=""/>
            <p:cNvSpPr/>
            <p:nvPr/>
          </p:nvSpPr>
          <p:spPr>
            <a:xfrm>
              <a:off x="4600440" y="3838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371840" y="3990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524120" y="41432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447800" y="406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"/>
          <p:cNvSpPr/>
          <p:nvPr/>
        </p:nvSpPr>
        <p:spPr>
          <a:xfrm>
            <a:off x="4067280" y="1628640"/>
            <a:ext cx="1752480" cy="457200"/>
          </a:xfrm>
          <a:custGeom>
            <a:avLst/>
            <a:gdLst/>
            <a:ahLst/>
            <a:rect l="l" t="t" r="r" b="b"/>
            <a:pathLst>
              <a:path w="1200" h="288">
                <a:moveTo>
                  <a:pt x="0" y="0"/>
                </a:moveTo>
                <a:lnTo>
                  <a:pt x="1200" y="0"/>
                </a:lnTo>
                <a:lnTo>
                  <a:pt x="120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819760" y="2314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4600440" y="162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4600440" y="315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249000" y="9907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382560" y="25430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049080" y="30765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110280" y="1933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3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163960" y="10191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5591160" y="3838680"/>
            <a:ext cx="457200" cy="304560"/>
            <a:chOff x="5591160" y="3838680"/>
            <a:chExt cx="457200" cy="304560"/>
          </a:xfrm>
        </p:grpSpPr>
        <p:sp>
          <p:nvSpPr>
            <p:cNvPr id="1355" name=""/>
            <p:cNvSpPr/>
            <p:nvPr/>
          </p:nvSpPr>
          <p:spPr>
            <a:xfrm>
              <a:off x="5819760" y="3838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591160" y="3990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743440" y="41432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667120" y="406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"/>
          <p:cNvSpPr/>
          <p:nvPr/>
        </p:nvSpPr>
        <p:spPr>
          <a:xfrm flipV="1">
            <a:off x="5819760" y="3686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2771280" y="1628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644920" y="1565280"/>
            <a:ext cx="125280" cy="12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4448160" y="338148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944520" y="3278880"/>
            <a:ext cx="34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562720" y="338148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5122440" y="3278880"/>
            <a:ext cx="34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847960" y="2009880"/>
            <a:ext cx="4572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905920" y="208476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150200" y="5002920"/>
            <a:ext cx="27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 = 30i + 5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+ 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1179000" y="5688720"/>
            <a:ext cx="267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 = 30i + 10(i - 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132080" y="540900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037840" y="5383800"/>
            <a:ext cx="191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 0.216 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Intensidad a travé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"/>
          <p:cNvSpPr/>
          <p:nvPr/>
        </p:nvSpPr>
        <p:spPr>
          <a:xfrm rot="16200000">
            <a:off x="1890720" y="3595320"/>
            <a:ext cx="95868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301680" y="3733920"/>
            <a:ext cx="762120" cy="164880"/>
            <a:chOff x="301680" y="3733920"/>
            <a:chExt cx="762120" cy="164880"/>
          </a:xfrm>
        </p:grpSpPr>
        <p:sp>
          <p:nvSpPr>
            <p:cNvPr id="1375" name=""/>
            <p:cNvSpPr/>
            <p:nvPr/>
          </p:nvSpPr>
          <p:spPr>
            <a:xfrm>
              <a:off x="301680" y="37339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92120" y="38988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1028880" y="1905120"/>
            <a:ext cx="95868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3657240" y="2514960"/>
            <a:ext cx="304920" cy="291240"/>
            <a:chOff x="3657240" y="2514960"/>
            <a:chExt cx="304920" cy="291240"/>
          </a:xfrm>
        </p:grpSpPr>
        <p:sp>
          <p:nvSpPr>
            <p:cNvPr id="1379" name=""/>
            <p:cNvSpPr/>
            <p:nvPr/>
          </p:nvSpPr>
          <p:spPr>
            <a:xfrm rot="10800000">
              <a:off x="3673440" y="251496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3657240" y="2806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1" name=""/>
          <p:cNvSpPr/>
          <p:nvPr/>
        </p:nvSpPr>
        <p:spPr>
          <a:xfrm rot="16200000">
            <a:off x="3338640" y="4052520"/>
            <a:ext cx="95868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2133720" y="5334120"/>
            <a:ext cx="457200" cy="304560"/>
            <a:chOff x="2133720" y="5334120"/>
            <a:chExt cx="457200" cy="304560"/>
          </a:xfrm>
        </p:grpSpPr>
        <p:sp>
          <p:nvSpPr>
            <p:cNvPr id="1383" name=""/>
            <p:cNvSpPr/>
            <p:nvPr/>
          </p:nvSpPr>
          <p:spPr>
            <a:xfrm>
              <a:off x="2362320" y="5334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33720" y="5486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286000" y="5638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209680" y="5562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685800" y="2057400"/>
            <a:ext cx="361800" cy="167652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0" y="1056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952640" y="2057400"/>
            <a:ext cx="1857240" cy="457200"/>
          </a:xfrm>
          <a:custGeom>
            <a:avLst/>
            <a:gdLst/>
            <a:ahLst/>
            <a:rect l="l" t="t" r="r" b="b"/>
            <a:pathLst>
              <a:path w="1200" h="288">
                <a:moveTo>
                  <a:pt x="0" y="0"/>
                </a:moveTo>
                <a:lnTo>
                  <a:pt x="1200" y="0"/>
                </a:lnTo>
                <a:lnTo>
                  <a:pt x="120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685800" y="3886200"/>
            <a:ext cx="3124080" cy="144792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0"/>
                </a:moveTo>
                <a:lnTo>
                  <a:pt x="0" y="912"/>
                </a:lnTo>
                <a:lnTo>
                  <a:pt x="1968" y="912"/>
                </a:lnTo>
                <a:lnTo>
                  <a:pt x="196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809880" y="2743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2362320" y="20570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2362320" y="4190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096560" y="14191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7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172520" y="38098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039560" y="40384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100400" y="2249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039200" y="266688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25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687600" y="31989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1371960" y="1917000"/>
            <a:ext cx="1980360" cy="3656160"/>
            <a:chOff x="1371960" y="1917000"/>
            <a:chExt cx="1980360" cy="3656160"/>
          </a:xfrm>
        </p:grpSpPr>
        <p:sp>
          <p:nvSpPr>
            <p:cNvPr id="1400" name=""/>
            <p:cNvSpPr/>
            <p:nvPr/>
          </p:nvSpPr>
          <p:spPr>
            <a:xfrm>
              <a:off x="1371960" y="1917000"/>
              <a:ext cx="1980360" cy="365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787" y="3530"/>
                  </a:moveTo>
                  <a:arcTo wR="10800" hR="10800" stAng="-2538668" swAng="47795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787" y="3530"/>
                  </a:moveTo>
                  <a:arcTo wR="10800" hR="10800" stAng="-2538668" swAng="4779512"/>
                </a:path>
              </a:pathLst>
            </a:custGeom>
            <a:noFill/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903760" y="3505320"/>
              <a:ext cx="43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J</a:t>
              </a:r>
              <a:r>
                <a:rPr b="0" lang="es-ES_tradnl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5257800" y="2590920"/>
                <a:ext cx="359424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Intensidad a travé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1.La unión PN en equilib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1447920" y="3040200"/>
          <a:ext cx="319536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0200"/>
                    <a:ext cx="319536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609480" y="914400"/>
          <a:ext cx="4610160" cy="159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914400"/>
                    <a:ext cx="461016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990720" y="24462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ribución de las concentraciones de portadores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5921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ribución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600200" y="4046400"/>
            <a:ext cx="3048120" cy="370800"/>
            <a:chOff x="1600200" y="4046400"/>
            <a:chExt cx="3048120" cy="370800"/>
          </a:xfrm>
        </p:grpSpPr>
        <p:sp>
          <p:nvSpPr>
            <p:cNvPr id="524" name=""/>
            <p:cNvSpPr/>
            <p:nvPr/>
          </p:nvSpPr>
          <p:spPr>
            <a:xfrm>
              <a:off x="1600200" y="40464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14800" y="40464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334120" y="1030320"/>
            <a:ext cx="3657600" cy="2643120"/>
            <a:chOff x="5334120" y="1030320"/>
            <a:chExt cx="3657600" cy="2643120"/>
          </a:xfrm>
        </p:grpSpPr>
        <p:sp>
          <p:nvSpPr>
            <p:cNvPr id="527" name=""/>
            <p:cNvSpPr/>
            <p:nvPr/>
          </p:nvSpPr>
          <p:spPr>
            <a:xfrm>
              <a:off x="5486400" y="3305160"/>
              <a:ext cx="350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ampo eléctrico en el di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4120" y="1803600"/>
              <a:ext cx="3181320" cy="144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856120" y="1368720"/>
              <a:ext cx="1800" cy="162216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6923160" y="1371240"/>
              <a:ext cx="1440" cy="162252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7989840" y="1371240"/>
              <a:ext cx="1800" cy="162252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34120" y="1803600"/>
              <a:ext cx="3181320" cy="944640"/>
            </a:xfrm>
            <a:custGeom>
              <a:avLst/>
              <a:gdLst/>
              <a:ahLst/>
              <a:rect l="l" t="t" r="r" b="b"/>
              <a:pathLst>
                <a:path w="4010" h="1190">
                  <a:moveTo>
                    <a:pt x="0" y="0"/>
                  </a:moveTo>
                  <a:lnTo>
                    <a:pt x="646" y="3"/>
                  </a:lnTo>
                  <a:lnTo>
                    <a:pt x="2004" y="1190"/>
                  </a:lnTo>
                  <a:lnTo>
                    <a:pt x="3343" y="11"/>
                  </a:lnTo>
                  <a:lnTo>
                    <a:pt x="4010" y="11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99520" y="1030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8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10080" y="144324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001000" y="148752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289480" y="4186080"/>
            <a:ext cx="3283560" cy="1798560"/>
            <a:chOff x="5289480" y="4186080"/>
            <a:chExt cx="3283560" cy="1798560"/>
          </a:xfrm>
        </p:grpSpPr>
        <p:sp>
          <p:nvSpPr>
            <p:cNvPr id="537" name=""/>
            <p:cNvSpPr/>
            <p:nvPr/>
          </p:nvSpPr>
          <p:spPr>
            <a:xfrm>
              <a:off x="5638680" y="561636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iferencia de poten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89480" y="5459040"/>
              <a:ext cx="3181320" cy="180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5811840" y="4302000"/>
              <a:ext cx="1440" cy="126216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6878520" y="4305240"/>
              <a:ext cx="1800" cy="126360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7945560" y="4305240"/>
              <a:ext cx="1440" cy="126360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8080200" y="4361760"/>
              <a:ext cx="1800" cy="1103400"/>
            </a:xfrm>
            <a:prstGeom prst="line">
              <a:avLst/>
            </a:prstGeom>
            <a:ln w="0">
              <a:solidFill>
                <a:srgbClr val="0e0d0c"/>
              </a:solidFill>
              <a:prstDash val="dash"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90640" y="47592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519960" y="4186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38680" y="4267080"/>
              <a:ext cx="2643480" cy="1333440"/>
            </a:xfrm>
            <a:custGeom>
              <a:avLst/>
              <a:gdLst/>
              <a:ahLst/>
              <a:rect l="l" t="t" r="r" b="b"/>
              <a:pathLst>
                <a:path w="1665" h="840">
                  <a:moveTo>
                    <a:pt x="0" y="744"/>
                  </a:moveTo>
                  <a:cubicBezTo>
                    <a:pt x="102" y="720"/>
                    <a:pt x="609" y="840"/>
                    <a:pt x="783" y="420"/>
                  </a:cubicBezTo>
                  <a:cubicBezTo>
                    <a:pt x="957" y="0"/>
                    <a:pt x="1557" y="63"/>
                    <a:pt x="1665" y="57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44968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01000" y="549396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1.La unión PN en equilibrio 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685800" y="914400"/>
                <a:ext cx="4695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2362320" y="2743200"/>
                <a:ext cx="35812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457200" y="214776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stituyendo los valores de las concentraciones de impurez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3809880"/>
            <a:ext cx="82771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e llam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tencial de contact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representa la diferencia de potencial entre los extremos de la zona de transición con la unión en circuito abierto y en equilib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0.7 V para diodos de Si y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.3 V para diodos de Ge, a 20 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77240" y="1143000"/>
            <a:ext cx="255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.026 V a 300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548640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2.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ntonces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0.3 </a:t>
            </a:r>
            <a:r>
              <a:rPr b="0" lang="es-ES" sz="2000" spc="-1" strike="noStrike">
                <a:solidFill>
                  <a:srgbClr val="000000"/>
                </a:solidFill>
                <a:latin typeface="Math A"/>
                <a:ea typeface="Math A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, E=2.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V/m, V=0.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2.Polarización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827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larización dire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12920" y="1744560"/>
            <a:ext cx="2525400" cy="1623960"/>
          </a:xfrm>
          <a:prstGeom prst="rect">
            <a:avLst/>
          </a:prstGeom>
          <a:solidFill>
            <a:srgbClr val="ff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36880" y="1744560"/>
            <a:ext cx="2525760" cy="1623960"/>
          </a:xfrm>
          <a:prstGeom prst="rect">
            <a:avLst/>
          </a:prstGeom>
          <a:solidFill>
            <a:srgbClr val="cce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92200" y="2286000"/>
            <a:ext cx="6012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92200" y="1925640"/>
            <a:ext cx="223920" cy="220680"/>
            <a:chOff x="592200" y="1925640"/>
            <a:chExt cx="223920" cy="220680"/>
          </a:xfrm>
        </p:grpSpPr>
        <p:sp>
          <p:nvSpPr>
            <p:cNvPr id="561" name=""/>
            <p:cNvSpPr/>
            <p:nvPr/>
          </p:nvSpPr>
          <p:spPr>
            <a:xfrm>
              <a:off x="59256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220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952560" y="1925640"/>
            <a:ext cx="222120" cy="220680"/>
            <a:chOff x="952560" y="1925640"/>
            <a:chExt cx="222120" cy="220680"/>
          </a:xfrm>
        </p:grpSpPr>
        <p:sp>
          <p:nvSpPr>
            <p:cNvPr id="564" name=""/>
            <p:cNvSpPr/>
            <p:nvPr/>
          </p:nvSpPr>
          <p:spPr>
            <a:xfrm>
              <a:off x="952920" y="1925640"/>
              <a:ext cx="2210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52560" y="20358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314360" y="1925640"/>
            <a:ext cx="223920" cy="220680"/>
            <a:chOff x="1314360" y="1925640"/>
            <a:chExt cx="223920" cy="220680"/>
          </a:xfrm>
        </p:grpSpPr>
        <p:sp>
          <p:nvSpPr>
            <p:cNvPr id="567" name=""/>
            <p:cNvSpPr/>
            <p:nvPr/>
          </p:nvSpPr>
          <p:spPr>
            <a:xfrm>
              <a:off x="131472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1436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1674720" y="1925640"/>
            <a:ext cx="223920" cy="220680"/>
            <a:chOff x="1674720" y="1925640"/>
            <a:chExt cx="223920" cy="220680"/>
          </a:xfrm>
        </p:grpSpPr>
        <p:sp>
          <p:nvSpPr>
            <p:cNvPr id="570" name=""/>
            <p:cNvSpPr/>
            <p:nvPr/>
          </p:nvSpPr>
          <p:spPr>
            <a:xfrm>
              <a:off x="167508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7472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035080" y="1925640"/>
            <a:ext cx="223920" cy="220680"/>
            <a:chOff x="2035080" y="1925640"/>
            <a:chExt cx="223920" cy="220680"/>
          </a:xfrm>
        </p:grpSpPr>
        <p:sp>
          <p:nvSpPr>
            <p:cNvPr id="573" name=""/>
            <p:cNvSpPr/>
            <p:nvPr/>
          </p:nvSpPr>
          <p:spPr>
            <a:xfrm>
              <a:off x="203544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3508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395440" y="1925640"/>
            <a:ext cx="223920" cy="220680"/>
            <a:chOff x="2395440" y="1925640"/>
            <a:chExt cx="223920" cy="220680"/>
          </a:xfrm>
        </p:grpSpPr>
        <p:sp>
          <p:nvSpPr>
            <p:cNvPr id="576" name=""/>
            <p:cNvSpPr/>
            <p:nvPr/>
          </p:nvSpPr>
          <p:spPr>
            <a:xfrm>
              <a:off x="239580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39544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92200" y="2467080"/>
            <a:ext cx="223920" cy="220680"/>
            <a:chOff x="592200" y="2467080"/>
            <a:chExt cx="223920" cy="220680"/>
          </a:xfrm>
        </p:grpSpPr>
        <p:sp>
          <p:nvSpPr>
            <p:cNvPr id="579" name=""/>
            <p:cNvSpPr/>
            <p:nvPr/>
          </p:nvSpPr>
          <p:spPr>
            <a:xfrm>
              <a:off x="59256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220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954000" y="2467080"/>
            <a:ext cx="223920" cy="220680"/>
            <a:chOff x="954000" y="2467080"/>
            <a:chExt cx="223920" cy="220680"/>
          </a:xfrm>
        </p:grpSpPr>
        <p:sp>
          <p:nvSpPr>
            <p:cNvPr id="582" name=""/>
            <p:cNvSpPr/>
            <p:nvPr/>
          </p:nvSpPr>
          <p:spPr>
            <a:xfrm>
              <a:off x="95436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5400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1314360" y="2467080"/>
            <a:ext cx="223920" cy="220680"/>
            <a:chOff x="1314360" y="2467080"/>
            <a:chExt cx="223920" cy="220680"/>
          </a:xfrm>
        </p:grpSpPr>
        <p:sp>
          <p:nvSpPr>
            <p:cNvPr id="585" name=""/>
            <p:cNvSpPr/>
            <p:nvPr/>
          </p:nvSpPr>
          <p:spPr>
            <a:xfrm>
              <a:off x="131472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1436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674720" y="2467080"/>
            <a:ext cx="223920" cy="220680"/>
            <a:chOff x="1674720" y="2467080"/>
            <a:chExt cx="223920" cy="220680"/>
          </a:xfrm>
        </p:grpSpPr>
        <p:sp>
          <p:nvSpPr>
            <p:cNvPr id="588" name=""/>
            <p:cNvSpPr/>
            <p:nvPr/>
          </p:nvSpPr>
          <p:spPr>
            <a:xfrm>
              <a:off x="167508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7472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035080" y="2467080"/>
            <a:ext cx="222480" cy="220680"/>
            <a:chOff x="2035080" y="2467080"/>
            <a:chExt cx="222480" cy="220680"/>
          </a:xfrm>
        </p:grpSpPr>
        <p:sp>
          <p:nvSpPr>
            <p:cNvPr id="591" name=""/>
            <p:cNvSpPr/>
            <p:nvPr/>
          </p:nvSpPr>
          <p:spPr>
            <a:xfrm>
              <a:off x="2035440" y="2467080"/>
              <a:ext cx="22140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35080" y="257724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397240" y="2467080"/>
            <a:ext cx="223560" cy="220680"/>
            <a:chOff x="2397240" y="2467080"/>
            <a:chExt cx="223560" cy="220680"/>
          </a:xfrm>
        </p:grpSpPr>
        <p:sp>
          <p:nvSpPr>
            <p:cNvPr id="594" name=""/>
            <p:cNvSpPr/>
            <p:nvPr/>
          </p:nvSpPr>
          <p:spPr>
            <a:xfrm>
              <a:off x="2397600" y="246708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97240" y="257724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92200" y="3006720"/>
            <a:ext cx="223920" cy="222120"/>
            <a:chOff x="592200" y="3006720"/>
            <a:chExt cx="223920" cy="222120"/>
          </a:xfrm>
        </p:grpSpPr>
        <p:sp>
          <p:nvSpPr>
            <p:cNvPr id="597" name=""/>
            <p:cNvSpPr/>
            <p:nvPr/>
          </p:nvSpPr>
          <p:spPr>
            <a:xfrm>
              <a:off x="59256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9220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954000" y="3006720"/>
            <a:ext cx="223920" cy="222120"/>
            <a:chOff x="954000" y="3006720"/>
            <a:chExt cx="223920" cy="222120"/>
          </a:xfrm>
        </p:grpSpPr>
        <p:sp>
          <p:nvSpPr>
            <p:cNvPr id="600" name=""/>
            <p:cNvSpPr/>
            <p:nvPr/>
          </p:nvSpPr>
          <p:spPr>
            <a:xfrm>
              <a:off x="95436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5400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314360" y="3006720"/>
            <a:ext cx="223920" cy="222120"/>
            <a:chOff x="1314360" y="3006720"/>
            <a:chExt cx="223920" cy="222120"/>
          </a:xfrm>
        </p:grpSpPr>
        <p:sp>
          <p:nvSpPr>
            <p:cNvPr id="603" name=""/>
            <p:cNvSpPr/>
            <p:nvPr/>
          </p:nvSpPr>
          <p:spPr>
            <a:xfrm>
              <a:off x="131472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31436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674720" y="3006720"/>
            <a:ext cx="223920" cy="222120"/>
            <a:chOff x="1674720" y="3006720"/>
            <a:chExt cx="223920" cy="222120"/>
          </a:xfrm>
        </p:grpSpPr>
        <p:sp>
          <p:nvSpPr>
            <p:cNvPr id="606" name=""/>
            <p:cNvSpPr/>
            <p:nvPr/>
          </p:nvSpPr>
          <p:spPr>
            <a:xfrm>
              <a:off x="167508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7472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2035080" y="3006720"/>
            <a:ext cx="222480" cy="222120"/>
            <a:chOff x="2035080" y="3006720"/>
            <a:chExt cx="222480" cy="222120"/>
          </a:xfrm>
        </p:grpSpPr>
        <p:sp>
          <p:nvSpPr>
            <p:cNvPr id="609" name=""/>
            <p:cNvSpPr/>
            <p:nvPr/>
          </p:nvSpPr>
          <p:spPr>
            <a:xfrm>
              <a:off x="2035440" y="3006720"/>
              <a:ext cx="22140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035080" y="311760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397240" y="3006720"/>
            <a:ext cx="223560" cy="222120"/>
            <a:chOff x="2397240" y="3006720"/>
            <a:chExt cx="223560" cy="222120"/>
          </a:xfrm>
        </p:grpSpPr>
        <p:sp>
          <p:nvSpPr>
            <p:cNvPr id="612" name=""/>
            <p:cNvSpPr/>
            <p:nvPr/>
          </p:nvSpPr>
          <p:spPr>
            <a:xfrm>
              <a:off x="2397600" y="300672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97240" y="31176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857160" y="184788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38400" y="184788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960560" y="22003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225440" y="2257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2200" y="2827440"/>
            <a:ext cx="6012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42960" y="3235320"/>
            <a:ext cx="5868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171880" y="2257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657440" y="28465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39880" y="3228840"/>
            <a:ext cx="58680" cy="590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219400" y="27907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225960" y="1924200"/>
            <a:ext cx="223560" cy="223560"/>
            <a:chOff x="3225960" y="1924200"/>
            <a:chExt cx="223560" cy="223560"/>
          </a:xfrm>
        </p:grpSpPr>
        <p:sp>
          <p:nvSpPr>
            <p:cNvPr id="625" name=""/>
            <p:cNvSpPr/>
            <p:nvPr/>
          </p:nvSpPr>
          <p:spPr>
            <a:xfrm>
              <a:off x="3226320" y="1925280"/>
              <a:ext cx="22248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225960" y="20358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37560" y="192420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586320" y="1925640"/>
            <a:ext cx="223560" cy="223920"/>
            <a:chOff x="3586320" y="1925640"/>
            <a:chExt cx="223560" cy="223920"/>
          </a:xfrm>
        </p:grpSpPr>
        <p:sp>
          <p:nvSpPr>
            <p:cNvPr id="629" name=""/>
            <p:cNvSpPr/>
            <p:nvPr/>
          </p:nvSpPr>
          <p:spPr>
            <a:xfrm>
              <a:off x="3586680" y="192672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86320" y="20376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9792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3946680" y="1925640"/>
            <a:ext cx="222120" cy="223920"/>
            <a:chOff x="3946680" y="1925640"/>
            <a:chExt cx="222120" cy="223920"/>
          </a:xfrm>
        </p:grpSpPr>
        <p:sp>
          <p:nvSpPr>
            <p:cNvPr id="633" name=""/>
            <p:cNvSpPr/>
            <p:nvPr/>
          </p:nvSpPr>
          <p:spPr>
            <a:xfrm>
              <a:off x="3947040" y="192672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46680" y="20376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05756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308480" y="1925640"/>
            <a:ext cx="223920" cy="223920"/>
            <a:chOff x="4308480" y="1925640"/>
            <a:chExt cx="223920" cy="223920"/>
          </a:xfrm>
        </p:grpSpPr>
        <p:sp>
          <p:nvSpPr>
            <p:cNvPr id="637" name=""/>
            <p:cNvSpPr/>
            <p:nvPr/>
          </p:nvSpPr>
          <p:spPr>
            <a:xfrm>
              <a:off x="4308840" y="192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308480" y="203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2044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668840" y="1925640"/>
            <a:ext cx="223920" cy="223920"/>
            <a:chOff x="4668840" y="1925640"/>
            <a:chExt cx="223920" cy="223920"/>
          </a:xfrm>
        </p:grpSpPr>
        <p:sp>
          <p:nvSpPr>
            <p:cNvPr id="641" name=""/>
            <p:cNvSpPr/>
            <p:nvPr/>
          </p:nvSpPr>
          <p:spPr>
            <a:xfrm>
              <a:off x="4669200" y="192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668840" y="203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8080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5029200" y="1925640"/>
            <a:ext cx="223920" cy="223920"/>
            <a:chOff x="5029200" y="1925640"/>
            <a:chExt cx="223920" cy="223920"/>
          </a:xfrm>
        </p:grpSpPr>
        <p:sp>
          <p:nvSpPr>
            <p:cNvPr id="645" name=""/>
            <p:cNvSpPr/>
            <p:nvPr/>
          </p:nvSpPr>
          <p:spPr>
            <a:xfrm>
              <a:off x="5029560" y="192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29200" y="203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4116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3225960" y="2467080"/>
            <a:ext cx="223560" cy="222120"/>
            <a:chOff x="3225960" y="2467080"/>
            <a:chExt cx="223560" cy="222120"/>
          </a:xfrm>
        </p:grpSpPr>
        <p:sp>
          <p:nvSpPr>
            <p:cNvPr id="649" name=""/>
            <p:cNvSpPr/>
            <p:nvPr/>
          </p:nvSpPr>
          <p:spPr>
            <a:xfrm>
              <a:off x="3226320" y="2468160"/>
              <a:ext cx="222480" cy="2203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25960" y="257796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337560" y="2467080"/>
              <a:ext cx="360" cy="2221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586320" y="2467080"/>
            <a:ext cx="223560" cy="223560"/>
            <a:chOff x="3586320" y="2467080"/>
            <a:chExt cx="223560" cy="223560"/>
          </a:xfrm>
        </p:grpSpPr>
        <p:sp>
          <p:nvSpPr>
            <p:cNvPr id="653" name=""/>
            <p:cNvSpPr/>
            <p:nvPr/>
          </p:nvSpPr>
          <p:spPr>
            <a:xfrm>
              <a:off x="3586680" y="2468160"/>
              <a:ext cx="22248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86320" y="257868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69792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946680" y="2467080"/>
            <a:ext cx="222120" cy="223560"/>
            <a:chOff x="3946680" y="2467080"/>
            <a:chExt cx="222120" cy="223560"/>
          </a:xfrm>
        </p:grpSpPr>
        <p:sp>
          <p:nvSpPr>
            <p:cNvPr id="657" name=""/>
            <p:cNvSpPr/>
            <p:nvPr/>
          </p:nvSpPr>
          <p:spPr>
            <a:xfrm>
              <a:off x="3947040" y="2468160"/>
              <a:ext cx="2210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946680" y="257868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5756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308480" y="2467080"/>
            <a:ext cx="223920" cy="223560"/>
            <a:chOff x="4308480" y="2467080"/>
            <a:chExt cx="223920" cy="223560"/>
          </a:xfrm>
        </p:grpSpPr>
        <p:sp>
          <p:nvSpPr>
            <p:cNvPr id="661" name=""/>
            <p:cNvSpPr/>
            <p:nvPr/>
          </p:nvSpPr>
          <p:spPr>
            <a:xfrm>
              <a:off x="4308840" y="246816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08480" y="25786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2044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4668840" y="2467080"/>
            <a:ext cx="223920" cy="223560"/>
            <a:chOff x="4668840" y="2467080"/>
            <a:chExt cx="223920" cy="223560"/>
          </a:xfrm>
        </p:grpSpPr>
        <p:sp>
          <p:nvSpPr>
            <p:cNvPr id="665" name=""/>
            <p:cNvSpPr/>
            <p:nvPr/>
          </p:nvSpPr>
          <p:spPr>
            <a:xfrm>
              <a:off x="4669200" y="246816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68840" y="25786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8080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5029200" y="2467080"/>
            <a:ext cx="223920" cy="223560"/>
            <a:chOff x="5029200" y="2467080"/>
            <a:chExt cx="223920" cy="223560"/>
          </a:xfrm>
        </p:grpSpPr>
        <p:sp>
          <p:nvSpPr>
            <p:cNvPr id="669" name=""/>
            <p:cNvSpPr/>
            <p:nvPr/>
          </p:nvSpPr>
          <p:spPr>
            <a:xfrm>
              <a:off x="5029560" y="246816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29200" y="25786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4116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225960" y="3006720"/>
            <a:ext cx="223560" cy="223920"/>
            <a:chOff x="3225960" y="3006720"/>
            <a:chExt cx="223560" cy="223920"/>
          </a:xfrm>
        </p:grpSpPr>
        <p:sp>
          <p:nvSpPr>
            <p:cNvPr id="673" name=""/>
            <p:cNvSpPr/>
            <p:nvPr/>
          </p:nvSpPr>
          <p:spPr>
            <a:xfrm>
              <a:off x="3226320" y="300780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25960" y="311868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337560" y="30067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3586320" y="3008160"/>
            <a:ext cx="223560" cy="223920"/>
            <a:chOff x="3586320" y="3008160"/>
            <a:chExt cx="223560" cy="223920"/>
          </a:xfrm>
        </p:grpSpPr>
        <p:sp>
          <p:nvSpPr>
            <p:cNvPr id="677" name=""/>
            <p:cNvSpPr/>
            <p:nvPr/>
          </p:nvSpPr>
          <p:spPr>
            <a:xfrm>
              <a:off x="3586680" y="300924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86320" y="3120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9792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946680" y="3008160"/>
            <a:ext cx="222120" cy="223920"/>
            <a:chOff x="3946680" y="3008160"/>
            <a:chExt cx="222120" cy="223920"/>
          </a:xfrm>
        </p:grpSpPr>
        <p:sp>
          <p:nvSpPr>
            <p:cNvPr id="681" name=""/>
            <p:cNvSpPr/>
            <p:nvPr/>
          </p:nvSpPr>
          <p:spPr>
            <a:xfrm>
              <a:off x="3947040" y="300924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46680" y="31201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05756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4308480" y="3008160"/>
            <a:ext cx="223920" cy="223920"/>
            <a:chOff x="4308480" y="3008160"/>
            <a:chExt cx="223920" cy="223920"/>
          </a:xfrm>
        </p:grpSpPr>
        <p:sp>
          <p:nvSpPr>
            <p:cNvPr id="685" name=""/>
            <p:cNvSpPr/>
            <p:nvPr/>
          </p:nvSpPr>
          <p:spPr>
            <a:xfrm>
              <a:off x="4308840" y="30092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08480" y="3120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2044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4668840" y="3008160"/>
            <a:ext cx="223920" cy="223920"/>
            <a:chOff x="4668840" y="3008160"/>
            <a:chExt cx="223920" cy="223920"/>
          </a:xfrm>
        </p:grpSpPr>
        <p:sp>
          <p:nvSpPr>
            <p:cNvPr id="689" name=""/>
            <p:cNvSpPr/>
            <p:nvPr/>
          </p:nvSpPr>
          <p:spPr>
            <a:xfrm>
              <a:off x="4669200" y="30092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68840" y="3120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78080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5029200" y="3008160"/>
            <a:ext cx="223920" cy="223920"/>
            <a:chOff x="5029200" y="3008160"/>
            <a:chExt cx="223920" cy="223920"/>
          </a:xfrm>
        </p:grpSpPr>
        <p:sp>
          <p:nvSpPr>
            <p:cNvPr id="693" name=""/>
            <p:cNvSpPr/>
            <p:nvPr/>
          </p:nvSpPr>
          <p:spPr>
            <a:xfrm>
              <a:off x="5029560" y="30092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29200" y="3120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4116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4167360" y="3246480"/>
            <a:ext cx="601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948200" y="2836800"/>
            <a:ext cx="604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260960" y="27129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53000" y="2827440"/>
            <a:ext cx="601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319720" y="2027160"/>
            <a:ext cx="604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334120" y="32180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56080" y="278928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032360" y="22906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738600" y="2255760"/>
            <a:ext cx="601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0680" y="1884240"/>
            <a:ext cx="60120" cy="59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232160" y="193212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652920" y="28130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324320" y="2311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156280" y="289080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958680" y="227484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400040" y="282564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930320" y="2870280"/>
            <a:ext cx="58680" cy="586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932040" y="2851200"/>
            <a:ext cx="60120" cy="6012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848120" y="2319480"/>
            <a:ext cx="58680" cy="5868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070520" y="2801880"/>
            <a:ext cx="58680" cy="586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608120" y="22813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2852640" y="4003560"/>
            <a:ext cx="73080" cy="398520"/>
            <a:chOff x="2852640" y="4003560"/>
            <a:chExt cx="73080" cy="398520"/>
          </a:xfrm>
        </p:grpSpPr>
        <p:sp>
          <p:nvSpPr>
            <p:cNvPr id="718" name=""/>
            <p:cNvSpPr/>
            <p:nvPr/>
          </p:nvSpPr>
          <p:spPr>
            <a:xfrm>
              <a:off x="2852640" y="4003560"/>
              <a:ext cx="360" cy="3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925360" y="4075920"/>
              <a:ext cx="36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231840" y="2568600"/>
            <a:ext cx="5392800" cy="1630440"/>
            <a:chOff x="231840" y="2568600"/>
            <a:chExt cx="5392800" cy="1630440"/>
          </a:xfrm>
        </p:grpSpPr>
        <p:sp>
          <p:nvSpPr>
            <p:cNvPr id="721" name=""/>
            <p:cNvSpPr/>
            <p:nvPr/>
          </p:nvSpPr>
          <p:spPr>
            <a:xfrm>
              <a:off x="2909880" y="2568600"/>
              <a:ext cx="2714760" cy="1620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779" y="0"/>
                  </a:moveTo>
                  <a:lnTo>
                    <a:pt x="19995" y="0"/>
                  </a:lnTo>
                  <a:lnTo>
                    <a:pt x="19995" y="19989"/>
                  </a:lnTo>
                  <a:lnTo>
                    <a:pt x="0" y="199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1840" y="2578320"/>
              <a:ext cx="2606040" cy="1620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18" y="0"/>
                  </a:moveTo>
                  <a:lnTo>
                    <a:pt x="0" y="0"/>
                  </a:lnTo>
                  <a:lnTo>
                    <a:pt x="0" y="19989"/>
                  </a:lnTo>
                  <a:lnTo>
                    <a:pt x="19995" y="199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2981160" y="3706920"/>
            <a:ext cx="362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50880" y="4195800"/>
            <a:ext cx="3268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857160" y="3706920"/>
            <a:ext cx="2541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100160" y="2857680"/>
            <a:ext cx="29052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2238120" y="2287440"/>
            <a:ext cx="290520" cy="1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354480" y="2841480"/>
            <a:ext cx="29052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4381560" y="2336760"/>
            <a:ext cx="288720" cy="1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701800" y="1751040"/>
            <a:ext cx="495360" cy="1620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229360" y="2238480"/>
            <a:ext cx="5868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382920" y="2311560"/>
            <a:ext cx="604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297160" y="3216240"/>
            <a:ext cx="6012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882960" y="18208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882960" y="29433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073240" y="2798640"/>
            <a:ext cx="58680" cy="59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71480" y="29066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911240" y="1852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657520" y="1554120"/>
            <a:ext cx="195120" cy="61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692440" y="239724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762640" y="1744560"/>
            <a:ext cx="4168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MT Extra"/>
                <a:ea typeface="MT Extra"/>
              </a:rPr>
              <a:t>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970360" y="1488960"/>
            <a:ext cx="193680" cy="193680"/>
          </a:xfrm>
          <a:prstGeom prst="plus">
            <a:avLst>
              <a:gd name="adj" fmla="val 3543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" y="4724280"/>
            <a:ext cx="8458200" cy="11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rea un campo eléctrico opuesto al de la unión, disminuye el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n la unión y la barrera de potencial: V´=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y aumenta la corriente de mayoritarios por difu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5867280" y="3171960"/>
            <a:ext cx="3089160" cy="942840"/>
            <a:chOff x="5867280" y="3171960"/>
            <a:chExt cx="3089160" cy="942840"/>
          </a:xfrm>
        </p:grpSpPr>
        <p:sp>
          <p:nvSpPr>
            <p:cNvPr id="745" name=""/>
            <p:cNvSpPr/>
            <p:nvPr/>
          </p:nvSpPr>
          <p:spPr>
            <a:xfrm>
              <a:off x="8123040" y="3208320"/>
              <a:ext cx="29052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123040" y="3606480"/>
              <a:ext cx="833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- 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67280" y="3171960"/>
              <a:ext cx="2255760" cy="942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7"/>
                  </a:lnTo>
                  <a:lnTo>
                    <a:pt x="19995" y="199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881680" y="3714480"/>
              <a:ext cx="2222280" cy="29808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81680" y="3394080"/>
              <a:ext cx="2222280" cy="61848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859000" y="1301760"/>
            <a:ext cx="304920" cy="1054080"/>
            <a:chOff x="5859000" y="1301760"/>
            <a:chExt cx="304920" cy="1054080"/>
          </a:xfrm>
        </p:grpSpPr>
        <p:sp>
          <p:nvSpPr>
            <p:cNvPr id="751" name=""/>
            <p:cNvSpPr/>
            <p:nvPr/>
          </p:nvSpPr>
          <p:spPr>
            <a:xfrm>
              <a:off x="6021360" y="1301760"/>
              <a:ext cx="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0800000">
              <a:off x="5884560" y="169344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5859000" y="2004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6705720" y="1371600"/>
            <a:ext cx="30456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805040"/>
            <a:ext cx="304560" cy="368280"/>
          </a:xfrm>
          <a:prstGeom prst="rect">
            <a:avLst/>
          </a:prstGeom>
          <a:solidFill>
            <a:srgbClr val="99c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6858000" y="10663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0" y="1066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429680" y="1066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7010280" y="2209680"/>
            <a:ext cx="152280" cy="533160"/>
            <a:chOff x="7010280" y="2209680"/>
            <a:chExt cx="152280" cy="533160"/>
          </a:xfrm>
        </p:grpSpPr>
        <p:sp>
          <p:nvSpPr>
            <p:cNvPr id="761" name=""/>
            <p:cNvSpPr/>
            <p:nvPr/>
          </p:nvSpPr>
          <p:spPr>
            <a:xfrm>
              <a:off x="7010280" y="2361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162560" y="220968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6858000" y="2438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62920" y="24382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2.Polarización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922480" y="1585800"/>
            <a:ext cx="2524320" cy="1622520"/>
          </a:xfrm>
          <a:prstGeom prst="rect">
            <a:avLst/>
          </a:prstGeom>
          <a:solidFill>
            <a:srgbClr val="cce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96720" y="1585800"/>
            <a:ext cx="2525760" cy="1622520"/>
          </a:xfrm>
          <a:prstGeom prst="rect">
            <a:avLst/>
          </a:prstGeom>
          <a:solidFill>
            <a:srgbClr val="ff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77800" y="2125800"/>
            <a:ext cx="5868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76360" y="1765440"/>
            <a:ext cx="223920" cy="222120"/>
            <a:chOff x="576360" y="1765440"/>
            <a:chExt cx="223920" cy="222120"/>
          </a:xfrm>
        </p:grpSpPr>
        <p:sp>
          <p:nvSpPr>
            <p:cNvPr id="770" name=""/>
            <p:cNvSpPr/>
            <p:nvPr/>
          </p:nvSpPr>
          <p:spPr>
            <a:xfrm>
              <a:off x="57672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636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938160" y="1765440"/>
            <a:ext cx="223920" cy="222120"/>
            <a:chOff x="938160" y="1765440"/>
            <a:chExt cx="223920" cy="222120"/>
          </a:xfrm>
        </p:grpSpPr>
        <p:sp>
          <p:nvSpPr>
            <p:cNvPr id="773" name=""/>
            <p:cNvSpPr/>
            <p:nvPr/>
          </p:nvSpPr>
          <p:spPr>
            <a:xfrm>
              <a:off x="93852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93816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1298520" y="1765440"/>
            <a:ext cx="223920" cy="222120"/>
            <a:chOff x="1298520" y="1765440"/>
            <a:chExt cx="223920" cy="222120"/>
          </a:xfrm>
        </p:grpSpPr>
        <p:sp>
          <p:nvSpPr>
            <p:cNvPr id="776" name=""/>
            <p:cNvSpPr/>
            <p:nvPr/>
          </p:nvSpPr>
          <p:spPr>
            <a:xfrm>
              <a:off x="129888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29852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1658880" y="1765440"/>
            <a:ext cx="223920" cy="222120"/>
            <a:chOff x="1658880" y="1765440"/>
            <a:chExt cx="223920" cy="222120"/>
          </a:xfrm>
        </p:grpSpPr>
        <p:sp>
          <p:nvSpPr>
            <p:cNvPr id="779" name=""/>
            <p:cNvSpPr/>
            <p:nvPr/>
          </p:nvSpPr>
          <p:spPr>
            <a:xfrm>
              <a:off x="165924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65888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77800" y="2306520"/>
            <a:ext cx="223920" cy="222480"/>
            <a:chOff x="577800" y="2306520"/>
            <a:chExt cx="223920" cy="222480"/>
          </a:xfrm>
        </p:grpSpPr>
        <p:sp>
          <p:nvSpPr>
            <p:cNvPr id="782" name=""/>
            <p:cNvSpPr/>
            <p:nvPr/>
          </p:nvSpPr>
          <p:spPr>
            <a:xfrm>
              <a:off x="578160" y="2306520"/>
              <a:ext cx="22284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77800" y="24174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938160" y="2306520"/>
            <a:ext cx="223920" cy="222480"/>
            <a:chOff x="938160" y="2306520"/>
            <a:chExt cx="223920" cy="222480"/>
          </a:xfrm>
        </p:grpSpPr>
        <p:sp>
          <p:nvSpPr>
            <p:cNvPr id="785" name=""/>
            <p:cNvSpPr/>
            <p:nvPr/>
          </p:nvSpPr>
          <p:spPr>
            <a:xfrm>
              <a:off x="938520" y="2306520"/>
              <a:ext cx="22284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38160" y="24174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300320" y="2306520"/>
            <a:ext cx="222120" cy="222480"/>
            <a:chOff x="1300320" y="2306520"/>
            <a:chExt cx="222120" cy="222480"/>
          </a:xfrm>
        </p:grpSpPr>
        <p:sp>
          <p:nvSpPr>
            <p:cNvPr id="788" name=""/>
            <p:cNvSpPr/>
            <p:nvPr/>
          </p:nvSpPr>
          <p:spPr>
            <a:xfrm>
              <a:off x="1300680" y="2306520"/>
              <a:ext cx="22104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00320" y="24174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1660680" y="2306520"/>
            <a:ext cx="223560" cy="222480"/>
            <a:chOff x="1660680" y="2306520"/>
            <a:chExt cx="223560" cy="222480"/>
          </a:xfrm>
        </p:grpSpPr>
        <p:sp>
          <p:nvSpPr>
            <p:cNvPr id="791" name=""/>
            <p:cNvSpPr/>
            <p:nvPr/>
          </p:nvSpPr>
          <p:spPr>
            <a:xfrm>
              <a:off x="1661040" y="2306520"/>
              <a:ext cx="22248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60680" y="24174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577800" y="2847960"/>
            <a:ext cx="223920" cy="220680"/>
            <a:chOff x="577800" y="2847960"/>
            <a:chExt cx="223920" cy="220680"/>
          </a:xfrm>
        </p:grpSpPr>
        <p:sp>
          <p:nvSpPr>
            <p:cNvPr id="794" name=""/>
            <p:cNvSpPr/>
            <p:nvPr/>
          </p:nvSpPr>
          <p:spPr>
            <a:xfrm>
              <a:off x="578160" y="284796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77800" y="2958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938160" y="2847960"/>
            <a:ext cx="223920" cy="220680"/>
            <a:chOff x="938160" y="2847960"/>
            <a:chExt cx="223920" cy="220680"/>
          </a:xfrm>
        </p:grpSpPr>
        <p:sp>
          <p:nvSpPr>
            <p:cNvPr id="797" name=""/>
            <p:cNvSpPr/>
            <p:nvPr/>
          </p:nvSpPr>
          <p:spPr>
            <a:xfrm>
              <a:off x="938520" y="284796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38160" y="2958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1300320" y="2847960"/>
            <a:ext cx="222120" cy="220680"/>
            <a:chOff x="1300320" y="2847960"/>
            <a:chExt cx="222120" cy="220680"/>
          </a:xfrm>
        </p:grpSpPr>
        <p:sp>
          <p:nvSpPr>
            <p:cNvPr id="800" name=""/>
            <p:cNvSpPr/>
            <p:nvPr/>
          </p:nvSpPr>
          <p:spPr>
            <a:xfrm>
              <a:off x="1300680" y="2847960"/>
              <a:ext cx="2210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00320" y="29581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1660680" y="2847960"/>
            <a:ext cx="223560" cy="220680"/>
            <a:chOff x="1660680" y="2847960"/>
            <a:chExt cx="223560" cy="220680"/>
          </a:xfrm>
        </p:grpSpPr>
        <p:sp>
          <p:nvSpPr>
            <p:cNvPr id="803" name=""/>
            <p:cNvSpPr/>
            <p:nvPr/>
          </p:nvSpPr>
          <p:spPr>
            <a:xfrm>
              <a:off x="1661040" y="284796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60680" y="2958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843120" y="1687680"/>
            <a:ext cx="5868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222200" y="1687680"/>
            <a:ext cx="5904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211400" y="2097000"/>
            <a:ext cx="5868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77800" y="266688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917720" y="22003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27120" y="3076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643040" y="275904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824040" y="3068640"/>
            <a:ext cx="6012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3932280" y="1765440"/>
            <a:ext cx="223920" cy="223560"/>
            <a:chOff x="3932280" y="1765440"/>
            <a:chExt cx="223920" cy="223560"/>
          </a:xfrm>
        </p:grpSpPr>
        <p:sp>
          <p:nvSpPr>
            <p:cNvPr id="814" name=""/>
            <p:cNvSpPr/>
            <p:nvPr/>
          </p:nvSpPr>
          <p:spPr>
            <a:xfrm>
              <a:off x="393264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3228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04424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4292640" y="1765440"/>
            <a:ext cx="223920" cy="223560"/>
            <a:chOff x="4292640" y="1765440"/>
            <a:chExt cx="223920" cy="223560"/>
          </a:xfrm>
        </p:grpSpPr>
        <p:sp>
          <p:nvSpPr>
            <p:cNvPr id="818" name=""/>
            <p:cNvSpPr/>
            <p:nvPr/>
          </p:nvSpPr>
          <p:spPr>
            <a:xfrm>
              <a:off x="429300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9264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40460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4653000" y="1765440"/>
            <a:ext cx="223920" cy="223560"/>
            <a:chOff x="4653000" y="1765440"/>
            <a:chExt cx="223920" cy="223560"/>
          </a:xfrm>
        </p:grpSpPr>
        <p:sp>
          <p:nvSpPr>
            <p:cNvPr id="822" name=""/>
            <p:cNvSpPr/>
            <p:nvPr/>
          </p:nvSpPr>
          <p:spPr>
            <a:xfrm>
              <a:off x="465336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65300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6496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5014800" y="1765440"/>
            <a:ext cx="222480" cy="223560"/>
            <a:chOff x="5014800" y="1765440"/>
            <a:chExt cx="222480" cy="223560"/>
          </a:xfrm>
        </p:grpSpPr>
        <p:sp>
          <p:nvSpPr>
            <p:cNvPr id="826" name=""/>
            <p:cNvSpPr/>
            <p:nvPr/>
          </p:nvSpPr>
          <p:spPr>
            <a:xfrm>
              <a:off x="5015160" y="1766520"/>
              <a:ext cx="22140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014800" y="187704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2604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932280" y="2308320"/>
            <a:ext cx="223920" cy="223920"/>
            <a:chOff x="3932280" y="2308320"/>
            <a:chExt cx="223920" cy="223920"/>
          </a:xfrm>
        </p:grpSpPr>
        <p:sp>
          <p:nvSpPr>
            <p:cNvPr id="830" name=""/>
            <p:cNvSpPr/>
            <p:nvPr/>
          </p:nvSpPr>
          <p:spPr>
            <a:xfrm>
              <a:off x="393264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93228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04424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4292640" y="2308320"/>
            <a:ext cx="223920" cy="223920"/>
            <a:chOff x="4292640" y="2308320"/>
            <a:chExt cx="223920" cy="223920"/>
          </a:xfrm>
        </p:grpSpPr>
        <p:sp>
          <p:nvSpPr>
            <p:cNvPr id="834" name=""/>
            <p:cNvSpPr/>
            <p:nvPr/>
          </p:nvSpPr>
          <p:spPr>
            <a:xfrm>
              <a:off x="429300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29264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0460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4653000" y="2308320"/>
            <a:ext cx="223920" cy="223920"/>
            <a:chOff x="4653000" y="2308320"/>
            <a:chExt cx="223920" cy="223920"/>
          </a:xfrm>
        </p:grpSpPr>
        <p:sp>
          <p:nvSpPr>
            <p:cNvPr id="838" name=""/>
            <p:cNvSpPr/>
            <p:nvPr/>
          </p:nvSpPr>
          <p:spPr>
            <a:xfrm>
              <a:off x="465336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65300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76496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5014800" y="2308320"/>
            <a:ext cx="222480" cy="223920"/>
            <a:chOff x="5014800" y="2308320"/>
            <a:chExt cx="222480" cy="223920"/>
          </a:xfrm>
        </p:grpSpPr>
        <p:sp>
          <p:nvSpPr>
            <p:cNvPr id="842" name=""/>
            <p:cNvSpPr/>
            <p:nvPr/>
          </p:nvSpPr>
          <p:spPr>
            <a:xfrm>
              <a:off x="5015160" y="2309400"/>
              <a:ext cx="22140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014800" y="242028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2604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932280" y="2849400"/>
            <a:ext cx="223920" cy="222480"/>
            <a:chOff x="3932280" y="2849400"/>
            <a:chExt cx="223920" cy="222480"/>
          </a:xfrm>
        </p:grpSpPr>
        <p:sp>
          <p:nvSpPr>
            <p:cNvPr id="846" name=""/>
            <p:cNvSpPr/>
            <p:nvPr/>
          </p:nvSpPr>
          <p:spPr>
            <a:xfrm>
              <a:off x="393264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93228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04424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292640" y="2849400"/>
            <a:ext cx="223920" cy="222480"/>
            <a:chOff x="4292640" y="2849400"/>
            <a:chExt cx="223920" cy="222480"/>
          </a:xfrm>
        </p:grpSpPr>
        <p:sp>
          <p:nvSpPr>
            <p:cNvPr id="850" name=""/>
            <p:cNvSpPr/>
            <p:nvPr/>
          </p:nvSpPr>
          <p:spPr>
            <a:xfrm>
              <a:off x="429300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29264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40460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653000" y="2849400"/>
            <a:ext cx="223920" cy="222480"/>
            <a:chOff x="4653000" y="2849400"/>
            <a:chExt cx="223920" cy="222480"/>
          </a:xfrm>
        </p:grpSpPr>
        <p:sp>
          <p:nvSpPr>
            <p:cNvPr id="854" name=""/>
            <p:cNvSpPr/>
            <p:nvPr/>
          </p:nvSpPr>
          <p:spPr>
            <a:xfrm>
              <a:off x="465336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5300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76496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5014800" y="2849400"/>
            <a:ext cx="222480" cy="222480"/>
            <a:chOff x="5014800" y="2849400"/>
            <a:chExt cx="222480" cy="222480"/>
          </a:xfrm>
        </p:grpSpPr>
        <p:sp>
          <p:nvSpPr>
            <p:cNvPr id="858" name=""/>
            <p:cNvSpPr/>
            <p:nvPr/>
          </p:nvSpPr>
          <p:spPr>
            <a:xfrm>
              <a:off x="5015160" y="2850480"/>
              <a:ext cx="22140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14800" y="296064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12604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4152960" y="30862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933800" y="267660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245120" y="25718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638600" y="26668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05320" y="18669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18280" y="30574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340240" y="26290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016520" y="209232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886280" y="17240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216320" y="17715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309920" y="2151000"/>
            <a:ext cx="5904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141880" y="273060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942840" y="211608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16280" y="2709720"/>
            <a:ext cx="58680" cy="604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386000" y="2665440"/>
            <a:ext cx="58680" cy="60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917640" y="2692440"/>
            <a:ext cx="58680" cy="5868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834080" y="2160720"/>
            <a:ext cx="58680" cy="5868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056120" y="2643120"/>
            <a:ext cx="58680" cy="586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592280" y="2122560"/>
            <a:ext cx="604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243160" y="1349280"/>
            <a:ext cx="404640" cy="127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814480" y="3600360"/>
            <a:ext cx="73080" cy="398520"/>
            <a:chOff x="2814480" y="3600360"/>
            <a:chExt cx="73080" cy="398520"/>
          </a:xfrm>
        </p:grpSpPr>
        <p:sp>
          <p:nvSpPr>
            <p:cNvPr id="882" name=""/>
            <p:cNvSpPr/>
            <p:nvPr/>
          </p:nvSpPr>
          <p:spPr>
            <a:xfrm>
              <a:off x="2887200" y="3600360"/>
              <a:ext cx="360" cy="3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814480" y="3672720"/>
              <a:ext cx="36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216000" y="2417760"/>
            <a:ext cx="5394240" cy="1384200"/>
            <a:chOff x="216000" y="2417760"/>
            <a:chExt cx="5394240" cy="1384200"/>
          </a:xfrm>
        </p:grpSpPr>
        <p:sp>
          <p:nvSpPr>
            <p:cNvPr id="885" name=""/>
            <p:cNvSpPr/>
            <p:nvPr/>
          </p:nvSpPr>
          <p:spPr>
            <a:xfrm>
              <a:off x="2894760" y="2417760"/>
              <a:ext cx="2715480" cy="1375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779" y="0"/>
                  </a:moveTo>
                  <a:lnTo>
                    <a:pt x="19995" y="0"/>
                  </a:lnTo>
                  <a:lnTo>
                    <a:pt x="19995" y="19990"/>
                  </a:lnTo>
                  <a:lnTo>
                    <a:pt x="0" y="199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16000" y="2426040"/>
              <a:ext cx="2606760" cy="1375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18" y="0"/>
                  </a:moveTo>
                  <a:lnTo>
                    <a:pt x="0" y="0"/>
                  </a:lnTo>
                  <a:lnTo>
                    <a:pt x="0" y="19990"/>
                  </a:lnTo>
                  <a:lnTo>
                    <a:pt x="19995" y="199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2930400" y="3475080"/>
            <a:ext cx="363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4125960" y="3803760"/>
            <a:ext cx="3268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197240" y="3352680"/>
            <a:ext cx="12034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&lt;&lt;&lt;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1445760" y="2697120"/>
            <a:ext cx="290520" cy="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649520" y="2076480"/>
            <a:ext cx="288720" cy="144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303440" y="2597040"/>
            <a:ext cx="290520" cy="18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016520" y="2174760"/>
            <a:ext cx="29052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844640" y="3105000"/>
            <a:ext cx="58680" cy="590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75360" y="2128680"/>
            <a:ext cx="58680" cy="590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69800" y="17305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120680" y="263520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592280" y="169380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33440" y="28162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319720" y="23097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22680" y="2092320"/>
            <a:ext cx="604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025720" y="1585800"/>
            <a:ext cx="1811160" cy="1622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944720" y="2039760"/>
            <a:ext cx="6012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954080" y="2598840"/>
            <a:ext cx="5904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871800" y="169380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835440" y="274320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025720" y="2236680"/>
            <a:ext cx="1811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2021040" y="1765440"/>
            <a:ext cx="222120" cy="222120"/>
            <a:chOff x="2021040" y="1765440"/>
            <a:chExt cx="222120" cy="222120"/>
          </a:xfrm>
        </p:grpSpPr>
        <p:sp>
          <p:nvSpPr>
            <p:cNvPr id="909" name=""/>
            <p:cNvSpPr/>
            <p:nvPr/>
          </p:nvSpPr>
          <p:spPr>
            <a:xfrm>
              <a:off x="2021400" y="176544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21040" y="18763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2021040" y="2306520"/>
            <a:ext cx="223560" cy="222480"/>
            <a:chOff x="2021040" y="2306520"/>
            <a:chExt cx="223560" cy="222480"/>
          </a:xfrm>
        </p:grpSpPr>
        <p:sp>
          <p:nvSpPr>
            <p:cNvPr id="912" name=""/>
            <p:cNvSpPr/>
            <p:nvPr/>
          </p:nvSpPr>
          <p:spPr>
            <a:xfrm>
              <a:off x="2021400" y="2306520"/>
              <a:ext cx="22248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21040" y="24174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2021040" y="2847960"/>
            <a:ext cx="223560" cy="220680"/>
            <a:chOff x="2021040" y="2847960"/>
            <a:chExt cx="223560" cy="220680"/>
          </a:xfrm>
        </p:grpSpPr>
        <p:sp>
          <p:nvSpPr>
            <p:cNvPr id="915" name=""/>
            <p:cNvSpPr/>
            <p:nvPr/>
          </p:nvSpPr>
          <p:spPr>
            <a:xfrm>
              <a:off x="2021400" y="284796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21040" y="2958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11560" y="1763640"/>
            <a:ext cx="222120" cy="223920"/>
            <a:chOff x="3211560" y="1763640"/>
            <a:chExt cx="222120" cy="223920"/>
          </a:xfrm>
        </p:grpSpPr>
        <p:sp>
          <p:nvSpPr>
            <p:cNvPr id="918" name=""/>
            <p:cNvSpPr/>
            <p:nvPr/>
          </p:nvSpPr>
          <p:spPr>
            <a:xfrm>
              <a:off x="3211920" y="176472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11560" y="18756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322440" y="1763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3571920" y="1765440"/>
            <a:ext cx="223920" cy="223560"/>
            <a:chOff x="3571920" y="1765440"/>
            <a:chExt cx="223920" cy="223560"/>
          </a:xfrm>
        </p:grpSpPr>
        <p:sp>
          <p:nvSpPr>
            <p:cNvPr id="922" name=""/>
            <p:cNvSpPr/>
            <p:nvPr/>
          </p:nvSpPr>
          <p:spPr>
            <a:xfrm>
              <a:off x="357228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57192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8388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3211560" y="2306520"/>
            <a:ext cx="222120" cy="223920"/>
            <a:chOff x="3211560" y="2306520"/>
            <a:chExt cx="222120" cy="223920"/>
          </a:xfrm>
        </p:grpSpPr>
        <p:sp>
          <p:nvSpPr>
            <p:cNvPr id="926" name=""/>
            <p:cNvSpPr/>
            <p:nvPr/>
          </p:nvSpPr>
          <p:spPr>
            <a:xfrm>
              <a:off x="3211920" y="230760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211560" y="241848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322440" y="23065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3571920" y="2308320"/>
            <a:ext cx="223920" cy="223920"/>
            <a:chOff x="3571920" y="2308320"/>
            <a:chExt cx="223920" cy="223920"/>
          </a:xfrm>
        </p:grpSpPr>
        <p:sp>
          <p:nvSpPr>
            <p:cNvPr id="930" name=""/>
            <p:cNvSpPr/>
            <p:nvPr/>
          </p:nvSpPr>
          <p:spPr>
            <a:xfrm>
              <a:off x="357228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57192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68388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3211560" y="2847960"/>
            <a:ext cx="222120" cy="223920"/>
            <a:chOff x="3211560" y="2847960"/>
            <a:chExt cx="222120" cy="223920"/>
          </a:xfrm>
        </p:grpSpPr>
        <p:sp>
          <p:nvSpPr>
            <p:cNvPr id="934" name=""/>
            <p:cNvSpPr/>
            <p:nvPr/>
          </p:nvSpPr>
          <p:spPr>
            <a:xfrm>
              <a:off x="3211920" y="284904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211560" y="29599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22440" y="28479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3571920" y="2849400"/>
            <a:ext cx="223920" cy="222480"/>
            <a:chOff x="3571920" y="2849400"/>
            <a:chExt cx="223920" cy="222480"/>
          </a:xfrm>
        </p:grpSpPr>
        <p:sp>
          <p:nvSpPr>
            <p:cNvPr id="938" name=""/>
            <p:cNvSpPr/>
            <p:nvPr/>
          </p:nvSpPr>
          <p:spPr>
            <a:xfrm>
              <a:off x="357228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57192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68388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711880" y="1600200"/>
            <a:ext cx="4168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MT Extra"/>
                <a:ea typeface="MT Extra"/>
              </a:rPr>
              <a:t>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381400" y="1765440"/>
            <a:ext cx="223560" cy="222120"/>
            <a:chOff x="2381400" y="1765440"/>
            <a:chExt cx="223560" cy="222120"/>
          </a:xfrm>
        </p:grpSpPr>
        <p:sp>
          <p:nvSpPr>
            <p:cNvPr id="943" name=""/>
            <p:cNvSpPr/>
            <p:nvPr/>
          </p:nvSpPr>
          <p:spPr>
            <a:xfrm>
              <a:off x="2381760" y="176544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381400" y="18763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381400" y="2306520"/>
            <a:ext cx="223560" cy="222480"/>
            <a:chOff x="2381400" y="2306520"/>
            <a:chExt cx="223560" cy="222480"/>
          </a:xfrm>
        </p:grpSpPr>
        <p:sp>
          <p:nvSpPr>
            <p:cNvPr id="946" name=""/>
            <p:cNvSpPr/>
            <p:nvPr/>
          </p:nvSpPr>
          <p:spPr>
            <a:xfrm>
              <a:off x="2381760" y="2306520"/>
              <a:ext cx="22248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381400" y="24174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2381400" y="2847960"/>
            <a:ext cx="223560" cy="220680"/>
            <a:chOff x="2381400" y="2847960"/>
            <a:chExt cx="223560" cy="220680"/>
          </a:xfrm>
        </p:grpSpPr>
        <p:sp>
          <p:nvSpPr>
            <p:cNvPr id="949" name=""/>
            <p:cNvSpPr/>
            <p:nvPr/>
          </p:nvSpPr>
          <p:spPr>
            <a:xfrm>
              <a:off x="2381760" y="284796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381400" y="2958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3182760" y="1197000"/>
            <a:ext cx="403560" cy="403200"/>
          </a:xfrm>
          <a:prstGeom prst="plus">
            <a:avLst>
              <a:gd name="adj" fmla="val 3543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39680" y="4110120"/>
            <a:ext cx="89280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a un campo eléctrico en el mismo sentido que el de la unión, aumenta el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aumenta la diferencia de potencial: V´=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y disminuye la corriente de mayoritarios. Favorece el desplazamiento de huecos hacia la zo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de e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hacia la zo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ensanchándose la zona de transición. Pero esto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ovienen de zonas donde son minoritarios. El resultado es que fluye una pequeña corriente I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debida únicamente a los pares e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que se generan por agitación térmica llamada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RRIENTE INVERSA DE SATURACIÓN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5943600" y="2590920"/>
            <a:ext cx="3110040" cy="1185840"/>
            <a:chOff x="5943600" y="2590920"/>
            <a:chExt cx="3110040" cy="1185840"/>
          </a:xfrm>
        </p:grpSpPr>
        <p:sp>
          <p:nvSpPr>
            <p:cNvPr id="954" name=""/>
            <p:cNvSpPr/>
            <p:nvPr/>
          </p:nvSpPr>
          <p:spPr>
            <a:xfrm>
              <a:off x="8220240" y="2590920"/>
              <a:ext cx="833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+ 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155080" y="3125880"/>
              <a:ext cx="290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946840" y="2835360"/>
              <a:ext cx="2535480" cy="941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7"/>
                  </a:lnTo>
                  <a:lnTo>
                    <a:pt x="19995" y="199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43600" y="2625840"/>
              <a:ext cx="2222640" cy="106056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953320" y="3048120"/>
              <a:ext cx="2222640" cy="64152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468360" y="62064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Polarización inver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553080" y="1371600"/>
            <a:ext cx="30492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553080" y="1805040"/>
            <a:ext cx="304920" cy="368280"/>
          </a:xfrm>
          <a:prstGeom prst="rect">
            <a:avLst/>
          </a:prstGeom>
          <a:solidFill>
            <a:srgbClr val="99c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6705720" y="10663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705720" y="1066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277040" y="1066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6933960" y="2209680"/>
            <a:ext cx="152280" cy="533160"/>
            <a:chOff x="6933960" y="2209680"/>
            <a:chExt cx="152280" cy="533160"/>
          </a:xfrm>
        </p:grpSpPr>
        <p:sp>
          <p:nvSpPr>
            <p:cNvPr id="967" name=""/>
            <p:cNvSpPr/>
            <p:nvPr/>
          </p:nvSpPr>
          <p:spPr>
            <a:xfrm>
              <a:off x="7086240" y="2361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933960" y="220968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670572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08660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5859000" y="1066680"/>
            <a:ext cx="304920" cy="1054080"/>
            <a:chOff x="5859000" y="1066680"/>
            <a:chExt cx="304920" cy="1054080"/>
          </a:xfrm>
        </p:grpSpPr>
        <p:sp>
          <p:nvSpPr>
            <p:cNvPr id="972" name=""/>
            <p:cNvSpPr/>
            <p:nvPr/>
          </p:nvSpPr>
          <p:spPr>
            <a:xfrm>
              <a:off x="6021360" y="1066680"/>
              <a:ext cx="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rot="10800000">
              <a:off x="5884560" y="145836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5859000" y="176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300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3886200" y="3108240"/>
            <a:ext cx="1066680" cy="172872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0" y="0"/>
                </a:moveTo>
                <a:lnTo>
                  <a:pt x="672" y="0"/>
                </a:lnTo>
                <a:lnTo>
                  <a:pt x="672" y="1056"/>
                </a:lnTo>
                <a:lnTo>
                  <a:pt x="0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532480" y="3770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951200" y="3770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3755520" y="3784680"/>
            <a:ext cx="258840" cy="258840"/>
            <a:chOff x="3755520" y="3784680"/>
            <a:chExt cx="258840" cy="258840"/>
          </a:xfrm>
        </p:grpSpPr>
        <p:sp>
          <p:nvSpPr>
            <p:cNvPr id="979" name=""/>
            <p:cNvSpPr/>
            <p:nvPr/>
          </p:nvSpPr>
          <p:spPr>
            <a:xfrm rot="5400000">
              <a:off x="3755520" y="3784680"/>
              <a:ext cx="258840" cy="258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42" y="9971"/>
                  </a:lnTo>
                  <a:lnTo>
                    <a:pt x="0" y="199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3758400" y="4042800"/>
              <a:ext cx="2379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1295280" y="3108240"/>
            <a:ext cx="259092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057400" y="3008160"/>
            <a:ext cx="1143000" cy="1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416680" y="2627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2286000" y="4456080"/>
            <a:ext cx="76320" cy="762120"/>
            <a:chOff x="2286000" y="4456080"/>
            <a:chExt cx="76320" cy="762120"/>
          </a:xfrm>
        </p:grpSpPr>
        <p:sp>
          <p:nvSpPr>
            <p:cNvPr id="985" name=""/>
            <p:cNvSpPr/>
            <p:nvPr/>
          </p:nvSpPr>
          <p:spPr>
            <a:xfrm>
              <a:off x="2286000" y="4456080"/>
              <a:ext cx="76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286000" y="4456080"/>
              <a:ext cx="0" cy="762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362320" y="4608720"/>
              <a:ext cx="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 flipV="1">
            <a:off x="2027880" y="4540680"/>
            <a:ext cx="592560" cy="59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3 Curva característica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Ejes"/>
          <p:cNvSpPr/>
          <p:nvPr/>
        </p:nvSpPr>
        <p:spPr>
          <a:xfrm>
            <a:off x="7007400" y="3146400"/>
            <a:ext cx="1447560" cy="2065320"/>
          </a:xfrm>
          <a:custGeom>
            <a:avLst/>
            <a:gdLst/>
            <a:ahLst/>
            <a:rect l="l" t="t" r="r" b="b"/>
            <a:pathLst>
              <a:path w="1680" h="1440">
                <a:moveTo>
                  <a:pt x="0" y="0"/>
                </a:moveTo>
                <a:lnTo>
                  <a:pt x="0" y="1440"/>
                </a:lnTo>
                <a:lnTo>
                  <a:pt x="1680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X1"/>
          <p:cNvSpPr/>
          <p:nvPr/>
        </p:nvSpPr>
        <p:spPr>
          <a:xfrm flipV="1">
            <a:off x="725472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750240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775008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799776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824544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7007040" y="422928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5483160" y="5211000"/>
            <a:ext cx="1524240" cy="206280"/>
          </a:xfrm>
          <a:custGeom>
            <a:avLst/>
            <a:gdLst/>
            <a:ahLst/>
            <a:rect l="l" t="t" r="r" b="b"/>
            <a:pathLst>
              <a:path w="1680" h="1440">
                <a:moveTo>
                  <a:pt x="0" y="0"/>
                </a:moveTo>
                <a:lnTo>
                  <a:pt x="0" y="1440"/>
                </a:lnTo>
                <a:lnTo>
                  <a:pt x="1680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Y1"/>
          <p:cNvSpPr/>
          <p:nvPr/>
        </p:nvSpPr>
        <p:spPr>
          <a:xfrm>
            <a:off x="7007400" y="471816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7007040" y="374004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007040" y="325116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605040" y="5165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705000" y="3024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247240" y="5248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632560" y="3481560"/>
            <a:ext cx="2365200" cy="1736640"/>
          </a:xfrm>
          <a:custGeom>
            <a:avLst/>
            <a:gdLst/>
            <a:ahLst/>
            <a:rect l="l" t="t" r="r" b="b"/>
            <a:pathLst>
              <a:path w="1490" h="1094">
                <a:moveTo>
                  <a:pt x="0" y="1093"/>
                </a:moveTo>
                <a:lnTo>
                  <a:pt x="1123" y="1094"/>
                </a:lnTo>
                <a:lnTo>
                  <a:pt x="1154" y="1093"/>
                </a:lnTo>
                <a:lnTo>
                  <a:pt x="1179" y="1093"/>
                </a:lnTo>
                <a:lnTo>
                  <a:pt x="1194" y="1092"/>
                </a:lnTo>
                <a:lnTo>
                  <a:pt x="1200" y="1092"/>
                </a:lnTo>
                <a:lnTo>
                  <a:pt x="1205" y="1092"/>
                </a:lnTo>
                <a:lnTo>
                  <a:pt x="1210" y="1091"/>
                </a:lnTo>
                <a:lnTo>
                  <a:pt x="1215" y="1091"/>
                </a:lnTo>
                <a:lnTo>
                  <a:pt x="1220" y="1088"/>
                </a:lnTo>
                <a:lnTo>
                  <a:pt x="1225" y="1088"/>
                </a:lnTo>
                <a:lnTo>
                  <a:pt x="1231" y="1088"/>
                </a:lnTo>
                <a:lnTo>
                  <a:pt x="1235" y="1087"/>
                </a:lnTo>
                <a:lnTo>
                  <a:pt x="1240" y="1087"/>
                </a:lnTo>
                <a:lnTo>
                  <a:pt x="1246" y="1086"/>
                </a:lnTo>
                <a:lnTo>
                  <a:pt x="1251" y="1085"/>
                </a:lnTo>
                <a:lnTo>
                  <a:pt x="1256" y="1084"/>
                </a:lnTo>
                <a:lnTo>
                  <a:pt x="1261" y="1084"/>
                </a:lnTo>
                <a:lnTo>
                  <a:pt x="1266" y="1081"/>
                </a:lnTo>
                <a:lnTo>
                  <a:pt x="1271" y="1080"/>
                </a:lnTo>
                <a:lnTo>
                  <a:pt x="1276" y="1078"/>
                </a:lnTo>
                <a:lnTo>
                  <a:pt x="1281" y="1077"/>
                </a:lnTo>
                <a:lnTo>
                  <a:pt x="1287" y="1075"/>
                </a:lnTo>
                <a:lnTo>
                  <a:pt x="1292" y="1072"/>
                </a:lnTo>
                <a:lnTo>
                  <a:pt x="1296" y="1071"/>
                </a:lnTo>
                <a:lnTo>
                  <a:pt x="1302" y="1068"/>
                </a:lnTo>
                <a:lnTo>
                  <a:pt x="1307" y="1065"/>
                </a:lnTo>
                <a:lnTo>
                  <a:pt x="1312" y="1061"/>
                </a:lnTo>
                <a:lnTo>
                  <a:pt x="1317" y="1059"/>
                </a:lnTo>
                <a:lnTo>
                  <a:pt x="1322" y="1054"/>
                </a:lnTo>
                <a:lnTo>
                  <a:pt x="1327" y="1051"/>
                </a:lnTo>
                <a:lnTo>
                  <a:pt x="1333" y="1045"/>
                </a:lnTo>
                <a:lnTo>
                  <a:pt x="1338" y="1040"/>
                </a:lnTo>
                <a:lnTo>
                  <a:pt x="1342" y="1034"/>
                </a:lnTo>
                <a:lnTo>
                  <a:pt x="1348" y="1029"/>
                </a:lnTo>
                <a:lnTo>
                  <a:pt x="1353" y="1022"/>
                </a:lnTo>
                <a:lnTo>
                  <a:pt x="1358" y="1013"/>
                </a:lnTo>
                <a:lnTo>
                  <a:pt x="1362" y="1005"/>
                </a:lnTo>
                <a:lnTo>
                  <a:pt x="1368" y="996"/>
                </a:lnTo>
                <a:lnTo>
                  <a:pt x="1373" y="984"/>
                </a:lnTo>
                <a:lnTo>
                  <a:pt x="1378" y="974"/>
                </a:lnTo>
                <a:lnTo>
                  <a:pt x="1384" y="961"/>
                </a:lnTo>
                <a:lnTo>
                  <a:pt x="1388" y="947"/>
                </a:lnTo>
                <a:lnTo>
                  <a:pt x="1393" y="932"/>
                </a:lnTo>
                <a:lnTo>
                  <a:pt x="1399" y="914"/>
                </a:lnTo>
                <a:lnTo>
                  <a:pt x="1404" y="894"/>
                </a:lnTo>
                <a:lnTo>
                  <a:pt x="1408" y="874"/>
                </a:lnTo>
                <a:lnTo>
                  <a:pt x="1414" y="851"/>
                </a:lnTo>
                <a:lnTo>
                  <a:pt x="1419" y="825"/>
                </a:lnTo>
                <a:lnTo>
                  <a:pt x="1424" y="796"/>
                </a:lnTo>
                <a:lnTo>
                  <a:pt x="1429" y="764"/>
                </a:lnTo>
                <a:lnTo>
                  <a:pt x="1434" y="730"/>
                </a:lnTo>
                <a:lnTo>
                  <a:pt x="1439" y="692"/>
                </a:lnTo>
                <a:lnTo>
                  <a:pt x="1444" y="650"/>
                </a:lnTo>
                <a:lnTo>
                  <a:pt x="1450" y="603"/>
                </a:lnTo>
                <a:lnTo>
                  <a:pt x="1455" y="551"/>
                </a:lnTo>
                <a:lnTo>
                  <a:pt x="1460" y="494"/>
                </a:lnTo>
                <a:lnTo>
                  <a:pt x="1465" y="431"/>
                </a:lnTo>
                <a:lnTo>
                  <a:pt x="1470" y="362"/>
                </a:lnTo>
                <a:lnTo>
                  <a:pt x="1475" y="284"/>
                </a:lnTo>
                <a:lnTo>
                  <a:pt x="1480" y="198"/>
                </a:lnTo>
                <a:lnTo>
                  <a:pt x="1485" y="105"/>
                </a:lnTo>
                <a:lnTo>
                  <a:pt x="149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unto"/>
          <p:cNvSpPr/>
          <p:nvPr/>
        </p:nvSpPr>
        <p:spPr>
          <a:xfrm>
            <a:off x="7653240" y="515628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3.Curva caracter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315200" y="2895480"/>
                <a:ext cx="10796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8" name=""/>
          <p:cNvSpPr/>
          <p:nvPr/>
        </p:nvSpPr>
        <p:spPr>
          <a:xfrm>
            <a:off x="533520" y="5418000"/>
            <a:ext cx="33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300 K) = 25.85 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40360" y="5867280"/>
            <a:ext cx="52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k (Constante de Boltzmann) = 1.38·10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J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010280" y="1219320"/>
                <a:ext cx="1892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11" name=""/>
          <p:cNvGraphicFramePr/>
          <p:nvPr/>
        </p:nvGraphicFramePr>
        <p:xfrm>
          <a:off x="533520" y="800280"/>
          <a:ext cx="5916600" cy="422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00280"/>
                    <a:ext cx="5916600" cy="4221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013" name=""/>
          <p:cNvSpPr/>
          <p:nvPr/>
        </p:nvSpPr>
        <p:spPr>
          <a:xfrm>
            <a:off x="4418640" y="5384880"/>
            <a:ext cx="401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rriente inversa de sat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3.Curva característica. Influencia de la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339640" y="1052280"/>
            <a:ext cx="3822840" cy="6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ƒ(n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 = ƒ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5916600" cy="4221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49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1.4.El diodo como rectific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09480" y="1828800"/>
            <a:ext cx="0" cy="13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2508120"/>
            <a:ext cx="2587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083040" y="2638440"/>
            <a:ext cx="14292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31640" y="1851120"/>
            <a:ext cx="2001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156280" y="1519200"/>
            <a:ext cx="0" cy="17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962520" y="2438280"/>
            <a:ext cx="1557360" cy="7812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84"/>
                </a:lnTo>
                <a:lnTo>
                  <a:pt x="19992" y="199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962520" y="1519200"/>
            <a:ext cx="1519200" cy="7034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92" y="0"/>
                </a:moveTo>
                <a:lnTo>
                  <a:pt x="0" y="0"/>
                </a:lnTo>
                <a:lnTo>
                  <a:pt x="0" y="1998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672000" y="2076480"/>
            <a:ext cx="2174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0000"/>
                </a:solidFill>
                <a:latin typeface="Arial"/>
              </a:rPr>
              <a:t>~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067360" y="2076480"/>
            <a:ext cx="181080" cy="65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337000" y="2257560"/>
            <a:ext cx="7588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4505400" y="1409760"/>
            <a:ext cx="217440" cy="217440"/>
            <a:chOff x="4505400" y="1409760"/>
            <a:chExt cx="217440" cy="217440"/>
          </a:xfrm>
        </p:grpSpPr>
        <p:sp>
          <p:nvSpPr>
            <p:cNvPr id="1029" name=""/>
            <p:cNvSpPr/>
            <p:nvPr/>
          </p:nvSpPr>
          <p:spPr>
            <a:xfrm>
              <a:off x="4505400" y="1409760"/>
              <a:ext cx="217440" cy="217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42" y="9971"/>
                  </a:lnTo>
                  <a:lnTo>
                    <a:pt x="0" y="199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722480" y="1424880"/>
              <a:ext cx="36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9001080" y="2548080"/>
            <a:ext cx="14292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404040" y="1776240"/>
            <a:ext cx="0" cy="1360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404040" y="2440080"/>
            <a:ext cx="2639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224760" y="1760400"/>
            <a:ext cx="252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952880" y="4078440"/>
            <a:ext cx="0" cy="173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952880" y="5810400"/>
            <a:ext cx="379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8694720" y="5819760"/>
            <a:ext cx="1825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707000" y="4106880"/>
            <a:ext cx="2570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320760" y="3619440"/>
            <a:ext cx="4174920" cy="2529000"/>
            <a:chOff x="320760" y="3619440"/>
            <a:chExt cx="4174920" cy="2529000"/>
          </a:xfrm>
        </p:grpSpPr>
        <p:sp>
          <p:nvSpPr>
            <p:cNvPr id="1040" name=""/>
            <p:cNvSpPr/>
            <p:nvPr/>
          </p:nvSpPr>
          <p:spPr>
            <a:xfrm>
              <a:off x="3432240" y="3633840"/>
              <a:ext cx="0" cy="20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52560" y="3624120"/>
              <a:ext cx="2023920" cy="202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0000"/>
                  </a:moveTo>
                  <a:lnTo>
                    <a:pt x="10000" y="0"/>
                  </a:lnTo>
                  <a:lnTo>
                    <a:pt x="19994" y="10000"/>
                  </a:lnTo>
                  <a:lnTo>
                    <a:pt x="10000" y="19994"/>
                  </a:lnTo>
                  <a:lnTo>
                    <a:pt x="0" y="10000"/>
                  </a:lnTo>
                  <a:close/>
                </a:path>
              </a:pathLst>
            </a:custGeom>
            <a:noFill/>
            <a:ln w="936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38120" y="4008600"/>
              <a:ext cx="2397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512" y="19947"/>
                  </a:moveTo>
                  <a:lnTo>
                    <a:pt x="19947" y="0"/>
                  </a:lnTo>
                  <a:lnTo>
                    <a:pt x="0" y="5348"/>
                  </a:lnTo>
                  <a:lnTo>
                    <a:pt x="14512" y="199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523880" y="3954600"/>
              <a:ext cx="109800" cy="109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884" y="19884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368440" y="4021200"/>
              <a:ext cx="238320" cy="241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7" y="5474"/>
                  </a:moveTo>
                  <a:lnTo>
                    <a:pt x="0" y="0"/>
                  </a:lnTo>
                  <a:lnTo>
                    <a:pt x="5440" y="19947"/>
                  </a:lnTo>
                  <a:lnTo>
                    <a:pt x="19947" y="54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314440" y="3965400"/>
              <a:ext cx="111240" cy="111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884"/>
                  </a:moveTo>
                  <a:lnTo>
                    <a:pt x="19885" y="0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413000" y="5087880"/>
              <a:ext cx="237960" cy="241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7" y="5526"/>
                  </a:moveTo>
                  <a:lnTo>
                    <a:pt x="0" y="0"/>
                  </a:lnTo>
                  <a:lnTo>
                    <a:pt x="5455" y="19947"/>
                  </a:lnTo>
                  <a:lnTo>
                    <a:pt x="19947" y="55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357200" y="5032440"/>
              <a:ext cx="109800" cy="111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884"/>
                  </a:moveTo>
                  <a:lnTo>
                    <a:pt x="19885" y="0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309760" y="5062680"/>
              <a:ext cx="24120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512" y="19947"/>
                  </a:moveTo>
                  <a:lnTo>
                    <a:pt x="19947" y="0"/>
                  </a:lnTo>
                  <a:lnTo>
                    <a:pt x="0" y="5348"/>
                  </a:lnTo>
                  <a:lnTo>
                    <a:pt x="14512" y="199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495520" y="5008680"/>
              <a:ext cx="109440" cy="109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884" y="19884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971720" y="3619440"/>
              <a:ext cx="17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971720" y="5653080"/>
              <a:ext cx="17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09480" y="5257800"/>
              <a:ext cx="2381400" cy="890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6"/>
                  </a:lnTo>
                  <a:lnTo>
                    <a:pt x="19995" y="19986"/>
                  </a:lnTo>
                  <a:lnTo>
                    <a:pt x="19995" y="104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84400" y="4638600"/>
              <a:ext cx="0" cy="9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2919600" y="5576040"/>
              <a:ext cx="14544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028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02889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03360" y="4638600"/>
              <a:ext cx="342720" cy="366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3" y="0"/>
                  </a:moveTo>
                  <a:lnTo>
                    <a:pt x="0" y="0"/>
                  </a:lnTo>
                  <a:lnTo>
                    <a:pt x="0" y="199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0760" y="4935600"/>
              <a:ext cx="2174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0000"/>
                  </a:solidFill>
                  <a:latin typeface="Arial"/>
                </a:rPr>
                <a:t>~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343320" y="4195800"/>
              <a:ext cx="181080" cy="777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649680" y="4465800"/>
              <a:ext cx="8460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al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1533600" y="3619440"/>
              <a:ext cx="433440" cy="2028600"/>
              <a:chOff x="1533600" y="3619440"/>
              <a:chExt cx="433440" cy="2028600"/>
            </a:xfrm>
          </p:grpSpPr>
          <p:sp>
            <p:nvSpPr>
              <p:cNvPr id="1060" name=""/>
              <p:cNvSpPr/>
              <p:nvPr/>
            </p:nvSpPr>
            <p:spPr>
              <a:xfrm>
                <a:off x="1533600" y="4591080"/>
                <a:ext cx="30456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533600" y="4686480"/>
                <a:ext cx="30456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685880" y="36194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1685880" y="46760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1976040" y="3619440"/>
              <a:ext cx="430200" cy="2028600"/>
              <a:chOff x="1976040" y="3619440"/>
              <a:chExt cx="430200" cy="2028600"/>
            </a:xfrm>
          </p:grpSpPr>
          <p:sp>
            <p:nvSpPr>
              <p:cNvPr id="1065" name=""/>
              <p:cNvSpPr/>
              <p:nvPr/>
            </p:nvSpPr>
            <p:spPr>
              <a:xfrm flipH="1">
                <a:off x="2101320" y="4591080"/>
                <a:ext cx="30492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2101320" y="4686480"/>
                <a:ext cx="30492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1975680" y="36194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 flipV="1">
                <a:off x="1975680" y="46760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9" name=""/>
          <p:cNvGrpSpPr/>
          <p:nvPr/>
        </p:nvGrpSpPr>
        <p:grpSpPr>
          <a:xfrm>
            <a:off x="4959360" y="4044960"/>
            <a:ext cx="3600360" cy="1776240"/>
            <a:chOff x="4959360" y="4044960"/>
            <a:chExt cx="3600360" cy="1776240"/>
          </a:xfrm>
        </p:grpSpPr>
        <p:sp>
          <p:nvSpPr>
            <p:cNvPr id="1070" name=""/>
            <p:cNvSpPr/>
            <p:nvPr/>
          </p:nvSpPr>
          <p:spPr>
            <a:xfrm>
              <a:off x="4959360" y="4044960"/>
              <a:ext cx="1200240" cy="177624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164280" y="4044960"/>
              <a:ext cx="1200240" cy="177624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359840" y="4044960"/>
              <a:ext cx="1199880" cy="177624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4959360" y="4044960"/>
            <a:ext cx="3600360" cy="785880"/>
            <a:chOff x="4959360" y="4044960"/>
            <a:chExt cx="3600360" cy="785880"/>
          </a:xfrm>
        </p:grpSpPr>
        <p:sp>
          <p:nvSpPr>
            <p:cNvPr id="1074" name=""/>
            <p:cNvSpPr/>
            <p:nvPr/>
          </p:nvSpPr>
          <p:spPr>
            <a:xfrm>
              <a:off x="4959360" y="4044960"/>
              <a:ext cx="1200240" cy="78588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164280" y="4044960"/>
              <a:ext cx="1200240" cy="78588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359840" y="4044960"/>
              <a:ext cx="1199880" cy="78588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4959360" y="4044960"/>
            <a:ext cx="3600360" cy="252360"/>
            <a:chOff x="4959360" y="4044960"/>
            <a:chExt cx="3600360" cy="252360"/>
          </a:xfrm>
        </p:grpSpPr>
        <p:sp>
          <p:nvSpPr>
            <p:cNvPr id="1078" name=""/>
            <p:cNvSpPr/>
            <p:nvPr/>
          </p:nvSpPr>
          <p:spPr>
            <a:xfrm>
              <a:off x="4959360" y="4044960"/>
              <a:ext cx="1200240" cy="25236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164280" y="4044960"/>
              <a:ext cx="1200240" cy="25236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359840" y="4044960"/>
              <a:ext cx="1199880" cy="25236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410160" y="1744560"/>
            <a:ext cx="2451240" cy="700200"/>
            <a:chOff x="6410160" y="1744560"/>
            <a:chExt cx="2451240" cy="700200"/>
          </a:xfrm>
        </p:grpSpPr>
        <p:sp>
          <p:nvSpPr>
            <p:cNvPr id="1082" name=""/>
            <p:cNvSpPr/>
            <p:nvPr/>
          </p:nvSpPr>
          <p:spPr>
            <a:xfrm>
              <a:off x="6410160" y="1744560"/>
              <a:ext cx="819000" cy="700200"/>
            </a:xfrm>
            <a:custGeom>
              <a:avLst/>
              <a:gdLst/>
              <a:ahLst/>
              <a:rect l="l" t="t" r="r" b="b"/>
              <a:pathLst>
                <a:path w="516" h="441">
                  <a:moveTo>
                    <a:pt x="0" y="437"/>
                  </a:moveTo>
                  <a:cubicBezTo>
                    <a:pt x="64" y="241"/>
                    <a:pt x="170" y="0"/>
                    <a:pt x="256" y="1"/>
                  </a:cubicBezTo>
                  <a:cubicBezTo>
                    <a:pt x="342" y="2"/>
                    <a:pt x="440" y="241"/>
                    <a:pt x="516" y="44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042040" y="1744560"/>
              <a:ext cx="819360" cy="700200"/>
            </a:xfrm>
            <a:custGeom>
              <a:avLst/>
              <a:gdLst/>
              <a:ahLst/>
              <a:rect l="l" t="t" r="r" b="b"/>
              <a:pathLst>
                <a:path w="516" h="441">
                  <a:moveTo>
                    <a:pt x="0" y="437"/>
                  </a:moveTo>
                  <a:cubicBezTo>
                    <a:pt x="64" y="241"/>
                    <a:pt x="170" y="0"/>
                    <a:pt x="256" y="1"/>
                  </a:cubicBezTo>
                  <a:cubicBezTo>
                    <a:pt x="342" y="2"/>
                    <a:pt x="440" y="241"/>
                    <a:pt x="516" y="44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223040" y="2438280"/>
              <a:ext cx="828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609480" y="1822320"/>
            <a:ext cx="2438640" cy="1373400"/>
          </a:xfrm>
          <a:custGeom>
            <a:avLst/>
            <a:gdLst/>
            <a:ahLst/>
            <a:rect l="l" t="t" r="r" b="b"/>
            <a:pathLst>
              <a:path w="1536" h="865">
                <a:moveTo>
                  <a:pt x="0" y="436"/>
                </a:moveTo>
                <a:cubicBezTo>
                  <a:pt x="102" y="166"/>
                  <a:pt x="174" y="0"/>
                  <a:pt x="260" y="0"/>
                </a:cubicBezTo>
                <a:cubicBezTo>
                  <a:pt x="346" y="0"/>
                  <a:pt x="436" y="240"/>
                  <a:pt x="516" y="436"/>
                </a:cubicBezTo>
                <a:cubicBezTo>
                  <a:pt x="596" y="632"/>
                  <a:pt x="675" y="865"/>
                  <a:pt x="771" y="865"/>
                </a:cubicBezTo>
                <a:cubicBezTo>
                  <a:pt x="867" y="865"/>
                  <a:pt x="932" y="654"/>
                  <a:pt x="1024" y="428"/>
                </a:cubicBezTo>
                <a:cubicBezTo>
                  <a:pt x="1116" y="202"/>
                  <a:pt x="1184" y="1"/>
                  <a:pt x="1269" y="1"/>
                </a:cubicBezTo>
                <a:cubicBezTo>
                  <a:pt x="1354" y="1"/>
                  <a:pt x="1440" y="163"/>
                  <a:pt x="1536" y="4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2:14:56Z</dcterms:created>
  <dc:creator>Biki1</dc:creator>
  <dc:description/>
  <dc:language>en-US</dc:language>
  <cp:lastModifiedBy>Biki1</cp:lastModifiedBy>
  <dcterms:modified xsi:type="dcterms:W3CDTF">2005-08-02T13:28:49Z</dcterms:modified>
  <cp:revision>6</cp:revision>
  <dc:subject/>
  <dc:title>Diapositiva 1</dc:title>
</cp:coreProperties>
</file>