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6CB4-B25D-437B-BFCF-BADEF6062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AB05-4F71-454F-A520-1FF7DFAE7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9564-D866-4BC3-A8A9-87D94694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B6AE-BD5C-4EA6-93A1-30442ECEC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FFF-5809-4276-A1EF-35E28BD12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105F-D6DA-43A2-A489-0F9A4C789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358C-67CC-4D19-95FD-F87EA1AE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D4D3-6C27-4430-A6D0-E5D427AF2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488D-DD1C-42F9-9232-B30E3AB6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3EEE-0908-4549-AA20-2E7619979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100-D2E7-4C88-8174-A233FEC7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0931-B415-4DC7-9A4D-9C9A9427B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D0684-87EC-4538-9DAF-6E7E8E08F1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33880" y="990720"/>
            <a:ext cx="36180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Gill Sans MT Shadow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79360" y="990720"/>
            <a:ext cx="3603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0000"/>
                </a:solidFill>
                <a:latin typeface="Gill Sans MT Shadow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304920" y="1447920"/>
            <a:ext cx="4828680" cy="1623960"/>
            <a:chOff x="304920" y="1447920"/>
            <a:chExt cx="4828680" cy="1623960"/>
          </a:xfrm>
        </p:grpSpPr>
        <p:sp>
          <p:nvSpPr>
            <p:cNvPr id="45" name=""/>
            <p:cNvSpPr/>
            <p:nvPr/>
          </p:nvSpPr>
          <p:spPr>
            <a:xfrm>
              <a:off x="304920" y="144792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20880" y="144792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484200" y="1629000"/>
              <a:ext cx="253440" cy="222120"/>
              <a:chOff x="484200" y="1629000"/>
              <a:chExt cx="253440" cy="222120"/>
            </a:xfrm>
          </p:grpSpPr>
          <p:sp>
            <p:nvSpPr>
              <p:cNvPr id="48" name=""/>
              <p:cNvSpPr/>
              <p:nvPr/>
            </p:nvSpPr>
            <p:spPr>
              <a:xfrm>
                <a:off x="48420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789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" name=""/>
            <p:cNvGrpSpPr/>
            <p:nvPr/>
          </p:nvGrpSpPr>
          <p:grpSpPr>
            <a:xfrm>
              <a:off x="846000" y="1629000"/>
              <a:ext cx="253800" cy="222120"/>
              <a:chOff x="846000" y="1629000"/>
              <a:chExt cx="253800" cy="222120"/>
            </a:xfrm>
          </p:grpSpPr>
          <p:sp>
            <p:nvSpPr>
              <p:cNvPr id="51" name=""/>
              <p:cNvSpPr/>
              <p:nvPr/>
            </p:nvSpPr>
            <p:spPr>
              <a:xfrm>
                <a:off x="84600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4112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1206360" y="1629000"/>
              <a:ext cx="253800" cy="222120"/>
              <a:chOff x="1206360" y="1629000"/>
              <a:chExt cx="253800" cy="222120"/>
            </a:xfrm>
          </p:grpSpPr>
          <p:sp>
            <p:nvSpPr>
              <p:cNvPr id="54" name=""/>
              <p:cNvSpPr/>
              <p:nvPr/>
            </p:nvSpPr>
            <p:spPr>
              <a:xfrm>
                <a:off x="12063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40148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1566720" y="1629000"/>
              <a:ext cx="255240" cy="222120"/>
              <a:chOff x="1566720" y="1629000"/>
              <a:chExt cx="255240" cy="222120"/>
            </a:xfrm>
          </p:grpSpPr>
          <p:sp>
            <p:nvSpPr>
              <p:cNvPr id="57" name=""/>
              <p:cNvSpPr/>
              <p:nvPr/>
            </p:nvSpPr>
            <p:spPr>
              <a:xfrm>
                <a:off x="156672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76292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1927080" y="1629000"/>
              <a:ext cx="255240" cy="222120"/>
              <a:chOff x="1927080" y="1629000"/>
              <a:chExt cx="255240" cy="222120"/>
            </a:xfrm>
          </p:grpSpPr>
          <p:sp>
            <p:nvSpPr>
              <p:cNvPr id="60" name=""/>
              <p:cNvSpPr/>
              <p:nvPr/>
            </p:nvSpPr>
            <p:spPr>
              <a:xfrm>
                <a:off x="192708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2123280" y="1629000"/>
                <a:ext cx="5904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2287440" y="1629000"/>
              <a:ext cx="253800" cy="222120"/>
              <a:chOff x="2287440" y="1629000"/>
              <a:chExt cx="253800" cy="222120"/>
            </a:xfrm>
          </p:grpSpPr>
          <p:sp>
            <p:nvSpPr>
              <p:cNvPr id="63" name=""/>
              <p:cNvSpPr/>
              <p:nvPr/>
            </p:nvSpPr>
            <p:spPr>
              <a:xfrm>
                <a:off x="228744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2482560" y="1629000"/>
                <a:ext cx="58680" cy="5904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484200" y="2170440"/>
              <a:ext cx="253440" cy="220680"/>
              <a:chOff x="484200" y="2170440"/>
              <a:chExt cx="253440" cy="220680"/>
            </a:xfrm>
          </p:grpSpPr>
          <p:sp>
            <p:nvSpPr>
              <p:cNvPr id="66" name=""/>
              <p:cNvSpPr/>
              <p:nvPr/>
            </p:nvSpPr>
            <p:spPr>
              <a:xfrm>
                <a:off x="48420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789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" name=""/>
            <p:cNvGrpSpPr/>
            <p:nvPr/>
          </p:nvGrpSpPr>
          <p:grpSpPr>
            <a:xfrm>
              <a:off x="846000" y="2170440"/>
              <a:ext cx="253800" cy="220680"/>
              <a:chOff x="846000" y="2170440"/>
              <a:chExt cx="253800" cy="220680"/>
            </a:xfrm>
          </p:grpSpPr>
          <p:sp>
            <p:nvSpPr>
              <p:cNvPr id="69" name=""/>
              <p:cNvSpPr/>
              <p:nvPr/>
            </p:nvSpPr>
            <p:spPr>
              <a:xfrm>
                <a:off x="84600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104112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" name=""/>
            <p:cNvGrpSpPr/>
            <p:nvPr/>
          </p:nvGrpSpPr>
          <p:grpSpPr>
            <a:xfrm>
              <a:off x="1206360" y="2170440"/>
              <a:ext cx="253800" cy="220680"/>
              <a:chOff x="1206360" y="2170440"/>
              <a:chExt cx="253800" cy="220680"/>
            </a:xfrm>
          </p:grpSpPr>
          <p:sp>
            <p:nvSpPr>
              <p:cNvPr id="72" name=""/>
              <p:cNvSpPr/>
              <p:nvPr/>
            </p:nvSpPr>
            <p:spPr>
              <a:xfrm>
                <a:off x="12063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140148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"/>
            <p:cNvGrpSpPr/>
            <p:nvPr/>
          </p:nvGrpSpPr>
          <p:grpSpPr>
            <a:xfrm>
              <a:off x="1566720" y="2170440"/>
              <a:ext cx="255240" cy="220680"/>
              <a:chOff x="1566720" y="2170440"/>
              <a:chExt cx="255240" cy="220680"/>
            </a:xfrm>
          </p:grpSpPr>
          <p:sp>
            <p:nvSpPr>
              <p:cNvPr id="75" name=""/>
              <p:cNvSpPr/>
              <p:nvPr/>
            </p:nvSpPr>
            <p:spPr>
              <a:xfrm>
                <a:off x="156672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176292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" name=""/>
            <p:cNvGrpSpPr/>
            <p:nvPr/>
          </p:nvGrpSpPr>
          <p:grpSpPr>
            <a:xfrm>
              <a:off x="1927080" y="2170440"/>
              <a:ext cx="255240" cy="220680"/>
              <a:chOff x="1927080" y="2170440"/>
              <a:chExt cx="255240" cy="220680"/>
            </a:xfrm>
          </p:grpSpPr>
          <p:sp>
            <p:nvSpPr>
              <p:cNvPr id="78" name=""/>
              <p:cNvSpPr/>
              <p:nvPr/>
            </p:nvSpPr>
            <p:spPr>
              <a:xfrm>
                <a:off x="192708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2123280" y="217044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2287440" y="2170440"/>
              <a:ext cx="253800" cy="220680"/>
              <a:chOff x="2287440" y="2170440"/>
              <a:chExt cx="253800" cy="220680"/>
            </a:xfrm>
          </p:grpSpPr>
          <p:sp>
            <p:nvSpPr>
              <p:cNvPr id="81" name=""/>
              <p:cNvSpPr/>
              <p:nvPr/>
            </p:nvSpPr>
            <p:spPr>
              <a:xfrm>
                <a:off x="228744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482560" y="217044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484200" y="2710080"/>
              <a:ext cx="253440" cy="220680"/>
              <a:chOff x="484200" y="2710080"/>
              <a:chExt cx="253440" cy="220680"/>
            </a:xfrm>
          </p:grpSpPr>
          <p:sp>
            <p:nvSpPr>
              <p:cNvPr id="84" name=""/>
              <p:cNvSpPr/>
              <p:nvPr/>
            </p:nvSpPr>
            <p:spPr>
              <a:xfrm>
                <a:off x="48420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6789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6" name=""/>
            <p:cNvGrpSpPr/>
            <p:nvPr/>
          </p:nvGrpSpPr>
          <p:grpSpPr>
            <a:xfrm>
              <a:off x="846000" y="2710080"/>
              <a:ext cx="253800" cy="220680"/>
              <a:chOff x="846000" y="2710080"/>
              <a:chExt cx="253800" cy="220680"/>
            </a:xfrm>
          </p:grpSpPr>
          <p:sp>
            <p:nvSpPr>
              <p:cNvPr id="87" name=""/>
              <p:cNvSpPr/>
              <p:nvPr/>
            </p:nvSpPr>
            <p:spPr>
              <a:xfrm>
                <a:off x="84600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104112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" name=""/>
            <p:cNvGrpSpPr/>
            <p:nvPr/>
          </p:nvGrpSpPr>
          <p:grpSpPr>
            <a:xfrm>
              <a:off x="1206360" y="2710080"/>
              <a:ext cx="253800" cy="220680"/>
              <a:chOff x="1206360" y="2710080"/>
              <a:chExt cx="253800" cy="220680"/>
            </a:xfrm>
          </p:grpSpPr>
          <p:sp>
            <p:nvSpPr>
              <p:cNvPr id="90" name=""/>
              <p:cNvSpPr/>
              <p:nvPr/>
            </p:nvSpPr>
            <p:spPr>
              <a:xfrm>
                <a:off x="12063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40148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"/>
            <p:cNvGrpSpPr/>
            <p:nvPr/>
          </p:nvGrpSpPr>
          <p:grpSpPr>
            <a:xfrm>
              <a:off x="1566720" y="2710080"/>
              <a:ext cx="255240" cy="220680"/>
              <a:chOff x="1566720" y="2710080"/>
              <a:chExt cx="255240" cy="220680"/>
            </a:xfrm>
          </p:grpSpPr>
          <p:sp>
            <p:nvSpPr>
              <p:cNvPr id="93" name=""/>
              <p:cNvSpPr/>
              <p:nvPr/>
            </p:nvSpPr>
            <p:spPr>
              <a:xfrm>
                <a:off x="156672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76292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1927080" y="2710080"/>
              <a:ext cx="255240" cy="220680"/>
              <a:chOff x="1927080" y="2710080"/>
              <a:chExt cx="255240" cy="220680"/>
            </a:xfrm>
          </p:grpSpPr>
          <p:sp>
            <p:nvSpPr>
              <p:cNvPr id="96" name=""/>
              <p:cNvSpPr/>
              <p:nvPr/>
            </p:nvSpPr>
            <p:spPr>
              <a:xfrm>
                <a:off x="192708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123280" y="2710080"/>
                <a:ext cx="5904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2287440" y="2710080"/>
              <a:ext cx="253800" cy="220680"/>
              <a:chOff x="2287440" y="2710080"/>
              <a:chExt cx="253800" cy="220680"/>
            </a:xfrm>
          </p:grpSpPr>
          <p:sp>
            <p:nvSpPr>
              <p:cNvPr id="99" name=""/>
              <p:cNvSpPr/>
              <p:nvPr/>
            </p:nvSpPr>
            <p:spPr>
              <a:xfrm>
                <a:off x="228744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2482560" y="2710080"/>
                <a:ext cx="58680" cy="58680"/>
              </a:xfrm>
              <a:prstGeom prst="ellipse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2900160" y="1629000"/>
              <a:ext cx="253800" cy="222120"/>
              <a:chOff x="2900160" y="1629000"/>
              <a:chExt cx="253800" cy="222120"/>
            </a:xfrm>
          </p:grpSpPr>
          <p:sp>
            <p:nvSpPr>
              <p:cNvPr id="102" name=""/>
              <p:cNvSpPr/>
              <p:nvPr/>
            </p:nvSpPr>
            <p:spPr>
              <a:xfrm>
                <a:off x="2900160" y="1629000"/>
                <a:ext cx="22176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952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3262320" y="1629000"/>
              <a:ext cx="253440" cy="222120"/>
              <a:chOff x="3262320" y="1629000"/>
              <a:chExt cx="253440" cy="222120"/>
            </a:xfrm>
          </p:grpSpPr>
          <p:sp>
            <p:nvSpPr>
              <p:cNvPr id="105" name=""/>
              <p:cNvSpPr/>
              <p:nvPr/>
            </p:nvSpPr>
            <p:spPr>
              <a:xfrm>
                <a:off x="326232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45708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3622680" y="1629000"/>
              <a:ext cx="253440" cy="222120"/>
              <a:chOff x="3622680" y="1629000"/>
              <a:chExt cx="253440" cy="222120"/>
            </a:xfrm>
          </p:grpSpPr>
          <p:sp>
            <p:nvSpPr>
              <p:cNvPr id="108" name=""/>
              <p:cNvSpPr/>
              <p:nvPr/>
            </p:nvSpPr>
            <p:spPr>
              <a:xfrm>
                <a:off x="362268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81744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3983040" y="1629000"/>
              <a:ext cx="255240" cy="222120"/>
              <a:chOff x="3983040" y="1629000"/>
              <a:chExt cx="255240" cy="222120"/>
            </a:xfrm>
          </p:grpSpPr>
          <p:sp>
            <p:nvSpPr>
              <p:cNvPr id="111" name=""/>
              <p:cNvSpPr/>
              <p:nvPr/>
            </p:nvSpPr>
            <p:spPr>
              <a:xfrm>
                <a:off x="398304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17924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4343400" y="1629000"/>
              <a:ext cx="255240" cy="222120"/>
              <a:chOff x="4343400" y="1629000"/>
              <a:chExt cx="255240" cy="222120"/>
            </a:xfrm>
          </p:grpSpPr>
          <p:sp>
            <p:nvSpPr>
              <p:cNvPr id="114" name=""/>
              <p:cNvSpPr/>
              <p:nvPr/>
            </p:nvSpPr>
            <p:spPr>
              <a:xfrm>
                <a:off x="4343400" y="1629000"/>
                <a:ext cx="2228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539600" y="1629000"/>
                <a:ext cx="5904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703760" y="1629000"/>
              <a:ext cx="253440" cy="222120"/>
              <a:chOff x="4703760" y="1629000"/>
              <a:chExt cx="253440" cy="222120"/>
            </a:xfrm>
          </p:grpSpPr>
          <p:sp>
            <p:nvSpPr>
              <p:cNvPr id="117" name=""/>
              <p:cNvSpPr/>
              <p:nvPr/>
            </p:nvSpPr>
            <p:spPr>
              <a:xfrm>
                <a:off x="4703760" y="1629000"/>
                <a:ext cx="22140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898520" y="1629000"/>
                <a:ext cx="58680" cy="5904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" name=""/>
            <p:cNvGrpSpPr/>
            <p:nvPr/>
          </p:nvGrpSpPr>
          <p:grpSpPr>
            <a:xfrm>
              <a:off x="2900160" y="2170440"/>
              <a:ext cx="253800" cy="220680"/>
              <a:chOff x="2900160" y="2170440"/>
              <a:chExt cx="253800" cy="220680"/>
            </a:xfrm>
          </p:grpSpPr>
          <p:sp>
            <p:nvSpPr>
              <p:cNvPr id="120" name=""/>
              <p:cNvSpPr/>
              <p:nvPr/>
            </p:nvSpPr>
            <p:spPr>
              <a:xfrm>
                <a:off x="2900160" y="217044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30952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3262320" y="2170440"/>
              <a:ext cx="253440" cy="220680"/>
              <a:chOff x="3262320" y="2170440"/>
              <a:chExt cx="253440" cy="220680"/>
            </a:xfrm>
          </p:grpSpPr>
          <p:sp>
            <p:nvSpPr>
              <p:cNvPr id="123" name=""/>
              <p:cNvSpPr/>
              <p:nvPr/>
            </p:nvSpPr>
            <p:spPr>
              <a:xfrm>
                <a:off x="326232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45708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22680" y="2170440"/>
              <a:ext cx="253440" cy="220680"/>
              <a:chOff x="3622680" y="2170440"/>
              <a:chExt cx="253440" cy="220680"/>
            </a:xfrm>
          </p:grpSpPr>
          <p:sp>
            <p:nvSpPr>
              <p:cNvPr id="126" name=""/>
              <p:cNvSpPr/>
              <p:nvPr/>
            </p:nvSpPr>
            <p:spPr>
              <a:xfrm>
                <a:off x="362268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81744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3983040" y="2170440"/>
              <a:ext cx="255240" cy="220680"/>
              <a:chOff x="3983040" y="2170440"/>
              <a:chExt cx="255240" cy="220680"/>
            </a:xfrm>
          </p:grpSpPr>
          <p:sp>
            <p:nvSpPr>
              <p:cNvPr id="129" name=""/>
              <p:cNvSpPr/>
              <p:nvPr/>
            </p:nvSpPr>
            <p:spPr>
              <a:xfrm>
                <a:off x="398304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17924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4343400" y="2170440"/>
              <a:ext cx="255240" cy="220680"/>
              <a:chOff x="4343400" y="2170440"/>
              <a:chExt cx="255240" cy="220680"/>
            </a:xfrm>
          </p:grpSpPr>
          <p:sp>
            <p:nvSpPr>
              <p:cNvPr id="132" name=""/>
              <p:cNvSpPr/>
              <p:nvPr/>
            </p:nvSpPr>
            <p:spPr>
              <a:xfrm>
                <a:off x="4343400" y="217044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539600" y="217044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703760" y="2170440"/>
              <a:ext cx="253440" cy="220680"/>
              <a:chOff x="4703760" y="2170440"/>
              <a:chExt cx="253440" cy="220680"/>
            </a:xfrm>
          </p:grpSpPr>
          <p:sp>
            <p:nvSpPr>
              <p:cNvPr id="135" name=""/>
              <p:cNvSpPr/>
              <p:nvPr/>
            </p:nvSpPr>
            <p:spPr>
              <a:xfrm>
                <a:off x="4703760" y="217044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898520" y="217044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7" name=""/>
            <p:cNvGrpSpPr/>
            <p:nvPr/>
          </p:nvGrpSpPr>
          <p:grpSpPr>
            <a:xfrm>
              <a:off x="2900160" y="2710080"/>
              <a:ext cx="253800" cy="220680"/>
              <a:chOff x="2900160" y="2710080"/>
              <a:chExt cx="253800" cy="22068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0160" y="2710080"/>
                <a:ext cx="22176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0952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3262320" y="2710080"/>
              <a:ext cx="253440" cy="220680"/>
              <a:chOff x="3262320" y="2710080"/>
              <a:chExt cx="253440" cy="220680"/>
            </a:xfrm>
          </p:grpSpPr>
          <p:sp>
            <p:nvSpPr>
              <p:cNvPr id="141" name=""/>
              <p:cNvSpPr/>
              <p:nvPr/>
            </p:nvSpPr>
            <p:spPr>
              <a:xfrm>
                <a:off x="326232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45708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"/>
            <p:cNvGrpSpPr/>
            <p:nvPr/>
          </p:nvGrpSpPr>
          <p:grpSpPr>
            <a:xfrm>
              <a:off x="3622680" y="2710080"/>
              <a:ext cx="253440" cy="220680"/>
              <a:chOff x="3622680" y="2710080"/>
              <a:chExt cx="253440" cy="220680"/>
            </a:xfrm>
          </p:grpSpPr>
          <p:sp>
            <p:nvSpPr>
              <p:cNvPr id="144" name=""/>
              <p:cNvSpPr/>
              <p:nvPr/>
            </p:nvSpPr>
            <p:spPr>
              <a:xfrm>
                <a:off x="362268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81744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3983040" y="2710080"/>
              <a:ext cx="255240" cy="220680"/>
              <a:chOff x="3983040" y="2710080"/>
              <a:chExt cx="255240" cy="220680"/>
            </a:xfrm>
          </p:grpSpPr>
          <p:sp>
            <p:nvSpPr>
              <p:cNvPr id="147" name=""/>
              <p:cNvSpPr/>
              <p:nvPr/>
            </p:nvSpPr>
            <p:spPr>
              <a:xfrm>
                <a:off x="398304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17924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4343400" y="2710080"/>
              <a:ext cx="255240" cy="220680"/>
              <a:chOff x="4343400" y="2710080"/>
              <a:chExt cx="255240" cy="220680"/>
            </a:xfrm>
          </p:grpSpPr>
          <p:sp>
            <p:nvSpPr>
              <p:cNvPr id="150" name=""/>
              <p:cNvSpPr/>
              <p:nvPr/>
            </p:nvSpPr>
            <p:spPr>
              <a:xfrm>
                <a:off x="4343400" y="2710080"/>
                <a:ext cx="22284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539600" y="2710080"/>
                <a:ext cx="5904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703760" y="2710080"/>
              <a:ext cx="253440" cy="220680"/>
              <a:chOff x="4703760" y="2710080"/>
              <a:chExt cx="253440" cy="220680"/>
            </a:xfrm>
          </p:grpSpPr>
          <p:sp>
            <p:nvSpPr>
              <p:cNvPr id="153" name=""/>
              <p:cNvSpPr/>
              <p:nvPr/>
            </p:nvSpPr>
            <p:spPr>
              <a:xfrm>
                <a:off x="4703760" y="2710080"/>
                <a:ext cx="221400" cy="22068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898520" y="2710080"/>
                <a:ext cx="58680" cy="58680"/>
              </a:xfrm>
              <a:prstGeom prst="ellipse">
                <a:avLst/>
              </a:prstGeom>
              <a:solidFill>
                <a:srgbClr val="0000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5" name=""/>
          <p:cNvGrpSpPr/>
          <p:nvPr/>
        </p:nvGrpSpPr>
        <p:grpSpPr>
          <a:xfrm>
            <a:off x="1676520" y="3124080"/>
            <a:ext cx="2286000" cy="797040"/>
            <a:chOff x="1676520" y="3124080"/>
            <a:chExt cx="2286000" cy="797040"/>
          </a:xfrm>
        </p:grpSpPr>
        <p:sp>
          <p:nvSpPr>
            <p:cNvPr id="156" name=""/>
            <p:cNvSpPr/>
            <p:nvPr/>
          </p:nvSpPr>
          <p:spPr>
            <a:xfrm>
              <a:off x="3326040" y="3522600"/>
              <a:ext cx="4348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ff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00ff"/>
                  </a:solidFill>
                  <a:latin typeface="Arial"/>
                </a:rPr>
                <a:t>n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326040" y="3124080"/>
              <a:ext cx="6364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79bc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79bc"/>
                  </a:solidFill>
                  <a:latin typeface="Arial"/>
                </a:rPr>
                <a:t>p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76520" y="312408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ff0000"/>
                  </a:solidFill>
                  <a:latin typeface="Arial"/>
                </a:rPr>
                <a:t>pdi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76520" y="3522600"/>
              <a:ext cx="52884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8000"/>
                  </a:solidFill>
                  <a:latin typeface="Arial"/>
                </a:rPr>
                <a:t>I</a:t>
              </a:r>
              <a:r>
                <a:rPr b="0" lang="es-ES_tradnl" sz="2000" spc="-1" strike="noStrike" baseline="-25000">
                  <a:solidFill>
                    <a:srgbClr val="008000"/>
                  </a:solidFill>
                  <a:latin typeface="Arial"/>
                </a:rPr>
                <a:t>nd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337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8195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2819520" y="327636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ff79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133720" y="3581280"/>
              <a:ext cx="457200" cy="2286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304920" y="1447920"/>
            <a:ext cx="4828680" cy="2190240"/>
            <a:chOff x="304920" y="1447920"/>
            <a:chExt cx="4828680" cy="2190240"/>
          </a:xfrm>
        </p:grpSpPr>
        <p:sp>
          <p:nvSpPr>
            <p:cNvPr id="165" name=""/>
            <p:cNvSpPr/>
            <p:nvPr/>
          </p:nvSpPr>
          <p:spPr>
            <a:xfrm>
              <a:off x="333360" y="3276360"/>
              <a:ext cx="9140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300 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04920" y="1447920"/>
              <a:ext cx="2412720" cy="162360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720880" y="1447920"/>
              <a:ext cx="2412720" cy="162360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20560" y="1628640"/>
              <a:ext cx="223560" cy="220320"/>
              <a:chOff x="520560" y="1628640"/>
              <a:chExt cx="223560" cy="220320"/>
            </a:xfrm>
          </p:grpSpPr>
          <p:sp>
            <p:nvSpPr>
              <p:cNvPr id="169" name=""/>
              <p:cNvSpPr/>
              <p:nvPr/>
            </p:nvSpPr>
            <p:spPr>
              <a:xfrm>
                <a:off x="52092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2056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880920" y="1628640"/>
              <a:ext cx="223560" cy="220320"/>
              <a:chOff x="880920" y="1628640"/>
              <a:chExt cx="223560" cy="220320"/>
            </a:xfrm>
          </p:grpSpPr>
          <p:sp>
            <p:nvSpPr>
              <p:cNvPr id="172" name=""/>
              <p:cNvSpPr/>
              <p:nvPr/>
            </p:nvSpPr>
            <p:spPr>
              <a:xfrm>
                <a:off x="88128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092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" name=""/>
            <p:cNvGrpSpPr/>
            <p:nvPr/>
          </p:nvGrpSpPr>
          <p:grpSpPr>
            <a:xfrm>
              <a:off x="1241280" y="1628640"/>
              <a:ext cx="223560" cy="220320"/>
              <a:chOff x="1241280" y="1628640"/>
              <a:chExt cx="223560" cy="220320"/>
            </a:xfrm>
          </p:grpSpPr>
          <p:sp>
            <p:nvSpPr>
              <p:cNvPr id="175" name=""/>
              <p:cNvSpPr/>
              <p:nvPr/>
            </p:nvSpPr>
            <p:spPr>
              <a:xfrm>
                <a:off x="12416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12412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1603080" y="1628640"/>
              <a:ext cx="223560" cy="220320"/>
              <a:chOff x="1603080" y="1628640"/>
              <a:chExt cx="223560" cy="220320"/>
            </a:xfrm>
          </p:grpSpPr>
          <p:sp>
            <p:nvSpPr>
              <p:cNvPr id="178" name=""/>
              <p:cNvSpPr/>
              <p:nvPr/>
            </p:nvSpPr>
            <p:spPr>
              <a:xfrm>
                <a:off x="160344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60308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1963440" y="1628640"/>
              <a:ext cx="223560" cy="220320"/>
              <a:chOff x="1963440" y="1628640"/>
              <a:chExt cx="223560" cy="220320"/>
            </a:xfrm>
          </p:grpSpPr>
          <p:sp>
            <p:nvSpPr>
              <p:cNvPr id="181" name=""/>
              <p:cNvSpPr/>
              <p:nvPr/>
            </p:nvSpPr>
            <p:spPr>
              <a:xfrm>
                <a:off x="1963800" y="162864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63440" y="17384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2324160" y="1628640"/>
              <a:ext cx="221760" cy="220320"/>
              <a:chOff x="2324160" y="1628640"/>
              <a:chExt cx="221760" cy="220320"/>
            </a:xfrm>
          </p:grpSpPr>
          <p:sp>
            <p:nvSpPr>
              <p:cNvPr id="184" name=""/>
              <p:cNvSpPr/>
              <p:nvPr/>
            </p:nvSpPr>
            <p:spPr>
              <a:xfrm>
                <a:off x="2324520" y="162864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324160" y="17384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520560" y="2168280"/>
              <a:ext cx="221760" cy="222120"/>
              <a:chOff x="520560" y="2168280"/>
              <a:chExt cx="221760" cy="222120"/>
            </a:xfrm>
          </p:grpSpPr>
          <p:sp>
            <p:nvSpPr>
              <p:cNvPr id="187" name=""/>
              <p:cNvSpPr/>
              <p:nvPr/>
            </p:nvSpPr>
            <p:spPr>
              <a:xfrm>
                <a:off x="520920" y="216828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20560" y="2279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882360" y="2168280"/>
              <a:ext cx="223560" cy="222120"/>
              <a:chOff x="882360" y="2168280"/>
              <a:chExt cx="223560" cy="222120"/>
            </a:xfrm>
          </p:grpSpPr>
          <p:sp>
            <p:nvSpPr>
              <p:cNvPr id="190" name=""/>
              <p:cNvSpPr/>
              <p:nvPr/>
            </p:nvSpPr>
            <p:spPr>
              <a:xfrm>
                <a:off x="88272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8236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1242720" y="2168280"/>
              <a:ext cx="223560" cy="222120"/>
              <a:chOff x="1242720" y="2168280"/>
              <a:chExt cx="223560" cy="22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124308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124272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1603080" y="2168280"/>
              <a:ext cx="222120" cy="222120"/>
              <a:chOff x="1603080" y="2168280"/>
              <a:chExt cx="222120" cy="222120"/>
            </a:xfrm>
          </p:grpSpPr>
          <p:sp>
            <p:nvSpPr>
              <p:cNvPr id="196" name=""/>
              <p:cNvSpPr/>
              <p:nvPr/>
            </p:nvSpPr>
            <p:spPr>
              <a:xfrm>
                <a:off x="1603440" y="2168280"/>
                <a:ext cx="22104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1603080" y="22791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1963440" y="2168280"/>
              <a:ext cx="223560" cy="222120"/>
              <a:chOff x="1963440" y="2168280"/>
              <a:chExt cx="223560" cy="222120"/>
            </a:xfrm>
          </p:grpSpPr>
          <p:sp>
            <p:nvSpPr>
              <p:cNvPr id="199" name=""/>
              <p:cNvSpPr/>
              <p:nvPr/>
            </p:nvSpPr>
            <p:spPr>
              <a:xfrm>
                <a:off x="1963800" y="216828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963440" y="2279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2324160" y="2168280"/>
              <a:ext cx="223200" cy="222120"/>
              <a:chOff x="2324160" y="2168280"/>
              <a:chExt cx="223200" cy="222120"/>
            </a:xfrm>
          </p:grpSpPr>
          <p:sp>
            <p:nvSpPr>
              <p:cNvPr id="202" name=""/>
              <p:cNvSpPr/>
              <p:nvPr/>
            </p:nvSpPr>
            <p:spPr>
              <a:xfrm>
                <a:off x="2324520" y="2168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2324160" y="2279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520560" y="2709720"/>
              <a:ext cx="221760" cy="221760"/>
              <a:chOff x="520560" y="2709720"/>
              <a:chExt cx="221760" cy="221760"/>
            </a:xfrm>
          </p:grpSpPr>
          <p:sp>
            <p:nvSpPr>
              <p:cNvPr id="205" name=""/>
              <p:cNvSpPr/>
              <p:nvPr/>
            </p:nvSpPr>
            <p:spPr>
              <a:xfrm>
                <a:off x="520920" y="270972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0560" y="28202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82360" y="2709720"/>
              <a:ext cx="223560" cy="221760"/>
              <a:chOff x="882360" y="2709720"/>
              <a:chExt cx="223560" cy="221760"/>
            </a:xfrm>
          </p:grpSpPr>
          <p:sp>
            <p:nvSpPr>
              <p:cNvPr id="208" name=""/>
              <p:cNvSpPr/>
              <p:nvPr/>
            </p:nvSpPr>
            <p:spPr>
              <a:xfrm>
                <a:off x="88272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36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1242720" y="2709720"/>
              <a:ext cx="223560" cy="221760"/>
              <a:chOff x="1242720" y="2709720"/>
              <a:chExt cx="223560" cy="221760"/>
            </a:xfrm>
          </p:grpSpPr>
          <p:sp>
            <p:nvSpPr>
              <p:cNvPr id="211" name=""/>
              <p:cNvSpPr/>
              <p:nvPr/>
            </p:nvSpPr>
            <p:spPr>
              <a:xfrm>
                <a:off x="124308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24272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1603080" y="2709720"/>
              <a:ext cx="222120" cy="221760"/>
              <a:chOff x="1603080" y="2709720"/>
              <a:chExt cx="222120" cy="221760"/>
            </a:xfrm>
          </p:grpSpPr>
          <p:sp>
            <p:nvSpPr>
              <p:cNvPr id="214" name=""/>
              <p:cNvSpPr/>
              <p:nvPr/>
            </p:nvSpPr>
            <p:spPr>
              <a:xfrm>
                <a:off x="1603440" y="2709720"/>
                <a:ext cx="22104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603080" y="282024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1963440" y="2709720"/>
              <a:ext cx="223560" cy="221760"/>
              <a:chOff x="1963440" y="2709720"/>
              <a:chExt cx="223560" cy="221760"/>
            </a:xfrm>
          </p:grpSpPr>
          <p:sp>
            <p:nvSpPr>
              <p:cNvPr id="217" name=""/>
              <p:cNvSpPr/>
              <p:nvPr/>
            </p:nvSpPr>
            <p:spPr>
              <a:xfrm>
                <a:off x="1963800" y="270972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963440" y="28202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2324160" y="2709720"/>
              <a:ext cx="223200" cy="221760"/>
              <a:chOff x="2324160" y="2709720"/>
              <a:chExt cx="223200" cy="221760"/>
            </a:xfrm>
          </p:grpSpPr>
          <p:sp>
            <p:nvSpPr>
              <p:cNvPr id="220" name=""/>
              <p:cNvSpPr/>
              <p:nvPr/>
            </p:nvSpPr>
            <p:spPr>
              <a:xfrm>
                <a:off x="2324520" y="2709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2324160" y="2820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2900160" y="1627200"/>
              <a:ext cx="223560" cy="223200"/>
              <a:chOff x="2900160" y="1627200"/>
              <a:chExt cx="223560" cy="223200"/>
            </a:xfrm>
          </p:grpSpPr>
          <p:sp>
            <p:nvSpPr>
              <p:cNvPr id="223" name=""/>
              <p:cNvSpPr/>
              <p:nvPr/>
            </p:nvSpPr>
            <p:spPr>
              <a:xfrm>
                <a:off x="2900520" y="1628280"/>
                <a:ext cx="222480" cy="22140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900160" y="17388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011760" y="1627200"/>
                <a:ext cx="360" cy="22320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3260520" y="1628640"/>
              <a:ext cx="223560" cy="221760"/>
              <a:chOff x="3260520" y="1628640"/>
              <a:chExt cx="223560" cy="221760"/>
            </a:xfrm>
          </p:grpSpPr>
          <p:sp>
            <p:nvSpPr>
              <p:cNvPr id="227" name=""/>
              <p:cNvSpPr/>
              <p:nvPr/>
            </p:nvSpPr>
            <p:spPr>
              <a:xfrm>
                <a:off x="3260880" y="1629720"/>
                <a:ext cx="2224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260520" y="1739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37212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22680" y="1628640"/>
              <a:ext cx="223200" cy="221760"/>
              <a:chOff x="3622680" y="1628640"/>
              <a:chExt cx="223200" cy="221760"/>
            </a:xfrm>
          </p:grpSpPr>
          <p:sp>
            <p:nvSpPr>
              <p:cNvPr id="231" name=""/>
              <p:cNvSpPr/>
              <p:nvPr/>
            </p:nvSpPr>
            <p:spPr>
              <a:xfrm>
                <a:off x="362304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62268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3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983040" y="1628640"/>
              <a:ext cx="223200" cy="221760"/>
              <a:chOff x="3983040" y="1628640"/>
              <a:chExt cx="223200" cy="221760"/>
            </a:xfrm>
          </p:grpSpPr>
          <p:sp>
            <p:nvSpPr>
              <p:cNvPr id="235" name=""/>
              <p:cNvSpPr/>
              <p:nvPr/>
            </p:nvSpPr>
            <p:spPr>
              <a:xfrm>
                <a:off x="398340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98304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9464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4343400" y="1628640"/>
              <a:ext cx="221760" cy="221760"/>
              <a:chOff x="4343400" y="1628640"/>
              <a:chExt cx="221760" cy="221760"/>
            </a:xfrm>
          </p:grpSpPr>
          <p:sp>
            <p:nvSpPr>
              <p:cNvPr id="239" name=""/>
              <p:cNvSpPr/>
              <p:nvPr/>
            </p:nvSpPr>
            <p:spPr>
              <a:xfrm>
                <a:off x="4343760" y="1629720"/>
                <a:ext cx="22068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343400" y="1739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45428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4703760" y="1628640"/>
              <a:ext cx="223200" cy="221760"/>
              <a:chOff x="4703760" y="1628640"/>
              <a:chExt cx="223200" cy="221760"/>
            </a:xfrm>
          </p:grpSpPr>
          <p:sp>
            <p:nvSpPr>
              <p:cNvPr id="243" name=""/>
              <p:cNvSpPr/>
              <p:nvPr/>
            </p:nvSpPr>
            <p:spPr>
              <a:xfrm>
                <a:off x="4704120" y="1629720"/>
                <a:ext cx="222120" cy="2199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703760" y="17395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815360" y="1628640"/>
                <a:ext cx="360" cy="2217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900160" y="2168280"/>
              <a:ext cx="223560" cy="223560"/>
              <a:chOff x="2900160" y="2168280"/>
              <a:chExt cx="223560" cy="223560"/>
            </a:xfrm>
          </p:grpSpPr>
          <p:sp>
            <p:nvSpPr>
              <p:cNvPr id="247" name=""/>
              <p:cNvSpPr/>
              <p:nvPr/>
            </p:nvSpPr>
            <p:spPr>
              <a:xfrm>
                <a:off x="2900520" y="21693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900160" y="22798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011760" y="21682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260520" y="2170080"/>
              <a:ext cx="223560" cy="223560"/>
              <a:chOff x="3260520" y="2170080"/>
              <a:chExt cx="223560" cy="223560"/>
            </a:xfrm>
          </p:grpSpPr>
          <p:sp>
            <p:nvSpPr>
              <p:cNvPr id="251" name=""/>
              <p:cNvSpPr/>
              <p:nvPr/>
            </p:nvSpPr>
            <p:spPr>
              <a:xfrm>
                <a:off x="3260880" y="217116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260520" y="22816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37212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" name=""/>
            <p:cNvGrpSpPr/>
            <p:nvPr/>
          </p:nvGrpSpPr>
          <p:grpSpPr>
            <a:xfrm>
              <a:off x="3622680" y="2170080"/>
              <a:ext cx="223200" cy="223560"/>
              <a:chOff x="3622680" y="2170080"/>
              <a:chExt cx="223200" cy="223560"/>
            </a:xfrm>
          </p:grpSpPr>
          <p:sp>
            <p:nvSpPr>
              <p:cNvPr id="255" name=""/>
              <p:cNvSpPr/>
              <p:nvPr/>
            </p:nvSpPr>
            <p:spPr>
              <a:xfrm>
                <a:off x="362304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62268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73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983040" y="2170080"/>
              <a:ext cx="223200" cy="223560"/>
              <a:chOff x="3983040" y="2170080"/>
              <a:chExt cx="223200" cy="223560"/>
            </a:xfrm>
          </p:grpSpPr>
          <p:sp>
            <p:nvSpPr>
              <p:cNvPr id="259" name=""/>
              <p:cNvSpPr/>
              <p:nvPr/>
            </p:nvSpPr>
            <p:spPr>
              <a:xfrm>
                <a:off x="398340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398304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9464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2" name=""/>
            <p:cNvGrpSpPr/>
            <p:nvPr/>
          </p:nvGrpSpPr>
          <p:grpSpPr>
            <a:xfrm>
              <a:off x="4343400" y="2170080"/>
              <a:ext cx="221760" cy="223560"/>
              <a:chOff x="4343400" y="2170080"/>
              <a:chExt cx="221760" cy="223560"/>
            </a:xfrm>
          </p:grpSpPr>
          <p:sp>
            <p:nvSpPr>
              <p:cNvPr id="263" name=""/>
              <p:cNvSpPr/>
              <p:nvPr/>
            </p:nvSpPr>
            <p:spPr>
              <a:xfrm>
                <a:off x="4343760" y="217116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343400" y="22816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45428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4703760" y="2170080"/>
              <a:ext cx="223200" cy="223560"/>
              <a:chOff x="4703760" y="2170080"/>
              <a:chExt cx="223200" cy="223560"/>
            </a:xfrm>
          </p:grpSpPr>
          <p:sp>
            <p:nvSpPr>
              <p:cNvPr id="267" name=""/>
              <p:cNvSpPr/>
              <p:nvPr/>
            </p:nvSpPr>
            <p:spPr>
              <a:xfrm>
                <a:off x="4704120" y="217116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703760" y="228168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815360" y="217008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2900160" y="2709720"/>
              <a:ext cx="223560" cy="223560"/>
              <a:chOff x="2900160" y="2709720"/>
              <a:chExt cx="223560" cy="223560"/>
            </a:xfrm>
          </p:grpSpPr>
          <p:sp>
            <p:nvSpPr>
              <p:cNvPr id="271" name=""/>
              <p:cNvSpPr/>
              <p:nvPr/>
            </p:nvSpPr>
            <p:spPr>
              <a:xfrm>
                <a:off x="2900520" y="271080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900160" y="28213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11760" y="270972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3260520" y="2711160"/>
              <a:ext cx="223560" cy="223560"/>
              <a:chOff x="3260520" y="2711160"/>
              <a:chExt cx="223560" cy="223560"/>
            </a:xfrm>
          </p:grpSpPr>
          <p:sp>
            <p:nvSpPr>
              <p:cNvPr id="275" name=""/>
              <p:cNvSpPr/>
              <p:nvPr/>
            </p:nvSpPr>
            <p:spPr>
              <a:xfrm>
                <a:off x="3260880" y="27122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3260520" y="28227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337212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3622680" y="2711160"/>
              <a:ext cx="223200" cy="223560"/>
              <a:chOff x="3622680" y="2711160"/>
              <a:chExt cx="223200" cy="223560"/>
            </a:xfrm>
          </p:grpSpPr>
          <p:sp>
            <p:nvSpPr>
              <p:cNvPr id="279" name=""/>
              <p:cNvSpPr/>
              <p:nvPr/>
            </p:nvSpPr>
            <p:spPr>
              <a:xfrm>
                <a:off x="362304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62268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73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983040" y="2711160"/>
              <a:ext cx="223200" cy="223560"/>
              <a:chOff x="3983040" y="2711160"/>
              <a:chExt cx="223200" cy="223560"/>
            </a:xfrm>
          </p:grpSpPr>
          <p:sp>
            <p:nvSpPr>
              <p:cNvPr id="283" name=""/>
              <p:cNvSpPr/>
              <p:nvPr/>
            </p:nvSpPr>
            <p:spPr>
              <a:xfrm>
                <a:off x="398340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8304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09464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343400" y="2711160"/>
              <a:ext cx="221760" cy="223560"/>
              <a:chOff x="4343400" y="2711160"/>
              <a:chExt cx="221760" cy="223560"/>
            </a:xfrm>
          </p:grpSpPr>
          <p:sp>
            <p:nvSpPr>
              <p:cNvPr id="287" name=""/>
              <p:cNvSpPr/>
              <p:nvPr/>
            </p:nvSpPr>
            <p:spPr>
              <a:xfrm>
                <a:off x="4343760" y="27122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343400" y="28227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45428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4703760" y="2711160"/>
              <a:ext cx="223200" cy="223560"/>
              <a:chOff x="4703760" y="2711160"/>
              <a:chExt cx="223200" cy="223560"/>
            </a:xfrm>
          </p:grpSpPr>
          <p:sp>
            <p:nvSpPr>
              <p:cNvPr id="291" name=""/>
              <p:cNvSpPr/>
              <p:nvPr/>
            </p:nvSpPr>
            <p:spPr>
              <a:xfrm>
                <a:off x="4704120" y="27122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703760" y="28227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815360" y="27111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520560" y="19810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0560" y="252252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469880" y="293184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78552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164960" y="1542960"/>
              <a:ext cx="5868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68240" y="292392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15416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585800" y="2541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622760" y="253188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935160" y="240804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1560" y="2941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045040" y="29131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030640" y="248436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327560" y="25225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994280" y="172224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906720" y="16272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8360" y="198756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574880" y="1579320"/>
              <a:ext cx="5868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9988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32280" y="258588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85600" y="197172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28760" y="252072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60400" y="2547720"/>
              <a:ext cx="5832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524120" y="2016000"/>
              <a:ext cx="58680" cy="58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744720" y="2498760"/>
              <a:ext cx="58320" cy="583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536480" y="197784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081160" y="2514600"/>
              <a:ext cx="5976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69880" y="2477880"/>
              <a:ext cx="5868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327120" y="2508120"/>
              <a:ext cx="5868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58680" y="2565360"/>
              <a:ext cx="58680" cy="5976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00240" y="1952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985840" y="1935000"/>
              <a:ext cx="601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066680" y="25146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40280" y="2006640"/>
              <a:ext cx="58320" cy="5976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42720" y="1681200"/>
              <a:ext cx="58320" cy="583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87680" y="20793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38280" y="1536480"/>
              <a:ext cx="5976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841480" y="24048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2894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59200" y="1935000"/>
              <a:ext cx="58320" cy="583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2106000" y="2327760"/>
              <a:ext cx="881640" cy="393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453" y="21594"/>
                  </a:moveTo>
                  <a:arcTo wR="10800" hR="10800" stAng="5510481" swAng="546912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453" y="21594"/>
                  </a:moveTo>
                  <a:arcTo wR="10800" hR="10800" stAng="5510481" swAng="5469120"/>
                </a:path>
              </a:pathLst>
            </a:custGeom>
            <a:noFill/>
            <a:ln w="19080">
              <a:solidFill>
                <a:srgbClr val="3333ff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2531880" y="1935720"/>
              <a:ext cx="880200" cy="394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612" y="153"/>
                  </a:moveTo>
                  <a:arcTo wR="10800" hR="10800" stAng="-4820381" swAng="3521169"/>
                  <a:lnTo>
                    <a:pt x="10800" y="10800"/>
                  </a:lnTo>
                  <a:close/>
                </a:path>
                <a:path fill="none" w="21600" h="21600">
                  <a:moveTo>
                    <a:pt x="12612" y="153"/>
                  </a:moveTo>
                  <a:arcTo wR="10800" hR="10800" stAng="-4820381" swAng="3521169"/>
                </a:path>
              </a:pathLst>
            </a:custGeom>
            <a:noFill/>
            <a:ln w="19080">
              <a:solidFill>
                <a:srgbClr val="ff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333360" y="3276720"/>
            <a:ext cx="541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 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04920" y="3879720"/>
            <a:ext cx="4828680" cy="2000160"/>
            <a:chOff x="304920" y="3879720"/>
            <a:chExt cx="4828680" cy="2000160"/>
          </a:xfrm>
        </p:grpSpPr>
        <p:sp>
          <p:nvSpPr>
            <p:cNvPr id="338" name=""/>
            <p:cNvSpPr/>
            <p:nvPr/>
          </p:nvSpPr>
          <p:spPr>
            <a:xfrm>
              <a:off x="2552760" y="3879720"/>
              <a:ext cx="28836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895480" y="3914640"/>
              <a:ext cx="286920" cy="287280"/>
            </a:xfrm>
            <a:prstGeom prst="plus">
              <a:avLst>
                <a:gd name="adj" fmla="val 37815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20880" y="4254480"/>
              <a:ext cx="2412720" cy="1623960"/>
            </a:xfrm>
            <a:prstGeom prst="rect">
              <a:avLst/>
            </a:prstGeom>
            <a:solidFill>
              <a:srgbClr val="cce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04920" y="4254480"/>
              <a:ext cx="2412720" cy="1623960"/>
            </a:xfrm>
            <a:prstGeom prst="rect">
              <a:avLst/>
            </a:prstGeom>
            <a:solidFill>
              <a:srgbClr val="ffcc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225520" y="4051080"/>
              <a:ext cx="286920" cy="8892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0560" y="479592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520560" y="4435560"/>
              <a:ext cx="223560" cy="220320"/>
              <a:chOff x="520560" y="4435560"/>
              <a:chExt cx="223560" cy="220320"/>
            </a:xfrm>
          </p:grpSpPr>
          <p:sp>
            <p:nvSpPr>
              <p:cNvPr id="345" name=""/>
              <p:cNvSpPr/>
              <p:nvPr/>
            </p:nvSpPr>
            <p:spPr>
              <a:xfrm>
                <a:off x="52092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2056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882360" y="4435560"/>
              <a:ext cx="222120" cy="220320"/>
              <a:chOff x="882360" y="4435560"/>
              <a:chExt cx="222120" cy="220320"/>
            </a:xfrm>
          </p:grpSpPr>
          <p:sp>
            <p:nvSpPr>
              <p:cNvPr id="348" name=""/>
              <p:cNvSpPr/>
              <p:nvPr/>
            </p:nvSpPr>
            <p:spPr>
              <a:xfrm>
                <a:off x="882720" y="4435560"/>
                <a:ext cx="22104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82360" y="4545360"/>
                <a:ext cx="22212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1242720" y="4435560"/>
              <a:ext cx="223560" cy="220320"/>
              <a:chOff x="1242720" y="4435560"/>
              <a:chExt cx="223560" cy="220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24308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24272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1603080" y="4435560"/>
              <a:ext cx="223560" cy="220320"/>
              <a:chOff x="1603080" y="4435560"/>
              <a:chExt cx="223560" cy="220320"/>
            </a:xfrm>
          </p:grpSpPr>
          <p:sp>
            <p:nvSpPr>
              <p:cNvPr id="354" name=""/>
              <p:cNvSpPr/>
              <p:nvPr/>
            </p:nvSpPr>
            <p:spPr>
              <a:xfrm>
                <a:off x="160344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60308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520560" y="4975200"/>
              <a:ext cx="223560" cy="222120"/>
              <a:chOff x="520560" y="4975200"/>
              <a:chExt cx="223560" cy="222120"/>
            </a:xfrm>
          </p:grpSpPr>
          <p:sp>
            <p:nvSpPr>
              <p:cNvPr id="357" name=""/>
              <p:cNvSpPr/>
              <p:nvPr/>
            </p:nvSpPr>
            <p:spPr>
              <a:xfrm>
                <a:off x="5209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205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882360" y="4975200"/>
              <a:ext cx="223560" cy="222120"/>
              <a:chOff x="882360" y="4975200"/>
              <a:chExt cx="223560" cy="222120"/>
            </a:xfrm>
          </p:grpSpPr>
          <p:sp>
            <p:nvSpPr>
              <p:cNvPr id="360" name=""/>
              <p:cNvSpPr/>
              <p:nvPr/>
            </p:nvSpPr>
            <p:spPr>
              <a:xfrm>
                <a:off x="88272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88236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1242720" y="4975200"/>
              <a:ext cx="223560" cy="222120"/>
              <a:chOff x="1242720" y="4975200"/>
              <a:chExt cx="223560" cy="222120"/>
            </a:xfrm>
          </p:grpSpPr>
          <p:sp>
            <p:nvSpPr>
              <p:cNvPr id="363" name=""/>
              <p:cNvSpPr/>
              <p:nvPr/>
            </p:nvSpPr>
            <p:spPr>
              <a:xfrm>
                <a:off x="124308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24272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1604880" y="4975200"/>
              <a:ext cx="221760" cy="222120"/>
              <a:chOff x="1604880" y="4975200"/>
              <a:chExt cx="221760" cy="222120"/>
            </a:xfrm>
          </p:grpSpPr>
          <p:sp>
            <p:nvSpPr>
              <p:cNvPr id="366" name=""/>
              <p:cNvSpPr/>
              <p:nvPr/>
            </p:nvSpPr>
            <p:spPr>
              <a:xfrm>
                <a:off x="1605240" y="497520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604880" y="508608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520560" y="5516640"/>
              <a:ext cx="223560" cy="222120"/>
              <a:chOff x="520560" y="5516640"/>
              <a:chExt cx="223560" cy="222120"/>
            </a:xfrm>
          </p:grpSpPr>
          <p:sp>
            <p:nvSpPr>
              <p:cNvPr id="369" name=""/>
              <p:cNvSpPr/>
              <p:nvPr/>
            </p:nvSpPr>
            <p:spPr>
              <a:xfrm>
                <a:off x="5209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205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882360" y="5516640"/>
              <a:ext cx="223560" cy="222120"/>
              <a:chOff x="882360" y="5516640"/>
              <a:chExt cx="223560" cy="222120"/>
            </a:xfrm>
          </p:grpSpPr>
          <p:sp>
            <p:nvSpPr>
              <p:cNvPr id="372" name=""/>
              <p:cNvSpPr/>
              <p:nvPr/>
            </p:nvSpPr>
            <p:spPr>
              <a:xfrm>
                <a:off x="88272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8236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242720" y="5516640"/>
              <a:ext cx="223560" cy="222120"/>
              <a:chOff x="1242720" y="5516640"/>
              <a:chExt cx="223560" cy="222120"/>
            </a:xfrm>
          </p:grpSpPr>
          <p:sp>
            <p:nvSpPr>
              <p:cNvPr id="375" name=""/>
              <p:cNvSpPr/>
              <p:nvPr/>
            </p:nvSpPr>
            <p:spPr>
              <a:xfrm>
                <a:off x="124308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24272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7" name=""/>
            <p:cNvSpPr/>
            <p:nvPr/>
          </p:nvSpPr>
          <p:spPr>
            <a:xfrm>
              <a:off x="520560" y="5337000"/>
              <a:ext cx="601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8" name=""/>
            <p:cNvGrpSpPr/>
            <p:nvPr/>
          </p:nvGrpSpPr>
          <p:grpSpPr>
            <a:xfrm>
              <a:off x="1604880" y="5516640"/>
              <a:ext cx="221760" cy="222120"/>
              <a:chOff x="1604880" y="5516640"/>
              <a:chExt cx="221760" cy="222120"/>
            </a:xfrm>
          </p:grpSpPr>
          <p:sp>
            <p:nvSpPr>
              <p:cNvPr id="379" name=""/>
              <p:cNvSpPr/>
              <p:nvPr/>
            </p:nvSpPr>
            <p:spPr>
              <a:xfrm>
                <a:off x="1605240" y="551664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1604880" y="562752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1471320" y="57452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8732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166760" y="435744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8240" y="573876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560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" name=""/>
            <p:cNvGrpSpPr/>
            <p:nvPr/>
          </p:nvGrpSpPr>
          <p:grpSpPr>
            <a:xfrm>
              <a:off x="3622680" y="4435560"/>
              <a:ext cx="223200" cy="223560"/>
              <a:chOff x="3622680" y="4435560"/>
              <a:chExt cx="223200" cy="223560"/>
            </a:xfrm>
          </p:grpSpPr>
          <p:sp>
            <p:nvSpPr>
              <p:cNvPr id="387" name=""/>
              <p:cNvSpPr/>
              <p:nvPr/>
            </p:nvSpPr>
            <p:spPr>
              <a:xfrm>
                <a:off x="362304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362268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373428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0" name=""/>
            <p:cNvGrpSpPr/>
            <p:nvPr/>
          </p:nvGrpSpPr>
          <p:grpSpPr>
            <a:xfrm>
              <a:off x="3984480" y="4435560"/>
              <a:ext cx="221760" cy="223560"/>
              <a:chOff x="3984480" y="4435560"/>
              <a:chExt cx="221760" cy="223560"/>
            </a:xfrm>
          </p:grpSpPr>
          <p:sp>
            <p:nvSpPr>
              <p:cNvPr id="391" name=""/>
              <p:cNvSpPr/>
              <p:nvPr/>
            </p:nvSpPr>
            <p:spPr>
              <a:xfrm>
                <a:off x="3984840" y="4436640"/>
                <a:ext cx="2206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3984480" y="45471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09536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"/>
            <p:cNvGrpSpPr/>
            <p:nvPr/>
          </p:nvGrpSpPr>
          <p:grpSpPr>
            <a:xfrm>
              <a:off x="4344840" y="4435560"/>
              <a:ext cx="223560" cy="223560"/>
              <a:chOff x="4344840" y="4435560"/>
              <a:chExt cx="223560" cy="223560"/>
            </a:xfrm>
          </p:grpSpPr>
          <p:sp>
            <p:nvSpPr>
              <p:cNvPr id="395" name=""/>
              <p:cNvSpPr/>
              <p:nvPr/>
            </p:nvSpPr>
            <p:spPr>
              <a:xfrm>
                <a:off x="434520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434484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445644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587240" y="535608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9" name=""/>
            <p:cNvGrpSpPr/>
            <p:nvPr/>
          </p:nvGrpSpPr>
          <p:grpSpPr>
            <a:xfrm>
              <a:off x="4705200" y="4435560"/>
              <a:ext cx="223560" cy="223560"/>
              <a:chOff x="4705200" y="4435560"/>
              <a:chExt cx="223560" cy="223560"/>
            </a:xfrm>
          </p:grpSpPr>
          <p:sp>
            <p:nvSpPr>
              <p:cNvPr id="400" name=""/>
              <p:cNvSpPr/>
              <p:nvPr/>
            </p:nvSpPr>
            <p:spPr>
              <a:xfrm>
                <a:off x="4705560" y="4436640"/>
                <a:ext cx="22248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705200" y="45471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81680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"/>
            <p:cNvGrpSpPr/>
            <p:nvPr/>
          </p:nvGrpSpPr>
          <p:grpSpPr>
            <a:xfrm>
              <a:off x="3622680" y="4976640"/>
              <a:ext cx="223200" cy="223920"/>
              <a:chOff x="3622680" y="4976640"/>
              <a:chExt cx="223200" cy="223920"/>
            </a:xfrm>
          </p:grpSpPr>
          <p:sp>
            <p:nvSpPr>
              <p:cNvPr id="404" name=""/>
              <p:cNvSpPr/>
              <p:nvPr/>
            </p:nvSpPr>
            <p:spPr>
              <a:xfrm>
                <a:off x="362304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362268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373428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984480" y="4976640"/>
              <a:ext cx="221760" cy="223920"/>
              <a:chOff x="3984480" y="4976640"/>
              <a:chExt cx="221760" cy="223920"/>
            </a:xfrm>
          </p:grpSpPr>
          <p:sp>
            <p:nvSpPr>
              <p:cNvPr id="408" name=""/>
              <p:cNvSpPr/>
              <p:nvPr/>
            </p:nvSpPr>
            <p:spPr>
              <a:xfrm>
                <a:off x="3984840" y="497772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984480" y="508860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409536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344840" y="4976640"/>
              <a:ext cx="223560" cy="223920"/>
              <a:chOff x="4344840" y="4976640"/>
              <a:chExt cx="223560" cy="223920"/>
            </a:xfrm>
          </p:grpSpPr>
          <p:sp>
            <p:nvSpPr>
              <p:cNvPr id="412" name=""/>
              <p:cNvSpPr/>
              <p:nvPr/>
            </p:nvSpPr>
            <p:spPr>
              <a:xfrm>
                <a:off x="434520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34484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445644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5" name=""/>
            <p:cNvGrpSpPr/>
            <p:nvPr/>
          </p:nvGrpSpPr>
          <p:grpSpPr>
            <a:xfrm>
              <a:off x="4705200" y="4976640"/>
              <a:ext cx="223560" cy="223920"/>
              <a:chOff x="4705200" y="4976640"/>
              <a:chExt cx="223560" cy="223920"/>
            </a:xfrm>
          </p:grpSpPr>
          <p:sp>
            <p:nvSpPr>
              <p:cNvPr id="416" name=""/>
              <p:cNvSpPr/>
              <p:nvPr/>
            </p:nvSpPr>
            <p:spPr>
              <a:xfrm>
                <a:off x="4705560" y="497772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4705200" y="508860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81680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3622680" y="5518080"/>
              <a:ext cx="223200" cy="223920"/>
              <a:chOff x="3622680" y="5518080"/>
              <a:chExt cx="223200" cy="223920"/>
            </a:xfrm>
          </p:grpSpPr>
          <p:sp>
            <p:nvSpPr>
              <p:cNvPr id="420" name=""/>
              <p:cNvSpPr/>
              <p:nvPr/>
            </p:nvSpPr>
            <p:spPr>
              <a:xfrm>
                <a:off x="362304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362268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73428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3984480" y="5518080"/>
              <a:ext cx="221760" cy="223920"/>
              <a:chOff x="3984480" y="5518080"/>
              <a:chExt cx="221760" cy="223920"/>
            </a:xfrm>
          </p:grpSpPr>
          <p:sp>
            <p:nvSpPr>
              <p:cNvPr id="424" name=""/>
              <p:cNvSpPr/>
              <p:nvPr/>
            </p:nvSpPr>
            <p:spPr>
              <a:xfrm>
                <a:off x="3984840" y="5519160"/>
                <a:ext cx="2206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3984480" y="563004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409536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" name=""/>
            <p:cNvGrpSpPr/>
            <p:nvPr/>
          </p:nvGrpSpPr>
          <p:grpSpPr>
            <a:xfrm>
              <a:off x="4344840" y="5518080"/>
              <a:ext cx="223560" cy="223920"/>
              <a:chOff x="4344840" y="5518080"/>
              <a:chExt cx="223560" cy="223920"/>
            </a:xfrm>
          </p:grpSpPr>
          <p:sp>
            <p:nvSpPr>
              <p:cNvPr id="428" name=""/>
              <p:cNvSpPr/>
              <p:nvPr/>
            </p:nvSpPr>
            <p:spPr>
              <a:xfrm>
                <a:off x="434520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434484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445644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705200" y="5518080"/>
              <a:ext cx="223560" cy="223920"/>
              <a:chOff x="4705200" y="5518080"/>
              <a:chExt cx="223560" cy="223920"/>
            </a:xfrm>
          </p:grpSpPr>
          <p:sp>
            <p:nvSpPr>
              <p:cNvPr id="432" name=""/>
              <p:cNvSpPr/>
              <p:nvPr/>
            </p:nvSpPr>
            <p:spPr>
              <a:xfrm>
                <a:off x="4705560" y="551916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705200" y="563004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81680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4624200" y="534672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936960" y="52228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843360" y="5754600"/>
              <a:ext cx="5832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45040" y="5726160"/>
              <a:ext cx="59760" cy="6012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32080" y="5298840"/>
              <a:ext cx="58680" cy="5904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329000" y="5337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995720" y="45370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906720" y="4441680"/>
              <a:ext cx="601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708360" y="48006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576680" y="43941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003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32280" y="540072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7400" y="47847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328760" y="53355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60400" y="5360760"/>
              <a:ext cx="59760" cy="5904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24120" y="4829040"/>
              <a:ext cx="60120" cy="58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746520" y="531180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536480" y="47908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068120" y="5327640"/>
              <a:ext cx="5868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941720" y="4821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44520" y="449568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538280" y="4351320"/>
              <a:ext cx="5976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73400" y="536400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289400" y="4748040"/>
              <a:ext cx="5976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760640" y="4748040"/>
              <a:ext cx="58680" cy="60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28920" y="532296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414600" y="4765680"/>
              <a:ext cx="58320" cy="586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133360" y="4259160"/>
              <a:ext cx="1160280" cy="162072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99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"/>
            <p:cNvGrpSpPr/>
            <p:nvPr/>
          </p:nvGrpSpPr>
          <p:grpSpPr>
            <a:xfrm>
              <a:off x="2325600" y="4435560"/>
              <a:ext cx="221760" cy="220320"/>
              <a:chOff x="2325600" y="4435560"/>
              <a:chExt cx="221760" cy="220320"/>
            </a:xfrm>
          </p:grpSpPr>
          <p:sp>
            <p:nvSpPr>
              <p:cNvPr id="464" name=""/>
              <p:cNvSpPr/>
              <p:nvPr/>
            </p:nvSpPr>
            <p:spPr>
              <a:xfrm>
                <a:off x="2325960" y="4435560"/>
                <a:ext cx="2206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325600" y="4545360"/>
                <a:ext cx="2217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6" name=""/>
            <p:cNvGrpSpPr/>
            <p:nvPr/>
          </p:nvGrpSpPr>
          <p:grpSpPr>
            <a:xfrm>
              <a:off x="2901960" y="4433760"/>
              <a:ext cx="223200" cy="223920"/>
              <a:chOff x="2901960" y="4433760"/>
              <a:chExt cx="223200" cy="223920"/>
            </a:xfrm>
          </p:grpSpPr>
          <p:sp>
            <p:nvSpPr>
              <p:cNvPr id="467" name=""/>
              <p:cNvSpPr/>
              <p:nvPr/>
            </p:nvSpPr>
            <p:spPr>
              <a:xfrm>
                <a:off x="2902320" y="443484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2901960" y="454572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013560" y="443376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3262320" y="4435560"/>
              <a:ext cx="223200" cy="223560"/>
              <a:chOff x="3262320" y="4435560"/>
              <a:chExt cx="223200" cy="223560"/>
            </a:xfrm>
          </p:grpSpPr>
          <p:sp>
            <p:nvSpPr>
              <p:cNvPr id="471" name=""/>
              <p:cNvSpPr/>
              <p:nvPr/>
            </p:nvSpPr>
            <p:spPr>
              <a:xfrm>
                <a:off x="3262680" y="443664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3262320" y="454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373920" y="443556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4" name=""/>
            <p:cNvGrpSpPr/>
            <p:nvPr/>
          </p:nvGrpSpPr>
          <p:grpSpPr>
            <a:xfrm>
              <a:off x="2325600" y="4975200"/>
              <a:ext cx="223560" cy="222120"/>
              <a:chOff x="2325600" y="4975200"/>
              <a:chExt cx="223560" cy="222120"/>
            </a:xfrm>
          </p:grpSpPr>
          <p:sp>
            <p:nvSpPr>
              <p:cNvPr id="475" name=""/>
              <p:cNvSpPr/>
              <p:nvPr/>
            </p:nvSpPr>
            <p:spPr>
              <a:xfrm>
                <a:off x="232596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232560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7" name=""/>
            <p:cNvGrpSpPr/>
            <p:nvPr/>
          </p:nvGrpSpPr>
          <p:grpSpPr>
            <a:xfrm>
              <a:off x="2901960" y="4975200"/>
              <a:ext cx="223200" cy="223920"/>
              <a:chOff x="2901960" y="4975200"/>
              <a:chExt cx="223200" cy="223920"/>
            </a:xfrm>
          </p:grpSpPr>
          <p:sp>
            <p:nvSpPr>
              <p:cNvPr id="478" name=""/>
              <p:cNvSpPr/>
              <p:nvPr/>
            </p:nvSpPr>
            <p:spPr>
              <a:xfrm>
                <a:off x="2902320" y="497628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901960" y="508716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013560" y="497520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1" name=""/>
            <p:cNvGrpSpPr/>
            <p:nvPr/>
          </p:nvGrpSpPr>
          <p:grpSpPr>
            <a:xfrm>
              <a:off x="3262320" y="4976640"/>
              <a:ext cx="223200" cy="223920"/>
              <a:chOff x="3262320" y="4976640"/>
              <a:chExt cx="223200" cy="223920"/>
            </a:xfrm>
          </p:grpSpPr>
          <p:sp>
            <p:nvSpPr>
              <p:cNvPr id="482" name=""/>
              <p:cNvSpPr/>
              <p:nvPr/>
            </p:nvSpPr>
            <p:spPr>
              <a:xfrm>
                <a:off x="3262680" y="497772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3262320" y="508860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373920" y="497664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325600" y="5516640"/>
              <a:ext cx="223560" cy="222120"/>
              <a:chOff x="2325600" y="5516640"/>
              <a:chExt cx="223560" cy="222120"/>
            </a:xfrm>
          </p:grpSpPr>
          <p:sp>
            <p:nvSpPr>
              <p:cNvPr id="486" name=""/>
              <p:cNvSpPr/>
              <p:nvPr/>
            </p:nvSpPr>
            <p:spPr>
              <a:xfrm>
                <a:off x="232596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32560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2901960" y="5516640"/>
              <a:ext cx="223200" cy="223560"/>
              <a:chOff x="2901960" y="5516640"/>
              <a:chExt cx="223200" cy="223560"/>
            </a:xfrm>
          </p:grpSpPr>
          <p:sp>
            <p:nvSpPr>
              <p:cNvPr id="489" name=""/>
              <p:cNvSpPr/>
              <p:nvPr/>
            </p:nvSpPr>
            <p:spPr>
              <a:xfrm>
                <a:off x="2902320" y="5517720"/>
                <a:ext cx="222120" cy="22176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901960" y="56282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013560" y="5516640"/>
                <a:ext cx="360" cy="2235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"/>
            <p:cNvGrpSpPr/>
            <p:nvPr/>
          </p:nvGrpSpPr>
          <p:grpSpPr>
            <a:xfrm>
              <a:off x="3262320" y="5518080"/>
              <a:ext cx="223200" cy="223920"/>
              <a:chOff x="3262320" y="5518080"/>
              <a:chExt cx="223200" cy="223920"/>
            </a:xfrm>
          </p:grpSpPr>
          <p:sp>
            <p:nvSpPr>
              <p:cNvPr id="493" name=""/>
              <p:cNvSpPr/>
              <p:nvPr/>
            </p:nvSpPr>
            <p:spPr>
              <a:xfrm>
                <a:off x="3262680" y="5519160"/>
                <a:ext cx="22212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262320" y="5630040"/>
                <a:ext cx="22320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373920" y="5518080"/>
                <a:ext cx="360" cy="22392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1888920" y="4709880"/>
              <a:ext cx="58320" cy="5904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860480" y="5379840"/>
              <a:ext cx="58320" cy="586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96840" y="5222880"/>
              <a:ext cx="58320" cy="601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1963440" y="4435560"/>
              <a:ext cx="223560" cy="220320"/>
              <a:chOff x="1963440" y="4435560"/>
              <a:chExt cx="223560" cy="220320"/>
            </a:xfrm>
          </p:grpSpPr>
          <p:sp>
            <p:nvSpPr>
              <p:cNvPr id="500" name=""/>
              <p:cNvSpPr/>
              <p:nvPr/>
            </p:nvSpPr>
            <p:spPr>
              <a:xfrm>
                <a:off x="1963800" y="4435560"/>
                <a:ext cx="222480" cy="2203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963440" y="454536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2" name=""/>
            <p:cNvGrpSpPr/>
            <p:nvPr/>
          </p:nvGrpSpPr>
          <p:grpSpPr>
            <a:xfrm>
              <a:off x="1965240" y="4975200"/>
              <a:ext cx="223560" cy="222120"/>
              <a:chOff x="1965240" y="4975200"/>
              <a:chExt cx="223560" cy="222120"/>
            </a:xfrm>
          </p:grpSpPr>
          <p:sp>
            <p:nvSpPr>
              <p:cNvPr id="503" name=""/>
              <p:cNvSpPr/>
              <p:nvPr/>
            </p:nvSpPr>
            <p:spPr>
              <a:xfrm>
                <a:off x="1965600" y="497520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965240" y="508608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" name=""/>
            <p:cNvGrpSpPr/>
            <p:nvPr/>
          </p:nvGrpSpPr>
          <p:grpSpPr>
            <a:xfrm>
              <a:off x="1965240" y="5516640"/>
              <a:ext cx="223560" cy="222120"/>
              <a:chOff x="1965240" y="5516640"/>
              <a:chExt cx="223560" cy="222120"/>
            </a:xfrm>
          </p:grpSpPr>
          <p:sp>
            <p:nvSpPr>
              <p:cNvPr id="506" name=""/>
              <p:cNvSpPr/>
              <p:nvPr/>
            </p:nvSpPr>
            <p:spPr>
              <a:xfrm>
                <a:off x="1965600" y="5516640"/>
                <a:ext cx="222480" cy="222120"/>
              </a:xfrm>
              <a:prstGeom prst="ellipse">
                <a:avLst/>
              </a:prstGeom>
              <a:noFill/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965240" y="5627520"/>
                <a:ext cx="223560" cy="360"/>
              </a:xfrm>
              <a:prstGeom prst="line">
                <a:avLst/>
              </a:prstGeom>
              <a:ln w="1260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8" name=""/>
            <p:cNvSpPr/>
            <p:nvPr/>
          </p:nvSpPr>
          <p:spPr>
            <a:xfrm>
              <a:off x="2081160" y="5327640"/>
              <a:ext cx="5976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101680" y="4767120"/>
              <a:ext cx="58320" cy="5868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2141640" y="4184640"/>
            <a:ext cx="1158840" cy="663480"/>
            <a:chOff x="2141640" y="4184640"/>
            <a:chExt cx="1158840" cy="663480"/>
          </a:xfrm>
        </p:grpSpPr>
        <p:sp>
          <p:nvSpPr>
            <p:cNvPr id="511" name=""/>
            <p:cNvSpPr/>
            <p:nvPr/>
          </p:nvSpPr>
          <p:spPr>
            <a:xfrm>
              <a:off x="2141640" y="4848120"/>
              <a:ext cx="11588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500920" y="4184640"/>
              <a:ext cx="416880" cy="61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3600" spc="-1" strike="noStrike">
                  <a:solidFill>
                    <a:srgbClr val="000000"/>
                  </a:solidFill>
                  <a:latin typeface="MT Extra"/>
                  <a:ea typeface="MT Extra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5349960" y="1203480"/>
            <a:ext cx="3794040" cy="552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A temperatura ambiente, los huecos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por difusión haci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y los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de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pasan a la zona </a:t>
            </a: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En la zona de la unión,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 se recombinan, quedando una estrecha zona de transición con una distribución de carga debida a la presencia de los iones de las impurezas y a la ausencia de huecos y e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Se crea, entonces un campo eléctrico que produce corrientes de desplazamiento, que equilibran a las de difu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932120" y="5965920"/>
            <a:ext cx="533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3151080" y="5965920"/>
            <a:ext cx="533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3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3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24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3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87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"/>
          <p:cNvSpPr/>
          <p:nvPr/>
        </p:nvSpPr>
        <p:spPr>
          <a:xfrm>
            <a:off x="890640" y="2362320"/>
            <a:ext cx="7620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el modelo del diodo ideal se equipara éste a un cortocircuito o a un circuito abierto, según cómo esté conec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8" name=""/>
          <p:cNvGrpSpPr/>
          <p:nvPr/>
        </p:nvGrpSpPr>
        <p:grpSpPr>
          <a:xfrm>
            <a:off x="5484960" y="1676520"/>
            <a:ext cx="1054080" cy="304560"/>
            <a:chOff x="5484960" y="1676520"/>
            <a:chExt cx="1054080" cy="304560"/>
          </a:xfrm>
        </p:grpSpPr>
        <p:sp>
          <p:nvSpPr>
            <p:cNvPr id="1089" name=""/>
            <p:cNvSpPr/>
            <p:nvPr/>
          </p:nvSpPr>
          <p:spPr>
            <a:xfrm>
              <a:off x="5484960" y="1838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flipV="1" rot="16200000">
              <a:off x="5883120" y="169416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6188040" y="1676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2" name=""/>
          <p:cNvSpPr/>
          <p:nvPr/>
        </p:nvSpPr>
        <p:spPr>
          <a:xfrm>
            <a:off x="157788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3" name=""/>
          <p:cNvGrpSpPr/>
          <p:nvPr/>
        </p:nvGrpSpPr>
        <p:grpSpPr>
          <a:xfrm>
            <a:off x="838080" y="4051440"/>
            <a:ext cx="338400" cy="79200"/>
            <a:chOff x="838080" y="4051440"/>
            <a:chExt cx="338400" cy="79200"/>
          </a:xfrm>
        </p:grpSpPr>
        <p:sp>
          <p:nvSpPr>
            <p:cNvPr id="1094" name=""/>
            <p:cNvSpPr/>
            <p:nvPr/>
          </p:nvSpPr>
          <p:spPr>
            <a:xfrm>
              <a:off x="934560" y="4130640"/>
              <a:ext cx="14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838080" y="4051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6" name=""/>
          <p:cNvSpPr/>
          <p:nvPr/>
        </p:nvSpPr>
        <p:spPr>
          <a:xfrm>
            <a:off x="1163520" y="3935520"/>
            <a:ext cx="94536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604760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604760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"/>
          <p:cNvSpPr/>
          <p:nvPr/>
        </p:nvSpPr>
        <p:spPr>
          <a:xfrm>
            <a:off x="1671480" y="404172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8" name=""/>
          <p:cNvGrpSpPr/>
          <p:nvPr/>
        </p:nvGrpSpPr>
        <p:grpSpPr>
          <a:xfrm>
            <a:off x="2297160" y="3813120"/>
            <a:ext cx="218880" cy="1034640"/>
            <a:chOff x="2297160" y="3813120"/>
            <a:chExt cx="218880" cy="1034640"/>
          </a:xfrm>
        </p:grpSpPr>
        <p:sp>
          <p:nvSpPr>
            <p:cNvPr id="1099" name=""/>
            <p:cNvSpPr/>
            <p:nvPr/>
          </p:nvSpPr>
          <p:spPr>
            <a:xfrm>
              <a:off x="240084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40084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2297160" y="4090320"/>
              <a:ext cx="218880" cy="219600"/>
              <a:chOff x="2297160" y="4090320"/>
              <a:chExt cx="218880" cy="219600"/>
            </a:xfrm>
          </p:grpSpPr>
          <p:sp>
            <p:nvSpPr>
              <p:cNvPr id="1102" name=""/>
              <p:cNvSpPr/>
              <p:nvPr/>
            </p:nvSpPr>
            <p:spPr>
              <a:xfrm flipV="1">
                <a:off x="230400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229716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4" name=""/>
          <p:cNvGrpSpPr/>
          <p:nvPr/>
        </p:nvGrpSpPr>
        <p:grpSpPr>
          <a:xfrm>
            <a:off x="2862360" y="4051440"/>
            <a:ext cx="338040" cy="79200"/>
            <a:chOff x="2862360" y="4051440"/>
            <a:chExt cx="338040" cy="79200"/>
          </a:xfrm>
        </p:grpSpPr>
        <p:sp>
          <p:nvSpPr>
            <p:cNvPr id="1105" name=""/>
            <p:cNvSpPr/>
            <p:nvPr/>
          </p:nvSpPr>
          <p:spPr>
            <a:xfrm>
              <a:off x="2958840" y="41306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862360" y="40514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7" name=""/>
          <p:cNvSpPr/>
          <p:nvPr/>
        </p:nvSpPr>
        <p:spPr>
          <a:xfrm>
            <a:off x="3144600" y="3935520"/>
            <a:ext cx="946080" cy="968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7242025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724202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3652920" y="4041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9" name=""/>
          <p:cNvGrpSpPr/>
          <p:nvPr/>
        </p:nvGrpSpPr>
        <p:grpSpPr>
          <a:xfrm>
            <a:off x="2668680" y="4238640"/>
            <a:ext cx="152280" cy="152280"/>
            <a:chOff x="2668680" y="4238640"/>
            <a:chExt cx="152280" cy="152280"/>
          </a:xfrm>
        </p:grpSpPr>
        <p:sp>
          <p:nvSpPr>
            <p:cNvPr id="1110" name=""/>
            <p:cNvSpPr/>
            <p:nvPr/>
          </p:nvSpPr>
          <p:spPr>
            <a:xfrm>
              <a:off x="266868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66868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66868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4761000" y="4051440"/>
            <a:ext cx="338040" cy="79200"/>
            <a:chOff x="4761000" y="4051440"/>
            <a:chExt cx="338040" cy="79200"/>
          </a:xfrm>
        </p:grpSpPr>
        <p:sp>
          <p:nvSpPr>
            <p:cNvPr id="1114" name=""/>
            <p:cNvSpPr/>
            <p:nvPr/>
          </p:nvSpPr>
          <p:spPr>
            <a:xfrm>
              <a:off x="485748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76100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"/>
          <p:cNvSpPr/>
          <p:nvPr/>
        </p:nvSpPr>
        <p:spPr>
          <a:xfrm flipV="1">
            <a:off x="5087880" y="3804120"/>
            <a:ext cx="945720" cy="969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461479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461479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5595840" y="4329000"/>
            <a:ext cx="32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6221520" y="3813120"/>
            <a:ext cx="218880" cy="1034640"/>
            <a:chOff x="6221520" y="3813120"/>
            <a:chExt cx="218880" cy="1034640"/>
          </a:xfrm>
        </p:grpSpPr>
        <p:sp>
          <p:nvSpPr>
            <p:cNvPr id="1119" name=""/>
            <p:cNvSpPr/>
            <p:nvPr/>
          </p:nvSpPr>
          <p:spPr>
            <a:xfrm>
              <a:off x="6325200" y="3813120"/>
              <a:ext cx="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25200" y="4290120"/>
              <a:ext cx="0" cy="55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6221520" y="4090320"/>
              <a:ext cx="218880" cy="219600"/>
              <a:chOff x="6221520" y="4090320"/>
              <a:chExt cx="218880" cy="219600"/>
            </a:xfrm>
          </p:grpSpPr>
          <p:sp>
            <p:nvSpPr>
              <p:cNvPr id="1122" name=""/>
              <p:cNvSpPr/>
              <p:nvPr/>
            </p:nvSpPr>
            <p:spPr>
              <a:xfrm flipV="1">
                <a:off x="6228360" y="4089960"/>
                <a:ext cx="193320" cy="19908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221520" y="4309920"/>
                <a:ext cx="21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4" name=""/>
          <p:cNvGrpSpPr/>
          <p:nvPr/>
        </p:nvGrpSpPr>
        <p:grpSpPr>
          <a:xfrm>
            <a:off x="6786720" y="4051440"/>
            <a:ext cx="338040" cy="79200"/>
            <a:chOff x="6786720" y="4051440"/>
            <a:chExt cx="338040" cy="79200"/>
          </a:xfrm>
        </p:grpSpPr>
        <p:sp>
          <p:nvSpPr>
            <p:cNvPr id="1125" name=""/>
            <p:cNvSpPr/>
            <p:nvPr/>
          </p:nvSpPr>
          <p:spPr>
            <a:xfrm>
              <a:off x="6883200" y="4051440"/>
              <a:ext cx="14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786720" y="4130640"/>
              <a:ext cx="33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7" name=""/>
          <p:cNvSpPr/>
          <p:nvPr/>
        </p:nvSpPr>
        <p:spPr>
          <a:xfrm>
            <a:off x="6953400" y="4848120"/>
            <a:ext cx="135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6593040" y="4238640"/>
            <a:ext cx="152280" cy="152280"/>
            <a:chOff x="6593040" y="4238640"/>
            <a:chExt cx="152280" cy="152280"/>
          </a:xfrm>
        </p:grpSpPr>
        <p:sp>
          <p:nvSpPr>
            <p:cNvPr id="1129" name=""/>
            <p:cNvSpPr/>
            <p:nvPr/>
          </p:nvSpPr>
          <p:spPr>
            <a:xfrm>
              <a:off x="6593040" y="42386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593040" y="431496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593040" y="43909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2" name=""/>
          <p:cNvSpPr/>
          <p:nvPr/>
        </p:nvSpPr>
        <p:spPr>
          <a:xfrm>
            <a:off x="609480" y="1600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ª aproximación: diodo i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302580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346392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100656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1482840" y="374328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4929120" y="3809880"/>
            <a:ext cx="1395360" cy="1038240"/>
          </a:xfrm>
          <a:custGeom>
            <a:avLst/>
            <a:gdLst/>
            <a:ahLst/>
            <a:rect l="l" t="t" r="r" b="b"/>
            <a:pathLst>
              <a:path w="879" h="654">
                <a:moveTo>
                  <a:pt x="0" y="150"/>
                </a:moveTo>
                <a:lnTo>
                  <a:pt x="0" y="0"/>
                </a:lnTo>
                <a:lnTo>
                  <a:pt x="879" y="0"/>
                </a:lnTo>
                <a:lnTo>
                  <a:pt x="879" y="654"/>
                </a:lnTo>
                <a:lnTo>
                  <a:pt x="0" y="654"/>
                </a:lnTo>
                <a:lnTo>
                  <a:pt x="0" y="20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541188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954840" y="4130640"/>
            <a:ext cx="1352520" cy="71748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lnTo>
                  <a:pt x="0" y="432"/>
                </a:lnTo>
                <a:lnTo>
                  <a:pt x="864" y="432"/>
                </a:lnTo>
                <a:lnTo>
                  <a:pt x="864" y="2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6954840" y="3813120"/>
            <a:ext cx="1352520" cy="457200"/>
          </a:xfrm>
          <a:custGeom>
            <a:avLst/>
            <a:gdLst/>
            <a:ahLst/>
            <a:rect l="l" t="t" r="r" b="b"/>
            <a:pathLst>
              <a:path w="864" h="288">
                <a:moveTo>
                  <a:pt x="0" y="144"/>
                </a:moveTo>
                <a:lnTo>
                  <a:pt x="0" y="0"/>
                </a:lnTo>
                <a:lnTo>
                  <a:pt x="864" y="0"/>
                </a:lnTo>
                <a:lnTo>
                  <a:pt x="864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7392960" y="3753000"/>
            <a:ext cx="484200" cy="12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5487840" y="3429000"/>
            <a:ext cx="3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101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539640" y="1557360"/>
            <a:ext cx="5486400" cy="319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polarización directa, se observa que el diodo necesita una tensión umbral, o tensión de codo para que pase la corriente I. Después ésta aumenta exponencialm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 la 2ª aproximación del diodo se puede suponer que V es constante para una amplio margen de intensidad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3 V para el diodo de 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0.7 V para el de S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5" name=""/>
              <p:cNvSpPr txBox="1"/>
              <p:nvPr/>
            </p:nvSpPr>
            <p:spPr>
              <a:xfrm>
                <a:off x="5262480" y="5845320"/>
                <a:ext cx="3276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146" name=""/>
          <p:cNvGrpSpPr/>
          <p:nvPr/>
        </p:nvGrpSpPr>
        <p:grpSpPr>
          <a:xfrm>
            <a:off x="7700760" y="4365720"/>
            <a:ext cx="535320" cy="347040"/>
            <a:chOff x="7700760" y="4365720"/>
            <a:chExt cx="535320" cy="347040"/>
          </a:xfrm>
        </p:grpSpPr>
        <p:sp>
          <p:nvSpPr>
            <p:cNvPr id="1147" name=""/>
            <p:cNvSpPr/>
            <p:nvPr/>
          </p:nvSpPr>
          <p:spPr>
            <a:xfrm>
              <a:off x="7700760" y="4365720"/>
              <a:ext cx="186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200" spc="-1" strike="noStrike">
                  <a:solidFill>
                    <a:srgbClr val="0000ff"/>
                  </a:solidFill>
                  <a:latin typeface="Arial"/>
                </a:rPr>
                <a:t>V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48360" y="4499280"/>
              <a:ext cx="387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ff"/>
                  </a:solidFill>
                  <a:latin typeface="Arial"/>
                </a:rPr>
                <a:t>c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 flipV="1">
            <a:off x="6329520" y="189216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5262480" y="4330800"/>
            <a:ext cx="3505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8386920" y="4330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6100920" y="2044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567400" y="1892160"/>
            <a:ext cx="2438280" cy="2438640"/>
          </a:xfrm>
          <a:custGeom>
            <a:avLst/>
            <a:gdLst/>
            <a:ahLst/>
            <a:rect l="l" t="t" r="r" b="b"/>
            <a:pathLst>
              <a:path w="1536" h="1536">
                <a:moveTo>
                  <a:pt x="0" y="1536"/>
                </a:moveTo>
                <a:lnTo>
                  <a:pt x="1536" y="1536"/>
                </a:lnTo>
                <a:lnTo>
                  <a:pt x="1536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2540160" y="4788000"/>
            <a:ext cx="3332160" cy="1411200"/>
            <a:chOff x="2540160" y="4788000"/>
            <a:chExt cx="3332160" cy="1411200"/>
          </a:xfrm>
        </p:grpSpPr>
        <p:grpSp>
          <p:nvGrpSpPr>
            <p:cNvPr id="1155" name=""/>
            <p:cNvGrpSpPr/>
            <p:nvPr/>
          </p:nvGrpSpPr>
          <p:grpSpPr>
            <a:xfrm>
              <a:off x="3183120" y="5410440"/>
              <a:ext cx="320760" cy="74520"/>
              <a:chOff x="3183120" y="5410440"/>
              <a:chExt cx="320760" cy="74520"/>
            </a:xfrm>
          </p:grpSpPr>
          <p:sp>
            <p:nvSpPr>
              <p:cNvPr id="1156" name=""/>
              <p:cNvSpPr/>
              <p:nvPr/>
            </p:nvSpPr>
            <p:spPr>
              <a:xfrm>
                <a:off x="3274560" y="548496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3183120" y="541044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8" name=""/>
            <p:cNvSpPr/>
            <p:nvPr/>
          </p:nvSpPr>
          <p:spPr>
            <a:xfrm>
              <a:off x="3635640" y="478800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2540160" y="5050080"/>
              <a:ext cx="96372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462840" y="530388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945240" y="540072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37160" y="555012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3" name=""/>
            <p:cNvGrpSpPr/>
            <p:nvPr/>
          </p:nvGrpSpPr>
          <p:grpSpPr>
            <a:xfrm>
              <a:off x="4540320" y="5804280"/>
              <a:ext cx="206640" cy="203040"/>
              <a:chOff x="4540320" y="5804280"/>
              <a:chExt cx="206640" cy="203040"/>
            </a:xfrm>
          </p:grpSpPr>
          <p:sp>
            <p:nvSpPr>
              <p:cNvPr id="1164" name=""/>
              <p:cNvSpPr/>
              <p:nvPr/>
            </p:nvSpPr>
            <p:spPr>
              <a:xfrm flipV="1">
                <a:off x="4546800" y="5804280"/>
                <a:ext cx="182520" cy="184320"/>
              </a:xfrm>
              <a:prstGeom prst="triangle">
                <a:avLst>
                  <a:gd name="adj" fmla="val 50000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760" bIns="147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4540320" y="6007320"/>
                <a:ext cx="2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6" name=""/>
            <p:cNvSpPr/>
            <p:nvPr/>
          </p:nvSpPr>
          <p:spPr>
            <a:xfrm>
              <a:off x="4740480" y="5397840"/>
              <a:ext cx="113184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341880" y="5183280"/>
              <a:ext cx="129528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767400" y="513432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9" name=""/>
            <p:cNvGrpSpPr/>
            <p:nvPr/>
          </p:nvGrpSpPr>
          <p:grpSpPr>
            <a:xfrm>
              <a:off x="4484880" y="5450040"/>
              <a:ext cx="320760" cy="82440"/>
              <a:chOff x="4484880" y="5450040"/>
              <a:chExt cx="320760" cy="82440"/>
            </a:xfrm>
          </p:grpSpPr>
          <p:sp>
            <p:nvSpPr>
              <p:cNvPr id="1170" name=""/>
              <p:cNvSpPr/>
              <p:nvPr/>
            </p:nvSpPr>
            <p:spPr>
              <a:xfrm>
                <a:off x="4561200" y="5450040"/>
                <a:ext cx="152280" cy="7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1" name=""/>
              <p:cNvGrpSpPr/>
              <p:nvPr/>
            </p:nvGrpSpPr>
            <p:grpSpPr>
              <a:xfrm>
                <a:off x="4484880" y="5457960"/>
                <a:ext cx="320760" cy="74520"/>
                <a:chOff x="4484880" y="5457960"/>
                <a:chExt cx="320760" cy="74520"/>
              </a:xfrm>
            </p:grpSpPr>
            <p:sp>
              <p:nvSpPr>
                <p:cNvPr id="1172" name=""/>
                <p:cNvSpPr/>
                <p:nvPr/>
              </p:nvSpPr>
              <p:spPr>
                <a:xfrm>
                  <a:off x="4576320" y="5532480"/>
                  <a:ext cx="137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"/>
                <p:cNvSpPr/>
                <p:nvPr/>
              </p:nvSpPr>
              <p:spPr>
                <a:xfrm>
                  <a:off x="4484880" y="5457960"/>
                  <a:ext cx="3207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4" name=""/>
            <p:cNvGrpSpPr/>
            <p:nvPr/>
          </p:nvGrpSpPr>
          <p:grpSpPr>
            <a:xfrm>
              <a:off x="2695680" y="5599440"/>
              <a:ext cx="152280" cy="152280"/>
              <a:chOff x="2695680" y="5599440"/>
              <a:chExt cx="152280" cy="152280"/>
            </a:xfrm>
          </p:grpSpPr>
          <p:sp>
            <p:nvSpPr>
              <p:cNvPr id="1175" name=""/>
              <p:cNvSpPr/>
              <p:nvPr/>
            </p:nvSpPr>
            <p:spPr>
              <a:xfrm>
                <a:off x="2695680" y="559944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695680" y="567576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695680" y="5751720"/>
                <a:ext cx="15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78" name=""/>
          <p:cNvGrpSpPr/>
          <p:nvPr/>
        </p:nvGrpSpPr>
        <p:grpSpPr>
          <a:xfrm>
            <a:off x="324000" y="4724280"/>
            <a:ext cx="2209680" cy="1411200"/>
            <a:chOff x="324000" y="4724280"/>
            <a:chExt cx="2209680" cy="1411200"/>
          </a:xfrm>
        </p:grpSpPr>
        <p:grpSp>
          <p:nvGrpSpPr>
            <p:cNvPr id="1179" name=""/>
            <p:cNvGrpSpPr/>
            <p:nvPr/>
          </p:nvGrpSpPr>
          <p:grpSpPr>
            <a:xfrm>
              <a:off x="977760" y="5346720"/>
              <a:ext cx="320760" cy="74520"/>
              <a:chOff x="977760" y="5346720"/>
              <a:chExt cx="320760" cy="74520"/>
            </a:xfrm>
          </p:grpSpPr>
          <p:sp>
            <p:nvSpPr>
              <p:cNvPr id="1180" name=""/>
              <p:cNvSpPr/>
              <p:nvPr/>
            </p:nvSpPr>
            <p:spPr>
              <a:xfrm>
                <a:off x="1069200" y="542124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977760" y="534672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2" name=""/>
            <p:cNvSpPr/>
            <p:nvPr/>
          </p:nvSpPr>
          <p:spPr>
            <a:xfrm>
              <a:off x="1430280" y="472428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257840" y="524016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1739880" y="533700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2327400" y="558180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136520" y="5119560"/>
              <a:ext cx="129564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562040" y="507060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324000" y="4986360"/>
              <a:ext cx="96336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2338560" y="539532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61272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2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4.El diodo como rectificador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roximaciones o modelos del diodo</a:t>
            </a: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324000" y="1557360"/>
            <a:ext cx="272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La 3ª aproximación es un diodo ideal con una resistencia en serie y una fuente de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3" name=""/>
          <p:cNvGrpSpPr/>
          <p:nvPr/>
        </p:nvGrpSpPr>
        <p:grpSpPr>
          <a:xfrm>
            <a:off x="250920" y="5013360"/>
            <a:ext cx="4723920" cy="1450440"/>
            <a:chOff x="250920" y="5013360"/>
            <a:chExt cx="4723920" cy="1450440"/>
          </a:xfrm>
        </p:grpSpPr>
        <p:grpSp>
          <p:nvGrpSpPr>
            <p:cNvPr id="1194" name=""/>
            <p:cNvGrpSpPr/>
            <p:nvPr/>
          </p:nvGrpSpPr>
          <p:grpSpPr>
            <a:xfrm>
              <a:off x="904680" y="5621400"/>
              <a:ext cx="320400" cy="74520"/>
              <a:chOff x="904680" y="5621400"/>
              <a:chExt cx="320400" cy="74520"/>
            </a:xfrm>
          </p:grpSpPr>
          <p:sp>
            <p:nvSpPr>
              <p:cNvPr id="1195" name=""/>
              <p:cNvSpPr/>
              <p:nvPr/>
            </p:nvSpPr>
            <p:spPr>
              <a:xfrm>
                <a:off x="996120" y="569592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904680" y="562140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7" name=""/>
            <p:cNvSpPr/>
            <p:nvPr/>
          </p:nvSpPr>
          <p:spPr>
            <a:xfrm>
              <a:off x="1241280" y="5013360"/>
              <a:ext cx="107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250920" y="56671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1184400" y="5514840"/>
              <a:ext cx="89460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1666800" y="5611680"/>
              <a:ext cx="30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 flipV="1">
              <a:off x="2265120" y="5531760"/>
              <a:ext cx="182160" cy="18396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2253960" y="571824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063440" y="5394240"/>
              <a:ext cx="1294920" cy="97632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1469880" y="5335560"/>
              <a:ext cx="456840" cy="111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 rot="16200000">
              <a:off x="2244240" y="5913000"/>
              <a:ext cx="228600" cy="75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2276280" y="6126120"/>
              <a:ext cx="15192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7" name=""/>
            <p:cNvGrpSpPr/>
            <p:nvPr/>
          </p:nvGrpSpPr>
          <p:grpSpPr>
            <a:xfrm>
              <a:off x="2199960" y="6127560"/>
              <a:ext cx="320400" cy="74880"/>
              <a:chOff x="2199960" y="6127560"/>
              <a:chExt cx="320400" cy="74880"/>
            </a:xfrm>
          </p:grpSpPr>
          <p:sp>
            <p:nvSpPr>
              <p:cNvPr id="1208" name=""/>
              <p:cNvSpPr/>
              <p:nvPr/>
            </p:nvSpPr>
            <p:spPr>
              <a:xfrm>
                <a:off x="2291400" y="6202440"/>
                <a:ext cx="13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2199960" y="6127560"/>
                <a:ext cx="32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0" name=""/>
            <p:cNvSpPr/>
            <p:nvPr/>
          </p:nvSpPr>
          <p:spPr>
            <a:xfrm>
              <a:off x="2460600" y="5761080"/>
              <a:ext cx="2514240" cy="6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/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=(ejemplo 25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84280" y="6065640"/>
              <a:ext cx="1131480" cy="39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0.7 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12" name=""/>
              <p:cNvSpPr txBox="1"/>
              <p:nvPr/>
            </p:nvSpPr>
            <p:spPr>
              <a:xfrm>
                <a:off x="5035680" y="5857920"/>
                <a:ext cx="368280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0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13" name=""/>
          <p:cNvGrpSpPr/>
          <p:nvPr/>
        </p:nvGrpSpPr>
        <p:grpSpPr>
          <a:xfrm>
            <a:off x="457200" y="2954160"/>
            <a:ext cx="2209680" cy="1410840"/>
            <a:chOff x="457200" y="2954160"/>
            <a:chExt cx="2209680" cy="1410840"/>
          </a:xfrm>
        </p:grpSpPr>
        <p:grpSp>
          <p:nvGrpSpPr>
            <p:cNvPr id="1214" name=""/>
            <p:cNvGrpSpPr/>
            <p:nvPr/>
          </p:nvGrpSpPr>
          <p:grpSpPr>
            <a:xfrm>
              <a:off x="1111320" y="3576600"/>
              <a:ext cx="320760" cy="74520"/>
              <a:chOff x="1111320" y="3576600"/>
              <a:chExt cx="320760" cy="74520"/>
            </a:xfrm>
          </p:grpSpPr>
          <p:sp>
            <p:nvSpPr>
              <p:cNvPr id="1215" name=""/>
              <p:cNvSpPr/>
              <p:nvPr/>
            </p:nvSpPr>
            <p:spPr>
              <a:xfrm>
                <a:off x="1202760" y="3651120"/>
                <a:ext cx="13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1111320" y="3576600"/>
                <a:ext cx="320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7" name=""/>
            <p:cNvSpPr/>
            <p:nvPr/>
          </p:nvSpPr>
          <p:spPr>
            <a:xfrm>
              <a:off x="1563840" y="2954160"/>
              <a:ext cx="1077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R=1k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200" y="3622320"/>
              <a:ext cx="838080" cy="32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ctr">
              <a:spAutoFit/>
            </a:bodyPr>
            <a:p>
              <a:pPr>
                <a:lnSpc>
                  <a:spcPct val="11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0 </a:t>
              </a: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= 6V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1391040" y="3470400"/>
              <a:ext cx="894600" cy="8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905" y="3430"/>
                  </a:moveTo>
                  <a:arcTo wR="10800" hR="10800" stAng="-8218078" swAng="7805629"/>
                  <a:lnTo>
                    <a:pt x="10800" y="10800"/>
                  </a:lnTo>
                  <a:close/>
                </a:path>
                <a:path fill="none" w="21600" h="21600">
                  <a:moveTo>
                    <a:pt x="2905" y="3430"/>
                  </a:moveTo>
                  <a:arcTo wR="10800" hR="10800" stAng="-8218078" swAng="7805629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1873080" y="3567240"/>
              <a:ext cx="30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2460600" y="3811680"/>
              <a:ext cx="20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270080" y="3349800"/>
              <a:ext cx="1295280" cy="975960"/>
            </a:xfrm>
            <a:custGeom>
              <a:avLst/>
              <a:gdLst/>
              <a:ahLst/>
              <a:rect l="l" t="t" r="r" b="b"/>
              <a:pathLst>
                <a:path w="816" h="624">
                  <a:moveTo>
                    <a:pt x="0" y="144"/>
                  </a:moveTo>
                  <a:lnTo>
                    <a:pt x="0" y="0"/>
                  </a:lnTo>
                  <a:lnTo>
                    <a:pt x="816" y="0"/>
                  </a:lnTo>
                  <a:lnTo>
                    <a:pt x="816" y="624"/>
                  </a:lnTo>
                  <a:lnTo>
                    <a:pt x="0" y="624"/>
                  </a:lnTo>
                  <a:lnTo>
                    <a:pt x="0" y="1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695600" y="3300480"/>
              <a:ext cx="457200" cy="11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2471760" y="3625200"/>
              <a:ext cx="182520" cy="1839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5" name=""/>
          <p:cNvSpPr/>
          <p:nvPr/>
        </p:nvSpPr>
        <p:spPr>
          <a:xfrm>
            <a:off x="324000" y="1197000"/>
            <a:ext cx="3124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66cc"/>
                </a:solidFill>
                <a:latin typeface="Arial"/>
              </a:rPr>
              <a:t>3ª Aproximación line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6" name=""/>
          <p:cNvGraphicFramePr/>
          <p:nvPr/>
        </p:nvGraphicFramePr>
        <p:xfrm>
          <a:off x="3203640" y="1136520"/>
          <a:ext cx="594036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3640" y="1136520"/>
                    <a:ext cx="59403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5.Diodo Ze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9" name="" descr=""/>
          <p:cNvPicPr/>
          <p:nvPr/>
        </p:nvPicPr>
        <p:blipFill>
          <a:blip r:embed="rId1"/>
          <a:stretch/>
        </p:blipFill>
        <p:spPr>
          <a:xfrm>
            <a:off x="3659040" y="1187280"/>
            <a:ext cx="5484960" cy="48326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grpSp>
        <p:nvGrpSpPr>
          <p:cNvPr id="1230" name=""/>
          <p:cNvGrpSpPr/>
          <p:nvPr/>
        </p:nvGrpSpPr>
        <p:grpSpPr>
          <a:xfrm>
            <a:off x="7105680" y="4230720"/>
            <a:ext cx="819000" cy="441360"/>
            <a:chOff x="7105680" y="4230720"/>
            <a:chExt cx="819000" cy="441360"/>
          </a:xfrm>
        </p:grpSpPr>
        <p:sp>
          <p:nvSpPr>
            <p:cNvPr id="1231" name=""/>
            <p:cNvSpPr/>
            <p:nvPr/>
          </p:nvSpPr>
          <p:spPr>
            <a:xfrm>
              <a:off x="7105680" y="4451400"/>
              <a:ext cx="34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H="1">
              <a:off x="7575480" y="4451400"/>
              <a:ext cx="349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31120" y="4270320"/>
              <a:ext cx="180720" cy="3636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30" y="9982"/>
                  </a:lnTo>
                  <a:lnTo>
                    <a:pt x="0" y="199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538760" y="4230720"/>
              <a:ext cx="146160" cy="44136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971"/>
                  </a:moveTo>
                  <a:lnTo>
                    <a:pt x="9956" y="18329"/>
                  </a:lnTo>
                  <a:lnTo>
                    <a:pt x="9956" y="1902"/>
                  </a:lnTo>
                  <a:lnTo>
                    <a:pt x="19913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5" name=""/>
          <p:cNvSpPr/>
          <p:nvPr/>
        </p:nvSpPr>
        <p:spPr>
          <a:xfrm>
            <a:off x="150840" y="1295280"/>
            <a:ext cx="3430440" cy="52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El diodo Zener trabaja con polarización inversa utilizando el fenómeno de conducción por ruptura o avalanch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Para una tensión inversa dada, llamada tensión Zener, ésta se mantiene constante aunque la corriente varí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Con polarización directa trabaja como un diodo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La potencia en el diodo P = 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Comic Sans MS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I no debe sobrepasar el valor indicado por el fabricante para que regule correctamente la ten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0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"/>
                                        <p:tgtEl>
                                          <p:spTgt spid="1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4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300"/>
                                        <p:tgtEl>
                                          <p:spTgt spid="1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1100"/>
                            </p:stCondLst>
                            <p:childTnLst>
                              <p:par>
                                <p:cTn id="2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300"/>
                                        <p:tgtEl>
                                          <p:spTgt spid="1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13800"/>
                            </p:stCondLst>
                            <p:childTnLst>
                              <p:par>
                                <p:cTn id="2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8" dur="300"/>
                                        <p:tgtEl>
                                          <p:spTgt spid="1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odo Zener: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1758960" y="2496960"/>
            <a:ext cx="385560" cy="96840"/>
            <a:chOff x="1758960" y="2496960"/>
            <a:chExt cx="385560" cy="96840"/>
          </a:xfrm>
        </p:grpSpPr>
        <p:sp>
          <p:nvSpPr>
            <p:cNvPr id="1238" name=""/>
            <p:cNvSpPr/>
            <p:nvPr/>
          </p:nvSpPr>
          <p:spPr>
            <a:xfrm>
              <a:off x="1868400" y="259380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1758960" y="249696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3575160" y="25606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2286000" y="181116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882720" y="253836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2079000" y="2347920"/>
            <a:ext cx="107964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2660760" y="2481120"/>
            <a:ext cx="37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5" name=""/>
              <p:cNvSpPr txBox="1"/>
              <p:nvPr/>
            </p:nvSpPr>
            <p:spPr>
              <a:xfrm>
                <a:off x="5651640" y="3124080"/>
                <a:ext cx="2736720" cy="6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6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k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6" name=""/>
          <p:cNvSpPr/>
          <p:nvPr/>
        </p:nvSpPr>
        <p:spPr>
          <a:xfrm>
            <a:off x="5181480" y="3946680"/>
            <a:ext cx="3657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 = 5V·1mA = 5 m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7" name=""/>
          <p:cNvGrpSpPr/>
          <p:nvPr/>
        </p:nvGrpSpPr>
        <p:grpSpPr>
          <a:xfrm>
            <a:off x="3270240" y="3411360"/>
            <a:ext cx="457200" cy="304920"/>
            <a:chOff x="3270240" y="3411360"/>
            <a:chExt cx="457200" cy="304920"/>
          </a:xfrm>
        </p:grpSpPr>
        <p:sp>
          <p:nvSpPr>
            <p:cNvPr id="1248" name=""/>
            <p:cNvSpPr/>
            <p:nvPr/>
          </p:nvSpPr>
          <p:spPr>
            <a:xfrm>
              <a:off x="3498840" y="34113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3270240" y="3564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3422520" y="37162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3346200" y="36399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2" name=""/>
          <p:cNvSpPr/>
          <p:nvPr/>
        </p:nvSpPr>
        <p:spPr>
          <a:xfrm>
            <a:off x="4032360" y="203976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5867280" y="213372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5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1949400" y="2192400"/>
            <a:ext cx="2133720" cy="3045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2444760" y="212076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1949400" y="2592360"/>
            <a:ext cx="2057400" cy="89532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3498840" y="21924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3327480" y="2444760"/>
            <a:ext cx="330120" cy="347760"/>
            <a:chOff x="3327480" y="2444760"/>
            <a:chExt cx="330120" cy="347760"/>
          </a:xfrm>
        </p:grpSpPr>
        <p:sp>
          <p:nvSpPr>
            <p:cNvPr id="1259" name=""/>
            <p:cNvSpPr/>
            <p:nvPr/>
          </p:nvSpPr>
          <p:spPr>
            <a:xfrm>
              <a:off x="3382560" y="254412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0" name=""/>
            <p:cNvGrpSpPr/>
            <p:nvPr/>
          </p:nvGrpSpPr>
          <p:grpSpPr>
            <a:xfrm>
              <a:off x="3327480" y="2444760"/>
              <a:ext cx="330120" cy="205920"/>
              <a:chOff x="3327480" y="2444760"/>
              <a:chExt cx="330120" cy="205920"/>
            </a:xfrm>
          </p:grpSpPr>
          <p:sp>
            <p:nvSpPr>
              <p:cNvPr id="1261" name=""/>
              <p:cNvSpPr/>
              <p:nvPr/>
            </p:nvSpPr>
            <p:spPr>
              <a:xfrm flipV="1">
                <a:off x="3327480" y="255132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3327480" y="255132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 flipV="1">
                <a:off x="3657600" y="244476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4" name=""/>
          <p:cNvSpPr/>
          <p:nvPr/>
        </p:nvSpPr>
        <p:spPr>
          <a:xfrm>
            <a:off x="3835440" y="501660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5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2546280" y="4267080"/>
            <a:ext cx="99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=1k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1219320" y="5492880"/>
            <a:ext cx="9968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e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= 6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"/>
          <p:cNvSpPr/>
          <p:nvPr/>
        </p:nvSpPr>
        <p:spPr>
          <a:xfrm>
            <a:off x="2339280" y="4803840"/>
            <a:ext cx="1080000" cy="1206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05" y="3430"/>
                </a:moveTo>
                <a:arcTo wR="10800" hR="10800" stAng="-8218078" swAng="8218078"/>
                <a:lnTo>
                  <a:pt x="10800" y="10800"/>
                </a:lnTo>
                <a:close/>
              </a:path>
              <a:path fill="none" w="21600" h="21600">
                <a:moveTo>
                  <a:pt x="2905" y="3430"/>
                </a:moveTo>
                <a:arcTo wR="10800" hR="10800" stAng="-8218078" swAng="8218078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"/>
          <p:cNvSpPr/>
          <p:nvPr/>
        </p:nvSpPr>
        <p:spPr>
          <a:xfrm>
            <a:off x="2921040" y="4937040"/>
            <a:ext cx="37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3530520" y="5867280"/>
            <a:ext cx="457200" cy="304920"/>
            <a:chOff x="3530520" y="5867280"/>
            <a:chExt cx="457200" cy="304920"/>
          </a:xfrm>
        </p:grpSpPr>
        <p:sp>
          <p:nvSpPr>
            <p:cNvPr id="1270" name=""/>
            <p:cNvSpPr/>
            <p:nvPr/>
          </p:nvSpPr>
          <p:spPr>
            <a:xfrm>
              <a:off x="3759120" y="58672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3530520" y="6019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3682800" y="6172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3606480" y="60958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4" name=""/>
          <p:cNvSpPr/>
          <p:nvPr/>
        </p:nvSpPr>
        <p:spPr>
          <a:xfrm>
            <a:off x="4292640" y="449568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"/>
          <p:cNvSpPr/>
          <p:nvPr/>
        </p:nvSpPr>
        <p:spPr>
          <a:xfrm>
            <a:off x="2209680" y="4648320"/>
            <a:ext cx="2133720" cy="857160"/>
          </a:xfrm>
          <a:custGeom>
            <a:avLst/>
            <a:gdLst/>
            <a:ahLst/>
            <a:rect l="l" t="t" r="r" b="b"/>
            <a:pathLst>
              <a:path w="1344" h="192">
                <a:moveTo>
                  <a:pt x="0" y="192"/>
                </a:moveTo>
                <a:lnTo>
                  <a:pt x="0" y="0"/>
                </a:lnTo>
                <a:lnTo>
                  <a:pt x="1344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"/>
          <p:cNvSpPr/>
          <p:nvPr/>
        </p:nvSpPr>
        <p:spPr>
          <a:xfrm>
            <a:off x="2705040" y="4576680"/>
            <a:ext cx="550800" cy="14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"/>
          <p:cNvSpPr/>
          <p:nvPr/>
        </p:nvSpPr>
        <p:spPr>
          <a:xfrm>
            <a:off x="2209680" y="5607000"/>
            <a:ext cx="2057400" cy="336600"/>
          </a:xfrm>
          <a:custGeom>
            <a:avLst/>
            <a:gdLst/>
            <a:ahLst/>
            <a:rect l="l" t="t" r="r" b="b"/>
            <a:pathLst>
              <a:path w="1296" h="576">
                <a:moveTo>
                  <a:pt x="0" y="0"/>
                </a:moveTo>
                <a:lnTo>
                  <a:pt x="0" y="576"/>
                </a:lnTo>
                <a:lnTo>
                  <a:pt x="1296" y="57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3759120" y="46483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9" name=""/>
          <p:cNvGrpSpPr/>
          <p:nvPr/>
        </p:nvGrpSpPr>
        <p:grpSpPr>
          <a:xfrm>
            <a:off x="3587760" y="4900680"/>
            <a:ext cx="330120" cy="347760"/>
            <a:chOff x="3587760" y="4900680"/>
            <a:chExt cx="330120" cy="347760"/>
          </a:xfrm>
        </p:grpSpPr>
        <p:sp>
          <p:nvSpPr>
            <p:cNvPr id="1280" name=""/>
            <p:cNvSpPr/>
            <p:nvPr/>
          </p:nvSpPr>
          <p:spPr>
            <a:xfrm>
              <a:off x="3642840" y="5000040"/>
              <a:ext cx="219960" cy="2484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1" name=""/>
            <p:cNvGrpSpPr/>
            <p:nvPr/>
          </p:nvGrpSpPr>
          <p:grpSpPr>
            <a:xfrm>
              <a:off x="3587760" y="4900680"/>
              <a:ext cx="330120" cy="205920"/>
              <a:chOff x="3587760" y="4900680"/>
              <a:chExt cx="330120" cy="205920"/>
            </a:xfrm>
          </p:grpSpPr>
          <p:sp>
            <p:nvSpPr>
              <p:cNvPr id="1282" name=""/>
              <p:cNvSpPr/>
              <p:nvPr/>
            </p:nvSpPr>
            <p:spPr>
              <a:xfrm flipV="1">
                <a:off x="3587760" y="500724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587760" y="5007240"/>
                <a:ext cx="330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V="1">
                <a:off x="3917880" y="4900680"/>
                <a:ext cx="0" cy="9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5" name=""/>
          <p:cNvSpPr/>
          <p:nvPr/>
        </p:nvSpPr>
        <p:spPr>
          <a:xfrm>
            <a:off x="2019240" y="4819680"/>
            <a:ext cx="38124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~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6" name=""/>
          <p:cNvGrpSpPr/>
          <p:nvPr/>
        </p:nvGrpSpPr>
        <p:grpSpPr>
          <a:xfrm>
            <a:off x="2019240" y="5505480"/>
            <a:ext cx="385560" cy="96840"/>
            <a:chOff x="2019240" y="5505480"/>
            <a:chExt cx="385560" cy="96840"/>
          </a:xfrm>
        </p:grpSpPr>
        <p:sp>
          <p:nvSpPr>
            <p:cNvPr id="1287" name=""/>
            <p:cNvSpPr/>
            <p:nvPr/>
          </p:nvSpPr>
          <p:spPr>
            <a:xfrm>
              <a:off x="2128680" y="5602320"/>
              <a:ext cx="16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019240" y="5505480"/>
              <a:ext cx="385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9" name=""/>
          <p:cNvSpPr/>
          <p:nvPr/>
        </p:nvSpPr>
        <p:spPr>
          <a:xfrm>
            <a:off x="609480" y="4667400"/>
            <a:ext cx="1524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rizad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,50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"/>
          <p:cNvSpPr/>
          <p:nvPr/>
        </p:nvSpPr>
        <p:spPr>
          <a:xfrm>
            <a:off x="103320" y="1263600"/>
            <a:ext cx="873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 utiliza como limitador o regulador de tensión,  para atenuar el rizado de algunas señ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"/>
          <p:cNvSpPr/>
          <p:nvPr/>
        </p:nvSpPr>
        <p:spPr>
          <a:xfrm flipV="1">
            <a:off x="2438280" y="2374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6673320" y="3303000"/>
            <a:ext cx="304920" cy="291240"/>
            <a:chOff x="6673320" y="3303000"/>
            <a:chExt cx="304920" cy="291240"/>
          </a:xfrm>
        </p:grpSpPr>
        <p:sp>
          <p:nvSpPr>
            <p:cNvPr id="1293" name=""/>
            <p:cNvSpPr/>
            <p:nvPr/>
          </p:nvSpPr>
          <p:spPr>
            <a:xfrm rot="10800000">
              <a:off x="6689520" y="330300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 flipH="1">
              <a:off x="6673320" y="35942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5" name=""/>
          <p:cNvSpPr/>
          <p:nvPr/>
        </p:nvSpPr>
        <p:spPr>
          <a:xfrm rot="16200000">
            <a:off x="1954080" y="38365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2438280" y="3060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2667960" y="38228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>
            <a:off x="2728800" y="26798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2059200" y="176544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2209680" y="4584600"/>
            <a:ext cx="457200" cy="304920"/>
            <a:chOff x="2209680" y="4584600"/>
            <a:chExt cx="457200" cy="304920"/>
          </a:xfrm>
        </p:grpSpPr>
        <p:sp>
          <p:nvSpPr>
            <p:cNvPr id="1301" name=""/>
            <p:cNvSpPr/>
            <p:nvPr/>
          </p:nvSpPr>
          <p:spPr>
            <a:xfrm>
              <a:off x="2438280" y="458460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209680" y="47372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361960" y="4889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2285640" y="4813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5" name=""/>
          <p:cNvSpPr/>
          <p:nvPr/>
        </p:nvSpPr>
        <p:spPr>
          <a:xfrm flipV="1">
            <a:off x="2438280" y="443196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2374920" y="231156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198108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52604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4797360" y="3443400"/>
            <a:ext cx="762120" cy="164880"/>
            <a:chOff x="4797360" y="3443400"/>
            <a:chExt cx="762120" cy="164880"/>
          </a:xfrm>
        </p:grpSpPr>
        <p:sp>
          <p:nvSpPr>
            <p:cNvPr id="1310" name=""/>
            <p:cNvSpPr/>
            <p:nvPr/>
          </p:nvSpPr>
          <p:spPr>
            <a:xfrm>
              <a:off x="4797360" y="344340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987800" y="360828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2" name=""/>
          <p:cNvSpPr/>
          <p:nvPr/>
        </p:nvSpPr>
        <p:spPr>
          <a:xfrm>
            <a:off x="5524560" y="222264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5181480" y="2374920"/>
            <a:ext cx="362160" cy="106668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5591880" y="17366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5183280" y="290844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5181480" y="35938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2285640" y="2832480"/>
            <a:ext cx="304920" cy="291240"/>
            <a:chOff x="2285640" y="2832480"/>
            <a:chExt cx="304920" cy="291240"/>
          </a:xfrm>
        </p:grpSpPr>
        <p:sp>
          <p:nvSpPr>
            <p:cNvPr id="1318" name=""/>
            <p:cNvSpPr/>
            <p:nvPr/>
          </p:nvSpPr>
          <p:spPr>
            <a:xfrm rot="10800000">
              <a:off x="2301840" y="283248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H="1">
              <a:off x="2285640" y="3123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0" name=""/>
          <p:cNvSpPr/>
          <p:nvPr/>
        </p:nvSpPr>
        <p:spPr>
          <a:xfrm flipH="1">
            <a:off x="6476400" y="2374920"/>
            <a:ext cx="361800" cy="19051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1" name=""/>
          <p:cNvGrpSpPr/>
          <p:nvPr/>
        </p:nvGrpSpPr>
        <p:grpSpPr>
          <a:xfrm>
            <a:off x="4952880" y="4280040"/>
            <a:ext cx="457200" cy="304560"/>
            <a:chOff x="4952880" y="4280040"/>
            <a:chExt cx="457200" cy="304560"/>
          </a:xfrm>
        </p:grpSpPr>
        <p:sp>
          <p:nvSpPr>
            <p:cNvPr id="1322" name=""/>
            <p:cNvSpPr/>
            <p:nvPr/>
          </p:nvSpPr>
          <p:spPr>
            <a:xfrm>
              <a:off x="518148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95288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10516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2884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6" name=""/>
          <p:cNvGrpSpPr/>
          <p:nvPr/>
        </p:nvGrpSpPr>
        <p:grpSpPr>
          <a:xfrm>
            <a:off x="6600960" y="4280040"/>
            <a:ext cx="457200" cy="304560"/>
            <a:chOff x="6600960" y="4280040"/>
            <a:chExt cx="457200" cy="304560"/>
          </a:xfrm>
        </p:grpSpPr>
        <p:sp>
          <p:nvSpPr>
            <p:cNvPr id="1327" name=""/>
            <p:cNvSpPr/>
            <p:nvPr/>
          </p:nvSpPr>
          <p:spPr>
            <a:xfrm>
              <a:off x="6829560" y="42800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600960" y="4432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53240" y="45846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676920" y="450828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1" name=""/>
          <p:cNvSpPr/>
          <p:nvPr/>
        </p:nvSpPr>
        <p:spPr>
          <a:xfrm>
            <a:off x="7543800" y="3137040"/>
            <a:ext cx="0" cy="8380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"/>
          <p:cNvSpPr/>
          <p:nvPr/>
        </p:nvSpPr>
        <p:spPr>
          <a:xfrm>
            <a:off x="7088760" y="328824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"/>
          <p:cNvSpPr/>
          <p:nvPr/>
        </p:nvSpPr>
        <p:spPr>
          <a:xfrm rot="16200000">
            <a:off x="4129200" y="255708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3181320" y="1476360"/>
            <a:ext cx="95904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6" name=""/>
          <p:cNvGrpSpPr/>
          <p:nvPr/>
        </p:nvGrpSpPr>
        <p:grpSpPr>
          <a:xfrm>
            <a:off x="5667480" y="2086920"/>
            <a:ext cx="304560" cy="291240"/>
            <a:chOff x="5667480" y="2086920"/>
            <a:chExt cx="304560" cy="291240"/>
          </a:xfrm>
        </p:grpSpPr>
        <p:sp>
          <p:nvSpPr>
            <p:cNvPr id="1337" name=""/>
            <p:cNvSpPr/>
            <p:nvPr/>
          </p:nvSpPr>
          <p:spPr>
            <a:xfrm rot="10800000">
              <a:off x="5682600" y="2086920"/>
              <a:ext cx="26964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 flipH="1">
              <a:off x="5667480" y="237816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9" name=""/>
          <p:cNvSpPr/>
          <p:nvPr/>
        </p:nvSpPr>
        <p:spPr>
          <a:xfrm rot="16200000">
            <a:off x="5348160" y="3090960"/>
            <a:ext cx="95904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0" name=""/>
          <p:cNvGrpSpPr/>
          <p:nvPr/>
        </p:nvGrpSpPr>
        <p:grpSpPr>
          <a:xfrm>
            <a:off x="4371840" y="3838680"/>
            <a:ext cx="457200" cy="304560"/>
            <a:chOff x="4371840" y="3838680"/>
            <a:chExt cx="457200" cy="304560"/>
          </a:xfrm>
        </p:grpSpPr>
        <p:sp>
          <p:nvSpPr>
            <p:cNvPr id="1341" name=""/>
            <p:cNvSpPr/>
            <p:nvPr/>
          </p:nvSpPr>
          <p:spPr>
            <a:xfrm>
              <a:off x="460044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37184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52412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44780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5" name=""/>
          <p:cNvSpPr/>
          <p:nvPr/>
        </p:nvSpPr>
        <p:spPr>
          <a:xfrm>
            <a:off x="4067280" y="1628640"/>
            <a:ext cx="175248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19760" y="2314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4600440" y="162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4600440" y="315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"/>
          <p:cNvSpPr/>
          <p:nvPr/>
        </p:nvSpPr>
        <p:spPr>
          <a:xfrm>
            <a:off x="3249000" y="9907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"/>
          <p:cNvSpPr/>
          <p:nvPr/>
        </p:nvSpPr>
        <p:spPr>
          <a:xfrm>
            <a:off x="3382560" y="254304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6049080" y="307656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5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"/>
          <p:cNvSpPr/>
          <p:nvPr/>
        </p:nvSpPr>
        <p:spPr>
          <a:xfrm>
            <a:off x="6110280" y="193356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3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"/>
          <p:cNvSpPr/>
          <p:nvPr/>
        </p:nvSpPr>
        <p:spPr>
          <a:xfrm>
            <a:off x="2163960" y="10191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4" name=""/>
          <p:cNvGrpSpPr/>
          <p:nvPr/>
        </p:nvGrpSpPr>
        <p:grpSpPr>
          <a:xfrm>
            <a:off x="5591160" y="3838680"/>
            <a:ext cx="457200" cy="304560"/>
            <a:chOff x="5591160" y="3838680"/>
            <a:chExt cx="457200" cy="304560"/>
          </a:xfrm>
        </p:grpSpPr>
        <p:sp>
          <p:nvSpPr>
            <p:cNvPr id="1355" name=""/>
            <p:cNvSpPr/>
            <p:nvPr/>
          </p:nvSpPr>
          <p:spPr>
            <a:xfrm>
              <a:off x="5819760" y="383868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591160" y="3990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743440" y="414324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667120" y="406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9" name=""/>
          <p:cNvSpPr/>
          <p:nvPr/>
        </p:nvSpPr>
        <p:spPr>
          <a:xfrm flipV="1">
            <a:off x="5819760" y="368604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"/>
          <p:cNvSpPr/>
          <p:nvPr/>
        </p:nvSpPr>
        <p:spPr>
          <a:xfrm flipH="1">
            <a:off x="2771280" y="16286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"/>
          <p:cNvSpPr/>
          <p:nvPr/>
        </p:nvSpPr>
        <p:spPr>
          <a:xfrm>
            <a:off x="2644920" y="1565280"/>
            <a:ext cx="125280" cy="1252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"/>
          <p:cNvSpPr/>
          <p:nvPr/>
        </p:nvSpPr>
        <p:spPr>
          <a:xfrm>
            <a:off x="444816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"/>
          <p:cNvSpPr/>
          <p:nvPr/>
        </p:nvSpPr>
        <p:spPr>
          <a:xfrm>
            <a:off x="394452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"/>
          <p:cNvSpPr/>
          <p:nvPr/>
        </p:nvSpPr>
        <p:spPr>
          <a:xfrm>
            <a:off x="5562720" y="338148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"/>
          <p:cNvSpPr/>
          <p:nvPr/>
        </p:nvSpPr>
        <p:spPr>
          <a:xfrm>
            <a:off x="5122440" y="3278880"/>
            <a:ext cx="34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"/>
          <p:cNvSpPr/>
          <p:nvPr/>
        </p:nvSpPr>
        <p:spPr>
          <a:xfrm>
            <a:off x="2847960" y="2009880"/>
            <a:ext cx="457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"/>
          <p:cNvSpPr/>
          <p:nvPr/>
        </p:nvSpPr>
        <p:spPr>
          <a:xfrm>
            <a:off x="2905920" y="2084760"/>
            <a:ext cx="24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150200" y="5002920"/>
            <a:ext cx="27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5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+ 0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1179000" y="5688720"/>
            <a:ext cx="2670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2 = 30i + 10(i - 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"/>
          <p:cNvSpPr/>
          <p:nvPr/>
        </p:nvSpPr>
        <p:spPr>
          <a:xfrm>
            <a:off x="4132080" y="5409000"/>
            <a:ext cx="4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"/>
          <p:cNvSpPr/>
          <p:nvPr/>
        </p:nvSpPr>
        <p:spPr>
          <a:xfrm>
            <a:off x="5037840" y="5383800"/>
            <a:ext cx="1914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= 0.216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1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20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500"/>
                            </p:stCondLst>
                            <p:childTnLst>
                              <p:par>
                                <p:cTn id="2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"/>
          <p:cNvSpPr/>
          <p:nvPr/>
        </p:nvSpPr>
        <p:spPr>
          <a:xfrm rot="16200000">
            <a:off x="1890720" y="35953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4" name=""/>
          <p:cNvGrpSpPr/>
          <p:nvPr/>
        </p:nvGrpSpPr>
        <p:grpSpPr>
          <a:xfrm>
            <a:off x="301680" y="3733920"/>
            <a:ext cx="762120" cy="164880"/>
            <a:chOff x="301680" y="3733920"/>
            <a:chExt cx="762120" cy="164880"/>
          </a:xfrm>
        </p:grpSpPr>
        <p:sp>
          <p:nvSpPr>
            <p:cNvPr id="1375" name=""/>
            <p:cNvSpPr/>
            <p:nvPr/>
          </p:nvSpPr>
          <p:spPr>
            <a:xfrm>
              <a:off x="301680" y="3733920"/>
              <a:ext cx="7621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492120" y="3898800"/>
              <a:ext cx="381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7" name=""/>
          <p:cNvSpPr/>
          <p:nvPr/>
        </p:nvSpPr>
        <p:spPr>
          <a:xfrm>
            <a:off x="1028880" y="1905120"/>
            <a:ext cx="958680" cy="3204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3657240" y="2514960"/>
            <a:ext cx="304920" cy="291240"/>
            <a:chOff x="3657240" y="2514960"/>
            <a:chExt cx="304920" cy="291240"/>
          </a:xfrm>
        </p:grpSpPr>
        <p:sp>
          <p:nvSpPr>
            <p:cNvPr id="1379" name=""/>
            <p:cNvSpPr/>
            <p:nvPr/>
          </p:nvSpPr>
          <p:spPr>
            <a:xfrm rot="10800000">
              <a:off x="3673440" y="25149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 flipH="1">
              <a:off x="3657240" y="28062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1" name=""/>
          <p:cNvSpPr/>
          <p:nvPr/>
        </p:nvSpPr>
        <p:spPr>
          <a:xfrm rot="16200000">
            <a:off x="3338640" y="4052520"/>
            <a:ext cx="958680" cy="32076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9982"/>
                </a:moveTo>
                <a:lnTo>
                  <a:pt x="1425" y="9982"/>
                </a:lnTo>
                <a:lnTo>
                  <a:pt x="2252" y="0"/>
                </a:lnTo>
                <a:lnTo>
                  <a:pt x="3905" y="19965"/>
                </a:lnTo>
                <a:lnTo>
                  <a:pt x="5541" y="0"/>
                </a:lnTo>
                <a:lnTo>
                  <a:pt x="7194" y="19965"/>
                </a:lnTo>
                <a:lnTo>
                  <a:pt x="8848" y="0"/>
                </a:lnTo>
                <a:lnTo>
                  <a:pt x="10501" y="19965"/>
                </a:lnTo>
                <a:lnTo>
                  <a:pt x="12155" y="0"/>
                </a:lnTo>
                <a:lnTo>
                  <a:pt x="13791" y="19965"/>
                </a:lnTo>
                <a:lnTo>
                  <a:pt x="15444" y="0"/>
                </a:lnTo>
                <a:lnTo>
                  <a:pt x="17098" y="19965"/>
                </a:lnTo>
                <a:lnTo>
                  <a:pt x="17924" y="9982"/>
                </a:lnTo>
                <a:lnTo>
                  <a:pt x="19982" y="998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2133720" y="5334120"/>
            <a:ext cx="457200" cy="304560"/>
            <a:chOff x="2133720" y="5334120"/>
            <a:chExt cx="457200" cy="304560"/>
          </a:xfrm>
        </p:grpSpPr>
        <p:sp>
          <p:nvSpPr>
            <p:cNvPr id="1383" name=""/>
            <p:cNvSpPr/>
            <p:nvPr/>
          </p:nvSpPr>
          <p:spPr>
            <a:xfrm>
              <a:off x="2362320" y="53341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133720" y="5486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286000" y="56386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209680" y="5562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685800" y="2057400"/>
            <a:ext cx="361800" cy="1676520"/>
          </a:xfrm>
          <a:custGeom>
            <a:avLst/>
            <a:gdLst/>
            <a:ahLst/>
            <a:rect l="l" t="t" r="r" b="b"/>
            <a:pathLst>
              <a:path w="192" h="1056">
                <a:moveTo>
                  <a:pt x="0" y="1056"/>
                </a:moveTo>
                <a:lnTo>
                  <a:pt x="0" y="0"/>
                </a:lnTo>
                <a:lnTo>
                  <a:pt x="19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"/>
          <p:cNvSpPr/>
          <p:nvPr/>
        </p:nvSpPr>
        <p:spPr>
          <a:xfrm>
            <a:off x="1952640" y="2057400"/>
            <a:ext cx="1857240" cy="457200"/>
          </a:xfrm>
          <a:custGeom>
            <a:avLst/>
            <a:gdLst/>
            <a:ahLst/>
            <a:rect l="l" t="t" r="r" b="b"/>
            <a:pathLst>
              <a:path w="1200" h="288">
                <a:moveTo>
                  <a:pt x="0" y="0"/>
                </a:moveTo>
                <a:lnTo>
                  <a:pt x="1200" y="0"/>
                </a:lnTo>
                <a:lnTo>
                  <a:pt x="1200" y="288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685800" y="3886200"/>
            <a:ext cx="3124080" cy="1447920"/>
          </a:xfrm>
          <a:custGeom>
            <a:avLst/>
            <a:gdLst/>
            <a:ahLst/>
            <a:rect l="l" t="t" r="r" b="b"/>
            <a:pathLst>
              <a:path w="1968" h="912">
                <a:moveTo>
                  <a:pt x="0" y="0"/>
                </a:moveTo>
                <a:lnTo>
                  <a:pt x="0" y="912"/>
                </a:lnTo>
                <a:lnTo>
                  <a:pt x="1968" y="912"/>
                </a:lnTo>
                <a:lnTo>
                  <a:pt x="1968" y="48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809880" y="2743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2362320" y="2057040"/>
            <a:ext cx="0" cy="121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"/>
          <p:cNvSpPr/>
          <p:nvPr/>
        </p:nvSpPr>
        <p:spPr>
          <a:xfrm flipV="1">
            <a:off x="2362320" y="41907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"/>
          <p:cNvSpPr/>
          <p:nvPr/>
        </p:nvSpPr>
        <p:spPr>
          <a:xfrm>
            <a:off x="1096560" y="141912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"/>
          <p:cNvSpPr/>
          <p:nvPr/>
        </p:nvSpPr>
        <p:spPr>
          <a:xfrm>
            <a:off x="1172520" y="38098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"/>
          <p:cNvSpPr/>
          <p:nvPr/>
        </p:nvSpPr>
        <p:spPr>
          <a:xfrm>
            <a:off x="4039560" y="4038480"/>
            <a:ext cx="9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30 k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"/>
          <p:cNvSpPr/>
          <p:nvPr/>
        </p:nvSpPr>
        <p:spPr>
          <a:xfrm>
            <a:off x="4100400" y="2249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7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"/>
          <p:cNvSpPr/>
          <p:nvPr/>
        </p:nvSpPr>
        <p:spPr>
          <a:xfrm>
            <a:off x="4039200" y="26668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0.25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"/>
          <p:cNvSpPr/>
          <p:nvPr/>
        </p:nvSpPr>
        <p:spPr>
          <a:xfrm>
            <a:off x="687600" y="3198960"/>
            <a:ext cx="8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20 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"/>
          <p:cNvGrpSpPr/>
          <p:nvPr/>
        </p:nvGrpSpPr>
        <p:grpSpPr>
          <a:xfrm>
            <a:off x="1371960" y="1917000"/>
            <a:ext cx="1980360" cy="3656160"/>
            <a:chOff x="1371960" y="1917000"/>
            <a:chExt cx="1980360" cy="3656160"/>
          </a:xfrm>
        </p:grpSpPr>
        <p:sp>
          <p:nvSpPr>
            <p:cNvPr id="1400" name=""/>
            <p:cNvSpPr/>
            <p:nvPr/>
          </p:nvSpPr>
          <p:spPr>
            <a:xfrm>
              <a:off x="1371960" y="1917000"/>
              <a:ext cx="1980360" cy="3656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787" y="3530"/>
                  </a:moveTo>
                  <a:arcTo wR="10800" hR="10800" stAng="-2538668" swAng="4779512"/>
                  <a:lnTo>
                    <a:pt x="10800" y="10800"/>
                  </a:lnTo>
                  <a:close/>
                </a:path>
                <a:path fill="none" w="21600" h="21600">
                  <a:moveTo>
                    <a:pt x="18787" y="3530"/>
                  </a:moveTo>
                  <a:arcTo wR="10800" hR="10800" stAng="-2538668" swAng="4779512"/>
                </a:path>
              </a:pathLst>
            </a:custGeom>
            <a:noFill/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903760" y="3505320"/>
              <a:ext cx="4320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J</a:t>
              </a:r>
              <a:r>
                <a:rPr b="0" lang="es-ES_tradnl" sz="2400" spc="-1" strike="noStrike" baseline="-25000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402" name=""/>
              <p:cNvSpPr txBox="1"/>
              <p:nvPr/>
            </p:nvSpPr>
            <p:spPr>
              <a:xfrm>
                <a:off x="5257800" y="2590920"/>
                <a:ext cx="359424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J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0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.</m:t>
                                  </m:r>
                                  <m:r>
                                    <m:t xml:space="preserve">7</m:t>
                                  </m:r>
                                </m:e>
                              </m:mr>
                            </m:m>
                          </m:e>
                        </m:d>
                      </m:num>
                      <m:den>
                        <m:d>
                          <m:dPr>
                            <m:begChr m:val="|"/>
                            <m:endChr m:val="|"/>
                          </m:dPr>
                          <m:e>
                            <m:m>
                              <m:mr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80</m:t>
                                  </m:r>
                                </m:e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</m:mr>
                              <m:mr>
                                <m:e>
                                  <m:r>
                                    <m:t xml:space="preserve">−</m:t>
                                  </m:r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0</m:t>
                                  </m:r>
                                </m:e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40</m:t>
                                  </m:r>
                                </m:e>
                              </m:mr>
                            </m:m>
                          </m:e>
                        </m:d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 </m:t>
                    </m:r>
                    <m:r>
                      <m:t xml:space="preserve">μ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Intensidad a través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0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1447920" y="3040200"/>
          <a:ext cx="3195360" cy="29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0200"/>
                    <a:ext cx="3195360" cy="29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9" name=""/>
          <p:cNvGraphicFramePr/>
          <p:nvPr/>
        </p:nvGraphicFramePr>
        <p:xfrm>
          <a:off x="609480" y="914400"/>
          <a:ext cx="4610160" cy="1590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914400"/>
                    <a:ext cx="461016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1" name=""/>
          <p:cNvSpPr/>
          <p:nvPr/>
        </p:nvSpPr>
        <p:spPr>
          <a:xfrm>
            <a:off x="990720" y="2446200"/>
            <a:ext cx="39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las concentraciones de portadores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600200" y="59212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Distribución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1600200" y="4046400"/>
            <a:ext cx="3048120" cy="370800"/>
            <a:chOff x="1600200" y="4046400"/>
            <a:chExt cx="3048120" cy="370800"/>
          </a:xfrm>
        </p:grpSpPr>
        <p:sp>
          <p:nvSpPr>
            <p:cNvPr id="524" name=""/>
            <p:cNvSpPr/>
            <p:nvPr/>
          </p:nvSpPr>
          <p:spPr>
            <a:xfrm>
              <a:off x="16002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114800" y="404640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" name=""/>
          <p:cNvGrpSpPr/>
          <p:nvPr/>
        </p:nvGrpSpPr>
        <p:grpSpPr>
          <a:xfrm>
            <a:off x="5334120" y="1030320"/>
            <a:ext cx="3657600" cy="2643120"/>
            <a:chOff x="5334120" y="1030320"/>
            <a:chExt cx="3657600" cy="2643120"/>
          </a:xfrm>
        </p:grpSpPr>
        <p:sp>
          <p:nvSpPr>
            <p:cNvPr id="527" name=""/>
            <p:cNvSpPr/>
            <p:nvPr/>
          </p:nvSpPr>
          <p:spPr>
            <a:xfrm>
              <a:off x="5486400" y="3305160"/>
              <a:ext cx="3505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Campo eléctrico en el dio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334120" y="1803600"/>
              <a:ext cx="3181320" cy="144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5856120" y="1368720"/>
              <a:ext cx="1800" cy="162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6923160" y="1371240"/>
              <a:ext cx="144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989840" y="1371240"/>
              <a:ext cx="1800" cy="162252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34120" y="1803600"/>
              <a:ext cx="3181320" cy="944640"/>
            </a:xfrm>
            <a:custGeom>
              <a:avLst/>
              <a:gdLst/>
              <a:ahLst/>
              <a:rect l="l" t="t" r="r" b="b"/>
              <a:pathLst>
                <a:path w="4010" h="1190">
                  <a:moveTo>
                    <a:pt x="0" y="0"/>
                  </a:moveTo>
                  <a:lnTo>
                    <a:pt x="646" y="3"/>
                  </a:lnTo>
                  <a:lnTo>
                    <a:pt x="2004" y="1190"/>
                  </a:lnTo>
                  <a:lnTo>
                    <a:pt x="3343" y="11"/>
                  </a:lnTo>
                  <a:lnTo>
                    <a:pt x="4010" y="11"/>
                  </a:lnTo>
                </a:path>
              </a:pathLst>
            </a:custGeom>
            <a:noFill/>
            <a:ln w="3816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599520" y="10303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8000"/>
                  </a:solidFill>
                  <a:latin typeface="Arial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410080" y="144324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8001000" y="148752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"/>
          <p:cNvGrpSpPr/>
          <p:nvPr/>
        </p:nvGrpSpPr>
        <p:grpSpPr>
          <a:xfrm>
            <a:off x="5289480" y="4186080"/>
            <a:ext cx="3283560" cy="1798560"/>
            <a:chOff x="5289480" y="4186080"/>
            <a:chExt cx="3283560" cy="1798560"/>
          </a:xfrm>
        </p:grpSpPr>
        <p:sp>
          <p:nvSpPr>
            <p:cNvPr id="537" name=""/>
            <p:cNvSpPr/>
            <p:nvPr/>
          </p:nvSpPr>
          <p:spPr>
            <a:xfrm>
              <a:off x="5638680" y="561636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Diferencia de potenci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289480" y="5459040"/>
              <a:ext cx="3181320" cy="18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5811840" y="4302000"/>
              <a:ext cx="1440" cy="126216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6878520" y="4305240"/>
              <a:ext cx="180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7945560" y="4305240"/>
              <a:ext cx="1440" cy="1263600"/>
            </a:xfrm>
            <a:prstGeom prst="line">
              <a:avLst/>
            </a:prstGeom>
            <a:ln w="0">
              <a:solidFill>
                <a:srgbClr val="0e0d0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080200" y="4361760"/>
              <a:ext cx="1800" cy="1103400"/>
            </a:xfrm>
            <a:prstGeom prst="line">
              <a:avLst/>
            </a:prstGeom>
            <a:ln w="0">
              <a:solidFill>
                <a:srgbClr val="0e0d0c"/>
              </a:solidFill>
              <a:prstDash val="dash"/>
              <a:headEnd len="sm" type="arrow" w="sm"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90640" y="4759200"/>
              <a:ext cx="482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519960" y="41860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5638680" y="4267080"/>
              <a:ext cx="2643480" cy="1333440"/>
            </a:xfrm>
            <a:custGeom>
              <a:avLst/>
              <a:gdLst/>
              <a:ahLst/>
              <a:rect l="l" t="t" r="r" b="b"/>
              <a:pathLst>
                <a:path w="1665" h="840">
                  <a:moveTo>
                    <a:pt x="0" y="744"/>
                  </a:moveTo>
                  <a:cubicBezTo>
                    <a:pt x="102" y="720"/>
                    <a:pt x="609" y="840"/>
                    <a:pt x="783" y="420"/>
                  </a:cubicBezTo>
                  <a:cubicBezTo>
                    <a:pt x="957" y="0"/>
                    <a:pt x="1557" y="63"/>
                    <a:pt x="1665" y="57"/>
                  </a:cubicBez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410080" y="544968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01000" y="5493960"/>
              <a:ext cx="5335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es-ES_tradnl" sz="1600" spc="-1" strike="noStrike" baseline="-25000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1.La unión PN en equilibrio (co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"/>
              <p:cNvSpPr txBox="1"/>
              <p:nvPr/>
            </p:nvSpPr>
            <p:spPr>
              <a:xfrm>
                <a:off x="685800" y="914400"/>
                <a:ext cx="46958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p</m:t>
                            </m:r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0" name=""/>
              <p:cNvSpPr txBox="1"/>
              <p:nvPr/>
            </p:nvSpPr>
            <p:spPr>
              <a:xfrm>
                <a:off x="2362320" y="2743200"/>
                <a:ext cx="35812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x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D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i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51" name=""/>
          <p:cNvSpPr/>
          <p:nvPr/>
        </p:nvSpPr>
        <p:spPr>
          <a:xfrm>
            <a:off x="457200" y="214776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ustituyendo los valores de las concentraciones de impurez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57200" y="3809880"/>
            <a:ext cx="8277120" cy="15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se llama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otencial de contact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representa la diferencia de potencial entre los extremos de la zona de transición con la unión en circuito abierto y en equilib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= 0.7 V para diodos de Si y 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3 V para diodos de Ge, a 20 º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177240" y="1143000"/>
            <a:ext cx="2552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= 0.026 V a 300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0" y="5486400"/>
            <a:ext cx="9144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i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 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= 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22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/m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entonces 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=0.3 </a:t>
            </a:r>
            <a:r>
              <a:rPr b="0" lang="es-ES" sz="2000" spc="-1" strike="noStrike">
                <a:solidFill>
                  <a:srgbClr val="000000"/>
                </a:solidFill>
                <a:latin typeface="Math A"/>
                <a:ea typeface="Math A"/>
              </a:rPr>
              <a:t>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, E=2.10</a:t>
            </a:r>
            <a:r>
              <a:rPr b="0" lang="es-ES" sz="20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V/m, V=0.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964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3827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olarización direc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12920" y="1744560"/>
            <a:ext cx="2525400" cy="162396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2936880" y="1744560"/>
            <a:ext cx="2525760" cy="162396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92200" y="228600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92200" y="1925640"/>
            <a:ext cx="223920" cy="220680"/>
            <a:chOff x="592200" y="1925640"/>
            <a:chExt cx="223920" cy="220680"/>
          </a:xfrm>
        </p:grpSpPr>
        <p:sp>
          <p:nvSpPr>
            <p:cNvPr id="561" name=""/>
            <p:cNvSpPr/>
            <p:nvPr/>
          </p:nvSpPr>
          <p:spPr>
            <a:xfrm>
              <a:off x="59256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9220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952560" y="1925640"/>
            <a:ext cx="222120" cy="220680"/>
            <a:chOff x="952560" y="1925640"/>
            <a:chExt cx="222120" cy="220680"/>
          </a:xfrm>
        </p:grpSpPr>
        <p:sp>
          <p:nvSpPr>
            <p:cNvPr id="564" name=""/>
            <p:cNvSpPr/>
            <p:nvPr/>
          </p:nvSpPr>
          <p:spPr>
            <a:xfrm>
              <a:off x="952920" y="192564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52560" y="20358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1314360" y="1925640"/>
            <a:ext cx="223920" cy="220680"/>
            <a:chOff x="1314360" y="1925640"/>
            <a:chExt cx="223920" cy="220680"/>
          </a:xfrm>
        </p:grpSpPr>
        <p:sp>
          <p:nvSpPr>
            <p:cNvPr id="567" name=""/>
            <p:cNvSpPr/>
            <p:nvPr/>
          </p:nvSpPr>
          <p:spPr>
            <a:xfrm>
              <a:off x="131472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1436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1674720" y="1925640"/>
            <a:ext cx="223920" cy="220680"/>
            <a:chOff x="1674720" y="1925640"/>
            <a:chExt cx="223920" cy="220680"/>
          </a:xfrm>
        </p:grpSpPr>
        <p:sp>
          <p:nvSpPr>
            <p:cNvPr id="570" name=""/>
            <p:cNvSpPr/>
            <p:nvPr/>
          </p:nvSpPr>
          <p:spPr>
            <a:xfrm>
              <a:off x="167508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7472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2035080" y="1925640"/>
            <a:ext cx="223920" cy="220680"/>
            <a:chOff x="2035080" y="1925640"/>
            <a:chExt cx="223920" cy="220680"/>
          </a:xfrm>
        </p:grpSpPr>
        <p:sp>
          <p:nvSpPr>
            <p:cNvPr id="573" name=""/>
            <p:cNvSpPr/>
            <p:nvPr/>
          </p:nvSpPr>
          <p:spPr>
            <a:xfrm>
              <a:off x="203544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03508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2395440" y="1925640"/>
            <a:ext cx="223920" cy="220680"/>
            <a:chOff x="2395440" y="1925640"/>
            <a:chExt cx="223920" cy="220680"/>
          </a:xfrm>
        </p:grpSpPr>
        <p:sp>
          <p:nvSpPr>
            <p:cNvPr id="576" name=""/>
            <p:cNvSpPr/>
            <p:nvPr/>
          </p:nvSpPr>
          <p:spPr>
            <a:xfrm>
              <a:off x="2395800" y="192564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395440" y="20358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8" name=""/>
          <p:cNvGrpSpPr/>
          <p:nvPr/>
        </p:nvGrpSpPr>
        <p:grpSpPr>
          <a:xfrm>
            <a:off x="592200" y="2467080"/>
            <a:ext cx="223920" cy="220680"/>
            <a:chOff x="592200" y="2467080"/>
            <a:chExt cx="223920" cy="220680"/>
          </a:xfrm>
        </p:grpSpPr>
        <p:sp>
          <p:nvSpPr>
            <p:cNvPr id="579" name=""/>
            <p:cNvSpPr/>
            <p:nvPr/>
          </p:nvSpPr>
          <p:spPr>
            <a:xfrm>
              <a:off x="5925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922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" name=""/>
          <p:cNvGrpSpPr/>
          <p:nvPr/>
        </p:nvGrpSpPr>
        <p:grpSpPr>
          <a:xfrm>
            <a:off x="954000" y="2467080"/>
            <a:ext cx="223920" cy="220680"/>
            <a:chOff x="954000" y="2467080"/>
            <a:chExt cx="223920" cy="220680"/>
          </a:xfrm>
        </p:grpSpPr>
        <p:sp>
          <p:nvSpPr>
            <p:cNvPr id="582" name=""/>
            <p:cNvSpPr/>
            <p:nvPr/>
          </p:nvSpPr>
          <p:spPr>
            <a:xfrm>
              <a:off x="95436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95400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"/>
          <p:cNvGrpSpPr/>
          <p:nvPr/>
        </p:nvGrpSpPr>
        <p:grpSpPr>
          <a:xfrm>
            <a:off x="1314360" y="2467080"/>
            <a:ext cx="223920" cy="220680"/>
            <a:chOff x="1314360" y="2467080"/>
            <a:chExt cx="223920" cy="220680"/>
          </a:xfrm>
        </p:grpSpPr>
        <p:sp>
          <p:nvSpPr>
            <p:cNvPr id="585" name=""/>
            <p:cNvSpPr/>
            <p:nvPr/>
          </p:nvSpPr>
          <p:spPr>
            <a:xfrm>
              <a:off x="131472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31436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1674720" y="2467080"/>
            <a:ext cx="223920" cy="220680"/>
            <a:chOff x="1674720" y="2467080"/>
            <a:chExt cx="223920" cy="220680"/>
          </a:xfrm>
        </p:grpSpPr>
        <p:sp>
          <p:nvSpPr>
            <p:cNvPr id="588" name=""/>
            <p:cNvSpPr/>
            <p:nvPr/>
          </p:nvSpPr>
          <p:spPr>
            <a:xfrm>
              <a:off x="1675080" y="24670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674720" y="25772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035080" y="2467080"/>
            <a:ext cx="222480" cy="220680"/>
            <a:chOff x="2035080" y="2467080"/>
            <a:chExt cx="222480" cy="220680"/>
          </a:xfrm>
        </p:grpSpPr>
        <p:sp>
          <p:nvSpPr>
            <p:cNvPr id="591" name=""/>
            <p:cNvSpPr/>
            <p:nvPr/>
          </p:nvSpPr>
          <p:spPr>
            <a:xfrm>
              <a:off x="2035440" y="24670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035080" y="25772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" name=""/>
          <p:cNvGrpSpPr/>
          <p:nvPr/>
        </p:nvGrpSpPr>
        <p:grpSpPr>
          <a:xfrm>
            <a:off x="2397240" y="2467080"/>
            <a:ext cx="223560" cy="220680"/>
            <a:chOff x="2397240" y="2467080"/>
            <a:chExt cx="223560" cy="220680"/>
          </a:xfrm>
        </p:grpSpPr>
        <p:sp>
          <p:nvSpPr>
            <p:cNvPr id="594" name=""/>
            <p:cNvSpPr/>
            <p:nvPr/>
          </p:nvSpPr>
          <p:spPr>
            <a:xfrm>
              <a:off x="2397600" y="246708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397240" y="257724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92200" y="3006720"/>
            <a:ext cx="223920" cy="222120"/>
            <a:chOff x="592200" y="3006720"/>
            <a:chExt cx="223920" cy="222120"/>
          </a:xfrm>
        </p:grpSpPr>
        <p:sp>
          <p:nvSpPr>
            <p:cNvPr id="597" name=""/>
            <p:cNvSpPr/>
            <p:nvPr/>
          </p:nvSpPr>
          <p:spPr>
            <a:xfrm>
              <a:off x="5925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922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9" name=""/>
          <p:cNvGrpSpPr/>
          <p:nvPr/>
        </p:nvGrpSpPr>
        <p:grpSpPr>
          <a:xfrm>
            <a:off x="954000" y="3006720"/>
            <a:ext cx="223920" cy="222120"/>
            <a:chOff x="954000" y="3006720"/>
            <a:chExt cx="223920" cy="222120"/>
          </a:xfrm>
        </p:grpSpPr>
        <p:sp>
          <p:nvSpPr>
            <p:cNvPr id="600" name=""/>
            <p:cNvSpPr/>
            <p:nvPr/>
          </p:nvSpPr>
          <p:spPr>
            <a:xfrm>
              <a:off x="95436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95400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"/>
          <p:cNvGrpSpPr/>
          <p:nvPr/>
        </p:nvGrpSpPr>
        <p:grpSpPr>
          <a:xfrm>
            <a:off x="1314360" y="3006720"/>
            <a:ext cx="223920" cy="222120"/>
            <a:chOff x="1314360" y="3006720"/>
            <a:chExt cx="223920" cy="222120"/>
          </a:xfrm>
        </p:grpSpPr>
        <p:sp>
          <p:nvSpPr>
            <p:cNvPr id="603" name=""/>
            <p:cNvSpPr/>
            <p:nvPr/>
          </p:nvSpPr>
          <p:spPr>
            <a:xfrm>
              <a:off x="131472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31436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1674720" y="3006720"/>
            <a:ext cx="223920" cy="222120"/>
            <a:chOff x="1674720" y="3006720"/>
            <a:chExt cx="223920" cy="222120"/>
          </a:xfrm>
        </p:grpSpPr>
        <p:sp>
          <p:nvSpPr>
            <p:cNvPr id="606" name=""/>
            <p:cNvSpPr/>
            <p:nvPr/>
          </p:nvSpPr>
          <p:spPr>
            <a:xfrm>
              <a:off x="1675080" y="300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674720" y="311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8" name=""/>
          <p:cNvGrpSpPr/>
          <p:nvPr/>
        </p:nvGrpSpPr>
        <p:grpSpPr>
          <a:xfrm>
            <a:off x="2035080" y="3006720"/>
            <a:ext cx="222480" cy="222120"/>
            <a:chOff x="2035080" y="3006720"/>
            <a:chExt cx="222480" cy="222120"/>
          </a:xfrm>
        </p:grpSpPr>
        <p:sp>
          <p:nvSpPr>
            <p:cNvPr id="609" name=""/>
            <p:cNvSpPr/>
            <p:nvPr/>
          </p:nvSpPr>
          <p:spPr>
            <a:xfrm>
              <a:off x="2035440" y="300672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311760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397240" y="3006720"/>
            <a:ext cx="223560" cy="222120"/>
            <a:chOff x="2397240" y="3006720"/>
            <a:chExt cx="223560" cy="222120"/>
          </a:xfrm>
        </p:grpSpPr>
        <p:sp>
          <p:nvSpPr>
            <p:cNvPr id="612" name=""/>
            <p:cNvSpPr/>
            <p:nvPr/>
          </p:nvSpPr>
          <p:spPr>
            <a:xfrm>
              <a:off x="2397600" y="300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397240" y="311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85716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238400" y="1847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96056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22544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92200" y="28274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1542960" y="323532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171880" y="2257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657440" y="2846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39880" y="322884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2219400" y="27907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225960" y="1924200"/>
            <a:ext cx="223560" cy="223560"/>
            <a:chOff x="3225960" y="1924200"/>
            <a:chExt cx="223560" cy="223560"/>
          </a:xfrm>
        </p:grpSpPr>
        <p:sp>
          <p:nvSpPr>
            <p:cNvPr id="625" name=""/>
            <p:cNvSpPr/>
            <p:nvPr/>
          </p:nvSpPr>
          <p:spPr>
            <a:xfrm>
              <a:off x="3226320" y="192528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25960" y="20358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337560" y="192420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3586320" y="1925640"/>
            <a:ext cx="223560" cy="223920"/>
            <a:chOff x="3586320" y="1925640"/>
            <a:chExt cx="223560" cy="223920"/>
          </a:xfrm>
        </p:grpSpPr>
        <p:sp>
          <p:nvSpPr>
            <p:cNvPr id="629" name=""/>
            <p:cNvSpPr/>
            <p:nvPr/>
          </p:nvSpPr>
          <p:spPr>
            <a:xfrm>
              <a:off x="3586680" y="192672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86320" y="20376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69792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3946680" y="1925640"/>
            <a:ext cx="222120" cy="223920"/>
            <a:chOff x="3946680" y="1925640"/>
            <a:chExt cx="222120" cy="223920"/>
          </a:xfrm>
        </p:grpSpPr>
        <p:sp>
          <p:nvSpPr>
            <p:cNvPr id="633" name=""/>
            <p:cNvSpPr/>
            <p:nvPr/>
          </p:nvSpPr>
          <p:spPr>
            <a:xfrm>
              <a:off x="3947040" y="1926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946680" y="2037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0575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4308480" y="1925640"/>
            <a:ext cx="223920" cy="223920"/>
            <a:chOff x="4308480" y="1925640"/>
            <a:chExt cx="223920" cy="223920"/>
          </a:xfrm>
        </p:grpSpPr>
        <p:sp>
          <p:nvSpPr>
            <p:cNvPr id="637" name=""/>
            <p:cNvSpPr/>
            <p:nvPr/>
          </p:nvSpPr>
          <p:spPr>
            <a:xfrm>
              <a:off x="430884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30848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42044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4668840" y="1925640"/>
            <a:ext cx="223920" cy="223920"/>
            <a:chOff x="4668840" y="1925640"/>
            <a:chExt cx="223920" cy="223920"/>
          </a:xfrm>
        </p:grpSpPr>
        <p:sp>
          <p:nvSpPr>
            <p:cNvPr id="641" name=""/>
            <p:cNvSpPr/>
            <p:nvPr/>
          </p:nvSpPr>
          <p:spPr>
            <a:xfrm>
              <a:off x="466920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66884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78080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029200" y="1925640"/>
            <a:ext cx="223920" cy="223920"/>
            <a:chOff x="5029200" y="1925640"/>
            <a:chExt cx="223920" cy="223920"/>
          </a:xfrm>
        </p:grpSpPr>
        <p:sp>
          <p:nvSpPr>
            <p:cNvPr id="645" name=""/>
            <p:cNvSpPr/>
            <p:nvPr/>
          </p:nvSpPr>
          <p:spPr>
            <a:xfrm>
              <a:off x="5029560" y="192672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20376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41160" y="1925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3225960" y="2467080"/>
            <a:ext cx="223560" cy="222120"/>
            <a:chOff x="3225960" y="2467080"/>
            <a:chExt cx="223560" cy="222120"/>
          </a:xfrm>
        </p:grpSpPr>
        <p:sp>
          <p:nvSpPr>
            <p:cNvPr id="649" name=""/>
            <p:cNvSpPr/>
            <p:nvPr/>
          </p:nvSpPr>
          <p:spPr>
            <a:xfrm>
              <a:off x="3226320" y="2468160"/>
              <a:ext cx="222480" cy="2203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225960" y="257796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337560" y="2467080"/>
              <a:ext cx="360" cy="2221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3586320" y="2467080"/>
            <a:ext cx="223560" cy="223560"/>
            <a:chOff x="3586320" y="2467080"/>
            <a:chExt cx="223560" cy="223560"/>
          </a:xfrm>
        </p:grpSpPr>
        <p:sp>
          <p:nvSpPr>
            <p:cNvPr id="653" name=""/>
            <p:cNvSpPr/>
            <p:nvPr/>
          </p:nvSpPr>
          <p:spPr>
            <a:xfrm>
              <a:off x="3586680" y="2468160"/>
              <a:ext cx="22248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586320" y="257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792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3946680" y="2467080"/>
            <a:ext cx="222120" cy="223560"/>
            <a:chOff x="3946680" y="2467080"/>
            <a:chExt cx="222120" cy="223560"/>
          </a:xfrm>
        </p:grpSpPr>
        <p:sp>
          <p:nvSpPr>
            <p:cNvPr id="657" name=""/>
            <p:cNvSpPr/>
            <p:nvPr/>
          </p:nvSpPr>
          <p:spPr>
            <a:xfrm>
              <a:off x="3947040" y="2468160"/>
              <a:ext cx="2210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946680" y="25786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575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308480" y="2467080"/>
            <a:ext cx="223920" cy="223560"/>
            <a:chOff x="4308480" y="2467080"/>
            <a:chExt cx="223920" cy="223560"/>
          </a:xfrm>
        </p:grpSpPr>
        <p:sp>
          <p:nvSpPr>
            <p:cNvPr id="661" name=""/>
            <p:cNvSpPr/>
            <p:nvPr/>
          </p:nvSpPr>
          <p:spPr>
            <a:xfrm>
              <a:off x="430884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0848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42044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4" name=""/>
          <p:cNvGrpSpPr/>
          <p:nvPr/>
        </p:nvGrpSpPr>
        <p:grpSpPr>
          <a:xfrm>
            <a:off x="4668840" y="2467080"/>
            <a:ext cx="223920" cy="223560"/>
            <a:chOff x="4668840" y="2467080"/>
            <a:chExt cx="223920" cy="223560"/>
          </a:xfrm>
        </p:grpSpPr>
        <p:sp>
          <p:nvSpPr>
            <p:cNvPr id="665" name=""/>
            <p:cNvSpPr/>
            <p:nvPr/>
          </p:nvSpPr>
          <p:spPr>
            <a:xfrm>
              <a:off x="466920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66884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8080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5029200" y="2467080"/>
            <a:ext cx="223920" cy="223560"/>
            <a:chOff x="5029200" y="2467080"/>
            <a:chExt cx="223920" cy="223560"/>
          </a:xfrm>
        </p:grpSpPr>
        <p:sp>
          <p:nvSpPr>
            <p:cNvPr id="669" name=""/>
            <p:cNvSpPr/>
            <p:nvPr/>
          </p:nvSpPr>
          <p:spPr>
            <a:xfrm>
              <a:off x="5029560" y="246816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029200" y="25786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41160" y="246708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3225960" y="3006720"/>
            <a:ext cx="223560" cy="223920"/>
            <a:chOff x="3225960" y="3006720"/>
            <a:chExt cx="223560" cy="223920"/>
          </a:xfrm>
        </p:grpSpPr>
        <p:sp>
          <p:nvSpPr>
            <p:cNvPr id="673" name=""/>
            <p:cNvSpPr/>
            <p:nvPr/>
          </p:nvSpPr>
          <p:spPr>
            <a:xfrm>
              <a:off x="3226320" y="300780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225960" y="311868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37560" y="30067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6" name=""/>
          <p:cNvGrpSpPr/>
          <p:nvPr/>
        </p:nvGrpSpPr>
        <p:grpSpPr>
          <a:xfrm>
            <a:off x="3586320" y="3008160"/>
            <a:ext cx="223560" cy="223920"/>
            <a:chOff x="3586320" y="3008160"/>
            <a:chExt cx="223560" cy="223920"/>
          </a:xfrm>
        </p:grpSpPr>
        <p:sp>
          <p:nvSpPr>
            <p:cNvPr id="677" name=""/>
            <p:cNvSpPr/>
            <p:nvPr/>
          </p:nvSpPr>
          <p:spPr>
            <a:xfrm>
              <a:off x="3586680" y="30092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586320" y="3120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792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0" name=""/>
          <p:cNvGrpSpPr/>
          <p:nvPr/>
        </p:nvGrpSpPr>
        <p:grpSpPr>
          <a:xfrm>
            <a:off x="3946680" y="3008160"/>
            <a:ext cx="222120" cy="223920"/>
            <a:chOff x="3946680" y="3008160"/>
            <a:chExt cx="222120" cy="223920"/>
          </a:xfrm>
        </p:grpSpPr>
        <p:sp>
          <p:nvSpPr>
            <p:cNvPr id="681" name=""/>
            <p:cNvSpPr/>
            <p:nvPr/>
          </p:nvSpPr>
          <p:spPr>
            <a:xfrm>
              <a:off x="3947040" y="30092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46680" y="3120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575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4308480" y="3008160"/>
            <a:ext cx="223920" cy="223920"/>
            <a:chOff x="4308480" y="3008160"/>
            <a:chExt cx="223920" cy="223920"/>
          </a:xfrm>
        </p:grpSpPr>
        <p:sp>
          <p:nvSpPr>
            <p:cNvPr id="685" name=""/>
            <p:cNvSpPr/>
            <p:nvPr/>
          </p:nvSpPr>
          <p:spPr>
            <a:xfrm>
              <a:off x="430884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0848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2044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8" name=""/>
          <p:cNvGrpSpPr/>
          <p:nvPr/>
        </p:nvGrpSpPr>
        <p:grpSpPr>
          <a:xfrm>
            <a:off x="4668840" y="3008160"/>
            <a:ext cx="223920" cy="223920"/>
            <a:chOff x="4668840" y="3008160"/>
            <a:chExt cx="223920" cy="223920"/>
          </a:xfrm>
        </p:grpSpPr>
        <p:sp>
          <p:nvSpPr>
            <p:cNvPr id="689" name=""/>
            <p:cNvSpPr/>
            <p:nvPr/>
          </p:nvSpPr>
          <p:spPr>
            <a:xfrm>
              <a:off x="466920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66884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78080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5029200" y="3008160"/>
            <a:ext cx="223920" cy="223920"/>
            <a:chOff x="5029200" y="3008160"/>
            <a:chExt cx="223920" cy="223920"/>
          </a:xfrm>
        </p:grpSpPr>
        <p:sp>
          <p:nvSpPr>
            <p:cNvPr id="693" name=""/>
            <p:cNvSpPr/>
            <p:nvPr/>
          </p:nvSpPr>
          <p:spPr>
            <a:xfrm>
              <a:off x="5029560" y="30092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5029200" y="3120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141160" y="30081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6" name=""/>
          <p:cNvSpPr/>
          <p:nvPr/>
        </p:nvSpPr>
        <p:spPr>
          <a:xfrm>
            <a:off x="4167360" y="324648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4948200" y="283680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4260960" y="2712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653000" y="282744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5319720" y="202716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5334120" y="3218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56080" y="27892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4032360" y="22906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3738600" y="2255760"/>
            <a:ext cx="6012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900680" y="1884240"/>
            <a:ext cx="6012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32160" y="19321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652920" y="2813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4324320" y="2311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5156280" y="28908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958680" y="22748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400040" y="282564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930320" y="28702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932040" y="2851200"/>
            <a:ext cx="60120" cy="6012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4848120" y="231948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070520" y="280188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608120" y="2281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2852640" y="4003560"/>
            <a:ext cx="73080" cy="398520"/>
            <a:chOff x="2852640" y="4003560"/>
            <a:chExt cx="73080" cy="398520"/>
          </a:xfrm>
        </p:grpSpPr>
        <p:sp>
          <p:nvSpPr>
            <p:cNvPr id="718" name=""/>
            <p:cNvSpPr/>
            <p:nvPr/>
          </p:nvSpPr>
          <p:spPr>
            <a:xfrm>
              <a:off x="2852640" y="40035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925360" y="40759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231840" y="2568600"/>
            <a:ext cx="5392800" cy="1630440"/>
            <a:chOff x="231840" y="2568600"/>
            <a:chExt cx="5392800" cy="1630440"/>
          </a:xfrm>
        </p:grpSpPr>
        <p:sp>
          <p:nvSpPr>
            <p:cNvPr id="721" name=""/>
            <p:cNvSpPr/>
            <p:nvPr/>
          </p:nvSpPr>
          <p:spPr>
            <a:xfrm>
              <a:off x="2909880" y="2568600"/>
              <a:ext cx="271476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89"/>
                  </a:lnTo>
                  <a:lnTo>
                    <a:pt x="0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31840" y="2578320"/>
              <a:ext cx="2606040" cy="16207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89"/>
                  </a:lnTo>
                  <a:lnTo>
                    <a:pt x="19995" y="199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2981160" y="3706920"/>
            <a:ext cx="3621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650880" y="419580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857160" y="3706920"/>
            <a:ext cx="25416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100160" y="28576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2238120" y="2287440"/>
            <a:ext cx="2905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3354480" y="2841480"/>
            <a:ext cx="290520" cy="0"/>
          </a:xfrm>
          <a:prstGeom prst="line">
            <a:avLst/>
          </a:prstGeom>
          <a:ln w="1908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 flipH="1">
            <a:off x="4381560" y="2336760"/>
            <a:ext cx="288720" cy="1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701800" y="1751040"/>
            <a:ext cx="495360" cy="16207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5229360" y="22384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382920" y="2311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2297160" y="3216240"/>
            <a:ext cx="6012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3882960" y="1820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882960" y="29433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073240" y="2798640"/>
            <a:ext cx="58680" cy="5904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71480" y="29066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911240" y="1852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2657520" y="1554120"/>
            <a:ext cx="195120" cy="619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2692440" y="239724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2762640" y="174456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2970360" y="1488960"/>
            <a:ext cx="193680" cy="19368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457200" y="4724280"/>
            <a:ext cx="8458200" cy="117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crea un campo eléctrico opuesto al de la unión, disminuye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en la unión y la barrer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-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aumenta la corriente de mayoritarios por difu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5867280" y="3171960"/>
            <a:ext cx="3089160" cy="942840"/>
            <a:chOff x="5867280" y="3171960"/>
            <a:chExt cx="3089160" cy="942840"/>
          </a:xfrm>
        </p:grpSpPr>
        <p:sp>
          <p:nvSpPr>
            <p:cNvPr id="745" name=""/>
            <p:cNvSpPr/>
            <p:nvPr/>
          </p:nvSpPr>
          <p:spPr>
            <a:xfrm>
              <a:off x="8123040" y="3208320"/>
              <a:ext cx="290520" cy="36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8123040" y="3606480"/>
              <a:ext cx="83340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-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867280" y="3171960"/>
              <a:ext cx="2255760" cy="942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881680" y="3714480"/>
              <a:ext cx="2222280" cy="2980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5881680" y="3394080"/>
              <a:ext cx="2222280" cy="61848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0" name=""/>
          <p:cNvGrpSpPr/>
          <p:nvPr/>
        </p:nvGrpSpPr>
        <p:grpSpPr>
          <a:xfrm>
            <a:off x="5859000" y="1301760"/>
            <a:ext cx="304920" cy="1054080"/>
            <a:chOff x="5859000" y="1301760"/>
            <a:chExt cx="304920" cy="1054080"/>
          </a:xfrm>
        </p:grpSpPr>
        <p:sp>
          <p:nvSpPr>
            <p:cNvPr id="751" name=""/>
            <p:cNvSpPr/>
            <p:nvPr/>
          </p:nvSpPr>
          <p:spPr>
            <a:xfrm>
              <a:off x="6021360" y="130176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 rot="10800000">
              <a:off x="5884560" y="169344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5859000" y="200484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4" name=""/>
          <p:cNvSpPr/>
          <p:nvPr/>
        </p:nvSpPr>
        <p:spPr>
          <a:xfrm>
            <a:off x="6705720" y="1371600"/>
            <a:ext cx="30456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6705720" y="1805040"/>
            <a:ext cx="30456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685800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685800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685800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742968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7010280" y="2209680"/>
            <a:ext cx="152280" cy="533160"/>
            <a:chOff x="7010280" y="2209680"/>
            <a:chExt cx="152280" cy="533160"/>
          </a:xfrm>
        </p:grpSpPr>
        <p:sp>
          <p:nvSpPr>
            <p:cNvPr id="761" name=""/>
            <p:cNvSpPr/>
            <p:nvPr/>
          </p:nvSpPr>
          <p:spPr>
            <a:xfrm>
              <a:off x="701028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1625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6858000" y="24382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7162920" y="24382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2" dur="5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6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000"/>
                            </p:stCondLst>
                            <p:childTnLst>
                              <p:par>
                                <p:cTn id="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3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2.Polarización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2480" y="1585800"/>
            <a:ext cx="2524320" cy="1622520"/>
          </a:xfrm>
          <a:prstGeom prst="rect">
            <a:avLst/>
          </a:prstGeom>
          <a:solidFill>
            <a:srgbClr val="cce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396720" y="1585800"/>
            <a:ext cx="2525760" cy="1622520"/>
          </a:xfrm>
          <a:prstGeom prst="rect">
            <a:avLst/>
          </a:prstGeom>
          <a:solidFill>
            <a:srgbClr val="ffcccc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577800" y="212580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9" name=""/>
          <p:cNvGrpSpPr/>
          <p:nvPr/>
        </p:nvGrpSpPr>
        <p:grpSpPr>
          <a:xfrm>
            <a:off x="576360" y="1765440"/>
            <a:ext cx="223920" cy="222120"/>
            <a:chOff x="576360" y="1765440"/>
            <a:chExt cx="223920" cy="222120"/>
          </a:xfrm>
        </p:grpSpPr>
        <p:sp>
          <p:nvSpPr>
            <p:cNvPr id="770" name=""/>
            <p:cNvSpPr/>
            <p:nvPr/>
          </p:nvSpPr>
          <p:spPr>
            <a:xfrm>
              <a:off x="5767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63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" name=""/>
          <p:cNvGrpSpPr/>
          <p:nvPr/>
        </p:nvGrpSpPr>
        <p:grpSpPr>
          <a:xfrm>
            <a:off x="938160" y="1765440"/>
            <a:ext cx="223920" cy="222120"/>
            <a:chOff x="938160" y="1765440"/>
            <a:chExt cx="223920" cy="222120"/>
          </a:xfrm>
        </p:grpSpPr>
        <p:sp>
          <p:nvSpPr>
            <p:cNvPr id="773" name=""/>
            <p:cNvSpPr/>
            <p:nvPr/>
          </p:nvSpPr>
          <p:spPr>
            <a:xfrm>
              <a:off x="93852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93816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5" name=""/>
          <p:cNvGrpSpPr/>
          <p:nvPr/>
        </p:nvGrpSpPr>
        <p:grpSpPr>
          <a:xfrm>
            <a:off x="1298520" y="1765440"/>
            <a:ext cx="223920" cy="222120"/>
            <a:chOff x="1298520" y="1765440"/>
            <a:chExt cx="223920" cy="222120"/>
          </a:xfrm>
        </p:grpSpPr>
        <p:sp>
          <p:nvSpPr>
            <p:cNvPr id="776" name=""/>
            <p:cNvSpPr/>
            <p:nvPr/>
          </p:nvSpPr>
          <p:spPr>
            <a:xfrm>
              <a:off x="129888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29852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1658880" y="1765440"/>
            <a:ext cx="223920" cy="222120"/>
            <a:chOff x="1658880" y="1765440"/>
            <a:chExt cx="223920" cy="222120"/>
          </a:xfrm>
        </p:grpSpPr>
        <p:sp>
          <p:nvSpPr>
            <p:cNvPr id="779" name=""/>
            <p:cNvSpPr/>
            <p:nvPr/>
          </p:nvSpPr>
          <p:spPr>
            <a:xfrm>
              <a:off x="1659240" y="176544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1658880" y="18763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1" name=""/>
          <p:cNvGrpSpPr/>
          <p:nvPr/>
        </p:nvGrpSpPr>
        <p:grpSpPr>
          <a:xfrm>
            <a:off x="577800" y="2306520"/>
            <a:ext cx="223920" cy="222480"/>
            <a:chOff x="577800" y="2306520"/>
            <a:chExt cx="223920" cy="222480"/>
          </a:xfrm>
        </p:grpSpPr>
        <p:sp>
          <p:nvSpPr>
            <p:cNvPr id="782" name=""/>
            <p:cNvSpPr/>
            <p:nvPr/>
          </p:nvSpPr>
          <p:spPr>
            <a:xfrm>
              <a:off x="57816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7780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938160" y="2306520"/>
            <a:ext cx="223920" cy="222480"/>
            <a:chOff x="938160" y="2306520"/>
            <a:chExt cx="223920" cy="222480"/>
          </a:xfrm>
        </p:grpSpPr>
        <p:sp>
          <p:nvSpPr>
            <p:cNvPr id="785" name=""/>
            <p:cNvSpPr/>
            <p:nvPr/>
          </p:nvSpPr>
          <p:spPr>
            <a:xfrm>
              <a:off x="938520" y="2306520"/>
              <a:ext cx="2228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938160" y="241740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7" name=""/>
          <p:cNvGrpSpPr/>
          <p:nvPr/>
        </p:nvGrpSpPr>
        <p:grpSpPr>
          <a:xfrm>
            <a:off x="1300320" y="2306520"/>
            <a:ext cx="222120" cy="222480"/>
            <a:chOff x="1300320" y="2306520"/>
            <a:chExt cx="222120" cy="222480"/>
          </a:xfrm>
        </p:grpSpPr>
        <p:sp>
          <p:nvSpPr>
            <p:cNvPr id="788" name=""/>
            <p:cNvSpPr/>
            <p:nvPr/>
          </p:nvSpPr>
          <p:spPr>
            <a:xfrm>
              <a:off x="1300680" y="2306520"/>
              <a:ext cx="22104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300320" y="24174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0" name=""/>
          <p:cNvGrpSpPr/>
          <p:nvPr/>
        </p:nvGrpSpPr>
        <p:grpSpPr>
          <a:xfrm>
            <a:off x="1660680" y="2306520"/>
            <a:ext cx="223560" cy="222480"/>
            <a:chOff x="1660680" y="2306520"/>
            <a:chExt cx="223560" cy="222480"/>
          </a:xfrm>
        </p:grpSpPr>
        <p:sp>
          <p:nvSpPr>
            <p:cNvPr id="791" name=""/>
            <p:cNvSpPr/>
            <p:nvPr/>
          </p:nvSpPr>
          <p:spPr>
            <a:xfrm>
              <a:off x="166104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66068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"/>
          <p:cNvGrpSpPr/>
          <p:nvPr/>
        </p:nvGrpSpPr>
        <p:grpSpPr>
          <a:xfrm>
            <a:off x="577800" y="2847960"/>
            <a:ext cx="223920" cy="220680"/>
            <a:chOff x="577800" y="2847960"/>
            <a:chExt cx="223920" cy="220680"/>
          </a:xfrm>
        </p:grpSpPr>
        <p:sp>
          <p:nvSpPr>
            <p:cNvPr id="794" name=""/>
            <p:cNvSpPr/>
            <p:nvPr/>
          </p:nvSpPr>
          <p:spPr>
            <a:xfrm>
              <a:off x="57816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7780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6" name=""/>
          <p:cNvGrpSpPr/>
          <p:nvPr/>
        </p:nvGrpSpPr>
        <p:grpSpPr>
          <a:xfrm>
            <a:off x="938160" y="2847960"/>
            <a:ext cx="223920" cy="220680"/>
            <a:chOff x="938160" y="2847960"/>
            <a:chExt cx="223920" cy="220680"/>
          </a:xfrm>
        </p:grpSpPr>
        <p:sp>
          <p:nvSpPr>
            <p:cNvPr id="797" name=""/>
            <p:cNvSpPr/>
            <p:nvPr/>
          </p:nvSpPr>
          <p:spPr>
            <a:xfrm>
              <a:off x="938520" y="284796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938160" y="295812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9" name=""/>
          <p:cNvGrpSpPr/>
          <p:nvPr/>
        </p:nvGrpSpPr>
        <p:grpSpPr>
          <a:xfrm>
            <a:off x="1300320" y="2847960"/>
            <a:ext cx="222120" cy="220680"/>
            <a:chOff x="1300320" y="2847960"/>
            <a:chExt cx="222120" cy="220680"/>
          </a:xfrm>
        </p:grpSpPr>
        <p:sp>
          <p:nvSpPr>
            <p:cNvPr id="800" name=""/>
            <p:cNvSpPr/>
            <p:nvPr/>
          </p:nvSpPr>
          <p:spPr>
            <a:xfrm>
              <a:off x="1300680" y="2847960"/>
              <a:ext cx="2210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1300320" y="29581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2" name=""/>
          <p:cNvGrpSpPr/>
          <p:nvPr/>
        </p:nvGrpSpPr>
        <p:grpSpPr>
          <a:xfrm>
            <a:off x="1660680" y="2847960"/>
            <a:ext cx="223560" cy="220680"/>
            <a:chOff x="1660680" y="2847960"/>
            <a:chExt cx="223560" cy="220680"/>
          </a:xfrm>
        </p:grpSpPr>
        <p:sp>
          <p:nvSpPr>
            <p:cNvPr id="803" name=""/>
            <p:cNvSpPr/>
            <p:nvPr/>
          </p:nvSpPr>
          <p:spPr>
            <a:xfrm>
              <a:off x="166104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66068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5" name=""/>
          <p:cNvSpPr/>
          <p:nvPr/>
        </p:nvSpPr>
        <p:spPr>
          <a:xfrm>
            <a:off x="843120" y="1687680"/>
            <a:ext cx="5868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1222200" y="1687680"/>
            <a:ext cx="59040" cy="601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1211400" y="2097000"/>
            <a:ext cx="5868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577800" y="266688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917720" y="22003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1527120" y="307656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643040" y="275904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824040" y="306864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3932280" y="1765440"/>
            <a:ext cx="223920" cy="223560"/>
            <a:chOff x="3932280" y="1765440"/>
            <a:chExt cx="223920" cy="223560"/>
          </a:xfrm>
        </p:grpSpPr>
        <p:sp>
          <p:nvSpPr>
            <p:cNvPr id="814" name=""/>
            <p:cNvSpPr/>
            <p:nvPr/>
          </p:nvSpPr>
          <p:spPr>
            <a:xfrm>
              <a:off x="393264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93228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442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4292640" y="1765440"/>
            <a:ext cx="223920" cy="223560"/>
            <a:chOff x="4292640" y="1765440"/>
            <a:chExt cx="223920" cy="223560"/>
          </a:xfrm>
        </p:grpSpPr>
        <p:sp>
          <p:nvSpPr>
            <p:cNvPr id="818" name=""/>
            <p:cNvSpPr/>
            <p:nvPr/>
          </p:nvSpPr>
          <p:spPr>
            <a:xfrm>
              <a:off x="429300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9264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40460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4653000" y="1765440"/>
            <a:ext cx="223920" cy="223560"/>
            <a:chOff x="4653000" y="1765440"/>
            <a:chExt cx="223920" cy="223560"/>
          </a:xfrm>
        </p:grpSpPr>
        <p:sp>
          <p:nvSpPr>
            <p:cNvPr id="822" name=""/>
            <p:cNvSpPr/>
            <p:nvPr/>
          </p:nvSpPr>
          <p:spPr>
            <a:xfrm>
              <a:off x="465336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5300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76496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5014800" y="1765440"/>
            <a:ext cx="222480" cy="223560"/>
            <a:chOff x="5014800" y="1765440"/>
            <a:chExt cx="222480" cy="223560"/>
          </a:xfrm>
        </p:grpSpPr>
        <p:sp>
          <p:nvSpPr>
            <p:cNvPr id="826" name=""/>
            <p:cNvSpPr/>
            <p:nvPr/>
          </p:nvSpPr>
          <p:spPr>
            <a:xfrm>
              <a:off x="5015160" y="1766520"/>
              <a:ext cx="22140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014800" y="18770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2604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3932280" y="2308320"/>
            <a:ext cx="223920" cy="223920"/>
            <a:chOff x="3932280" y="2308320"/>
            <a:chExt cx="223920" cy="223920"/>
          </a:xfrm>
        </p:grpSpPr>
        <p:sp>
          <p:nvSpPr>
            <p:cNvPr id="830" name=""/>
            <p:cNvSpPr/>
            <p:nvPr/>
          </p:nvSpPr>
          <p:spPr>
            <a:xfrm>
              <a:off x="393264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93228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442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4292640" y="2308320"/>
            <a:ext cx="223920" cy="223920"/>
            <a:chOff x="4292640" y="2308320"/>
            <a:chExt cx="223920" cy="223920"/>
          </a:xfrm>
        </p:grpSpPr>
        <p:sp>
          <p:nvSpPr>
            <p:cNvPr id="834" name=""/>
            <p:cNvSpPr/>
            <p:nvPr/>
          </p:nvSpPr>
          <p:spPr>
            <a:xfrm>
              <a:off x="429300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429264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440460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7" name=""/>
          <p:cNvGrpSpPr/>
          <p:nvPr/>
        </p:nvGrpSpPr>
        <p:grpSpPr>
          <a:xfrm>
            <a:off x="4653000" y="2308320"/>
            <a:ext cx="223920" cy="223920"/>
            <a:chOff x="4653000" y="2308320"/>
            <a:chExt cx="223920" cy="223920"/>
          </a:xfrm>
        </p:grpSpPr>
        <p:sp>
          <p:nvSpPr>
            <p:cNvPr id="838" name=""/>
            <p:cNvSpPr/>
            <p:nvPr/>
          </p:nvSpPr>
          <p:spPr>
            <a:xfrm>
              <a:off x="465336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465300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476496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5014800" y="2308320"/>
            <a:ext cx="222480" cy="223920"/>
            <a:chOff x="5014800" y="2308320"/>
            <a:chExt cx="222480" cy="223920"/>
          </a:xfrm>
        </p:grpSpPr>
        <p:sp>
          <p:nvSpPr>
            <p:cNvPr id="842" name=""/>
            <p:cNvSpPr/>
            <p:nvPr/>
          </p:nvSpPr>
          <p:spPr>
            <a:xfrm>
              <a:off x="5015160" y="2309400"/>
              <a:ext cx="22140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014800" y="242028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12604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932280" y="2849400"/>
            <a:ext cx="223920" cy="222480"/>
            <a:chOff x="3932280" y="2849400"/>
            <a:chExt cx="223920" cy="222480"/>
          </a:xfrm>
        </p:grpSpPr>
        <p:sp>
          <p:nvSpPr>
            <p:cNvPr id="846" name=""/>
            <p:cNvSpPr/>
            <p:nvPr/>
          </p:nvSpPr>
          <p:spPr>
            <a:xfrm>
              <a:off x="393264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93228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0442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9" name=""/>
          <p:cNvGrpSpPr/>
          <p:nvPr/>
        </p:nvGrpSpPr>
        <p:grpSpPr>
          <a:xfrm>
            <a:off x="4292640" y="2849400"/>
            <a:ext cx="223920" cy="222480"/>
            <a:chOff x="4292640" y="2849400"/>
            <a:chExt cx="223920" cy="222480"/>
          </a:xfrm>
        </p:grpSpPr>
        <p:sp>
          <p:nvSpPr>
            <p:cNvPr id="850" name=""/>
            <p:cNvSpPr/>
            <p:nvPr/>
          </p:nvSpPr>
          <p:spPr>
            <a:xfrm>
              <a:off x="429300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29264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40460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"/>
          <p:cNvGrpSpPr/>
          <p:nvPr/>
        </p:nvGrpSpPr>
        <p:grpSpPr>
          <a:xfrm>
            <a:off x="4653000" y="2849400"/>
            <a:ext cx="223920" cy="222480"/>
            <a:chOff x="4653000" y="2849400"/>
            <a:chExt cx="223920" cy="222480"/>
          </a:xfrm>
        </p:grpSpPr>
        <p:sp>
          <p:nvSpPr>
            <p:cNvPr id="854" name=""/>
            <p:cNvSpPr/>
            <p:nvPr/>
          </p:nvSpPr>
          <p:spPr>
            <a:xfrm>
              <a:off x="465336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65300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76496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7" name=""/>
          <p:cNvGrpSpPr/>
          <p:nvPr/>
        </p:nvGrpSpPr>
        <p:grpSpPr>
          <a:xfrm>
            <a:off x="5014800" y="2849400"/>
            <a:ext cx="222480" cy="222480"/>
            <a:chOff x="5014800" y="2849400"/>
            <a:chExt cx="222480" cy="222480"/>
          </a:xfrm>
        </p:grpSpPr>
        <p:sp>
          <p:nvSpPr>
            <p:cNvPr id="858" name=""/>
            <p:cNvSpPr/>
            <p:nvPr/>
          </p:nvSpPr>
          <p:spPr>
            <a:xfrm>
              <a:off x="5015160" y="2850480"/>
              <a:ext cx="22140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5014800" y="2960640"/>
              <a:ext cx="22248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12604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1" name=""/>
          <p:cNvSpPr/>
          <p:nvPr/>
        </p:nvSpPr>
        <p:spPr>
          <a:xfrm>
            <a:off x="4152960" y="308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4933800" y="267660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4245120" y="25718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4638600" y="26668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5305320" y="18669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5318280" y="30574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5340240" y="26290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4016520" y="209232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4886280" y="172404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4216320" y="17715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309920" y="2151000"/>
            <a:ext cx="5904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5141880" y="27306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942840" y="2116080"/>
            <a:ext cx="5904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1916280" y="2709720"/>
            <a:ext cx="58680" cy="604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>
            <a:off x="1386000" y="2665440"/>
            <a:ext cx="58680" cy="6012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917640" y="269244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4834080" y="2160720"/>
            <a:ext cx="58680" cy="58680"/>
          </a:xfrm>
          <a:prstGeom prst="ellipse">
            <a:avLst/>
          </a:prstGeom>
          <a:noFill/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056120" y="2643120"/>
            <a:ext cx="58680" cy="58680"/>
          </a:xfrm>
          <a:prstGeom prst="ellipse">
            <a:avLst/>
          </a:prstGeom>
          <a:solidFill>
            <a:srgbClr val="008000"/>
          </a:solidFill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1592280" y="2122560"/>
            <a:ext cx="604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2243160" y="1349280"/>
            <a:ext cx="404640" cy="1270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2814480" y="3600360"/>
            <a:ext cx="73080" cy="398520"/>
            <a:chOff x="2814480" y="3600360"/>
            <a:chExt cx="73080" cy="398520"/>
          </a:xfrm>
        </p:grpSpPr>
        <p:sp>
          <p:nvSpPr>
            <p:cNvPr id="882" name=""/>
            <p:cNvSpPr/>
            <p:nvPr/>
          </p:nvSpPr>
          <p:spPr>
            <a:xfrm>
              <a:off x="2887200" y="3600360"/>
              <a:ext cx="360" cy="398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2814480" y="3672720"/>
              <a:ext cx="360" cy="253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4" name=""/>
          <p:cNvGrpSpPr/>
          <p:nvPr/>
        </p:nvGrpSpPr>
        <p:grpSpPr>
          <a:xfrm>
            <a:off x="216000" y="2417760"/>
            <a:ext cx="5394240" cy="1384200"/>
            <a:chOff x="216000" y="2417760"/>
            <a:chExt cx="5394240" cy="1384200"/>
          </a:xfrm>
        </p:grpSpPr>
        <p:sp>
          <p:nvSpPr>
            <p:cNvPr id="885" name=""/>
            <p:cNvSpPr/>
            <p:nvPr/>
          </p:nvSpPr>
          <p:spPr>
            <a:xfrm>
              <a:off x="2894760" y="2417760"/>
              <a:ext cx="271548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8779" y="0"/>
                  </a:moveTo>
                  <a:lnTo>
                    <a:pt x="19995" y="0"/>
                  </a:lnTo>
                  <a:lnTo>
                    <a:pt x="19995" y="19990"/>
                  </a:lnTo>
                  <a:lnTo>
                    <a:pt x="0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16000" y="2426040"/>
              <a:ext cx="2606760" cy="13759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218" y="0"/>
                  </a:moveTo>
                  <a:lnTo>
                    <a:pt x="0" y="0"/>
                  </a:lnTo>
                  <a:lnTo>
                    <a:pt x="0" y="19990"/>
                  </a:lnTo>
                  <a:lnTo>
                    <a:pt x="19995" y="1999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930400" y="3475080"/>
            <a:ext cx="3636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4125960" y="3803760"/>
            <a:ext cx="326880" cy="14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4197240" y="3352680"/>
            <a:ext cx="1203480" cy="3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&lt;&lt;&lt;&l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H="1">
            <a:off x="1445760" y="2697120"/>
            <a:ext cx="29052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1649520" y="2076480"/>
            <a:ext cx="288720" cy="144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4303440" y="2597040"/>
            <a:ext cx="290520" cy="180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>
            <a:off x="4016520" y="2174760"/>
            <a:ext cx="290520" cy="0"/>
          </a:xfrm>
          <a:prstGeom prst="line">
            <a:avLst/>
          </a:prstGeom>
          <a:ln w="1260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>
            <a:off x="1844640" y="310500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175360" y="2128680"/>
            <a:ext cx="58680" cy="590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469800" y="173052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1120680" y="2635200"/>
            <a:ext cx="5868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159228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433440" y="281628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5319720" y="230976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4522680" y="2092320"/>
            <a:ext cx="604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2025720" y="1585800"/>
            <a:ext cx="1811160" cy="162252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1944720" y="2039760"/>
            <a:ext cx="60120" cy="604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954080" y="2598840"/>
            <a:ext cx="59040" cy="58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3871800" y="16938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835440" y="2743200"/>
            <a:ext cx="58680" cy="58680"/>
          </a:xfrm>
          <a:prstGeom prst="ellipse">
            <a:avLst/>
          </a:prstGeom>
          <a:solidFill>
            <a:srgbClr val="0000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025720" y="2236680"/>
            <a:ext cx="181116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"/>
          <p:cNvGrpSpPr/>
          <p:nvPr/>
        </p:nvGrpSpPr>
        <p:grpSpPr>
          <a:xfrm>
            <a:off x="2021040" y="1765440"/>
            <a:ext cx="222120" cy="222120"/>
            <a:chOff x="2021040" y="1765440"/>
            <a:chExt cx="222120" cy="222120"/>
          </a:xfrm>
        </p:grpSpPr>
        <p:sp>
          <p:nvSpPr>
            <p:cNvPr id="909" name=""/>
            <p:cNvSpPr/>
            <p:nvPr/>
          </p:nvSpPr>
          <p:spPr>
            <a:xfrm>
              <a:off x="2021400" y="17654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21040" y="18763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2021040" y="2306520"/>
            <a:ext cx="223560" cy="222480"/>
            <a:chOff x="2021040" y="2306520"/>
            <a:chExt cx="223560" cy="222480"/>
          </a:xfrm>
        </p:grpSpPr>
        <p:sp>
          <p:nvSpPr>
            <p:cNvPr id="912" name=""/>
            <p:cNvSpPr/>
            <p:nvPr/>
          </p:nvSpPr>
          <p:spPr>
            <a:xfrm>
              <a:off x="202140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2104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"/>
          <p:cNvGrpSpPr/>
          <p:nvPr/>
        </p:nvGrpSpPr>
        <p:grpSpPr>
          <a:xfrm>
            <a:off x="2021040" y="2847960"/>
            <a:ext cx="223560" cy="220680"/>
            <a:chOff x="2021040" y="2847960"/>
            <a:chExt cx="223560" cy="220680"/>
          </a:xfrm>
        </p:grpSpPr>
        <p:sp>
          <p:nvSpPr>
            <p:cNvPr id="915" name=""/>
            <p:cNvSpPr/>
            <p:nvPr/>
          </p:nvSpPr>
          <p:spPr>
            <a:xfrm>
              <a:off x="202140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2104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7" name=""/>
          <p:cNvGrpSpPr/>
          <p:nvPr/>
        </p:nvGrpSpPr>
        <p:grpSpPr>
          <a:xfrm>
            <a:off x="3211560" y="1763640"/>
            <a:ext cx="222120" cy="223920"/>
            <a:chOff x="3211560" y="1763640"/>
            <a:chExt cx="222120" cy="223920"/>
          </a:xfrm>
        </p:grpSpPr>
        <p:sp>
          <p:nvSpPr>
            <p:cNvPr id="918" name=""/>
            <p:cNvSpPr/>
            <p:nvPr/>
          </p:nvSpPr>
          <p:spPr>
            <a:xfrm>
              <a:off x="3211920" y="176472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1560" y="187560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322440" y="176364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3571920" y="1765440"/>
            <a:ext cx="223920" cy="223560"/>
            <a:chOff x="3571920" y="1765440"/>
            <a:chExt cx="223920" cy="223560"/>
          </a:xfrm>
        </p:grpSpPr>
        <p:sp>
          <p:nvSpPr>
            <p:cNvPr id="922" name=""/>
            <p:cNvSpPr/>
            <p:nvPr/>
          </p:nvSpPr>
          <p:spPr>
            <a:xfrm>
              <a:off x="3572280" y="1766520"/>
              <a:ext cx="222840" cy="22176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571920" y="18770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83880" y="1765440"/>
              <a:ext cx="360" cy="2235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"/>
          <p:cNvGrpSpPr/>
          <p:nvPr/>
        </p:nvGrpSpPr>
        <p:grpSpPr>
          <a:xfrm>
            <a:off x="3211560" y="2306520"/>
            <a:ext cx="222120" cy="223920"/>
            <a:chOff x="3211560" y="2306520"/>
            <a:chExt cx="222120" cy="223920"/>
          </a:xfrm>
        </p:grpSpPr>
        <p:sp>
          <p:nvSpPr>
            <p:cNvPr id="926" name=""/>
            <p:cNvSpPr/>
            <p:nvPr/>
          </p:nvSpPr>
          <p:spPr>
            <a:xfrm>
              <a:off x="3211920" y="230760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11560" y="241848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322440" y="23065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"/>
          <p:cNvGrpSpPr/>
          <p:nvPr/>
        </p:nvGrpSpPr>
        <p:grpSpPr>
          <a:xfrm>
            <a:off x="3571920" y="2308320"/>
            <a:ext cx="223920" cy="223920"/>
            <a:chOff x="3571920" y="2308320"/>
            <a:chExt cx="223920" cy="223920"/>
          </a:xfrm>
        </p:grpSpPr>
        <p:sp>
          <p:nvSpPr>
            <p:cNvPr id="930" name=""/>
            <p:cNvSpPr/>
            <p:nvPr/>
          </p:nvSpPr>
          <p:spPr>
            <a:xfrm>
              <a:off x="3572280" y="2309400"/>
              <a:ext cx="2228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571920" y="242028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683880" y="230832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3" name=""/>
          <p:cNvGrpSpPr/>
          <p:nvPr/>
        </p:nvGrpSpPr>
        <p:grpSpPr>
          <a:xfrm>
            <a:off x="3211560" y="2847960"/>
            <a:ext cx="222120" cy="223920"/>
            <a:chOff x="3211560" y="2847960"/>
            <a:chExt cx="222120" cy="223920"/>
          </a:xfrm>
        </p:grpSpPr>
        <p:sp>
          <p:nvSpPr>
            <p:cNvPr id="934" name=""/>
            <p:cNvSpPr/>
            <p:nvPr/>
          </p:nvSpPr>
          <p:spPr>
            <a:xfrm>
              <a:off x="3211920" y="2849040"/>
              <a:ext cx="22104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11560" y="2959920"/>
              <a:ext cx="2221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322440" y="2847960"/>
              <a:ext cx="360" cy="22392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7" name=""/>
          <p:cNvGrpSpPr/>
          <p:nvPr/>
        </p:nvGrpSpPr>
        <p:grpSpPr>
          <a:xfrm>
            <a:off x="3571920" y="2849400"/>
            <a:ext cx="223920" cy="222480"/>
            <a:chOff x="3571920" y="2849400"/>
            <a:chExt cx="223920" cy="222480"/>
          </a:xfrm>
        </p:grpSpPr>
        <p:sp>
          <p:nvSpPr>
            <p:cNvPr id="938" name=""/>
            <p:cNvSpPr/>
            <p:nvPr/>
          </p:nvSpPr>
          <p:spPr>
            <a:xfrm>
              <a:off x="3572280" y="2850480"/>
              <a:ext cx="22284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571920" y="2960640"/>
              <a:ext cx="22392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683880" y="2849400"/>
              <a:ext cx="360" cy="22248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711880" y="1600200"/>
            <a:ext cx="41688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MT Extra"/>
                <a:ea typeface="MT Extra"/>
              </a:rPr>
              <a:t>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2" name=""/>
          <p:cNvGrpSpPr/>
          <p:nvPr/>
        </p:nvGrpSpPr>
        <p:grpSpPr>
          <a:xfrm>
            <a:off x="2381400" y="1765440"/>
            <a:ext cx="223560" cy="222120"/>
            <a:chOff x="2381400" y="1765440"/>
            <a:chExt cx="223560" cy="222120"/>
          </a:xfrm>
        </p:grpSpPr>
        <p:sp>
          <p:nvSpPr>
            <p:cNvPr id="943" name=""/>
            <p:cNvSpPr/>
            <p:nvPr/>
          </p:nvSpPr>
          <p:spPr>
            <a:xfrm>
              <a:off x="2381760" y="1765440"/>
              <a:ext cx="222480" cy="22212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381400" y="18763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5" name=""/>
          <p:cNvGrpSpPr/>
          <p:nvPr/>
        </p:nvGrpSpPr>
        <p:grpSpPr>
          <a:xfrm>
            <a:off x="2381400" y="2306520"/>
            <a:ext cx="223560" cy="222480"/>
            <a:chOff x="2381400" y="2306520"/>
            <a:chExt cx="223560" cy="222480"/>
          </a:xfrm>
        </p:grpSpPr>
        <p:sp>
          <p:nvSpPr>
            <p:cNvPr id="946" name=""/>
            <p:cNvSpPr/>
            <p:nvPr/>
          </p:nvSpPr>
          <p:spPr>
            <a:xfrm>
              <a:off x="2381760" y="2306520"/>
              <a:ext cx="222480" cy="2224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81400" y="241740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2381400" y="2847960"/>
            <a:ext cx="223560" cy="220680"/>
            <a:chOff x="2381400" y="2847960"/>
            <a:chExt cx="223560" cy="220680"/>
          </a:xfrm>
        </p:grpSpPr>
        <p:sp>
          <p:nvSpPr>
            <p:cNvPr id="949" name=""/>
            <p:cNvSpPr/>
            <p:nvPr/>
          </p:nvSpPr>
          <p:spPr>
            <a:xfrm>
              <a:off x="2381760" y="2847960"/>
              <a:ext cx="222480" cy="220680"/>
            </a:xfrm>
            <a:prstGeom prst="ellipse">
              <a:avLst/>
            </a:prstGeom>
            <a:noFill/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381400" y="2958120"/>
              <a:ext cx="223560" cy="360"/>
            </a:xfrm>
            <a:prstGeom prst="line">
              <a:avLst/>
            </a:prstGeom>
            <a:ln w="1260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1" name=""/>
          <p:cNvSpPr/>
          <p:nvPr/>
        </p:nvSpPr>
        <p:spPr>
          <a:xfrm>
            <a:off x="3182760" y="1197000"/>
            <a:ext cx="403560" cy="403200"/>
          </a:xfrm>
          <a:prstGeom prst="plus">
            <a:avLst>
              <a:gd name="adj" fmla="val 35435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139680" y="4110120"/>
            <a:ext cx="892800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1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crea un campo eléctrico en el mismo sentido que el de la unión, aumenta el E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total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aumenta la diferencia de potencial: V´=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+V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y disminuye la corriente de mayoritarios. Favorece el desplazamiento de huecos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de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hacia la zona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ensanchándose la zona de transición. Pero estos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s-ES_tradnl" sz="24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provienen de zonas donde son minoritarios. El resultado es que fluye una pequeña corriente I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, debida únicamente a los pares e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que se generan por agitación térmica llamada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CORRIENTE INVERSA DE SATURACIÓN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0" lang="es-ES_tradnl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"/>
          <p:cNvGrpSpPr/>
          <p:nvPr/>
        </p:nvGrpSpPr>
        <p:grpSpPr>
          <a:xfrm>
            <a:off x="5943600" y="2590920"/>
            <a:ext cx="3110040" cy="1185840"/>
            <a:chOff x="5943600" y="2590920"/>
            <a:chExt cx="3110040" cy="1185840"/>
          </a:xfrm>
        </p:grpSpPr>
        <p:sp>
          <p:nvSpPr>
            <p:cNvPr id="954" name=""/>
            <p:cNvSpPr/>
            <p:nvPr/>
          </p:nvSpPr>
          <p:spPr>
            <a:xfrm>
              <a:off x="8220240" y="2590920"/>
              <a:ext cx="833400" cy="36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+ 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55080" y="3125880"/>
              <a:ext cx="290520" cy="3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946840" y="2835360"/>
              <a:ext cx="2535480" cy="9414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7"/>
                  </a:lnTo>
                  <a:lnTo>
                    <a:pt x="19995" y="19987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943600" y="2625840"/>
              <a:ext cx="2222640" cy="106056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953320" y="3048120"/>
              <a:ext cx="2222640" cy="641520"/>
            </a:xfrm>
            <a:custGeom>
              <a:avLst/>
              <a:gdLst/>
              <a:ahLst/>
              <a:rect l="l" t="t" r="r" b="b"/>
              <a:pathLst>
                <a:path w="1400" h="188">
                  <a:moveTo>
                    <a:pt x="0" y="186"/>
                  </a:moveTo>
                  <a:cubicBezTo>
                    <a:pt x="920" y="188"/>
                    <a:pt x="242" y="0"/>
                    <a:pt x="1400" y="6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468360" y="620640"/>
            <a:ext cx="35053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Arial"/>
              </a:rPr>
              <a:t>Polarización inver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6553080" y="1371600"/>
            <a:ext cx="304920" cy="368280"/>
          </a:xfrm>
          <a:prstGeom prst="rect">
            <a:avLst/>
          </a:prstGeom>
          <a:solidFill>
            <a:srgbClr val="bbe0e3"/>
          </a:solidFill>
          <a:ln w="381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6553080" y="1805040"/>
            <a:ext cx="304920" cy="368280"/>
          </a:xfrm>
          <a:prstGeom prst="rect">
            <a:avLst/>
          </a:prstGeom>
          <a:solidFill>
            <a:srgbClr val="99ccff"/>
          </a:solidFill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 flipV="1">
            <a:off x="6705720" y="1066320"/>
            <a:ext cx="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6705720" y="10666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6705720" y="22096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7277040" y="106668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6933960" y="2209680"/>
            <a:ext cx="152280" cy="533160"/>
            <a:chOff x="6933960" y="2209680"/>
            <a:chExt cx="152280" cy="533160"/>
          </a:xfrm>
        </p:grpSpPr>
        <p:sp>
          <p:nvSpPr>
            <p:cNvPr id="967" name=""/>
            <p:cNvSpPr/>
            <p:nvPr/>
          </p:nvSpPr>
          <p:spPr>
            <a:xfrm>
              <a:off x="7086240" y="2361960"/>
              <a:ext cx="0" cy="228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6933960" y="2209680"/>
              <a:ext cx="0" cy="5331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9" name=""/>
          <p:cNvSpPr/>
          <p:nvPr/>
        </p:nvSpPr>
        <p:spPr>
          <a:xfrm>
            <a:off x="670572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7086600" y="2438280"/>
            <a:ext cx="228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1" name=""/>
          <p:cNvGrpSpPr/>
          <p:nvPr/>
        </p:nvGrpSpPr>
        <p:grpSpPr>
          <a:xfrm>
            <a:off x="5859000" y="1066680"/>
            <a:ext cx="304920" cy="1054080"/>
            <a:chOff x="5859000" y="1066680"/>
            <a:chExt cx="304920" cy="1054080"/>
          </a:xfrm>
        </p:grpSpPr>
        <p:sp>
          <p:nvSpPr>
            <p:cNvPr id="972" name=""/>
            <p:cNvSpPr/>
            <p:nvPr/>
          </p:nvSpPr>
          <p:spPr>
            <a:xfrm>
              <a:off x="6021360" y="1066680"/>
              <a:ext cx="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0800000">
              <a:off x="5884560" y="1458360"/>
              <a:ext cx="270000" cy="28260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 flipH="1">
              <a:off x="5859000" y="17697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6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50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300"/>
                                        <p:tgtEl>
                                          <p:spTgt spid="9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"/>
          <p:cNvSpPr/>
          <p:nvPr/>
        </p:nvSpPr>
        <p:spPr>
          <a:xfrm>
            <a:off x="3886200" y="3108240"/>
            <a:ext cx="1066680" cy="1728720"/>
          </a:xfrm>
          <a:custGeom>
            <a:avLst/>
            <a:gdLst/>
            <a:ahLst/>
            <a:rect l="l" t="t" r="r" b="b"/>
            <a:pathLst>
              <a:path w="672" h="1056">
                <a:moveTo>
                  <a:pt x="0" y="0"/>
                </a:moveTo>
                <a:lnTo>
                  <a:pt x="672" y="0"/>
                </a:lnTo>
                <a:lnTo>
                  <a:pt x="672" y="1056"/>
                </a:lnTo>
                <a:lnTo>
                  <a:pt x="0" y="105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553248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951200" y="3770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8" name=""/>
          <p:cNvGrpSpPr/>
          <p:nvPr/>
        </p:nvGrpSpPr>
        <p:grpSpPr>
          <a:xfrm>
            <a:off x="3755520" y="3784680"/>
            <a:ext cx="258840" cy="258840"/>
            <a:chOff x="3755520" y="3784680"/>
            <a:chExt cx="258840" cy="258840"/>
          </a:xfrm>
        </p:grpSpPr>
        <p:sp>
          <p:nvSpPr>
            <p:cNvPr id="979" name=""/>
            <p:cNvSpPr/>
            <p:nvPr/>
          </p:nvSpPr>
          <p:spPr>
            <a:xfrm rot="5400000">
              <a:off x="3755520" y="3784680"/>
              <a:ext cx="258840" cy="258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3758400" y="4042800"/>
              <a:ext cx="237960" cy="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1" name=""/>
          <p:cNvSpPr/>
          <p:nvPr/>
        </p:nvSpPr>
        <p:spPr>
          <a:xfrm>
            <a:off x="1295280" y="3108240"/>
            <a:ext cx="2590920" cy="172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2057400" y="3008160"/>
            <a:ext cx="1143000" cy="1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2416680" y="2627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2286000" y="4456080"/>
            <a:ext cx="76320" cy="762120"/>
            <a:chOff x="2286000" y="4456080"/>
            <a:chExt cx="76320" cy="762120"/>
          </a:xfrm>
        </p:grpSpPr>
        <p:sp>
          <p:nvSpPr>
            <p:cNvPr id="985" name=""/>
            <p:cNvSpPr/>
            <p:nvPr/>
          </p:nvSpPr>
          <p:spPr>
            <a:xfrm>
              <a:off x="2286000" y="4456080"/>
              <a:ext cx="7632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286000" y="4456080"/>
              <a:ext cx="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62320" y="4608720"/>
              <a:ext cx="0" cy="457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8" name=""/>
          <p:cNvSpPr/>
          <p:nvPr/>
        </p:nvSpPr>
        <p:spPr>
          <a:xfrm flipV="1">
            <a:off x="2027880" y="4540680"/>
            <a:ext cx="592560" cy="59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 Curva característica del di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Ejes"/>
          <p:cNvSpPr/>
          <p:nvPr/>
        </p:nvSpPr>
        <p:spPr>
          <a:xfrm>
            <a:off x="7007400" y="3146400"/>
            <a:ext cx="1447560" cy="206532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X1"/>
          <p:cNvSpPr/>
          <p:nvPr/>
        </p:nvSpPr>
        <p:spPr>
          <a:xfrm flipV="1">
            <a:off x="725472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 flipV="1">
            <a:off x="750240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 flipV="1">
            <a:off x="775008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 flipV="1">
            <a:off x="799776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 flipV="1">
            <a:off x="8245440" y="5175000"/>
            <a:ext cx="0" cy="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7007040" y="422928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 flipH="1" flipV="1">
            <a:off x="5483160" y="5211000"/>
            <a:ext cx="1524240" cy="206280"/>
          </a:xfrm>
          <a:custGeom>
            <a:avLst/>
            <a:gdLst/>
            <a:ahLst/>
            <a:rect l="l" t="t" r="r" b="b"/>
            <a:pathLst>
              <a:path w="1680" h="1440">
                <a:moveTo>
                  <a:pt x="0" y="0"/>
                </a:moveTo>
                <a:lnTo>
                  <a:pt x="0" y="1440"/>
                </a:lnTo>
                <a:lnTo>
                  <a:pt x="1680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Y1"/>
          <p:cNvSpPr/>
          <p:nvPr/>
        </p:nvSpPr>
        <p:spPr>
          <a:xfrm>
            <a:off x="7007400" y="4718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 flipH="1">
            <a:off x="7007040" y="374004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007040" y="3251160"/>
            <a:ext cx="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3605040" y="5165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6705000" y="30243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8247240" y="52484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5632560" y="3481560"/>
            <a:ext cx="2365200" cy="1736640"/>
          </a:xfrm>
          <a:custGeom>
            <a:avLst/>
            <a:gdLst/>
            <a:ahLst/>
            <a:rect l="l" t="t" r="r" b="b"/>
            <a:pathLst>
              <a:path w="1490" h="1094">
                <a:moveTo>
                  <a:pt x="0" y="1093"/>
                </a:moveTo>
                <a:lnTo>
                  <a:pt x="1123" y="1094"/>
                </a:lnTo>
                <a:lnTo>
                  <a:pt x="1154" y="1093"/>
                </a:lnTo>
                <a:lnTo>
                  <a:pt x="1179" y="1093"/>
                </a:lnTo>
                <a:lnTo>
                  <a:pt x="1194" y="1092"/>
                </a:lnTo>
                <a:lnTo>
                  <a:pt x="1200" y="1092"/>
                </a:lnTo>
                <a:lnTo>
                  <a:pt x="1205" y="1092"/>
                </a:lnTo>
                <a:lnTo>
                  <a:pt x="1210" y="1091"/>
                </a:lnTo>
                <a:lnTo>
                  <a:pt x="1215" y="1091"/>
                </a:lnTo>
                <a:lnTo>
                  <a:pt x="1220" y="1088"/>
                </a:lnTo>
                <a:lnTo>
                  <a:pt x="1225" y="1088"/>
                </a:lnTo>
                <a:lnTo>
                  <a:pt x="1231" y="1088"/>
                </a:lnTo>
                <a:lnTo>
                  <a:pt x="1235" y="1087"/>
                </a:lnTo>
                <a:lnTo>
                  <a:pt x="1240" y="1087"/>
                </a:lnTo>
                <a:lnTo>
                  <a:pt x="1246" y="1086"/>
                </a:lnTo>
                <a:lnTo>
                  <a:pt x="1251" y="1085"/>
                </a:lnTo>
                <a:lnTo>
                  <a:pt x="1256" y="1084"/>
                </a:lnTo>
                <a:lnTo>
                  <a:pt x="1261" y="1084"/>
                </a:lnTo>
                <a:lnTo>
                  <a:pt x="1266" y="1081"/>
                </a:lnTo>
                <a:lnTo>
                  <a:pt x="1271" y="1080"/>
                </a:lnTo>
                <a:lnTo>
                  <a:pt x="1276" y="1078"/>
                </a:lnTo>
                <a:lnTo>
                  <a:pt x="1281" y="1077"/>
                </a:lnTo>
                <a:lnTo>
                  <a:pt x="1287" y="1075"/>
                </a:lnTo>
                <a:lnTo>
                  <a:pt x="1292" y="1072"/>
                </a:lnTo>
                <a:lnTo>
                  <a:pt x="1296" y="1071"/>
                </a:lnTo>
                <a:lnTo>
                  <a:pt x="1302" y="1068"/>
                </a:lnTo>
                <a:lnTo>
                  <a:pt x="1307" y="1065"/>
                </a:lnTo>
                <a:lnTo>
                  <a:pt x="1312" y="1061"/>
                </a:lnTo>
                <a:lnTo>
                  <a:pt x="1317" y="1059"/>
                </a:lnTo>
                <a:lnTo>
                  <a:pt x="1322" y="1054"/>
                </a:lnTo>
                <a:lnTo>
                  <a:pt x="1327" y="1051"/>
                </a:lnTo>
                <a:lnTo>
                  <a:pt x="1333" y="1045"/>
                </a:lnTo>
                <a:lnTo>
                  <a:pt x="1338" y="1040"/>
                </a:lnTo>
                <a:lnTo>
                  <a:pt x="1342" y="1034"/>
                </a:lnTo>
                <a:lnTo>
                  <a:pt x="1348" y="1029"/>
                </a:lnTo>
                <a:lnTo>
                  <a:pt x="1353" y="1022"/>
                </a:lnTo>
                <a:lnTo>
                  <a:pt x="1358" y="1013"/>
                </a:lnTo>
                <a:lnTo>
                  <a:pt x="1362" y="1005"/>
                </a:lnTo>
                <a:lnTo>
                  <a:pt x="1368" y="996"/>
                </a:lnTo>
                <a:lnTo>
                  <a:pt x="1373" y="984"/>
                </a:lnTo>
                <a:lnTo>
                  <a:pt x="1378" y="974"/>
                </a:lnTo>
                <a:lnTo>
                  <a:pt x="1384" y="961"/>
                </a:lnTo>
                <a:lnTo>
                  <a:pt x="1388" y="947"/>
                </a:lnTo>
                <a:lnTo>
                  <a:pt x="1393" y="932"/>
                </a:lnTo>
                <a:lnTo>
                  <a:pt x="1399" y="914"/>
                </a:lnTo>
                <a:lnTo>
                  <a:pt x="1404" y="894"/>
                </a:lnTo>
                <a:lnTo>
                  <a:pt x="1408" y="874"/>
                </a:lnTo>
                <a:lnTo>
                  <a:pt x="1414" y="851"/>
                </a:lnTo>
                <a:lnTo>
                  <a:pt x="1419" y="825"/>
                </a:lnTo>
                <a:lnTo>
                  <a:pt x="1424" y="796"/>
                </a:lnTo>
                <a:lnTo>
                  <a:pt x="1429" y="764"/>
                </a:lnTo>
                <a:lnTo>
                  <a:pt x="1434" y="730"/>
                </a:lnTo>
                <a:lnTo>
                  <a:pt x="1439" y="692"/>
                </a:lnTo>
                <a:lnTo>
                  <a:pt x="1444" y="650"/>
                </a:lnTo>
                <a:lnTo>
                  <a:pt x="1450" y="603"/>
                </a:lnTo>
                <a:lnTo>
                  <a:pt x="1455" y="551"/>
                </a:lnTo>
                <a:lnTo>
                  <a:pt x="1460" y="494"/>
                </a:lnTo>
                <a:lnTo>
                  <a:pt x="1465" y="431"/>
                </a:lnTo>
                <a:lnTo>
                  <a:pt x="1470" y="362"/>
                </a:lnTo>
                <a:lnTo>
                  <a:pt x="1475" y="284"/>
                </a:lnTo>
                <a:lnTo>
                  <a:pt x="1480" y="198"/>
                </a:lnTo>
                <a:lnTo>
                  <a:pt x="1485" y="105"/>
                </a:lnTo>
                <a:lnTo>
                  <a:pt x="1490" y="0"/>
                </a:lnTo>
              </a:path>
            </a:pathLst>
          </a:custGeom>
          <a:noFill/>
          <a:ln w="1260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unto"/>
          <p:cNvSpPr/>
          <p:nvPr/>
        </p:nvSpPr>
        <p:spPr>
          <a:xfrm>
            <a:off x="7653240" y="515628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4" dur="5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7" name=""/>
              <p:cNvSpPr txBox="1"/>
              <p:nvPr/>
            </p:nvSpPr>
            <p:spPr>
              <a:xfrm>
                <a:off x="7315200" y="2895480"/>
                <a:ext cx="1079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kT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8" name=""/>
          <p:cNvSpPr/>
          <p:nvPr/>
        </p:nvSpPr>
        <p:spPr>
          <a:xfrm>
            <a:off x="533520" y="5418000"/>
            <a:ext cx="33512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300 K) = 25.85 m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540360" y="5867280"/>
            <a:ext cx="520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k (Constante de Boltzmann) = 1.38·10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23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JK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0" name=""/>
              <p:cNvSpPr txBox="1"/>
              <p:nvPr/>
            </p:nvSpPr>
            <p:spPr>
              <a:xfrm>
                <a:off x="7010280" y="1219320"/>
                <a:ext cx="1892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V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aphicFrame>
        <p:nvGraphicFramePr>
          <p:cNvPr id="1011" name=""/>
          <p:cNvGraphicFramePr/>
          <p:nvPr/>
        </p:nvGraphicFramePr>
        <p:xfrm>
          <a:off x="533520" y="800280"/>
          <a:ext cx="5916600" cy="4221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800280"/>
                    <a:ext cx="5916600" cy="42210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013" name=""/>
          <p:cNvSpPr/>
          <p:nvPr/>
        </p:nvSpPr>
        <p:spPr>
          <a:xfrm>
            <a:off x="4418640" y="5384880"/>
            <a:ext cx="40154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rriente inversa de satu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.3.Curva característica. Influencia de la tempera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339640" y="1052280"/>
            <a:ext cx="3822840" cy="6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= ƒ(n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 = ƒ(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6" name="" descr=""/>
          <p:cNvPicPr/>
          <p:nvPr/>
        </p:nvPicPr>
        <p:blipFill>
          <a:blip r:embed="rId1"/>
          <a:stretch/>
        </p:blipFill>
        <p:spPr>
          <a:xfrm>
            <a:off x="1763640" y="2133720"/>
            <a:ext cx="5916600" cy="42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4935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1.4.El diodo como rectificad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609480" y="1828800"/>
            <a:ext cx="0" cy="136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609480" y="2508120"/>
            <a:ext cx="25876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3083040" y="2638440"/>
            <a:ext cx="1429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431640" y="1851120"/>
            <a:ext cx="20016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156280" y="1519200"/>
            <a:ext cx="0" cy="1700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3962520" y="2438280"/>
            <a:ext cx="1557360" cy="78120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0" y="0"/>
                </a:moveTo>
                <a:lnTo>
                  <a:pt x="0" y="19984"/>
                </a:lnTo>
                <a:lnTo>
                  <a:pt x="19992" y="1998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3962520" y="1519200"/>
            <a:ext cx="1519200" cy="703440"/>
          </a:xfrm>
          <a:custGeom>
            <a:avLst/>
            <a:gdLst/>
            <a:ahLst/>
            <a:rect l="l" t="t" r="r" b="b"/>
            <a:pathLst>
              <a:path w="20000" h="20000">
                <a:moveTo>
                  <a:pt x="19992" y="0"/>
                </a:moveTo>
                <a:lnTo>
                  <a:pt x="0" y="0"/>
                </a:lnTo>
                <a:lnTo>
                  <a:pt x="0" y="1998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lg" type="oval" w="lg"/>
            <a:tail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3672000" y="2076480"/>
            <a:ext cx="2174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0000"/>
                </a:solidFill>
                <a:latin typeface="Arial"/>
              </a:rPr>
              <a:t>~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067360" y="2076480"/>
            <a:ext cx="181080" cy="65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337000" y="2257560"/>
            <a:ext cx="7588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" rIns="12600" tIns="12600" bIns="126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4505400" y="1409760"/>
            <a:ext cx="217440" cy="217440"/>
            <a:chOff x="4505400" y="1409760"/>
            <a:chExt cx="217440" cy="217440"/>
          </a:xfrm>
        </p:grpSpPr>
        <p:sp>
          <p:nvSpPr>
            <p:cNvPr id="1029" name=""/>
            <p:cNvSpPr/>
            <p:nvPr/>
          </p:nvSpPr>
          <p:spPr>
            <a:xfrm>
              <a:off x="4505400" y="1409760"/>
              <a:ext cx="217440" cy="217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942" y="9971"/>
                  </a:lnTo>
                  <a:lnTo>
                    <a:pt x="0" y="199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722480" y="1424880"/>
              <a:ext cx="360" cy="199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001080" y="2548080"/>
            <a:ext cx="142920" cy="1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6404040" y="1776240"/>
            <a:ext cx="0" cy="13608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404040" y="2440080"/>
            <a:ext cx="263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224760" y="1760400"/>
            <a:ext cx="2523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4952880" y="4078440"/>
            <a:ext cx="0" cy="1733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4952880" y="5810400"/>
            <a:ext cx="379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8694720" y="5819760"/>
            <a:ext cx="182520" cy="2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4707000" y="4106880"/>
            <a:ext cx="257040" cy="21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9" name=""/>
          <p:cNvGrpSpPr/>
          <p:nvPr/>
        </p:nvGrpSpPr>
        <p:grpSpPr>
          <a:xfrm>
            <a:off x="320760" y="3619440"/>
            <a:ext cx="4174920" cy="2529000"/>
            <a:chOff x="320760" y="3619440"/>
            <a:chExt cx="4174920" cy="2529000"/>
          </a:xfrm>
        </p:grpSpPr>
        <p:sp>
          <p:nvSpPr>
            <p:cNvPr id="1040" name=""/>
            <p:cNvSpPr/>
            <p:nvPr/>
          </p:nvSpPr>
          <p:spPr>
            <a:xfrm>
              <a:off x="3432240" y="3633840"/>
              <a:ext cx="0" cy="201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952560" y="3624120"/>
              <a:ext cx="2023920" cy="20242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0000"/>
                  </a:moveTo>
                  <a:lnTo>
                    <a:pt x="10000" y="0"/>
                  </a:lnTo>
                  <a:lnTo>
                    <a:pt x="19994" y="10000"/>
                  </a:lnTo>
                  <a:lnTo>
                    <a:pt x="10000" y="19994"/>
                  </a:lnTo>
                  <a:lnTo>
                    <a:pt x="0" y="10000"/>
                  </a:lnTo>
                  <a:close/>
                </a:path>
              </a:pathLst>
            </a:custGeom>
            <a:noFill/>
            <a:ln w="936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338120" y="4008600"/>
              <a:ext cx="23976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523880" y="3954600"/>
              <a:ext cx="10980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368440" y="4021200"/>
              <a:ext cx="23832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474"/>
                  </a:moveTo>
                  <a:lnTo>
                    <a:pt x="0" y="0"/>
                  </a:lnTo>
                  <a:lnTo>
                    <a:pt x="5440" y="19947"/>
                  </a:lnTo>
                  <a:lnTo>
                    <a:pt x="19947" y="5474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314440" y="3965400"/>
              <a:ext cx="11124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413000" y="5087880"/>
              <a:ext cx="237960" cy="24120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47" y="5526"/>
                  </a:moveTo>
                  <a:lnTo>
                    <a:pt x="0" y="0"/>
                  </a:lnTo>
                  <a:lnTo>
                    <a:pt x="5455" y="19947"/>
                  </a:lnTo>
                  <a:lnTo>
                    <a:pt x="19947" y="552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357200" y="5032440"/>
              <a:ext cx="109800" cy="1112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9884"/>
                  </a:moveTo>
                  <a:lnTo>
                    <a:pt x="19885" y="0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309760" y="5062680"/>
              <a:ext cx="241200" cy="23652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4512" y="19947"/>
                  </a:moveTo>
                  <a:lnTo>
                    <a:pt x="19947" y="0"/>
                  </a:lnTo>
                  <a:lnTo>
                    <a:pt x="0" y="5348"/>
                  </a:lnTo>
                  <a:lnTo>
                    <a:pt x="14512" y="199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1c1b1a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495520" y="5008680"/>
              <a:ext cx="109440" cy="1094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19884" y="19884"/>
                  </a:lnTo>
                </a:path>
              </a:pathLst>
            </a:custGeom>
            <a:noFill/>
            <a:ln w="12600">
              <a:solidFill>
                <a:srgbClr val="1c1b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1971720" y="361944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1971720" y="5653080"/>
              <a:ext cx="179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09480" y="5257800"/>
              <a:ext cx="2381400" cy="8906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0"/>
                  </a:moveTo>
                  <a:lnTo>
                    <a:pt x="0" y="19986"/>
                  </a:lnTo>
                  <a:lnTo>
                    <a:pt x="19995" y="19986"/>
                  </a:lnTo>
                  <a:lnTo>
                    <a:pt x="19995" y="1047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84400" y="4638600"/>
              <a:ext cx="0" cy="9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 flipV="1">
              <a:off x="2919600" y="5576040"/>
              <a:ext cx="145440" cy="145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1028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1028898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03360" y="4638600"/>
              <a:ext cx="342720" cy="36684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19963" y="0"/>
                  </a:moveTo>
                  <a:lnTo>
                    <a:pt x="0" y="0"/>
                  </a:lnTo>
                  <a:lnTo>
                    <a:pt x="0" y="19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lg" type="oval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0760" y="4935600"/>
              <a:ext cx="217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000" spc="-1" strike="noStrike">
                  <a:solidFill>
                    <a:srgbClr val="ff0000"/>
                  </a:solidFill>
                  <a:latin typeface="Arial"/>
                </a:rPr>
                <a:t>~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343320" y="4195800"/>
              <a:ext cx="181080" cy="777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649680" y="4465800"/>
              <a:ext cx="846000" cy="25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salid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9" name=""/>
            <p:cNvGrpSpPr/>
            <p:nvPr/>
          </p:nvGrpSpPr>
          <p:grpSpPr>
            <a:xfrm>
              <a:off x="1533600" y="3619440"/>
              <a:ext cx="433440" cy="2028600"/>
              <a:chOff x="1533600" y="3619440"/>
              <a:chExt cx="433440" cy="2028600"/>
            </a:xfrm>
          </p:grpSpPr>
          <p:sp>
            <p:nvSpPr>
              <p:cNvPr id="1060" name=""/>
              <p:cNvSpPr/>
              <p:nvPr/>
            </p:nvSpPr>
            <p:spPr>
              <a:xfrm>
                <a:off x="1533600" y="45910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533600" y="4686480"/>
                <a:ext cx="30456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6858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16858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4" name=""/>
            <p:cNvGrpSpPr/>
            <p:nvPr/>
          </p:nvGrpSpPr>
          <p:grpSpPr>
            <a:xfrm>
              <a:off x="1976040" y="3619440"/>
              <a:ext cx="430200" cy="2028600"/>
              <a:chOff x="1976040" y="3619440"/>
              <a:chExt cx="430200" cy="2028600"/>
            </a:xfrm>
          </p:grpSpPr>
          <p:sp>
            <p:nvSpPr>
              <p:cNvPr id="1065" name=""/>
              <p:cNvSpPr/>
              <p:nvPr/>
            </p:nvSpPr>
            <p:spPr>
              <a:xfrm flipH="1">
                <a:off x="2101320" y="45910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>
                <a:off x="2101320" y="4686480"/>
                <a:ext cx="304920" cy="0"/>
              </a:xfrm>
              <a:prstGeom prst="line">
                <a:avLst/>
              </a:prstGeom>
              <a:ln w="3816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 flipH="1">
                <a:off x="1975680" y="36194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1975680" y="4676040"/>
                <a:ext cx="281160" cy="971640"/>
              </a:xfrm>
              <a:custGeom>
                <a:avLst/>
                <a:gdLst/>
                <a:ahLst/>
                <a:rect l="l" t="t" r="r" b="b"/>
                <a:pathLst>
                  <a:path w="177" h="612">
                    <a:moveTo>
                      <a:pt x="177" y="0"/>
                    </a:moveTo>
                    <a:lnTo>
                      <a:pt x="0" y="435"/>
                    </a:lnTo>
                    <a:lnTo>
                      <a:pt x="0" y="612"/>
                    </a:lnTo>
                  </a:path>
                </a:pathLst>
              </a:custGeom>
              <a:noFill/>
              <a:ln w="38160">
                <a:solidFill>
                  <a:srgbClr val="3399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9" name=""/>
          <p:cNvGrpSpPr/>
          <p:nvPr/>
        </p:nvGrpSpPr>
        <p:grpSpPr>
          <a:xfrm>
            <a:off x="4959360" y="4044960"/>
            <a:ext cx="3600360" cy="1776240"/>
            <a:chOff x="4959360" y="4044960"/>
            <a:chExt cx="3600360" cy="1776240"/>
          </a:xfrm>
        </p:grpSpPr>
        <p:sp>
          <p:nvSpPr>
            <p:cNvPr id="1070" name=""/>
            <p:cNvSpPr/>
            <p:nvPr/>
          </p:nvSpPr>
          <p:spPr>
            <a:xfrm>
              <a:off x="495936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164280" y="4044960"/>
              <a:ext cx="120024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359840" y="4044960"/>
              <a:ext cx="1199880" cy="177624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4959360" y="4044960"/>
            <a:ext cx="3600360" cy="785880"/>
            <a:chOff x="4959360" y="4044960"/>
            <a:chExt cx="3600360" cy="785880"/>
          </a:xfrm>
        </p:grpSpPr>
        <p:sp>
          <p:nvSpPr>
            <p:cNvPr id="1074" name=""/>
            <p:cNvSpPr/>
            <p:nvPr/>
          </p:nvSpPr>
          <p:spPr>
            <a:xfrm>
              <a:off x="495936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64280" y="4044960"/>
              <a:ext cx="120024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7359840" y="4044960"/>
              <a:ext cx="1199880" cy="78588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"/>
          <p:cNvGrpSpPr/>
          <p:nvPr/>
        </p:nvGrpSpPr>
        <p:grpSpPr>
          <a:xfrm>
            <a:off x="4959360" y="4044960"/>
            <a:ext cx="3600360" cy="252360"/>
            <a:chOff x="4959360" y="4044960"/>
            <a:chExt cx="3600360" cy="252360"/>
          </a:xfrm>
        </p:grpSpPr>
        <p:sp>
          <p:nvSpPr>
            <p:cNvPr id="1078" name=""/>
            <p:cNvSpPr/>
            <p:nvPr/>
          </p:nvSpPr>
          <p:spPr>
            <a:xfrm>
              <a:off x="495936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6164280" y="4044960"/>
              <a:ext cx="120024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359840" y="4044960"/>
              <a:ext cx="1199880" cy="252360"/>
            </a:xfrm>
            <a:custGeom>
              <a:avLst/>
              <a:gdLst/>
              <a:ahLst/>
              <a:rect l="l" t="t" r="r" b="b"/>
              <a:pathLst>
                <a:path w="756" h="1119">
                  <a:moveTo>
                    <a:pt x="0" y="1110"/>
                  </a:moveTo>
                  <a:cubicBezTo>
                    <a:pt x="78" y="717"/>
                    <a:pt x="222" y="12"/>
                    <a:pt x="384" y="6"/>
                  </a:cubicBezTo>
                  <a:cubicBezTo>
                    <a:pt x="546" y="0"/>
                    <a:pt x="681" y="834"/>
                    <a:pt x="756" y="1119"/>
                  </a:cubicBezTo>
                </a:path>
              </a:pathLst>
            </a:custGeom>
            <a:noFill/>
            <a:ln w="25560">
              <a:solidFill>
                <a:srgbClr val="33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"/>
          <p:cNvGrpSpPr/>
          <p:nvPr/>
        </p:nvGrpSpPr>
        <p:grpSpPr>
          <a:xfrm>
            <a:off x="6410160" y="1744560"/>
            <a:ext cx="2451240" cy="700200"/>
            <a:chOff x="6410160" y="1744560"/>
            <a:chExt cx="2451240" cy="700200"/>
          </a:xfrm>
        </p:grpSpPr>
        <p:sp>
          <p:nvSpPr>
            <p:cNvPr id="1082" name=""/>
            <p:cNvSpPr/>
            <p:nvPr/>
          </p:nvSpPr>
          <p:spPr>
            <a:xfrm>
              <a:off x="6410160" y="1744560"/>
              <a:ext cx="81900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8042040" y="1744560"/>
              <a:ext cx="819360" cy="700200"/>
            </a:xfrm>
            <a:custGeom>
              <a:avLst/>
              <a:gdLst/>
              <a:ahLst/>
              <a:rect l="l" t="t" r="r" b="b"/>
              <a:pathLst>
                <a:path w="516" h="441">
                  <a:moveTo>
                    <a:pt x="0" y="437"/>
                  </a:moveTo>
                  <a:cubicBezTo>
                    <a:pt x="64" y="241"/>
                    <a:pt x="170" y="0"/>
                    <a:pt x="256" y="1"/>
                  </a:cubicBezTo>
                  <a:cubicBezTo>
                    <a:pt x="342" y="2"/>
                    <a:pt x="440" y="241"/>
                    <a:pt x="516" y="441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223040" y="2438280"/>
              <a:ext cx="8287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5" name=""/>
          <p:cNvSpPr/>
          <p:nvPr/>
        </p:nvSpPr>
        <p:spPr>
          <a:xfrm>
            <a:off x="609480" y="1822320"/>
            <a:ext cx="2438640" cy="1373400"/>
          </a:xfrm>
          <a:custGeom>
            <a:avLst/>
            <a:gdLst/>
            <a:ahLst/>
            <a:rect l="l" t="t" r="r" b="b"/>
            <a:pathLst>
              <a:path w="1536" h="865">
                <a:moveTo>
                  <a:pt x="0" y="436"/>
                </a:moveTo>
                <a:cubicBezTo>
                  <a:pt x="102" y="166"/>
                  <a:pt x="174" y="0"/>
                  <a:pt x="260" y="0"/>
                </a:cubicBezTo>
                <a:cubicBezTo>
                  <a:pt x="346" y="0"/>
                  <a:pt x="436" y="240"/>
                  <a:pt x="516" y="436"/>
                </a:cubicBezTo>
                <a:cubicBezTo>
                  <a:pt x="596" y="632"/>
                  <a:pt x="675" y="865"/>
                  <a:pt x="771" y="865"/>
                </a:cubicBezTo>
                <a:cubicBezTo>
                  <a:pt x="867" y="865"/>
                  <a:pt x="932" y="654"/>
                  <a:pt x="1024" y="428"/>
                </a:cubicBezTo>
                <a:cubicBezTo>
                  <a:pt x="1116" y="202"/>
                  <a:pt x="1184" y="1"/>
                  <a:pt x="1269" y="1"/>
                </a:cubicBezTo>
                <a:cubicBezTo>
                  <a:pt x="1354" y="1"/>
                  <a:pt x="1440" y="163"/>
                  <a:pt x="1536" y="4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500"/>
                            </p:stCondLst>
                            <p:childTnLst>
                              <p:par>
                                <p:cTn id="2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12:14:56Z</dcterms:created>
  <dc:creator>Biki1</dc:creator>
  <dc:description/>
  <dc:language>en-US</dc:language>
  <cp:lastModifiedBy>Biki1</cp:lastModifiedBy>
  <dcterms:modified xsi:type="dcterms:W3CDTF">2005-08-02T13:28:49Z</dcterms:modified>
  <cp:revision>6</cp:revision>
  <dc:subject/>
  <dc:title>Diapositiva 1</dc:title>
</cp:coreProperties>
</file>