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76280"/>
            <a:ext cx="91440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788000" y="44280"/>
            <a:ext cx="43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Área de Tecnología Electrón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492360" y="6334200"/>
            <a:ext cx="56516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9840" y="6237360"/>
            <a:ext cx="539640" cy="5443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12720" y="636120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ersidad de Ovie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200" y="4428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y Automatis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87640" y="6405480"/>
            <a:ext cx="52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scuela Universitaria de Ingenierías Técnicas de Mie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92360" y="141300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CTRÓNICA Y AUTOMATI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4720" y="2131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º Curso de Instalaciones Electromecánicas Mi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141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Tema 1: Componentes Electró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El d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5229360"/>
            <a:ext cx="57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or: </a:t>
            </a:r>
            <a:r>
              <a:rPr b="0" i="1" lang="en-US" sz="1800" spc="-1" strike="noStrike">
                <a:solidFill>
                  <a:srgbClr val="008000"/>
                </a:solidFill>
                <a:latin typeface="Arial"/>
              </a:rPr>
              <a:t>Javier Ribas Bu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900760"/>
            <a:ext cx="84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i="1" lang="en-US" sz="1600" spc="-1" strike="noStrike">
                <a:solidFill>
                  <a:srgbClr val="008000"/>
                </a:solidFill>
                <a:latin typeface="Arial"/>
              </a:rPr>
              <a:t>Las animaciones contenidas en esta presentación requieren Office XP o poster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046160" y="1197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ex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78480" y="11970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IP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158920" y="1844640"/>
            <a:ext cx="4392720" cy="1835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340000" y="1881360"/>
            <a:ext cx="4140000" cy="1655640"/>
            <a:chOff x="2340000" y="1881360"/>
            <a:chExt cx="4140000" cy="1655640"/>
          </a:xfrm>
        </p:grpSpPr>
        <p:sp>
          <p:nvSpPr>
            <p:cNvPr id="849" name=""/>
            <p:cNvSpPr/>
            <p:nvPr/>
          </p:nvSpPr>
          <p:spPr>
            <a:xfrm>
              <a:off x="2340000" y="1952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664000" y="2529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11280" y="3249720"/>
              <a:ext cx="28764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951280" y="3068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16360" y="32497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492360" y="2673360"/>
              <a:ext cx="28764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76720" y="2023920"/>
              <a:ext cx="287280" cy="2876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103640" y="2205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92720" y="2852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88000" y="19162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967280" y="321300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11640" y="24922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88000" y="317664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92720" y="270828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96000" y="224172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192720" y="1881360"/>
              <a:ext cx="287280" cy="287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6480000" y="2349360"/>
            <a:ext cx="2221200" cy="358920"/>
            <a:chOff x="6480000" y="2349360"/>
            <a:chExt cx="2221200" cy="358920"/>
          </a:xfrm>
        </p:grpSpPr>
        <p:sp>
          <p:nvSpPr>
            <p:cNvPr id="866" name=""/>
            <p:cNvSpPr/>
            <p:nvPr/>
          </p:nvSpPr>
          <p:spPr>
            <a:xfrm>
              <a:off x="6772320" y="2349360"/>
              <a:ext cx="19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urezas grupo II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6480000" y="2529000"/>
              <a:ext cx="324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7059600" y="2936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300º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340000" y="1881360"/>
            <a:ext cx="4140000" cy="1692000"/>
            <a:chOff x="2340000" y="1881360"/>
            <a:chExt cx="4140000" cy="1692000"/>
          </a:xfrm>
        </p:grpSpPr>
        <p:grpSp>
          <p:nvGrpSpPr>
            <p:cNvPr id="870" name=""/>
            <p:cNvGrpSpPr/>
            <p:nvPr/>
          </p:nvGrpSpPr>
          <p:grpSpPr>
            <a:xfrm>
              <a:off x="2340000" y="1881360"/>
              <a:ext cx="4140000" cy="1655640"/>
              <a:chOff x="2340000" y="1881360"/>
              <a:chExt cx="4140000" cy="1655640"/>
            </a:xfrm>
          </p:grpSpPr>
          <p:sp>
            <p:nvSpPr>
              <p:cNvPr id="871" name=""/>
              <p:cNvSpPr/>
              <p:nvPr/>
            </p:nvSpPr>
            <p:spPr>
              <a:xfrm>
                <a:off x="2340000" y="195264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64000" y="252900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11280" y="3249720"/>
                <a:ext cx="28764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951280" y="306864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816360" y="324972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492360" y="2673360"/>
                <a:ext cx="28764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276720" y="2023920"/>
                <a:ext cx="287280" cy="287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103640" y="220500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392720" y="285264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788000" y="191628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967280" y="321300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111640" y="249228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688000" y="317664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192720" y="270828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796000" y="224172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192720" y="1881360"/>
                <a:ext cx="287280" cy="28728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2771640" y="3465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19640" y="332100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356000" y="339264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00720" y="3500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264360" y="335772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80000" y="2960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472000" y="2313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40360" y="195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256360" y="195264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51280" y="2565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11640" y="2673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032360" y="198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311640" y="2744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132000" y="2384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448000" y="2708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771640" y="202392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1261440" y="3429000"/>
            <a:ext cx="2194560" cy="849240"/>
            <a:chOff x="1261440" y="3429000"/>
            <a:chExt cx="2194560" cy="849240"/>
          </a:xfrm>
        </p:grpSpPr>
        <p:sp>
          <p:nvSpPr>
            <p:cNvPr id="904" name=""/>
            <p:cNvSpPr/>
            <p:nvPr/>
          </p:nvSpPr>
          <p:spPr>
            <a:xfrm>
              <a:off x="1261440" y="3909960"/>
              <a:ext cx="18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f3300"/>
                  </a:solidFill>
                  <a:latin typeface="Arial"/>
                </a:rPr>
                <a:t>Huecos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095640" y="3429000"/>
              <a:ext cx="360360" cy="684360"/>
            </a:xfrm>
            <a:custGeom>
              <a:avLst/>
              <a:gdLst/>
              <a:ahLst/>
              <a:rect l="l" t="t" r="r" b="b"/>
              <a:pathLst>
                <a:path w="227" h="431">
                  <a:moveTo>
                    <a:pt x="0" y="431"/>
                  </a:moveTo>
                  <a:cubicBezTo>
                    <a:pt x="72" y="399"/>
                    <a:pt x="144" y="367"/>
                    <a:pt x="182" y="295"/>
                  </a:cubicBezTo>
                  <a:cubicBezTo>
                    <a:pt x="220" y="223"/>
                    <a:pt x="220" y="45"/>
                    <a:pt x="227" y="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4865760" y="3500280"/>
            <a:ext cx="3679560" cy="784440"/>
            <a:chOff x="4865760" y="3500280"/>
            <a:chExt cx="3679560" cy="784440"/>
          </a:xfrm>
        </p:grpSpPr>
        <p:sp>
          <p:nvSpPr>
            <p:cNvPr id="907" name=""/>
            <p:cNvSpPr/>
            <p:nvPr/>
          </p:nvSpPr>
          <p:spPr>
            <a:xfrm>
              <a:off x="5132160" y="3916440"/>
              <a:ext cx="34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Átomos de impurezas ioniz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865760" y="3500280"/>
              <a:ext cx="282600" cy="576360"/>
            </a:xfrm>
            <a:custGeom>
              <a:avLst/>
              <a:gdLst/>
              <a:ahLst/>
              <a:rect l="l" t="t" r="r" b="b"/>
              <a:pathLst>
                <a:path w="178" h="363">
                  <a:moveTo>
                    <a:pt x="178" y="363"/>
                  </a:moveTo>
                  <a:cubicBezTo>
                    <a:pt x="108" y="313"/>
                    <a:pt x="38" y="264"/>
                    <a:pt x="19" y="204"/>
                  </a:cubicBezTo>
                  <a:cubicBezTo>
                    <a:pt x="0" y="144"/>
                    <a:pt x="32" y="72"/>
                    <a:pt x="64" y="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610200" y="4941720"/>
            <a:ext cx="789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os portadores mayoritarios de carga en un semiconductor tipo P 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uecos.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Actúan como portadores de carga posi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9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42920" y="1197000"/>
            <a:ext cx="60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nión P-N en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934920" y="1844640"/>
            <a:ext cx="3168720" cy="1835280"/>
            <a:chOff x="934920" y="1844640"/>
            <a:chExt cx="3168720" cy="1835280"/>
          </a:xfrm>
        </p:grpSpPr>
        <p:sp>
          <p:nvSpPr>
            <p:cNvPr id="913" name=""/>
            <p:cNvSpPr/>
            <p:nvPr/>
          </p:nvSpPr>
          <p:spPr>
            <a:xfrm>
              <a:off x="934920" y="1844640"/>
              <a:ext cx="3168720" cy="183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66920" y="328464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42920" y="1916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42920" y="285264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258920" y="242100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87640" y="3357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2924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00360" y="227664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050920" y="1881360"/>
              <a:ext cx="28764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74920" y="285264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484360" y="2133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916360" y="3105000"/>
              <a:ext cx="287280" cy="28764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51280" y="256536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19640" y="332100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745080" y="270828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48000" y="224172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745080" y="1881360"/>
              <a:ext cx="287280" cy="28728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492360" y="2744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71640" y="3321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908000" y="339264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52720" y="350028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16360" y="335772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132000" y="2960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024360" y="231300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492360" y="195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808360" y="1952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303640" y="2565360"/>
              <a:ext cx="7272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763640" y="267336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584360" y="198900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79640" y="2276640"/>
              <a:ext cx="7272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547640" y="3068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924360" y="2276640"/>
              <a:ext cx="73080" cy="7272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64000" y="3068640"/>
              <a:ext cx="73080" cy="73080"/>
            </a:xfrm>
            <a:prstGeom prst="ellipse">
              <a:avLst/>
            </a:prstGeom>
            <a:solidFill>
              <a:srgbClr val="ffcccc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5076720" y="1844640"/>
            <a:ext cx="3168720" cy="1835280"/>
            <a:chOff x="5076720" y="1844640"/>
            <a:chExt cx="3168720" cy="1835280"/>
          </a:xfrm>
        </p:grpSpPr>
        <p:sp>
          <p:nvSpPr>
            <p:cNvPr id="947" name=""/>
            <p:cNvSpPr/>
            <p:nvPr/>
          </p:nvSpPr>
          <p:spPr>
            <a:xfrm>
              <a:off x="5076720" y="1844640"/>
              <a:ext cx="316872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86520" y="195264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510160" y="252900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257800" y="324972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97440" y="331956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662880" y="324972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21440" y="296064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761080" y="187956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265800" y="2384280"/>
              <a:ext cx="287280" cy="28764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81800" y="191628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93080" y="220356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813800" y="321300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32720" y="270828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37440" y="310356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489800" y="184464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24720" y="263520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885080" y="2276640"/>
              <a:ext cx="287280" cy="28728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57800" y="2887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81800" y="3211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408720" y="33926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093080" y="3463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13440" y="3068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632720" y="3500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73800" y="2887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93080" y="2887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102520" y="19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589800" y="2816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229440" y="2131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878520" y="1989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977080" y="281628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978520" y="2384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257800" y="2527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45080" y="22035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1295640" y="3789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miconductor tip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20000" y="3789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miconductor tip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22222E-006 L 0.04722 2.22222E-006 E">
                                      <p:cBhvr>
                                        <p:cTn id="430" dur="2000" fill="hold"/>
                                        <p:tgtEl>
                                          <p:spTgt spid="9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13873E-006 L -0.0592 -2.13873E-006 E">
                                      <p:cBhvr>
                                        <p:cTn id="432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042920" y="1197000"/>
            <a:ext cx="60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nión P-N en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368360" y="1844640"/>
            <a:ext cx="3168720" cy="1835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800360" y="3284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476360" y="1916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476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692360" y="242100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521080" y="3357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197080" y="2924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233440" y="227664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484360" y="1881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808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17800" y="2133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349800" y="3105000"/>
            <a:ext cx="287280" cy="287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384720" y="2565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1405080" y="332100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41440" y="3392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386160" y="3500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565440" y="296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457440" y="2313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241800" y="1952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736720" y="2565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197080" y="2673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17800" y="19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512720" y="2276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81080" y="3068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4537080" y="1844640"/>
            <a:ext cx="3168720" cy="18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12288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581800" y="2960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5726160" y="2384280"/>
            <a:ext cx="287280" cy="287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942160" y="1916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553080" y="22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273800" y="3213000"/>
            <a:ext cx="28764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192720" y="2708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697800" y="31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950160" y="1844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985080" y="26352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7345440" y="2276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5869080" y="3392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53080" y="3463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3738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7093080" y="3500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6734160" y="288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7453440" y="2887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7562880" y="19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049800" y="28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689440" y="2131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338880" y="198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295640" y="3789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miconductor tip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220000" y="37893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emiconductor tip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3816360" y="1851120"/>
            <a:ext cx="1438200" cy="1824120"/>
            <a:chOff x="3816360" y="1851120"/>
            <a:chExt cx="1438200" cy="1824120"/>
          </a:xfrm>
        </p:grpSpPr>
        <p:sp>
          <p:nvSpPr>
            <p:cNvPr id="1033" name=""/>
            <p:cNvSpPr/>
            <p:nvPr/>
          </p:nvSpPr>
          <p:spPr>
            <a:xfrm>
              <a:off x="3816360" y="1851120"/>
              <a:ext cx="719280" cy="1824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535640" y="1851120"/>
              <a:ext cx="718920" cy="1824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3852720" y="332100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178160" y="270828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81440" y="2241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78160" y="188136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925800" y="2744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49800" y="335772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3743280" y="191628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357800" y="2276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3997440" y="3068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46520" y="1952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4970520" y="25290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71816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257800" y="331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221440" y="187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718160" y="288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41800" y="3211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437080" y="28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438880" y="2384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718160" y="25272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005440" y="220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4535640" y="3789360"/>
            <a:ext cx="434880" cy="584280"/>
            <a:chOff x="4535640" y="3789360"/>
            <a:chExt cx="434880" cy="584280"/>
          </a:xfrm>
        </p:grpSpPr>
        <p:sp>
          <p:nvSpPr>
            <p:cNvPr id="1056" name=""/>
            <p:cNvSpPr/>
            <p:nvPr/>
          </p:nvSpPr>
          <p:spPr>
            <a:xfrm rot="5400000">
              <a:off x="4651560" y="3673440"/>
              <a:ext cx="203040" cy="434880"/>
            </a:xfrm>
            <a:custGeom>
              <a:avLst/>
              <a:gdLst>
                <a:gd name="textAreaLeft" fmla="*/ 0 w 203040"/>
                <a:gd name="textAreaRight" fmla="*/ 73440 w 203040"/>
                <a:gd name="textAreaTop" fmla="*/ 11160 h 434880"/>
                <a:gd name="textAreaBottom" fmla="*/ 42372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609440" y="4005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4067280" y="3789360"/>
            <a:ext cx="434880" cy="602640"/>
            <a:chOff x="4067280" y="3789360"/>
            <a:chExt cx="434880" cy="602640"/>
          </a:xfrm>
        </p:grpSpPr>
        <p:sp>
          <p:nvSpPr>
            <p:cNvPr id="1059" name=""/>
            <p:cNvSpPr/>
            <p:nvPr/>
          </p:nvSpPr>
          <p:spPr>
            <a:xfrm rot="5400000">
              <a:off x="4183200" y="3673440"/>
              <a:ext cx="203040" cy="434880"/>
            </a:xfrm>
            <a:custGeom>
              <a:avLst/>
              <a:gdLst>
                <a:gd name="textAreaLeft" fmla="*/ 0 w 203040"/>
                <a:gd name="textAreaRight" fmla="*/ 73440 w 203040"/>
                <a:gd name="textAreaTop" fmla="*/ 11160 h 434880"/>
                <a:gd name="textAreaBottom" fmla="*/ 423720 h 43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41440" y="3932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3887640" y="1628640"/>
            <a:ext cx="1260720" cy="2268720"/>
          </a:xfrm>
          <a:custGeom>
            <a:avLst/>
            <a:gdLst>
              <a:gd name="textAreaLeft" fmla="*/ 61560 w 1260720"/>
              <a:gd name="textAreaRight" fmla="*/ 1199160 w 1260720"/>
              <a:gd name="textAreaTop" fmla="*/ 61560 h 2268720"/>
              <a:gd name="textAreaBottom" fmla="*/ 2207160 h 2268720"/>
            </a:gdLst>
            <a:ahLst/>
            <a:rect l="textAreaLeft" t="textAreaTop" r="textAreaRight" b="textAreaBottom"/>
            <a:pathLst>
              <a:path w="21600" h="38865">
                <a:moveTo>
                  <a:pt x="3600" y="0"/>
                </a:moveTo>
                <a:arcTo wR="3600" hR="3600" stAng="16200000" swAng="-5400000"/>
                <a:lnTo>
                  <a:pt x="0" y="35265"/>
                </a:lnTo>
                <a:arcTo wR="3600" hR="3600" stAng="10800000" swAng="-5400000"/>
                <a:lnTo>
                  <a:pt x="18000" y="388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2" name=""/>
          <p:cNvGrpSpPr/>
          <p:nvPr/>
        </p:nvGrpSpPr>
        <p:grpSpPr>
          <a:xfrm>
            <a:off x="4643280" y="1244520"/>
            <a:ext cx="2736720" cy="368280"/>
            <a:chOff x="4643280" y="1244520"/>
            <a:chExt cx="2736720" cy="368280"/>
          </a:xfrm>
        </p:grpSpPr>
        <p:sp>
          <p:nvSpPr>
            <p:cNvPr id="1063" name=""/>
            <p:cNvSpPr/>
            <p:nvPr/>
          </p:nvSpPr>
          <p:spPr>
            <a:xfrm>
              <a:off x="5164560" y="1244520"/>
              <a:ext cx="22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Zona de transi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643280" y="1317600"/>
              <a:ext cx="541440" cy="239760"/>
            </a:xfrm>
            <a:custGeom>
              <a:avLst/>
              <a:gdLst/>
              <a:ahLst/>
              <a:rect l="l" t="t" r="r" b="b"/>
              <a:pathLst>
                <a:path w="341" h="151">
                  <a:moveTo>
                    <a:pt x="341" y="60"/>
                  </a:moveTo>
                  <a:cubicBezTo>
                    <a:pt x="244" y="30"/>
                    <a:pt x="148" y="0"/>
                    <a:pt x="91" y="15"/>
                  </a:cubicBezTo>
                  <a:cubicBezTo>
                    <a:pt x="34" y="30"/>
                    <a:pt x="27" y="125"/>
                    <a:pt x="0" y="151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539640" y="4797360"/>
            <a:ext cx="84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l unir un semiconductor tipo P con uno de tipo N aparece una zona de carga espacial denominada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‘zona de transición’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Que actúa como una barrera para el paso de los portadores mayoritarios de cada z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7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3 C -0.00608 0.00718 -0.01198 0.01412 -0.02379 0.01597 C -0.03559 0.01782 -0.0533 0.01412 -0.07101 0.01065 E">
                                      <p:cBhvr>
                                        <p:cTn id="441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10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43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035 0.00023 C -0.01285 -0.00509 -0.02518 -0.01041 -0.03959 -0.00509 C -0.054 0.00023 -0.07049 0.01597 -0.08698 0.03172 E">
                                      <p:cBhvr>
                                        <p:cTn id="446" dur="2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10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48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0.00035 1.11111E-006 C -0.01164 0.01088 -0.02275 0.02199 -0.03577 0.02639 C -0.04879 0.03079 -0.06389 0.02847 -0.079 0.02639 E">
                                      <p:cBhvr>
                                        <p:cTn id="451" dur="2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52" dur="1" fill="hold">
                                    <p:stCondLst>
                                      <p:cond evt="end">
                                        <p:tn val="450"/>
                                      </p:cond>
                                    </p:stCondLst>
                                  </p:cTn>
                                  <p:tgtEl>
                                    <p:spTgt spid="10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53" nodeType="withEffect" fill="hold" presetClass="exit" presetID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017 0.00023 C -0.00816 -0.00509 -0.01597 -0.01042 -0.02778 -0.01042 C -0.03958 -0.01042 -0.06128 -0.00509 -0.07118 0.00023 C -0.08107 0.00556 -0.08403 0.0132 -0.0868 0.02107 E">
                                      <p:cBhvr>
                                        <p:cTn id="456" dur="2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57" dur="1" fill="hold">
                                    <p:stCondLst>
                                      <p:cond evt="end">
                                        <p:tn val="455"/>
                                      </p:cond>
                                    </p:stCondLst>
                                  </p:cTn>
                                  <p:tgtEl>
                                    <p:spTgt spid="10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5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042920" y="1197000"/>
            <a:ext cx="60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nión P-N polarizada invers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368360" y="1844640"/>
            <a:ext cx="3168720" cy="1835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800360" y="3284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476360" y="1916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476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692360" y="242100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21080" y="3357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197080" y="2924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233440" y="227664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484360" y="1881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405080" y="332100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41800" y="1952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341440" y="3392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512720" y="2276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4537080" y="1844640"/>
            <a:ext cx="3168720" cy="18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12288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6553080" y="22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273800" y="3213000"/>
            <a:ext cx="28764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697800" y="31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50160" y="1844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985080" y="26352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345440" y="2276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869080" y="3392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553080" y="3463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093080" y="3500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6734160" y="288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7453440" y="2887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7562880" y="19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3816360" y="1851120"/>
            <a:ext cx="1438200" cy="1824120"/>
            <a:chOff x="3816360" y="1851120"/>
            <a:chExt cx="1438200" cy="1824120"/>
          </a:xfrm>
        </p:grpSpPr>
        <p:sp>
          <p:nvSpPr>
            <p:cNvPr id="1096" name=""/>
            <p:cNvSpPr/>
            <p:nvPr/>
          </p:nvSpPr>
          <p:spPr>
            <a:xfrm>
              <a:off x="3816360" y="1851120"/>
              <a:ext cx="719280" cy="1824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535640" y="1851120"/>
              <a:ext cx="718920" cy="1824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024360" y="1857240"/>
            <a:ext cx="3024720" cy="1824120"/>
            <a:chOff x="3024360" y="1857240"/>
            <a:chExt cx="3024720" cy="1824120"/>
          </a:xfrm>
        </p:grpSpPr>
        <p:sp>
          <p:nvSpPr>
            <p:cNvPr id="1099" name=""/>
            <p:cNvSpPr/>
            <p:nvPr/>
          </p:nvSpPr>
          <p:spPr>
            <a:xfrm>
              <a:off x="3024360" y="1857240"/>
              <a:ext cx="1512720" cy="1824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37080" y="1857240"/>
              <a:ext cx="1512000" cy="1824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3852720" y="332100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178160" y="270828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781440" y="2241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4178160" y="188136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457440" y="2313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736720" y="2565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197080" y="2673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017800" y="19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981080" y="3068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3743280" y="191628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646520" y="1952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4970520" y="25290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471816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257800" y="331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826560" y="2313000"/>
            <a:ext cx="7417440" cy="2663640"/>
            <a:chOff x="826560" y="2313000"/>
            <a:chExt cx="7417440" cy="2663640"/>
          </a:xfrm>
        </p:grpSpPr>
        <p:sp>
          <p:nvSpPr>
            <p:cNvPr id="1116" name=""/>
            <p:cNvSpPr/>
            <p:nvPr/>
          </p:nvSpPr>
          <p:spPr>
            <a:xfrm>
              <a:off x="1295280" y="2313000"/>
              <a:ext cx="7308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04000" y="2313000"/>
              <a:ext cx="7308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211640" y="4076640"/>
              <a:ext cx="3636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960000" y="4327560"/>
              <a:ext cx="142920" cy="396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43280" y="4437000"/>
              <a:ext cx="90036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248000" y="454500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43640" y="4545000"/>
              <a:ext cx="27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8244000" y="27442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7775280" y="2744640"/>
              <a:ext cx="4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826560" y="2744640"/>
              <a:ext cx="4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826920" y="27442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26920" y="4545000"/>
              <a:ext cx="31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13440" y="40766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3349800" y="3105000"/>
            <a:ext cx="287280" cy="287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3386160" y="3500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3565440" y="296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384720" y="2565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808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917800" y="2133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5581800" y="2960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5726160" y="2384280"/>
            <a:ext cx="287280" cy="287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5942160" y="1916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6192720" y="2708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3738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049800" y="28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89440" y="2131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338880" y="198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221440" y="187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437080" y="28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438880" y="2384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503280" y="5127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zona de transición se hace más grande. Con polarización inversa no hay circulación de corr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28720" y="16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814160" y="162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40741E-007 L -0.05157 -7.40741E-007 E">
                                      <p:cBhvr>
                                        <p:cTn id="500" dur="2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-0.03958 0.00532 E">
                                      <p:cBhvr>
                                        <p:cTn id="502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-0.02778 0.02616 E">
                                      <p:cBhvr>
                                        <p:cTn id="504" dur="2000" fill="hold"/>
                                        <p:tgtEl>
                                          <p:spTgt spid="1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-0.05903 -2.22222E-006 E">
                                      <p:cBhvr>
                                        <p:cTn id="506" dur="2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-0.03959 0.01041 E">
                                      <p:cBhvr>
                                        <p:cTn id="508" dur="2000" fill="hold"/>
                                        <p:tgtEl>
                                          <p:spTgt spid="10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-0.01962 0.01065 E">
                                      <p:cBhvr>
                                        <p:cTn id="510" dur="2000" fill="hold"/>
                                        <p:tgtEl>
                                          <p:spTgt spid="1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0.01597 0.01574 E">
                                      <p:cBhvr>
                                        <p:cTn id="512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06719 0.02616 E">
                                      <p:cBhvr>
                                        <p:cTn id="514" dur="2000" fill="hold"/>
                                        <p:tgtEl>
                                          <p:spTgt spid="1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59259E-006 L -0.0592 0.01041 E">
                                      <p:cBhvr>
                                        <p:cTn id="516" dur="2000" fill="hold"/>
                                        <p:tgtEl>
                                          <p:spTgt spid="1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22222E-006 L -0.04358 0.02106 E">
                                      <p:cBhvr>
                                        <p:cTn id="518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04757 -0.0419 E">
                                      <p:cBhvr>
                                        <p:cTn id="520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0.06268 0.02083 E">
                                      <p:cBhvr>
                                        <p:cTn id="522" dur="2000" fill="hold"/>
                                        <p:tgtEl>
                                          <p:spTgt spid="1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04705 0.01597 E">
                                      <p:cBhvr>
                                        <p:cTn id="524" dur="2000" fill="hold"/>
                                        <p:tgtEl>
                                          <p:spTgt spid="10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0.01164 -0.01042 E">
                                      <p:cBhvr>
                                        <p:cTn id="526" dur="2000" fill="hold"/>
                                        <p:tgtEl>
                                          <p:spTgt spid="10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48148E-006 C -0.00052 -0.01551 -0.00087 -0.03079 0.00347 -0.04259 C 0.00781 -0.0544 0.01667 -0.0625 0.0257 -0.07037 E">
                                      <p:cBhvr>
                                        <p:cTn id="528" dur="2000" fill="hold"/>
                                        <p:tgtEl>
                                          <p:spTgt spid="10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0.04705 -0.02639 E">
                                      <p:cBhvr>
                                        <p:cTn id="530" dur="2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0.05885 -0.0051 E">
                                      <p:cBhvr>
                                        <p:cTn id="532" dur="2000" fill="hold"/>
                                        <p:tgtEl>
                                          <p:spTgt spid="10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26 -0.01227 0.00538 -0.02431 0.0125 -0.03241 C 0.01962 -0.04051 0.0309 -0.04445 0.04236 -0.04815 E">
                                      <p:cBhvr>
                                        <p:cTn id="534" dur="2000" fill="hold"/>
                                        <p:tgtEl>
                                          <p:spTgt spid="10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4.81481E-006 C 0.00087 -0.01342 0.00174 -0.02662 0.00903 -0.03333 C 0.01632 -0.04004 0.03802 -0.03958 0.04375 -0.04074 E">
                                      <p:cBhvr>
                                        <p:cTn id="536" dur="2000" fill="hold"/>
                                        <p:tgtEl>
                                          <p:spTgt spid="1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0.05486 0.03149 E">
                                      <p:cBhvr>
                                        <p:cTn id="538" dur="2000" fill="hold"/>
                                        <p:tgtEl>
                                          <p:spTgt spid="1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L 0.05885 -0.00532 E">
                                      <p:cBhvr>
                                        <p:cTn id="540" dur="2000" fill="hold"/>
                                        <p:tgtEl>
                                          <p:spTgt spid="1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44444E-006 C 0.00729 -0.00856 0.01476 -0.01689 0.02292 -0.02037 C 0.03108 -0.02384 0.04427 -0.02129 0.04861 -0.02129 E">
                                      <p:cBhvr>
                                        <p:cTn id="542" dur="2000" fill="hold"/>
                                        <p:tgtEl>
                                          <p:spTgt spid="1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3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3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80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042920" y="1197000"/>
            <a:ext cx="60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nión P-N polarizada en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368360" y="1844640"/>
            <a:ext cx="3168720" cy="1835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800360" y="3284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476360" y="1916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476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692360" y="242100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521080" y="3357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197080" y="2924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233440" y="227664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484360" y="1881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405080" y="332100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341440" y="3392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512720" y="227664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537080" y="1844640"/>
            <a:ext cx="3168720" cy="18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12288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6553080" y="22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273800" y="3213000"/>
            <a:ext cx="28764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697800" y="31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950160" y="1844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985080" y="26352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45440" y="2276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553080" y="3463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7093080" y="3500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734160" y="2887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7453440" y="2887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562880" y="19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4141800" y="1857240"/>
            <a:ext cx="790200" cy="1824120"/>
            <a:chOff x="4141800" y="1857240"/>
            <a:chExt cx="790200" cy="1824120"/>
          </a:xfrm>
        </p:grpSpPr>
        <p:sp>
          <p:nvSpPr>
            <p:cNvPr id="1177" name=""/>
            <p:cNvSpPr/>
            <p:nvPr/>
          </p:nvSpPr>
          <p:spPr>
            <a:xfrm>
              <a:off x="4141800" y="1857240"/>
              <a:ext cx="395280" cy="1824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537080" y="1857240"/>
              <a:ext cx="394920" cy="1824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3816360" y="1851120"/>
            <a:ext cx="1438200" cy="1824120"/>
            <a:chOff x="3816360" y="1851120"/>
            <a:chExt cx="1438200" cy="1824120"/>
          </a:xfrm>
        </p:grpSpPr>
        <p:sp>
          <p:nvSpPr>
            <p:cNvPr id="1180" name=""/>
            <p:cNvSpPr/>
            <p:nvPr/>
          </p:nvSpPr>
          <p:spPr>
            <a:xfrm>
              <a:off x="3816360" y="1851120"/>
              <a:ext cx="719280" cy="1824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35640" y="1851120"/>
              <a:ext cx="718920" cy="1824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3852720" y="332100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178160" y="270828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781440" y="2241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4178160" y="188136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457440" y="2313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36720" y="2565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197080" y="2673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017800" y="1989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1981080" y="3068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743280" y="1916280"/>
            <a:ext cx="73080" cy="7272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646520" y="1952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4970520" y="25290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71816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257800" y="331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349800" y="3105000"/>
            <a:ext cx="287280" cy="287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386160" y="3500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565440" y="2960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384720" y="2565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808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917800" y="2133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581800" y="2960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726160" y="2384280"/>
            <a:ext cx="287280" cy="287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942160" y="1916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6192720" y="2708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3738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012000" y="29955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689440" y="21319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338880" y="198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221440" y="187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437080" y="28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438880" y="2384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3280" y="5127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zona de transición se hace más pequeña. La corriente comienza a circular a partir de un cierto umbral de tensión direc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28720" y="16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814160" y="162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241800" y="195264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796000" y="3500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770400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295280" y="3105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95280" y="2421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826560" y="2313000"/>
            <a:ext cx="7417440" cy="2663640"/>
            <a:chOff x="826560" y="2313000"/>
            <a:chExt cx="7417440" cy="2663640"/>
          </a:xfrm>
        </p:grpSpPr>
        <p:sp>
          <p:nvSpPr>
            <p:cNvPr id="1222" name=""/>
            <p:cNvSpPr/>
            <p:nvPr/>
          </p:nvSpPr>
          <p:spPr>
            <a:xfrm>
              <a:off x="1295280" y="2313000"/>
              <a:ext cx="7308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704000" y="2313000"/>
              <a:ext cx="7308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959280" y="4076640"/>
              <a:ext cx="3636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>
              <a:off x="4140360" y="4329000"/>
              <a:ext cx="142560" cy="39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643280" y="4437000"/>
              <a:ext cx="90036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48000" y="454500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43640" y="4545000"/>
              <a:ext cx="27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8244000" y="27442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7775280" y="2744640"/>
              <a:ext cx="4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826560" y="2744640"/>
              <a:ext cx="4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826920" y="27442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26920" y="4545000"/>
              <a:ext cx="31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02160" y="40766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40741E-007 L 0.03507 -0.02106 E">
                                      <p:cBhvr>
                                        <p:cTn id="568" dur="2000" fill="hold"/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06667 0.02106 E">
                                      <p:cBhvr>
                                        <p:cTn id="570" dur="20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0.04705 0.05232 E">
                                      <p:cBhvr>
                                        <p:cTn id="572" dur="2000" fill="hold"/>
                                        <p:tgtEl>
                                          <p:spTgt spid="1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04722 0.04213 E">
                                      <p:cBhvr>
                                        <p:cTn id="574" dur="20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L 0.03125 0.02106 E">
                                      <p:cBhvr>
                                        <p:cTn id="576" dur="2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11111E-006 L 0.04704 0.02616 E">
                                      <p:cBhvr>
                                        <p:cTn id="578" dur="2000" fill="hold"/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04705 1.48148E-006 E">
                                      <p:cBhvr>
                                        <p:cTn id="580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5104 0.02083 E">
                                      <p:cBhvr>
                                        <p:cTn id="582" dur="2000" fill="hold"/>
                                        <p:tgtEl>
                                          <p:spTgt spid="1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59259E-006 L 0.04705 0.02083 E">
                                      <p:cBhvr>
                                        <p:cTn id="584" dur="2000" fill="hold"/>
                                        <p:tgtEl>
                                          <p:spTgt spid="1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85185E-006 L 0.03125 0.0419 E">
                                      <p:cBhvr>
                                        <p:cTn id="586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L 0.05885 -0.04722 E">
                                      <p:cBhvr>
                                        <p:cTn id="588" dur="2000" fill="hold"/>
                                        <p:tgtEl>
                                          <p:spTgt spid="1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0.03125 -0.03681 E">
                                      <p:cBhvr>
                                        <p:cTn id="590" dur="2000" fill="hold"/>
                                        <p:tgtEl>
                                          <p:spTgt spid="1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037E-007 L -0.02396 0.05764 E">
                                      <p:cBhvr>
                                        <p:cTn id="592" dur="20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0.03177 -0.04722 E">
                                      <p:cBhvr>
                                        <p:cTn id="594" dur="20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11111E-006 L -0.0474 0.02106 E">
                                      <p:cBhvr>
                                        <p:cTn id="596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44444E-006 C -0.01371 0.0007 -0.02743 0.00093 -0.03802 -0.00463 C -0.04844 -0.01041 -0.05573 -0.02222 -0.06285 -0.03425 E">
                                      <p:cBhvr>
                                        <p:cTn id="598" dur="20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04357 0.01041 E">
                                      <p:cBhvr>
                                        <p:cTn id="600" dur="20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1597 -0.04723 E">
                                      <p:cBhvr>
                                        <p:cTn id="602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C -0.00416 -0.01227 -0.00868 -0.02431 -0.01979 -0.03241 C -0.03107 -0.04051 -0.04895 -0.04445 -0.06701 -0.04815 E">
                                      <p:cBhvr>
                                        <p:cTn id="604" dur="2000" fill="hold"/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81481E-006 C -0.00104 -0.01342 -0.0019 -0.02662 -0.00989 -0.03333 C -0.01788 -0.04004 -0.04149 -0.03958 -0.04757 -0.04074 E">
                                      <p:cBhvr>
                                        <p:cTn id="606" dur="20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03959 0.02639 E">
                                      <p:cBhvr>
                                        <p:cTn id="608" dur="20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06719 0.02107 E">
                                      <p:cBhvr>
                                        <p:cTn id="610" dur="2000" fill="hold"/>
                                        <p:tgtEl>
                                          <p:spTgt spid="1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48148E-006 L -0.03941 0.01574 E">
                                      <p:cBhvr>
                                        <p:cTn id="612" dur="2000" fill="hold"/>
                                        <p:tgtEl>
                                          <p:spTgt spid="1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C -0.00868 -0.00764 -0.01718 -0.01505 -0.02638 -0.01806 C -0.03576 -0.02107 -0.05069 -0.01898 -0.05555 -0.01898 E">
                                      <p:cBhvr>
                                        <p:cTn id="614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-0.05539 0.04722 E">
                                      <p:cBhvr>
                                        <p:cTn id="616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300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000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3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7 0.02106 L 0.16129 0.02106 E">
                                      <p:cBhvr>
                                        <p:cTn id="632" dur="20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0.04213 L 0.12604 0.06829 E">
                                      <p:cBhvr>
                                        <p:cTn id="638" dur="20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5 0.05232 L 0.11389 0.02084 E">
                                      <p:cBhvr>
                                        <p:cTn id="640" dur="2000" fill="hold"/>
                                        <p:tgtEl>
                                          <p:spTgt spid="1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02106 L 0.08628 0.02615 E">
                                      <p:cBhvr>
                                        <p:cTn id="642" dur="20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6 -0.02107 C 0.03732 -0.02894 0.03958 -0.03681 0.04756 -0.04144 C 0.05555 -0.04607 0.07673 -0.04884 0.08298 -0.04884 E">
                                      <p:cBhvr>
                                        <p:cTn id="644" dur="2000" fill="hold"/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04 0.02083 L 0.07465 0.05231 E">
                                      <p:cBhvr>
                                        <p:cTn id="646" dur="2000" fill="hold"/>
                                        <p:tgtEl>
                                          <p:spTgt spid="1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-0.0368 L 0.0783 0.0051 E">
                                      <p:cBhvr>
                                        <p:cTn id="648" dur="2000" fill="hold"/>
                                        <p:tgtEl>
                                          <p:spTgt spid="1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5 0.02083 L 0.09427 -0.01065 E">
                                      <p:cBhvr>
                                        <p:cTn id="650" dur="2000" fill="hold"/>
                                        <p:tgtEl>
                                          <p:spTgt spid="1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25 0.0419 L 0.07049 0.02083 E">
                                      <p:cBhvr>
                                        <p:cTn id="652" dur="2000" fill="hold"/>
                                        <p:tgtEl>
                                          <p:spTgt spid="1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5 0.02616 L 0.07848 0.05232 E">
                                      <p:cBhvr>
                                        <p:cTn id="654" dur="2000" fill="hold"/>
                                        <p:tgtEl>
                                          <p:spTgt spid="1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05 1.48148E-006 L 0.07865 -0.02616 E">
                                      <p:cBhvr>
                                        <p:cTn id="656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4722 L 0.0941 -0.08935 E">
                                      <p:cBhvr>
                                        <p:cTn id="658" dur="2000" fill="hold"/>
                                        <p:tgtEl>
                                          <p:spTgt spid="1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85185E-006 L 0.03542 0.02084 E">
                                      <p:cBhvr>
                                        <p:cTn id="660" dur="2000" fill="hold"/>
                                        <p:tgtEl>
                                          <p:spTgt spid="1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5903 -0.03148 E">
                                      <p:cBhvr>
                                        <p:cTn id="662" dur="2000" fill="hold"/>
                                        <p:tgtEl>
                                          <p:spTgt spid="1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9 0.02107 L -0.16163 0.03681 E">
                                      <p:cBhvr>
                                        <p:cTn id="664" dur="2000" fill="hold"/>
                                        <p:tgtEl>
                                          <p:spTgt spid="1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02 -0.04815 L -0.13004 -0.09444 E">
                                      <p:cBhvr>
                                        <p:cTn id="666" dur="2000" fill="hold"/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6 -0.01899 L -0.12292 -0.00857 E">
                                      <p:cBhvr>
                                        <p:cTn id="668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59 0.02639 L -0.11441 0.05787 E">
                                      <p:cBhvr>
                                        <p:cTn id="670" dur="20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57 -0.04074 L -0.0948 -0.00393 E">
                                      <p:cBhvr>
                                        <p:cTn id="672" dur="20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57 0.01041 L -0.075 0.0419 E">
                                      <p:cBhvr>
                                        <p:cTn id="674" dur="20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96 0.05764 L -0.06337 0.02616 E">
                                      <p:cBhvr>
                                        <p:cTn id="676" dur="20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77 -0.04722 L -0.075 -0.03658 E">
                                      <p:cBhvr>
                                        <p:cTn id="678" dur="2000" fill="hold"/>
                                        <p:tgtEl>
                                          <p:spTgt spid="1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4491 L -0.06319 -0.07871 E">
                                      <p:cBhvr>
                                        <p:cTn id="680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303 -0.03449 L -0.08664 -0.05024 E">
                                      <p:cBhvr>
                                        <p:cTn id="682" dur="2000" fill="hold"/>
                                        <p:tgtEl>
                                          <p:spTgt spid="1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0.02106 L -0.08681 -0.01574 E">
                                      <p:cBhvr>
                                        <p:cTn id="684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0.01574 L -0.06302 0.05255 E">
                                      <p:cBhvr>
                                        <p:cTn id="686" dur="2000" fill="hold"/>
                                        <p:tgtEl>
                                          <p:spTgt spid="1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9 0.04722 L -0.079 0.0787 E">
                                      <p:cBhvr>
                                        <p:cTn id="688" dur="2000" fill="hold"/>
                                        <p:tgtEl>
                                          <p:spTgt spid="1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042920" y="1197000"/>
            <a:ext cx="60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unión P-N polarizada en 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1368360" y="1844640"/>
            <a:ext cx="3168720" cy="18352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1800360" y="3284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476360" y="1916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476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692360" y="242100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521080" y="3357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197080" y="292428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233440" y="227664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484360" y="1881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268360" y="2708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059280" y="342900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232000" y="2097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4537080" y="1844640"/>
            <a:ext cx="3168720" cy="18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12288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553080" y="22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7273800" y="3213000"/>
            <a:ext cx="28764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697800" y="3103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950160" y="1844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985080" y="26352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345440" y="2276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77080" y="2924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30072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048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659640" y="2781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40360" y="2492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2" name=""/>
          <p:cNvGrpSpPr/>
          <p:nvPr/>
        </p:nvGrpSpPr>
        <p:grpSpPr>
          <a:xfrm>
            <a:off x="4141800" y="1857240"/>
            <a:ext cx="790200" cy="1824120"/>
            <a:chOff x="4141800" y="1857240"/>
            <a:chExt cx="790200" cy="1824120"/>
          </a:xfrm>
        </p:grpSpPr>
        <p:sp>
          <p:nvSpPr>
            <p:cNvPr id="1263" name=""/>
            <p:cNvSpPr/>
            <p:nvPr/>
          </p:nvSpPr>
          <p:spPr>
            <a:xfrm>
              <a:off x="4141800" y="1857240"/>
              <a:ext cx="395280" cy="1824120"/>
            </a:xfrm>
            <a:prstGeom prst="rect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ffcc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37080" y="1857240"/>
              <a:ext cx="394920" cy="1824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3852720" y="332100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178160" y="270828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781440" y="2241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178160" y="1881360"/>
            <a:ext cx="28764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4500720" y="245736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3419640" y="292428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59280" y="260028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735280" y="234936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627280" y="3213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896000" y="238428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646520" y="1952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970520" y="252900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4718160" y="324972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257800" y="331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349800" y="3105000"/>
            <a:ext cx="287280" cy="287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4140360" y="317664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040360" y="3105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384720" y="256536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808360" y="285264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917800" y="2133720"/>
            <a:ext cx="287280" cy="2872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5581800" y="296064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726160" y="2384280"/>
            <a:ext cx="287280" cy="287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5942160" y="1916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192720" y="270828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5688000" y="335772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5148360" y="29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643280" y="2529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5759280" y="21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5221440" y="1879560"/>
            <a:ext cx="287280" cy="2872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95928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319640" y="2313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468360" y="5445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a recombinación electrón-hueco hace que la concentración de electrones en la zona P disminuya al alejarse de la un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828720" y="1665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7814160" y="162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4032360" y="2133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4608360" y="285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7128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619280" y="324972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835280" y="2205000"/>
            <a:ext cx="7272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295280" y="270828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295280" y="2421000"/>
            <a:ext cx="73080" cy="730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826560" y="2313000"/>
            <a:ext cx="7417440" cy="2663640"/>
            <a:chOff x="826560" y="2313000"/>
            <a:chExt cx="7417440" cy="2663640"/>
          </a:xfrm>
        </p:grpSpPr>
        <p:sp>
          <p:nvSpPr>
            <p:cNvPr id="1307" name=""/>
            <p:cNvSpPr/>
            <p:nvPr/>
          </p:nvSpPr>
          <p:spPr>
            <a:xfrm>
              <a:off x="1295280" y="2313000"/>
              <a:ext cx="7308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704000" y="2313000"/>
              <a:ext cx="7308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959280" y="4076640"/>
              <a:ext cx="36360" cy="900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4140360" y="4329000"/>
              <a:ext cx="142560" cy="39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43280" y="4437000"/>
              <a:ext cx="900360" cy="216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248000" y="454500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543640" y="4545000"/>
              <a:ext cx="27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8244000" y="27442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7775280" y="2744640"/>
              <a:ext cx="4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826560" y="2744640"/>
              <a:ext cx="46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826920" y="2744280"/>
              <a:ext cx="0" cy="18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826920" y="4545000"/>
              <a:ext cx="313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602160" y="40766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>
            <a:off x="770256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7702560" y="2708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386000" y="3716280"/>
            <a:ext cx="6264000" cy="1549440"/>
            <a:chOff x="1386000" y="3716280"/>
            <a:chExt cx="6264000" cy="1549440"/>
          </a:xfrm>
        </p:grpSpPr>
        <p:sp>
          <p:nvSpPr>
            <p:cNvPr id="1323" name=""/>
            <p:cNvSpPr/>
            <p:nvPr/>
          </p:nvSpPr>
          <p:spPr>
            <a:xfrm>
              <a:off x="4518000" y="3716280"/>
              <a:ext cx="0" cy="15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86000" y="5265720"/>
              <a:ext cx="626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1369800" y="3724200"/>
            <a:ext cx="6280200" cy="1397160"/>
            <a:chOff x="1369800" y="3724200"/>
            <a:chExt cx="6280200" cy="1397160"/>
          </a:xfrm>
        </p:grpSpPr>
        <p:grpSp>
          <p:nvGrpSpPr>
            <p:cNvPr id="1326" name=""/>
            <p:cNvGrpSpPr/>
            <p:nvPr/>
          </p:nvGrpSpPr>
          <p:grpSpPr>
            <a:xfrm>
              <a:off x="1385640" y="4113360"/>
              <a:ext cx="6264360" cy="1008000"/>
              <a:chOff x="1385640" y="4113360"/>
              <a:chExt cx="6264360" cy="1008000"/>
            </a:xfrm>
          </p:grpSpPr>
          <p:sp>
            <p:nvSpPr>
              <p:cNvPr id="1327" name=""/>
              <p:cNvSpPr/>
              <p:nvPr/>
            </p:nvSpPr>
            <p:spPr>
              <a:xfrm>
                <a:off x="1385640" y="4113360"/>
                <a:ext cx="313236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518000" y="4113360"/>
                <a:ext cx="1942920" cy="1008000"/>
              </a:xfrm>
              <a:custGeom>
                <a:avLst/>
                <a:gdLst/>
                <a:ahLst/>
                <a:rect l="l" t="t" r="r" b="b"/>
                <a:pathLst>
                  <a:path w="1224" h="635">
                    <a:moveTo>
                      <a:pt x="0" y="0"/>
                    </a:moveTo>
                    <a:cubicBezTo>
                      <a:pt x="90" y="185"/>
                      <a:pt x="181" y="370"/>
                      <a:pt x="385" y="476"/>
                    </a:cubicBezTo>
                    <a:cubicBezTo>
                      <a:pt x="589" y="582"/>
                      <a:pt x="906" y="608"/>
                      <a:pt x="1224" y="635"/>
                    </a:cubicBezTo>
                  </a:path>
                </a:pathLst>
              </a:cu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460920" y="5121360"/>
                <a:ext cx="11890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0" name=""/>
            <p:cNvSpPr/>
            <p:nvPr/>
          </p:nvSpPr>
          <p:spPr>
            <a:xfrm>
              <a:off x="1369800" y="3724200"/>
              <a:ext cx="265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oncentración de huec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1385640" y="3753000"/>
            <a:ext cx="6349320" cy="1368360"/>
            <a:chOff x="1385640" y="3753000"/>
            <a:chExt cx="6349320" cy="1368360"/>
          </a:xfrm>
        </p:grpSpPr>
        <p:grpSp>
          <p:nvGrpSpPr>
            <p:cNvPr id="1332" name=""/>
            <p:cNvGrpSpPr/>
            <p:nvPr/>
          </p:nvGrpSpPr>
          <p:grpSpPr>
            <a:xfrm>
              <a:off x="1385640" y="4113360"/>
              <a:ext cx="6264360" cy="1008000"/>
              <a:chOff x="1385640" y="4113360"/>
              <a:chExt cx="6264360" cy="1008000"/>
            </a:xfrm>
          </p:grpSpPr>
          <p:sp>
            <p:nvSpPr>
              <p:cNvPr id="1333" name=""/>
              <p:cNvSpPr/>
              <p:nvPr/>
            </p:nvSpPr>
            <p:spPr>
              <a:xfrm flipH="1">
                <a:off x="4517640" y="4113360"/>
                <a:ext cx="313236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574360" y="4113360"/>
                <a:ext cx="1942920" cy="1008000"/>
              </a:xfrm>
              <a:custGeom>
                <a:avLst/>
                <a:gdLst/>
                <a:ahLst/>
                <a:rect l="l" t="t" r="r" b="b"/>
                <a:pathLst>
                  <a:path w="1224" h="635">
                    <a:moveTo>
                      <a:pt x="0" y="0"/>
                    </a:moveTo>
                    <a:cubicBezTo>
                      <a:pt x="90" y="185"/>
                      <a:pt x="181" y="370"/>
                      <a:pt x="385" y="476"/>
                    </a:cubicBezTo>
                    <a:cubicBezTo>
                      <a:pt x="589" y="582"/>
                      <a:pt x="906" y="608"/>
                      <a:pt x="1224" y="635"/>
                    </a:cubicBezTo>
                  </a:path>
                </a:pathLst>
              </a:custGeom>
              <a:noFill/>
              <a:ln w="5724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H="1">
                <a:off x="1385640" y="5121360"/>
                <a:ext cx="118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6" name=""/>
            <p:cNvSpPr/>
            <p:nvPr/>
          </p:nvSpPr>
          <p:spPr>
            <a:xfrm>
              <a:off x="4774320" y="3753000"/>
              <a:ext cx="296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Concentración de electr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07407E-006 L 0.05521 0.01042 E">
                                      <p:cBhvr>
                                        <p:cTn id="694" dur="2000" fill="hold"/>
                                        <p:tgtEl>
                                          <p:spTgt spid="1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22222E-006 L -0.03142 -0.01042 E">
                                      <p:cBhvr>
                                        <p:cTn id="696" dur="2000" fill="hold"/>
                                        <p:tgtEl>
                                          <p:spTgt spid="1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96296E-006 L 0.02361 0.01065 E">
                                      <p:cBhvr>
                                        <p:cTn id="698" dur="2000" fill="hold"/>
                                        <p:tgtEl>
                                          <p:spTgt spid="1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1.48148E-006 L 0.04323 0.02616 E">
                                      <p:cBhvr>
                                        <p:cTn id="700" dur="2000" fill="hold"/>
                                        <p:tgtEl>
                                          <p:spTgt spid="1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0.0434 -0.0368 E">
                                      <p:cBhvr>
                                        <p:cTn id="702" dur="2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4722 0.0051 E">
                                      <p:cBhvr>
                                        <p:cTn id="704" dur="2000" fill="hold"/>
                                        <p:tgtEl>
                                          <p:spTgt spid="1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9259E-006 L -0.0434 0.0419 E">
                                      <p:cBhvr>
                                        <p:cTn id="706" dur="2000" fill="hold"/>
                                        <p:tgtEl>
                                          <p:spTgt spid="1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0434 0.03149 E">
                                      <p:cBhvr>
                                        <p:cTn id="708" dur="2000" fill="hold"/>
                                        <p:tgtEl>
                                          <p:spTgt spid="1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05521 -0.00532 E">
                                      <p:cBhvr>
                                        <p:cTn id="710" dur="2000" fill="hold"/>
                                        <p:tgtEl>
                                          <p:spTgt spid="1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023 L 0.03941 -0.02639 E">
                                      <p:cBhvr>
                                        <p:cTn id="712" dur="2000" fill="hold"/>
                                        <p:tgtEl>
                                          <p:spTgt spid="1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05503 0.01042 E">
                                      <p:cBhvr>
                                        <p:cTn id="714" dur="2000" fill="hold"/>
                                        <p:tgtEl>
                                          <p:spTgt spid="1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03941 0.04212 E">
                                      <p:cBhvr>
                                        <p:cTn id="716" dur="2000" fill="hold"/>
                                        <p:tgtEl>
                                          <p:spTgt spid="1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11111E-006 L 0.04323 0.02083 E">
                                      <p:cBhvr>
                                        <p:cTn id="718" dur="20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85185E-006 L 0.05121 -0.01065 E">
                                      <p:cBhvr>
                                        <p:cTn id="720" dur="2000" fill="hold"/>
                                        <p:tgtEl>
                                          <p:spTgt spid="1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L 0.04323 -0.02106 E">
                                      <p:cBhvr>
                                        <p:cTn id="722" dur="2000" fill="hold"/>
                                        <p:tgtEl>
                                          <p:spTgt spid="1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7.40741E-007 L 0.04722 -0.01042 E">
                                      <p:cBhvr>
                                        <p:cTn id="724" dur="2000" fill="hold"/>
                                        <p:tgtEl>
                                          <p:spTgt spid="1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22222E-006 L -0.04322 0.01574 E">
                                      <p:cBhvr>
                                        <p:cTn id="726" dur="2000" fill="hold"/>
                                        <p:tgtEl>
                                          <p:spTgt spid="1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3.7037E-006 C -0.00347 0.01226 -0.00677 0.02476 -0.01528 0.02963 C -0.02379 0.03449 -0.04549 0.02963 -0.05139 0.02963 E">
                                      <p:cBhvr>
                                        <p:cTn id="728" dur="2000" fill="hold"/>
                                        <p:tgtEl>
                                          <p:spTgt spid="1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23 L 0.03924 -0.02639 E">
                                      <p:cBhvr>
                                        <p:cTn id="730" dur="2000" fill="hold"/>
                                        <p:tgtEl>
                                          <p:spTgt spid="1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-0.04723 0.01042 E">
                                      <p:cBhvr>
                                        <p:cTn id="732" dur="2000" fill="hold"/>
                                        <p:tgtEl>
                                          <p:spTgt spid="1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96296E-006 L -0.05902 0.01574 E">
                                      <p:cBhvr>
                                        <p:cTn id="734" dur="2000" fill="hold"/>
                                        <p:tgtEl>
                                          <p:spTgt spid="1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0.00023 C 0.01232 -0.00116 0.02517 -0.00254 0.03368 -0.00903 C 0.04219 -0.01551 0.04844 -0.03403 0.05104 -0.03866 E">
                                      <p:cBhvr>
                                        <p:cTn id="736" dur="2000" fill="hold"/>
                                        <p:tgtEl>
                                          <p:spTgt spid="1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23 L -0.0434 -0.03172 E">
                                      <p:cBhvr>
                                        <p:cTn id="738" dur="2000" fill="hold"/>
                                        <p:tgtEl>
                                          <p:spTgt spid="1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2.96296E-006 C -0.00799 -0.00694 -0.01545 -0.01319 -0.02795 -0.01666 C -0.04063 -0.02014 -0.06719 -0.01921 -0.075 -0.02106 E">
                                      <p:cBhvr>
                                        <p:cTn id="740" dur="2000" fill="hold"/>
                                        <p:tgtEl>
                                          <p:spTgt spid="1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92 C -0.00642 0.00463 -0.0125 0.01019 -0.02101 0.01019 C -0.02951 0.01019 -0.04635 0.00116 -0.05156 -0.00092 E">
                                      <p:cBhvr>
                                        <p:cTn id="742" dur="2000" fill="hold"/>
                                        <p:tgtEl>
                                          <p:spTgt spid="1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138 C -0.00938 0.00046 -0.01841 -0.00024 -0.02587 0.00324 C -0.03334 0.00671 -0.03941 0.01458 -0.04532 0.02268 E">
                                      <p:cBhvr>
                                        <p:cTn id="744" dur="2000" fill="hold"/>
                                        <p:tgtEl>
                                          <p:spTgt spid="1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0.00023 L -0.0276 0.04722 E">
                                      <p:cBhvr>
                                        <p:cTn id="746" dur="2000" fill="hold"/>
                                        <p:tgtEl>
                                          <p:spTgt spid="1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231 C -0.01093 0.00394 -0.0217 0.01042 -0.03264 0.0088 C -0.04357 0.00718 -0.05989 -0.00903 -0.06527 -0.0125 E">
                                      <p:cBhvr>
                                        <p:cTn id="748" dur="2000" fill="hold"/>
                                        <p:tgtEl>
                                          <p:spTgt spid="1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22222E-006 L -0.03941 -0.02107 E">
                                      <p:cBhvr>
                                        <p:cTn id="750" dur="2000" fill="hold"/>
                                        <p:tgtEl>
                                          <p:spTgt spid="1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22222E-006 L -0.04341 -0.00533 E">
                                      <p:cBhvr>
                                        <p:cTn id="752" dur="2000" fill="hold"/>
                                        <p:tgtEl>
                                          <p:spTgt spid="1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5 -1.48148E-006 C -0.01632 -0.00741 -0.0316 -0.01458 -0.04063 -0.02129 C -0.04966 -0.02801 -0.05278 -0.03657 -0.05521 -0.03981 E">
                                      <p:cBhvr>
                                        <p:cTn id="754" dur="20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8" dur="50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3" dur="500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5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5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0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2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80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11280" y="1413000"/>
            <a:ext cx="799308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nclus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plicando tensión inversa no hay conducción de corri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 aplicar tensión directa en la unión es posible la circulación de corriente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2987640" y="3860640"/>
            <a:ext cx="2377440" cy="1569960"/>
            <a:chOff x="2987640" y="3860640"/>
            <a:chExt cx="2377440" cy="1569960"/>
          </a:xfrm>
        </p:grpSpPr>
        <p:grpSp>
          <p:nvGrpSpPr>
            <p:cNvPr id="1340" name=""/>
            <p:cNvGrpSpPr/>
            <p:nvPr/>
          </p:nvGrpSpPr>
          <p:grpSpPr>
            <a:xfrm>
              <a:off x="2987640" y="3860640"/>
              <a:ext cx="2377440" cy="565560"/>
              <a:chOff x="2987640" y="3860640"/>
              <a:chExt cx="2377440" cy="565560"/>
            </a:xfrm>
          </p:grpSpPr>
          <p:sp>
            <p:nvSpPr>
              <p:cNvPr id="1341" name=""/>
              <p:cNvSpPr/>
              <p:nvPr/>
            </p:nvSpPr>
            <p:spPr>
              <a:xfrm>
                <a:off x="3502080" y="3860640"/>
                <a:ext cx="686160" cy="563760"/>
              </a:xfrm>
              <a:prstGeom prst="rect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188600" y="3860640"/>
                <a:ext cx="686160" cy="5637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3700440" y="396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410360" y="39664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453480" y="4007520"/>
                <a:ext cx="48240" cy="26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74760" y="4007520"/>
                <a:ext cx="48600" cy="269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2987640" y="4154760"/>
                <a:ext cx="465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4899600" y="4154760"/>
                <a:ext cx="465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3109320" y="4646160"/>
              <a:ext cx="1911960" cy="784440"/>
              <a:chOff x="3109320" y="4646160"/>
              <a:chExt cx="1911960" cy="784440"/>
            </a:xfrm>
          </p:grpSpPr>
          <p:sp>
            <p:nvSpPr>
              <p:cNvPr id="1350" name=""/>
              <p:cNvSpPr/>
              <p:nvPr/>
            </p:nvSpPr>
            <p:spPr>
              <a:xfrm flipH="1">
                <a:off x="3109320" y="5037480"/>
                <a:ext cx="51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4383720" y="5037480"/>
                <a:ext cx="63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623040" y="4670640"/>
                <a:ext cx="712440" cy="735840"/>
              </a:xfrm>
              <a:custGeom>
                <a:avLst/>
                <a:gdLst/>
                <a:ahLst/>
                <a:rect l="l" t="t" r="r" b="b"/>
                <a:pathLst>
                  <a:path w="659" h="680">
                    <a:moveTo>
                      <a:pt x="1" y="680"/>
                    </a:moveTo>
                    <a:lnTo>
                      <a:pt x="0" y="0"/>
                    </a:lnTo>
                    <a:lnTo>
                      <a:pt x="659" y="339"/>
                    </a:lnTo>
                    <a:lnTo>
                      <a:pt x="1" y="68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335480" y="4646160"/>
                <a:ext cx="48600" cy="7844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4" name=""/>
          <p:cNvSpPr/>
          <p:nvPr/>
        </p:nvSpPr>
        <p:spPr>
          <a:xfrm>
            <a:off x="2446200" y="5587920"/>
            <a:ext cx="33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ODO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9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4" dur="80"/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80"/>
                                        <p:tgtEl>
                                          <p:spTgt spid="1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83664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omponentes electrónicos: El di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557360"/>
            <a:ext cx="842472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unión P-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racterísticas eléctricas de un diodo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Característica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Linealización de la característica de un dio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El diodo como elemento de un circuito: ejemplos de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diodo Ze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pretación de las características de un cat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iodos espe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780000" y="3141720"/>
            <a:ext cx="720720" cy="720720"/>
            <a:chOff x="3780000" y="3141720"/>
            <a:chExt cx="720720" cy="720720"/>
          </a:xfrm>
        </p:grpSpPr>
        <p:sp>
          <p:nvSpPr>
            <p:cNvPr id="53" name=""/>
            <p:cNvSpPr/>
            <p:nvPr/>
          </p:nvSpPr>
          <p:spPr>
            <a:xfrm>
              <a:off x="4103640" y="31417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27640" y="3465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03640" y="3789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80000" y="34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664000" y="2023920"/>
            <a:ext cx="2952720" cy="2954520"/>
            <a:chOff x="2664000" y="2023920"/>
            <a:chExt cx="2952720" cy="2954520"/>
          </a:xfrm>
        </p:grpSpPr>
        <p:grpSp>
          <p:nvGrpSpPr>
            <p:cNvPr id="58" name=""/>
            <p:cNvGrpSpPr/>
            <p:nvPr/>
          </p:nvGrpSpPr>
          <p:grpSpPr>
            <a:xfrm>
              <a:off x="3780000" y="2023920"/>
              <a:ext cx="720720" cy="720720"/>
              <a:chOff x="3780000" y="2023920"/>
              <a:chExt cx="720720" cy="720720"/>
            </a:xfrm>
          </p:grpSpPr>
          <p:sp>
            <p:nvSpPr>
              <p:cNvPr id="59" name=""/>
              <p:cNvSpPr/>
              <p:nvPr/>
            </p:nvSpPr>
            <p:spPr>
              <a:xfrm>
                <a:off x="3924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3780000" y="2023920"/>
                <a:ext cx="720720" cy="720720"/>
                <a:chOff x="3780000" y="2023920"/>
                <a:chExt cx="720720" cy="720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103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427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103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780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" name=""/>
            <p:cNvGrpSpPr/>
            <p:nvPr/>
          </p:nvGrpSpPr>
          <p:grpSpPr>
            <a:xfrm>
              <a:off x="4896000" y="3141720"/>
              <a:ext cx="720720" cy="720720"/>
              <a:chOff x="4896000" y="3141720"/>
              <a:chExt cx="720720" cy="720720"/>
            </a:xfrm>
          </p:grpSpPr>
          <p:sp>
            <p:nvSpPr>
              <p:cNvPr id="66" name=""/>
              <p:cNvSpPr/>
              <p:nvPr/>
            </p:nvSpPr>
            <p:spPr>
              <a:xfrm>
                <a:off x="5040720" y="3284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4896000" y="3141720"/>
                <a:ext cx="720720" cy="720720"/>
                <a:chOff x="4896000" y="3141720"/>
                <a:chExt cx="720720" cy="720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5219640" y="3141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543640" y="346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219640" y="3789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896000" y="3465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3780000" y="4257720"/>
              <a:ext cx="720720" cy="720720"/>
              <a:chOff x="3780000" y="4257720"/>
              <a:chExt cx="720720" cy="720720"/>
            </a:xfrm>
          </p:grpSpPr>
          <p:sp>
            <p:nvSpPr>
              <p:cNvPr id="73" name=""/>
              <p:cNvSpPr/>
              <p:nvPr/>
            </p:nvSpPr>
            <p:spPr>
              <a:xfrm>
                <a:off x="3924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3780000" y="4257720"/>
                <a:ext cx="720720" cy="720720"/>
                <a:chOff x="3780000" y="4257720"/>
                <a:chExt cx="720720" cy="7207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103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427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103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780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" name=""/>
            <p:cNvGrpSpPr/>
            <p:nvPr/>
          </p:nvGrpSpPr>
          <p:grpSpPr>
            <a:xfrm>
              <a:off x="2664000" y="3141720"/>
              <a:ext cx="720720" cy="720720"/>
              <a:chOff x="2664000" y="3141720"/>
              <a:chExt cx="720720" cy="720720"/>
            </a:xfrm>
          </p:grpSpPr>
          <p:sp>
            <p:nvSpPr>
              <p:cNvPr id="80" name=""/>
              <p:cNvSpPr/>
              <p:nvPr/>
            </p:nvSpPr>
            <p:spPr>
              <a:xfrm>
                <a:off x="2808720" y="3284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2664000" y="3141720"/>
                <a:ext cx="720720" cy="720720"/>
                <a:chOff x="2664000" y="3141720"/>
                <a:chExt cx="720720" cy="7207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987640" y="3141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311640" y="346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987640" y="3789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664000" y="3465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"/>
          <p:cNvGrpSpPr/>
          <p:nvPr/>
        </p:nvGrpSpPr>
        <p:grpSpPr>
          <a:xfrm>
            <a:off x="3311280" y="2673720"/>
            <a:ext cx="1657440" cy="1657440"/>
            <a:chOff x="3311280" y="2673720"/>
            <a:chExt cx="1657440" cy="1657440"/>
          </a:xfrm>
        </p:grpSpPr>
        <p:grpSp>
          <p:nvGrpSpPr>
            <p:cNvPr id="87" name=""/>
            <p:cNvGrpSpPr/>
            <p:nvPr/>
          </p:nvGrpSpPr>
          <p:grpSpPr>
            <a:xfrm>
              <a:off x="4427280" y="3392280"/>
              <a:ext cx="541440" cy="216000"/>
              <a:chOff x="4427280" y="3392280"/>
              <a:chExt cx="541440" cy="216000"/>
            </a:xfrm>
          </p:grpSpPr>
          <p:sp>
            <p:nvSpPr>
              <p:cNvPr id="88" name=""/>
              <p:cNvSpPr/>
              <p:nvPr/>
            </p:nvSpPr>
            <p:spPr>
              <a:xfrm>
                <a:off x="4427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0800000">
                <a:off x="4427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032360" y="3789720"/>
              <a:ext cx="215280" cy="541440"/>
              <a:chOff x="4032360" y="3789720"/>
              <a:chExt cx="215280" cy="541440"/>
            </a:xfrm>
          </p:grpSpPr>
          <p:sp>
            <p:nvSpPr>
              <p:cNvPr id="91" name=""/>
              <p:cNvSpPr/>
              <p:nvPr/>
            </p:nvSpPr>
            <p:spPr>
              <a:xfrm rot="16200000">
                <a:off x="3959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400000">
                <a:off x="3778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311280" y="3392280"/>
              <a:ext cx="541440" cy="216000"/>
              <a:chOff x="3311280" y="3392280"/>
              <a:chExt cx="541440" cy="216000"/>
            </a:xfrm>
          </p:grpSpPr>
          <p:sp>
            <p:nvSpPr>
              <p:cNvPr id="94" name=""/>
              <p:cNvSpPr/>
              <p:nvPr/>
            </p:nvSpPr>
            <p:spPr>
              <a:xfrm>
                <a:off x="3311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0800000">
                <a:off x="3311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4032360" y="2673720"/>
              <a:ext cx="215280" cy="541440"/>
              <a:chOff x="4032360" y="2673720"/>
              <a:chExt cx="215280" cy="541440"/>
            </a:xfrm>
          </p:grpSpPr>
          <p:sp>
            <p:nvSpPr>
              <p:cNvPr id="97" name=""/>
              <p:cNvSpPr/>
              <p:nvPr/>
            </p:nvSpPr>
            <p:spPr>
              <a:xfrm rot="16200000">
                <a:off x="3959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5400000">
                <a:off x="3778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2448000" y="1808280"/>
            <a:ext cx="3367080" cy="3368520"/>
            <a:chOff x="2448000" y="1808280"/>
            <a:chExt cx="3367080" cy="3368520"/>
          </a:xfrm>
        </p:grpSpPr>
        <p:grpSp>
          <p:nvGrpSpPr>
            <p:cNvPr id="100" name=""/>
            <p:cNvGrpSpPr/>
            <p:nvPr/>
          </p:nvGrpSpPr>
          <p:grpSpPr>
            <a:xfrm>
              <a:off x="5543640" y="2276640"/>
              <a:ext cx="271440" cy="215640"/>
              <a:chOff x="5543640" y="2276640"/>
              <a:chExt cx="271440" cy="215640"/>
            </a:xfrm>
          </p:grpSpPr>
          <p:sp>
            <p:nvSpPr>
              <p:cNvPr id="101" name=""/>
              <p:cNvSpPr/>
              <p:nvPr/>
            </p:nvSpPr>
            <p:spPr>
              <a:xfrm>
                <a:off x="5543640" y="2457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43640" y="2276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916360" y="4905360"/>
              <a:ext cx="215280" cy="271440"/>
              <a:chOff x="2916360" y="4905360"/>
              <a:chExt cx="215280" cy="271440"/>
            </a:xfrm>
          </p:grpSpPr>
          <p:sp>
            <p:nvSpPr>
              <p:cNvPr id="104" name=""/>
              <p:cNvSpPr/>
              <p:nvPr/>
            </p:nvSpPr>
            <p:spPr>
              <a:xfrm>
                <a:off x="3097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16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664000" y="4257720"/>
              <a:ext cx="720720" cy="720720"/>
              <a:chOff x="2664000" y="4257720"/>
              <a:chExt cx="720720" cy="720720"/>
            </a:xfrm>
          </p:grpSpPr>
          <p:sp>
            <p:nvSpPr>
              <p:cNvPr id="107" name=""/>
              <p:cNvSpPr/>
              <p:nvPr/>
            </p:nvSpPr>
            <p:spPr>
              <a:xfrm>
                <a:off x="2808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2664000" y="4257720"/>
                <a:ext cx="720720" cy="720720"/>
                <a:chOff x="2664000" y="4257720"/>
                <a:chExt cx="720720" cy="7207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987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3311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987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64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2664000" y="2023920"/>
              <a:ext cx="720720" cy="720720"/>
              <a:chOff x="2664000" y="2023920"/>
              <a:chExt cx="720720" cy="720720"/>
            </a:xfrm>
          </p:grpSpPr>
          <p:sp>
            <p:nvSpPr>
              <p:cNvPr id="114" name=""/>
              <p:cNvSpPr/>
              <p:nvPr/>
            </p:nvSpPr>
            <p:spPr>
              <a:xfrm>
                <a:off x="2808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2664000" y="2023920"/>
                <a:ext cx="720720" cy="720720"/>
                <a:chOff x="2664000" y="2023920"/>
                <a:chExt cx="720720" cy="720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987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311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987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664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"/>
            <p:cNvGrpSpPr/>
            <p:nvPr/>
          </p:nvGrpSpPr>
          <p:grpSpPr>
            <a:xfrm>
              <a:off x="4896000" y="2023920"/>
              <a:ext cx="720720" cy="720720"/>
              <a:chOff x="4896000" y="2023920"/>
              <a:chExt cx="720720" cy="720720"/>
            </a:xfrm>
          </p:grpSpPr>
          <p:sp>
            <p:nvSpPr>
              <p:cNvPr id="121" name=""/>
              <p:cNvSpPr/>
              <p:nvPr/>
            </p:nvSpPr>
            <p:spPr>
              <a:xfrm>
                <a:off x="5040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4896000" y="2023920"/>
                <a:ext cx="720720" cy="720720"/>
                <a:chOff x="4896000" y="2023920"/>
                <a:chExt cx="720720" cy="720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219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543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219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896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"/>
            <p:cNvGrpSpPr/>
            <p:nvPr/>
          </p:nvGrpSpPr>
          <p:grpSpPr>
            <a:xfrm>
              <a:off x="4896000" y="4257720"/>
              <a:ext cx="720720" cy="720720"/>
              <a:chOff x="4896000" y="4257720"/>
              <a:chExt cx="720720" cy="720720"/>
            </a:xfrm>
          </p:grpSpPr>
          <p:sp>
            <p:nvSpPr>
              <p:cNvPr id="128" name=""/>
              <p:cNvSpPr/>
              <p:nvPr/>
            </p:nvSpPr>
            <p:spPr>
              <a:xfrm>
                <a:off x="5040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896000" y="4257720"/>
                <a:ext cx="720720" cy="720720"/>
                <a:chOff x="4896000" y="4257720"/>
                <a:chExt cx="720720" cy="720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219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543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219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96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5148360" y="3789720"/>
              <a:ext cx="215280" cy="541440"/>
              <a:chOff x="5148360" y="3789720"/>
              <a:chExt cx="215280" cy="541440"/>
            </a:xfrm>
          </p:grpSpPr>
          <p:sp>
            <p:nvSpPr>
              <p:cNvPr id="135" name=""/>
              <p:cNvSpPr/>
              <p:nvPr/>
            </p:nvSpPr>
            <p:spPr>
              <a:xfrm rot="16200000">
                <a:off x="5075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5400000">
                <a:off x="4894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16360" y="3789720"/>
              <a:ext cx="215280" cy="541440"/>
              <a:chOff x="2916360" y="3789720"/>
              <a:chExt cx="215280" cy="541440"/>
            </a:xfrm>
          </p:grpSpPr>
          <p:sp>
            <p:nvSpPr>
              <p:cNvPr id="138" name=""/>
              <p:cNvSpPr/>
              <p:nvPr/>
            </p:nvSpPr>
            <p:spPr>
              <a:xfrm rot="16200000">
                <a:off x="2843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400000">
                <a:off x="2662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2916360" y="2673720"/>
              <a:ext cx="215280" cy="541440"/>
              <a:chOff x="2916360" y="2673720"/>
              <a:chExt cx="215280" cy="541440"/>
            </a:xfrm>
          </p:grpSpPr>
          <p:sp>
            <p:nvSpPr>
              <p:cNvPr id="141" name=""/>
              <p:cNvSpPr/>
              <p:nvPr/>
            </p:nvSpPr>
            <p:spPr>
              <a:xfrm rot="16200000">
                <a:off x="2843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400000">
                <a:off x="2662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5148360" y="2673720"/>
              <a:ext cx="215280" cy="541440"/>
              <a:chOff x="5148360" y="2673720"/>
              <a:chExt cx="215280" cy="541440"/>
            </a:xfrm>
          </p:grpSpPr>
          <p:sp>
            <p:nvSpPr>
              <p:cNvPr id="144" name=""/>
              <p:cNvSpPr/>
              <p:nvPr/>
            </p:nvSpPr>
            <p:spPr>
              <a:xfrm rot="16200000">
                <a:off x="5075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5400000">
                <a:off x="4894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311280" y="2276280"/>
              <a:ext cx="541440" cy="216000"/>
              <a:chOff x="3311280" y="2276280"/>
              <a:chExt cx="541440" cy="216000"/>
            </a:xfrm>
          </p:grpSpPr>
          <p:sp>
            <p:nvSpPr>
              <p:cNvPr id="147" name=""/>
              <p:cNvSpPr/>
              <p:nvPr/>
            </p:nvSpPr>
            <p:spPr>
              <a:xfrm>
                <a:off x="3311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0800000">
                <a:off x="3311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427280" y="2276280"/>
              <a:ext cx="541440" cy="216000"/>
              <a:chOff x="4427280" y="2276280"/>
              <a:chExt cx="541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427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0800000">
                <a:off x="4427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311280" y="4508280"/>
              <a:ext cx="541440" cy="216000"/>
              <a:chOff x="3311280" y="4508280"/>
              <a:chExt cx="541440" cy="216000"/>
            </a:xfrm>
          </p:grpSpPr>
          <p:sp>
            <p:nvSpPr>
              <p:cNvPr id="153" name=""/>
              <p:cNvSpPr/>
              <p:nvPr/>
            </p:nvSpPr>
            <p:spPr>
              <a:xfrm>
                <a:off x="3311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10800000">
                <a:off x="3311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427280" y="4508280"/>
              <a:ext cx="541440" cy="216000"/>
              <a:chOff x="4427280" y="4508280"/>
              <a:chExt cx="541440" cy="216000"/>
            </a:xfrm>
          </p:grpSpPr>
          <p:sp>
            <p:nvSpPr>
              <p:cNvPr id="156" name=""/>
              <p:cNvSpPr/>
              <p:nvPr/>
            </p:nvSpPr>
            <p:spPr>
              <a:xfrm>
                <a:off x="4427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0800000">
                <a:off x="4427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148360" y="1808280"/>
              <a:ext cx="215280" cy="271440"/>
              <a:chOff x="5148360" y="1808280"/>
              <a:chExt cx="215280" cy="271440"/>
            </a:xfrm>
          </p:grpSpPr>
          <p:sp>
            <p:nvSpPr>
              <p:cNvPr id="159" name=""/>
              <p:cNvSpPr/>
              <p:nvPr/>
            </p:nvSpPr>
            <p:spPr>
              <a:xfrm>
                <a:off x="5329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48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4032360" y="1808280"/>
              <a:ext cx="215280" cy="271440"/>
              <a:chOff x="4032360" y="1808280"/>
              <a:chExt cx="215280" cy="271440"/>
            </a:xfrm>
          </p:grpSpPr>
          <p:sp>
            <p:nvSpPr>
              <p:cNvPr id="162" name=""/>
              <p:cNvSpPr/>
              <p:nvPr/>
            </p:nvSpPr>
            <p:spPr>
              <a:xfrm>
                <a:off x="4213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32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916360" y="1808280"/>
              <a:ext cx="215280" cy="271440"/>
              <a:chOff x="2916360" y="1808280"/>
              <a:chExt cx="215280" cy="271440"/>
            </a:xfrm>
          </p:grpSpPr>
          <p:sp>
            <p:nvSpPr>
              <p:cNvPr id="165" name=""/>
              <p:cNvSpPr/>
              <p:nvPr/>
            </p:nvSpPr>
            <p:spPr>
              <a:xfrm>
                <a:off x="3097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16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032360" y="4905360"/>
              <a:ext cx="215280" cy="271440"/>
              <a:chOff x="4032360" y="4905360"/>
              <a:chExt cx="215280" cy="2714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13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2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148360" y="4905360"/>
              <a:ext cx="215280" cy="271440"/>
              <a:chOff x="5148360" y="4905360"/>
              <a:chExt cx="215280" cy="271440"/>
            </a:xfrm>
          </p:grpSpPr>
          <p:sp>
            <p:nvSpPr>
              <p:cNvPr id="171" name=""/>
              <p:cNvSpPr/>
              <p:nvPr/>
            </p:nvSpPr>
            <p:spPr>
              <a:xfrm>
                <a:off x="5329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48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2448000" y="4508640"/>
              <a:ext cx="272880" cy="215640"/>
              <a:chOff x="2448000" y="4508640"/>
              <a:chExt cx="272880" cy="215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449440" y="4689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48000" y="4508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543640" y="3392640"/>
              <a:ext cx="271440" cy="215640"/>
              <a:chOff x="5543640" y="3392640"/>
              <a:chExt cx="271440" cy="215640"/>
            </a:xfrm>
          </p:grpSpPr>
          <p:sp>
            <p:nvSpPr>
              <p:cNvPr id="177" name=""/>
              <p:cNvSpPr/>
              <p:nvPr/>
            </p:nvSpPr>
            <p:spPr>
              <a:xfrm>
                <a:off x="5543640" y="3573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543640" y="3392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543640" y="4508640"/>
              <a:ext cx="271440" cy="215640"/>
              <a:chOff x="5543640" y="4508640"/>
              <a:chExt cx="271440" cy="215640"/>
            </a:xfrm>
          </p:grpSpPr>
          <p:sp>
            <p:nvSpPr>
              <p:cNvPr id="180" name=""/>
              <p:cNvSpPr/>
              <p:nvPr/>
            </p:nvSpPr>
            <p:spPr>
              <a:xfrm>
                <a:off x="5543640" y="4689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543640" y="4508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2448000" y="3392640"/>
              <a:ext cx="272880" cy="215640"/>
              <a:chOff x="2448000" y="3392640"/>
              <a:chExt cx="272880" cy="215640"/>
            </a:xfrm>
          </p:grpSpPr>
          <p:sp>
            <p:nvSpPr>
              <p:cNvPr id="183" name=""/>
              <p:cNvSpPr/>
              <p:nvPr/>
            </p:nvSpPr>
            <p:spPr>
              <a:xfrm>
                <a:off x="2449440" y="3573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448000" y="3392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2448000" y="2276640"/>
              <a:ext cx="272880" cy="215640"/>
              <a:chOff x="2448000" y="2276640"/>
              <a:chExt cx="272880" cy="215640"/>
            </a:xfrm>
          </p:grpSpPr>
          <p:sp>
            <p:nvSpPr>
              <p:cNvPr id="186" name=""/>
              <p:cNvSpPr/>
              <p:nvPr/>
            </p:nvSpPr>
            <p:spPr>
              <a:xfrm>
                <a:off x="2449440" y="2457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448000" y="2276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6732720" y="209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6520" y="1197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in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88000" y="3321000"/>
            <a:ext cx="1764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: sil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po IV de la tabla perió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0364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427640" y="346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03640" y="378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80000" y="346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664000" y="2023920"/>
            <a:ext cx="2952720" cy="2954520"/>
            <a:chOff x="2664000" y="2023920"/>
            <a:chExt cx="2952720" cy="2954520"/>
          </a:xfrm>
        </p:grpSpPr>
        <p:grpSp>
          <p:nvGrpSpPr>
            <p:cNvPr id="198" name=""/>
            <p:cNvGrpSpPr/>
            <p:nvPr/>
          </p:nvGrpSpPr>
          <p:grpSpPr>
            <a:xfrm>
              <a:off x="3780000" y="2023920"/>
              <a:ext cx="720720" cy="720720"/>
              <a:chOff x="3780000" y="2023920"/>
              <a:chExt cx="720720" cy="720720"/>
            </a:xfrm>
          </p:grpSpPr>
          <p:sp>
            <p:nvSpPr>
              <p:cNvPr id="199" name=""/>
              <p:cNvSpPr/>
              <p:nvPr/>
            </p:nvSpPr>
            <p:spPr>
              <a:xfrm>
                <a:off x="3924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3780000" y="2023920"/>
                <a:ext cx="720720" cy="720720"/>
                <a:chOff x="3780000" y="2023920"/>
                <a:chExt cx="720720" cy="72072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103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27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03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80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" name=""/>
            <p:cNvGrpSpPr/>
            <p:nvPr/>
          </p:nvGrpSpPr>
          <p:grpSpPr>
            <a:xfrm>
              <a:off x="4896000" y="3141720"/>
              <a:ext cx="720720" cy="720720"/>
              <a:chOff x="4896000" y="3141720"/>
              <a:chExt cx="720720" cy="720720"/>
            </a:xfrm>
          </p:grpSpPr>
          <p:sp>
            <p:nvSpPr>
              <p:cNvPr id="206" name=""/>
              <p:cNvSpPr/>
              <p:nvPr/>
            </p:nvSpPr>
            <p:spPr>
              <a:xfrm>
                <a:off x="5040720" y="3284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4896000" y="3141720"/>
                <a:ext cx="720720" cy="720720"/>
                <a:chOff x="4896000" y="3141720"/>
                <a:chExt cx="720720" cy="720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219640" y="3141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543640" y="346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219640" y="3789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896000" y="3465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" name=""/>
            <p:cNvGrpSpPr/>
            <p:nvPr/>
          </p:nvGrpSpPr>
          <p:grpSpPr>
            <a:xfrm>
              <a:off x="3780000" y="4257720"/>
              <a:ext cx="720720" cy="720720"/>
              <a:chOff x="3780000" y="4257720"/>
              <a:chExt cx="720720" cy="720720"/>
            </a:xfrm>
          </p:grpSpPr>
          <p:sp>
            <p:nvSpPr>
              <p:cNvPr id="213" name=""/>
              <p:cNvSpPr/>
              <p:nvPr/>
            </p:nvSpPr>
            <p:spPr>
              <a:xfrm>
                <a:off x="3924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3780000" y="4257720"/>
                <a:ext cx="720720" cy="720720"/>
                <a:chOff x="3780000" y="4257720"/>
                <a:chExt cx="720720" cy="7207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4103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427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03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80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2664000" y="3141720"/>
              <a:ext cx="720720" cy="720720"/>
              <a:chOff x="2664000" y="3141720"/>
              <a:chExt cx="720720" cy="720720"/>
            </a:xfrm>
          </p:grpSpPr>
          <p:sp>
            <p:nvSpPr>
              <p:cNvPr id="220" name=""/>
              <p:cNvSpPr/>
              <p:nvPr/>
            </p:nvSpPr>
            <p:spPr>
              <a:xfrm>
                <a:off x="2808720" y="3284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2664000" y="3141720"/>
                <a:ext cx="720720" cy="720720"/>
                <a:chOff x="2664000" y="3141720"/>
                <a:chExt cx="720720" cy="7207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2987640" y="3141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311640" y="346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87640" y="3789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664000" y="3465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6" name=""/>
          <p:cNvGrpSpPr/>
          <p:nvPr/>
        </p:nvGrpSpPr>
        <p:grpSpPr>
          <a:xfrm>
            <a:off x="3311280" y="2673720"/>
            <a:ext cx="1657440" cy="1657440"/>
            <a:chOff x="3311280" y="2673720"/>
            <a:chExt cx="1657440" cy="1657440"/>
          </a:xfrm>
        </p:grpSpPr>
        <p:grpSp>
          <p:nvGrpSpPr>
            <p:cNvPr id="227" name=""/>
            <p:cNvGrpSpPr/>
            <p:nvPr/>
          </p:nvGrpSpPr>
          <p:grpSpPr>
            <a:xfrm>
              <a:off x="4427280" y="3392280"/>
              <a:ext cx="541440" cy="216000"/>
              <a:chOff x="4427280" y="3392280"/>
              <a:chExt cx="541440" cy="216000"/>
            </a:xfrm>
          </p:grpSpPr>
          <p:sp>
            <p:nvSpPr>
              <p:cNvPr id="228" name=""/>
              <p:cNvSpPr/>
              <p:nvPr/>
            </p:nvSpPr>
            <p:spPr>
              <a:xfrm>
                <a:off x="4427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4427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4032360" y="3789720"/>
              <a:ext cx="215280" cy="541440"/>
              <a:chOff x="4032360" y="3789720"/>
              <a:chExt cx="215280" cy="541440"/>
            </a:xfrm>
          </p:grpSpPr>
          <p:sp>
            <p:nvSpPr>
              <p:cNvPr id="231" name=""/>
              <p:cNvSpPr/>
              <p:nvPr/>
            </p:nvSpPr>
            <p:spPr>
              <a:xfrm rot="16200000">
                <a:off x="3959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5400000">
                <a:off x="3778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311280" y="3392280"/>
              <a:ext cx="541440" cy="216000"/>
              <a:chOff x="3311280" y="3392280"/>
              <a:chExt cx="541440" cy="216000"/>
            </a:xfrm>
          </p:grpSpPr>
          <p:sp>
            <p:nvSpPr>
              <p:cNvPr id="234" name=""/>
              <p:cNvSpPr/>
              <p:nvPr/>
            </p:nvSpPr>
            <p:spPr>
              <a:xfrm>
                <a:off x="3311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00000">
                <a:off x="3311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032360" y="2673720"/>
              <a:ext cx="215280" cy="541440"/>
              <a:chOff x="4032360" y="2673720"/>
              <a:chExt cx="215280" cy="54144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3959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5400000">
                <a:off x="3778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2448000" y="1808280"/>
            <a:ext cx="3367080" cy="3368520"/>
            <a:chOff x="2448000" y="1808280"/>
            <a:chExt cx="3367080" cy="3368520"/>
          </a:xfrm>
        </p:grpSpPr>
        <p:grpSp>
          <p:nvGrpSpPr>
            <p:cNvPr id="240" name=""/>
            <p:cNvGrpSpPr/>
            <p:nvPr/>
          </p:nvGrpSpPr>
          <p:grpSpPr>
            <a:xfrm>
              <a:off x="5543640" y="2276640"/>
              <a:ext cx="271440" cy="215640"/>
              <a:chOff x="5543640" y="2276640"/>
              <a:chExt cx="271440" cy="215640"/>
            </a:xfrm>
          </p:grpSpPr>
          <p:sp>
            <p:nvSpPr>
              <p:cNvPr id="241" name=""/>
              <p:cNvSpPr/>
              <p:nvPr/>
            </p:nvSpPr>
            <p:spPr>
              <a:xfrm>
                <a:off x="5543640" y="2457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43640" y="2276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916360" y="4905360"/>
              <a:ext cx="215280" cy="271440"/>
              <a:chOff x="2916360" y="4905360"/>
              <a:chExt cx="215280" cy="271440"/>
            </a:xfrm>
          </p:grpSpPr>
          <p:sp>
            <p:nvSpPr>
              <p:cNvPr id="244" name=""/>
              <p:cNvSpPr/>
              <p:nvPr/>
            </p:nvSpPr>
            <p:spPr>
              <a:xfrm>
                <a:off x="3097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16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64000" y="4257720"/>
              <a:ext cx="720720" cy="720720"/>
              <a:chOff x="2664000" y="4257720"/>
              <a:chExt cx="720720" cy="720720"/>
            </a:xfrm>
          </p:grpSpPr>
          <p:sp>
            <p:nvSpPr>
              <p:cNvPr id="247" name=""/>
              <p:cNvSpPr/>
              <p:nvPr/>
            </p:nvSpPr>
            <p:spPr>
              <a:xfrm>
                <a:off x="2808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2664000" y="4257720"/>
                <a:ext cx="720720" cy="720720"/>
                <a:chOff x="2664000" y="4257720"/>
                <a:chExt cx="720720" cy="7207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2987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11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987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664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" name=""/>
            <p:cNvGrpSpPr/>
            <p:nvPr/>
          </p:nvGrpSpPr>
          <p:grpSpPr>
            <a:xfrm>
              <a:off x="2664000" y="2023920"/>
              <a:ext cx="720720" cy="720720"/>
              <a:chOff x="2664000" y="2023920"/>
              <a:chExt cx="720720" cy="720720"/>
            </a:xfrm>
          </p:grpSpPr>
          <p:sp>
            <p:nvSpPr>
              <p:cNvPr id="254" name=""/>
              <p:cNvSpPr/>
              <p:nvPr/>
            </p:nvSpPr>
            <p:spPr>
              <a:xfrm>
                <a:off x="2808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664000" y="2023920"/>
                <a:ext cx="720720" cy="720720"/>
                <a:chOff x="2664000" y="2023920"/>
                <a:chExt cx="720720" cy="7207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2987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311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987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664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4896000" y="2023920"/>
              <a:ext cx="720720" cy="720720"/>
              <a:chOff x="4896000" y="2023920"/>
              <a:chExt cx="720720" cy="720720"/>
            </a:xfrm>
          </p:grpSpPr>
          <p:sp>
            <p:nvSpPr>
              <p:cNvPr id="261" name=""/>
              <p:cNvSpPr/>
              <p:nvPr/>
            </p:nvSpPr>
            <p:spPr>
              <a:xfrm>
                <a:off x="5040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4896000" y="2023920"/>
                <a:ext cx="720720" cy="720720"/>
                <a:chOff x="4896000" y="2023920"/>
                <a:chExt cx="720720" cy="720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5219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543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219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4896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"/>
            <p:cNvGrpSpPr/>
            <p:nvPr/>
          </p:nvGrpSpPr>
          <p:grpSpPr>
            <a:xfrm>
              <a:off x="4896000" y="4257720"/>
              <a:ext cx="720720" cy="720720"/>
              <a:chOff x="4896000" y="4257720"/>
              <a:chExt cx="720720" cy="720720"/>
            </a:xfrm>
          </p:grpSpPr>
          <p:sp>
            <p:nvSpPr>
              <p:cNvPr id="268" name=""/>
              <p:cNvSpPr/>
              <p:nvPr/>
            </p:nvSpPr>
            <p:spPr>
              <a:xfrm>
                <a:off x="5040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4896000" y="4257720"/>
                <a:ext cx="720720" cy="720720"/>
                <a:chOff x="4896000" y="4257720"/>
                <a:chExt cx="720720" cy="7207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5219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543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219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896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4" name=""/>
            <p:cNvGrpSpPr/>
            <p:nvPr/>
          </p:nvGrpSpPr>
          <p:grpSpPr>
            <a:xfrm>
              <a:off x="5148360" y="3789720"/>
              <a:ext cx="215280" cy="541440"/>
              <a:chOff x="5148360" y="3789720"/>
              <a:chExt cx="215280" cy="541440"/>
            </a:xfrm>
          </p:grpSpPr>
          <p:sp>
            <p:nvSpPr>
              <p:cNvPr id="275" name=""/>
              <p:cNvSpPr/>
              <p:nvPr/>
            </p:nvSpPr>
            <p:spPr>
              <a:xfrm rot="16200000">
                <a:off x="5075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5400000">
                <a:off x="4894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2916360" y="3789720"/>
              <a:ext cx="215280" cy="541440"/>
              <a:chOff x="2916360" y="3789720"/>
              <a:chExt cx="215280" cy="541440"/>
            </a:xfrm>
          </p:grpSpPr>
          <p:sp>
            <p:nvSpPr>
              <p:cNvPr id="278" name=""/>
              <p:cNvSpPr/>
              <p:nvPr/>
            </p:nvSpPr>
            <p:spPr>
              <a:xfrm rot="16200000">
                <a:off x="2843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5400000">
                <a:off x="2662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916360" y="2673720"/>
              <a:ext cx="215280" cy="541440"/>
              <a:chOff x="2916360" y="2673720"/>
              <a:chExt cx="215280" cy="541440"/>
            </a:xfrm>
          </p:grpSpPr>
          <p:sp>
            <p:nvSpPr>
              <p:cNvPr id="281" name=""/>
              <p:cNvSpPr/>
              <p:nvPr/>
            </p:nvSpPr>
            <p:spPr>
              <a:xfrm rot="16200000">
                <a:off x="2843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5400000">
                <a:off x="2662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5148360" y="2673720"/>
              <a:ext cx="215280" cy="541440"/>
              <a:chOff x="5148360" y="2673720"/>
              <a:chExt cx="215280" cy="541440"/>
            </a:xfrm>
          </p:grpSpPr>
          <p:sp>
            <p:nvSpPr>
              <p:cNvPr id="284" name=""/>
              <p:cNvSpPr/>
              <p:nvPr/>
            </p:nvSpPr>
            <p:spPr>
              <a:xfrm rot="16200000">
                <a:off x="5075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5400000">
                <a:off x="4894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3311280" y="2276280"/>
              <a:ext cx="541440" cy="216000"/>
              <a:chOff x="3311280" y="2276280"/>
              <a:chExt cx="541440" cy="216000"/>
            </a:xfrm>
          </p:grpSpPr>
          <p:sp>
            <p:nvSpPr>
              <p:cNvPr id="287" name=""/>
              <p:cNvSpPr/>
              <p:nvPr/>
            </p:nvSpPr>
            <p:spPr>
              <a:xfrm>
                <a:off x="3311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0800000">
                <a:off x="3311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4427280" y="2276280"/>
              <a:ext cx="541440" cy="216000"/>
              <a:chOff x="4427280" y="2276280"/>
              <a:chExt cx="541440" cy="216000"/>
            </a:xfrm>
          </p:grpSpPr>
          <p:sp>
            <p:nvSpPr>
              <p:cNvPr id="290" name=""/>
              <p:cNvSpPr/>
              <p:nvPr/>
            </p:nvSpPr>
            <p:spPr>
              <a:xfrm>
                <a:off x="4427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0800000">
                <a:off x="4427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3311280" y="4508280"/>
              <a:ext cx="541440" cy="216000"/>
              <a:chOff x="3311280" y="4508280"/>
              <a:chExt cx="541440" cy="216000"/>
            </a:xfrm>
          </p:grpSpPr>
          <p:sp>
            <p:nvSpPr>
              <p:cNvPr id="293" name=""/>
              <p:cNvSpPr/>
              <p:nvPr/>
            </p:nvSpPr>
            <p:spPr>
              <a:xfrm>
                <a:off x="3311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0800000">
                <a:off x="3311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427280" y="4508280"/>
              <a:ext cx="541440" cy="216000"/>
              <a:chOff x="4427280" y="4508280"/>
              <a:chExt cx="541440" cy="216000"/>
            </a:xfrm>
          </p:grpSpPr>
          <p:sp>
            <p:nvSpPr>
              <p:cNvPr id="296" name=""/>
              <p:cNvSpPr/>
              <p:nvPr/>
            </p:nvSpPr>
            <p:spPr>
              <a:xfrm>
                <a:off x="4427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0800000">
                <a:off x="4427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5148360" y="1808280"/>
              <a:ext cx="215280" cy="271440"/>
              <a:chOff x="5148360" y="1808280"/>
              <a:chExt cx="215280" cy="271440"/>
            </a:xfrm>
          </p:grpSpPr>
          <p:sp>
            <p:nvSpPr>
              <p:cNvPr id="299" name=""/>
              <p:cNvSpPr/>
              <p:nvPr/>
            </p:nvSpPr>
            <p:spPr>
              <a:xfrm>
                <a:off x="5329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148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4032360" y="1808280"/>
              <a:ext cx="215280" cy="271440"/>
              <a:chOff x="4032360" y="1808280"/>
              <a:chExt cx="215280" cy="271440"/>
            </a:xfrm>
          </p:grpSpPr>
          <p:sp>
            <p:nvSpPr>
              <p:cNvPr id="302" name=""/>
              <p:cNvSpPr/>
              <p:nvPr/>
            </p:nvSpPr>
            <p:spPr>
              <a:xfrm>
                <a:off x="4213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32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916360" y="1808280"/>
              <a:ext cx="215280" cy="271440"/>
              <a:chOff x="2916360" y="1808280"/>
              <a:chExt cx="215280" cy="271440"/>
            </a:xfrm>
          </p:grpSpPr>
          <p:sp>
            <p:nvSpPr>
              <p:cNvPr id="305" name=""/>
              <p:cNvSpPr/>
              <p:nvPr/>
            </p:nvSpPr>
            <p:spPr>
              <a:xfrm>
                <a:off x="3097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16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4032360" y="4905360"/>
              <a:ext cx="215280" cy="271440"/>
              <a:chOff x="4032360" y="4905360"/>
              <a:chExt cx="215280" cy="271440"/>
            </a:xfrm>
          </p:grpSpPr>
          <p:sp>
            <p:nvSpPr>
              <p:cNvPr id="308" name=""/>
              <p:cNvSpPr/>
              <p:nvPr/>
            </p:nvSpPr>
            <p:spPr>
              <a:xfrm>
                <a:off x="4213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2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5148360" y="4905360"/>
              <a:ext cx="215280" cy="271440"/>
              <a:chOff x="5148360" y="4905360"/>
              <a:chExt cx="215280" cy="271440"/>
            </a:xfrm>
          </p:grpSpPr>
          <p:sp>
            <p:nvSpPr>
              <p:cNvPr id="311" name=""/>
              <p:cNvSpPr/>
              <p:nvPr/>
            </p:nvSpPr>
            <p:spPr>
              <a:xfrm>
                <a:off x="5329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48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448000" y="4508640"/>
              <a:ext cx="272880" cy="215640"/>
              <a:chOff x="2448000" y="4508640"/>
              <a:chExt cx="272880" cy="215640"/>
            </a:xfrm>
          </p:grpSpPr>
          <p:sp>
            <p:nvSpPr>
              <p:cNvPr id="314" name=""/>
              <p:cNvSpPr/>
              <p:nvPr/>
            </p:nvSpPr>
            <p:spPr>
              <a:xfrm>
                <a:off x="2449440" y="4689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448000" y="4508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5543640" y="3392640"/>
              <a:ext cx="271440" cy="215640"/>
              <a:chOff x="5543640" y="3392640"/>
              <a:chExt cx="271440" cy="215640"/>
            </a:xfrm>
          </p:grpSpPr>
          <p:sp>
            <p:nvSpPr>
              <p:cNvPr id="317" name=""/>
              <p:cNvSpPr/>
              <p:nvPr/>
            </p:nvSpPr>
            <p:spPr>
              <a:xfrm>
                <a:off x="5543640" y="3573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543640" y="3392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5543640" y="4508640"/>
              <a:ext cx="271440" cy="215640"/>
              <a:chOff x="5543640" y="4508640"/>
              <a:chExt cx="271440" cy="215640"/>
            </a:xfrm>
          </p:grpSpPr>
          <p:sp>
            <p:nvSpPr>
              <p:cNvPr id="320" name=""/>
              <p:cNvSpPr/>
              <p:nvPr/>
            </p:nvSpPr>
            <p:spPr>
              <a:xfrm>
                <a:off x="5543640" y="4689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543640" y="4508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2448000" y="3392640"/>
              <a:ext cx="272880" cy="215640"/>
              <a:chOff x="2448000" y="3392640"/>
              <a:chExt cx="272880" cy="215640"/>
            </a:xfrm>
          </p:grpSpPr>
          <p:sp>
            <p:nvSpPr>
              <p:cNvPr id="323" name=""/>
              <p:cNvSpPr/>
              <p:nvPr/>
            </p:nvSpPr>
            <p:spPr>
              <a:xfrm>
                <a:off x="2449440" y="3573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448000" y="3392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2448000" y="2276640"/>
              <a:ext cx="272880" cy="215640"/>
              <a:chOff x="2448000" y="2276640"/>
              <a:chExt cx="272880" cy="215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449440" y="2457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448000" y="2276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>
            <a:off x="6732720" y="2097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588000" y="2673360"/>
            <a:ext cx="1333800" cy="1131840"/>
            <a:chOff x="6588000" y="2673360"/>
            <a:chExt cx="1333800" cy="1131840"/>
          </a:xfrm>
        </p:grpSpPr>
        <p:sp>
          <p:nvSpPr>
            <p:cNvPr id="330" name=""/>
            <p:cNvSpPr/>
            <p:nvPr/>
          </p:nvSpPr>
          <p:spPr>
            <a:xfrm>
              <a:off x="6912000" y="2673360"/>
              <a:ext cx="431640" cy="503280"/>
            </a:xfrm>
            <a:prstGeom prst="downArrow">
              <a:avLst>
                <a:gd name="adj1" fmla="val 50000"/>
                <a:gd name="adj2" fmla="val 29149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588000" y="3284640"/>
              <a:ext cx="133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cc3300"/>
                  </a:solidFill>
                  <a:latin typeface="Arial"/>
                </a:rPr>
                <a:t>300ºK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3781800" y="3105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67280" y="3789360"/>
            <a:ext cx="144360" cy="14436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046520" y="1197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in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66160" y="3897360"/>
            <a:ext cx="6054840" cy="516960"/>
            <a:chOff x="866160" y="3897360"/>
            <a:chExt cx="6054840" cy="516960"/>
          </a:xfrm>
        </p:grpSpPr>
        <p:sp>
          <p:nvSpPr>
            <p:cNvPr id="336" name=""/>
            <p:cNvSpPr/>
            <p:nvPr/>
          </p:nvSpPr>
          <p:spPr>
            <a:xfrm>
              <a:off x="866160" y="3969000"/>
              <a:ext cx="99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Electr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21440" y="407700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Huec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871640" y="4039920"/>
              <a:ext cx="468360" cy="7308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4284360" y="3897360"/>
              <a:ext cx="1834920" cy="3240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46 C -0.00261 0.01435 -0.0059 0.0294 -0.01736 0.0375 C -0.02882 0.0456 -0.04531 0.04884 -0.06806 0.04769 C -0.0908 0.04653 -0.13351 0.03403 -0.15347 0.03102 C -0.17344 0.02801 -0.18056 0.02847 -0.1875 0.02917 E">
                                      <p:cBhvr>
                                        <p:cTn id="12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2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0364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27640" y="346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360" y="4003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780000" y="346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780000" y="2023920"/>
            <a:ext cx="720720" cy="720720"/>
            <a:chOff x="3780000" y="2023920"/>
            <a:chExt cx="720720" cy="720720"/>
          </a:xfrm>
        </p:grpSpPr>
        <p:sp>
          <p:nvSpPr>
            <p:cNvPr id="347" name=""/>
            <p:cNvSpPr/>
            <p:nvPr/>
          </p:nvSpPr>
          <p:spPr>
            <a:xfrm>
              <a:off x="3924720" y="2166480"/>
              <a:ext cx="431640" cy="4320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780000" y="2023920"/>
              <a:ext cx="720720" cy="720720"/>
              <a:chOff x="3780000" y="2023920"/>
              <a:chExt cx="720720" cy="720720"/>
            </a:xfrm>
          </p:grpSpPr>
          <p:sp>
            <p:nvSpPr>
              <p:cNvPr id="349" name=""/>
              <p:cNvSpPr/>
              <p:nvPr/>
            </p:nvSpPr>
            <p:spPr>
              <a:xfrm>
                <a:off x="4103640" y="2023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27640" y="2347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03640" y="2671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780000" y="23475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4896000" y="3141720"/>
            <a:ext cx="720720" cy="720720"/>
            <a:chOff x="4896000" y="3141720"/>
            <a:chExt cx="720720" cy="720720"/>
          </a:xfrm>
        </p:grpSpPr>
        <p:sp>
          <p:nvSpPr>
            <p:cNvPr id="354" name=""/>
            <p:cNvSpPr/>
            <p:nvPr/>
          </p:nvSpPr>
          <p:spPr>
            <a:xfrm>
              <a:off x="5040720" y="3284280"/>
              <a:ext cx="431640" cy="4320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896000" y="3141720"/>
              <a:ext cx="720720" cy="720720"/>
              <a:chOff x="4896000" y="3141720"/>
              <a:chExt cx="720720" cy="720720"/>
            </a:xfrm>
          </p:grpSpPr>
          <p:sp>
            <p:nvSpPr>
              <p:cNvPr id="356" name=""/>
              <p:cNvSpPr/>
              <p:nvPr/>
            </p:nvSpPr>
            <p:spPr>
              <a:xfrm>
                <a:off x="5219640" y="3141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543640" y="3465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19640" y="3789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96000" y="34653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3780000" y="4257720"/>
            <a:ext cx="720720" cy="720720"/>
            <a:chOff x="3780000" y="4257720"/>
            <a:chExt cx="720720" cy="720720"/>
          </a:xfrm>
        </p:grpSpPr>
        <p:sp>
          <p:nvSpPr>
            <p:cNvPr id="361" name=""/>
            <p:cNvSpPr/>
            <p:nvPr/>
          </p:nvSpPr>
          <p:spPr>
            <a:xfrm>
              <a:off x="3924720" y="4400280"/>
              <a:ext cx="431640" cy="4320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780000" y="4257720"/>
              <a:ext cx="720720" cy="720720"/>
              <a:chOff x="3780000" y="4257720"/>
              <a:chExt cx="720720" cy="720720"/>
            </a:xfrm>
          </p:grpSpPr>
          <p:sp>
            <p:nvSpPr>
              <p:cNvPr id="363" name=""/>
              <p:cNvSpPr/>
              <p:nvPr/>
            </p:nvSpPr>
            <p:spPr>
              <a:xfrm>
                <a:off x="4103640" y="4257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27640" y="4581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03640" y="4905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80000" y="45813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2808360" y="3284640"/>
            <a:ext cx="431640" cy="431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8764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11640" y="346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87640" y="378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664000" y="346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311280" y="2673720"/>
            <a:ext cx="1657440" cy="1657440"/>
            <a:chOff x="3311280" y="2673720"/>
            <a:chExt cx="1657440" cy="1657440"/>
          </a:xfrm>
        </p:grpSpPr>
        <p:grpSp>
          <p:nvGrpSpPr>
            <p:cNvPr id="373" name=""/>
            <p:cNvGrpSpPr/>
            <p:nvPr/>
          </p:nvGrpSpPr>
          <p:grpSpPr>
            <a:xfrm>
              <a:off x="4427280" y="3392280"/>
              <a:ext cx="541440" cy="216000"/>
              <a:chOff x="4427280" y="3392280"/>
              <a:chExt cx="541440" cy="216000"/>
            </a:xfrm>
          </p:grpSpPr>
          <p:sp>
            <p:nvSpPr>
              <p:cNvPr id="374" name=""/>
              <p:cNvSpPr/>
              <p:nvPr/>
            </p:nvSpPr>
            <p:spPr>
              <a:xfrm>
                <a:off x="4427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0800000">
                <a:off x="4427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032360" y="3789720"/>
              <a:ext cx="215280" cy="541440"/>
              <a:chOff x="4032360" y="3789720"/>
              <a:chExt cx="215280" cy="541440"/>
            </a:xfrm>
          </p:grpSpPr>
          <p:sp>
            <p:nvSpPr>
              <p:cNvPr id="377" name=""/>
              <p:cNvSpPr/>
              <p:nvPr/>
            </p:nvSpPr>
            <p:spPr>
              <a:xfrm rot="16200000">
                <a:off x="3959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5400000">
                <a:off x="3778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3311280" y="3392280"/>
              <a:ext cx="541440" cy="216000"/>
              <a:chOff x="3311280" y="3392280"/>
              <a:chExt cx="541440" cy="216000"/>
            </a:xfrm>
          </p:grpSpPr>
          <p:sp>
            <p:nvSpPr>
              <p:cNvPr id="380" name=""/>
              <p:cNvSpPr/>
              <p:nvPr/>
            </p:nvSpPr>
            <p:spPr>
              <a:xfrm>
                <a:off x="3311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0800000">
                <a:off x="3311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4032360" y="2673720"/>
              <a:ext cx="215280" cy="541440"/>
              <a:chOff x="4032360" y="2673720"/>
              <a:chExt cx="215280" cy="541440"/>
            </a:xfrm>
          </p:grpSpPr>
          <p:sp>
            <p:nvSpPr>
              <p:cNvPr id="383" name=""/>
              <p:cNvSpPr/>
              <p:nvPr/>
            </p:nvSpPr>
            <p:spPr>
              <a:xfrm rot="16200000">
                <a:off x="3959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5400000">
                <a:off x="3778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" name=""/>
          <p:cNvGrpSpPr/>
          <p:nvPr/>
        </p:nvGrpSpPr>
        <p:grpSpPr>
          <a:xfrm>
            <a:off x="2448000" y="1808280"/>
            <a:ext cx="3367080" cy="3368520"/>
            <a:chOff x="2448000" y="1808280"/>
            <a:chExt cx="3367080" cy="3368520"/>
          </a:xfrm>
        </p:grpSpPr>
        <p:grpSp>
          <p:nvGrpSpPr>
            <p:cNvPr id="386" name=""/>
            <p:cNvGrpSpPr/>
            <p:nvPr/>
          </p:nvGrpSpPr>
          <p:grpSpPr>
            <a:xfrm>
              <a:off x="5543640" y="2276640"/>
              <a:ext cx="271440" cy="215640"/>
              <a:chOff x="5543640" y="2276640"/>
              <a:chExt cx="271440" cy="215640"/>
            </a:xfrm>
          </p:grpSpPr>
          <p:sp>
            <p:nvSpPr>
              <p:cNvPr id="387" name=""/>
              <p:cNvSpPr/>
              <p:nvPr/>
            </p:nvSpPr>
            <p:spPr>
              <a:xfrm>
                <a:off x="5543640" y="2457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543640" y="2276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2916360" y="4905360"/>
              <a:ext cx="215280" cy="271440"/>
              <a:chOff x="2916360" y="4905360"/>
              <a:chExt cx="215280" cy="271440"/>
            </a:xfrm>
          </p:grpSpPr>
          <p:sp>
            <p:nvSpPr>
              <p:cNvPr id="390" name=""/>
              <p:cNvSpPr/>
              <p:nvPr/>
            </p:nvSpPr>
            <p:spPr>
              <a:xfrm>
                <a:off x="3097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16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2664000" y="4257720"/>
              <a:ext cx="720720" cy="720720"/>
              <a:chOff x="2664000" y="4257720"/>
              <a:chExt cx="720720" cy="720720"/>
            </a:xfrm>
          </p:grpSpPr>
          <p:sp>
            <p:nvSpPr>
              <p:cNvPr id="393" name=""/>
              <p:cNvSpPr/>
              <p:nvPr/>
            </p:nvSpPr>
            <p:spPr>
              <a:xfrm>
                <a:off x="2808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2664000" y="4257720"/>
                <a:ext cx="720720" cy="720720"/>
                <a:chOff x="2664000" y="4257720"/>
                <a:chExt cx="720720" cy="720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2987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311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987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64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9" name=""/>
            <p:cNvGrpSpPr/>
            <p:nvPr/>
          </p:nvGrpSpPr>
          <p:grpSpPr>
            <a:xfrm>
              <a:off x="2664000" y="2023920"/>
              <a:ext cx="720720" cy="720720"/>
              <a:chOff x="2664000" y="2023920"/>
              <a:chExt cx="720720" cy="720720"/>
            </a:xfrm>
          </p:grpSpPr>
          <p:sp>
            <p:nvSpPr>
              <p:cNvPr id="400" name=""/>
              <p:cNvSpPr/>
              <p:nvPr/>
            </p:nvSpPr>
            <p:spPr>
              <a:xfrm>
                <a:off x="2808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2664000" y="2023920"/>
                <a:ext cx="720720" cy="720720"/>
                <a:chOff x="2664000" y="2023920"/>
                <a:chExt cx="720720" cy="7207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987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311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987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64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4896000" y="2023920"/>
              <a:ext cx="720720" cy="720720"/>
              <a:chOff x="4896000" y="2023920"/>
              <a:chExt cx="720720" cy="720720"/>
            </a:xfrm>
          </p:grpSpPr>
          <p:sp>
            <p:nvSpPr>
              <p:cNvPr id="407" name=""/>
              <p:cNvSpPr/>
              <p:nvPr/>
            </p:nvSpPr>
            <p:spPr>
              <a:xfrm>
                <a:off x="5040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4896000" y="2023920"/>
                <a:ext cx="720720" cy="720720"/>
                <a:chOff x="4896000" y="2023920"/>
                <a:chExt cx="720720" cy="7207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5219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5543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5219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896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4896000" y="4257720"/>
              <a:ext cx="720720" cy="720720"/>
              <a:chOff x="4896000" y="4257720"/>
              <a:chExt cx="720720" cy="720720"/>
            </a:xfrm>
          </p:grpSpPr>
          <p:sp>
            <p:nvSpPr>
              <p:cNvPr id="414" name=""/>
              <p:cNvSpPr/>
              <p:nvPr/>
            </p:nvSpPr>
            <p:spPr>
              <a:xfrm>
                <a:off x="5040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4896000" y="4257720"/>
                <a:ext cx="720720" cy="720720"/>
                <a:chOff x="4896000" y="4257720"/>
                <a:chExt cx="720720" cy="72072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5219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543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219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896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" name=""/>
            <p:cNvGrpSpPr/>
            <p:nvPr/>
          </p:nvGrpSpPr>
          <p:grpSpPr>
            <a:xfrm>
              <a:off x="5148360" y="3789720"/>
              <a:ext cx="215280" cy="541440"/>
              <a:chOff x="5148360" y="3789720"/>
              <a:chExt cx="215280" cy="541440"/>
            </a:xfrm>
          </p:grpSpPr>
          <p:sp>
            <p:nvSpPr>
              <p:cNvPr id="421" name=""/>
              <p:cNvSpPr/>
              <p:nvPr/>
            </p:nvSpPr>
            <p:spPr>
              <a:xfrm rot="16200000">
                <a:off x="5075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5400000">
                <a:off x="4894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916360" y="3789720"/>
              <a:ext cx="215280" cy="541440"/>
              <a:chOff x="2916360" y="3789720"/>
              <a:chExt cx="215280" cy="541440"/>
            </a:xfrm>
          </p:grpSpPr>
          <p:sp>
            <p:nvSpPr>
              <p:cNvPr id="424" name=""/>
              <p:cNvSpPr/>
              <p:nvPr/>
            </p:nvSpPr>
            <p:spPr>
              <a:xfrm rot="16200000">
                <a:off x="2843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5400000">
                <a:off x="2662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916360" y="2673720"/>
              <a:ext cx="215280" cy="541440"/>
              <a:chOff x="2916360" y="2673720"/>
              <a:chExt cx="215280" cy="541440"/>
            </a:xfrm>
          </p:grpSpPr>
          <p:sp>
            <p:nvSpPr>
              <p:cNvPr id="427" name=""/>
              <p:cNvSpPr/>
              <p:nvPr/>
            </p:nvSpPr>
            <p:spPr>
              <a:xfrm rot="16200000">
                <a:off x="2843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5400000">
                <a:off x="2662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48360" y="2673720"/>
              <a:ext cx="215280" cy="541440"/>
              <a:chOff x="5148360" y="2673720"/>
              <a:chExt cx="215280" cy="541440"/>
            </a:xfrm>
          </p:grpSpPr>
          <p:sp>
            <p:nvSpPr>
              <p:cNvPr id="430" name=""/>
              <p:cNvSpPr/>
              <p:nvPr/>
            </p:nvSpPr>
            <p:spPr>
              <a:xfrm rot="16200000">
                <a:off x="5075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5400000">
                <a:off x="4894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3311280" y="2276280"/>
              <a:ext cx="541440" cy="216000"/>
              <a:chOff x="3311280" y="2276280"/>
              <a:chExt cx="541440" cy="216000"/>
            </a:xfrm>
          </p:grpSpPr>
          <p:sp>
            <p:nvSpPr>
              <p:cNvPr id="433" name=""/>
              <p:cNvSpPr/>
              <p:nvPr/>
            </p:nvSpPr>
            <p:spPr>
              <a:xfrm>
                <a:off x="3311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0800000">
                <a:off x="3311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427280" y="2276280"/>
              <a:ext cx="541440" cy="216000"/>
              <a:chOff x="4427280" y="2276280"/>
              <a:chExt cx="541440" cy="216000"/>
            </a:xfrm>
          </p:grpSpPr>
          <p:sp>
            <p:nvSpPr>
              <p:cNvPr id="436" name=""/>
              <p:cNvSpPr/>
              <p:nvPr/>
            </p:nvSpPr>
            <p:spPr>
              <a:xfrm>
                <a:off x="4427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0800000">
                <a:off x="4427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3311280" y="4508280"/>
              <a:ext cx="541440" cy="216000"/>
              <a:chOff x="3311280" y="4508280"/>
              <a:chExt cx="541440" cy="216000"/>
            </a:xfrm>
          </p:grpSpPr>
          <p:sp>
            <p:nvSpPr>
              <p:cNvPr id="439" name=""/>
              <p:cNvSpPr/>
              <p:nvPr/>
            </p:nvSpPr>
            <p:spPr>
              <a:xfrm>
                <a:off x="3311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0800000">
                <a:off x="3311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4427280" y="4508280"/>
              <a:ext cx="541440" cy="216000"/>
              <a:chOff x="4427280" y="4508280"/>
              <a:chExt cx="541440" cy="216000"/>
            </a:xfrm>
          </p:grpSpPr>
          <p:sp>
            <p:nvSpPr>
              <p:cNvPr id="442" name=""/>
              <p:cNvSpPr/>
              <p:nvPr/>
            </p:nvSpPr>
            <p:spPr>
              <a:xfrm>
                <a:off x="4427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0800000">
                <a:off x="4427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148360" y="1808280"/>
              <a:ext cx="215280" cy="271440"/>
              <a:chOff x="5148360" y="1808280"/>
              <a:chExt cx="215280" cy="271440"/>
            </a:xfrm>
          </p:grpSpPr>
          <p:sp>
            <p:nvSpPr>
              <p:cNvPr id="445" name=""/>
              <p:cNvSpPr/>
              <p:nvPr/>
            </p:nvSpPr>
            <p:spPr>
              <a:xfrm>
                <a:off x="5329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148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4032360" y="1808280"/>
              <a:ext cx="215280" cy="271440"/>
              <a:chOff x="4032360" y="1808280"/>
              <a:chExt cx="215280" cy="271440"/>
            </a:xfrm>
          </p:grpSpPr>
          <p:sp>
            <p:nvSpPr>
              <p:cNvPr id="448" name=""/>
              <p:cNvSpPr/>
              <p:nvPr/>
            </p:nvSpPr>
            <p:spPr>
              <a:xfrm>
                <a:off x="4213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2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2916360" y="1808280"/>
              <a:ext cx="215280" cy="271440"/>
              <a:chOff x="2916360" y="1808280"/>
              <a:chExt cx="215280" cy="271440"/>
            </a:xfrm>
          </p:grpSpPr>
          <p:sp>
            <p:nvSpPr>
              <p:cNvPr id="451" name=""/>
              <p:cNvSpPr/>
              <p:nvPr/>
            </p:nvSpPr>
            <p:spPr>
              <a:xfrm>
                <a:off x="3097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916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4032360" y="4905360"/>
              <a:ext cx="215280" cy="271440"/>
              <a:chOff x="4032360" y="4905360"/>
              <a:chExt cx="215280" cy="271440"/>
            </a:xfrm>
          </p:grpSpPr>
          <p:sp>
            <p:nvSpPr>
              <p:cNvPr id="454" name=""/>
              <p:cNvSpPr/>
              <p:nvPr/>
            </p:nvSpPr>
            <p:spPr>
              <a:xfrm>
                <a:off x="4213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032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5148360" y="4905360"/>
              <a:ext cx="215280" cy="271440"/>
              <a:chOff x="5148360" y="4905360"/>
              <a:chExt cx="215280" cy="271440"/>
            </a:xfrm>
          </p:grpSpPr>
          <p:sp>
            <p:nvSpPr>
              <p:cNvPr id="457" name=""/>
              <p:cNvSpPr/>
              <p:nvPr/>
            </p:nvSpPr>
            <p:spPr>
              <a:xfrm>
                <a:off x="5329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148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2448000" y="4508640"/>
              <a:ext cx="272880" cy="215640"/>
              <a:chOff x="2448000" y="4508640"/>
              <a:chExt cx="272880" cy="215640"/>
            </a:xfrm>
          </p:grpSpPr>
          <p:sp>
            <p:nvSpPr>
              <p:cNvPr id="460" name=""/>
              <p:cNvSpPr/>
              <p:nvPr/>
            </p:nvSpPr>
            <p:spPr>
              <a:xfrm>
                <a:off x="2449440" y="4689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48000" y="4508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543640" y="3392640"/>
              <a:ext cx="271440" cy="215640"/>
              <a:chOff x="5543640" y="3392640"/>
              <a:chExt cx="271440" cy="215640"/>
            </a:xfrm>
          </p:grpSpPr>
          <p:sp>
            <p:nvSpPr>
              <p:cNvPr id="463" name=""/>
              <p:cNvSpPr/>
              <p:nvPr/>
            </p:nvSpPr>
            <p:spPr>
              <a:xfrm>
                <a:off x="5543640" y="3573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43640" y="3392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543640" y="4508640"/>
              <a:ext cx="271440" cy="215640"/>
              <a:chOff x="5543640" y="4508640"/>
              <a:chExt cx="271440" cy="215640"/>
            </a:xfrm>
          </p:grpSpPr>
          <p:sp>
            <p:nvSpPr>
              <p:cNvPr id="466" name=""/>
              <p:cNvSpPr/>
              <p:nvPr/>
            </p:nvSpPr>
            <p:spPr>
              <a:xfrm>
                <a:off x="5543640" y="4689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43640" y="4508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448000" y="3392640"/>
              <a:ext cx="272880" cy="215640"/>
              <a:chOff x="2448000" y="3392640"/>
              <a:chExt cx="272880" cy="215640"/>
            </a:xfrm>
          </p:grpSpPr>
          <p:sp>
            <p:nvSpPr>
              <p:cNvPr id="469" name=""/>
              <p:cNvSpPr/>
              <p:nvPr/>
            </p:nvSpPr>
            <p:spPr>
              <a:xfrm>
                <a:off x="2449440" y="3573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448000" y="3392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2448000" y="2276640"/>
              <a:ext cx="272880" cy="215640"/>
              <a:chOff x="2448000" y="2276640"/>
              <a:chExt cx="272880" cy="215640"/>
            </a:xfrm>
          </p:grpSpPr>
          <p:sp>
            <p:nvSpPr>
              <p:cNvPr id="472" name=""/>
              <p:cNvSpPr/>
              <p:nvPr/>
            </p:nvSpPr>
            <p:spPr>
              <a:xfrm>
                <a:off x="2449440" y="2457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448000" y="2276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3781800" y="3105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067280" y="3789360"/>
            <a:ext cx="144360" cy="14436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046520" y="1197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in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10800" y="119700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ción de un campo 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693440" y="1773360"/>
            <a:ext cx="4901760" cy="3448080"/>
            <a:chOff x="1693440" y="1773360"/>
            <a:chExt cx="4901760" cy="3448080"/>
          </a:xfrm>
        </p:grpSpPr>
        <p:sp>
          <p:nvSpPr>
            <p:cNvPr id="479" name=""/>
            <p:cNvSpPr/>
            <p:nvPr/>
          </p:nvSpPr>
          <p:spPr>
            <a:xfrm>
              <a:off x="6265080" y="1773360"/>
              <a:ext cx="33012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3440" y="1773360"/>
              <a:ext cx="266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5543640" y="4076640"/>
            <a:ext cx="2156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51280" y="3753000"/>
            <a:ext cx="144360" cy="144360"/>
          </a:xfrm>
          <a:prstGeom prst="ellipse">
            <a:avLst/>
          </a:prstGeom>
          <a:noFill/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49600" y="3105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663640" y="3824280"/>
            <a:ext cx="21564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6.93642E-007 L 0.33455 0.00532 E">
                                      <p:cBhvr>
                                        <p:cTn id="154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0.00023 C 0.01875 0.0081 0.03802 0.0169 0.05833 0.01806 C 0.07882 0.01921 0.11163 0.00718 0.12205 0.00602 E">
                                      <p:cBhvr>
                                        <p:cTn id="16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76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046520" y="1197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in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610800" y="119700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cción de un campo eléctr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26920" y="1844640"/>
            <a:ext cx="7993080" cy="26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Conclus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 corriente en un semiconductor es debida a dos tipos de portadores de carga: 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HUECOS y ELECTRONE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0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 temperatura afecta fuertemente a las propiedades eléctricas de los semiconduc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yor temperatura </a:t>
            </a:r>
            <a:r>
              <a:rPr b="1" i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más portadores de carga </a:t>
            </a:r>
            <a:r>
              <a:rPr b="1" i="1" lang="en-US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menor resist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46160" y="1197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ex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10364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427640" y="346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103640" y="378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80000" y="346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2664000" y="2023920"/>
            <a:ext cx="2952720" cy="2954520"/>
            <a:chOff x="2664000" y="2023920"/>
            <a:chExt cx="2952720" cy="2954520"/>
          </a:xfrm>
        </p:grpSpPr>
        <p:grpSp>
          <p:nvGrpSpPr>
            <p:cNvPr id="497" name=""/>
            <p:cNvGrpSpPr/>
            <p:nvPr/>
          </p:nvGrpSpPr>
          <p:grpSpPr>
            <a:xfrm>
              <a:off x="3780000" y="2023920"/>
              <a:ext cx="720720" cy="720720"/>
              <a:chOff x="3780000" y="2023920"/>
              <a:chExt cx="720720" cy="720720"/>
            </a:xfrm>
          </p:grpSpPr>
          <p:sp>
            <p:nvSpPr>
              <p:cNvPr id="498" name=""/>
              <p:cNvSpPr/>
              <p:nvPr/>
            </p:nvSpPr>
            <p:spPr>
              <a:xfrm>
                <a:off x="3924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3780000" y="2023920"/>
                <a:ext cx="720720" cy="720720"/>
                <a:chOff x="3780000" y="2023920"/>
                <a:chExt cx="720720" cy="7207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103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427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4103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780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4" name=""/>
            <p:cNvGrpSpPr/>
            <p:nvPr/>
          </p:nvGrpSpPr>
          <p:grpSpPr>
            <a:xfrm>
              <a:off x="4896000" y="3141720"/>
              <a:ext cx="720720" cy="720720"/>
              <a:chOff x="4896000" y="3141720"/>
              <a:chExt cx="720720" cy="720720"/>
            </a:xfrm>
          </p:grpSpPr>
          <p:sp>
            <p:nvSpPr>
              <p:cNvPr id="505" name=""/>
              <p:cNvSpPr/>
              <p:nvPr/>
            </p:nvSpPr>
            <p:spPr>
              <a:xfrm>
                <a:off x="5040720" y="3284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4896000" y="3141720"/>
                <a:ext cx="720720" cy="720720"/>
                <a:chOff x="4896000" y="3141720"/>
                <a:chExt cx="720720" cy="72072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5219640" y="3141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543640" y="346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219640" y="3789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896000" y="3465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3780000" y="4257720"/>
              <a:ext cx="720720" cy="720720"/>
              <a:chOff x="3780000" y="4257720"/>
              <a:chExt cx="720720" cy="720720"/>
            </a:xfrm>
          </p:grpSpPr>
          <p:sp>
            <p:nvSpPr>
              <p:cNvPr id="512" name=""/>
              <p:cNvSpPr/>
              <p:nvPr/>
            </p:nvSpPr>
            <p:spPr>
              <a:xfrm>
                <a:off x="3924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3" name=""/>
              <p:cNvGrpSpPr/>
              <p:nvPr/>
            </p:nvGrpSpPr>
            <p:grpSpPr>
              <a:xfrm>
                <a:off x="3780000" y="4257720"/>
                <a:ext cx="720720" cy="720720"/>
                <a:chOff x="3780000" y="4257720"/>
                <a:chExt cx="720720" cy="72072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103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427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103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780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"/>
            <p:cNvGrpSpPr/>
            <p:nvPr/>
          </p:nvGrpSpPr>
          <p:grpSpPr>
            <a:xfrm>
              <a:off x="2664000" y="3141720"/>
              <a:ext cx="720720" cy="720720"/>
              <a:chOff x="2664000" y="3141720"/>
              <a:chExt cx="720720" cy="720720"/>
            </a:xfrm>
          </p:grpSpPr>
          <p:sp>
            <p:nvSpPr>
              <p:cNvPr id="519" name=""/>
              <p:cNvSpPr/>
              <p:nvPr/>
            </p:nvSpPr>
            <p:spPr>
              <a:xfrm>
                <a:off x="2808720" y="3284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2664000" y="3141720"/>
                <a:ext cx="720720" cy="720720"/>
                <a:chOff x="2664000" y="3141720"/>
                <a:chExt cx="720720" cy="72072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2987640" y="3141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11640" y="346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987640" y="3789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664000" y="3465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5" name=""/>
          <p:cNvGrpSpPr/>
          <p:nvPr/>
        </p:nvGrpSpPr>
        <p:grpSpPr>
          <a:xfrm>
            <a:off x="3311280" y="2673720"/>
            <a:ext cx="1657440" cy="1657440"/>
            <a:chOff x="3311280" y="2673720"/>
            <a:chExt cx="1657440" cy="1657440"/>
          </a:xfrm>
        </p:grpSpPr>
        <p:grpSp>
          <p:nvGrpSpPr>
            <p:cNvPr id="526" name=""/>
            <p:cNvGrpSpPr/>
            <p:nvPr/>
          </p:nvGrpSpPr>
          <p:grpSpPr>
            <a:xfrm>
              <a:off x="4427280" y="3392280"/>
              <a:ext cx="541440" cy="216000"/>
              <a:chOff x="4427280" y="3392280"/>
              <a:chExt cx="541440" cy="216000"/>
            </a:xfrm>
          </p:grpSpPr>
          <p:sp>
            <p:nvSpPr>
              <p:cNvPr id="527" name=""/>
              <p:cNvSpPr/>
              <p:nvPr/>
            </p:nvSpPr>
            <p:spPr>
              <a:xfrm>
                <a:off x="4427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10800000">
                <a:off x="4427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4032360" y="3789720"/>
              <a:ext cx="215280" cy="541440"/>
              <a:chOff x="4032360" y="3789720"/>
              <a:chExt cx="215280" cy="541440"/>
            </a:xfrm>
          </p:grpSpPr>
          <p:sp>
            <p:nvSpPr>
              <p:cNvPr id="530" name=""/>
              <p:cNvSpPr/>
              <p:nvPr/>
            </p:nvSpPr>
            <p:spPr>
              <a:xfrm rot="16200000">
                <a:off x="3959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rot="5400000">
                <a:off x="3778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3311280" y="3392280"/>
              <a:ext cx="541440" cy="216000"/>
              <a:chOff x="3311280" y="3392280"/>
              <a:chExt cx="541440" cy="216000"/>
            </a:xfrm>
          </p:grpSpPr>
          <p:sp>
            <p:nvSpPr>
              <p:cNvPr id="533" name=""/>
              <p:cNvSpPr/>
              <p:nvPr/>
            </p:nvSpPr>
            <p:spPr>
              <a:xfrm>
                <a:off x="3311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rot="10800000">
                <a:off x="3311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4032360" y="2673720"/>
              <a:ext cx="215280" cy="541440"/>
              <a:chOff x="4032360" y="2673720"/>
              <a:chExt cx="215280" cy="541440"/>
            </a:xfrm>
          </p:grpSpPr>
          <p:sp>
            <p:nvSpPr>
              <p:cNvPr id="536" name=""/>
              <p:cNvSpPr/>
              <p:nvPr/>
            </p:nvSpPr>
            <p:spPr>
              <a:xfrm rot="16200000">
                <a:off x="3959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5400000">
                <a:off x="3778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2448000" y="1808280"/>
            <a:ext cx="3367080" cy="3368520"/>
            <a:chOff x="2448000" y="1808280"/>
            <a:chExt cx="3367080" cy="3368520"/>
          </a:xfrm>
        </p:grpSpPr>
        <p:grpSp>
          <p:nvGrpSpPr>
            <p:cNvPr id="539" name=""/>
            <p:cNvGrpSpPr/>
            <p:nvPr/>
          </p:nvGrpSpPr>
          <p:grpSpPr>
            <a:xfrm>
              <a:off x="5543640" y="2276640"/>
              <a:ext cx="271440" cy="215640"/>
              <a:chOff x="5543640" y="2276640"/>
              <a:chExt cx="271440" cy="215640"/>
            </a:xfrm>
          </p:grpSpPr>
          <p:sp>
            <p:nvSpPr>
              <p:cNvPr id="540" name=""/>
              <p:cNvSpPr/>
              <p:nvPr/>
            </p:nvSpPr>
            <p:spPr>
              <a:xfrm>
                <a:off x="5543640" y="2457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543640" y="2276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2916360" y="4905360"/>
              <a:ext cx="215280" cy="271440"/>
              <a:chOff x="2916360" y="4905360"/>
              <a:chExt cx="215280" cy="271440"/>
            </a:xfrm>
          </p:grpSpPr>
          <p:sp>
            <p:nvSpPr>
              <p:cNvPr id="543" name=""/>
              <p:cNvSpPr/>
              <p:nvPr/>
            </p:nvSpPr>
            <p:spPr>
              <a:xfrm>
                <a:off x="3097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916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2664000" y="4257720"/>
              <a:ext cx="720720" cy="720720"/>
              <a:chOff x="2664000" y="4257720"/>
              <a:chExt cx="720720" cy="720720"/>
            </a:xfrm>
          </p:grpSpPr>
          <p:sp>
            <p:nvSpPr>
              <p:cNvPr id="546" name=""/>
              <p:cNvSpPr/>
              <p:nvPr/>
            </p:nvSpPr>
            <p:spPr>
              <a:xfrm>
                <a:off x="2808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2664000" y="4257720"/>
                <a:ext cx="720720" cy="720720"/>
                <a:chOff x="2664000" y="4257720"/>
                <a:chExt cx="720720" cy="7207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2987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311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987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664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2664000" y="2023920"/>
              <a:ext cx="720720" cy="720720"/>
              <a:chOff x="2664000" y="2023920"/>
              <a:chExt cx="720720" cy="720720"/>
            </a:xfrm>
          </p:grpSpPr>
          <p:sp>
            <p:nvSpPr>
              <p:cNvPr id="553" name=""/>
              <p:cNvSpPr/>
              <p:nvPr/>
            </p:nvSpPr>
            <p:spPr>
              <a:xfrm>
                <a:off x="2808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4" name=""/>
              <p:cNvGrpSpPr/>
              <p:nvPr/>
            </p:nvGrpSpPr>
            <p:grpSpPr>
              <a:xfrm>
                <a:off x="2664000" y="2023920"/>
                <a:ext cx="720720" cy="720720"/>
                <a:chOff x="2664000" y="2023920"/>
                <a:chExt cx="720720" cy="720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2987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311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987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664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"/>
            <p:cNvGrpSpPr/>
            <p:nvPr/>
          </p:nvGrpSpPr>
          <p:grpSpPr>
            <a:xfrm>
              <a:off x="4896000" y="2023920"/>
              <a:ext cx="720720" cy="720720"/>
              <a:chOff x="4896000" y="2023920"/>
              <a:chExt cx="720720" cy="720720"/>
            </a:xfrm>
          </p:grpSpPr>
          <p:sp>
            <p:nvSpPr>
              <p:cNvPr id="560" name=""/>
              <p:cNvSpPr/>
              <p:nvPr/>
            </p:nvSpPr>
            <p:spPr>
              <a:xfrm>
                <a:off x="5040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4896000" y="2023920"/>
                <a:ext cx="720720" cy="720720"/>
                <a:chOff x="4896000" y="2023920"/>
                <a:chExt cx="720720" cy="7207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5219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543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219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4896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6" name=""/>
            <p:cNvGrpSpPr/>
            <p:nvPr/>
          </p:nvGrpSpPr>
          <p:grpSpPr>
            <a:xfrm>
              <a:off x="4896000" y="4257720"/>
              <a:ext cx="720720" cy="720720"/>
              <a:chOff x="4896000" y="4257720"/>
              <a:chExt cx="720720" cy="720720"/>
            </a:xfrm>
          </p:grpSpPr>
          <p:sp>
            <p:nvSpPr>
              <p:cNvPr id="567" name=""/>
              <p:cNvSpPr/>
              <p:nvPr/>
            </p:nvSpPr>
            <p:spPr>
              <a:xfrm>
                <a:off x="5040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4896000" y="4257720"/>
                <a:ext cx="720720" cy="720720"/>
                <a:chOff x="4896000" y="4257720"/>
                <a:chExt cx="720720" cy="72072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5219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5543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219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896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3" name=""/>
            <p:cNvGrpSpPr/>
            <p:nvPr/>
          </p:nvGrpSpPr>
          <p:grpSpPr>
            <a:xfrm>
              <a:off x="5148360" y="3789720"/>
              <a:ext cx="215280" cy="541440"/>
              <a:chOff x="5148360" y="3789720"/>
              <a:chExt cx="215280" cy="541440"/>
            </a:xfrm>
          </p:grpSpPr>
          <p:sp>
            <p:nvSpPr>
              <p:cNvPr id="574" name=""/>
              <p:cNvSpPr/>
              <p:nvPr/>
            </p:nvSpPr>
            <p:spPr>
              <a:xfrm rot="16200000">
                <a:off x="5075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5400000">
                <a:off x="4894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2916360" y="3789720"/>
              <a:ext cx="215280" cy="541440"/>
              <a:chOff x="2916360" y="3789720"/>
              <a:chExt cx="215280" cy="541440"/>
            </a:xfrm>
          </p:grpSpPr>
          <p:sp>
            <p:nvSpPr>
              <p:cNvPr id="577" name=""/>
              <p:cNvSpPr/>
              <p:nvPr/>
            </p:nvSpPr>
            <p:spPr>
              <a:xfrm rot="16200000">
                <a:off x="2843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2662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916360" y="2673720"/>
              <a:ext cx="215280" cy="541440"/>
              <a:chOff x="2916360" y="2673720"/>
              <a:chExt cx="215280" cy="541440"/>
            </a:xfrm>
          </p:grpSpPr>
          <p:sp>
            <p:nvSpPr>
              <p:cNvPr id="580" name=""/>
              <p:cNvSpPr/>
              <p:nvPr/>
            </p:nvSpPr>
            <p:spPr>
              <a:xfrm rot="16200000">
                <a:off x="2843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400000">
                <a:off x="2662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5148360" y="2673720"/>
              <a:ext cx="215280" cy="541440"/>
              <a:chOff x="5148360" y="2673720"/>
              <a:chExt cx="215280" cy="541440"/>
            </a:xfrm>
          </p:grpSpPr>
          <p:sp>
            <p:nvSpPr>
              <p:cNvPr id="583" name=""/>
              <p:cNvSpPr/>
              <p:nvPr/>
            </p:nvSpPr>
            <p:spPr>
              <a:xfrm rot="16200000">
                <a:off x="5075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rot="5400000">
                <a:off x="4894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3311280" y="2276280"/>
              <a:ext cx="541440" cy="216000"/>
              <a:chOff x="3311280" y="2276280"/>
              <a:chExt cx="541440" cy="216000"/>
            </a:xfrm>
          </p:grpSpPr>
          <p:sp>
            <p:nvSpPr>
              <p:cNvPr id="586" name=""/>
              <p:cNvSpPr/>
              <p:nvPr/>
            </p:nvSpPr>
            <p:spPr>
              <a:xfrm>
                <a:off x="3311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rot="10800000">
                <a:off x="3311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4427280" y="2276280"/>
              <a:ext cx="541440" cy="216000"/>
              <a:chOff x="4427280" y="2276280"/>
              <a:chExt cx="541440" cy="216000"/>
            </a:xfrm>
          </p:grpSpPr>
          <p:sp>
            <p:nvSpPr>
              <p:cNvPr id="589" name=""/>
              <p:cNvSpPr/>
              <p:nvPr/>
            </p:nvSpPr>
            <p:spPr>
              <a:xfrm>
                <a:off x="4427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10800000">
                <a:off x="4427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3311280" y="4508280"/>
              <a:ext cx="541440" cy="216000"/>
              <a:chOff x="3311280" y="4508280"/>
              <a:chExt cx="541440" cy="216000"/>
            </a:xfrm>
          </p:grpSpPr>
          <p:sp>
            <p:nvSpPr>
              <p:cNvPr id="592" name=""/>
              <p:cNvSpPr/>
              <p:nvPr/>
            </p:nvSpPr>
            <p:spPr>
              <a:xfrm>
                <a:off x="3311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10800000">
                <a:off x="3311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427280" y="4508280"/>
              <a:ext cx="541440" cy="216000"/>
              <a:chOff x="4427280" y="4508280"/>
              <a:chExt cx="541440" cy="216000"/>
            </a:xfrm>
          </p:grpSpPr>
          <p:sp>
            <p:nvSpPr>
              <p:cNvPr id="595" name=""/>
              <p:cNvSpPr/>
              <p:nvPr/>
            </p:nvSpPr>
            <p:spPr>
              <a:xfrm>
                <a:off x="4427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0800000">
                <a:off x="4427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5148360" y="1808280"/>
              <a:ext cx="215280" cy="271440"/>
              <a:chOff x="5148360" y="1808280"/>
              <a:chExt cx="215280" cy="271440"/>
            </a:xfrm>
          </p:grpSpPr>
          <p:sp>
            <p:nvSpPr>
              <p:cNvPr id="598" name=""/>
              <p:cNvSpPr/>
              <p:nvPr/>
            </p:nvSpPr>
            <p:spPr>
              <a:xfrm>
                <a:off x="5329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148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4032360" y="1808280"/>
              <a:ext cx="215280" cy="271440"/>
              <a:chOff x="4032360" y="1808280"/>
              <a:chExt cx="215280" cy="271440"/>
            </a:xfrm>
          </p:grpSpPr>
          <p:sp>
            <p:nvSpPr>
              <p:cNvPr id="601" name=""/>
              <p:cNvSpPr/>
              <p:nvPr/>
            </p:nvSpPr>
            <p:spPr>
              <a:xfrm>
                <a:off x="4213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032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2916360" y="1808280"/>
              <a:ext cx="215280" cy="271440"/>
              <a:chOff x="2916360" y="1808280"/>
              <a:chExt cx="215280" cy="271440"/>
            </a:xfrm>
          </p:grpSpPr>
          <p:sp>
            <p:nvSpPr>
              <p:cNvPr id="604" name=""/>
              <p:cNvSpPr/>
              <p:nvPr/>
            </p:nvSpPr>
            <p:spPr>
              <a:xfrm>
                <a:off x="3097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916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032360" y="4905360"/>
              <a:ext cx="215280" cy="271440"/>
              <a:chOff x="4032360" y="4905360"/>
              <a:chExt cx="215280" cy="271440"/>
            </a:xfrm>
          </p:grpSpPr>
          <p:sp>
            <p:nvSpPr>
              <p:cNvPr id="607" name=""/>
              <p:cNvSpPr/>
              <p:nvPr/>
            </p:nvSpPr>
            <p:spPr>
              <a:xfrm>
                <a:off x="4213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032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5148360" y="4905360"/>
              <a:ext cx="215280" cy="271440"/>
              <a:chOff x="5148360" y="4905360"/>
              <a:chExt cx="215280" cy="271440"/>
            </a:xfrm>
          </p:grpSpPr>
          <p:sp>
            <p:nvSpPr>
              <p:cNvPr id="610" name=""/>
              <p:cNvSpPr/>
              <p:nvPr/>
            </p:nvSpPr>
            <p:spPr>
              <a:xfrm>
                <a:off x="5329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48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2448000" y="4508640"/>
              <a:ext cx="272880" cy="215640"/>
              <a:chOff x="2448000" y="4508640"/>
              <a:chExt cx="272880" cy="215640"/>
            </a:xfrm>
          </p:grpSpPr>
          <p:sp>
            <p:nvSpPr>
              <p:cNvPr id="613" name=""/>
              <p:cNvSpPr/>
              <p:nvPr/>
            </p:nvSpPr>
            <p:spPr>
              <a:xfrm>
                <a:off x="2449440" y="4689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448000" y="4508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5543640" y="3392640"/>
              <a:ext cx="271440" cy="215640"/>
              <a:chOff x="5543640" y="3392640"/>
              <a:chExt cx="271440" cy="215640"/>
            </a:xfrm>
          </p:grpSpPr>
          <p:sp>
            <p:nvSpPr>
              <p:cNvPr id="616" name=""/>
              <p:cNvSpPr/>
              <p:nvPr/>
            </p:nvSpPr>
            <p:spPr>
              <a:xfrm>
                <a:off x="5543640" y="3573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43640" y="3392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543640" y="4508640"/>
              <a:ext cx="271440" cy="215640"/>
              <a:chOff x="5543640" y="4508640"/>
              <a:chExt cx="271440" cy="215640"/>
            </a:xfrm>
          </p:grpSpPr>
          <p:sp>
            <p:nvSpPr>
              <p:cNvPr id="619" name=""/>
              <p:cNvSpPr/>
              <p:nvPr/>
            </p:nvSpPr>
            <p:spPr>
              <a:xfrm>
                <a:off x="5543640" y="4689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43640" y="4508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2448000" y="3392640"/>
              <a:ext cx="272880" cy="215640"/>
              <a:chOff x="2448000" y="3392640"/>
              <a:chExt cx="272880" cy="215640"/>
            </a:xfrm>
          </p:grpSpPr>
          <p:sp>
            <p:nvSpPr>
              <p:cNvPr id="622" name=""/>
              <p:cNvSpPr/>
              <p:nvPr/>
            </p:nvSpPr>
            <p:spPr>
              <a:xfrm>
                <a:off x="2449440" y="3573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48000" y="3392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448000" y="2276640"/>
              <a:ext cx="272880" cy="215640"/>
              <a:chOff x="2448000" y="2276640"/>
              <a:chExt cx="272880" cy="215640"/>
            </a:xfrm>
          </p:grpSpPr>
          <p:sp>
            <p:nvSpPr>
              <p:cNvPr id="625" name=""/>
              <p:cNvSpPr/>
              <p:nvPr/>
            </p:nvSpPr>
            <p:spPr>
              <a:xfrm>
                <a:off x="2449440" y="2457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48000" y="2276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7" name=""/>
          <p:cNvSpPr/>
          <p:nvPr/>
        </p:nvSpPr>
        <p:spPr>
          <a:xfrm>
            <a:off x="6551640" y="1916280"/>
            <a:ext cx="17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b: antimo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Impurezas del grupo V de la tabla perió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51280" y="3681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678840" y="1197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IP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51640" y="36910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a muy poca energía para ionizar el átomo de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99040" y="35733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640" y="5457960"/>
            <a:ext cx="90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temperatura ambiente todos los átomos de impurezas se encuentran ion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1.21387E-006 C -0.00034 0.01619 -0.00052 0.0326 -0.00954 0.04208 C -0.01857 0.05156 -0.03437 0.0548 -0.05399 0.05688 C -0.07361 0.05896 -0.10034 0.05688 -0.1269 0.0548 E">
                                      <p:cBhvr>
                                        <p:cTn id="24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53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046160" y="1197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ex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678840" y="11970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IPO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158920" y="1844640"/>
            <a:ext cx="4392720" cy="18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2340000" y="1881360"/>
            <a:ext cx="4140000" cy="1655640"/>
            <a:chOff x="2340000" y="1881360"/>
            <a:chExt cx="4140000" cy="1655640"/>
          </a:xfrm>
        </p:grpSpPr>
        <p:sp>
          <p:nvSpPr>
            <p:cNvPr id="639" name=""/>
            <p:cNvSpPr/>
            <p:nvPr/>
          </p:nvSpPr>
          <p:spPr>
            <a:xfrm>
              <a:off x="2340000" y="19526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64000" y="2529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11280" y="3249720"/>
              <a:ext cx="28764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51280" y="30686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816360" y="324972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92360" y="2673360"/>
              <a:ext cx="28764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76720" y="2023920"/>
              <a:ext cx="287280" cy="28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03640" y="2205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92720" y="28526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8000" y="191628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967280" y="32130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111640" y="249228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88000" y="317664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92720" y="270828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96000" y="224172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92720" y="1881360"/>
              <a:ext cx="287280" cy="287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80000" y="2349360"/>
            <a:ext cx="2185920" cy="358920"/>
            <a:chOff x="6480000" y="2349360"/>
            <a:chExt cx="2185920" cy="358920"/>
          </a:xfrm>
        </p:grpSpPr>
        <p:sp>
          <p:nvSpPr>
            <p:cNvPr id="656" name=""/>
            <p:cNvSpPr/>
            <p:nvPr/>
          </p:nvSpPr>
          <p:spPr>
            <a:xfrm>
              <a:off x="6770520" y="2349360"/>
              <a:ext cx="1895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mpurezas grupo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480000" y="2529000"/>
              <a:ext cx="324000" cy="1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7059600" y="29368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300º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340000" y="1881360"/>
            <a:ext cx="4140000" cy="1692000"/>
            <a:chOff x="2340000" y="1881360"/>
            <a:chExt cx="4140000" cy="1692000"/>
          </a:xfrm>
        </p:grpSpPr>
        <p:grpSp>
          <p:nvGrpSpPr>
            <p:cNvPr id="660" name=""/>
            <p:cNvGrpSpPr/>
            <p:nvPr/>
          </p:nvGrpSpPr>
          <p:grpSpPr>
            <a:xfrm>
              <a:off x="2340000" y="1881360"/>
              <a:ext cx="4140000" cy="1655640"/>
              <a:chOff x="2340000" y="1881360"/>
              <a:chExt cx="4140000" cy="1655640"/>
            </a:xfrm>
          </p:grpSpPr>
          <p:sp>
            <p:nvSpPr>
              <p:cNvPr id="661" name=""/>
              <p:cNvSpPr/>
              <p:nvPr/>
            </p:nvSpPr>
            <p:spPr>
              <a:xfrm>
                <a:off x="2340000" y="195264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64000" y="252900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411280" y="3249720"/>
                <a:ext cx="28764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951280" y="306864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16360" y="324972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492360" y="2673360"/>
                <a:ext cx="28764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276720" y="2023920"/>
                <a:ext cx="287280" cy="28764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103640" y="220500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92720" y="285264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88000" y="191628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67280" y="321300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11640" y="249228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688000" y="317664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92720" y="270828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796000" y="224172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92720" y="1881360"/>
                <a:ext cx="287280" cy="2872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771640" y="3465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19640" y="332100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56000" y="33926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400720" y="3500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64360" y="335772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80000" y="2960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72000" y="2313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40360" y="19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56360" y="19526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51280" y="2565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211640" y="2673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32360" y="1989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311640" y="2744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132000" y="2384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448000" y="27082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71640" y="202392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262160" y="3429000"/>
            <a:ext cx="2193840" cy="849240"/>
            <a:chOff x="1262160" y="3429000"/>
            <a:chExt cx="2193840" cy="849240"/>
          </a:xfrm>
        </p:grpSpPr>
        <p:sp>
          <p:nvSpPr>
            <p:cNvPr id="694" name=""/>
            <p:cNvSpPr/>
            <p:nvPr/>
          </p:nvSpPr>
          <p:spPr>
            <a:xfrm>
              <a:off x="1262160" y="390996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lectrones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95640" y="3429000"/>
              <a:ext cx="360360" cy="684360"/>
            </a:xfrm>
            <a:custGeom>
              <a:avLst/>
              <a:gdLst/>
              <a:ahLst/>
              <a:rect l="l" t="t" r="r" b="b"/>
              <a:pathLst>
                <a:path w="227" h="431">
                  <a:moveTo>
                    <a:pt x="0" y="431"/>
                  </a:moveTo>
                  <a:cubicBezTo>
                    <a:pt x="72" y="399"/>
                    <a:pt x="144" y="367"/>
                    <a:pt x="182" y="295"/>
                  </a:cubicBezTo>
                  <a:cubicBezTo>
                    <a:pt x="220" y="223"/>
                    <a:pt x="220" y="45"/>
                    <a:pt x="227" y="0"/>
                  </a:cubicBezTo>
                </a:path>
              </a:pathLst>
            </a:custGeom>
            <a:noFill/>
            <a:ln w="2844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4865760" y="3500280"/>
            <a:ext cx="3679560" cy="784440"/>
            <a:chOff x="4865760" y="3500280"/>
            <a:chExt cx="3679560" cy="784440"/>
          </a:xfrm>
        </p:grpSpPr>
        <p:sp>
          <p:nvSpPr>
            <p:cNvPr id="697" name=""/>
            <p:cNvSpPr/>
            <p:nvPr/>
          </p:nvSpPr>
          <p:spPr>
            <a:xfrm>
              <a:off x="5132160" y="3916440"/>
              <a:ext cx="34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Arial"/>
                </a:rPr>
                <a:t>Átomos de impurezas ioniz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865760" y="3500280"/>
              <a:ext cx="282600" cy="576360"/>
            </a:xfrm>
            <a:custGeom>
              <a:avLst/>
              <a:gdLst/>
              <a:ahLst/>
              <a:rect l="l" t="t" r="r" b="b"/>
              <a:pathLst>
                <a:path w="178" h="363">
                  <a:moveTo>
                    <a:pt x="178" y="363"/>
                  </a:moveTo>
                  <a:cubicBezTo>
                    <a:pt x="108" y="313"/>
                    <a:pt x="38" y="264"/>
                    <a:pt x="19" y="204"/>
                  </a:cubicBezTo>
                  <a:cubicBezTo>
                    <a:pt x="0" y="144"/>
                    <a:pt x="32" y="72"/>
                    <a:pt x="64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10560" y="494172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os portadores mayoritarios de carga en un semiconductor tipo N 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electrone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b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250920" y="69228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8000"/>
                </a:solidFill>
                <a:uFillTx/>
                <a:latin typeface="Arial"/>
              </a:rPr>
              <a:t>Introducción a la física de estado sólido: semicon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046160" y="119700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conductor extríns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10364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4427640" y="346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103640" y="378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780000" y="346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3780000" y="2023920"/>
            <a:ext cx="720720" cy="720720"/>
            <a:chOff x="3780000" y="2023920"/>
            <a:chExt cx="720720" cy="720720"/>
          </a:xfrm>
        </p:grpSpPr>
        <p:sp>
          <p:nvSpPr>
            <p:cNvPr id="708" name=""/>
            <p:cNvSpPr/>
            <p:nvPr/>
          </p:nvSpPr>
          <p:spPr>
            <a:xfrm>
              <a:off x="3924720" y="2166480"/>
              <a:ext cx="431640" cy="4320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3780000" y="2023920"/>
              <a:ext cx="720720" cy="720720"/>
              <a:chOff x="3780000" y="2023920"/>
              <a:chExt cx="720720" cy="720720"/>
            </a:xfrm>
          </p:grpSpPr>
          <p:sp>
            <p:nvSpPr>
              <p:cNvPr id="710" name=""/>
              <p:cNvSpPr/>
              <p:nvPr/>
            </p:nvSpPr>
            <p:spPr>
              <a:xfrm>
                <a:off x="4103640" y="20239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427640" y="2347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103640" y="26715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80000" y="23475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896000" y="3141720"/>
            <a:ext cx="720720" cy="720720"/>
            <a:chOff x="4896000" y="3141720"/>
            <a:chExt cx="720720" cy="720720"/>
          </a:xfrm>
        </p:grpSpPr>
        <p:sp>
          <p:nvSpPr>
            <p:cNvPr id="715" name=""/>
            <p:cNvSpPr/>
            <p:nvPr/>
          </p:nvSpPr>
          <p:spPr>
            <a:xfrm>
              <a:off x="5040720" y="3284280"/>
              <a:ext cx="431640" cy="4320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4896000" y="3141720"/>
              <a:ext cx="720720" cy="720720"/>
              <a:chOff x="4896000" y="3141720"/>
              <a:chExt cx="720720" cy="720720"/>
            </a:xfrm>
          </p:grpSpPr>
          <p:sp>
            <p:nvSpPr>
              <p:cNvPr id="717" name=""/>
              <p:cNvSpPr/>
              <p:nvPr/>
            </p:nvSpPr>
            <p:spPr>
              <a:xfrm>
                <a:off x="5219640" y="3141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43640" y="3465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219640" y="3789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896000" y="34653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3780000" y="4257720"/>
            <a:ext cx="720720" cy="720720"/>
            <a:chOff x="3780000" y="4257720"/>
            <a:chExt cx="720720" cy="720720"/>
          </a:xfrm>
        </p:grpSpPr>
        <p:sp>
          <p:nvSpPr>
            <p:cNvPr id="722" name=""/>
            <p:cNvSpPr/>
            <p:nvPr/>
          </p:nvSpPr>
          <p:spPr>
            <a:xfrm>
              <a:off x="3924720" y="4400280"/>
              <a:ext cx="431640" cy="43200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3780000" y="4257720"/>
              <a:ext cx="720720" cy="720720"/>
              <a:chOff x="3780000" y="4257720"/>
              <a:chExt cx="720720" cy="720720"/>
            </a:xfrm>
          </p:grpSpPr>
          <p:sp>
            <p:nvSpPr>
              <p:cNvPr id="724" name=""/>
              <p:cNvSpPr/>
              <p:nvPr/>
            </p:nvSpPr>
            <p:spPr>
              <a:xfrm>
                <a:off x="4103640" y="42577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427640" y="4581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103640" y="490536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780000" y="458136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8" name=""/>
          <p:cNvSpPr/>
          <p:nvPr/>
        </p:nvSpPr>
        <p:spPr>
          <a:xfrm>
            <a:off x="2808360" y="3284640"/>
            <a:ext cx="431640" cy="431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87640" y="3141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311640" y="3465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664000" y="346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3311280" y="2673720"/>
            <a:ext cx="1657440" cy="1657440"/>
            <a:chOff x="3311280" y="2673720"/>
            <a:chExt cx="1657440" cy="1657440"/>
          </a:xfrm>
        </p:grpSpPr>
        <p:grpSp>
          <p:nvGrpSpPr>
            <p:cNvPr id="733" name=""/>
            <p:cNvGrpSpPr/>
            <p:nvPr/>
          </p:nvGrpSpPr>
          <p:grpSpPr>
            <a:xfrm>
              <a:off x="4427280" y="3392280"/>
              <a:ext cx="541440" cy="216000"/>
              <a:chOff x="4427280" y="3392280"/>
              <a:chExt cx="541440" cy="216000"/>
            </a:xfrm>
          </p:grpSpPr>
          <p:sp>
            <p:nvSpPr>
              <p:cNvPr id="734" name=""/>
              <p:cNvSpPr/>
              <p:nvPr/>
            </p:nvSpPr>
            <p:spPr>
              <a:xfrm>
                <a:off x="4427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10800000">
                <a:off x="4427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4032360" y="3789720"/>
              <a:ext cx="215280" cy="541440"/>
              <a:chOff x="4032360" y="3789720"/>
              <a:chExt cx="215280" cy="541440"/>
            </a:xfrm>
          </p:grpSpPr>
          <p:sp>
            <p:nvSpPr>
              <p:cNvPr id="737" name=""/>
              <p:cNvSpPr/>
              <p:nvPr/>
            </p:nvSpPr>
            <p:spPr>
              <a:xfrm rot="16200000">
                <a:off x="3959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5400000">
                <a:off x="3778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3311280" y="3392280"/>
              <a:ext cx="541440" cy="216000"/>
              <a:chOff x="3311280" y="3392280"/>
              <a:chExt cx="541440" cy="216000"/>
            </a:xfrm>
          </p:grpSpPr>
          <p:sp>
            <p:nvSpPr>
              <p:cNvPr id="740" name=""/>
              <p:cNvSpPr/>
              <p:nvPr/>
            </p:nvSpPr>
            <p:spPr>
              <a:xfrm>
                <a:off x="3311640" y="3573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10800000">
                <a:off x="3311280" y="3392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4032360" y="2673720"/>
              <a:ext cx="215280" cy="541440"/>
              <a:chOff x="4032360" y="2673720"/>
              <a:chExt cx="215280" cy="541440"/>
            </a:xfrm>
          </p:grpSpPr>
          <p:sp>
            <p:nvSpPr>
              <p:cNvPr id="743" name=""/>
              <p:cNvSpPr/>
              <p:nvPr/>
            </p:nvSpPr>
            <p:spPr>
              <a:xfrm rot="16200000">
                <a:off x="3959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5400000">
                <a:off x="3778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5" name=""/>
          <p:cNvGrpSpPr/>
          <p:nvPr/>
        </p:nvGrpSpPr>
        <p:grpSpPr>
          <a:xfrm>
            <a:off x="2448000" y="1808280"/>
            <a:ext cx="3367080" cy="3368520"/>
            <a:chOff x="2448000" y="1808280"/>
            <a:chExt cx="3367080" cy="3368520"/>
          </a:xfrm>
        </p:grpSpPr>
        <p:grpSp>
          <p:nvGrpSpPr>
            <p:cNvPr id="746" name=""/>
            <p:cNvGrpSpPr/>
            <p:nvPr/>
          </p:nvGrpSpPr>
          <p:grpSpPr>
            <a:xfrm>
              <a:off x="5543640" y="2276640"/>
              <a:ext cx="271440" cy="215640"/>
              <a:chOff x="5543640" y="2276640"/>
              <a:chExt cx="271440" cy="215640"/>
            </a:xfrm>
          </p:grpSpPr>
          <p:sp>
            <p:nvSpPr>
              <p:cNvPr id="747" name=""/>
              <p:cNvSpPr/>
              <p:nvPr/>
            </p:nvSpPr>
            <p:spPr>
              <a:xfrm>
                <a:off x="5543640" y="2457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543640" y="2276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"/>
            <p:cNvGrpSpPr/>
            <p:nvPr/>
          </p:nvGrpSpPr>
          <p:grpSpPr>
            <a:xfrm>
              <a:off x="2916360" y="4905360"/>
              <a:ext cx="215280" cy="271440"/>
              <a:chOff x="2916360" y="4905360"/>
              <a:chExt cx="215280" cy="271440"/>
            </a:xfrm>
          </p:grpSpPr>
          <p:sp>
            <p:nvSpPr>
              <p:cNvPr id="750" name=""/>
              <p:cNvSpPr/>
              <p:nvPr/>
            </p:nvSpPr>
            <p:spPr>
              <a:xfrm>
                <a:off x="3097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916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2664000" y="4257720"/>
              <a:ext cx="720720" cy="720720"/>
              <a:chOff x="2664000" y="4257720"/>
              <a:chExt cx="720720" cy="720720"/>
            </a:xfrm>
          </p:grpSpPr>
          <p:sp>
            <p:nvSpPr>
              <p:cNvPr id="753" name=""/>
              <p:cNvSpPr/>
              <p:nvPr/>
            </p:nvSpPr>
            <p:spPr>
              <a:xfrm>
                <a:off x="2808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4" name=""/>
              <p:cNvGrpSpPr/>
              <p:nvPr/>
            </p:nvGrpSpPr>
            <p:grpSpPr>
              <a:xfrm>
                <a:off x="2664000" y="4257720"/>
                <a:ext cx="720720" cy="720720"/>
                <a:chOff x="2664000" y="4257720"/>
                <a:chExt cx="720720" cy="7207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2987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311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2987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2664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9" name=""/>
            <p:cNvGrpSpPr/>
            <p:nvPr/>
          </p:nvGrpSpPr>
          <p:grpSpPr>
            <a:xfrm>
              <a:off x="2664000" y="2023920"/>
              <a:ext cx="720720" cy="720720"/>
              <a:chOff x="2664000" y="2023920"/>
              <a:chExt cx="720720" cy="720720"/>
            </a:xfrm>
          </p:grpSpPr>
          <p:sp>
            <p:nvSpPr>
              <p:cNvPr id="760" name=""/>
              <p:cNvSpPr/>
              <p:nvPr/>
            </p:nvSpPr>
            <p:spPr>
              <a:xfrm>
                <a:off x="2808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2664000" y="2023920"/>
                <a:ext cx="720720" cy="720720"/>
                <a:chOff x="2664000" y="2023920"/>
                <a:chExt cx="720720" cy="7207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2987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311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987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664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"/>
            <p:cNvGrpSpPr/>
            <p:nvPr/>
          </p:nvGrpSpPr>
          <p:grpSpPr>
            <a:xfrm>
              <a:off x="4896000" y="2023920"/>
              <a:ext cx="720720" cy="720720"/>
              <a:chOff x="4896000" y="2023920"/>
              <a:chExt cx="720720" cy="720720"/>
            </a:xfrm>
          </p:grpSpPr>
          <p:sp>
            <p:nvSpPr>
              <p:cNvPr id="767" name=""/>
              <p:cNvSpPr/>
              <p:nvPr/>
            </p:nvSpPr>
            <p:spPr>
              <a:xfrm>
                <a:off x="5040720" y="21664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8" name=""/>
              <p:cNvGrpSpPr/>
              <p:nvPr/>
            </p:nvGrpSpPr>
            <p:grpSpPr>
              <a:xfrm>
                <a:off x="4896000" y="2023920"/>
                <a:ext cx="720720" cy="720720"/>
                <a:chOff x="4896000" y="2023920"/>
                <a:chExt cx="720720" cy="72072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5219640" y="20239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5543640" y="2347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5219640" y="26715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896000" y="23475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4896000" y="4257720"/>
              <a:ext cx="720720" cy="720720"/>
              <a:chOff x="4896000" y="4257720"/>
              <a:chExt cx="720720" cy="720720"/>
            </a:xfrm>
          </p:grpSpPr>
          <p:sp>
            <p:nvSpPr>
              <p:cNvPr id="774" name=""/>
              <p:cNvSpPr/>
              <p:nvPr/>
            </p:nvSpPr>
            <p:spPr>
              <a:xfrm>
                <a:off x="5040720" y="4400280"/>
                <a:ext cx="431640" cy="432000"/>
              </a:xfrm>
              <a:prstGeom prst="ellipse">
                <a:avLst/>
              </a:prstGeom>
              <a:solidFill>
                <a:srgbClr val="99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5" name=""/>
              <p:cNvGrpSpPr/>
              <p:nvPr/>
            </p:nvGrpSpPr>
            <p:grpSpPr>
              <a:xfrm>
                <a:off x="4896000" y="4257720"/>
                <a:ext cx="720720" cy="720720"/>
                <a:chOff x="4896000" y="4257720"/>
                <a:chExt cx="720720" cy="7207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5219640" y="425772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543640" y="4581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219640" y="4905360"/>
                  <a:ext cx="7308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896000" y="4581360"/>
                  <a:ext cx="72720" cy="73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5148360" y="3789720"/>
              <a:ext cx="215280" cy="541440"/>
              <a:chOff x="5148360" y="3789720"/>
              <a:chExt cx="215280" cy="541440"/>
            </a:xfrm>
          </p:grpSpPr>
          <p:sp>
            <p:nvSpPr>
              <p:cNvPr id="781" name=""/>
              <p:cNvSpPr/>
              <p:nvPr/>
            </p:nvSpPr>
            <p:spPr>
              <a:xfrm rot="16200000">
                <a:off x="5075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5400000">
                <a:off x="4894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3" name=""/>
            <p:cNvGrpSpPr/>
            <p:nvPr/>
          </p:nvGrpSpPr>
          <p:grpSpPr>
            <a:xfrm>
              <a:off x="2916360" y="3789720"/>
              <a:ext cx="215280" cy="541440"/>
              <a:chOff x="2916360" y="3789720"/>
              <a:chExt cx="215280" cy="541440"/>
            </a:xfrm>
          </p:grpSpPr>
          <p:sp>
            <p:nvSpPr>
              <p:cNvPr id="784" name=""/>
              <p:cNvSpPr/>
              <p:nvPr/>
            </p:nvSpPr>
            <p:spPr>
              <a:xfrm rot="16200000">
                <a:off x="2843640" y="4042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400000">
                <a:off x="2662920" y="4043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2916360" y="2673720"/>
              <a:ext cx="215280" cy="541440"/>
              <a:chOff x="2916360" y="2673720"/>
              <a:chExt cx="215280" cy="541440"/>
            </a:xfrm>
          </p:grpSpPr>
          <p:sp>
            <p:nvSpPr>
              <p:cNvPr id="787" name=""/>
              <p:cNvSpPr/>
              <p:nvPr/>
            </p:nvSpPr>
            <p:spPr>
              <a:xfrm rot="16200000">
                <a:off x="2843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400000">
                <a:off x="2662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5148360" y="2673720"/>
              <a:ext cx="215280" cy="541440"/>
              <a:chOff x="5148360" y="2673720"/>
              <a:chExt cx="215280" cy="541440"/>
            </a:xfrm>
          </p:grpSpPr>
          <p:sp>
            <p:nvSpPr>
              <p:cNvPr id="790" name=""/>
              <p:cNvSpPr/>
              <p:nvPr/>
            </p:nvSpPr>
            <p:spPr>
              <a:xfrm rot="16200000">
                <a:off x="5075640" y="292680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400000">
                <a:off x="4894920" y="2927160"/>
                <a:ext cx="541080" cy="3456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"/>
            <p:cNvGrpSpPr/>
            <p:nvPr/>
          </p:nvGrpSpPr>
          <p:grpSpPr>
            <a:xfrm>
              <a:off x="3311280" y="2276280"/>
              <a:ext cx="541440" cy="216000"/>
              <a:chOff x="3311280" y="2276280"/>
              <a:chExt cx="541440" cy="216000"/>
            </a:xfrm>
          </p:grpSpPr>
          <p:sp>
            <p:nvSpPr>
              <p:cNvPr id="793" name=""/>
              <p:cNvSpPr/>
              <p:nvPr/>
            </p:nvSpPr>
            <p:spPr>
              <a:xfrm>
                <a:off x="3311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0800000">
                <a:off x="3311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4427280" y="2276280"/>
              <a:ext cx="541440" cy="216000"/>
              <a:chOff x="4427280" y="2276280"/>
              <a:chExt cx="541440" cy="216000"/>
            </a:xfrm>
          </p:grpSpPr>
          <p:sp>
            <p:nvSpPr>
              <p:cNvPr id="796" name=""/>
              <p:cNvSpPr/>
              <p:nvPr/>
            </p:nvSpPr>
            <p:spPr>
              <a:xfrm>
                <a:off x="4427640" y="2457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0800000">
                <a:off x="4427280" y="2276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311280" y="4508280"/>
              <a:ext cx="541440" cy="216000"/>
              <a:chOff x="3311280" y="4508280"/>
              <a:chExt cx="541440" cy="216000"/>
            </a:xfrm>
          </p:grpSpPr>
          <p:sp>
            <p:nvSpPr>
              <p:cNvPr id="799" name=""/>
              <p:cNvSpPr/>
              <p:nvPr/>
            </p:nvSpPr>
            <p:spPr>
              <a:xfrm>
                <a:off x="3311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0800000">
                <a:off x="3311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4427280" y="4508280"/>
              <a:ext cx="541440" cy="216000"/>
              <a:chOff x="4427280" y="4508280"/>
              <a:chExt cx="541440" cy="216000"/>
            </a:xfrm>
          </p:grpSpPr>
          <p:sp>
            <p:nvSpPr>
              <p:cNvPr id="802" name=""/>
              <p:cNvSpPr/>
              <p:nvPr/>
            </p:nvSpPr>
            <p:spPr>
              <a:xfrm>
                <a:off x="4427640" y="468936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10800000">
                <a:off x="4427280" y="4508280"/>
                <a:ext cx="541080" cy="34920"/>
              </a:xfrm>
              <a:custGeom>
                <a:avLst/>
                <a:gdLst/>
                <a:ahLst/>
                <a:rect l="l" t="t" r="r" b="b"/>
                <a:pathLst>
                  <a:path w="318" h="22">
                    <a:moveTo>
                      <a:pt x="0" y="0"/>
                    </a:moveTo>
                    <a:cubicBezTo>
                      <a:pt x="53" y="11"/>
                      <a:pt x="106" y="22"/>
                      <a:pt x="159" y="22"/>
                    </a:cubicBezTo>
                    <a:cubicBezTo>
                      <a:pt x="212" y="22"/>
                      <a:pt x="265" y="11"/>
                      <a:pt x="3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4" name=""/>
            <p:cNvGrpSpPr/>
            <p:nvPr/>
          </p:nvGrpSpPr>
          <p:grpSpPr>
            <a:xfrm>
              <a:off x="5148360" y="1808280"/>
              <a:ext cx="215280" cy="271440"/>
              <a:chOff x="5148360" y="1808280"/>
              <a:chExt cx="215280" cy="271440"/>
            </a:xfrm>
          </p:grpSpPr>
          <p:sp>
            <p:nvSpPr>
              <p:cNvPr id="805" name=""/>
              <p:cNvSpPr/>
              <p:nvPr/>
            </p:nvSpPr>
            <p:spPr>
              <a:xfrm>
                <a:off x="5329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148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4032360" y="1808280"/>
              <a:ext cx="215280" cy="271440"/>
              <a:chOff x="4032360" y="1808280"/>
              <a:chExt cx="215280" cy="271440"/>
            </a:xfrm>
          </p:grpSpPr>
          <p:sp>
            <p:nvSpPr>
              <p:cNvPr id="808" name=""/>
              <p:cNvSpPr/>
              <p:nvPr/>
            </p:nvSpPr>
            <p:spPr>
              <a:xfrm>
                <a:off x="4213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032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0" name=""/>
            <p:cNvGrpSpPr/>
            <p:nvPr/>
          </p:nvGrpSpPr>
          <p:grpSpPr>
            <a:xfrm>
              <a:off x="2916360" y="1808280"/>
              <a:ext cx="215280" cy="271440"/>
              <a:chOff x="2916360" y="1808280"/>
              <a:chExt cx="215280" cy="271440"/>
            </a:xfrm>
          </p:grpSpPr>
          <p:sp>
            <p:nvSpPr>
              <p:cNvPr id="811" name=""/>
              <p:cNvSpPr/>
              <p:nvPr/>
            </p:nvSpPr>
            <p:spPr>
              <a:xfrm>
                <a:off x="3097080" y="180828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0" y="171"/>
                    </a:moveTo>
                    <a:cubicBezTo>
                      <a:pt x="11" y="114"/>
                      <a:pt x="18" y="28"/>
                      <a:pt x="2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16360" y="1808280"/>
                <a:ext cx="34560" cy="26964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0" y="0"/>
                    </a:moveTo>
                    <a:cubicBezTo>
                      <a:pt x="4" y="28"/>
                      <a:pt x="11" y="113"/>
                      <a:pt x="22" y="17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4032360" y="4905360"/>
              <a:ext cx="215280" cy="271440"/>
              <a:chOff x="4032360" y="4905360"/>
              <a:chExt cx="215280" cy="271440"/>
            </a:xfrm>
          </p:grpSpPr>
          <p:sp>
            <p:nvSpPr>
              <p:cNvPr id="814" name=""/>
              <p:cNvSpPr/>
              <p:nvPr/>
            </p:nvSpPr>
            <p:spPr>
              <a:xfrm>
                <a:off x="4213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032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5148360" y="4905360"/>
              <a:ext cx="215280" cy="271440"/>
              <a:chOff x="5148360" y="4905360"/>
              <a:chExt cx="215280" cy="27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5329080" y="4906800"/>
                <a:ext cx="34560" cy="270000"/>
              </a:xfrm>
              <a:custGeom>
                <a:avLst/>
                <a:gdLst/>
                <a:ahLst/>
                <a:rect l="l" t="t" r="r" b="b"/>
                <a:pathLst>
                  <a:path w="22" h="170">
                    <a:moveTo>
                      <a:pt x="22" y="170"/>
                    </a:moveTo>
                    <a:cubicBezTo>
                      <a:pt x="18" y="142"/>
                      <a:pt x="11" y="57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148360" y="4905360"/>
                <a:ext cx="34560" cy="271440"/>
              </a:xfrm>
              <a:custGeom>
                <a:avLst/>
                <a:gdLst/>
                <a:ahLst/>
                <a:rect l="l" t="t" r="r" b="b"/>
                <a:pathLst>
                  <a:path w="22" h="171">
                    <a:moveTo>
                      <a:pt x="22" y="0"/>
                    </a:moveTo>
                    <a:cubicBezTo>
                      <a:pt x="11" y="57"/>
                      <a:pt x="4" y="143"/>
                      <a:pt x="0" y="17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2448000" y="4508640"/>
              <a:ext cx="272880" cy="215640"/>
              <a:chOff x="2448000" y="4508640"/>
              <a:chExt cx="272880" cy="215640"/>
            </a:xfrm>
          </p:grpSpPr>
          <p:sp>
            <p:nvSpPr>
              <p:cNvPr id="820" name=""/>
              <p:cNvSpPr/>
              <p:nvPr/>
            </p:nvSpPr>
            <p:spPr>
              <a:xfrm>
                <a:off x="2449440" y="4689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448000" y="4508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5543640" y="3392640"/>
              <a:ext cx="271440" cy="215640"/>
              <a:chOff x="5543640" y="3392640"/>
              <a:chExt cx="271440" cy="215640"/>
            </a:xfrm>
          </p:grpSpPr>
          <p:sp>
            <p:nvSpPr>
              <p:cNvPr id="823" name=""/>
              <p:cNvSpPr/>
              <p:nvPr/>
            </p:nvSpPr>
            <p:spPr>
              <a:xfrm>
                <a:off x="5543640" y="3573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543640" y="3392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5543640" y="4508640"/>
              <a:ext cx="271440" cy="215640"/>
              <a:chOff x="5543640" y="4508640"/>
              <a:chExt cx="271440" cy="215640"/>
            </a:xfrm>
          </p:grpSpPr>
          <p:sp>
            <p:nvSpPr>
              <p:cNvPr id="826" name=""/>
              <p:cNvSpPr/>
              <p:nvPr/>
            </p:nvSpPr>
            <p:spPr>
              <a:xfrm>
                <a:off x="5543640" y="468936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0" y="0"/>
                    </a:moveTo>
                    <a:cubicBezTo>
                      <a:pt x="57" y="11"/>
                      <a:pt x="143" y="18"/>
                      <a:pt x="171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543640" y="4508640"/>
                <a:ext cx="271440" cy="34920"/>
              </a:xfrm>
              <a:custGeom>
                <a:avLst/>
                <a:gdLst/>
                <a:ahLst/>
                <a:rect l="l" t="t" r="r" b="b"/>
                <a:pathLst>
                  <a:path w="171" h="22">
                    <a:moveTo>
                      <a:pt x="171" y="0"/>
                    </a:moveTo>
                    <a:cubicBezTo>
                      <a:pt x="143" y="4"/>
                      <a:pt x="57" y="11"/>
                      <a:pt x="0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2448000" y="3392640"/>
              <a:ext cx="272880" cy="215640"/>
              <a:chOff x="2448000" y="3392640"/>
              <a:chExt cx="272880" cy="215640"/>
            </a:xfrm>
          </p:grpSpPr>
          <p:sp>
            <p:nvSpPr>
              <p:cNvPr id="829" name=""/>
              <p:cNvSpPr/>
              <p:nvPr/>
            </p:nvSpPr>
            <p:spPr>
              <a:xfrm>
                <a:off x="2449440" y="3573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448000" y="3392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2448000" y="2276640"/>
              <a:ext cx="272880" cy="215640"/>
              <a:chOff x="2448000" y="2276640"/>
              <a:chExt cx="272880" cy="215640"/>
            </a:xfrm>
          </p:grpSpPr>
          <p:sp>
            <p:nvSpPr>
              <p:cNvPr id="832" name=""/>
              <p:cNvSpPr/>
              <p:nvPr/>
            </p:nvSpPr>
            <p:spPr>
              <a:xfrm>
                <a:off x="2449440" y="2457360"/>
                <a:ext cx="269280" cy="34920"/>
              </a:xfrm>
              <a:custGeom>
                <a:avLst/>
                <a:gdLst/>
                <a:ahLst/>
                <a:rect l="l" t="t" r="r" b="b"/>
                <a:pathLst>
                  <a:path w="170" h="22">
                    <a:moveTo>
                      <a:pt x="0" y="22"/>
                    </a:moveTo>
                    <a:cubicBezTo>
                      <a:pt x="28" y="18"/>
                      <a:pt x="113" y="11"/>
                      <a:pt x="17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448000" y="2276640"/>
                <a:ext cx="272880" cy="34920"/>
              </a:xfrm>
              <a:custGeom>
                <a:avLst/>
                <a:gdLst/>
                <a:ahLst/>
                <a:rect l="l" t="t" r="r" b="b"/>
                <a:pathLst>
                  <a:path w="172" h="22">
                    <a:moveTo>
                      <a:pt x="172" y="22"/>
                    </a:moveTo>
                    <a:cubicBezTo>
                      <a:pt x="114" y="11"/>
                      <a:pt x="29" y="4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4" name=""/>
          <p:cNvSpPr/>
          <p:nvPr/>
        </p:nvSpPr>
        <p:spPr>
          <a:xfrm>
            <a:off x="6551640" y="1916280"/>
            <a:ext cx="176364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: alumi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mpurezas del grupo III de la tabla periód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924360" y="3284640"/>
            <a:ext cx="431640" cy="43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678480" y="11970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TIPO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551640" y="3691080"/>
            <a:ext cx="198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 necesaria muy poca energía para ionizar el átomo de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198320" y="352440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2640" y="5457960"/>
            <a:ext cx="90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A temperatura ambiente todos los átomos de impurezas se encuentran ion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067280" y="3789360"/>
            <a:ext cx="144360" cy="144360"/>
          </a:xfrm>
          <a:prstGeom prst="ellipse">
            <a:avLst/>
          </a:prstGeom>
          <a:solidFill>
            <a:srgbClr val="ddffdd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987640" y="3789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951280" y="3753000"/>
            <a:ext cx="144360" cy="144360"/>
          </a:xfrm>
          <a:prstGeom prst="ellipse">
            <a:avLst/>
          </a:prstGeom>
          <a:solidFill>
            <a:srgbClr val="ddffdd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629080" y="35370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0.00023 C 0.01736 0.0125 0.03472 0.02523 0.05503 0.02616 C 0.07535 0.02708 0.09861 0.01597 0.12205 0.00509 E">
                                      <p:cBhvr>
                                        <p:cTn id="334" dur="2000" fill="hold"/>
                                        <p:tgtEl>
                                          <p:spTgt spid="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345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35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8:39:51Z</dcterms:created>
  <dc:creator>Javier Ribas Bueno</dc:creator>
  <dc:description/>
  <dc:language>en-US</dc:language>
  <cp:lastModifiedBy>Javier Ribas Bueno</cp:lastModifiedBy>
  <dcterms:modified xsi:type="dcterms:W3CDTF">2004-10-27T15:38:21Z</dcterms:modified>
  <cp:revision>62</cp:revision>
  <dc:subject/>
  <dc:title>Diapositiva 1</dc:title>
</cp:coreProperties>
</file>