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27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11.png" ContentType="image/png"/>
  <Override PartName="/ppt/media/image29.wmf" ContentType="image/x-wmf"/>
  <Override PartName="/ppt/media/image6.png" ContentType="image/png"/>
  <Override PartName="/ppt/media/image1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media/image23.wmf" ContentType="image/x-wmf"/>
  <Override PartName="/ppt/media/image2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E87C-BEED-4CF2-9ED0-3613E1C7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AA6A-7CDB-4EA9-BC51-B3445E66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75D3-49C8-441F-A086-BE61F136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3EBF-A7B0-4AED-B020-6062CD8C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3B74-01B5-4F5E-97C5-929A08B1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490B-BBAE-454F-852D-F7023FD7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AFE7-986F-4A65-85F2-FC26F071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70D6-9D97-439F-B861-D1FDC65B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7AAA-1DA1-4E5B-B2BE-E92B1F87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1CB8-960F-47D3-ABDD-44BCF4A0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C731-DA89-4306-B5A9-65396035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3716-E0E7-40A5-AE11-07350578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A24B-D794-4B38-9AFB-78B9D0691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image" Target="../media/image29.wmf"/><Relationship Id="rId7" Type="http://schemas.openxmlformats.org/officeDocument/2006/relationships/image" Target="../media/image29.wmf"/><Relationship Id="rId8" Type="http://schemas.openxmlformats.org/officeDocument/2006/relationships/image" Target="../media/image29.wmf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Unfortunately we are unable to provide accessible alternative text for this. If you require assistance to access this image, or to obtain a text description, please contact npg@nature.com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4000" y="4525920"/>
            <a:ext cx="82296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ycurgus cup in British museum (4rth century b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aterial optico:  ruby g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ontiene un ingrediente crucial : pequeñas      partículas de oro  5–60 n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 la luz del dia la copa aparece verde , pero si se la ilumina por el interior luce color ro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86040" y="4653000"/>
            <a:ext cx="352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Curiosidad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82920" y="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ra. Agnes Nagy, Centro de Investigaciones en Microelectró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3429000"/>
            <a:ext cx="4608720" cy="2363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00000" y="1125360"/>
            <a:ext cx="4248360" cy="2157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580000" y="1052640"/>
            <a:ext cx="2733840" cy="663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796000" y="2565360"/>
            <a:ext cx="2376360" cy="21477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227640" y="4869000"/>
            <a:ext cx="15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ecto de la auto-limpie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2638440" cy="3314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5640" y="2060640"/>
            <a:ext cx="3600360" cy="2643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6720" y="3141720"/>
            <a:ext cx="2016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52293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racias a los nano patrones en sus dedos, puede moverse en superficies li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132000" y="692280"/>
            <a:ext cx="2808360" cy="46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2088000">
            <a:off x="5435280" y="3284640"/>
            <a:ext cx="2089080" cy="1673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900000" y="1384200"/>
            <a:ext cx="2097360" cy="4383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012000" y="189000"/>
            <a:ext cx="280800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47640" y="33336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¿Moja o no mo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8360" y="1019160"/>
            <a:ext cx="8064360" cy="583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24000" y="0"/>
            <a:ext cx="57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http://www.nanowerk.com/spotlight/spotid=3032.p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2067120" cy="4032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11280" y="476280"/>
            <a:ext cx="4248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fecías futuristas distinguen las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nanotechnologi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¨hard¨ -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nanofactorias, en el cual los productos son construidos por procesos mecánicos - y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nanotechnologi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'soft',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aquellos basados en sistemas biológ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0" y="2852640"/>
            <a:ext cx="5111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mbién tendemos a pensar en la fabricación en términos de cadenas de producción, pero estos no son fáciles para aplicarse en el nanoscale. Muchos nano-ingenieros argumentan que nosotros deberíamos contemplar o buscar la química y la biología para la inspiración, aprovechando el movimiento de Browniano, 'la pegajosidad' de moléculas y el reconocimiento molecular para construir cos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38560" y="63086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G PICTURE 2 JUNE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32360" y="0"/>
            <a:ext cx="38163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539640" y="4508640"/>
            <a:ext cx="5256360" cy="1879200"/>
            <a:chOff x="539640" y="4508640"/>
            <a:chExt cx="5256360" cy="1879200"/>
          </a:xfrm>
        </p:grpSpPr>
        <p:sp>
          <p:nvSpPr>
            <p:cNvPr id="106" name=""/>
            <p:cNvSpPr/>
            <p:nvPr/>
          </p:nvSpPr>
          <p:spPr>
            <a:xfrm>
              <a:off x="611280" y="4508640"/>
              <a:ext cx="4537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" Hasta que se sepa más sobre los impactos ambientales recomendamos que la liberación de nanoparticlas y nanotubos fabricados en el ambiente sea evitada en la medida de lo posible.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9640" y="6019560"/>
              <a:ext cx="525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oyal Society/Royal Academy of Engineering repor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755640" y="3068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¨Se estima que alrededor de 2000 personas trabajan en las Universidades y en la industria con nanopartículas.¨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14560" y="797400"/>
            <a:ext cx="6392160" cy="2067120"/>
            <a:chOff x="1114560" y="797400"/>
            <a:chExt cx="6392160" cy="206712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114560" y="1844280"/>
              <a:ext cx="210348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 rot="2056800">
              <a:off x="1474560" y="1340640"/>
              <a:ext cx="2103480" cy="5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 rot="19930200">
              <a:off x="2409840" y="1843920"/>
              <a:ext cx="210348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4"/>
            <a:stretch/>
          </p:blipFill>
          <p:spPr>
            <a:xfrm rot="21035400">
              <a:off x="3706920" y="1988640"/>
              <a:ext cx="210348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5"/>
            <a:stretch/>
          </p:blipFill>
          <p:spPr>
            <a:xfrm>
              <a:off x="2698920" y="1125360"/>
              <a:ext cx="210348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6"/>
            <a:stretch/>
          </p:blipFill>
          <p:spPr>
            <a:xfrm rot="19732200">
              <a:off x="3922920" y="1341000"/>
              <a:ext cx="2103480" cy="5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7"/>
            <a:stretch/>
          </p:blipFill>
          <p:spPr>
            <a:xfrm rot="19468800">
              <a:off x="5435280" y="1483560"/>
              <a:ext cx="210348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8"/>
            <a:stretch/>
          </p:blipFill>
          <p:spPr>
            <a:xfrm rot="2056800">
              <a:off x="4859640" y="1412280"/>
              <a:ext cx="2103120" cy="56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971640" y="1486080"/>
            <a:ext cx="7704000" cy="1355760"/>
            <a:chOff x="971640" y="1486080"/>
            <a:chExt cx="7704000" cy="1355760"/>
          </a:xfrm>
        </p:grpSpPr>
        <p:sp>
          <p:nvSpPr>
            <p:cNvPr id="119" name=""/>
            <p:cNvSpPr/>
            <p:nvPr/>
          </p:nvSpPr>
          <p:spPr>
            <a:xfrm>
              <a:off x="971640" y="1486080"/>
              <a:ext cx="669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cc0099"/>
                  </a:solidFill>
                  <a:latin typeface="Arial"/>
                </a:rPr>
                <a:t>1 kg de nanotubos cuesta 100 Euros</a:t>
              </a:r>
              <a:r>
                <a:rPr b="0" lang="es-ES" sz="2800" spc="-1" strike="noStrike">
                  <a:solidFill>
                    <a:srgbClr val="cc0099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59280" y="2565360"/>
              <a:ext cx="561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1er Taller sobre Nanociencia y Nanotecnología, Centro de Estudios avanzad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5219640" y="3357720"/>
            <a:ext cx="3456000" cy="2444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82920" y="616572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G PICTURE 2 JUNE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328464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99"/>
                </a:solidFill>
                <a:latin typeface="Monotype Corsiva"/>
              </a:rPr>
              <a:t>PRECAU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2997360"/>
            <a:ext cx="1152720" cy="107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76640"/>
            <a:ext cx="1152360" cy="107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643280" y="4653000"/>
            <a:ext cx="151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981000"/>
            <a:ext cx="3673440" cy="2901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16360" y="4653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60 – 120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47640" y="4221000"/>
            <a:ext cx="1047960" cy="1200960"/>
            <a:chOff x="1547640" y="4221000"/>
            <a:chExt cx="1047960" cy="120096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1547640" y="4221000"/>
              <a:ext cx="104796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619280" y="5084640"/>
              <a:ext cx="93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</a:rPr>
                <a:t>fuller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132000" y="4368960"/>
            <a:ext cx="3467160" cy="1939680"/>
            <a:chOff x="3132000" y="4368960"/>
            <a:chExt cx="3467160" cy="1939680"/>
          </a:xfrm>
        </p:grpSpPr>
        <p:grpSp>
          <p:nvGrpSpPr>
            <p:cNvPr id="55" name=""/>
            <p:cNvGrpSpPr/>
            <p:nvPr/>
          </p:nvGrpSpPr>
          <p:grpSpPr>
            <a:xfrm>
              <a:off x="3132000" y="4368960"/>
              <a:ext cx="3467160" cy="1939680"/>
              <a:chOff x="3132000" y="4368960"/>
              <a:chExt cx="3467160" cy="1939680"/>
            </a:xfrm>
          </p:grpSpPr>
          <p:pic>
            <p:nvPicPr>
              <p:cNvPr id="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32000" y="4368960"/>
                <a:ext cx="3467160" cy="193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4486320" y="4681440"/>
                <a:ext cx="1655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4716360" y="465300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60–120 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39640" y="907920"/>
            <a:ext cx="3600720" cy="2470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500720" y="3716280"/>
            <a:ext cx="3539880" cy="1006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88000" y="314172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 -5 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68360" y="5157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i usted se zambulle  en una piscina, su inercia le mantendrá moviéndose por el agua para varios metr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140360" y="5229360"/>
            <a:ext cx="478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i usted fuera una nanopartícula, sin embargo, el agua le parecería a la melaza - su viscosidad de  pronto sería un reto para u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2360" y="2133720"/>
            <a:ext cx="590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ara una nanoparticula en una piscina, la inercia es insignificante y la viscosidad se vuelve dominante. Las moléculas de agua también bombardearían la nanopartícula debido al movimiento Browniano – provocando una turbulencia const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95280" y="1197000"/>
            <a:ext cx="82296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Nanoparticulas tienen  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tomos o me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 propiedades son diferentes de las que tiene los mismos átomos organizados en volúmenes de mayor dimen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 tamaño ( de </a:t>
            </a:r>
            <a:r>
              <a:rPr b="0" i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1 a 100nm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) es menor que alguna de las longitudes características de algúnos fenómenos fís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mino libre me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ngitud de difusión tér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357336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si todos los átomos están en la superfic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La capacidad de la partícula para reaccionar con otras especie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de camb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11280" y="2133720"/>
            <a:ext cx="367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do el semiconductor es macroscopico, sus dimensiones son mucho mayores que el radio de Bohr del exciton , que puede extenderse en sus límites natu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 embargo si las distancias son mucho menores la densidad de estados ya no puede ser considerada continua sino que hay niveles discr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ay un desplazamiento hacia el azul a medida que el tamaño se 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69228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n exciton es el término usado para describir un par electron-hueco creado cuando un electron pasa de la banda de valencia a la de condu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 separación física media se llama el radio de  Bohr del excit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sta distancia es diferente de un maerial a ot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3816360" cy="2774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43280" y="5013360"/>
            <a:ext cx="39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quantum dots de son una categoría única de semiconductores cuyas dimensiones van desde los 2 a los 10 nanometros (10-50 átomos) de diámetro  (SeC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9640" y="765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ción área/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134136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silicio nanoporoso consiste en una red complicada de silicio de 2-5 nm de espesor, resultando en un material que dispone de una relación interna de área/volumen de 500 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/c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Los poros extremadamente finos dan al material una fuerte luminiscencia a la temperatura ambiente. La longitud de onda emitida depende de la porosidad del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6920" y="3357720"/>
            <a:ext cx="3838680" cy="2628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859280" y="4005360"/>
            <a:ext cx="33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propiedad ha permitido el diseño de sensores de gases que pueden ser monitoreados visualmente por el cambio de co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4221000"/>
            <a:ext cx="187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área/volume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500 m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/cm</a:t>
            </a:r>
            <a:r>
              <a:rPr b="1" lang="en-US" sz="18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132000" y="692280"/>
            <a:ext cx="2808360" cy="460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7559640" cy="3859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2598840" cy="2070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924360" y="5084640"/>
            <a:ext cx="2643120" cy="1238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6516720" y="5445000"/>
            <a:ext cx="223848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34:43Z</dcterms:created>
  <dc:creator>Agnes</dc:creator>
  <dc:description/>
  <dc:language>en-US</dc:language>
  <cp:lastModifiedBy>Agnes</cp:lastModifiedBy>
  <dcterms:modified xsi:type="dcterms:W3CDTF">2008-05-12T08:20:37Z</dcterms:modified>
  <cp:revision>17</cp:revision>
  <dc:subject/>
  <dc:title>Diapositiva 1</dc:title>
</cp:coreProperties>
</file>