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274-5AAB-474C-B00A-102E1B8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1CA-CA3B-48D8-AAD6-A4FF80E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554-4620-4866-8057-CB69D6A4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A77-9423-49D7-BE50-3D0E33FC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CE8-1CB9-4052-BEDF-049670B7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881-E516-42F2-B0BB-09FEAC0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0CF-F01C-48CE-99B4-F9224835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F49-48E6-4931-8105-70AE366D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5BC-6C10-4265-A45E-3ED495F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A2A-5021-4D6C-899D-C9708CD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C29-6140-4AEA-B95E-49B5857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A2E-D04F-432A-A202-6527911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D61-ACD3-4B79-8420-DF821337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Unfortunately we are unable to provide accessible alternative text for this. If you require assistance to access this image, or to obtain a text description, please contact npg@nature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52592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ycurgus cup in British museum (4rth century b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terial optico:  ruby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ene un ingrediente crucial : pequeñas      partículas de oro  5–60 n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la luz del dia la copa aparece verde , pero si se la ilumina por el interior luce color ro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4653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uriosida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82920" y="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ra. Agnes Nagy, Centro de Investigaciones en Micro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60872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4248360" cy="21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73384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2376360" cy="214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27640" y="4869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ecto de la auto-limp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638440" cy="331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0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141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22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nano patrones en sus dedos, puede moverse en superficies l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88000">
            <a:off x="5435280" y="3284640"/>
            <a:ext cx="208908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1384200"/>
            <a:ext cx="2097360" cy="438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0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¿Moja o no mo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019160"/>
            <a:ext cx="8064360" cy="58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0"/>
            <a:ext cx="57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ttp://www.nanowerk.com/spotlight/spotid=3032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6712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7628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cías futuristas distinguen la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¨hard¨ 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anofactorias, en el cual los productos son construidos por procesos mecánicos - y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'soft'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os basados en sistemas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511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tendemos a pensar en la fabricación en términos de cadenas de producción, pero estos no son fáciles para aplicarse en el nanoscale. Muchos nano-ingenieros argumentan que nosotros deberíamos contemplar o buscar la química y la biología para la inspiración, aprovechando el movimiento de Browniano, 'la pegajosidad' de moléculas y el reconocimiento molecular para construir c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8560" y="63086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9640" y="4508640"/>
            <a:ext cx="5256360" cy="1879200"/>
            <a:chOff x="539640" y="4508640"/>
            <a:chExt cx="5256360" cy="1879200"/>
          </a:xfrm>
        </p:grpSpPr>
        <p:sp>
          <p:nvSpPr>
            <p:cNvPr id="106" name=""/>
            <p:cNvSpPr/>
            <p:nvPr/>
          </p:nvSpPr>
          <p:spPr>
            <a:xfrm>
              <a:off x="611280" y="4508640"/>
              <a:ext cx="453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" Hasta que se sepa más sobre los impactos ambientales recomendamos que la liberación de nanoparticlas y nanotubos fabricados en el ambiente sea evitada en la medida de lo posible.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640" y="601956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 Society/Royal Academy of Engineering 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55640" y="306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¨Se estima que alrededor de 2000 personas trabajan en las Universidades y en la industria con nanopartículas.¨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4560" y="797400"/>
            <a:ext cx="6392160" cy="2067120"/>
            <a:chOff x="1114560" y="797400"/>
            <a:chExt cx="6392160" cy="20671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14560" y="184428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 rot="2056800">
              <a:off x="1474560" y="134064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 rot="19930200">
              <a:off x="2409840" y="184392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 rot="21035400">
              <a:off x="3706920" y="198864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2698920" y="11253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 rot="19732200">
              <a:off x="3922920" y="134100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 rot="19468800">
              <a:off x="5435280" y="14835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 rot="2056800">
              <a:off x="4859640" y="1412280"/>
              <a:ext cx="2103120" cy="5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971640" y="1486080"/>
            <a:ext cx="7704000" cy="1355760"/>
            <a:chOff x="971640" y="1486080"/>
            <a:chExt cx="7704000" cy="1355760"/>
          </a:xfrm>
        </p:grpSpPr>
        <p:sp>
          <p:nvSpPr>
            <p:cNvPr id="119" name=""/>
            <p:cNvSpPr/>
            <p:nvPr/>
          </p:nvSpPr>
          <p:spPr>
            <a:xfrm>
              <a:off x="971640" y="148608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99"/>
                  </a:solidFill>
                  <a:latin typeface="Arial"/>
                </a:rPr>
                <a:t>1 kg de nanotubos cuesta 100 Euros</a:t>
              </a:r>
              <a:r>
                <a:rPr b="0" lang="es-ES" sz="2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56536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er Taller sobre Nanociencia y Nanotecnología, Centro de Estudios avanz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219640" y="3357720"/>
            <a:ext cx="3456000" cy="244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2920" y="616572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284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Monotype Corsiva"/>
              </a:rPr>
              <a:t>PRECA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2997360"/>
            <a:ext cx="1152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1152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465300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7344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16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0 – 12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47640" y="4221000"/>
            <a:ext cx="1047960" cy="1200960"/>
            <a:chOff x="1547640" y="4221000"/>
            <a:chExt cx="1047960" cy="1200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47640" y="4221000"/>
              <a:ext cx="10479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19280" y="5084640"/>
              <a:ext cx="9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full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132000" y="4368960"/>
            <a:ext cx="3467160" cy="1939680"/>
            <a:chOff x="3132000" y="4368960"/>
            <a:chExt cx="3467160" cy="1939680"/>
          </a:xfrm>
        </p:grpSpPr>
        <p:grpSp>
          <p:nvGrpSpPr>
            <p:cNvPr id="55" name=""/>
            <p:cNvGrpSpPr/>
            <p:nvPr/>
          </p:nvGrpSpPr>
          <p:grpSpPr>
            <a:xfrm>
              <a:off x="3132000" y="4368960"/>
              <a:ext cx="3467160" cy="1939680"/>
              <a:chOff x="3132000" y="4368960"/>
              <a:chExt cx="3467160" cy="1939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4368960"/>
                <a:ext cx="3467160" cy="19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86320" y="4681440"/>
                <a:ext cx="165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716360" y="4653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60–120 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3600720" cy="247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353988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88000" y="31417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-5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ted se zambulle  en una piscina, su inercia le mantendrá moviéndose por el agua para varios me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5229360"/>
            <a:ext cx="47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usted fuera una nanopartícula, sin embargo, el agua le parecería a la melaza - su viscosidad de  pronto sería un reto para 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59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una nanoparticula en una piscina, la inercia es insignificante y la viscosidad se vuelve dominante. Las moléculas de agua también bombardearían la nanopartícula debido al movimiento Browniano – provocando una turbulencia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Nanoparticulas tienen 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tomos o m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propiedades son diferentes de las que tiene los mismos átomos organizados en volúmenes de mayor dim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tamaño ( de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1 a 100n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 es menor que alguna de las longitudes características de algúnos fenómenos fí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ino libre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itud de difusión 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si todos los átomos están en la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apacidad de la partícula para reaccionar con otras espec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 camb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13372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l semiconductor es macroscopico, sus dimensiones son mucho mayores que el radio de Bohr del exciton , que puede extenderse en sus límite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embargo si las distancias son mucho menores la densidad de estados ya no puede ser considerada continua sino que hay nivele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y un desplazamiento hacia el azul a medida que el tamaño s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 exciton es el término usado para describir un par electron-hueco creado cuando un electron pasa de la banda de valencia a la de con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separación física media se llama el radio de  Bohr del exci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 distancia es diferente de un maerial a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277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3280" y="501336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quantum dots de son una categoría única de semiconductores cuyas dimensiones van desde los 2 a los 10 nanometros (10-50 átomos) de diámetro  (S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área/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341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ilicio nanoporoso consiste en una red complicada de silicio de 2-5 nm de espesor, resultando en un material que dispone de una relación interna de área/volumen de 500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poros extremadamente finos dan al material una fuerte luminiscencia a la temperatura ambiente. La longitud de onda emitida depende de la porosidad d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838680" cy="26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59280" y="400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piedad ha permitido el diseño de sensores de gases que pueden ser monitoreados visualmente por el cambi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22100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área/volum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0 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c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59640" cy="385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598840" cy="207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2643120" cy="123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22384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34:43Z</dcterms:created>
  <dc:creator>Agnes</dc:creator>
  <dc:description/>
  <dc:language>en-US</dc:language>
  <cp:lastModifiedBy>Agnes</cp:lastModifiedBy>
  <dcterms:modified xsi:type="dcterms:W3CDTF">2008-05-12T08:20:37Z</dcterms:modified>
  <cp:revision>17</cp:revision>
  <dc:subject/>
  <dc:title>Diapositiva 1</dc:title>
</cp:coreProperties>
</file>