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6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806DA-0BD7-453E-B5CB-E021EC85F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DA43B-A85F-4358-807C-DFD604D31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1553F-67B4-4F7A-9ACE-187F9561B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F7F45-1CA9-4A72-A39E-026D371A6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13AA0-57B4-4812-9690-2B1848DC9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72B01-50A1-48A2-B937-575646A98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67CBB-8F80-452C-BB26-D538CD606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2AA59-39BC-4115-A32D-B4BA34C61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DF3E8-3B53-43B9-8035-58C28839F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09F4C-2E37-463E-9E68-5F758A452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02A9A-3B70-4167-907C-1368AA958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74E18-53D4-425E-B983-C5915152F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EB7B9-1EDB-4792-B851-03C1AE04F0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1.1.La unión PN en equilib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33880" y="990720"/>
            <a:ext cx="3618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Gill Sans MT Shadow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179360" y="990720"/>
            <a:ext cx="36036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0000"/>
                </a:solidFill>
                <a:latin typeface="Gill Sans MT Shadow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304920" y="1447920"/>
            <a:ext cx="4828680" cy="1623960"/>
            <a:chOff x="304920" y="1447920"/>
            <a:chExt cx="4828680" cy="1623960"/>
          </a:xfrm>
        </p:grpSpPr>
        <p:sp>
          <p:nvSpPr>
            <p:cNvPr id="45" name=""/>
            <p:cNvSpPr/>
            <p:nvPr/>
          </p:nvSpPr>
          <p:spPr>
            <a:xfrm>
              <a:off x="304920" y="1447920"/>
              <a:ext cx="2412720" cy="1623960"/>
            </a:xfrm>
            <a:prstGeom prst="rect">
              <a:avLst/>
            </a:prstGeom>
            <a:solidFill>
              <a:srgbClr val="ff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720880" y="1447920"/>
              <a:ext cx="2412720" cy="1623960"/>
            </a:xfrm>
            <a:prstGeom prst="rect">
              <a:avLst/>
            </a:prstGeom>
            <a:solidFill>
              <a:srgbClr val="cce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" name=""/>
            <p:cNvGrpSpPr/>
            <p:nvPr/>
          </p:nvGrpSpPr>
          <p:grpSpPr>
            <a:xfrm>
              <a:off x="484200" y="1629000"/>
              <a:ext cx="253440" cy="222120"/>
              <a:chOff x="484200" y="1629000"/>
              <a:chExt cx="253440" cy="222120"/>
            </a:xfrm>
          </p:grpSpPr>
          <p:sp>
            <p:nvSpPr>
              <p:cNvPr id="48" name=""/>
              <p:cNvSpPr/>
              <p:nvPr/>
            </p:nvSpPr>
            <p:spPr>
              <a:xfrm>
                <a:off x="484200" y="1629000"/>
                <a:ext cx="221400" cy="22212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678960" y="1629000"/>
                <a:ext cx="58680" cy="59040"/>
              </a:xfrm>
              <a:prstGeom prst="ellipse">
                <a:avLst/>
              </a:prstGeom>
              <a:noFill/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" name=""/>
            <p:cNvGrpSpPr/>
            <p:nvPr/>
          </p:nvGrpSpPr>
          <p:grpSpPr>
            <a:xfrm>
              <a:off x="846000" y="1629000"/>
              <a:ext cx="253800" cy="222120"/>
              <a:chOff x="846000" y="1629000"/>
              <a:chExt cx="253800" cy="222120"/>
            </a:xfrm>
          </p:grpSpPr>
          <p:sp>
            <p:nvSpPr>
              <p:cNvPr id="51" name=""/>
              <p:cNvSpPr/>
              <p:nvPr/>
            </p:nvSpPr>
            <p:spPr>
              <a:xfrm>
                <a:off x="846000" y="1629000"/>
                <a:ext cx="221760" cy="22212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1041120" y="1629000"/>
                <a:ext cx="58680" cy="59040"/>
              </a:xfrm>
              <a:prstGeom prst="ellipse">
                <a:avLst/>
              </a:prstGeom>
              <a:noFill/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1206360" y="1629000"/>
              <a:ext cx="253800" cy="222120"/>
              <a:chOff x="1206360" y="1629000"/>
              <a:chExt cx="253800" cy="222120"/>
            </a:xfrm>
          </p:grpSpPr>
          <p:sp>
            <p:nvSpPr>
              <p:cNvPr id="54" name=""/>
              <p:cNvSpPr/>
              <p:nvPr/>
            </p:nvSpPr>
            <p:spPr>
              <a:xfrm>
                <a:off x="1206360" y="1629000"/>
                <a:ext cx="221760" cy="22212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401480" y="1629000"/>
                <a:ext cx="58680" cy="59040"/>
              </a:xfrm>
              <a:prstGeom prst="ellipse">
                <a:avLst/>
              </a:prstGeom>
              <a:noFill/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"/>
            <p:cNvGrpSpPr/>
            <p:nvPr/>
          </p:nvGrpSpPr>
          <p:grpSpPr>
            <a:xfrm>
              <a:off x="1566720" y="1629000"/>
              <a:ext cx="255240" cy="222120"/>
              <a:chOff x="1566720" y="1629000"/>
              <a:chExt cx="255240" cy="222120"/>
            </a:xfrm>
          </p:grpSpPr>
          <p:sp>
            <p:nvSpPr>
              <p:cNvPr id="57" name=""/>
              <p:cNvSpPr/>
              <p:nvPr/>
            </p:nvSpPr>
            <p:spPr>
              <a:xfrm>
                <a:off x="1566720" y="1629000"/>
                <a:ext cx="222840" cy="22212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762920" y="1629000"/>
                <a:ext cx="59040" cy="59040"/>
              </a:xfrm>
              <a:prstGeom prst="ellipse">
                <a:avLst/>
              </a:prstGeom>
              <a:noFill/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" name=""/>
            <p:cNvGrpSpPr/>
            <p:nvPr/>
          </p:nvGrpSpPr>
          <p:grpSpPr>
            <a:xfrm>
              <a:off x="1927080" y="1629000"/>
              <a:ext cx="255240" cy="222120"/>
              <a:chOff x="1927080" y="1629000"/>
              <a:chExt cx="255240" cy="222120"/>
            </a:xfrm>
          </p:grpSpPr>
          <p:sp>
            <p:nvSpPr>
              <p:cNvPr id="60" name=""/>
              <p:cNvSpPr/>
              <p:nvPr/>
            </p:nvSpPr>
            <p:spPr>
              <a:xfrm>
                <a:off x="1927080" y="1629000"/>
                <a:ext cx="222840" cy="22212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2123280" y="1629000"/>
                <a:ext cx="59040" cy="59040"/>
              </a:xfrm>
              <a:prstGeom prst="ellipse">
                <a:avLst/>
              </a:prstGeom>
              <a:noFill/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" name=""/>
            <p:cNvGrpSpPr/>
            <p:nvPr/>
          </p:nvGrpSpPr>
          <p:grpSpPr>
            <a:xfrm>
              <a:off x="2287440" y="1629000"/>
              <a:ext cx="253800" cy="222120"/>
              <a:chOff x="2287440" y="1629000"/>
              <a:chExt cx="253800" cy="222120"/>
            </a:xfrm>
          </p:grpSpPr>
          <p:sp>
            <p:nvSpPr>
              <p:cNvPr id="63" name=""/>
              <p:cNvSpPr/>
              <p:nvPr/>
            </p:nvSpPr>
            <p:spPr>
              <a:xfrm>
                <a:off x="2287440" y="1629000"/>
                <a:ext cx="221760" cy="22212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2482560" y="1629000"/>
                <a:ext cx="58680" cy="59040"/>
              </a:xfrm>
              <a:prstGeom prst="ellipse">
                <a:avLst/>
              </a:prstGeom>
              <a:noFill/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484200" y="2170440"/>
              <a:ext cx="253440" cy="220680"/>
              <a:chOff x="484200" y="2170440"/>
              <a:chExt cx="253440" cy="220680"/>
            </a:xfrm>
          </p:grpSpPr>
          <p:sp>
            <p:nvSpPr>
              <p:cNvPr id="66" name=""/>
              <p:cNvSpPr/>
              <p:nvPr/>
            </p:nvSpPr>
            <p:spPr>
              <a:xfrm>
                <a:off x="484200" y="2170440"/>
                <a:ext cx="221400" cy="22068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678960" y="2170440"/>
                <a:ext cx="58680" cy="58680"/>
              </a:xfrm>
              <a:prstGeom prst="ellipse">
                <a:avLst/>
              </a:prstGeom>
              <a:noFill/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8" name=""/>
            <p:cNvGrpSpPr/>
            <p:nvPr/>
          </p:nvGrpSpPr>
          <p:grpSpPr>
            <a:xfrm>
              <a:off x="846000" y="2170440"/>
              <a:ext cx="253800" cy="220680"/>
              <a:chOff x="846000" y="2170440"/>
              <a:chExt cx="253800" cy="220680"/>
            </a:xfrm>
          </p:grpSpPr>
          <p:sp>
            <p:nvSpPr>
              <p:cNvPr id="69" name=""/>
              <p:cNvSpPr/>
              <p:nvPr/>
            </p:nvSpPr>
            <p:spPr>
              <a:xfrm>
                <a:off x="846000" y="2170440"/>
                <a:ext cx="221760" cy="22068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1041120" y="2170440"/>
                <a:ext cx="58680" cy="58680"/>
              </a:xfrm>
              <a:prstGeom prst="ellipse">
                <a:avLst/>
              </a:prstGeom>
              <a:noFill/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" name=""/>
            <p:cNvGrpSpPr/>
            <p:nvPr/>
          </p:nvGrpSpPr>
          <p:grpSpPr>
            <a:xfrm>
              <a:off x="1206360" y="2170440"/>
              <a:ext cx="253800" cy="220680"/>
              <a:chOff x="1206360" y="2170440"/>
              <a:chExt cx="253800" cy="220680"/>
            </a:xfrm>
          </p:grpSpPr>
          <p:sp>
            <p:nvSpPr>
              <p:cNvPr id="72" name=""/>
              <p:cNvSpPr/>
              <p:nvPr/>
            </p:nvSpPr>
            <p:spPr>
              <a:xfrm>
                <a:off x="1206360" y="2170440"/>
                <a:ext cx="221760" cy="22068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1401480" y="2170440"/>
                <a:ext cx="58680" cy="58680"/>
              </a:xfrm>
              <a:prstGeom prst="ellipse">
                <a:avLst/>
              </a:prstGeom>
              <a:noFill/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" name=""/>
            <p:cNvGrpSpPr/>
            <p:nvPr/>
          </p:nvGrpSpPr>
          <p:grpSpPr>
            <a:xfrm>
              <a:off x="1566720" y="2170440"/>
              <a:ext cx="255240" cy="220680"/>
              <a:chOff x="1566720" y="2170440"/>
              <a:chExt cx="255240" cy="220680"/>
            </a:xfrm>
          </p:grpSpPr>
          <p:sp>
            <p:nvSpPr>
              <p:cNvPr id="75" name=""/>
              <p:cNvSpPr/>
              <p:nvPr/>
            </p:nvSpPr>
            <p:spPr>
              <a:xfrm>
                <a:off x="1566720" y="2170440"/>
                <a:ext cx="222840" cy="22068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1762920" y="2170440"/>
                <a:ext cx="59040" cy="58680"/>
              </a:xfrm>
              <a:prstGeom prst="ellipse">
                <a:avLst/>
              </a:prstGeom>
              <a:noFill/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" name=""/>
            <p:cNvGrpSpPr/>
            <p:nvPr/>
          </p:nvGrpSpPr>
          <p:grpSpPr>
            <a:xfrm>
              <a:off x="1927080" y="2170440"/>
              <a:ext cx="255240" cy="220680"/>
              <a:chOff x="1927080" y="2170440"/>
              <a:chExt cx="255240" cy="220680"/>
            </a:xfrm>
          </p:grpSpPr>
          <p:sp>
            <p:nvSpPr>
              <p:cNvPr id="78" name=""/>
              <p:cNvSpPr/>
              <p:nvPr/>
            </p:nvSpPr>
            <p:spPr>
              <a:xfrm>
                <a:off x="1927080" y="2170440"/>
                <a:ext cx="222840" cy="22068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2123280" y="2170440"/>
                <a:ext cx="59040" cy="58680"/>
              </a:xfrm>
              <a:prstGeom prst="ellipse">
                <a:avLst/>
              </a:prstGeom>
              <a:noFill/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2287440" y="2170440"/>
              <a:ext cx="253800" cy="220680"/>
              <a:chOff x="2287440" y="2170440"/>
              <a:chExt cx="253800" cy="220680"/>
            </a:xfrm>
          </p:grpSpPr>
          <p:sp>
            <p:nvSpPr>
              <p:cNvPr id="81" name=""/>
              <p:cNvSpPr/>
              <p:nvPr/>
            </p:nvSpPr>
            <p:spPr>
              <a:xfrm>
                <a:off x="2287440" y="2170440"/>
                <a:ext cx="221760" cy="22068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2482560" y="2170440"/>
                <a:ext cx="58680" cy="58680"/>
              </a:xfrm>
              <a:prstGeom prst="ellipse">
                <a:avLst/>
              </a:prstGeom>
              <a:noFill/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" name=""/>
            <p:cNvGrpSpPr/>
            <p:nvPr/>
          </p:nvGrpSpPr>
          <p:grpSpPr>
            <a:xfrm>
              <a:off x="484200" y="2710080"/>
              <a:ext cx="253440" cy="220680"/>
              <a:chOff x="484200" y="2710080"/>
              <a:chExt cx="253440" cy="220680"/>
            </a:xfrm>
          </p:grpSpPr>
          <p:sp>
            <p:nvSpPr>
              <p:cNvPr id="84" name=""/>
              <p:cNvSpPr/>
              <p:nvPr/>
            </p:nvSpPr>
            <p:spPr>
              <a:xfrm>
                <a:off x="484200" y="2710080"/>
                <a:ext cx="221400" cy="22068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678960" y="2710080"/>
                <a:ext cx="58680" cy="58680"/>
              </a:xfrm>
              <a:prstGeom prst="ellipse">
                <a:avLst/>
              </a:prstGeom>
              <a:noFill/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" name=""/>
            <p:cNvGrpSpPr/>
            <p:nvPr/>
          </p:nvGrpSpPr>
          <p:grpSpPr>
            <a:xfrm>
              <a:off x="846000" y="2710080"/>
              <a:ext cx="253800" cy="220680"/>
              <a:chOff x="846000" y="2710080"/>
              <a:chExt cx="253800" cy="220680"/>
            </a:xfrm>
          </p:grpSpPr>
          <p:sp>
            <p:nvSpPr>
              <p:cNvPr id="87" name=""/>
              <p:cNvSpPr/>
              <p:nvPr/>
            </p:nvSpPr>
            <p:spPr>
              <a:xfrm>
                <a:off x="846000" y="2710080"/>
                <a:ext cx="221760" cy="22068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1041120" y="2710080"/>
                <a:ext cx="58680" cy="58680"/>
              </a:xfrm>
              <a:prstGeom prst="ellipse">
                <a:avLst/>
              </a:prstGeom>
              <a:noFill/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9" name=""/>
            <p:cNvGrpSpPr/>
            <p:nvPr/>
          </p:nvGrpSpPr>
          <p:grpSpPr>
            <a:xfrm>
              <a:off x="1206360" y="2710080"/>
              <a:ext cx="253800" cy="220680"/>
              <a:chOff x="1206360" y="2710080"/>
              <a:chExt cx="253800" cy="220680"/>
            </a:xfrm>
          </p:grpSpPr>
          <p:sp>
            <p:nvSpPr>
              <p:cNvPr id="90" name=""/>
              <p:cNvSpPr/>
              <p:nvPr/>
            </p:nvSpPr>
            <p:spPr>
              <a:xfrm>
                <a:off x="1206360" y="2710080"/>
                <a:ext cx="221760" cy="22068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1401480" y="2710080"/>
                <a:ext cx="58680" cy="58680"/>
              </a:xfrm>
              <a:prstGeom prst="ellipse">
                <a:avLst/>
              </a:prstGeom>
              <a:noFill/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2" name=""/>
            <p:cNvGrpSpPr/>
            <p:nvPr/>
          </p:nvGrpSpPr>
          <p:grpSpPr>
            <a:xfrm>
              <a:off x="1566720" y="2710080"/>
              <a:ext cx="255240" cy="220680"/>
              <a:chOff x="1566720" y="2710080"/>
              <a:chExt cx="255240" cy="220680"/>
            </a:xfrm>
          </p:grpSpPr>
          <p:sp>
            <p:nvSpPr>
              <p:cNvPr id="93" name=""/>
              <p:cNvSpPr/>
              <p:nvPr/>
            </p:nvSpPr>
            <p:spPr>
              <a:xfrm>
                <a:off x="1566720" y="2710080"/>
                <a:ext cx="222840" cy="22068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762920" y="2710080"/>
                <a:ext cx="59040" cy="58680"/>
              </a:xfrm>
              <a:prstGeom prst="ellipse">
                <a:avLst/>
              </a:prstGeom>
              <a:noFill/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5" name=""/>
            <p:cNvGrpSpPr/>
            <p:nvPr/>
          </p:nvGrpSpPr>
          <p:grpSpPr>
            <a:xfrm>
              <a:off x="1927080" y="2710080"/>
              <a:ext cx="255240" cy="220680"/>
              <a:chOff x="1927080" y="2710080"/>
              <a:chExt cx="255240" cy="220680"/>
            </a:xfrm>
          </p:grpSpPr>
          <p:sp>
            <p:nvSpPr>
              <p:cNvPr id="96" name=""/>
              <p:cNvSpPr/>
              <p:nvPr/>
            </p:nvSpPr>
            <p:spPr>
              <a:xfrm>
                <a:off x="1927080" y="2710080"/>
                <a:ext cx="222840" cy="22068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2123280" y="2710080"/>
                <a:ext cx="59040" cy="58680"/>
              </a:xfrm>
              <a:prstGeom prst="ellipse">
                <a:avLst/>
              </a:prstGeom>
              <a:noFill/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8" name=""/>
            <p:cNvGrpSpPr/>
            <p:nvPr/>
          </p:nvGrpSpPr>
          <p:grpSpPr>
            <a:xfrm>
              <a:off x="2287440" y="2710080"/>
              <a:ext cx="253800" cy="220680"/>
              <a:chOff x="2287440" y="2710080"/>
              <a:chExt cx="253800" cy="220680"/>
            </a:xfrm>
          </p:grpSpPr>
          <p:sp>
            <p:nvSpPr>
              <p:cNvPr id="99" name=""/>
              <p:cNvSpPr/>
              <p:nvPr/>
            </p:nvSpPr>
            <p:spPr>
              <a:xfrm>
                <a:off x="2287440" y="2710080"/>
                <a:ext cx="221760" cy="22068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2482560" y="2710080"/>
                <a:ext cx="58680" cy="58680"/>
              </a:xfrm>
              <a:prstGeom prst="ellipse">
                <a:avLst/>
              </a:prstGeom>
              <a:noFill/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" name=""/>
            <p:cNvGrpSpPr/>
            <p:nvPr/>
          </p:nvGrpSpPr>
          <p:grpSpPr>
            <a:xfrm>
              <a:off x="2900160" y="1629000"/>
              <a:ext cx="253800" cy="222120"/>
              <a:chOff x="2900160" y="1629000"/>
              <a:chExt cx="253800" cy="222120"/>
            </a:xfrm>
          </p:grpSpPr>
          <p:sp>
            <p:nvSpPr>
              <p:cNvPr id="102" name=""/>
              <p:cNvSpPr/>
              <p:nvPr/>
            </p:nvSpPr>
            <p:spPr>
              <a:xfrm>
                <a:off x="2900160" y="1629000"/>
                <a:ext cx="221760" cy="22212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3095280" y="1629000"/>
                <a:ext cx="58680" cy="5904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" name=""/>
            <p:cNvGrpSpPr/>
            <p:nvPr/>
          </p:nvGrpSpPr>
          <p:grpSpPr>
            <a:xfrm>
              <a:off x="3262320" y="1629000"/>
              <a:ext cx="253440" cy="222120"/>
              <a:chOff x="3262320" y="1629000"/>
              <a:chExt cx="253440" cy="222120"/>
            </a:xfrm>
          </p:grpSpPr>
          <p:sp>
            <p:nvSpPr>
              <p:cNvPr id="105" name=""/>
              <p:cNvSpPr/>
              <p:nvPr/>
            </p:nvSpPr>
            <p:spPr>
              <a:xfrm>
                <a:off x="3262320" y="1629000"/>
                <a:ext cx="221400" cy="22212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3457080" y="1629000"/>
                <a:ext cx="58680" cy="5904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3622680" y="1629000"/>
              <a:ext cx="253440" cy="222120"/>
              <a:chOff x="3622680" y="1629000"/>
              <a:chExt cx="253440" cy="222120"/>
            </a:xfrm>
          </p:grpSpPr>
          <p:sp>
            <p:nvSpPr>
              <p:cNvPr id="108" name=""/>
              <p:cNvSpPr/>
              <p:nvPr/>
            </p:nvSpPr>
            <p:spPr>
              <a:xfrm>
                <a:off x="3622680" y="1629000"/>
                <a:ext cx="221400" cy="22212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3817440" y="1629000"/>
                <a:ext cx="58680" cy="5904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" name=""/>
            <p:cNvGrpSpPr/>
            <p:nvPr/>
          </p:nvGrpSpPr>
          <p:grpSpPr>
            <a:xfrm>
              <a:off x="3983040" y="1629000"/>
              <a:ext cx="255240" cy="222120"/>
              <a:chOff x="3983040" y="1629000"/>
              <a:chExt cx="255240" cy="222120"/>
            </a:xfrm>
          </p:grpSpPr>
          <p:sp>
            <p:nvSpPr>
              <p:cNvPr id="111" name=""/>
              <p:cNvSpPr/>
              <p:nvPr/>
            </p:nvSpPr>
            <p:spPr>
              <a:xfrm>
                <a:off x="3983040" y="1629000"/>
                <a:ext cx="222840" cy="22212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4179240" y="1629000"/>
                <a:ext cx="59040" cy="5904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" name=""/>
            <p:cNvGrpSpPr/>
            <p:nvPr/>
          </p:nvGrpSpPr>
          <p:grpSpPr>
            <a:xfrm>
              <a:off x="4343400" y="1629000"/>
              <a:ext cx="255240" cy="222120"/>
              <a:chOff x="4343400" y="1629000"/>
              <a:chExt cx="255240" cy="222120"/>
            </a:xfrm>
          </p:grpSpPr>
          <p:sp>
            <p:nvSpPr>
              <p:cNvPr id="114" name=""/>
              <p:cNvSpPr/>
              <p:nvPr/>
            </p:nvSpPr>
            <p:spPr>
              <a:xfrm>
                <a:off x="4343400" y="1629000"/>
                <a:ext cx="222840" cy="22212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4539600" y="1629000"/>
                <a:ext cx="59040" cy="5904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" name=""/>
            <p:cNvGrpSpPr/>
            <p:nvPr/>
          </p:nvGrpSpPr>
          <p:grpSpPr>
            <a:xfrm>
              <a:off x="4703760" y="1629000"/>
              <a:ext cx="253440" cy="222120"/>
              <a:chOff x="4703760" y="1629000"/>
              <a:chExt cx="253440" cy="222120"/>
            </a:xfrm>
          </p:grpSpPr>
          <p:sp>
            <p:nvSpPr>
              <p:cNvPr id="117" name=""/>
              <p:cNvSpPr/>
              <p:nvPr/>
            </p:nvSpPr>
            <p:spPr>
              <a:xfrm>
                <a:off x="4703760" y="1629000"/>
                <a:ext cx="221400" cy="22212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4898520" y="1629000"/>
                <a:ext cx="58680" cy="5904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9" name=""/>
            <p:cNvGrpSpPr/>
            <p:nvPr/>
          </p:nvGrpSpPr>
          <p:grpSpPr>
            <a:xfrm>
              <a:off x="2900160" y="2170440"/>
              <a:ext cx="253800" cy="220680"/>
              <a:chOff x="2900160" y="2170440"/>
              <a:chExt cx="253800" cy="220680"/>
            </a:xfrm>
          </p:grpSpPr>
          <p:sp>
            <p:nvSpPr>
              <p:cNvPr id="120" name=""/>
              <p:cNvSpPr/>
              <p:nvPr/>
            </p:nvSpPr>
            <p:spPr>
              <a:xfrm>
                <a:off x="2900160" y="2170440"/>
                <a:ext cx="221760" cy="22068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3095280" y="2170440"/>
                <a:ext cx="58680" cy="5868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2" name=""/>
            <p:cNvGrpSpPr/>
            <p:nvPr/>
          </p:nvGrpSpPr>
          <p:grpSpPr>
            <a:xfrm>
              <a:off x="3262320" y="2170440"/>
              <a:ext cx="253440" cy="220680"/>
              <a:chOff x="3262320" y="2170440"/>
              <a:chExt cx="253440" cy="220680"/>
            </a:xfrm>
          </p:grpSpPr>
          <p:sp>
            <p:nvSpPr>
              <p:cNvPr id="123" name=""/>
              <p:cNvSpPr/>
              <p:nvPr/>
            </p:nvSpPr>
            <p:spPr>
              <a:xfrm>
                <a:off x="3262320" y="2170440"/>
                <a:ext cx="221400" cy="22068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457080" y="2170440"/>
                <a:ext cx="58680" cy="5868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" name=""/>
            <p:cNvGrpSpPr/>
            <p:nvPr/>
          </p:nvGrpSpPr>
          <p:grpSpPr>
            <a:xfrm>
              <a:off x="3622680" y="2170440"/>
              <a:ext cx="253440" cy="220680"/>
              <a:chOff x="3622680" y="2170440"/>
              <a:chExt cx="253440" cy="220680"/>
            </a:xfrm>
          </p:grpSpPr>
          <p:sp>
            <p:nvSpPr>
              <p:cNvPr id="126" name=""/>
              <p:cNvSpPr/>
              <p:nvPr/>
            </p:nvSpPr>
            <p:spPr>
              <a:xfrm>
                <a:off x="3622680" y="2170440"/>
                <a:ext cx="221400" cy="22068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817440" y="2170440"/>
                <a:ext cx="58680" cy="5868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3983040" y="2170440"/>
              <a:ext cx="255240" cy="220680"/>
              <a:chOff x="3983040" y="2170440"/>
              <a:chExt cx="255240" cy="220680"/>
            </a:xfrm>
          </p:grpSpPr>
          <p:sp>
            <p:nvSpPr>
              <p:cNvPr id="129" name=""/>
              <p:cNvSpPr/>
              <p:nvPr/>
            </p:nvSpPr>
            <p:spPr>
              <a:xfrm>
                <a:off x="3983040" y="2170440"/>
                <a:ext cx="222840" cy="22068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4179240" y="2170440"/>
                <a:ext cx="59040" cy="5868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4343400" y="2170440"/>
              <a:ext cx="255240" cy="220680"/>
              <a:chOff x="4343400" y="2170440"/>
              <a:chExt cx="255240" cy="220680"/>
            </a:xfrm>
          </p:grpSpPr>
          <p:sp>
            <p:nvSpPr>
              <p:cNvPr id="132" name=""/>
              <p:cNvSpPr/>
              <p:nvPr/>
            </p:nvSpPr>
            <p:spPr>
              <a:xfrm>
                <a:off x="4343400" y="2170440"/>
                <a:ext cx="222840" cy="22068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539600" y="2170440"/>
                <a:ext cx="59040" cy="5868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" name=""/>
            <p:cNvGrpSpPr/>
            <p:nvPr/>
          </p:nvGrpSpPr>
          <p:grpSpPr>
            <a:xfrm>
              <a:off x="4703760" y="2170440"/>
              <a:ext cx="253440" cy="220680"/>
              <a:chOff x="4703760" y="2170440"/>
              <a:chExt cx="253440" cy="220680"/>
            </a:xfrm>
          </p:grpSpPr>
          <p:sp>
            <p:nvSpPr>
              <p:cNvPr id="135" name=""/>
              <p:cNvSpPr/>
              <p:nvPr/>
            </p:nvSpPr>
            <p:spPr>
              <a:xfrm>
                <a:off x="4703760" y="2170440"/>
                <a:ext cx="221400" cy="22068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898520" y="2170440"/>
                <a:ext cx="58680" cy="5868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" name=""/>
            <p:cNvGrpSpPr/>
            <p:nvPr/>
          </p:nvGrpSpPr>
          <p:grpSpPr>
            <a:xfrm>
              <a:off x="2900160" y="2710080"/>
              <a:ext cx="253800" cy="220680"/>
              <a:chOff x="2900160" y="2710080"/>
              <a:chExt cx="253800" cy="220680"/>
            </a:xfrm>
          </p:grpSpPr>
          <p:sp>
            <p:nvSpPr>
              <p:cNvPr id="138" name=""/>
              <p:cNvSpPr/>
              <p:nvPr/>
            </p:nvSpPr>
            <p:spPr>
              <a:xfrm>
                <a:off x="2900160" y="2710080"/>
                <a:ext cx="221760" cy="22068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3095280" y="2710080"/>
                <a:ext cx="58680" cy="5868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0" name=""/>
            <p:cNvGrpSpPr/>
            <p:nvPr/>
          </p:nvGrpSpPr>
          <p:grpSpPr>
            <a:xfrm>
              <a:off x="3262320" y="2710080"/>
              <a:ext cx="253440" cy="220680"/>
              <a:chOff x="3262320" y="2710080"/>
              <a:chExt cx="253440" cy="220680"/>
            </a:xfrm>
          </p:grpSpPr>
          <p:sp>
            <p:nvSpPr>
              <p:cNvPr id="141" name=""/>
              <p:cNvSpPr/>
              <p:nvPr/>
            </p:nvSpPr>
            <p:spPr>
              <a:xfrm>
                <a:off x="3262320" y="2710080"/>
                <a:ext cx="221400" cy="22068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3457080" y="2710080"/>
                <a:ext cx="58680" cy="5868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" name=""/>
            <p:cNvGrpSpPr/>
            <p:nvPr/>
          </p:nvGrpSpPr>
          <p:grpSpPr>
            <a:xfrm>
              <a:off x="3622680" y="2710080"/>
              <a:ext cx="253440" cy="220680"/>
              <a:chOff x="3622680" y="2710080"/>
              <a:chExt cx="253440" cy="220680"/>
            </a:xfrm>
          </p:grpSpPr>
          <p:sp>
            <p:nvSpPr>
              <p:cNvPr id="144" name=""/>
              <p:cNvSpPr/>
              <p:nvPr/>
            </p:nvSpPr>
            <p:spPr>
              <a:xfrm>
                <a:off x="3622680" y="2710080"/>
                <a:ext cx="221400" cy="22068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3817440" y="2710080"/>
                <a:ext cx="58680" cy="5868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" name=""/>
            <p:cNvGrpSpPr/>
            <p:nvPr/>
          </p:nvGrpSpPr>
          <p:grpSpPr>
            <a:xfrm>
              <a:off x="3983040" y="2710080"/>
              <a:ext cx="255240" cy="220680"/>
              <a:chOff x="3983040" y="2710080"/>
              <a:chExt cx="255240" cy="220680"/>
            </a:xfrm>
          </p:grpSpPr>
          <p:sp>
            <p:nvSpPr>
              <p:cNvPr id="147" name=""/>
              <p:cNvSpPr/>
              <p:nvPr/>
            </p:nvSpPr>
            <p:spPr>
              <a:xfrm>
                <a:off x="3983040" y="2710080"/>
                <a:ext cx="222840" cy="22068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4179240" y="2710080"/>
                <a:ext cx="59040" cy="5868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9" name=""/>
            <p:cNvGrpSpPr/>
            <p:nvPr/>
          </p:nvGrpSpPr>
          <p:grpSpPr>
            <a:xfrm>
              <a:off x="4343400" y="2710080"/>
              <a:ext cx="255240" cy="220680"/>
              <a:chOff x="4343400" y="2710080"/>
              <a:chExt cx="255240" cy="220680"/>
            </a:xfrm>
          </p:grpSpPr>
          <p:sp>
            <p:nvSpPr>
              <p:cNvPr id="150" name=""/>
              <p:cNvSpPr/>
              <p:nvPr/>
            </p:nvSpPr>
            <p:spPr>
              <a:xfrm>
                <a:off x="4343400" y="2710080"/>
                <a:ext cx="222840" cy="22068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539600" y="2710080"/>
                <a:ext cx="59040" cy="5868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703760" y="2710080"/>
              <a:ext cx="253440" cy="220680"/>
              <a:chOff x="4703760" y="2710080"/>
              <a:chExt cx="253440" cy="220680"/>
            </a:xfrm>
          </p:grpSpPr>
          <p:sp>
            <p:nvSpPr>
              <p:cNvPr id="153" name=""/>
              <p:cNvSpPr/>
              <p:nvPr/>
            </p:nvSpPr>
            <p:spPr>
              <a:xfrm>
                <a:off x="4703760" y="2710080"/>
                <a:ext cx="221400" cy="22068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898520" y="2710080"/>
                <a:ext cx="58680" cy="5868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5" name=""/>
          <p:cNvGrpSpPr/>
          <p:nvPr/>
        </p:nvGrpSpPr>
        <p:grpSpPr>
          <a:xfrm>
            <a:off x="1676520" y="3124080"/>
            <a:ext cx="2286000" cy="797040"/>
            <a:chOff x="1676520" y="3124080"/>
            <a:chExt cx="2286000" cy="797040"/>
          </a:xfrm>
        </p:grpSpPr>
        <p:sp>
          <p:nvSpPr>
            <p:cNvPr id="156" name=""/>
            <p:cNvSpPr/>
            <p:nvPr/>
          </p:nvSpPr>
          <p:spPr>
            <a:xfrm>
              <a:off x="3326040" y="3522600"/>
              <a:ext cx="4348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ff"/>
                  </a:solidFill>
                  <a:latin typeface="Arial"/>
                </a:rPr>
                <a:t>I</a:t>
              </a:r>
              <a:r>
                <a:rPr b="0" lang="es-ES_tradnl" sz="2000" spc="-1" strike="noStrike" baseline="-25000">
                  <a:solidFill>
                    <a:srgbClr val="0000ff"/>
                  </a:solidFill>
                  <a:latin typeface="Arial"/>
                </a:rPr>
                <a:t>ndi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326040" y="3124080"/>
              <a:ext cx="6364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79bc"/>
                  </a:solidFill>
                  <a:latin typeface="Arial"/>
                </a:rPr>
                <a:t>I</a:t>
              </a:r>
              <a:r>
                <a:rPr b="0" lang="es-ES_tradnl" sz="2000" spc="-1" strike="noStrike" baseline="-25000">
                  <a:solidFill>
                    <a:srgbClr val="ff79bc"/>
                  </a:solidFill>
                  <a:latin typeface="Arial"/>
                </a:rPr>
                <a:t>pd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676520" y="3124080"/>
              <a:ext cx="52884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0000"/>
                  </a:solidFill>
                  <a:latin typeface="Arial"/>
                </a:rPr>
                <a:t>I</a:t>
              </a:r>
              <a:r>
                <a:rPr b="0" lang="es-ES_tradnl" sz="2000" spc="-1" strike="noStrike" baseline="-25000">
                  <a:solidFill>
                    <a:srgbClr val="ff0000"/>
                  </a:solidFill>
                  <a:latin typeface="Arial"/>
                </a:rPr>
                <a:t>pdi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676520" y="3522600"/>
              <a:ext cx="52884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8000"/>
                  </a:solidFill>
                  <a:latin typeface="Arial"/>
                </a:rPr>
                <a:t>I</a:t>
              </a:r>
              <a:r>
                <a:rPr b="0" lang="es-ES_tradnl" sz="2000" spc="-1" strike="noStrike" baseline="-25000">
                  <a:solidFill>
                    <a:srgbClr val="008000"/>
                  </a:solidFill>
                  <a:latin typeface="Arial"/>
                </a:rPr>
                <a:t>nd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133720" y="3276360"/>
              <a:ext cx="457200" cy="22860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819520" y="3581280"/>
              <a:ext cx="457200" cy="22860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>
              <a:off x="2819520" y="3276360"/>
              <a:ext cx="457200" cy="22860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ff79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 flipH="1">
              <a:off x="2133720" y="3581280"/>
              <a:ext cx="457200" cy="22860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304920" y="1447920"/>
            <a:ext cx="4828680" cy="2190240"/>
            <a:chOff x="304920" y="1447920"/>
            <a:chExt cx="4828680" cy="2190240"/>
          </a:xfrm>
        </p:grpSpPr>
        <p:sp>
          <p:nvSpPr>
            <p:cNvPr id="165" name=""/>
            <p:cNvSpPr/>
            <p:nvPr/>
          </p:nvSpPr>
          <p:spPr>
            <a:xfrm>
              <a:off x="333360" y="3276360"/>
              <a:ext cx="914040" cy="36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Arial"/>
                </a:rPr>
                <a:t>300 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04920" y="1447920"/>
              <a:ext cx="2412720" cy="1623600"/>
            </a:xfrm>
            <a:prstGeom prst="rect">
              <a:avLst/>
            </a:prstGeom>
            <a:solidFill>
              <a:srgbClr val="ff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720880" y="1447920"/>
              <a:ext cx="2412720" cy="1623600"/>
            </a:xfrm>
            <a:prstGeom prst="rect">
              <a:avLst/>
            </a:prstGeom>
            <a:solidFill>
              <a:srgbClr val="cce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" name=""/>
            <p:cNvGrpSpPr/>
            <p:nvPr/>
          </p:nvGrpSpPr>
          <p:grpSpPr>
            <a:xfrm>
              <a:off x="520560" y="1628640"/>
              <a:ext cx="223560" cy="220320"/>
              <a:chOff x="520560" y="1628640"/>
              <a:chExt cx="223560" cy="220320"/>
            </a:xfrm>
          </p:grpSpPr>
          <p:sp>
            <p:nvSpPr>
              <p:cNvPr id="169" name=""/>
              <p:cNvSpPr/>
              <p:nvPr/>
            </p:nvSpPr>
            <p:spPr>
              <a:xfrm>
                <a:off x="520920" y="1628640"/>
                <a:ext cx="222480" cy="22032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520560" y="1738440"/>
                <a:ext cx="223560" cy="3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1" name=""/>
            <p:cNvGrpSpPr/>
            <p:nvPr/>
          </p:nvGrpSpPr>
          <p:grpSpPr>
            <a:xfrm>
              <a:off x="880920" y="1628640"/>
              <a:ext cx="223560" cy="220320"/>
              <a:chOff x="880920" y="1628640"/>
              <a:chExt cx="223560" cy="220320"/>
            </a:xfrm>
          </p:grpSpPr>
          <p:sp>
            <p:nvSpPr>
              <p:cNvPr id="172" name=""/>
              <p:cNvSpPr/>
              <p:nvPr/>
            </p:nvSpPr>
            <p:spPr>
              <a:xfrm>
                <a:off x="881280" y="1628640"/>
                <a:ext cx="222480" cy="22032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880920" y="1738440"/>
                <a:ext cx="223560" cy="3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4" name=""/>
            <p:cNvGrpSpPr/>
            <p:nvPr/>
          </p:nvGrpSpPr>
          <p:grpSpPr>
            <a:xfrm>
              <a:off x="1241280" y="1628640"/>
              <a:ext cx="223560" cy="220320"/>
              <a:chOff x="1241280" y="1628640"/>
              <a:chExt cx="223560" cy="220320"/>
            </a:xfrm>
          </p:grpSpPr>
          <p:sp>
            <p:nvSpPr>
              <p:cNvPr id="175" name=""/>
              <p:cNvSpPr/>
              <p:nvPr/>
            </p:nvSpPr>
            <p:spPr>
              <a:xfrm>
                <a:off x="1241640" y="1628640"/>
                <a:ext cx="222480" cy="22032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1241280" y="1738440"/>
                <a:ext cx="223560" cy="3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7" name=""/>
            <p:cNvGrpSpPr/>
            <p:nvPr/>
          </p:nvGrpSpPr>
          <p:grpSpPr>
            <a:xfrm>
              <a:off x="1603080" y="1628640"/>
              <a:ext cx="223560" cy="220320"/>
              <a:chOff x="1603080" y="1628640"/>
              <a:chExt cx="223560" cy="220320"/>
            </a:xfrm>
          </p:grpSpPr>
          <p:sp>
            <p:nvSpPr>
              <p:cNvPr id="178" name=""/>
              <p:cNvSpPr/>
              <p:nvPr/>
            </p:nvSpPr>
            <p:spPr>
              <a:xfrm>
                <a:off x="1603440" y="1628640"/>
                <a:ext cx="222480" cy="22032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1603080" y="1738440"/>
                <a:ext cx="223560" cy="3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1963440" y="1628640"/>
              <a:ext cx="223560" cy="220320"/>
              <a:chOff x="1963440" y="1628640"/>
              <a:chExt cx="223560" cy="220320"/>
            </a:xfrm>
          </p:grpSpPr>
          <p:sp>
            <p:nvSpPr>
              <p:cNvPr id="181" name=""/>
              <p:cNvSpPr/>
              <p:nvPr/>
            </p:nvSpPr>
            <p:spPr>
              <a:xfrm>
                <a:off x="1963800" y="1628640"/>
                <a:ext cx="222480" cy="22032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1963440" y="1738440"/>
                <a:ext cx="223560" cy="3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3" name=""/>
            <p:cNvGrpSpPr/>
            <p:nvPr/>
          </p:nvGrpSpPr>
          <p:grpSpPr>
            <a:xfrm>
              <a:off x="2324160" y="1628640"/>
              <a:ext cx="221760" cy="220320"/>
              <a:chOff x="2324160" y="1628640"/>
              <a:chExt cx="221760" cy="220320"/>
            </a:xfrm>
          </p:grpSpPr>
          <p:sp>
            <p:nvSpPr>
              <p:cNvPr id="184" name=""/>
              <p:cNvSpPr/>
              <p:nvPr/>
            </p:nvSpPr>
            <p:spPr>
              <a:xfrm>
                <a:off x="2324520" y="1628640"/>
                <a:ext cx="220680" cy="22032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2324160" y="1738440"/>
                <a:ext cx="221760" cy="3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6" name=""/>
            <p:cNvGrpSpPr/>
            <p:nvPr/>
          </p:nvGrpSpPr>
          <p:grpSpPr>
            <a:xfrm>
              <a:off x="520560" y="2168280"/>
              <a:ext cx="221760" cy="222120"/>
              <a:chOff x="520560" y="2168280"/>
              <a:chExt cx="221760" cy="222120"/>
            </a:xfrm>
          </p:grpSpPr>
          <p:sp>
            <p:nvSpPr>
              <p:cNvPr id="187" name=""/>
              <p:cNvSpPr/>
              <p:nvPr/>
            </p:nvSpPr>
            <p:spPr>
              <a:xfrm>
                <a:off x="520920" y="2168280"/>
                <a:ext cx="220680" cy="22212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520560" y="2279160"/>
                <a:ext cx="221760" cy="3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9" name=""/>
            <p:cNvGrpSpPr/>
            <p:nvPr/>
          </p:nvGrpSpPr>
          <p:grpSpPr>
            <a:xfrm>
              <a:off x="882360" y="2168280"/>
              <a:ext cx="223560" cy="222120"/>
              <a:chOff x="882360" y="2168280"/>
              <a:chExt cx="223560" cy="222120"/>
            </a:xfrm>
          </p:grpSpPr>
          <p:sp>
            <p:nvSpPr>
              <p:cNvPr id="190" name=""/>
              <p:cNvSpPr/>
              <p:nvPr/>
            </p:nvSpPr>
            <p:spPr>
              <a:xfrm>
                <a:off x="882720" y="2168280"/>
                <a:ext cx="222480" cy="22212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882360" y="2279160"/>
                <a:ext cx="223560" cy="3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2" name=""/>
            <p:cNvGrpSpPr/>
            <p:nvPr/>
          </p:nvGrpSpPr>
          <p:grpSpPr>
            <a:xfrm>
              <a:off x="1242720" y="2168280"/>
              <a:ext cx="223560" cy="222120"/>
              <a:chOff x="1242720" y="2168280"/>
              <a:chExt cx="223560" cy="222120"/>
            </a:xfrm>
          </p:grpSpPr>
          <p:sp>
            <p:nvSpPr>
              <p:cNvPr id="193" name=""/>
              <p:cNvSpPr/>
              <p:nvPr/>
            </p:nvSpPr>
            <p:spPr>
              <a:xfrm>
                <a:off x="1243080" y="2168280"/>
                <a:ext cx="222480" cy="22212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1242720" y="2279160"/>
                <a:ext cx="223560" cy="3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5" name=""/>
            <p:cNvGrpSpPr/>
            <p:nvPr/>
          </p:nvGrpSpPr>
          <p:grpSpPr>
            <a:xfrm>
              <a:off x="1603080" y="2168280"/>
              <a:ext cx="222120" cy="222120"/>
              <a:chOff x="1603080" y="2168280"/>
              <a:chExt cx="222120" cy="222120"/>
            </a:xfrm>
          </p:grpSpPr>
          <p:sp>
            <p:nvSpPr>
              <p:cNvPr id="196" name=""/>
              <p:cNvSpPr/>
              <p:nvPr/>
            </p:nvSpPr>
            <p:spPr>
              <a:xfrm>
                <a:off x="1603440" y="2168280"/>
                <a:ext cx="221040" cy="22212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1603080" y="2279160"/>
                <a:ext cx="222120" cy="3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1963440" y="2168280"/>
              <a:ext cx="223560" cy="222120"/>
              <a:chOff x="1963440" y="2168280"/>
              <a:chExt cx="223560" cy="222120"/>
            </a:xfrm>
          </p:grpSpPr>
          <p:sp>
            <p:nvSpPr>
              <p:cNvPr id="199" name=""/>
              <p:cNvSpPr/>
              <p:nvPr/>
            </p:nvSpPr>
            <p:spPr>
              <a:xfrm>
                <a:off x="1963800" y="2168280"/>
                <a:ext cx="222480" cy="22212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1963440" y="2279160"/>
                <a:ext cx="223560" cy="3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1" name=""/>
            <p:cNvGrpSpPr/>
            <p:nvPr/>
          </p:nvGrpSpPr>
          <p:grpSpPr>
            <a:xfrm>
              <a:off x="2324160" y="2168280"/>
              <a:ext cx="223200" cy="222120"/>
              <a:chOff x="2324160" y="2168280"/>
              <a:chExt cx="223200" cy="222120"/>
            </a:xfrm>
          </p:grpSpPr>
          <p:sp>
            <p:nvSpPr>
              <p:cNvPr id="202" name=""/>
              <p:cNvSpPr/>
              <p:nvPr/>
            </p:nvSpPr>
            <p:spPr>
              <a:xfrm>
                <a:off x="2324520" y="2168280"/>
                <a:ext cx="222120" cy="22212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2324160" y="2279160"/>
                <a:ext cx="223200" cy="3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4" name=""/>
            <p:cNvGrpSpPr/>
            <p:nvPr/>
          </p:nvGrpSpPr>
          <p:grpSpPr>
            <a:xfrm>
              <a:off x="520560" y="2709720"/>
              <a:ext cx="221760" cy="221760"/>
              <a:chOff x="520560" y="2709720"/>
              <a:chExt cx="221760" cy="221760"/>
            </a:xfrm>
          </p:grpSpPr>
          <p:sp>
            <p:nvSpPr>
              <p:cNvPr id="205" name=""/>
              <p:cNvSpPr/>
              <p:nvPr/>
            </p:nvSpPr>
            <p:spPr>
              <a:xfrm>
                <a:off x="520920" y="2709720"/>
                <a:ext cx="220680" cy="22176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520560" y="2820240"/>
                <a:ext cx="221760" cy="3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882360" y="2709720"/>
              <a:ext cx="223560" cy="221760"/>
              <a:chOff x="882360" y="2709720"/>
              <a:chExt cx="223560" cy="221760"/>
            </a:xfrm>
          </p:grpSpPr>
          <p:sp>
            <p:nvSpPr>
              <p:cNvPr id="208" name=""/>
              <p:cNvSpPr/>
              <p:nvPr/>
            </p:nvSpPr>
            <p:spPr>
              <a:xfrm>
                <a:off x="882720" y="2709720"/>
                <a:ext cx="222480" cy="22176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882360" y="2820240"/>
                <a:ext cx="223560" cy="3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0" name=""/>
            <p:cNvGrpSpPr/>
            <p:nvPr/>
          </p:nvGrpSpPr>
          <p:grpSpPr>
            <a:xfrm>
              <a:off x="1242720" y="2709720"/>
              <a:ext cx="223560" cy="221760"/>
              <a:chOff x="1242720" y="2709720"/>
              <a:chExt cx="223560" cy="221760"/>
            </a:xfrm>
          </p:grpSpPr>
          <p:sp>
            <p:nvSpPr>
              <p:cNvPr id="211" name=""/>
              <p:cNvSpPr/>
              <p:nvPr/>
            </p:nvSpPr>
            <p:spPr>
              <a:xfrm>
                <a:off x="1243080" y="2709720"/>
                <a:ext cx="222480" cy="22176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1242720" y="2820240"/>
                <a:ext cx="223560" cy="3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3" name=""/>
            <p:cNvGrpSpPr/>
            <p:nvPr/>
          </p:nvGrpSpPr>
          <p:grpSpPr>
            <a:xfrm>
              <a:off x="1603080" y="2709720"/>
              <a:ext cx="222120" cy="221760"/>
              <a:chOff x="1603080" y="2709720"/>
              <a:chExt cx="222120" cy="221760"/>
            </a:xfrm>
          </p:grpSpPr>
          <p:sp>
            <p:nvSpPr>
              <p:cNvPr id="214" name=""/>
              <p:cNvSpPr/>
              <p:nvPr/>
            </p:nvSpPr>
            <p:spPr>
              <a:xfrm>
                <a:off x="1603440" y="2709720"/>
                <a:ext cx="221040" cy="22176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1603080" y="2820240"/>
                <a:ext cx="222120" cy="3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6" name=""/>
            <p:cNvGrpSpPr/>
            <p:nvPr/>
          </p:nvGrpSpPr>
          <p:grpSpPr>
            <a:xfrm>
              <a:off x="1963440" y="2709720"/>
              <a:ext cx="223560" cy="221760"/>
              <a:chOff x="1963440" y="2709720"/>
              <a:chExt cx="223560" cy="221760"/>
            </a:xfrm>
          </p:grpSpPr>
          <p:sp>
            <p:nvSpPr>
              <p:cNvPr id="217" name=""/>
              <p:cNvSpPr/>
              <p:nvPr/>
            </p:nvSpPr>
            <p:spPr>
              <a:xfrm>
                <a:off x="1963800" y="2709720"/>
                <a:ext cx="222480" cy="22176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1963440" y="2820240"/>
                <a:ext cx="223560" cy="3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9" name=""/>
            <p:cNvGrpSpPr/>
            <p:nvPr/>
          </p:nvGrpSpPr>
          <p:grpSpPr>
            <a:xfrm>
              <a:off x="2324160" y="2709720"/>
              <a:ext cx="223200" cy="221760"/>
              <a:chOff x="2324160" y="2709720"/>
              <a:chExt cx="223200" cy="221760"/>
            </a:xfrm>
          </p:grpSpPr>
          <p:sp>
            <p:nvSpPr>
              <p:cNvPr id="220" name=""/>
              <p:cNvSpPr/>
              <p:nvPr/>
            </p:nvSpPr>
            <p:spPr>
              <a:xfrm>
                <a:off x="2324520" y="2709720"/>
                <a:ext cx="222120" cy="22176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2324160" y="2820240"/>
                <a:ext cx="223200" cy="3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2" name=""/>
            <p:cNvGrpSpPr/>
            <p:nvPr/>
          </p:nvGrpSpPr>
          <p:grpSpPr>
            <a:xfrm>
              <a:off x="2900160" y="1627200"/>
              <a:ext cx="223560" cy="223200"/>
              <a:chOff x="2900160" y="1627200"/>
              <a:chExt cx="223560" cy="223200"/>
            </a:xfrm>
          </p:grpSpPr>
          <p:sp>
            <p:nvSpPr>
              <p:cNvPr id="223" name=""/>
              <p:cNvSpPr/>
              <p:nvPr/>
            </p:nvSpPr>
            <p:spPr>
              <a:xfrm>
                <a:off x="2900520" y="1628280"/>
                <a:ext cx="222480" cy="22140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2900160" y="1738800"/>
                <a:ext cx="223560" cy="3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3011760" y="1627200"/>
                <a:ext cx="360" cy="22320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6" name=""/>
            <p:cNvGrpSpPr/>
            <p:nvPr/>
          </p:nvGrpSpPr>
          <p:grpSpPr>
            <a:xfrm>
              <a:off x="3260520" y="1628640"/>
              <a:ext cx="223560" cy="221760"/>
              <a:chOff x="3260520" y="1628640"/>
              <a:chExt cx="223560" cy="221760"/>
            </a:xfrm>
          </p:grpSpPr>
          <p:sp>
            <p:nvSpPr>
              <p:cNvPr id="227" name=""/>
              <p:cNvSpPr/>
              <p:nvPr/>
            </p:nvSpPr>
            <p:spPr>
              <a:xfrm>
                <a:off x="3260880" y="1629720"/>
                <a:ext cx="222480" cy="21996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3260520" y="1739520"/>
                <a:ext cx="223560" cy="3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3372120" y="1628640"/>
                <a:ext cx="360" cy="2217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0" name=""/>
            <p:cNvGrpSpPr/>
            <p:nvPr/>
          </p:nvGrpSpPr>
          <p:grpSpPr>
            <a:xfrm>
              <a:off x="3622680" y="1628640"/>
              <a:ext cx="223200" cy="221760"/>
              <a:chOff x="3622680" y="1628640"/>
              <a:chExt cx="223200" cy="221760"/>
            </a:xfrm>
          </p:grpSpPr>
          <p:sp>
            <p:nvSpPr>
              <p:cNvPr id="231" name=""/>
              <p:cNvSpPr/>
              <p:nvPr/>
            </p:nvSpPr>
            <p:spPr>
              <a:xfrm>
                <a:off x="3623040" y="1629720"/>
                <a:ext cx="222120" cy="21996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3622680" y="1739520"/>
                <a:ext cx="223200" cy="3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3734280" y="1628640"/>
                <a:ext cx="360" cy="2217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3983040" y="1628640"/>
              <a:ext cx="223200" cy="221760"/>
              <a:chOff x="3983040" y="1628640"/>
              <a:chExt cx="223200" cy="221760"/>
            </a:xfrm>
          </p:grpSpPr>
          <p:sp>
            <p:nvSpPr>
              <p:cNvPr id="235" name=""/>
              <p:cNvSpPr/>
              <p:nvPr/>
            </p:nvSpPr>
            <p:spPr>
              <a:xfrm>
                <a:off x="3983400" y="1629720"/>
                <a:ext cx="222120" cy="21996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3983040" y="1739520"/>
                <a:ext cx="223200" cy="3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4094640" y="1628640"/>
                <a:ext cx="360" cy="2217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8" name=""/>
            <p:cNvGrpSpPr/>
            <p:nvPr/>
          </p:nvGrpSpPr>
          <p:grpSpPr>
            <a:xfrm>
              <a:off x="4343400" y="1628640"/>
              <a:ext cx="221760" cy="221760"/>
              <a:chOff x="4343400" y="1628640"/>
              <a:chExt cx="221760" cy="221760"/>
            </a:xfrm>
          </p:grpSpPr>
          <p:sp>
            <p:nvSpPr>
              <p:cNvPr id="239" name=""/>
              <p:cNvSpPr/>
              <p:nvPr/>
            </p:nvSpPr>
            <p:spPr>
              <a:xfrm>
                <a:off x="4343760" y="1629720"/>
                <a:ext cx="220680" cy="21996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4343400" y="1739520"/>
                <a:ext cx="221760" cy="3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4454280" y="1628640"/>
                <a:ext cx="360" cy="2217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2" name=""/>
            <p:cNvGrpSpPr/>
            <p:nvPr/>
          </p:nvGrpSpPr>
          <p:grpSpPr>
            <a:xfrm>
              <a:off x="4703760" y="1628640"/>
              <a:ext cx="223200" cy="221760"/>
              <a:chOff x="4703760" y="1628640"/>
              <a:chExt cx="223200" cy="221760"/>
            </a:xfrm>
          </p:grpSpPr>
          <p:sp>
            <p:nvSpPr>
              <p:cNvPr id="243" name=""/>
              <p:cNvSpPr/>
              <p:nvPr/>
            </p:nvSpPr>
            <p:spPr>
              <a:xfrm>
                <a:off x="4704120" y="1629720"/>
                <a:ext cx="222120" cy="21996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4703760" y="1739520"/>
                <a:ext cx="223200" cy="3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4815360" y="1628640"/>
                <a:ext cx="360" cy="2217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6" name=""/>
            <p:cNvGrpSpPr/>
            <p:nvPr/>
          </p:nvGrpSpPr>
          <p:grpSpPr>
            <a:xfrm>
              <a:off x="2900160" y="2168280"/>
              <a:ext cx="223560" cy="223560"/>
              <a:chOff x="2900160" y="2168280"/>
              <a:chExt cx="223560" cy="223560"/>
            </a:xfrm>
          </p:grpSpPr>
          <p:sp>
            <p:nvSpPr>
              <p:cNvPr id="247" name=""/>
              <p:cNvSpPr/>
              <p:nvPr/>
            </p:nvSpPr>
            <p:spPr>
              <a:xfrm>
                <a:off x="2900520" y="2169360"/>
                <a:ext cx="222480" cy="22176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2900160" y="2279880"/>
                <a:ext cx="223560" cy="3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3011760" y="2168280"/>
                <a:ext cx="360" cy="2235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0" name=""/>
            <p:cNvGrpSpPr/>
            <p:nvPr/>
          </p:nvGrpSpPr>
          <p:grpSpPr>
            <a:xfrm>
              <a:off x="3260520" y="2170080"/>
              <a:ext cx="223560" cy="223560"/>
              <a:chOff x="3260520" y="2170080"/>
              <a:chExt cx="223560" cy="223560"/>
            </a:xfrm>
          </p:grpSpPr>
          <p:sp>
            <p:nvSpPr>
              <p:cNvPr id="251" name=""/>
              <p:cNvSpPr/>
              <p:nvPr/>
            </p:nvSpPr>
            <p:spPr>
              <a:xfrm>
                <a:off x="3260880" y="2171160"/>
                <a:ext cx="222480" cy="22176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3260520" y="2281680"/>
                <a:ext cx="223560" cy="3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3372120" y="2170080"/>
                <a:ext cx="360" cy="2235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4" name=""/>
            <p:cNvGrpSpPr/>
            <p:nvPr/>
          </p:nvGrpSpPr>
          <p:grpSpPr>
            <a:xfrm>
              <a:off x="3622680" y="2170080"/>
              <a:ext cx="223200" cy="223560"/>
              <a:chOff x="3622680" y="2170080"/>
              <a:chExt cx="223200" cy="223560"/>
            </a:xfrm>
          </p:grpSpPr>
          <p:sp>
            <p:nvSpPr>
              <p:cNvPr id="255" name=""/>
              <p:cNvSpPr/>
              <p:nvPr/>
            </p:nvSpPr>
            <p:spPr>
              <a:xfrm>
                <a:off x="3623040" y="2171160"/>
                <a:ext cx="222120" cy="22176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3622680" y="2281680"/>
                <a:ext cx="223200" cy="3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3734280" y="2170080"/>
                <a:ext cx="360" cy="2235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8" name=""/>
            <p:cNvGrpSpPr/>
            <p:nvPr/>
          </p:nvGrpSpPr>
          <p:grpSpPr>
            <a:xfrm>
              <a:off x="3983040" y="2170080"/>
              <a:ext cx="223200" cy="223560"/>
              <a:chOff x="3983040" y="2170080"/>
              <a:chExt cx="223200" cy="223560"/>
            </a:xfrm>
          </p:grpSpPr>
          <p:sp>
            <p:nvSpPr>
              <p:cNvPr id="259" name=""/>
              <p:cNvSpPr/>
              <p:nvPr/>
            </p:nvSpPr>
            <p:spPr>
              <a:xfrm>
                <a:off x="3983400" y="2171160"/>
                <a:ext cx="222120" cy="22176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3983040" y="2281680"/>
                <a:ext cx="223200" cy="3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4094640" y="2170080"/>
                <a:ext cx="360" cy="2235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2" name=""/>
            <p:cNvGrpSpPr/>
            <p:nvPr/>
          </p:nvGrpSpPr>
          <p:grpSpPr>
            <a:xfrm>
              <a:off x="4343400" y="2170080"/>
              <a:ext cx="221760" cy="223560"/>
              <a:chOff x="4343400" y="2170080"/>
              <a:chExt cx="221760" cy="223560"/>
            </a:xfrm>
          </p:grpSpPr>
          <p:sp>
            <p:nvSpPr>
              <p:cNvPr id="263" name=""/>
              <p:cNvSpPr/>
              <p:nvPr/>
            </p:nvSpPr>
            <p:spPr>
              <a:xfrm>
                <a:off x="4343760" y="2171160"/>
                <a:ext cx="220680" cy="22176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4343400" y="2281680"/>
                <a:ext cx="221760" cy="3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4454280" y="2170080"/>
                <a:ext cx="360" cy="2235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4703760" y="2170080"/>
              <a:ext cx="223200" cy="223560"/>
              <a:chOff x="4703760" y="2170080"/>
              <a:chExt cx="223200" cy="223560"/>
            </a:xfrm>
          </p:grpSpPr>
          <p:sp>
            <p:nvSpPr>
              <p:cNvPr id="267" name=""/>
              <p:cNvSpPr/>
              <p:nvPr/>
            </p:nvSpPr>
            <p:spPr>
              <a:xfrm>
                <a:off x="4704120" y="2171160"/>
                <a:ext cx="222120" cy="22176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4703760" y="2281680"/>
                <a:ext cx="223200" cy="3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4815360" y="2170080"/>
                <a:ext cx="360" cy="2235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0" name=""/>
            <p:cNvGrpSpPr/>
            <p:nvPr/>
          </p:nvGrpSpPr>
          <p:grpSpPr>
            <a:xfrm>
              <a:off x="2900160" y="2709720"/>
              <a:ext cx="223560" cy="223560"/>
              <a:chOff x="2900160" y="2709720"/>
              <a:chExt cx="223560" cy="223560"/>
            </a:xfrm>
          </p:grpSpPr>
          <p:sp>
            <p:nvSpPr>
              <p:cNvPr id="271" name=""/>
              <p:cNvSpPr/>
              <p:nvPr/>
            </p:nvSpPr>
            <p:spPr>
              <a:xfrm>
                <a:off x="2900520" y="2710800"/>
                <a:ext cx="222480" cy="22176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2900160" y="2821320"/>
                <a:ext cx="223560" cy="3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3011760" y="2709720"/>
                <a:ext cx="360" cy="2235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3260520" y="2711160"/>
              <a:ext cx="223560" cy="223560"/>
              <a:chOff x="3260520" y="2711160"/>
              <a:chExt cx="223560" cy="223560"/>
            </a:xfrm>
          </p:grpSpPr>
          <p:sp>
            <p:nvSpPr>
              <p:cNvPr id="275" name=""/>
              <p:cNvSpPr/>
              <p:nvPr/>
            </p:nvSpPr>
            <p:spPr>
              <a:xfrm>
                <a:off x="3260880" y="2712240"/>
                <a:ext cx="222480" cy="22176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3260520" y="2822760"/>
                <a:ext cx="223560" cy="3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3372120" y="2711160"/>
                <a:ext cx="360" cy="2235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8" name=""/>
            <p:cNvGrpSpPr/>
            <p:nvPr/>
          </p:nvGrpSpPr>
          <p:grpSpPr>
            <a:xfrm>
              <a:off x="3622680" y="2711160"/>
              <a:ext cx="223200" cy="223560"/>
              <a:chOff x="3622680" y="2711160"/>
              <a:chExt cx="223200" cy="223560"/>
            </a:xfrm>
          </p:grpSpPr>
          <p:sp>
            <p:nvSpPr>
              <p:cNvPr id="279" name=""/>
              <p:cNvSpPr/>
              <p:nvPr/>
            </p:nvSpPr>
            <p:spPr>
              <a:xfrm>
                <a:off x="3623040" y="2712240"/>
                <a:ext cx="222120" cy="22176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3622680" y="2822760"/>
                <a:ext cx="223200" cy="3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3734280" y="2711160"/>
                <a:ext cx="360" cy="2235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2" name=""/>
            <p:cNvGrpSpPr/>
            <p:nvPr/>
          </p:nvGrpSpPr>
          <p:grpSpPr>
            <a:xfrm>
              <a:off x="3983040" y="2711160"/>
              <a:ext cx="223200" cy="223560"/>
              <a:chOff x="3983040" y="2711160"/>
              <a:chExt cx="223200" cy="223560"/>
            </a:xfrm>
          </p:grpSpPr>
          <p:sp>
            <p:nvSpPr>
              <p:cNvPr id="283" name=""/>
              <p:cNvSpPr/>
              <p:nvPr/>
            </p:nvSpPr>
            <p:spPr>
              <a:xfrm>
                <a:off x="3983400" y="2712240"/>
                <a:ext cx="222120" cy="22176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3983040" y="2822760"/>
                <a:ext cx="223200" cy="3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4094640" y="2711160"/>
                <a:ext cx="360" cy="2235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6" name=""/>
            <p:cNvGrpSpPr/>
            <p:nvPr/>
          </p:nvGrpSpPr>
          <p:grpSpPr>
            <a:xfrm>
              <a:off x="4343400" y="2711160"/>
              <a:ext cx="221760" cy="223560"/>
              <a:chOff x="4343400" y="2711160"/>
              <a:chExt cx="221760" cy="223560"/>
            </a:xfrm>
          </p:grpSpPr>
          <p:sp>
            <p:nvSpPr>
              <p:cNvPr id="287" name=""/>
              <p:cNvSpPr/>
              <p:nvPr/>
            </p:nvSpPr>
            <p:spPr>
              <a:xfrm>
                <a:off x="4343760" y="2712240"/>
                <a:ext cx="220680" cy="22176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4343400" y="2822760"/>
                <a:ext cx="221760" cy="3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4454280" y="2711160"/>
                <a:ext cx="360" cy="2235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0" name=""/>
            <p:cNvGrpSpPr/>
            <p:nvPr/>
          </p:nvGrpSpPr>
          <p:grpSpPr>
            <a:xfrm>
              <a:off x="4703760" y="2711160"/>
              <a:ext cx="223200" cy="223560"/>
              <a:chOff x="4703760" y="2711160"/>
              <a:chExt cx="223200" cy="223560"/>
            </a:xfrm>
          </p:grpSpPr>
          <p:sp>
            <p:nvSpPr>
              <p:cNvPr id="291" name=""/>
              <p:cNvSpPr/>
              <p:nvPr/>
            </p:nvSpPr>
            <p:spPr>
              <a:xfrm>
                <a:off x="4704120" y="2712240"/>
                <a:ext cx="222120" cy="22176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4703760" y="2822760"/>
                <a:ext cx="223200" cy="3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4815360" y="2711160"/>
                <a:ext cx="360" cy="2235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520560" y="1981080"/>
              <a:ext cx="58320" cy="601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20560" y="2522520"/>
              <a:ext cx="58320" cy="583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469880" y="2931840"/>
              <a:ext cx="58320" cy="5868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785520" y="1542960"/>
              <a:ext cx="58680" cy="5976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164960" y="1542960"/>
              <a:ext cx="58680" cy="5976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68240" y="2923920"/>
              <a:ext cx="58320" cy="601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1154160" y="1952640"/>
              <a:ext cx="58320" cy="5976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585800" y="2541600"/>
              <a:ext cx="58320" cy="583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622760" y="2531880"/>
              <a:ext cx="58320" cy="5832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935160" y="2408040"/>
              <a:ext cx="60120" cy="5832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3841560" y="2941560"/>
              <a:ext cx="58320" cy="5832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045040" y="2913120"/>
              <a:ext cx="58320" cy="5832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5030640" y="2484360"/>
              <a:ext cx="60120" cy="5832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327560" y="2522520"/>
              <a:ext cx="58320" cy="5832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994280" y="1722240"/>
              <a:ext cx="58320" cy="5832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3906720" y="1627200"/>
              <a:ext cx="60120" cy="5832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708360" y="1987560"/>
              <a:ext cx="58320" cy="5832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574880" y="1579320"/>
              <a:ext cx="58680" cy="5868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998880" y="2006640"/>
              <a:ext cx="58320" cy="5976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4832280" y="2585880"/>
              <a:ext cx="58320" cy="583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885600" y="1971720"/>
              <a:ext cx="58320" cy="5832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328760" y="2520720"/>
              <a:ext cx="59760" cy="6012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860400" y="2547720"/>
              <a:ext cx="58320" cy="58320"/>
            </a:xfrm>
            <a:prstGeom prst="ellipse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4524120" y="2016000"/>
              <a:ext cx="58680" cy="58320"/>
            </a:xfrm>
            <a:prstGeom prst="ellipse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744720" y="2498760"/>
              <a:ext cx="58320" cy="58320"/>
            </a:xfrm>
            <a:prstGeom prst="ellipse">
              <a:avLst/>
            </a:prstGeom>
            <a:solidFill>
              <a:srgbClr val="008000"/>
            </a:solidFill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536480" y="1977840"/>
              <a:ext cx="58320" cy="583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081160" y="2514600"/>
              <a:ext cx="59760" cy="583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369880" y="2477880"/>
              <a:ext cx="58680" cy="583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327120" y="2508120"/>
              <a:ext cx="58680" cy="6012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858680" y="2565360"/>
              <a:ext cx="58680" cy="59760"/>
            </a:xfrm>
            <a:prstGeom prst="ellipse">
              <a:avLst/>
            </a:prstGeom>
            <a:solidFill>
              <a:srgbClr val="008000"/>
            </a:solidFill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100240" y="1952640"/>
              <a:ext cx="58320" cy="5976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985840" y="1935000"/>
              <a:ext cx="60120" cy="5832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066680" y="2514600"/>
              <a:ext cx="58320" cy="583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940280" y="2006640"/>
              <a:ext cx="58320" cy="5976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42720" y="1681200"/>
              <a:ext cx="58320" cy="583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587680" y="2079360"/>
              <a:ext cx="58320" cy="5868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1538280" y="1536480"/>
              <a:ext cx="59760" cy="5832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841480" y="2404800"/>
              <a:ext cx="58320" cy="5868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4289400" y="1935000"/>
              <a:ext cx="58320" cy="5832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4759200" y="1935000"/>
              <a:ext cx="58320" cy="5832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 flipH="1">
              <a:off x="2106000" y="2327760"/>
              <a:ext cx="881640" cy="393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453" y="21594"/>
                  </a:moveTo>
                  <a:arcTo wR="10800" hR="10800" stAng="5510481" swAng="546912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453" y="21594"/>
                  </a:moveTo>
                  <a:arcTo wR="10800" hR="10800" stAng="5510481" swAng="5469120"/>
                </a:path>
              </a:pathLst>
            </a:custGeom>
            <a:noFill/>
            <a:ln w="19080">
              <a:solidFill>
                <a:srgbClr val="3333ff"/>
              </a:solidFill>
              <a:miter/>
              <a:head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2531880" y="1935720"/>
              <a:ext cx="880200" cy="39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612" y="153"/>
                  </a:moveTo>
                  <a:arcTo wR="10800" hR="10800" stAng="-4820381" swAng="3521169"/>
                  <a:lnTo>
                    <a:pt x="10800" y="10800"/>
                  </a:lnTo>
                  <a:close/>
                </a:path>
                <a:path fill="none" w="21600" h="21600">
                  <a:moveTo>
                    <a:pt x="12612" y="153"/>
                  </a:moveTo>
                  <a:arcTo wR="10800" hR="10800" stAng="-4820381" swAng="3521169"/>
                </a:path>
              </a:pathLst>
            </a:custGeom>
            <a:noFill/>
            <a:ln w="19080">
              <a:solidFill>
                <a:srgbClr val="ff0000"/>
              </a:solidFill>
              <a:miter/>
              <a:head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6" name=""/>
          <p:cNvSpPr/>
          <p:nvPr/>
        </p:nvSpPr>
        <p:spPr>
          <a:xfrm>
            <a:off x="333360" y="3276720"/>
            <a:ext cx="5414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0 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304920" y="3879720"/>
            <a:ext cx="4828680" cy="2000160"/>
            <a:chOff x="304920" y="3879720"/>
            <a:chExt cx="4828680" cy="2000160"/>
          </a:xfrm>
        </p:grpSpPr>
        <p:sp>
          <p:nvSpPr>
            <p:cNvPr id="338" name=""/>
            <p:cNvSpPr/>
            <p:nvPr/>
          </p:nvSpPr>
          <p:spPr>
            <a:xfrm>
              <a:off x="2552760" y="3879720"/>
              <a:ext cx="288360" cy="36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0" lang="es-ES_tradnl" sz="20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895480" y="3914640"/>
              <a:ext cx="286920" cy="287280"/>
            </a:xfrm>
            <a:prstGeom prst="plus">
              <a:avLst>
                <a:gd name="adj" fmla="val 37815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760" bIns="23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720880" y="4254480"/>
              <a:ext cx="2412720" cy="1623960"/>
            </a:xfrm>
            <a:prstGeom prst="rect">
              <a:avLst/>
            </a:prstGeom>
            <a:solidFill>
              <a:srgbClr val="cce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304920" y="4254480"/>
              <a:ext cx="2412720" cy="1623960"/>
            </a:xfrm>
            <a:prstGeom prst="rect">
              <a:avLst/>
            </a:prstGeom>
            <a:solidFill>
              <a:srgbClr val="ff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225520" y="4051080"/>
              <a:ext cx="286920" cy="8892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20560" y="4795920"/>
              <a:ext cx="60120" cy="5868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4" name=""/>
            <p:cNvGrpSpPr/>
            <p:nvPr/>
          </p:nvGrpSpPr>
          <p:grpSpPr>
            <a:xfrm>
              <a:off x="520560" y="4435560"/>
              <a:ext cx="223560" cy="220320"/>
              <a:chOff x="520560" y="4435560"/>
              <a:chExt cx="223560" cy="220320"/>
            </a:xfrm>
          </p:grpSpPr>
          <p:sp>
            <p:nvSpPr>
              <p:cNvPr id="345" name=""/>
              <p:cNvSpPr/>
              <p:nvPr/>
            </p:nvSpPr>
            <p:spPr>
              <a:xfrm>
                <a:off x="520920" y="4435560"/>
                <a:ext cx="222480" cy="22032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520560" y="4545360"/>
                <a:ext cx="223560" cy="3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7" name=""/>
            <p:cNvGrpSpPr/>
            <p:nvPr/>
          </p:nvGrpSpPr>
          <p:grpSpPr>
            <a:xfrm>
              <a:off x="882360" y="4435560"/>
              <a:ext cx="222120" cy="220320"/>
              <a:chOff x="882360" y="4435560"/>
              <a:chExt cx="222120" cy="220320"/>
            </a:xfrm>
          </p:grpSpPr>
          <p:sp>
            <p:nvSpPr>
              <p:cNvPr id="348" name=""/>
              <p:cNvSpPr/>
              <p:nvPr/>
            </p:nvSpPr>
            <p:spPr>
              <a:xfrm>
                <a:off x="882720" y="4435560"/>
                <a:ext cx="221040" cy="22032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882360" y="4545360"/>
                <a:ext cx="222120" cy="3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0" name=""/>
            <p:cNvGrpSpPr/>
            <p:nvPr/>
          </p:nvGrpSpPr>
          <p:grpSpPr>
            <a:xfrm>
              <a:off x="1242720" y="4435560"/>
              <a:ext cx="223560" cy="220320"/>
              <a:chOff x="1242720" y="4435560"/>
              <a:chExt cx="223560" cy="220320"/>
            </a:xfrm>
          </p:grpSpPr>
          <p:sp>
            <p:nvSpPr>
              <p:cNvPr id="351" name=""/>
              <p:cNvSpPr/>
              <p:nvPr/>
            </p:nvSpPr>
            <p:spPr>
              <a:xfrm>
                <a:off x="1243080" y="4435560"/>
                <a:ext cx="222480" cy="22032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1242720" y="4545360"/>
                <a:ext cx="223560" cy="3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3" name=""/>
            <p:cNvGrpSpPr/>
            <p:nvPr/>
          </p:nvGrpSpPr>
          <p:grpSpPr>
            <a:xfrm>
              <a:off x="1603080" y="4435560"/>
              <a:ext cx="223560" cy="220320"/>
              <a:chOff x="1603080" y="4435560"/>
              <a:chExt cx="223560" cy="220320"/>
            </a:xfrm>
          </p:grpSpPr>
          <p:sp>
            <p:nvSpPr>
              <p:cNvPr id="354" name=""/>
              <p:cNvSpPr/>
              <p:nvPr/>
            </p:nvSpPr>
            <p:spPr>
              <a:xfrm>
                <a:off x="1603440" y="4435560"/>
                <a:ext cx="222480" cy="22032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1603080" y="4545360"/>
                <a:ext cx="223560" cy="3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6" name=""/>
            <p:cNvGrpSpPr/>
            <p:nvPr/>
          </p:nvGrpSpPr>
          <p:grpSpPr>
            <a:xfrm>
              <a:off x="520560" y="4975200"/>
              <a:ext cx="223560" cy="222120"/>
              <a:chOff x="520560" y="4975200"/>
              <a:chExt cx="223560" cy="222120"/>
            </a:xfrm>
          </p:grpSpPr>
          <p:sp>
            <p:nvSpPr>
              <p:cNvPr id="357" name=""/>
              <p:cNvSpPr/>
              <p:nvPr/>
            </p:nvSpPr>
            <p:spPr>
              <a:xfrm>
                <a:off x="520920" y="4975200"/>
                <a:ext cx="222480" cy="22212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520560" y="5086080"/>
                <a:ext cx="223560" cy="3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9" name=""/>
            <p:cNvGrpSpPr/>
            <p:nvPr/>
          </p:nvGrpSpPr>
          <p:grpSpPr>
            <a:xfrm>
              <a:off x="882360" y="4975200"/>
              <a:ext cx="223560" cy="222120"/>
              <a:chOff x="882360" y="4975200"/>
              <a:chExt cx="223560" cy="222120"/>
            </a:xfrm>
          </p:grpSpPr>
          <p:sp>
            <p:nvSpPr>
              <p:cNvPr id="360" name=""/>
              <p:cNvSpPr/>
              <p:nvPr/>
            </p:nvSpPr>
            <p:spPr>
              <a:xfrm>
                <a:off x="882720" y="4975200"/>
                <a:ext cx="222480" cy="22212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882360" y="5086080"/>
                <a:ext cx="223560" cy="3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2" name=""/>
            <p:cNvGrpSpPr/>
            <p:nvPr/>
          </p:nvGrpSpPr>
          <p:grpSpPr>
            <a:xfrm>
              <a:off x="1242720" y="4975200"/>
              <a:ext cx="223560" cy="222120"/>
              <a:chOff x="1242720" y="4975200"/>
              <a:chExt cx="223560" cy="222120"/>
            </a:xfrm>
          </p:grpSpPr>
          <p:sp>
            <p:nvSpPr>
              <p:cNvPr id="363" name=""/>
              <p:cNvSpPr/>
              <p:nvPr/>
            </p:nvSpPr>
            <p:spPr>
              <a:xfrm>
                <a:off x="1243080" y="4975200"/>
                <a:ext cx="222480" cy="22212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1242720" y="5086080"/>
                <a:ext cx="223560" cy="3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5" name=""/>
            <p:cNvGrpSpPr/>
            <p:nvPr/>
          </p:nvGrpSpPr>
          <p:grpSpPr>
            <a:xfrm>
              <a:off x="1604880" y="4975200"/>
              <a:ext cx="221760" cy="222120"/>
              <a:chOff x="1604880" y="4975200"/>
              <a:chExt cx="221760" cy="222120"/>
            </a:xfrm>
          </p:grpSpPr>
          <p:sp>
            <p:nvSpPr>
              <p:cNvPr id="366" name=""/>
              <p:cNvSpPr/>
              <p:nvPr/>
            </p:nvSpPr>
            <p:spPr>
              <a:xfrm>
                <a:off x="1605240" y="4975200"/>
                <a:ext cx="220680" cy="22212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1604880" y="5086080"/>
                <a:ext cx="221760" cy="3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8" name=""/>
            <p:cNvGrpSpPr/>
            <p:nvPr/>
          </p:nvGrpSpPr>
          <p:grpSpPr>
            <a:xfrm>
              <a:off x="520560" y="5516640"/>
              <a:ext cx="223560" cy="222120"/>
              <a:chOff x="520560" y="5516640"/>
              <a:chExt cx="223560" cy="222120"/>
            </a:xfrm>
          </p:grpSpPr>
          <p:sp>
            <p:nvSpPr>
              <p:cNvPr id="369" name=""/>
              <p:cNvSpPr/>
              <p:nvPr/>
            </p:nvSpPr>
            <p:spPr>
              <a:xfrm>
                <a:off x="520920" y="5516640"/>
                <a:ext cx="222480" cy="22212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520560" y="5627520"/>
                <a:ext cx="223560" cy="3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1" name=""/>
            <p:cNvGrpSpPr/>
            <p:nvPr/>
          </p:nvGrpSpPr>
          <p:grpSpPr>
            <a:xfrm>
              <a:off x="882360" y="5516640"/>
              <a:ext cx="223560" cy="222120"/>
              <a:chOff x="882360" y="5516640"/>
              <a:chExt cx="223560" cy="222120"/>
            </a:xfrm>
          </p:grpSpPr>
          <p:sp>
            <p:nvSpPr>
              <p:cNvPr id="372" name=""/>
              <p:cNvSpPr/>
              <p:nvPr/>
            </p:nvSpPr>
            <p:spPr>
              <a:xfrm>
                <a:off x="882720" y="5516640"/>
                <a:ext cx="222480" cy="22212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882360" y="5627520"/>
                <a:ext cx="223560" cy="3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4" name=""/>
            <p:cNvGrpSpPr/>
            <p:nvPr/>
          </p:nvGrpSpPr>
          <p:grpSpPr>
            <a:xfrm>
              <a:off x="1242720" y="5516640"/>
              <a:ext cx="223560" cy="222120"/>
              <a:chOff x="1242720" y="5516640"/>
              <a:chExt cx="223560" cy="222120"/>
            </a:xfrm>
          </p:grpSpPr>
          <p:sp>
            <p:nvSpPr>
              <p:cNvPr id="375" name=""/>
              <p:cNvSpPr/>
              <p:nvPr/>
            </p:nvSpPr>
            <p:spPr>
              <a:xfrm>
                <a:off x="1243080" y="5516640"/>
                <a:ext cx="222480" cy="22212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1242720" y="5627520"/>
                <a:ext cx="223560" cy="3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7" name=""/>
            <p:cNvSpPr/>
            <p:nvPr/>
          </p:nvSpPr>
          <p:spPr>
            <a:xfrm>
              <a:off x="520560" y="5337000"/>
              <a:ext cx="60120" cy="5868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8" name=""/>
            <p:cNvGrpSpPr/>
            <p:nvPr/>
          </p:nvGrpSpPr>
          <p:grpSpPr>
            <a:xfrm>
              <a:off x="1604880" y="5516640"/>
              <a:ext cx="221760" cy="222120"/>
              <a:chOff x="1604880" y="5516640"/>
              <a:chExt cx="221760" cy="222120"/>
            </a:xfrm>
          </p:grpSpPr>
          <p:sp>
            <p:nvSpPr>
              <p:cNvPr id="379" name=""/>
              <p:cNvSpPr/>
              <p:nvPr/>
            </p:nvSpPr>
            <p:spPr>
              <a:xfrm>
                <a:off x="1605240" y="5516640"/>
                <a:ext cx="220680" cy="22212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1604880" y="5627520"/>
                <a:ext cx="221760" cy="3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1" name=""/>
            <p:cNvSpPr/>
            <p:nvPr/>
          </p:nvSpPr>
          <p:spPr>
            <a:xfrm>
              <a:off x="1471320" y="5745240"/>
              <a:ext cx="58680" cy="5868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787320" y="4357440"/>
              <a:ext cx="58320" cy="5904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1166760" y="4357440"/>
              <a:ext cx="58320" cy="5904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768240" y="5738760"/>
              <a:ext cx="58320" cy="5868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1155600" y="4767120"/>
              <a:ext cx="58320" cy="5868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6" name=""/>
            <p:cNvGrpSpPr/>
            <p:nvPr/>
          </p:nvGrpSpPr>
          <p:grpSpPr>
            <a:xfrm>
              <a:off x="3622680" y="4435560"/>
              <a:ext cx="223200" cy="223560"/>
              <a:chOff x="3622680" y="4435560"/>
              <a:chExt cx="223200" cy="223560"/>
            </a:xfrm>
          </p:grpSpPr>
          <p:sp>
            <p:nvSpPr>
              <p:cNvPr id="387" name=""/>
              <p:cNvSpPr/>
              <p:nvPr/>
            </p:nvSpPr>
            <p:spPr>
              <a:xfrm>
                <a:off x="3623040" y="4436640"/>
                <a:ext cx="222120" cy="22176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3622680" y="4547160"/>
                <a:ext cx="223200" cy="3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3734280" y="4435560"/>
                <a:ext cx="360" cy="2235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0" name=""/>
            <p:cNvGrpSpPr/>
            <p:nvPr/>
          </p:nvGrpSpPr>
          <p:grpSpPr>
            <a:xfrm>
              <a:off x="3984480" y="4435560"/>
              <a:ext cx="221760" cy="223560"/>
              <a:chOff x="3984480" y="4435560"/>
              <a:chExt cx="221760" cy="223560"/>
            </a:xfrm>
          </p:grpSpPr>
          <p:sp>
            <p:nvSpPr>
              <p:cNvPr id="391" name=""/>
              <p:cNvSpPr/>
              <p:nvPr/>
            </p:nvSpPr>
            <p:spPr>
              <a:xfrm>
                <a:off x="3984840" y="4436640"/>
                <a:ext cx="220680" cy="22176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3984480" y="4547160"/>
                <a:ext cx="221760" cy="3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4095360" y="4435560"/>
                <a:ext cx="360" cy="2235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4" name=""/>
            <p:cNvGrpSpPr/>
            <p:nvPr/>
          </p:nvGrpSpPr>
          <p:grpSpPr>
            <a:xfrm>
              <a:off x="4344840" y="4435560"/>
              <a:ext cx="223560" cy="223560"/>
              <a:chOff x="4344840" y="4435560"/>
              <a:chExt cx="223560" cy="223560"/>
            </a:xfrm>
          </p:grpSpPr>
          <p:sp>
            <p:nvSpPr>
              <p:cNvPr id="395" name=""/>
              <p:cNvSpPr/>
              <p:nvPr/>
            </p:nvSpPr>
            <p:spPr>
              <a:xfrm>
                <a:off x="4345200" y="4436640"/>
                <a:ext cx="222480" cy="22176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4344840" y="4547160"/>
                <a:ext cx="223560" cy="3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4456440" y="4435560"/>
                <a:ext cx="360" cy="2235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1587240" y="5356080"/>
              <a:ext cx="58680" cy="5868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9" name=""/>
            <p:cNvGrpSpPr/>
            <p:nvPr/>
          </p:nvGrpSpPr>
          <p:grpSpPr>
            <a:xfrm>
              <a:off x="4705200" y="4435560"/>
              <a:ext cx="223560" cy="223560"/>
              <a:chOff x="4705200" y="4435560"/>
              <a:chExt cx="223560" cy="223560"/>
            </a:xfrm>
          </p:grpSpPr>
          <p:sp>
            <p:nvSpPr>
              <p:cNvPr id="400" name=""/>
              <p:cNvSpPr/>
              <p:nvPr/>
            </p:nvSpPr>
            <p:spPr>
              <a:xfrm>
                <a:off x="4705560" y="4436640"/>
                <a:ext cx="222480" cy="22176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4705200" y="4547160"/>
                <a:ext cx="223560" cy="3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4816800" y="4435560"/>
                <a:ext cx="360" cy="2235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3" name=""/>
            <p:cNvGrpSpPr/>
            <p:nvPr/>
          </p:nvGrpSpPr>
          <p:grpSpPr>
            <a:xfrm>
              <a:off x="3622680" y="4976640"/>
              <a:ext cx="223200" cy="223920"/>
              <a:chOff x="3622680" y="4976640"/>
              <a:chExt cx="223200" cy="223920"/>
            </a:xfrm>
          </p:grpSpPr>
          <p:sp>
            <p:nvSpPr>
              <p:cNvPr id="404" name=""/>
              <p:cNvSpPr/>
              <p:nvPr/>
            </p:nvSpPr>
            <p:spPr>
              <a:xfrm>
                <a:off x="3623040" y="4977720"/>
                <a:ext cx="222120" cy="22212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3622680" y="5088600"/>
                <a:ext cx="223200" cy="3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3734280" y="4976640"/>
                <a:ext cx="360" cy="22392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7" name=""/>
            <p:cNvGrpSpPr/>
            <p:nvPr/>
          </p:nvGrpSpPr>
          <p:grpSpPr>
            <a:xfrm>
              <a:off x="3984480" y="4976640"/>
              <a:ext cx="221760" cy="223920"/>
              <a:chOff x="3984480" y="4976640"/>
              <a:chExt cx="221760" cy="223920"/>
            </a:xfrm>
          </p:grpSpPr>
          <p:sp>
            <p:nvSpPr>
              <p:cNvPr id="408" name=""/>
              <p:cNvSpPr/>
              <p:nvPr/>
            </p:nvSpPr>
            <p:spPr>
              <a:xfrm>
                <a:off x="3984840" y="4977720"/>
                <a:ext cx="220680" cy="22212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3984480" y="5088600"/>
                <a:ext cx="221760" cy="3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4095360" y="4976640"/>
                <a:ext cx="360" cy="22392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1" name=""/>
            <p:cNvGrpSpPr/>
            <p:nvPr/>
          </p:nvGrpSpPr>
          <p:grpSpPr>
            <a:xfrm>
              <a:off x="4344840" y="4976640"/>
              <a:ext cx="223560" cy="223920"/>
              <a:chOff x="4344840" y="4976640"/>
              <a:chExt cx="223560" cy="223920"/>
            </a:xfrm>
          </p:grpSpPr>
          <p:sp>
            <p:nvSpPr>
              <p:cNvPr id="412" name=""/>
              <p:cNvSpPr/>
              <p:nvPr/>
            </p:nvSpPr>
            <p:spPr>
              <a:xfrm>
                <a:off x="4345200" y="4977720"/>
                <a:ext cx="222480" cy="22212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4344840" y="5088600"/>
                <a:ext cx="223560" cy="3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4456440" y="4976640"/>
                <a:ext cx="360" cy="22392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5" name=""/>
            <p:cNvGrpSpPr/>
            <p:nvPr/>
          </p:nvGrpSpPr>
          <p:grpSpPr>
            <a:xfrm>
              <a:off x="4705200" y="4976640"/>
              <a:ext cx="223560" cy="223920"/>
              <a:chOff x="4705200" y="4976640"/>
              <a:chExt cx="223560" cy="223920"/>
            </a:xfrm>
          </p:grpSpPr>
          <p:sp>
            <p:nvSpPr>
              <p:cNvPr id="416" name=""/>
              <p:cNvSpPr/>
              <p:nvPr/>
            </p:nvSpPr>
            <p:spPr>
              <a:xfrm>
                <a:off x="4705560" y="4977720"/>
                <a:ext cx="222480" cy="22212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4705200" y="5088600"/>
                <a:ext cx="223560" cy="3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4816800" y="4976640"/>
                <a:ext cx="360" cy="22392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9" name=""/>
            <p:cNvGrpSpPr/>
            <p:nvPr/>
          </p:nvGrpSpPr>
          <p:grpSpPr>
            <a:xfrm>
              <a:off x="3622680" y="5518080"/>
              <a:ext cx="223200" cy="223920"/>
              <a:chOff x="3622680" y="5518080"/>
              <a:chExt cx="223200" cy="223920"/>
            </a:xfrm>
          </p:grpSpPr>
          <p:sp>
            <p:nvSpPr>
              <p:cNvPr id="420" name=""/>
              <p:cNvSpPr/>
              <p:nvPr/>
            </p:nvSpPr>
            <p:spPr>
              <a:xfrm>
                <a:off x="3623040" y="5519160"/>
                <a:ext cx="222120" cy="22212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3622680" y="5630040"/>
                <a:ext cx="223200" cy="3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3734280" y="5518080"/>
                <a:ext cx="360" cy="22392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3" name=""/>
            <p:cNvGrpSpPr/>
            <p:nvPr/>
          </p:nvGrpSpPr>
          <p:grpSpPr>
            <a:xfrm>
              <a:off x="3984480" y="5518080"/>
              <a:ext cx="221760" cy="223920"/>
              <a:chOff x="3984480" y="5518080"/>
              <a:chExt cx="221760" cy="223920"/>
            </a:xfrm>
          </p:grpSpPr>
          <p:sp>
            <p:nvSpPr>
              <p:cNvPr id="424" name=""/>
              <p:cNvSpPr/>
              <p:nvPr/>
            </p:nvSpPr>
            <p:spPr>
              <a:xfrm>
                <a:off x="3984840" y="5519160"/>
                <a:ext cx="220680" cy="22212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3984480" y="5630040"/>
                <a:ext cx="221760" cy="3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4095360" y="5518080"/>
                <a:ext cx="360" cy="22392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7" name=""/>
            <p:cNvGrpSpPr/>
            <p:nvPr/>
          </p:nvGrpSpPr>
          <p:grpSpPr>
            <a:xfrm>
              <a:off x="4344840" y="5518080"/>
              <a:ext cx="223560" cy="223920"/>
              <a:chOff x="4344840" y="5518080"/>
              <a:chExt cx="223560" cy="223920"/>
            </a:xfrm>
          </p:grpSpPr>
          <p:sp>
            <p:nvSpPr>
              <p:cNvPr id="428" name=""/>
              <p:cNvSpPr/>
              <p:nvPr/>
            </p:nvSpPr>
            <p:spPr>
              <a:xfrm>
                <a:off x="4345200" y="5519160"/>
                <a:ext cx="222480" cy="22212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4344840" y="5630040"/>
                <a:ext cx="223560" cy="3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4456440" y="5518080"/>
                <a:ext cx="360" cy="22392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1" name=""/>
            <p:cNvGrpSpPr/>
            <p:nvPr/>
          </p:nvGrpSpPr>
          <p:grpSpPr>
            <a:xfrm>
              <a:off x="4705200" y="5518080"/>
              <a:ext cx="223560" cy="223920"/>
              <a:chOff x="4705200" y="5518080"/>
              <a:chExt cx="223560" cy="223920"/>
            </a:xfrm>
          </p:grpSpPr>
          <p:sp>
            <p:nvSpPr>
              <p:cNvPr id="432" name=""/>
              <p:cNvSpPr/>
              <p:nvPr/>
            </p:nvSpPr>
            <p:spPr>
              <a:xfrm>
                <a:off x="4705560" y="5519160"/>
                <a:ext cx="222480" cy="22212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4705200" y="5630040"/>
                <a:ext cx="223560" cy="3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4816800" y="5518080"/>
                <a:ext cx="360" cy="22392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5" name=""/>
            <p:cNvSpPr/>
            <p:nvPr/>
          </p:nvSpPr>
          <p:spPr>
            <a:xfrm>
              <a:off x="4624200" y="5346720"/>
              <a:ext cx="58320" cy="5868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936960" y="5222880"/>
              <a:ext cx="58320" cy="5868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843360" y="5754600"/>
              <a:ext cx="58320" cy="6048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45040" y="5726160"/>
              <a:ext cx="59760" cy="6012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032080" y="5298840"/>
              <a:ext cx="58680" cy="5904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329000" y="5337000"/>
              <a:ext cx="58320" cy="5868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4995720" y="4537080"/>
              <a:ext cx="58320" cy="5868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3906720" y="4441680"/>
              <a:ext cx="60120" cy="5868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708360" y="4800600"/>
              <a:ext cx="58320" cy="5868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4576680" y="4394160"/>
              <a:ext cx="58320" cy="5868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000320" y="4821120"/>
              <a:ext cx="58320" cy="5868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832280" y="5400720"/>
              <a:ext cx="59760" cy="5868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887400" y="4784760"/>
              <a:ext cx="58320" cy="5868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1328760" y="5335560"/>
              <a:ext cx="58320" cy="5868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60400" y="5360760"/>
              <a:ext cx="59760" cy="59040"/>
            </a:xfrm>
            <a:prstGeom prst="ellipse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524120" y="4829040"/>
              <a:ext cx="60120" cy="58680"/>
            </a:xfrm>
            <a:prstGeom prst="ellipse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746520" y="5311800"/>
              <a:ext cx="58320" cy="58680"/>
            </a:xfrm>
            <a:prstGeom prst="ellipse">
              <a:avLst/>
            </a:prstGeom>
            <a:solidFill>
              <a:srgbClr val="008000"/>
            </a:solidFill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1536480" y="4790880"/>
              <a:ext cx="58320" cy="5868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1068120" y="5327640"/>
              <a:ext cx="58680" cy="5868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941720" y="4821120"/>
              <a:ext cx="58320" cy="5868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344520" y="4495680"/>
              <a:ext cx="58320" cy="5868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1538280" y="4351320"/>
              <a:ext cx="59760" cy="5868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4073400" y="5364000"/>
              <a:ext cx="58320" cy="5868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289400" y="4748040"/>
              <a:ext cx="59760" cy="6048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4760640" y="4748040"/>
              <a:ext cx="58680" cy="6048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28920" y="5322960"/>
              <a:ext cx="58320" cy="5868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3414600" y="4765680"/>
              <a:ext cx="58320" cy="5868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2133360" y="4259160"/>
              <a:ext cx="1160280" cy="162072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99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3" name=""/>
            <p:cNvGrpSpPr/>
            <p:nvPr/>
          </p:nvGrpSpPr>
          <p:grpSpPr>
            <a:xfrm>
              <a:off x="2325600" y="4435560"/>
              <a:ext cx="221760" cy="220320"/>
              <a:chOff x="2325600" y="4435560"/>
              <a:chExt cx="221760" cy="220320"/>
            </a:xfrm>
          </p:grpSpPr>
          <p:sp>
            <p:nvSpPr>
              <p:cNvPr id="464" name=""/>
              <p:cNvSpPr/>
              <p:nvPr/>
            </p:nvSpPr>
            <p:spPr>
              <a:xfrm>
                <a:off x="2325960" y="4435560"/>
                <a:ext cx="220680" cy="22032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2325600" y="4545360"/>
                <a:ext cx="221760" cy="3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6" name=""/>
            <p:cNvGrpSpPr/>
            <p:nvPr/>
          </p:nvGrpSpPr>
          <p:grpSpPr>
            <a:xfrm>
              <a:off x="2901960" y="4433760"/>
              <a:ext cx="223200" cy="223920"/>
              <a:chOff x="2901960" y="4433760"/>
              <a:chExt cx="223200" cy="223920"/>
            </a:xfrm>
          </p:grpSpPr>
          <p:sp>
            <p:nvSpPr>
              <p:cNvPr id="467" name=""/>
              <p:cNvSpPr/>
              <p:nvPr/>
            </p:nvSpPr>
            <p:spPr>
              <a:xfrm>
                <a:off x="2902320" y="4434840"/>
                <a:ext cx="222120" cy="22212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2901960" y="4545720"/>
                <a:ext cx="223200" cy="3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3013560" y="4433760"/>
                <a:ext cx="360" cy="22392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0" name=""/>
            <p:cNvGrpSpPr/>
            <p:nvPr/>
          </p:nvGrpSpPr>
          <p:grpSpPr>
            <a:xfrm>
              <a:off x="3262320" y="4435560"/>
              <a:ext cx="223200" cy="223560"/>
              <a:chOff x="3262320" y="4435560"/>
              <a:chExt cx="223200" cy="223560"/>
            </a:xfrm>
          </p:grpSpPr>
          <p:sp>
            <p:nvSpPr>
              <p:cNvPr id="471" name=""/>
              <p:cNvSpPr/>
              <p:nvPr/>
            </p:nvSpPr>
            <p:spPr>
              <a:xfrm>
                <a:off x="3262680" y="4436640"/>
                <a:ext cx="222120" cy="22176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3262320" y="4547160"/>
                <a:ext cx="223200" cy="3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3373920" y="4435560"/>
                <a:ext cx="360" cy="2235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4" name=""/>
            <p:cNvGrpSpPr/>
            <p:nvPr/>
          </p:nvGrpSpPr>
          <p:grpSpPr>
            <a:xfrm>
              <a:off x="2325600" y="4975200"/>
              <a:ext cx="223560" cy="222120"/>
              <a:chOff x="2325600" y="4975200"/>
              <a:chExt cx="223560" cy="222120"/>
            </a:xfrm>
          </p:grpSpPr>
          <p:sp>
            <p:nvSpPr>
              <p:cNvPr id="475" name=""/>
              <p:cNvSpPr/>
              <p:nvPr/>
            </p:nvSpPr>
            <p:spPr>
              <a:xfrm>
                <a:off x="2325960" y="4975200"/>
                <a:ext cx="222480" cy="22212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2325600" y="5086080"/>
                <a:ext cx="223560" cy="3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7" name=""/>
            <p:cNvGrpSpPr/>
            <p:nvPr/>
          </p:nvGrpSpPr>
          <p:grpSpPr>
            <a:xfrm>
              <a:off x="2901960" y="4975200"/>
              <a:ext cx="223200" cy="223920"/>
              <a:chOff x="2901960" y="4975200"/>
              <a:chExt cx="223200" cy="223920"/>
            </a:xfrm>
          </p:grpSpPr>
          <p:sp>
            <p:nvSpPr>
              <p:cNvPr id="478" name=""/>
              <p:cNvSpPr/>
              <p:nvPr/>
            </p:nvSpPr>
            <p:spPr>
              <a:xfrm>
                <a:off x="2902320" y="4976280"/>
                <a:ext cx="222120" cy="22212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2901960" y="5087160"/>
                <a:ext cx="223200" cy="3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3013560" y="4975200"/>
                <a:ext cx="360" cy="22392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1" name=""/>
            <p:cNvGrpSpPr/>
            <p:nvPr/>
          </p:nvGrpSpPr>
          <p:grpSpPr>
            <a:xfrm>
              <a:off x="3262320" y="4976640"/>
              <a:ext cx="223200" cy="223920"/>
              <a:chOff x="3262320" y="4976640"/>
              <a:chExt cx="223200" cy="223920"/>
            </a:xfrm>
          </p:grpSpPr>
          <p:sp>
            <p:nvSpPr>
              <p:cNvPr id="482" name=""/>
              <p:cNvSpPr/>
              <p:nvPr/>
            </p:nvSpPr>
            <p:spPr>
              <a:xfrm>
                <a:off x="3262680" y="4977720"/>
                <a:ext cx="222120" cy="22212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3262320" y="5088600"/>
                <a:ext cx="223200" cy="3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3373920" y="4976640"/>
                <a:ext cx="360" cy="22392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5" name=""/>
            <p:cNvGrpSpPr/>
            <p:nvPr/>
          </p:nvGrpSpPr>
          <p:grpSpPr>
            <a:xfrm>
              <a:off x="2325600" y="5516640"/>
              <a:ext cx="223560" cy="222120"/>
              <a:chOff x="2325600" y="5516640"/>
              <a:chExt cx="223560" cy="222120"/>
            </a:xfrm>
          </p:grpSpPr>
          <p:sp>
            <p:nvSpPr>
              <p:cNvPr id="486" name=""/>
              <p:cNvSpPr/>
              <p:nvPr/>
            </p:nvSpPr>
            <p:spPr>
              <a:xfrm>
                <a:off x="2325960" y="5516640"/>
                <a:ext cx="222480" cy="22212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2325600" y="5627520"/>
                <a:ext cx="223560" cy="3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8" name=""/>
            <p:cNvGrpSpPr/>
            <p:nvPr/>
          </p:nvGrpSpPr>
          <p:grpSpPr>
            <a:xfrm>
              <a:off x="2901960" y="5516640"/>
              <a:ext cx="223200" cy="223560"/>
              <a:chOff x="2901960" y="5516640"/>
              <a:chExt cx="223200" cy="223560"/>
            </a:xfrm>
          </p:grpSpPr>
          <p:sp>
            <p:nvSpPr>
              <p:cNvPr id="489" name=""/>
              <p:cNvSpPr/>
              <p:nvPr/>
            </p:nvSpPr>
            <p:spPr>
              <a:xfrm>
                <a:off x="2902320" y="5517720"/>
                <a:ext cx="222120" cy="22176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2901960" y="5628240"/>
                <a:ext cx="223200" cy="3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3013560" y="5516640"/>
                <a:ext cx="360" cy="2235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2" name=""/>
            <p:cNvGrpSpPr/>
            <p:nvPr/>
          </p:nvGrpSpPr>
          <p:grpSpPr>
            <a:xfrm>
              <a:off x="3262320" y="5518080"/>
              <a:ext cx="223200" cy="223920"/>
              <a:chOff x="3262320" y="5518080"/>
              <a:chExt cx="223200" cy="223920"/>
            </a:xfrm>
          </p:grpSpPr>
          <p:sp>
            <p:nvSpPr>
              <p:cNvPr id="493" name=""/>
              <p:cNvSpPr/>
              <p:nvPr/>
            </p:nvSpPr>
            <p:spPr>
              <a:xfrm>
                <a:off x="3262680" y="5519160"/>
                <a:ext cx="222120" cy="22212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3262320" y="5630040"/>
                <a:ext cx="223200" cy="3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3373920" y="5518080"/>
                <a:ext cx="360" cy="22392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6" name=""/>
            <p:cNvSpPr/>
            <p:nvPr/>
          </p:nvSpPr>
          <p:spPr>
            <a:xfrm>
              <a:off x="1888920" y="4709880"/>
              <a:ext cx="58320" cy="5904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1860480" y="5379840"/>
              <a:ext cx="58320" cy="58680"/>
            </a:xfrm>
            <a:prstGeom prst="ellipse">
              <a:avLst/>
            </a:prstGeom>
            <a:solidFill>
              <a:srgbClr val="008000"/>
            </a:solidFill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896840" y="5222880"/>
              <a:ext cx="58320" cy="601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9" name=""/>
            <p:cNvGrpSpPr/>
            <p:nvPr/>
          </p:nvGrpSpPr>
          <p:grpSpPr>
            <a:xfrm>
              <a:off x="1963440" y="4435560"/>
              <a:ext cx="223560" cy="220320"/>
              <a:chOff x="1963440" y="4435560"/>
              <a:chExt cx="223560" cy="220320"/>
            </a:xfrm>
          </p:grpSpPr>
          <p:sp>
            <p:nvSpPr>
              <p:cNvPr id="500" name=""/>
              <p:cNvSpPr/>
              <p:nvPr/>
            </p:nvSpPr>
            <p:spPr>
              <a:xfrm>
                <a:off x="1963800" y="4435560"/>
                <a:ext cx="222480" cy="22032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1963440" y="4545360"/>
                <a:ext cx="223560" cy="3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2" name=""/>
            <p:cNvGrpSpPr/>
            <p:nvPr/>
          </p:nvGrpSpPr>
          <p:grpSpPr>
            <a:xfrm>
              <a:off x="1965240" y="4975200"/>
              <a:ext cx="223560" cy="222120"/>
              <a:chOff x="1965240" y="4975200"/>
              <a:chExt cx="223560" cy="222120"/>
            </a:xfrm>
          </p:grpSpPr>
          <p:sp>
            <p:nvSpPr>
              <p:cNvPr id="503" name=""/>
              <p:cNvSpPr/>
              <p:nvPr/>
            </p:nvSpPr>
            <p:spPr>
              <a:xfrm>
                <a:off x="1965600" y="4975200"/>
                <a:ext cx="222480" cy="22212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1965240" y="5086080"/>
                <a:ext cx="223560" cy="3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5" name=""/>
            <p:cNvGrpSpPr/>
            <p:nvPr/>
          </p:nvGrpSpPr>
          <p:grpSpPr>
            <a:xfrm>
              <a:off x="1965240" y="5516640"/>
              <a:ext cx="223560" cy="222120"/>
              <a:chOff x="1965240" y="5516640"/>
              <a:chExt cx="223560" cy="222120"/>
            </a:xfrm>
          </p:grpSpPr>
          <p:sp>
            <p:nvSpPr>
              <p:cNvPr id="506" name=""/>
              <p:cNvSpPr/>
              <p:nvPr/>
            </p:nvSpPr>
            <p:spPr>
              <a:xfrm>
                <a:off x="1965600" y="5516640"/>
                <a:ext cx="222480" cy="22212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1965240" y="5627520"/>
                <a:ext cx="223560" cy="3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8" name=""/>
            <p:cNvSpPr/>
            <p:nvPr/>
          </p:nvSpPr>
          <p:spPr>
            <a:xfrm>
              <a:off x="2081160" y="5327640"/>
              <a:ext cx="59760" cy="5868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2101680" y="4767120"/>
              <a:ext cx="58320" cy="5868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0" name=""/>
          <p:cNvGrpSpPr/>
          <p:nvPr/>
        </p:nvGrpSpPr>
        <p:grpSpPr>
          <a:xfrm>
            <a:off x="2141640" y="4184640"/>
            <a:ext cx="1158840" cy="663480"/>
            <a:chOff x="2141640" y="4184640"/>
            <a:chExt cx="1158840" cy="663480"/>
          </a:xfrm>
        </p:grpSpPr>
        <p:sp>
          <p:nvSpPr>
            <p:cNvPr id="511" name=""/>
            <p:cNvSpPr/>
            <p:nvPr/>
          </p:nvSpPr>
          <p:spPr>
            <a:xfrm>
              <a:off x="2141640" y="4848120"/>
              <a:ext cx="1158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2500920" y="4184640"/>
              <a:ext cx="416880" cy="61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3600" spc="-1" strike="noStrike">
                  <a:solidFill>
                    <a:srgbClr val="000000"/>
                  </a:solidFill>
                  <a:latin typeface="MT Extra"/>
                  <a:ea typeface="MT Extra"/>
                </a:rPr>
                <a:t>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3" name=""/>
          <p:cNvSpPr/>
          <p:nvPr/>
        </p:nvSpPr>
        <p:spPr>
          <a:xfrm>
            <a:off x="5349960" y="1203480"/>
            <a:ext cx="3794040" cy="552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A temperatura ambiente, los huecos de la zona </a:t>
            </a: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pasan por difusión hacia la zona </a:t>
            </a: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y los e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de la zona </a:t>
            </a: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pasan a la zona </a:t>
            </a: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En la zona de la unión, huecos y e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se recombinan, quedando una estrecha zona de transición con una distribución de carga debida a la presencia de los iones de las impurezas y a la ausencia de huecos y e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Se crea, entonces un campo eléctrico que produce corrientes de desplazamiento, que equilibran a las de difusió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1932120" y="5965920"/>
            <a:ext cx="5331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s-ES_tradnl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3151080" y="5965920"/>
            <a:ext cx="533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s-ES_tradnl" sz="16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300"/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9500"/>
                            </p:stCondLst>
                            <p:childTnLst>
                              <p:par>
                                <p:cTn id="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300"/>
                                        <p:tgtEl>
                                          <p:spTgt spid="5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2240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300"/>
                                        <p:tgtEl>
                                          <p:spTgt spid="5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2870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500"/>
                            </p:stCondLst>
                            <p:childTnLst>
                              <p:par>
                                <p:cTn id="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1.4.El diodo como rectificador.</a:t>
            </a: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proximaciones o modelos del dio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"/>
          <p:cNvSpPr/>
          <p:nvPr/>
        </p:nvSpPr>
        <p:spPr>
          <a:xfrm>
            <a:off x="890640" y="2362320"/>
            <a:ext cx="7620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n el modelo del diodo ideal se equipara éste a un cortocircuito o a un circuito abierto, según cómo esté conecta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8" name=""/>
          <p:cNvGrpSpPr/>
          <p:nvPr/>
        </p:nvGrpSpPr>
        <p:grpSpPr>
          <a:xfrm>
            <a:off x="5484960" y="1676520"/>
            <a:ext cx="1054080" cy="304560"/>
            <a:chOff x="5484960" y="1676520"/>
            <a:chExt cx="1054080" cy="304560"/>
          </a:xfrm>
        </p:grpSpPr>
        <p:sp>
          <p:nvSpPr>
            <p:cNvPr id="1089" name=""/>
            <p:cNvSpPr/>
            <p:nvPr/>
          </p:nvSpPr>
          <p:spPr>
            <a:xfrm>
              <a:off x="5484960" y="1838160"/>
              <a:ext cx="1054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 flipV="1" rot="16200000">
              <a:off x="5883120" y="1694160"/>
              <a:ext cx="269640" cy="28260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 flipV="1">
              <a:off x="6188040" y="16765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2" name=""/>
          <p:cNvSpPr/>
          <p:nvPr/>
        </p:nvSpPr>
        <p:spPr>
          <a:xfrm>
            <a:off x="1577880" y="3429000"/>
            <a:ext cx="38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3" name=""/>
          <p:cNvGrpSpPr/>
          <p:nvPr/>
        </p:nvGrpSpPr>
        <p:grpSpPr>
          <a:xfrm>
            <a:off x="838080" y="4051440"/>
            <a:ext cx="338400" cy="79200"/>
            <a:chOff x="838080" y="4051440"/>
            <a:chExt cx="338400" cy="79200"/>
          </a:xfrm>
        </p:grpSpPr>
        <p:sp>
          <p:nvSpPr>
            <p:cNvPr id="1094" name=""/>
            <p:cNvSpPr/>
            <p:nvPr/>
          </p:nvSpPr>
          <p:spPr>
            <a:xfrm>
              <a:off x="934560" y="4130640"/>
              <a:ext cx="14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838080" y="4051440"/>
              <a:ext cx="338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6" name=""/>
          <p:cNvSpPr/>
          <p:nvPr/>
        </p:nvSpPr>
        <p:spPr>
          <a:xfrm>
            <a:off x="1163520" y="3935520"/>
            <a:ext cx="945360" cy="968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905" y="3430"/>
                </a:moveTo>
                <a:arcTo wR="10800" hR="10800" stAng="-8218078" swAng="7604760"/>
                <a:lnTo>
                  <a:pt x="10800" y="10800"/>
                </a:lnTo>
                <a:close/>
              </a:path>
              <a:path fill="none" w="21600" h="21600">
                <a:moveTo>
                  <a:pt x="2905" y="3430"/>
                </a:moveTo>
                <a:arcTo wR="10800" hR="10800" stAng="-8218078" swAng="7604760"/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"/>
          <p:cNvSpPr/>
          <p:nvPr/>
        </p:nvSpPr>
        <p:spPr>
          <a:xfrm>
            <a:off x="1671480" y="4041720"/>
            <a:ext cx="32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8" name=""/>
          <p:cNvGrpSpPr/>
          <p:nvPr/>
        </p:nvGrpSpPr>
        <p:grpSpPr>
          <a:xfrm>
            <a:off x="2297160" y="3813120"/>
            <a:ext cx="218880" cy="1034640"/>
            <a:chOff x="2297160" y="3813120"/>
            <a:chExt cx="218880" cy="1034640"/>
          </a:xfrm>
        </p:grpSpPr>
        <p:sp>
          <p:nvSpPr>
            <p:cNvPr id="1099" name=""/>
            <p:cNvSpPr/>
            <p:nvPr/>
          </p:nvSpPr>
          <p:spPr>
            <a:xfrm>
              <a:off x="2400840" y="3813120"/>
              <a:ext cx="0" cy="27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2400840" y="4290120"/>
              <a:ext cx="0" cy="55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1" name=""/>
            <p:cNvGrpSpPr/>
            <p:nvPr/>
          </p:nvGrpSpPr>
          <p:grpSpPr>
            <a:xfrm>
              <a:off x="2297160" y="4090320"/>
              <a:ext cx="218880" cy="219600"/>
              <a:chOff x="2297160" y="4090320"/>
              <a:chExt cx="218880" cy="219600"/>
            </a:xfrm>
          </p:grpSpPr>
          <p:sp>
            <p:nvSpPr>
              <p:cNvPr id="1102" name=""/>
              <p:cNvSpPr/>
              <p:nvPr/>
            </p:nvSpPr>
            <p:spPr>
              <a:xfrm flipV="1">
                <a:off x="2304000" y="4089960"/>
                <a:ext cx="193320" cy="19908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>
                <a:off x="2297160" y="4309920"/>
                <a:ext cx="218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04" name=""/>
          <p:cNvGrpSpPr/>
          <p:nvPr/>
        </p:nvGrpSpPr>
        <p:grpSpPr>
          <a:xfrm>
            <a:off x="2862360" y="4051440"/>
            <a:ext cx="338040" cy="79200"/>
            <a:chOff x="2862360" y="4051440"/>
            <a:chExt cx="338040" cy="79200"/>
          </a:xfrm>
        </p:grpSpPr>
        <p:sp>
          <p:nvSpPr>
            <p:cNvPr id="1105" name=""/>
            <p:cNvSpPr/>
            <p:nvPr/>
          </p:nvSpPr>
          <p:spPr>
            <a:xfrm>
              <a:off x="2958840" y="4130640"/>
              <a:ext cx="14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2862360" y="4051440"/>
              <a:ext cx="338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7" name=""/>
          <p:cNvSpPr/>
          <p:nvPr/>
        </p:nvSpPr>
        <p:spPr>
          <a:xfrm>
            <a:off x="3144600" y="3935520"/>
            <a:ext cx="946080" cy="968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905" y="3430"/>
                </a:moveTo>
                <a:arcTo wR="10800" hR="10800" stAng="-8218078" swAng="7242025"/>
                <a:lnTo>
                  <a:pt x="10800" y="10800"/>
                </a:lnTo>
                <a:close/>
              </a:path>
              <a:path fill="none" w="21600" h="21600">
                <a:moveTo>
                  <a:pt x="2905" y="3430"/>
                </a:moveTo>
                <a:arcTo wR="10800" hR="10800" stAng="-8218078" swAng="7242025"/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"/>
          <p:cNvSpPr/>
          <p:nvPr/>
        </p:nvSpPr>
        <p:spPr>
          <a:xfrm>
            <a:off x="3652920" y="404172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9" name=""/>
          <p:cNvGrpSpPr/>
          <p:nvPr/>
        </p:nvGrpSpPr>
        <p:grpSpPr>
          <a:xfrm>
            <a:off x="2668680" y="4238640"/>
            <a:ext cx="152280" cy="152280"/>
            <a:chOff x="2668680" y="4238640"/>
            <a:chExt cx="152280" cy="152280"/>
          </a:xfrm>
        </p:grpSpPr>
        <p:sp>
          <p:nvSpPr>
            <p:cNvPr id="1110" name=""/>
            <p:cNvSpPr/>
            <p:nvPr/>
          </p:nvSpPr>
          <p:spPr>
            <a:xfrm>
              <a:off x="2668680" y="423864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2668680" y="431496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2668680" y="439092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3" name=""/>
          <p:cNvGrpSpPr/>
          <p:nvPr/>
        </p:nvGrpSpPr>
        <p:grpSpPr>
          <a:xfrm>
            <a:off x="4761000" y="4051440"/>
            <a:ext cx="338040" cy="79200"/>
            <a:chOff x="4761000" y="4051440"/>
            <a:chExt cx="338040" cy="79200"/>
          </a:xfrm>
        </p:grpSpPr>
        <p:sp>
          <p:nvSpPr>
            <p:cNvPr id="1114" name=""/>
            <p:cNvSpPr/>
            <p:nvPr/>
          </p:nvSpPr>
          <p:spPr>
            <a:xfrm>
              <a:off x="4857480" y="4051440"/>
              <a:ext cx="14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4761000" y="4130640"/>
              <a:ext cx="338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6" name=""/>
          <p:cNvSpPr/>
          <p:nvPr/>
        </p:nvSpPr>
        <p:spPr>
          <a:xfrm flipV="1">
            <a:off x="5087880" y="3804120"/>
            <a:ext cx="945720" cy="969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905" y="3430"/>
                </a:moveTo>
                <a:arcTo wR="10800" hR="10800" stAng="-8218078" swAng="8461479"/>
                <a:lnTo>
                  <a:pt x="10800" y="10800"/>
                </a:lnTo>
                <a:close/>
              </a:path>
              <a:path fill="none" w="21600" h="21600">
                <a:moveTo>
                  <a:pt x="2905" y="3430"/>
                </a:moveTo>
                <a:arcTo wR="10800" hR="10800" stAng="-8218078" swAng="8461479"/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"/>
          <p:cNvSpPr/>
          <p:nvPr/>
        </p:nvSpPr>
        <p:spPr>
          <a:xfrm>
            <a:off x="5595840" y="4329000"/>
            <a:ext cx="32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8" name=""/>
          <p:cNvGrpSpPr/>
          <p:nvPr/>
        </p:nvGrpSpPr>
        <p:grpSpPr>
          <a:xfrm>
            <a:off x="6221520" y="3813120"/>
            <a:ext cx="218880" cy="1034640"/>
            <a:chOff x="6221520" y="3813120"/>
            <a:chExt cx="218880" cy="1034640"/>
          </a:xfrm>
        </p:grpSpPr>
        <p:sp>
          <p:nvSpPr>
            <p:cNvPr id="1119" name=""/>
            <p:cNvSpPr/>
            <p:nvPr/>
          </p:nvSpPr>
          <p:spPr>
            <a:xfrm>
              <a:off x="6325200" y="3813120"/>
              <a:ext cx="0" cy="27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6325200" y="4290120"/>
              <a:ext cx="0" cy="55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21" name=""/>
            <p:cNvGrpSpPr/>
            <p:nvPr/>
          </p:nvGrpSpPr>
          <p:grpSpPr>
            <a:xfrm>
              <a:off x="6221520" y="4090320"/>
              <a:ext cx="218880" cy="219600"/>
              <a:chOff x="6221520" y="4090320"/>
              <a:chExt cx="218880" cy="219600"/>
            </a:xfrm>
          </p:grpSpPr>
          <p:sp>
            <p:nvSpPr>
              <p:cNvPr id="1122" name=""/>
              <p:cNvSpPr/>
              <p:nvPr/>
            </p:nvSpPr>
            <p:spPr>
              <a:xfrm flipV="1">
                <a:off x="6228360" y="4089960"/>
                <a:ext cx="193320" cy="19908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>
                <a:off x="6221520" y="4309920"/>
                <a:ext cx="218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24" name=""/>
          <p:cNvGrpSpPr/>
          <p:nvPr/>
        </p:nvGrpSpPr>
        <p:grpSpPr>
          <a:xfrm>
            <a:off x="6786720" y="4051440"/>
            <a:ext cx="338040" cy="79200"/>
            <a:chOff x="6786720" y="4051440"/>
            <a:chExt cx="338040" cy="79200"/>
          </a:xfrm>
        </p:grpSpPr>
        <p:sp>
          <p:nvSpPr>
            <p:cNvPr id="1125" name=""/>
            <p:cNvSpPr/>
            <p:nvPr/>
          </p:nvSpPr>
          <p:spPr>
            <a:xfrm>
              <a:off x="6883200" y="4051440"/>
              <a:ext cx="14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6786720" y="4130640"/>
              <a:ext cx="338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7" name=""/>
          <p:cNvSpPr/>
          <p:nvPr/>
        </p:nvSpPr>
        <p:spPr>
          <a:xfrm>
            <a:off x="6953400" y="4848120"/>
            <a:ext cx="1353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8" name=""/>
          <p:cNvGrpSpPr/>
          <p:nvPr/>
        </p:nvGrpSpPr>
        <p:grpSpPr>
          <a:xfrm>
            <a:off x="6593040" y="4238640"/>
            <a:ext cx="152280" cy="152280"/>
            <a:chOff x="6593040" y="4238640"/>
            <a:chExt cx="152280" cy="152280"/>
          </a:xfrm>
        </p:grpSpPr>
        <p:sp>
          <p:nvSpPr>
            <p:cNvPr id="1129" name=""/>
            <p:cNvSpPr/>
            <p:nvPr/>
          </p:nvSpPr>
          <p:spPr>
            <a:xfrm>
              <a:off x="6593040" y="423864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6593040" y="431496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6593040" y="439092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2" name=""/>
          <p:cNvSpPr/>
          <p:nvPr/>
        </p:nvSpPr>
        <p:spPr>
          <a:xfrm>
            <a:off x="609480" y="160020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1ª aproximación: diodo ide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"/>
          <p:cNvSpPr/>
          <p:nvPr/>
        </p:nvSpPr>
        <p:spPr>
          <a:xfrm>
            <a:off x="3025800" y="3809880"/>
            <a:ext cx="1395360" cy="1038240"/>
          </a:xfrm>
          <a:custGeom>
            <a:avLst/>
            <a:gdLst/>
            <a:ahLst/>
            <a:rect l="l" t="t" r="r" b="b"/>
            <a:pathLst>
              <a:path w="879" h="654">
                <a:moveTo>
                  <a:pt x="0" y="150"/>
                </a:moveTo>
                <a:lnTo>
                  <a:pt x="0" y="0"/>
                </a:lnTo>
                <a:lnTo>
                  <a:pt x="879" y="0"/>
                </a:lnTo>
                <a:lnTo>
                  <a:pt x="879" y="654"/>
                </a:lnTo>
                <a:lnTo>
                  <a:pt x="0" y="654"/>
                </a:lnTo>
                <a:lnTo>
                  <a:pt x="0" y="204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"/>
          <p:cNvSpPr/>
          <p:nvPr/>
        </p:nvSpPr>
        <p:spPr>
          <a:xfrm>
            <a:off x="3463920" y="3753000"/>
            <a:ext cx="484200" cy="12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"/>
          <p:cNvSpPr/>
          <p:nvPr/>
        </p:nvSpPr>
        <p:spPr>
          <a:xfrm>
            <a:off x="1006560" y="3809880"/>
            <a:ext cx="1395360" cy="1038240"/>
          </a:xfrm>
          <a:custGeom>
            <a:avLst/>
            <a:gdLst/>
            <a:ahLst/>
            <a:rect l="l" t="t" r="r" b="b"/>
            <a:pathLst>
              <a:path w="879" h="654">
                <a:moveTo>
                  <a:pt x="0" y="150"/>
                </a:moveTo>
                <a:lnTo>
                  <a:pt x="0" y="0"/>
                </a:lnTo>
                <a:lnTo>
                  <a:pt x="879" y="0"/>
                </a:lnTo>
                <a:lnTo>
                  <a:pt x="879" y="654"/>
                </a:lnTo>
                <a:lnTo>
                  <a:pt x="0" y="654"/>
                </a:lnTo>
                <a:lnTo>
                  <a:pt x="0" y="204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"/>
          <p:cNvSpPr/>
          <p:nvPr/>
        </p:nvSpPr>
        <p:spPr>
          <a:xfrm>
            <a:off x="1482840" y="3743280"/>
            <a:ext cx="484200" cy="12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"/>
          <p:cNvSpPr/>
          <p:nvPr/>
        </p:nvSpPr>
        <p:spPr>
          <a:xfrm>
            <a:off x="4929120" y="3809880"/>
            <a:ext cx="1395360" cy="1038240"/>
          </a:xfrm>
          <a:custGeom>
            <a:avLst/>
            <a:gdLst/>
            <a:ahLst/>
            <a:rect l="l" t="t" r="r" b="b"/>
            <a:pathLst>
              <a:path w="879" h="654">
                <a:moveTo>
                  <a:pt x="0" y="150"/>
                </a:moveTo>
                <a:lnTo>
                  <a:pt x="0" y="0"/>
                </a:lnTo>
                <a:lnTo>
                  <a:pt x="879" y="0"/>
                </a:lnTo>
                <a:lnTo>
                  <a:pt x="879" y="654"/>
                </a:lnTo>
                <a:lnTo>
                  <a:pt x="0" y="654"/>
                </a:lnTo>
                <a:lnTo>
                  <a:pt x="0" y="204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"/>
          <p:cNvSpPr/>
          <p:nvPr/>
        </p:nvSpPr>
        <p:spPr>
          <a:xfrm>
            <a:off x="5411880" y="3753000"/>
            <a:ext cx="484200" cy="12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"/>
          <p:cNvSpPr/>
          <p:nvPr/>
        </p:nvSpPr>
        <p:spPr>
          <a:xfrm>
            <a:off x="6954840" y="4130640"/>
            <a:ext cx="1352520" cy="717480"/>
          </a:xfrm>
          <a:custGeom>
            <a:avLst/>
            <a:gdLst/>
            <a:ahLst/>
            <a:rect l="l" t="t" r="r" b="b"/>
            <a:pathLst>
              <a:path w="864" h="432">
                <a:moveTo>
                  <a:pt x="0" y="0"/>
                </a:moveTo>
                <a:lnTo>
                  <a:pt x="0" y="432"/>
                </a:lnTo>
                <a:lnTo>
                  <a:pt x="864" y="432"/>
                </a:lnTo>
                <a:lnTo>
                  <a:pt x="864" y="24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"/>
          <p:cNvSpPr/>
          <p:nvPr/>
        </p:nvSpPr>
        <p:spPr>
          <a:xfrm>
            <a:off x="6954840" y="3813120"/>
            <a:ext cx="1352520" cy="457200"/>
          </a:xfrm>
          <a:custGeom>
            <a:avLst/>
            <a:gdLst/>
            <a:ahLst/>
            <a:rect l="l" t="t" r="r" b="b"/>
            <a:pathLst>
              <a:path w="864" h="288">
                <a:moveTo>
                  <a:pt x="0" y="144"/>
                </a:moveTo>
                <a:lnTo>
                  <a:pt x="0" y="0"/>
                </a:lnTo>
                <a:lnTo>
                  <a:pt x="864" y="0"/>
                </a:lnTo>
                <a:lnTo>
                  <a:pt x="864" y="288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"/>
          <p:cNvSpPr/>
          <p:nvPr/>
        </p:nvSpPr>
        <p:spPr>
          <a:xfrm>
            <a:off x="7392960" y="3753000"/>
            <a:ext cx="484200" cy="12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"/>
          <p:cNvSpPr/>
          <p:nvPr/>
        </p:nvSpPr>
        <p:spPr>
          <a:xfrm>
            <a:off x="5487840" y="3429000"/>
            <a:ext cx="38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1.4.El diodo como rectificador.</a:t>
            </a: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proximaciones o modelos del diodo</a:t>
            </a: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"/>
          <p:cNvSpPr/>
          <p:nvPr/>
        </p:nvSpPr>
        <p:spPr>
          <a:xfrm>
            <a:off x="539640" y="1557360"/>
            <a:ext cx="5486400" cy="319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n polarización directa, se observa que el diodo necesita una tensión umbral, o tensión de codo para que pase la corriente I. Después ésta aumenta exponencialmen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n la 2ª aproximación del diodo se puede suponer que V es constante para una amplio margen de intensidad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= 0.3 V para el diodo de G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= 0.7 V para el de S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5" name=""/>
              <p:cNvSpPr txBox="1"/>
              <p:nvPr/>
            </p:nvSpPr>
            <p:spPr>
              <a:xfrm>
                <a:off x="5262480" y="5845320"/>
                <a:ext cx="3276720" cy="61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6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7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k</m:t>
                        </m:r>
                      </m:den>
                    </m:f>
                    <m:r>
                      <m:t xml:space="preserve">=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146" name=""/>
          <p:cNvGrpSpPr/>
          <p:nvPr/>
        </p:nvGrpSpPr>
        <p:grpSpPr>
          <a:xfrm>
            <a:off x="7700760" y="4365720"/>
            <a:ext cx="535320" cy="347040"/>
            <a:chOff x="7700760" y="4365720"/>
            <a:chExt cx="535320" cy="347040"/>
          </a:xfrm>
        </p:grpSpPr>
        <p:sp>
          <p:nvSpPr>
            <p:cNvPr id="1147" name=""/>
            <p:cNvSpPr/>
            <p:nvPr/>
          </p:nvSpPr>
          <p:spPr>
            <a:xfrm>
              <a:off x="7700760" y="4365720"/>
              <a:ext cx="1864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200" spc="-1" strike="noStrike">
                  <a:solidFill>
                    <a:srgbClr val="0000ff"/>
                  </a:solidFill>
                  <a:latin typeface="Arial"/>
                </a:rPr>
                <a:t>V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7848360" y="4499280"/>
              <a:ext cx="387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ff"/>
                  </a:solidFill>
                  <a:latin typeface="Arial"/>
                </a:rPr>
                <a:t>cod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9" name=""/>
          <p:cNvSpPr/>
          <p:nvPr/>
        </p:nvSpPr>
        <p:spPr>
          <a:xfrm flipV="1">
            <a:off x="6329520" y="189216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"/>
          <p:cNvSpPr/>
          <p:nvPr/>
        </p:nvSpPr>
        <p:spPr>
          <a:xfrm>
            <a:off x="5262480" y="4330800"/>
            <a:ext cx="3505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"/>
          <p:cNvSpPr/>
          <p:nvPr/>
        </p:nvSpPr>
        <p:spPr>
          <a:xfrm>
            <a:off x="8386920" y="4330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"/>
          <p:cNvSpPr/>
          <p:nvPr/>
        </p:nvSpPr>
        <p:spPr>
          <a:xfrm>
            <a:off x="6100920" y="2044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"/>
          <p:cNvSpPr/>
          <p:nvPr/>
        </p:nvSpPr>
        <p:spPr>
          <a:xfrm>
            <a:off x="5567400" y="1892160"/>
            <a:ext cx="2438280" cy="2438640"/>
          </a:xfrm>
          <a:custGeom>
            <a:avLst/>
            <a:gdLst/>
            <a:ahLst/>
            <a:rect l="l" t="t" r="r" b="b"/>
            <a:pathLst>
              <a:path w="1536" h="1536">
                <a:moveTo>
                  <a:pt x="0" y="1536"/>
                </a:moveTo>
                <a:lnTo>
                  <a:pt x="1536" y="1536"/>
                </a:lnTo>
                <a:lnTo>
                  <a:pt x="1536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4" name=""/>
          <p:cNvGrpSpPr/>
          <p:nvPr/>
        </p:nvGrpSpPr>
        <p:grpSpPr>
          <a:xfrm>
            <a:off x="2540160" y="4788000"/>
            <a:ext cx="3332160" cy="1411200"/>
            <a:chOff x="2540160" y="4788000"/>
            <a:chExt cx="3332160" cy="1411200"/>
          </a:xfrm>
        </p:grpSpPr>
        <p:grpSp>
          <p:nvGrpSpPr>
            <p:cNvPr id="1155" name=""/>
            <p:cNvGrpSpPr/>
            <p:nvPr/>
          </p:nvGrpSpPr>
          <p:grpSpPr>
            <a:xfrm>
              <a:off x="3183120" y="5410440"/>
              <a:ext cx="320760" cy="74520"/>
              <a:chOff x="3183120" y="5410440"/>
              <a:chExt cx="320760" cy="74520"/>
            </a:xfrm>
          </p:grpSpPr>
          <p:sp>
            <p:nvSpPr>
              <p:cNvPr id="1156" name=""/>
              <p:cNvSpPr/>
              <p:nvPr/>
            </p:nvSpPr>
            <p:spPr>
              <a:xfrm>
                <a:off x="3274560" y="5484960"/>
                <a:ext cx="137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>
                <a:off x="3183120" y="5410440"/>
                <a:ext cx="320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58" name=""/>
            <p:cNvSpPr/>
            <p:nvPr/>
          </p:nvSpPr>
          <p:spPr>
            <a:xfrm>
              <a:off x="3635640" y="4788000"/>
              <a:ext cx="1077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R=1k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2540160" y="5050080"/>
              <a:ext cx="963720" cy="39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0" lang="es-ES_tradnl" sz="1600" spc="-1" strike="noStrike" baseline="-25000">
                  <a:solidFill>
                    <a:srgbClr val="000000"/>
                  </a:solidFill>
                  <a:latin typeface="Arial"/>
                </a:rPr>
                <a:t>0 </a:t>
              </a: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= 6V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3462840" y="5303880"/>
              <a:ext cx="894600" cy="895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905" y="3430"/>
                  </a:moveTo>
                  <a:arcTo wR="10800" hR="10800" stAng="-8218078" swAng="7805629"/>
                  <a:lnTo>
                    <a:pt x="10800" y="10800"/>
                  </a:lnTo>
                  <a:close/>
                </a:path>
                <a:path fill="none" w="21600" h="21600">
                  <a:moveTo>
                    <a:pt x="2905" y="3430"/>
                  </a:moveTo>
                  <a:arcTo wR="10800" hR="10800" stAng="-8218078" swAng="7805629"/>
                </a:path>
              </a:pathLst>
            </a:custGeom>
            <a:noFill/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3945240" y="5400720"/>
              <a:ext cx="309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4637160" y="555012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3" name=""/>
            <p:cNvGrpSpPr/>
            <p:nvPr/>
          </p:nvGrpSpPr>
          <p:grpSpPr>
            <a:xfrm>
              <a:off x="4540320" y="5804280"/>
              <a:ext cx="206640" cy="203040"/>
              <a:chOff x="4540320" y="5804280"/>
              <a:chExt cx="206640" cy="203040"/>
            </a:xfrm>
          </p:grpSpPr>
          <p:sp>
            <p:nvSpPr>
              <p:cNvPr id="1164" name=""/>
              <p:cNvSpPr/>
              <p:nvPr/>
            </p:nvSpPr>
            <p:spPr>
              <a:xfrm flipV="1">
                <a:off x="4546800" y="5804280"/>
                <a:ext cx="182520" cy="18432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760" bIns="14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>
                <a:off x="4540320" y="6007320"/>
                <a:ext cx="206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66" name=""/>
            <p:cNvSpPr/>
            <p:nvPr/>
          </p:nvSpPr>
          <p:spPr>
            <a:xfrm>
              <a:off x="4740480" y="5397840"/>
              <a:ext cx="1131840" cy="39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0" lang="es-ES_tradnl" sz="1600" spc="-1" strike="noStrike" baseline="-25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=0.7 V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3341880" y="5183280"/>
              <a:ext cx="1295280" cy="976320"/>
            </a:xfrm>
            <a:custGeom>
              <a:avLst/>
              <a:gdLst/>
              <a:ahLst/>
              <a:rect l="l" t="t" r="r" b="b"/>
              <a:pathLst>
                <a:path w="816" h="624">
                  <a:moveTo>
                    <a:pt x="0" y="144"/>
                  </a:moveTo>
                  <a:lnTo>
                    <a:pt x="0" y="0"/>
                  </a:lnTo>
                  <a:lnTo>
                    <a:pt x="816" y="0"/>
                  </a:lnTo>
                  <a:lnTo>
                    <a:pt x="816" y="624"/>
                  </a:lnTo>
                  <a:lnTo>
                    <a:pt x="0" y="624"/>
                  </a:lnTo>
                  <a:lnTo>
                    <a:pt x="0" y="19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3767400" y="5134320"/>
              <a:ext cx="457200" cy="11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9" name=""/>
            <p:cNvGrpSpPr/>
            <p:nvPr/>
          </p:nvGrpSpPr>
          <p:grpSpPr>
            <a:xfrm>
              <a:off x="4484880" y="5450040"/>
              <a:ext cx="320760" cy="82440"/>
              <a:chOff x="4484880" y="5450040"/>
              <a:chExt cx="320760" cy="82440"/>
            </a:xfrm>
          </p:grpSpPr>
          <p:sp>
            <p:nvSpPr>
              <p:cNvPr id="1170" name=""/>
              <p:cNvSpPr/>
              <p:nvPr/>
            </p:nvSpPr>
            <p:spPr>
              <a:xfrm>
                <a:off x="4561200" y="5450040"/>
                <a:ext cx="152280" cy="7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71" name=""/>
              <p:cNvGrpSpPr/>
              <p:nvPr/>
            </p:nvGrpSpPr>
            <p:grpSpPr>
              <a:xfrm>
                <a:off x="4484880" y="5457960"/>
                <a:ext cx="320760" cy="74520"/>
                <a:chOff x="4484880" y="5457960"/>
                <a:chExt cx="320760" cy="74520"/>
              </a:xfrm>
            </p:grpSpPr>
            <p:sp>
              <p:nvSpPr>
                <p:cNvPr id="1172" name=""/>
                <p:cNvSpPr/>
                <p:nvPr/>
              </p:nvSpPr>
              <p:spPr>
                <a:xfrm>
                  <a:off x="4576320" y="5532480"/>
                  <a:ext cx="137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3" name=""/>
                <p:cNvSpPr/>
                <p:nvPr/>
              </p:nvSpPr>
              <p:spPr>
                <a:xfrm>
                  <a:off x="4484880" y="5457960"/>
                  <a:ext cx="3207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74" name=""/>
            <p:cNvGrpSpPr/>
            <p:nvPr/>
          </p:nvGrpSpPr>
          <p:grpSpPr>
            <a:xfrm>
              <a:off x="2695680" y="5599440"/>
              <a:ext cx="152280" cy="152280"/>
              <a:chOff x="2695680" y="5599440"/>
              <a:chExt cx="152280" cy="152280"/>
            </a:xfrm>
          </p:grpSpPr>
          <p:sp>
            <p:nvSpPr>
              <p:cNvPr id="1175" name=""/>
              <p:cNvSpPr/>
              <p:nvPr/>
            </p:nvSpPr>
            <p:spPr>
              <a:xfrm>
                <a:off x="2695680" y="559944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>
                <a:off x="2695680" y="567576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>
                <a:off x="2695680" y="575172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78" name=""/>
          <p:cNvGrpSpPr/>
          <p:nvPr/>
        </p:nvGrpSpPr>
        <p:grpSpPr>
          <a:xfrm>
            <a:off x="324000" y="4724280"/>
            <a:ext cx="2209680" cy="1411200"/>
            <a:chOff x="324000" y="4724280"/>
            <a:chExt cx="2209680" cy="1411200"/>
          </a:xfrm>
        </p:grpSpPr>
        <p:grpSp>
          <p:nvGrpSpPr>
            <p:cNvPr id="1179" name=""/>
            <p:cNvGrpSpPr/>
            <p:nvPr/>
          </p:nvGrpSpPr>
          <p:grpSpPr>
            <a:xfrm>
              <a:off x="977760" y="5346720"/>
              <a:ext cx="320760" cy="74520"/>
              <a:chOff x="977760" y="5346720"/>
              <a:chExt cx="320760" cy="74520"/>
            </a:xfrm>
          </p:grpSpPr>
          <p:sp>
            <p:nvSpPr>
              <p:cNvPr id="1180" name=""/>
              <p:cNvSpPr/>
              <p:nvPr/>
            </p:nvSpPr>
            <p:spPr>
              <a:xfrm>
                <a:off x="1069200" y="5421240"/>
                <a:ext cx="137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>
                <a:off x="977760" y="5346720"/>
                <a:ext cx="320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82" name=""/>
            <p:cNvSpPr/>
            <p:nvPr/>
          </p:nvSpPr>
          <p:spPr>
            <a:xfrm>
              <a:off x="1430280" y="4724280"/>
              <a:ext cx="1077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R=1k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1257840" y="5240160"/>
              <a:ext cx="894600" cy="895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905" y="3430"/>
                  </a:moveTo>
                  <a:arcTo wR="10800" hR="10800" stAng="-8218078" swAng="7805629"/>
                  <a:lnTo>
                    <a:pt x="10800" y="10800"/>
                  </a:lnTo>
                  <a:close/>
                </a:path>
                <a:path fill="none" w="21600" h="21600">
                  <a:moveTo>
                    <a:pt x="2905" y="3430"/>
                  </a:moveTo>
                  <a:arcTo wR="10800" hR="10800" stAng="-8218078" swAng="7805629"/>
                </a:path>
              </a:pathLst>
            </a:custGeom>
            <a:noFill/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1739880" y="5337000"/>
              <a:ext cx="30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2327400" y="5581800"/>
              <a:ext cx="206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1136520" y="5119560"/>
              <a:ext cx="1295640" cy="976320"/>
            </a:xfrm>
            <a:custGeom>
              <a:avLst/>
              <a:gdLst/>
              <a:ahLst/>
              <a:rect l="l" t="t" r="r" b="b"/>
              <a:pathLst>
                <a:path w="816" h="624">
                  <a:moveTo>
                    <a:pt x="0" y="144"/>
                  </a:moveTo>
                  <a:lnTo>
                    <a:pt x="0" y="0"/>
                  </a:lnTo>
                  <a:lnTo>
                    <a:pt x="816" y="0"/>
                  </a:lnTo>
                  <a:lnTo>
                    <a:pt x="816" y="624"/>
                  </a:lnTo>
                  <a:lnTo>
                    <a:pt x="0" y="624"/>
                  </a:lnTo>
                  <a:lnTo>
                    <a:pt x="0" y="19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1562040" y="5070600"/>
              <a:ext cx="457200" cy="11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324000" y="4986360"/>
              <a:ext cx="963360" cy="39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0" lang="es-ES_tradnl" sz="1600" spc="-1" strike="noStrike" baseline="-25000">
                  <a:solidFill>
                    <a:srgbClr val="000000"/>
                  </a:solidFill>
                  <a:latin typeface="Arial"/>
                </a:rPr>
                <a:t>0 </a:t>
              </a: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= 6V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9" name=""/>
            <p:cNvSpPr/>
            <p:nvPr/>
          </p:nvSpPr>
          <p:spPr>
            <a:xfrm flipV="1">
              <a:off x="2338560" y="5395320"/>
              <a:ext cx="182520" cy="1839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0" name=""/>
          <p:cNvSpPr/>
          <p:nvPr/>
        </p:nvSpPr>
        <p:spPr>
          <a:xfrm>
            <a:off x="612720" y="1197000"/>
            <a:ext cx="312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66cc"/>
                </a:solidFill>
                <a:latin typeface="Arial"/>
              </a:rPr>
              <a:t>2ª Aproximación line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500"/>
                                        <p:tgtEl>
                                          <p:spTgt spid="1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1.4.El diodo como rectificador.</a:t>
            </a: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proximaciones o modelos del diodo</a:t>
            </a: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"/>
          <p:cNvSpPr/>
          <p:nvPr/>
        </p:nvSpPr>
        <p:spPr>
          <a:xfrm>
            <a:off x="324000" y="1557360"/>
            <a:ext cx="2727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La 3ª aproximación es un diodo ideal con una resistencia en serie y una fuente de tens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3" name=""/>
          <p:cNvGrpSpPr/>
          <p:nvPr/>
        </p:nvGrpSpPr>
        <p:grpSpPr>
          <a:xfrm>
            <a:off x="250920" y="5013360"/>
            <a:ext cx="4723920" cy="1450440"/>
            <a:chOff x="250920" y="5013360"/>
            <a:chExt cx="4723920" cy="1450440"/>
          </a:xfrm>
        </p:grpSpPr>
        <p:grpSp>
          <p:nvGrpSpPr>
            <p:cNvPr id="1194" name=""/>
            <p:cNvGrpSpPr/>
            <p:nvPr/>
          </p:nvGrpSpPr>
          <p:grpSpPr>
            <a:xfrm>
              <a:off x="904680" y="5621400"/>
              <a:ext cx="320400" cy="74520"/>
              <a:chOff x="904680" y="5621400"/>
              <a:chExt cx="320400" cy="74520"/>
            </a:xfrm>
          </p:grpSpPr>
          <p:sp>
            <p:nvSpPr>
              <p:cNvPr id="1195" name=""/>
              <p:cNvSpPr/>
              <p:nvPr/>
            </p:nvSpPr>
            <p:spPr>
              <a:xfrm>
                <a:off x="996120" y="5695920"/>
                <a:ext cx="137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>
                <a:off x="904680" y="5621400"/>
                <a:ext cx="320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7" name=""/>
            <p:cNvSpPr/>
            <p:nvPr/>
          </p:nvSpPr>
          <p:spPr>
            <a:xfrm>
              <a:off x="1241280" y="5013360"/>
              <a:ext cx="1077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R=1k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250920" y="5667120"/>
              <a:ext cx="838080" cy="32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10800" bIns="10800" anchor="ctr">
              <a:spAutoFit/>
            </a:bodyPr>
            <a:p>
              <a:pPr>
                <a:lnSpc>
                  <a:spcPct val="11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0" lang="es-ES_tradnl" sz="1600" spc="-1" strike="noStrike" baseline="-25000">
                  <a:solidFill>
                    <a:srgbClr val="000000"/>
                  </a:solidFill>
                  <a:latin typeface="Arial"/>
                </a:rPr>
                <a:t>0 </a:t>
              </a: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= 6V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1184400" y="5514840"/>
              <a:ext cx="894600" cy="895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905" y="3430"/>
                  </a:moveTo>
                  <a:arcTo wR="10800" hR="10800" stAng="-8218078" swAng="7805629"/>
                  <a:lnTo>
                    <a:pt x="10800" y="10800"/>
                  </a:lnTo>
                  <a:close/>
                </a:path>
                <a:path fill="none" w="21600" h="21600">
                  <a:moveTo>
                    <a:pt x="2905" y="3430"/>
                  </a:moveTo>
                  <a:arcTo wR="10800" hR="10800" stAng="-8218078" swAng="7805629"/>
                </a:path>
              </a:pathLst>
            </a:custGeom>
            <a:noFill/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1666800" y="5611680"/>
              <a:ext cx="309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1" name=""/>
            <p:cNvSpPr/>
            <p:nvPr/>
          </p:nvSpPr>
          <p:spPr>
            <a:xfrm flipV="1">
              <a:off x="2265120" y="5531760"/>
              <a:ext cx="182160" cy="183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2253960" y="5718240"/>
              <a:ext cx="206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1063440" y="5394240"/>
              <a:ext cx="1294920" cy="976320"/>
            </a:xfrm>
            <a:custGeom>
              <a:avLst/>
              <a:gdLst/>
              <a:ahLst/>
              <a:rect l="l" t="t" r="r" b="b"/>
              <a:pathLst>
                <a:path w="816" h="624">
                  <a:moveTo>
                    <a:pt x="0" y="144"/>
                  </a:moveTo>
                  <a:lnTo>
                    <a:pt x="0" y="0"/>
                  </a:lnTo>
                  <a:lnTo>
                    <a:pt x="816" y="0"/>
                  </a:lnTo>
                  <a:lnTo>
                    <a:pt x="816" y="624"/>
                  </a:lnTo>
                  <a:lnTo>
                    <a:pt x="0" y="624"/>
                  </a:lnTo>
                  <a:lnTo>
                    <a:pt x="0" y="19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1469880" y="5335560"/>
              <a:ext cx="456840" cy="111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5" name=""/>
            <p:cNvSpPr/>
            <p:nvPr/>
          </p:nvSpPr>
          <p:spPr>
            <a:xfrm rot="16200000">
              <a:off x="2244240" y="5913000"/>
              <a:ext cx="228600" cy="75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2276280" y="6126120"/>
              <a:ext cx="151920" cy="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07" name=""/>
            <p:cNvGrpSpPr/>
            <p:nvPr/>
          </p:nvGrpSpPr>
          <p:grpSpPr>
            <a:xfrm>
              <a:off x="2199960" y="6127560"/>
              <a:ext cx="320400" cy="74880"/>
              <a:chOff x="2199960" y="6127560"/>
              <a:chExt cx="320400" cy="74880"/>
            </a:xfrm>
          </p:grpSpPr>
          <p:sp>
            <p:nvSpPr>
              <p:cNvPr id="1208" name=""/>
              <p:cNvSpPr/>
              <p:nvPr/>
            </p:nvSpPr>
            <p:spPr>
              <a:xfrm>
                <a:off x="2291400" y="6202440"/>
                <a:ext cx="137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>
                <a:off x="2199960" y="6127560"/>
                <a:ext cx="320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10" name=""/>
            <p:cNvSpPr/>
            <p:nvPr/>
          </p:nvSpPr>
          <p:spPr>
            <a:xfrm>
              <a:off x="2460600" y="5761080"/>
              <a:ext cx="2514240" cy="66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s-ES_tradnl" sz="1600" spc="-1" strike="noStrike" baseline="-25000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0" lang="es-ES_tradnl" sz="16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</a:t>
              </a: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r>
                <a:rPr b="0" lang="es-ES_tradnl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V/</a:t>
              </a:r>
              <a:r>
                <a:rPr b="0" lang="es-ES_tradnl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I=(ejemplo 25</a:t>
              </a:r>
              <a:r>
                <a:rPr b="0" lang="es-ES_tradnl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2384280" y="6065640"/>
              <a:ext cx="1131480" cy="39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0" lang="es-ES_tradnl" sz="1600" spc="-1" strike="noStrike" baseline="-25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=0.7 V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212" name=""/>
              <p:cNvSpPr txBox="1"/>
              <p:nvPr/>
            </p:nvSpPr>
            <p:spPr>
              <a:xfrm>
                <a:off x="5035680" y="5857920"/>
                <a:ext cx="368280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6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den>
                    </m:f>
                    <m:r>
                      <m:t xml:space="preserve">=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213" name=""/>
          <p:cNvGrpSpPr/>
          <p:nvPr/>
        </p:nvGrpSpPr>
        <p:grpSpPr>
          <a:xfrm>
            <a:off x="457200" y="2954160"/>
            <a:ext cx="2209680" cy="1410840"/>
            <a:chOff x="457200" y="2954160"/>
            <a:chExt cx="2209680" cy="1410840"/>
          </a:xfrm>
        </p:grpSpPr>
        <p:grpSp>
          <p:nvGrpSpPr>
            <p:cNvPr id="1214" name=""/>
            <p:cNvGrpSpPr/>
            <p:nvPr/>
          </p:nvGrpSpPr>
          <p:grpSpPr>
            <a:xfrm>
              <a:off x="1111320" y="3576600"/>
              <a:ext cx="320760" cy="74520"/>
              <a:chOff x="1111320" y="3576600"/>
              <a:chExt cx="320760" cy="74520"/>
            </a:xfrm>
          </p:grpSpPr>
          <p:sp>
            <p:nvSpPr>
              <p:cNvPr id="1215" name=""/>
              <p:cNvSpPr/>
              <p:nvPr/>
            </p:nvSpPr>
            <p:spPr>
              <a:xfrm>
                <a:off x="1202760" y="3651120"/>
                <a:ext cx="137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>
                <a:off x="1111320" y="3576600"/>
                <a:ext cx="320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17" name=""/>
            <p:cNvSpPr/>
            <p:nvPr/>
          </p:nvSpPr>
          <p:spPr>
            <a:xfrm>
              <a:off x="1563840" y="2954160"/>
              <a:ext cx="1077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R=1k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457200" y="3622320"/>
              <a:ext cx="838080" cy="32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10800" bIns="10800" anchor="ctr">
              <a:spAutoFit/>
            </a:bodyPr>
            <a:p>
              <a:pPr>
                <a:lnSpc>
                  <a:spcPct val="11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0" lang="es-ES_tradnl" sz="1600" spc="-1" strike="noStrike" baseline="-25000">
                  <a:solidFill>
                    <a:srgbClr val="000000"/>
                  </a:solidFill>
                  <a:latin typeface="Arial"/>
                </a:rPr>
                <a:t>0 </a:t>
              </a: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= 6V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1391040" y="3470400"/>
              <a:ext cx="894600" cy="8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905" y="3430"/>
                  </a:moveTo>
                  <a:arcTo wR="10800" hR="10800" stAng="-8218078" swAng="7805629"/>
                  <a:lnTo>
                    <a:pt x="10800" y="10800"/>
                  </a:lnTo>
                  <a:close/>
                </a:path>
                <a:path fill="none" w="21600" h="21600">
                  <a:moveTo>
                    <a:pt x="2905" y="3430"/>
                  </a:moveTo>
                  <a:arcTo wR="10800" hR="10800" stAng="-8218078" swAng="7805629"/>
                </a:path>
              </a:pathLst>
            </a:custGeom>
            <a:noFill/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1873080" y="3567240"/>
              <a:ext cx="30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2460600" y="3811680"/>
              <a:ext cx="206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1270080" y="3349800"/>
              <a:ext cx="1295280" cy="975960"/>
            </a:xfrm>
            <a:custGeom>
              <a:avLst/>
              <a:gdLst/>
              <a:ahLst/>
              <a:rect l="l" t="t" r="r" b="b"/>
              <a:pathLst>
                <a:path w="816" h="624">
                  <a:moveTo>
                    <a:pt x="0" y="144"/>
                  </a:moveTo>
                  <a:lnTo>
                    <a:pt x="0" y="0"/>
                  </a:lnTo>
                  <a:lnTo>
                    <a:pt x="816" y="0"/>
                  </a:lnTo>
                  <a:lnTo>
                    <a:pt x="816" y="624"/>
                  </a:lnTo>
                  <a:lnTo>
                    <a:pt x="0" y="624"/>
                  </a:lnTo>
                  <a:lnTo>
                    <a:pt x="0" y="19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1695600" y="3300480"/>
              <a:ext cx="457200" cy="11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4" name=""/>
            <p:cNvSpPr/>
            <p:nvPr/>
          </p:nvSpPr>
          <p:spPr>
            <a:xfrm flipV="1">
              <a:off x="2471760" y="3625200"/>
              <a:ext cx="182520" cy="1839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5" name=""/>
          <p:cNvSpPr/>
          <p:nvPr/>
        </p:nvSpPr>
        <p:spPr>
          <a:xfrm>
            <a:off x="324000" y="1197000"/>
            <a:ext cx="312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66cc"/>
                </a:solidFill>
                <a:latin typeface="Arial"/>
              </a:rPr>
              <a:t>3ª Aproximación line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6" name=""/>
          <p:cNvGraphicFramePr/>
          <p:nvPr/>
        </p:nvGraphicFramePr>
        <p:xfrm>
          <a:off x="3203640" y="1136520"/>
          <a:ext cx="5940360" cy="426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3640" y="1136520"/>
                    <a:ext cx="594036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1.5.Diodo Ze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9" name="" descr=""/>
          <p:cNvPicPr/>
          <p:nvPr/>
        </p:nvPicPr>
        <p:blipFill>
          <a:blip r:embed="rId1"/>
          <a:stretch/>
        </p:blipFill>
        <p:spPr>
          <a:xfrm>
            <a:off x="3659040" y="1187280"/>
            <a:ext cx="5484960" cy="48326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grpSp>
        <p:nvGrpSpPr>
          <p:cNvPr id="1230" name=""/>
          <p:cNvGrpSpPr/>
          <p:nvPr/>
        </p:nvGrpSpPr>
        <p:grpSpPr>
          <a:xfrm>
            <a:off x="7105680" y="4230720"/>
            <a:ext cx="819000" cy="441360"/>
            <a:chOff x="7105680" y="4230720"/>
            <a:chExt cx="819000" cy="441360"/>
          </a:xfrm>
        </p:grpSpPr>
        <p:sp>
          <p:nvSpPr>
            <p:cNvPr id="1231" name=""/>
            <p:cNvSpPr/>
            <p:nvPr/>
          </p:nvSpPr>
          <p:spPr>
            <a:xfrm>
              <a:off x="7105680" y="4451400"/>
              <a:ext cx="344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2" name=""/>
            <p:cNvSpPr/>
            <p:nvPr/>
          </p:nvSpPr>
          <p:spPr>
            <a:xfrm flipH="1">
              <a:off x="7575480" y="4451400"/>
              <a:ext cx="349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7431120" y="4270320"/>
              <a:ext cx="180720" cy="3636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19930" y="9982"/>
                  </a:lnTo>
                  <a:lnTo>
                    <a:pt x="0" y="1996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7538760" y="4230720"/>
              <a:ext cx="146160" cy="4413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19971"/>
                  </a:moveTo>
                  <a:lnTo>
                    <a:pt x="9956" y="18329"/>
                  </a:lnTo>
                  <a:lnTo>
                    <a:pt x="9956" y="1902"/>
                  </a:lnTo>
                  <a:lnTo>
                    <a:pt x="19913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5" name=""/>
          <p:cNvSpPr/>
          <p:nvPr/>
        </p:nvSpPr>
        <p:spPr>
          <a:xfrm>
            <a:off x="150840" y="1295280"/>
            <a:ext cx="3430440" cy="522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El diodo Zener trabaja con polarización inversa utilizando el fenómeno de conducción por ruptura o avalanch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Para una tensión inversa dada, llamada tensión Zener, ésta se mantiene constante aunque la corriente varí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Con polarización directa trabaja como un diodo norm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La potencia en el diodo P = V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Comic Sans MS"/>
              </a:rPr>
              <a:t>z</a:t>
            </a: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I no debe sobrepasar el valor indicado por el fabricante para que regule correctamente la tens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0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300"/>
                                        <p:tgtEl>
                                          <p:spTgt spid="1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400"/>
                            </p:stCondLst>
                            <p:childTnLst>
                              <p:par>
                                <p:cTn id="2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300"/>
                                        <p:tgtEl>
                                          <p:spTgt spid="1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1100"/>
                            </p:stCondLst>
                            <p:childTnLst>
                              <p:par>
                                <p:cTn id="2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300"/>
                                        <p:tgtEl>
                                          <p:spTgt spid="1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13800"/>
                            </p:stCondLst>
                            <p:childTnLst>
                              <p:par>
                                <p:cTn id="2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300"/>
                                        <p:tgtEl>
                                          <p:spTgt spid="1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Diodo Zener: aplicac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7" name=""/>
          <p:cNvGrpSpPr/>
          <p:nvPr/>
        </p:nvGrpSpPr>
        <p:grpSpPr>
          <a:xfrm>
            <a:off x="1758960" y="2496960"/>
            <a:ext cx="385560" cy="96840"/>
            <a:chOff x="1758960" y="2496960"/>
            <a:chExt cx="385560" cy="96840"/>
          </a:xfrm>
        </p:grpSpPr>
        <p:sp>
          <p:nvSpPr>
            <p:cNvPr id="1238" name=""/>
            <p:cNvSpPr/>
            <p:nvPr/>
          </p:nvSpPr>
          <p:spPr>
            <a:xfrm>
              <a:off x="1868400" y="2593800"/>
              <a:ext cx="166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1758960" y="2496960"/>
              <a:ext cx="385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0" name=""/>
          <p:cNvSpPr/>
          <p:nvPr/>
        </p:nvSpPr>
        <p:spPr>
          <a:xfrm>
            <a:off x="3575160" y="2560680"/>
            <a:ext cx="99684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=5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"/>
          <p:cNvSpPr/>
          <p:nvPr/>
        </p:nvSpPr>
        <p:spPr>
          <a:xfrm>
            <a:off x="2286000" y="1811160"/>
            <a:ext cx="99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R=1k</a:t>
            </a:r>
            <a:r>
              <a:rPr b="0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"/>
          <p:cNvSpPr/>
          <p:nvPr/>
        </p:nvSpPr>
        <p:spPr>
          <a:xfrm>
            <a:off x="882720" y="2538360"/>
            <a:ext cx="99684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e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= 6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"/>
          <p:cNvSpPr/>
          <p:nvPr/>
        </p:nvSpPr>
        <p:spPr>
          <a:xfrm>
            <a:off x="2079000" y="2347920"/>
            <a:ext cx="1079640" cy="1206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905" y="3430"/>
                </a:moveTo>
                <a:arcTo wR="10800" hR="10800" stAng="-8218078" swAng="8218078"/>
                <a:lnTo>
                  <a:pt x="10800" y="10800"/>
                </a:lnTo>
                <a:close/>
              </a:path>
              <a:path fill="none" w="21600" h="21600">
                <a:moveTo>
                  <a:pt x="2905" y="3430"/>
                </a:moveTo>
                <a:arcTo wR="10800" hR="10800" stAng="-8218078" swAng="8218078"/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"/>
          <p:cNvSpPr/>
          <p:nvPr/>
        </p:nvSpPr>
        <p:spPr>
          <a:xfrm>
            <a:off x="2660760" y="2481120"/>
            <a:ext cx="37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5" name=""/>
              <p:cNvSpPr txBox="1"/>
              <p:nvPr/>
            </p:nvSpPr>
            <p:spPr>
              <a:xfrm>
                <a:off x="5651640" y="3124080"/>
                <a:ext cx="2736720" cy="60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Ve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6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k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46" name=""/>
          <p:cNvSpPr/>
          <p:nvPr/>
        </p:nvSpPr>
        <p:spPr>
          <a:xfrm>
            <a:off x="5181480" y="3946680"/>
            <a:ext cx="3657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 = V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 = 5V·1mA = 5 m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7" name=""/>
          <p:cNvGrpSpPr/>
          <p:nvPr/>
        </p:nvGrpSpPr>
        <p:grpSpPr>
          <a:xfrm>
            <a:off x="3270240" y="3411360"/>
            <a:ext cx="457200" cy="304920"/>
            <a:chOff x="3270240" y="3411360"/>
            <a:chExt cx="457200" cy="304920"/>
          </a:xfrm>
        </p:grpSpPr>
        <p:sp>
          <p:nvSpPr>
            <p:cNvPr id="1248" name=""/>
            <p:cNvSpPr/>
            <p:nvPr/>
          </p:nvSpPr>
          <p:spPr>
            <a:xfrm>
              <a:off x="3498840" y="341136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3270240" y="3564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3422520" y="37162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3346200" y="36399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2" name=""/>
          <p:cNvSpPr/>
          <p:nvPr/>
        </p:nvSpPr>
        <p:spPr>
          <a:xfrm>
            <a:off x="4032360" y="2039760"/>
            <a:ext cx="457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"/>
          <p:cNvSpPr/>
          <p:nvPr/>
        </p:nvSpPr>
        <p:spPr>
          <a:xfrm>
            <a:off x="5867280" y="2133720"/>
            <a:ext cx="1524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= V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= 5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"/>
          <p:cNvSpPr/>
          <p:nvPr/>
        </p:nvSpPr>
        <p:spPr>
          <a:xfrm>
            <a:off x="1949400" y="2192400"/>
            <a:ext cx="2133720" cy="304560"/>
          </a:xfrm>
          <a:custGeom>
            <a:avLst/>
            <a:gdLst/>
            <a:ahLst/>
            <a:rect l="l" t="t" r="r" b="b"/>
            <a:pathLst>
              <a:path w="1344" h="192">
                <a:moveTo>
                  <a:pt x="0" y="192"/>
                </a:moveTo>
                <a:lnTo>
                  <a:pt x="0" y="0"/>
                </a:lnTo>
                <a:lnTo>
                  <a:pt x="1344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"/>
          <p:cNvSpPr/>
          <p:nvPr/>
        </p:nvSpPr>
        <p:spPr>
          <a:xfrm>
            <a:off x="2444760" y="2120760"/>
            <a:ext cx="550800" cy="149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"/>
          <p:cNvSpPr/>
          <p:nvPr/>
        </p:nvSpPr>
        <p:spPr>
          <a:xfrm>
            <a:off x="1949400" y="2592360"/>
            <a:ext cx="2057400" cy="895320"/>
          </a:xfrm>
          <a:custGeom>
            <a:avLst/>
            <a:gdLst/>
            <a:ahLst/>
            <a:rect l="l" t="t" r="r" b="b"/>
            <a:pathLst>
              <a:path w="1296" h="576">
                <a:moveTo>
                  <a:pt x="0" y="0"/>
                </a:moveTo>
                <a:lnTo>
                  <a:pt x="0" y="576"/>
                </a:lnTo>
                <a:lnTo>
                  <a:pt x="1296" y="576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"/>
          <p:cNvSpPr/>
          <p:nvPr/>
        </p:nvSpPr>
        <p:spPr>
          <a:xfrm flipV="1">
            <a:off x="3498840" y="219240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8" name=""/>
          <p:cNvGrpSpPr/>
          <p:nvPr/>
        </p:nvGrpSpPr>
        <p:grpSpPr>
          <a:xfrm>
            <a:off x="3327480" y="2444760"/>
            <a:ext cx="330120" cy="347760"/>
            <a:chOff x="3327480" y="2444760"/>
            <a:chExt cx="330120" cy="347760"/>
          </a:xfrm>
        </p:grpSpPr>
        <p:sp>
          <p:nvSpPr>
            <p:cNvPr id="1259" name=""/>
            <p:cNvSpPr/>
            <p:nvPr/>
          </p:nvSpPr>
          <p:spPr>
            <a:xfrm>
              <a:off x="3382560" y="2544120"/>
              <a:ext cx="219960" cy="24840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60" name=""/>
            <p:cNvGrpSpPr/>
            <p:nvPr/>
          </p:nvGrpSpPr>
          <p:grpSpPr>
            <a:xfrm>
              <a:off x="3327480" y="2444760"/>
              <a:ext cx="330120" cy="205920"/>
              <a:chOff x="3327480" y="2444760"/>
              <a:chExt cx="330120" cy="205920"/>
            </a:xfrm>
          </p:grpSpPr>
          <p:sp>
            <p:nvSpPr>
              <p:cNvPr id="1261" name=""/>
              <p:cNvSpPr/>
              <p:nvPr/>
            </p:nvSpPr>
            <p:spPr>
              <a:xfrm flipV="1">
                <a:off x="3327480" y="2551320"/>
                <a:ext cx="0" cy="99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2" name=""/>
              <p:cNvSpPr/>
              <p:nvPr/>
            </p:nvSpPr>
            <p:spPr>
              <a:xfrm>
                <a:off x="3327480" y="2551320"/>
                <a:ext cx="330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3" name=""/>
              <p:cNvSpPr/>
              <p:nvPr/>
            </p:nvSpPr>
            <p:spPr>
              <a:xfrm flipV="1">
                <a:off x="3657600" y="2444760"/>
                <a:ext cx="0" cy="99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64" name=""/>
          <p:cNvSpPr/>
          <p:nvPr/>
        </p:nvSpPr>
        <p:spPr>
          <a:xfrm>
            <a:off x="3835440" y="5016600"/>
            <a:ext cx="99684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=5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"/>
          <p:cNvSpPr/>
          <p:nvPr/>
        </p:nvSpPr>
        <p:spPr>
          <a:xfrm>
            <a:off x="2546280" y="4267080"/>
            <a:ext cx="99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R=1k</a:t>
            </a:r>
            <a:r>
              <a:rPr b="0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"/>
          <p:cNvSpPr/>
          <p:nvPr/>
        </p:nvSpPr>
        <p:spPr>
          <a:xfrm>
            <a:off x="1219320" y="5492880"/>
            <a:ext cx="99684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e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= 6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"/>
          <p:cNvSpPr/>
          <p:nvPr/>
        </p:nvSpPr>
        <p:spPr>
          <a:xfrm>
            <a:off x="2339280" y="4803840"/>
            <a:ext cx="1080000" cy="1206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905" y="3430"/>
                </a:moveTo>
                <a:arcTo wR="10800" hR="10800" stAng="-8218078" swAng="8218078"/>
                <a:lnTo>
                  <a:pt x="10800" y="10800"/>
                </a:lnTo>
                <a:close/>
              </a:path>
              <a:path fill="none" w="21600" h="21600">
                <a:moveTo>
                  <a:pt x="2905" y="3430"/>
                </a:moveTo>
                <a:arcTo wR="10800" hR="10800" stAng="-8218078" swAng="8218078"/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"/>
          <p:cNvSpPr/>
          <p:nvPr/>
        </p:nvSpPr>
        <p:spPr>
          <a:xfrm>
            <a:off x="2921040" y="4937040"/>
            <a:ext cx="37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9" name=""/>
          <p:cNvGrpSpPr/>
          <p:nvPr/>
        </p:nvGrpSpPr>
        <p:grpSpPr>
          <a:xfrm>
            <a:off x="3530520" y="5867280"/>
            <a:ext cx="457200" cy="304920"/>
            <a:chOff x="3530520" y="5867280"/>
            <a:chExt cx="457200" cy="304920"/>
          </a:xfrm>
        </p:grpSpPr>
        <p:sp>
          <p:nvSpPr>
            <p:cNvPr id="1270" name=""/>
            <p:cNvSpPr/>
            <p:nvPr/>
          </p:nvSpPr>
          <p:spPr>
            <a:xfrm>
              <a:off x="3759120" y="58672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3530520" y="6019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3682800" y="617220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3606480" y="609588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4" name=""/>
          <p:cNvSpPr/>
          <p:nvPr/>
        </p:nvSpPr>
        <p:spPr>
          <a:xfrm>
            <a:off x="4292640" y="4495680"/>
            <a:ext cx="457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"/>
          <p:cNvSpPr/>
          <p:nvPr/>
        </p:nvSpPr>
        <p:spPr>
          <a:xfrm>
            <a:off x="2209680" y="4648320"/>
            <a:ext cx="2133720" cy="857160"/>
          </a:xfrm>
          <a:custGeom>
            <a:avLst/>
            <a:gdLst/>
            <a:ahLst/>
            <a:rect l="l" t="t" r="r" b="b"/>
            <a:pathLst>
              <a:path w="1344" h="192">
                <a:moveTo>
                  <a:pt x="0" y="192"/>
                </a:moveTo>
                <a:lnTo>
                  <a:pt x="0" y="0"/>
                </a:lnTo>
                <a:lnTo>
                  <a:pt x="1344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"/>
          <p:cNvSpPr/>
          <p:nvPr/>
        </p:nvSpPr>
        <p:spPr>
          <a:xfrm>
            <a:off x="2705040" y="4576680"/>
            <a:ext cx="550800" cy="149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"/>
          <p:cNvSpPr/>
          <p:nvPr/>
        </p:nvSpPr>
        <p:spPr>
          <a:xfrm>
            <a:off x="2209680" y="5607000"/>
            <a:ext cx="2057400" cy="336600"/>
          </a:xfrm>
          <a:custGeom>
            <a:avLst/>
            <a:gdLst/>
            <a:ahLst/>
            <a:rect l="l" t="t" r="r" b="b"/>
            <a:pathLst>
              <a:path w="1296" h="576">
                <a:moveTo>
                  <a:pt x="0" y="0"/>
                </a:moveTo>
                <a:lnTo>
                  <a:pt x="0" y="576"/>
                </a:lnTo>
                <a:lnTo>
                  <a:pt x="1296" y="576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"/>
          <p:cNvSpPr/>
          <p:nvPr/>
        </p:nvSpPr>
        <p:spPr>
          <a:xfrm flipV="1">
            <a:off x="3759120" y="464832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9" name=""/>
          <p:cNvGrpSpPr/>
          <p:nvPr/>
        </p:nvGrpSpPr>
        <p:grpSpPr>
          <a:xfrm>
            <a:off x="3587760" y="4900680"/>
            <a:ext cx="330120" cy="347760"/>
            <a:chOff x="3587760" y="4900680"/>
            <a:chExt cx="330120" cy="347760"/>
          </a:xfrm>
        </p:grpSpPr>
        <p:sp>
          <p:nvSpPr>
            <p:cNvPr id="1280" name=""/>
            <p:cNvSpPr/>
            <p:nvPr/>
          </p:nvSpPr>
          <p:spPr>
            <a:xfrm>
              <a:off x="3642840" y="5000040"/>
              <a:ext cx="219960" cy="24840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81" name=""/>
            <p:cNvGrpSpPr/>
            <p:nvPr/>
          </p:nvGrpSpPr>
          <p:grpSpPr>
            <a:xfrm>
              <a:off x="3587760" y="4900680"/>
              <a:ext cx="330120" cy="205920"/>
              <a:chOff x="3587760" y="4900680"/>
              <a:chExt cx="330120" cy="205920"/>
            </a:xfrm>
          </p:grpSpPr>
          <p:sp>
            <p:nvSpPr>
              <p:cNvPr id="1282" name=""/>
              <p:cNvSpPr/>
              <p:nvPr/>
            </p:nvSpPr>
            <p:spPr>
              <a:xfrm flipV="1">
                <a:off x="3587760" y="5007240"/>
                <a:ext cx="0" cy="99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3" name=""/>
              <p:cNvSpPr/>
              <p:nvPr/>
            </p:nvSpPr>
            <p:spPr>
              <a:xfrm>
                <a:off x="3587760" y="5007240"/>
                <a:ext cx="330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4" name=""/>
              <p:cNvSpPr/>
              <p:nvPr/>
            </p:nvSpPr>
            <p:spPr>
              <a:xfrm flipV="1">
                <a:off x="3917880" y="4900680"/>
                <a:ext cx="0" cy="99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5" name=""/>
          <p:cNvSpPr/>
          <p:nvPr/>
        </p:nvSpPr>
        <p:spPr>
          <a:xfrm>
            <a:off x="2019240" y="4819680"/>
            <a:ext cx="38124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~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6" name=""/>
          <p:cNvGrpSpPr/>
          <p:nvPr/>
        </p:nvGrpSpPr>
        <p:grpSpPr>
          <a:xfrm>
            <a:off x="2019240" y="5505480"/>
            <a:ext cx="385560" cy="96840"/>
            <a:chOff x="2019240" y="5505480"/>
            <a:chExt cx="385560" cy="96840"/>
          </a:xfrm>
        </p:grpSpPr>
        <p:sp>
          <p:nvSpPr>
            <p:cNvPr id="1287" name=""/>
            <p:cNvSpPr/>
            <p:nvPr/>
          </p:nvSpPr>
          <p:spPr>
            <a:xfrm>
              <a:off x="2128680" y="5602320"/>
              <a:ext cx="166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2019240" y="5505480"/>
              <a:ext cx="385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9" name=""/>
          <p:cNvSpPr/>
          <p:nvPr/>
        </p:nvSpPr>
        <p:spPr>
          <a:xfrm>
            <a:off x="609480" y="4667400"/>
            <a:ext cx="1524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rizado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,50H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"/>
          <p:cNvSpPr/>
          <p:nvPr/>
        </p:nvSpPr>
        <p:spPr>
          <a:xfrm>
            <a:off x="103320" y="1263600"/>
            <a:ext cx="873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Se utiliza como limitador o regulador de tensión,  para atenuar el rizado de algunas seña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"/>
          <p:cNvSpPr/>
          <p:nvPr/>
        </p:nvSpPr>
        <p:spPr>
          <a:xfrm flipV="1">
            <a:off x="2438280" y="2374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2" name=""/>
          <p:cNvGrpSpPr/>
          <p:nvPr/>
        </p:nvGrpSpPr>
        <p:grpSpPr>
          <a:xfrm>
            <a:off x="6673320" y="3303000"/>
            <a:ext cx="304920" cy="291240"/>
            <a:chOff x="6673320" y="3303000"/>
            <a:chExt cx="304920" cy="291240"/>
          </a:xfrm>
        </p:grpSpPr>
        <p:sp>
          <p:nvSpPr>
            <p:cNvPr id="1293" name=""/>
            <p:cNvSpPr/>
            <p:nvPr/>
          </p:nvSpPr>
          <p:spPr>
            <a:xfrm rot="10800000">
              <a:off x="6689520" y="3303000"/>
              <a:ext cx="270000" cy="28260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4" name=""/>
            <p:cNvSpPr/>
            <p:nvPr/>
          </p:nvSpPr>
          <p:spPr>
            <a:xfrm flipH="1">
              <a:off x="6673320" y="359424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5" name=""/>
          <p:cNvSpPr/>
          <p:nvPr/>
        </p:nvSpPr>
        <p:spPr>
          <a:xfrm rot="16200000">
            <a:off x="1954080" y="3836520"/>
            <a:ext cx="958680" cy="32040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0" y="9982"/>
                </a:moveTo>
                <a:lnTo>
                  <a:pt x="1425" y="9982"/>
                </a:lnTo>
                <a:lnTo>
                  <a:pt x="2252" y="0"/>
                </a:lnTo>
                <a:lnTo>
                  <a:pt x="3905" y="19965"/>
                </a:lnTo>
                <a:lnTo>
                  <a:pt x="5541" y="0"/>
                </a:lnTo>
                <a:lnTo>
                  <a:pt x="7194" y="19965"/>
                </a:lnTo>
                <a:lnTo>
                  <a:pt x="8848" y="0"/>
                </a:lnTo>
                <a:lnTo>
                  <a:pt x="10501" y="19965"/>
                </a:lnTo>
                <a:lnTo>
                  <a:pt x="12155" y="0"/>
                </a:lnTo>
                <a:lnTo>
                  <a:pt x="13791" y="19965"/>
                </a:lnTo>
                <a:lnTo>
                  <a:pt x="15444" y="0"/>
                </a:lnTo>
                <a:lnTo>
                  <a:pt x="17098" y="19965"/>
                </a:lnTo>
                <a:lnTo>
                  <a:pt x="17924" y="9982"/>
                </a:lnTo>
                <a:lnTo>
                  <a:pt x="19982" y="9982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"/>
          <p:cNvSpPr/>
          <p:nvPr/>
        </p:nvSpPr>
        <p:spPr>
          <a:xfrm flipV="1">
            <a:off x="2438280" y="30607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"/>
          <p:cNvSpPr/>
          <p:nvPr/>
        </p:nvSpPr>
        <p:spPr>
          <a:xfrm>
            <a:off x="2667960" y="3822840"/>
            <a:ext cx="99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35 k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"/>
          <p:cNvSpPr/>
          <p:nvPr/>
        </p:nvSpPr>
        <p:spPr>
          <a:xfrm>
            <a:off x="2728800" y="2679840"/>
            <a:ext cx="8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0.7 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"/>
          <p:cNvSpPr/>
          <p:nvPr/>
        </p:nvSpPr>
        <p:spPr>
          <a:xfrm>
            <a:off x="2059200" y="1765440"/>
            <a:ext cx="80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10 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0" name=""/>
          <p:cNvGrpSpPr/>
          <p:nvPr/>
        </p:nvGrpSpPr>
        <p:grpSpPr>
          <a:xfrm>
            <a:off x="2209680" y="4584600"/>
            <a:ext cx="457200" cy="304920"/>
            <a:chOff x="2209680" y="4584600"/>
            <a:chExt cx="457200" cy="304920"/>
          </a:xfrm>
        </p:grpSpPr>
        <p:sp>
          <p:nvSpPr>
            <p:cNvPr id="1301" name=""/>
            <p:cNvSpPr/>
            <p:nvPr/>
          </p:nvSpPr>
          <p:spPr>
            <a:xfrm>
              <a:off x="2438280" y="458460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2209680" y="47372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2361960" y="488952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2285640" y="481320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5" name=""/>
          <p:cNvSpPr/>
          <p:nvPr/>
        </p:nvSpPr>
        <p:spPr>
          <a:xfrm flipV="1">
            <a:off x="2438280" y="44319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"/>
          <p:cNvSpPr/>
          <p:nvPr/>
        </p:nvSpPr>
        <p:spPr>
          <a:xfrm>
            <a:off x="2374920" y="2311560"/>
            <a:ext cx="125280" cy="125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"/>
          <p:cNvSpPr/>
          <p:nvPr/>
        </p:nvSpPr>
        <p:spPr>
          <a:xfrm>
            <a:off x="1981080" y="3137040"/>
            <a:ext cx="0" cy="83808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"/>
          <p:cNvSpPr/>
          <p:nvPr/>
        </p:nvSpPr>
        <p:spPr>
          <a:xfrm>
            <a:off x="1526040" y="3288240"/>
            <a:ext cx="24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9" name=""/>
          <p:cNvGrpSpPr/>
          <p:nvPr/>
        </p:nvGrpSpPr>
        <p:grpSpPr>
          <a:xfrm>
            <a:off x="4797360" y="3443400"/>
            <a:ext cx="762120" cy="164880"/>
            <a:chOff x="4797360" y="3443400"/>
            <a:chExt cx="762120" cy="164880"/>
          </a:xfrm>
        </p:grpSpPr>
        <p:sp>
          <p:nvSpPr>
            <p:cNvPr id="1310" name=""/>
            <p:cNvSpPr/>
            <p:nvPr/>
          </p:nvSpPr>
          <p:spPr>
            <a:xfrm>
              <a:off x="4797360" y="3443400"/>
              <a:ext cx="762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4987800" y="3608280"/>
              <a:ext cx="381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2" name=""/>
          <p:cNvSpPr/>
          <p:nvPr/>
        </p:nvSpPr>
        <p:spPr>
          <a:xfrm>
            <a:off x="5524560" y="2222640"/>
            <a:ext cx="958680" cy="32040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0" y="9982"/>
                </a:moveTo>
                <a:lnTo>
                  <a:pt x="1425" y="9982"/>
                </a:lnTo>
                <a:lnTo>
                  <a:pt x="2252" y="0"/>
                </a:lnTo>
                <a:lnTo>
                  <a:pt x="3905" y="19965"/>
                </a:lnTo>
                <a:lnTo>
                  <a:pt x="5541" y="0"/>
                </a:lnTo>
                <a:lnTo>
                  <a:pt x="7194" y="19965"/>
                </a:lnTo>
                <a:lnTo>
                  <a:pt x="8848" y="0"/>
                </a:lnTo>
                <a:lnTo>
                  <a:pt x="10501" y="19965"/>
                </a:lnTo>
                <a:lnTo>
                  <a:pt x="12155" y="0"/>
                </a:lnTo>
                <a:lnTo>
                  <a:pt x="13791" y="19965"/>
                </a:lnTo>
                <a:lnTo>
                  <a:pt x="15444" y="0"/>
                </a:lnTo>
                <a:lnTo>
                  <a:pt x="17098" y="19965"/>
                </a:lnTo>
                <a:lnTo>
                  <a:pt x="17924" y="9982"/>
                </a:lnTo>
                <a:lnTo>
                  <a:pt x="19982" y="9982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"/>
          <p:cNvSpPr/>
          <p:nvPr/>
        </p:nvSpPr>
        <p:spPr>
          <a:xfrm>
            <a:off x="5181480" y="2374920"/>
            <a:ext cx="362160" cy="1066680"/>
          </a:xfrm>
          <a:custGeom>
            <a:avLst/>
            <a:gdLst/>
            <a:ahLst/>
            <a:rect l="l" t="t" r="r" b="b"/>
            <a:pathLst>
              <a:path w="192" h="1056">
                <a:moveTo>
                  <a:pt x="0" y="1056"/>
                </a:moveTo>
                <a:lnTo>
                  <a:pt x="0" y="0"/>
                </a:lnTo>
                <a:lnTo>
                  <a:pt x="19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"/>
          <p:cNvSpPr/>
          <p:nvPr/>
        </p:nvSpPr>
        <p:spPr>
          <a:xfrm>
            <a:off x="5591880" y="17366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2 k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"/>
          <p:cNvSpPr/>
          <p:nvPr/>
        </p:nvSpPr>
        <p:spPr>
          <a:xfrm>
            <a:off x="5183280" y="290844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7 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"/>
          <p:cNvSpPr/>
          <p:nvPr/>
        </p:nvSpPr>
        <p:spPr>
          <a:xfrm flipV="1">
            <a:off x="5181480" y="35938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7" name=""/>
          <p:cNvGrpSpPr/>
          <p:nvPr/>
        </p:nvGrpSpPr>
        <p:grpSpPr>
          <a:xfrm>
            <a:off x="2285640" y="2832480"/>
            <a:ext cx="304920" cy="291240"/>
            <a:chOff x="2285640" y="2832480"/>
            <a:chExt cx="304920" cy="291240"/>
          </a:xfrm>
        </p:grpSpPr>
        <p:sp>
          <p:nvSpPr>
            <p:cNvPr id="1318" name=""/>
            <p:cNvSpPr/>
            <p:nvPr/>
          </p:nvSpPr>
          <p:spPr>
            <a:xfrm rot="10800000">
              <a:off x="2301840" y="2832480"/>
              <a:ext cx="270000" cy="28260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9" name=""/>
            <p:cNvSpPr/>
            <p:nvPr/>
          </p:nvSpPr>
          <p:spPr>
            <a:xfrm flipH="1">
              <a:off x="2285640" y="312372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0" name=""/>
          <p:cNvSpPr/>
          <p:nvPr/>
        </p:nvSpPr>
        <p:spPr>
          <a:xfrm flipH="1">
            <a:off x="6476400" y="2374920"/>
            <a:ext cx="361800" cy="1905120"/>
          </a:xfrm>
          <a:custGeom>
            <a:avLst/>
            <a:gdLst/>
            <a:ahLst/>
            <a:rect l="l" t="t" r="r" b="b"/>
            <a:pathLst>
              <a:path w="192" h="1056">
                <a:moveTo>
                  <a:pt x="0" y="1056"/>
                </a:moveTo>
                <a:lnTo>
                  <a:pt x="0" y="0"/>
                </a:lnTo>
                <a:lnTo>
                  <a:pt x="19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1" name=""/>
          <p:cNvGrpSpPr/>
          <p:nvPr/>
        </p:nvGrpSpPr>
        <p:grpSpPr>
          <a:xfrm>
            <a:off x="4952880" y="4280040"/>
            <a:ext cx="457200" cy="304560"/>
            <a:chOff x="4952880" y="4280040"/>
            <a:chExt cx="457200" cy="304560"/>
          </a:xfrm>
        </p:grpSpPr>
        <p:sp>
          <p:nvSpPr>
            <p:cNvPr id="1322" name=""/>
            <p:cNvSpPr/>
            <p:nvPr/>
          </p:nvSpPr>
          <p:spPr>
            <a:xfrm>
              <a:off x="5181480" y="428004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4952880" y="4432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5105160" y="458460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5028840" y="450828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6" name=""/>
          <p:cNvGrpSpPr/>
          <p:nvPr/>
        </p:nvGrpSpPr>
        <p:grpSpPr>
          <a:xfrm>
            <a:off x="6600960" y="4280040"/>
            <a:ext cx="457200" cy="304560"/>
            <a:chOff x="6600960" y="4280040"/>
            <a:chExt cx="457200" cy="304560"/>
          </a:xfrm>
        </p:grpSpPr>
        <p:sp>
          <p:nvSpPr>
            <p:cNvPr id="1327" name=""/>
            <p:cNvSpPr/>
            <p:nvPr/>
          </p:nvSpPr>
          <p:spPr>
            <a:xfrm>
              <a:off x="6829560" y="428004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6600960" y="4432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6753240" y="458460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6676920" y="450828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1" name=""/>
          <p:cNvSpPr/>
          <p:nvPr/>
        </p:nvSpPr>
        <p:spPr>
          <a:xfrm>
            <a:off x="7543800" y="3137040"/>
            <a:ext cx="0" cy="83808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"/>
          <p:cNvSpPr/>
          <p:nvPr/>
        </p:nvSpPr>
        <p:spPr>
          <a:xfrm>
            <a:off x="7088760" y="3288240"/>
            <a:ext cx="24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jemplos:Intensidad a través del dio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"/>
          <p:cNvSpPr/>
          <p:nvPr/>
        </p:nvSpPr>
        <p:spPr>
          <a:xfrm rot="16200000">
            <a:off x="4129200" y="2557080"/>
            <a:ext cx="958680" cy="32076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0" y="9982"/>
                </a:moveTo>
                <a:lnTo>
                  <a:pt x="1425" y="9982"/>
                </a:lnTo>
                <a:lnTo>
                  <a:pt x="2252" y="0"/>
                </a:lnTo>
                <a:lnTo>
                  <a:pt x="3905" y="19965"/>
                </a:lnTo>
                <a:lnTo>
                  <a:pt x="5541" y="0"/>
                </a:lnTo>
                <a:lnTo>
                  <a:pt x="7194" y="19965"/>
                </a:lnTo>
                <a:lnTo>
                  <a:pt x="8848" y="0"/>
                </a:lnTo>
                <a:lnTo>
                  <a:pt x="10501" y="19965"/>
                </a:lnTo>
                <a:lnTo>
                  <a:pt x="12155" y="0"/>
                </a:lnTo>
                <a:lnTo>
                  <a:pt x="13791" y="19965"/>
                </a:lnTo>
                <a:lnTo>
                  <a:pt x="15444" y="0"/>
                </a:lnTo>
                <a:lnTo>
                  <a:pt x="17098" y="19965"/>
                </a:lnTo>
                <a:lnTo>
                  <a:pt x="17924" y="9982"/>
                </a:lnTo>
                <a:lnTo>
                  <a:pt x="19982" y="9982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"/>
          <p:cNvSpPr/>
          <p:nvPr/>
        </p:nvSpPr>
        <p:spPr>
          <a:xfrm>
            <a:off x="3181320" y="1476360"/>
            <a:ext cx="959040" cy="32076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0" y="9982"/>
                </a:moveTo>
                <a:lnTo>
                  <a:pt x="1425" y="9982"/>
                </a:lnTo>
                <a:lnTo>
                  <a:pt x="2252" y="0"/>
                </a:lnTo>
                <a:lnTo>
                  <a:pt x="3905" y="19965"/>
                </a:lnTo>
                <a:lnTo>
                  <a:pt x="5541" y="0"/>
                </a:lnTo>
                <a:lnTo>
                  <a:pt x="7194" y="19965"/>
                </a:lnTo>
                <a:lnTo>
                  <a:pt x="8848" y="0"/>
                </a:lnTo>
                <a:lnTo>
                  <a:pt x="10501" y="19965"/>
                </a:lnTo>
                <a:lnTo>
                  <a:pt x="12155" y="0"/>
                </a:lnTo>
                <a:lnTo>
                  <a:pt x="13791" y="19965"/>
                </a:lnTo>
                <a:lnTo>
                  <a:pt x="15444" y="0"/>
                </a:lnTo>
                <a:lnTo>
                  <a:pt x="17098" y="19965"/>
                </a:lnTo>
                <a:lnTo>
                  <a:pt x="17924" y="9982"/>
                </a:lnTo>
                <a:lnTo>
                  <a:pt x="19982" y="9982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6" name=""/>
          <p:cNvGrpSpPr/>
          <p:nvPr/>
        </p:nvGrpSpPr>
        <p:grpSpPr>
          <a:xfrm>
            <a:off x="5667480" y="2086920"/>
            <a:ext cx="304560" cy="291240"/>
            <a:chOff x="5667480" y="2086920"/>
            <a:chExt cx="304560" cy="291240"/>
          </a:xfrm>
        </p:grpSpPr>
        <p:sp>
          <p:nvSpPr>
            <p:cNvPr id="1337" name=""/>
            <p:cNvSpPr/>
            <p:nvPr/>
          </p:nvSpPr>
          <p:spPr>
            <a:xfrm rot="10800000">
              <a:off x="5682600" y="2086920"/>
              <a:ext cx="269640" cy="28260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8" name=""/>
            <p:cNvSpPr/>
            <p:nvPr/>
          </p:nvSpPr>
          <p:spPr>
            <a:xfrm flipH="1">
              <a:off x="5667480" y="237816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9" name=""/>
          <p:cNvSpPr/>
          <p:nvPr/>
        </p:nvSpPr>
        <p:spPr>
          <a:xfrm rot="16200000">
            <a:off x="5348160" y="3090960"/>
            <a:ext cx="959040" cy="32040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0" y="9982"/>
                </a:moveTo>
                <a:lnTo>
                  <a:pt x="1425" y="9982"/>
                </a:lnTo>
                <a:lnTo>
                  <a:pt x="2252" y="0"/>
                </a:lnTo>
                <a:lnTo>
                  <a:pt x="3905" y="19965"/>
                </a:lnTo>
                <a:lnTo>
                  <a:pt x="5541" y="0"/>
                </a:lnTo>
                <a:lnTo>
                  <a:pt x="7194" y="19965"/>
                </a:lnTo>
                <a:lnTo>
                  <a:pt x="8848" y="0"/>
                </a:lnTo>
                <a:lnTo>
                  <a:pt x="10501" y="19965"/>
                </a:lnTo>
                <a:lnTo>
                  <a:pt x="12155" y="0"/>
                </a:lnTo>
                <a:lnTo>
                  <a:pt x="13791" y="19965"/>
                </a:lnTo>
                <a:lnTo>
                  <a:pt x="15444" y="0"/>
                </a:lnTo>
                <a:lnTo>
                  <a:pt x="17098" y="19965"/>
                </a:lnTo>
                <a:lnTo>
                  <a:pt x="17924" y="9982"/>
                </a:lnTo>
                <a:lnTo>
                  <a:pt x="19982" y="9982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0" name=""/>
          <p:cNvGrpSpPr/>
          <p:nvPr/>
        </p:nvGrpSpPr>
        <p:grpSpPr>
          <a:xfrm>
            <a:off x="4371840" y="3838680"/>
            <a:ext cx="457200" cy="304560"/>
            <a:chOff x="4371840" y="3838680"/>
            <a:chExt cx="457200" cy="304560"/>
          </a:xfrm>
        </p:grpSpPr>
        <p:sp>
          <p:nvSpPr>
            <p:cNvPr id="1341" name=""/>
            <p:cNvSpPr/>
            <p:nvPr/>
          </p:nvSpPr>
          <p:spPr>
            <a:xfrm>
              <a:off x="4600440" y="383868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4371840" y="3990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4524120" y="414324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4447800" y="406692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5" name=""/>
          <p:cNvSpPr/>
          <p:nvPr/>
        </p:nvSpPr>
        <p:spPr>
          <a:xfrm>
            <a:off x="4067280" y="1628640"/>
            <a:ext cx="1752480" cy="457200"/>
          </a:xfrm>
          <a:custGeom>
            <a:avLst/>
            <a:gdLst/>
            <a:ahLst/>
            <a:rect l="l" t="t" r="r" b="b"/>
            <a:pathLst>
              <a:path w="1200" h="288">
                <a:moveTo>
                  <a:pt x="0" y="0"/>
                </a:moveTo>
                <a:lnTo>
                  <a:pt x="1200" y="0"/>
                </a:lnTo>
                <a:lnTo>
                  <a:pt x="1200" y="28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"/>
          <p:cNvSpPr/>
          <p:nvPr/>
        </p:nvSpPr>
        <p:spPr>
          <a:xfrm flipV="1">
            <a:off x="5819760" y="231444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"/>
          <p:cNvSpPr/>
          <p:nvPr/>
        </p:nvSpPr>
        <p:spPr>
          <a:xfrm flipV="1">
            <a:off x="4600440" y="16282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"/>
          <p:cNvSpPr/>
          <p:nvPr/>
        </p:nvSpPr>
        <p:spPr>
          <a:xfrm flipV="1">
            <a:off x="4600440" y="31525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"/>
          <p:cNvSpPr/>
          <p:nvPr/>
        </p:nvSpPr>
        <p:spPr>
          <a:xfrm>
            <a:off x="3249000" y="990720"/>
            <a:ext cx="99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30 k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"/>
          <p:cNvSpPr/>
          <p:nvPr/>
        </p:nvSpPr>
        <p:spPr>
          <a:xfrm>
            <a:off x="3382560" y="2543040"/>
            <a:ext cx="99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10 k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"/>
          <p:cNvSpPr/>
          <p:nvPr/>
        </p:nvSpPr>
        <p:spPr>
          <a:xfrm>
            <a:off x="6049080" y="307656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5 k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"/>
          <p:cNvSpPr/>
          <p:nvPr/>
        </p:nvSpPr>
        <p:spPr>
          <a:xfrm>
            <a:off x="6110280" y="1933560"/>
            <a:ext cx="8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0.3 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"/>
          <p:cNvSpPr/>
          <p:nvPr/>
        </p:nvSpPr>
        <p:spPr>
          <a:xfrm>
            <a:off x="2163960" y="1019160"/>
            <a:ext cx="80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12 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4" name=""/>
          <p:cNvGrpSpPr/>
          <p:nvPr/>
        </p:nvGrpSpPr>
        <p:grpSpPr>
          <a:xfrm>
            <a:off x="5591160" y="3838680"/>
            <a:ext cx="457200" cy="304560"/>
            <a:chOff x="5591160" y="3838680"/>
            <a:chExt cx="457200" cy="304560"/>
          </a:xfrm>
        </p:grpSpPr>
        <p:sp>
          <p:nvSpPr>
            <p:cNvPr id="1355" name=""/>
            <p:cNvSpPr/>
            <p:nvPr/>
          </p:nvSpPr>
          <p:spPr>
            <a:xfrm>
              <a:off x="5819760" y="383868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5591160" y="3990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5743440" y="414324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5667120" y="406692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9" name=""/>
          <p:cNvSpPr/>
          <p:nvPr/>
        </p:nvSpPr>
        <p:spPr>
          <a:xfrm flipV="1">
            <a:off x="5819760" y="368604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"/>
          <p:cNvSpPr/>
          <p:nvPr/>
        </p:nvSpPr>
        <p:spPr>
          <a:xfrm flipH="1">
            <a:off x="2771280" y="162864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"/>
          <p:cNvSpPr/>
          <p:nvPr/>
        </p:nvSpPr>
        <p:spPr>
          <a:xfrm>
            <a:off x="2644920" y="1565280"/>
            <a:ext cx="125280" cy="125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"/>
          <p:cNvSpPr/>
          <p:nvPr/>
        </p:nvSpPr>
        <p:spPr>
          <a:xfrm>
            <a:off x="4448160" y="3381480"/>
            <a:ext cx="0" cy="38088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"/>
          <p:cNvSpPr/>
          <p:nvPr/>
        </p:nvSpPr>
        <p:spPr>
          <a:xfrm>
            <a:off x="3944520" y="3278880"/>
            <a:ext cx="346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Arial"/>
              </a:rPr>
              <a:t>i</a:t>
            </a:r>
            <a:r>
              <a:rPr b="0" lang="es-ES_tradnl" sz="24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"/>
          <p:cNvSpPr/>
          <p:nvPr/>
        </p:nvSpPr>
        <p:spPr>
          <a:xfrm>
            <a:off x="5562720" y="3381480"/>
            <a:ext cx="0" cy="38088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"/>
          <p:cNvSpPr/>
          <p:nvPr/>
        </p:nvSpPr>
        <p:spPr>
          <a:xfrm>
            <a:off x="5122440" y="3278880"/>
            <a:ext cx="346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Arial"/>
              </a:rPr>
              <a:t>i</a:t>
            </a:r>
            <a:r>
              <a:rPr b="0" lang="es-ES_tradnl" sz="24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"/>
          <p:cNvSpPr/>
          <p:nvPr/>
        </p:nvSpPr>
        <p:spPr>
          <a:xfrm>
            <a:off x="2847960" y="2009880"/>
            <a:ext cx="45720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"/>
          <p:cNvSpPr/>
          <p:nvPr/>
        </p:nvSpPr>
        <p:spPr>
          <a:xfrm>
            <a:off x="2905920" y="2084760"/>
            <a:ext cx="24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"/>
          <p:cNvSpPr/>
          <p:nvPr/>
        </p:nvSpPr>
        <p:spPr>
          <a:xfrm>
            <a:off x="1150200" y="5002920"/>
            <a:ext cx="2730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12 = 30i + 5i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+ 0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"/>
          <p:cNvSpPr/>
          <p:nvPr/>
        </p:nvSpPr>
        <p:spPr>
          <a:xfrm>
            <a:off x="1179000" y="5688720"/>
            <a:ext cx="2670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12 = 30i + 10(i - i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"/>
          <p:cNvSpPr/>
          <p:nvPr/>
        </p:nvSpPr>
        <p:spPr>
          <a:xfrm>
            <a:off x="4132080" y="5409000"/>
            <a:ext cx="4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"/>
          <p:cNvSpPr/>
          <p:nvPr/>
        </p:nvSpPr>
        <p:spPr>
          <a:xfrm>
            <a:off x="5037840" y="5383800"/>
            <a:ext cx="1914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= 0.216 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jemplos:Intensidad a través del dio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500"/>
                            </p:stCondLst>
                            <p:childTnLst>
                              <p:par>
                                <p:cTn id="2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1000"/>
                            </p:stCondLst>
                            <p:childTnLst>
                              <p:par>
                                <p:cTn id="2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1500"/>
                            </p:stCondLst>
                            <p:childTnLst>
                              <p:par>
                                <p:cTn id="2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2000"/>
                            </p:stCondLst>
                            <p:childTnLst>
                              <p:par>
                                <p:cTn id="2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2500"/>
                            </p:stCondLst>
                            <p:childTnLst>
                              <p:par>
                                <p:cTn id="2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500"/>
                            </p:stCondLst>
                            <p:childTnLst>
                              <p:par>
                                <p:cTn id="2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500"/>
                            </p:stCondLst>
                            <p:childTnLst>
                              <p:par>
                                <p:cTn id="2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3" name=""/>
          <p:cNvSpPr/>
          <p:nvPr/>
        </p:nvSpPr>
        <p:spPr>
          <a:xfrm rot="16200000">
            <a:off x="1890720" y="3595320"/>
            <a:ext cx="958680" cy="32076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0" y="9982"/>
                </a:moveTo>
                <a:lnTo>
                  <a:pt x="1425" y="9982"/>
                </a:lnTo>
                <a:lnTo>
                  <a:pt x="2252" y="0"/>
                </a:lnTo>
                <a:lnTo>
                  <a:pt x="3905" y="19965"/>
                </a:lnTo>
                <a:lnTo>
                  <a:pt x="5541" y="0"/>
                </a:lnTo>
                <a:lnTo>
                  <a:pt x="7194" y="19965"/>
                </a:lnTo>
                <a:lnTo>
                  <a:pt x="8848" y="0"/>
                </a:lnTo>
                <a:lnTo>
                  <a:pt x="10501" y="19965"/>
                </a:lnTo>
                <a:lnTo>
                  <a:pt x="12155" y="0"/>
                </a:lnTo>
                <a:lnTo>
                  <a:pt x="13791" y="19965"/>
                </a:lnTo>
                <a:lnTo>
                  <a:pt x="15444" y="0"/>
                </a:lnTo>
                <a:lnTo>
                  <a:pt x="17098" y="19965"/>
                </a:lnTo>
                <a:lnTo>
                  <a:pt x="17924" y="9982"/>
                </a:lnTo>
                <a:lnTo>
                  <a:pt x="19982" y="9982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4" name=""/>
          <p:cNvGrpSpPr/>
          <p:nvPr/>
        </p:nvGrpSpPr>
        <p:grpSpPr>
          <a:xfrm>
            <a:off x="301680" y="3733920"/>
            <a:ext cx="762120" cy="164880"/>
            <a:chOff x="301680" y="3733920"/>
            <a:chExt cx="762120" cy="164880"/>
          </a:xfrm>
        </p:grpSpPr>
        <p:sp>
          <p:nvSpPr>
            <p:cNvPr id="1375" name=""/>
            <p:cNvSpPr/>
            <p:nvPr/>
          </p:nvSpPr>
          <p:spPr>
            <a:xfrm>
              <a:off x="301680" y="3733920"/>
              <a:ext cx="762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492120" y="3898800"/>
              <a:ext cx="381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7" name=""/>
          <p:cNvSpPr/>
          <p:nvPr/>
        </p:nvSpPr>
        <p:spPr>
          <a:xfrm>
            <a:off x="1028880" y="1905120"/>
            <a:ext cx="958680" cy="32040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0" y="9982"/>
                </a:moveTo>
                <a:lnTo>
                  <a:pt x="1425" y="9982"/>
                </a:lnTo>
                <a:lnTo>
                  <a:pt x="2252" y="0"/>
                </a:lnTo>
                <a:lnTo>
                  <a:pt x="3905" y="19965"/>
                </a:lnTo>
                <a:lnTo>
                  <a:pt x="5541" y="0"/>
                </a:lnTo>
                <a:lnTo>
                  <a:pt x="7194" y="19965"/>
                </a:lnTo>
                <a:lnTo>
                  <a:pt x="8848" y="0"/>
                </a:lnTo>
                <a:lnTo>
                  <a:pt x="10501" y="19965"/>
                </a:lnTo>
                <a:lnTo>
                  <a:pt x="12155" y="0"/>
                </a:lnTo>
                <a:lnTo>
                  <a:pt x="13791" y="19965"/>
                </a:lnTo>
                <a:lnTo>
                  <a:pt x="15444" y="0"/>
                </a:lnTo>
                <a:lnTo>
                  <a:pt x="17098" y="19965"/>
                </a:lnTo>
                <a:lnTo>
                  <a:pt x="17924" y="9982"/>
                </a:lnTo>
                <a:lnTo>
                  <a:pt x="19982" y="9982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8" name=""/>
          <p:cNvGrpSpPr/>
          <p:nvPr/>
        </p:nvGrpSpPr>
        <p:grpSpPr>
          <a:xfrm>
            <a:off x="3657240" y="2514960"/>
            <a:ext cx="304920" cy="291240"/>
            <a:chOff x="3657240" y="2514960"/>
            <a:chExt cx="304920" cy="291240"/>
          </a:xfrm>
        </p:grpSpPr>
        <p:sp>
          <p:nvSpPr>
            <p:cNvPr id="1379" name=""/>
            <p:cNvSpPr/>
            <p:nvPr/>
          </p:nvSpPr>
          <p:spPr>
            <a:xfrm rot="10800000">
              <a:off x="3673440" y="2514960"/>
              <a:ext cx="270000" cy="28260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0" name=""/>
            <p:cNvSpPr/>
            <p:nvPr/>
          </p:nvSpPr>
          <p:spPr>
            <a:xfrm flipH="1">
              <a:off x="3657240" y="280620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1" name=""/>
          <p:cNvSpPr/>
          <p:nvPr/>
        </p:nvSpPr>
        <p:spPr>
          <a:xfrm rot="16200000">
            <a:off x="3338640" y="4052520"/>
            <a:ext cx="958680" cy="32076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0" y="9982"/>
                </a:moveTo>
                <a:lnTo>
                  <a:pt x="1425" y="9982"/>
                </a:lnTo>
                <a:lnTo>
                  <a:pt x="2252" y="0"/>
                </a:lnTo>
                <a:lnTo>
                  <a:pt x="3905" y="19965"/>
                </a:lnTo>
                <a:lnTo>
                  <a:pt x="5541" y="0"/>
                </a:lnTo>
                <a:lnTo>
                  <a:pt x="7194" y="19965"/>
                </a:lnTo>
                <a:lnTo>
                  <a:pt x="8848" y="0"/>
                </a:lnTo>
                <a:lnTo>
                  <a:pt x="10501" y="19965"/>
                </a:lnTo>
                <a:lnTo>
                  <a:pt x="12155" y="0"/>
                </a:lnTo>
                <a:lnTo>
                  <a:pt x="13791" y="19965"/>
                </a:lnTo>
                <a:lnTo>
                  <a:pt x="15444" y="0"/>
                </a:lnTo>
                <a:lnTo>
                  <a:pt x="17098" y="19965"/>
                </a:lnTo>
                <a:lnTo>
                  <a:pt x="17924" y="9982"/>
                </a:lnTo>
                <a:lnTo>
                  <a:pt x="19982" y="9982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2" name=""/>
          <p:cNvGrpSpPr/>
          <p:nvPr/>
        </p:nvGrpSpPr>
        <p:grpSpPr>
          <a:xfrm>
            <a:off x="2133720" y="5334120"/>
            <a:ext cx="457200" cy="304560"/>
            <a:chOff x="2133720" y="5334120"/>
            <a:chExt cx="457200" cy="304560"/>
          </a:xfrm>
        </p:grpSpPr>
        <p:sp>
          <p:nvSpPr>
            <p:cNvPr id="1383" name=""/>
            <p:cNvSpPr/>
            <p:nvPr/>
          </p:nvSpPr>
          <p:spPr>
            <a:xfrm>
              <a:off x="2362320" y="53341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2133720" y="5486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2286000" y="56386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2209680" y="55623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7" name=""/>
          <p:cNvSpPr/>
          <p:nvPr/>
        </p:nvSpPr>
        <p:spPr>
          <a:xfrm>
            <a:off x="685800" y="2057400"/>
            <a:ext cx="361800" cy="1676520"/>
          </a:xfrm>
          <a:custGeom>
            <a:avLst/>
            <a:gdLst/>
            <a:ahLst/>
            <a:rect l="l" t="t" r="r" b="b"/>
            <a:pathLst>
              <a:path w="192" h="1056">
                <a:moveTo>
                  <a:pt x="0" y="1056"/>
                </a:moveTo>
                <a:lnTo>
                  <a:pt x="0" y="0"/>
                </a:lnTo>
                <a:lnTo>
                  <a:pt x="19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"/>
          <p:cNvSpPr/>
          <p:nvPr/>
        </p:nvSpPr>
        <p:spPr>
          <a:xfrm>
            <a:off x="1952640" y="2057400"/>
            <a:ext cx="1857240" cy="457200"/>
          </a:xfrm>
          <a:custGeom>
            <a:avLst/>
            <a:gdLst/>
            <a:ahLst/>
            <a:rect l="l" t="t" r="r" b="b"/>
            <a:pathLst>
              <a:path w="1200" h="288">
                <a:moveTo>
                  <a:pt x="0" y="0"/>
                </a:moveTo>
                <a:lnTo>
                  <a:pt x="1200" y="0"/>
                </a:lnTo>
                <a:lnTo>
                  <a:pt x="1200" y="28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"/>
          <p:cNvSpPr/>
          <p:nvPr/>
        </p:nvSpPr>
        <p:spPr>
          <a:xfrm>
            <a:off x="685800" y="3886200"/>
            <a:ext cx="3124080" cy="1447920"/>
          </a:xfrm>
          <a:custGeom>
            <a:avLst/>
            <a:gdLst/>
            <a:ahLst/>
            <a:rect l="l" t="t" r="r" b="b"/>
            <a:pathLst>
              <a:path w="1968" h="912">
                <a:moveTo>
                  <a:pt x="0" y="0"/>
                </a:moveTo>
                <a:lnTo>
                  <a:pt x="0" y="912"/>
                </a:lnTo>
                <a:lnTo>
                  <a:pt x="1968" y="912"/>
                </a:lnTo>
                <a:lnTo>
                  <a:pt x="1968" y="48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"/>
          <p:cNvSpPr/>
          <p:nvPr/>
        </p:nvSpPr>
        <p:spPr>
          <a:xfrm flipV="1">
            <a:off x="3809880" y="27432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"/>
          <p:cNvSpPr/>
          <p:nvPr/>
        </p:nvSpPr>
        <p:spPr>
          <a:xfrm flipV="1">
            <a:off x="2362320" y="205704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"/>
          <p:cNvSpPr/>
          <p:nvPr/>
        </p:nvSpPr>
        <p:spPr>
          <a:xfrm flipV="1">
            <a:off x="2362320" y="41907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"/>
          <p:cNvSpPr/>
          <p:nvPr/>
        </p:nvSpPr>
        <p:spPr>
          <a:xfrm>
            <a:off x="1096560" y="1419120"/>
            <a:ext cx="99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70 k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"/>
          <p:cNvSpPr/>
          <p:nvPr/>
        </p:nvSpPr>
        <p:spPr>
          <a:xfrm>
            <a:off x="1172520" y="3809880"/>
            <a:ext cx="99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10 k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"/>
          <p:cNvSpPr/>
          <p:nvPr/>
        </p:nvSpPr>
        <p:spPr>
          <a:xfrm>
            <a:off x="4039560" y="4038480"/>
            <a:ext cx="99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30 k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"/>
          <p:cNvSpPr/>
          <p:nvPr/>
        </p:nvSpPr>
        <p:spPr>
          <a:xfrm>
            <a:off x="4100400" y="2249640"/>
            <a:ext cx="8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0.7 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"/>
          <p:cNvSpPr/>
          <p:nvPr/>
        </p:nvSpPr>
        <p:spPr>
          <a:xfrm>
            <a:off x="4039200" y="2666880"/>
            <a:ext cx="109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0.25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"/>
          <p:cNvSpPr/>
          <p:nvPr/>
        </p:nvSpPr>
        <p:spPr>
          <a:xfrm>
            <a:off x="687600" y="3198960"/>
            <a:ext cx="80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20 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9" name=""/>
          <p:cNvGrpSpPr/>
          <p:nvPr/>
        </p:nvGrpSpPr>
        <p:grpSpPr>
          <a:xfrm>
            <a:off x="1371960" y="1917000"/>
            <a:ext cx="1980360" cy="3656160"/>
            <a:chOff x="1371960" y="1917000"/>
            <a:chExt cx="1980360" cy="3656160"/>
          </a:xfrm>
        </p:grpSpPr>
        <p:sp>
          <p:nvSpPr>
            <p:cNvPr id="1400" name=""/>
            <p:cNvSpPr/>
            <p:nvPr/>
          </p:nvSpPr>
          <p:spPr>
            <a:xfrm>
              <a:off x="1371960" y="1917000"/>
              <a:ext cx="1980360" cy="3656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8787" y="3530"/>
                  </a:moveTo>
                  <a:arcTo wR="10800" hR="10800" stAng="-2538668" swAng="4779512"/>
                  <a:lnTo>
                    <a:pt x="10800" y="10800"/>
                  </a:lnTo>
                  <a:close/>
                </a:path>
                <a:path fill="none" w="21600" h="21600">
                  <a:moveTo>
                    <a:pt x="18787" y="3530"/>
                  </a:moveTo>
                  <a:arcTo wR="10800" hR="10800" stAng="-2538668" swAng="4779512"/>
                </a:path>
              </a:pathLst>
            </a:custGeom>
            <a:noFill/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2903760" y="3505320"/>
              <a:ext cx="432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0000"/>
                  </a:solidFill>
                  <a:latin typeface="Arial"/>
                </a:rPr>
                <a:t>J</a:t>
              </a:r>
              <a:r>
                <a:rPr b="0" lang="es-ES_tradnl" sz="2400" spc="-1" strike="noStrike" baseline="-25000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402" name=""/>
              <p:cNvSpPr txBox="1"/>
              <p:nvPr/>
            </p:nvSpPr>
            <p:spPr>
              <a:xfrm>
                <a:off x="5257800" y="2590920"/>
                <a:ext cx="3594240" cy="170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J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d>
                          <m:dPr>
                            <m:begChr m:val="|"/>
                            <m:endChr m:val="|"/>
                          </m:dPr>
                          <m:e>
                            <m:m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80</m:t>
                                  </m:r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−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0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7</m:t>
                                  </m:r>
                                </m:e>
                              </m:mr>
                            </m:m>
                          </m:e>
                        </m:d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m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80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−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0</m:t>
                                  </m:r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40</m:t>
                                  </m:r>
                                </m:e>
                              </m:mr>
                            </m:m>
                          </m:e>
                        </m:d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6</m:t>
                    </m:r>
                    <m:r>
                      <m:t xml:space="preserve"> </m:t>
                    </m:r>
                    <m:r>
                      <m:t xml:space="preserve">μ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jemplos:Intensidad a través del dio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00" dur="500"/>
                                        <p:tgtEl>
                                          <p:spTgt spid="1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1.1.La unión PN en equilib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7" name=""/>
          <p:cNvGraphicFramePr/>
          <p:nvPr/>
        </p:nvGraphicFramePr>
        <p:xfrm>
          <a:off x="1447920" y="3040200"/>
          <a:ext cx="3195360" cy="290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3040200"/>
                    <a:ext cx="3195360" cy="290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9" name=""/>
          <p:cNvGraphicFramePr/>
          <p:nvPr/>
        </p:nvGraphicFramePr>
        <p:xfrm>
          <a:off x="609480" y="914400"/>
          <a:ext cx="4610160" cy="15908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52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9480" y="914400"/>
                    <a:ext cx="4610160" cy="159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1" name=""/>
          <p:cNvSpPr/>
          <p:nvPr/>
        </p:nvSpPr>
        <p:spPr>
          <a:xfrm>
            <a:off x="990720" y="2446200"/>
            <a:ext cx="396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Distribución de las concentraciones de portadores de car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1600200" y="59212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Distribución de car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1600200" y="4046400"/>
            <a:ext cx="3048120" cy="370800"/>
            <a:chOff x="1600200" y="4046400"/>
            <a:chExt cx="3048120" cy="370800"/>
          </a:xfrm>
        </p:grpSpPr>
        <p:sp>
          <p:nvSpPr>
            <p:cNvPr id="524" name=""/>
            <p:cNvSpPr/>
            <p:nvPr/>
          </p:nvSpPr>
          <p:spPr>
            <a:xfrm>
              <a:off x="1600200" y="4046400"/>
              <a:ext cx="5335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s-ES_tradnl" sz="1600" spc="-1" strike="noStrike" baseline="-25000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4114800" y="4046400"/>
              <a:ext cx="5335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s-ES_tradnl" sz="1600" spc="-1" strike="noStrike" baseline="-25000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6" name=""/>
          <p:cNvGrpSpPr/>
          <p:nvPr/>
        </p:nvGrpSpPr>
        <p:grpSpPr>
          <a:xfrm>
            <a:off x="5334120" y="1030320"/>
            <a:ext cx="3657600" cy="2643120"/>
            <a:chOff x="5334120" y="1030320"/>
            <a:chExt cx="3657600" cy="2643120"/>
          </a:xfrm>
        </p:grpSpPr>
        <p:sp>
          <p:nvSpPr>
            <p:cNvPr id="527" name=""/>
            <p:cNvSpPr/>
            <p:nvPr/>
          </p:nvSpPr>
          <p:spPr>
            <a:xfrm>
              <a:off x="5486400" y="3305160"/>
              <a:ext cx="3505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Campo eléctrico en el diod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5334120" y="1803600"/>
              <a:ext cx="3181320" cy="1440"/>
            </a:xfrm>
            <a:prstGeom prst="line">
              <a:avLst/>
            </a:prstGeom>
            <a:ln w="0">
              <a:solidFill>
                <a:srgbClr val="0e0d0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 flipV="1">
              <a:off x="5856120" y="1368720"/>
              <a:ext cx="1800" cy="1622160"/>
            </a:xfrm>
            <a:prstGeom prst="line">
              <a:avLst/>
            </a:prstGeom>
            <a:ln w="0">
              <a:solidFill>
                <a:srgbClr val="0e0d0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 flipV="1">
              <a:off x="6923160" y="1371240"/>
              <a:ext cx="1440" cy="1622520"/>
            </a:xfrm>
            <a:prstGeom prst="line">
              <a:avLst/>
            </a:prstGeom>
            <a:ln w="0">
              <a:solidFill>
                <a:srgbClr val="0e0d0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 flipV="1">
              <a:off x="7989840" y="1371240"/>
              <a:ext cx="1800" cy="1622520"/>
            </a:xfrm>
            <a:prstGeom prst="line">
              <a:avLst/>
            </a:prstGeom>
            <a:ln w="0">
              <a:solidFill>
                <a:srgbClr val="0e0d0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5334120" y="1803600"/>
              <a:ext cx="3181320" cy="944640"/>
            </a:xfrm>
            <a:custGeom>
              <a:avLst/>
              <a:gdLst/>
              <a:ahLst/>
              <a:rect l="l" t="t" r="r" b="b"/>
              <a:pathLst>
                <a:path w="4010" h="1190">
                  <a:moveTo>
                    <a:pt x="0" y="0"/>
                  </a:moveTo>
                  <a:lnTo>
                    <a:pt x="646" y="3"/>
                  </a:lnTo>
                  <a:lnTo>
                    <a:pt x="2004" y="1190"/>
                  </a:lnTo>
                  <a:lnTo>
                    <a:pt x="3343" y="11"/>
                  </a:lnTo>
                  <a:lnTo>
                    <a:pt x="4010" y="11"/>
                  </a:lnTo>
                </a:path>
              </a:pathLst>
            </a:custGeom>
            <a:noFill/>
            <a:ln w="381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6599520" y="103032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8000"/>
                  </a:solidFill>
                  <a:latin typeface="Arial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5410080" y="1443240"/>
              <a:ext cx="5335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s-ES_tradnl" sz="1600" spc="-1" strike="noStrike" baseline="-25000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8001000" y="1487520"/>
              <a:ext cx="5335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s-ES_tradnl" sz="1600" spc="-1" strike="noStrike" baseline="-25000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6" name=""/>
          <p:cNvGrpSpPr/>
          <p:nvPr/>
        </p:nvGrpSpPr>
        <p:grpSpPr>
          <a:xfrm>
            <a:off x="5289480" y="4186080"/>
            <a:ext cx="3283560" cy="1798560"/>
            <a:chOff x="5289480" y="4186080"/>
            <a:chExt cx="3283560" cy="1798560"/>
          </a:xfrm>
        </p:grpSpPr>
        <p:sp>
          <p:nvSpPr>
            <p:cNvPr id="537" name=""/>
            <p:cNvSpPr/>
            <p:nvPr/>
          </p:nvSpPr>
          <p:spPr>
            <a:xfrm>
              <a:off x="5638680" y="561636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Diferencia de potenci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5289480" y="5459040"/>
              <a:ext cx="3181320" cy="1800"/>
            </a:xfrm>
            <a:prstGeom prst="line">
              <a:avLst/>
            </a:prstGeom>
            <a:ln w="0">
              <a:solidFill>
                <a:srgbClr val="0e0d0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 flipV="1">
              <a:off x="5811840" y="4302000"/>
              <a:ext cx="1440" cy="1262160"/>
            </a:xfrm>
            <a:prstGeom prst="line">
              <a:avLst/>
            </a:prstGeom>
            <a:ln w="0">
              <a:solidFill>
                <a:srgbClr val="0e0d0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 flipV="1">
              <a:off x="6878520" y="4305240"/>
              <a:ext cx="1800" cy="1263600"/>
            </a:xfrm>
            <a:prstGeom prst="line">
              <a:avLst/>
            </a:prstGeom>
            <a:ln w="0">
              <a:solidFill>
                <a:srgbClr val="0e0d0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 flipV="1">
              <a:off x="7945560" y="4305240"/>
              <a:ext cx="1440" cy="1263600"/>
            </a:xfrm>
            <a:prstGeom prst="line">
              <a:avLst/>
            </a:prstGeom>
            <a:ln w="0">
              <a:solidFill>
                <a:srgbClr val="0e0d0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 flipV="1">
              <a:off x="8080200" y="4361760"/>
              <a:ext cx="1800" cy="1103400"/>
            </a:xfrm>
            <a:prstGeom prst="line">
              <a:avLst/>
            </a:prstGeom>
            <a:ln w="0">
              <a:solidFill>
                <a:srgbClr val="0e0d0c"/>
              </a:solidFill>
              <a:prstDash val="dash"/>
              <a:headEnd len="sm" type="arrow" w="sm"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8090640" y="4759200"/>
              <a:ext cx="482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0" lang="es-ES_tradnl" sz="24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6519960" y="41860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0000"/>
                  </a:solidFill>
                  <a:latin typeface="Arial"/>
                </a:rPr>
                <a:t>V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5638680" y="4267080"/>
              <a:ext cx="2643480" cy="1333440"/>
            </a:xfrm>
            <a:custGeom>
              <a:avLst/>
              <a:gdLst/>
              <a:ahLst/>
              <a:rect l="l" t="t" r="r" b="b"/>
              <a:pathLst>
                <a:path w="1665" h="840">
                  <a:moveTo>
                    <a:pt x="0" y="744"/>
                  </a:moveTo>
                  <a:cubicBezTo>
                    <a:pt x="102" y="720"/>
                    <a:pt x="609" y="840"/>
                    <a:pt x="783" y="420"/>
                  </a:cubicBezTo>
                  <a:cubicBezTo>
                    <a:pt x="957" y="0"/>
                    <a:pt x="1557" y="63"/>
                    <a:pt x="1665" y="57"/>
                  </a:cubicBezTo>
                </a:path>
              </a:pathLst>
            </a:custGeom>
            <a:noFill/>
            <a:ln w="381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5410080" y="5449680"/>
              <a:ext cx="5335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s-ES_tradnl" sz="1600" spc="-1" strike="noStrike" baseline="-25000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8001000" y="5493960"/>
              <a:ext cx="5335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s-ES_tradnl" sz="1600" spc="-1" strike="noStrike" baseline="-25000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00"/>
                            </p:stCondLst>
                            <p:childTnLst>
                              <p:par>
                                <p:cTn id="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000"/>
                            </p:stCondLst>
                            <p:childTnLst>
                              <p:par>
                                <p:cTn id="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1.1.La unión PN en equilibrio (co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9" name=""/>
              <p:cNvSpPr txBox="1"/>
              <p:nvPr/>
            </p:nvSpPr>
            <p:spPr>
              <a:xfrm>
                <a:off x="685800" y="914400"/>
                <a:ext cx="4695840" cy="87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xn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xp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ln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p</m:t>
                            </m:r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ln</m:t>
                    </m:r>
                    <m:f>
                      <m:num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p</m:t>
                            </m:r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0" name=""/>
              <p:cNvSpPr txBox="1"/>
              <p:nvPr/>
            </p:nvSpPr>
            <p:spPr>
              <a:xfrm>
                <a:off x="2362320" y="2743200"/>
                <a:ext cx="358128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xn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xp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ln</m:t>
                    </m:r>
                    <m:f>
                      <m:num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i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51" name=""/>
          <p:cNvSpPr/>
          <p:nvPr/>
        </p:nvSpPr>
        <p:spPr>
          <a:xfrm>
            <a:off x="457200" y="2147760"/>
            <a:ext cx="670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Sustituyendo los valores de las concentraciones de impureza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457200" y="3809880"/>
            <a:ext cx="8277120" cy="15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se llama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Potencial de contacto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y representa la diferencia de potencial entre los extremos de la zona de transición con la unión en circuito abierto y en equilibri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0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= 0.7 V para diodos de Si y V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= 0.3 V para diodos de Ge, a 20 º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6177240" y="1143000"/>
            <a:ext cx="25520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= 0.026 V a 300 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0" y="5486400"/>
            <a:ext cx="9144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i N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= 10</a:t>
            </a:r>
            <a:r>
              <a:rPr b="0" lang="es-ES" sz="2000" spc="-1" strike="noStrike" baseline="30000">
                <a:solidFill>
                  <a:srgbClr val="000000"/>
                </a:solidFill>
                <a:latin typeface="Arial"/>
              </a:rPr>
              <a:t>22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/m</a:t>
            </a:r>
            <a:r>
              <a:rPr b="0" lang="es-ES" sz="2000" spc="-1" strike="noStrike" baseline="30000">
                <a:solidFill>
                  <a:srgbClr val="000000"/>
                </a:solidFill>
                <a:latin typeface="Arial"/>
              </a:rPr>
              <a:t>3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y N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= 2.10</a:t>
            </a:r>
            <a:r>
              <a:rPr b="0" lang="es-ES" sz="2000" spc="-1" strike="noStrike" baseline="30000">
                <a:solidFill>
                  <a:srgbClr val="000000"/>
                </a:solidFill>
                <a:latin typeface="Arial"/>
              </a:rPr>
              <a:t>22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/m</a:t>
            </a:r>
            <a:r>
              <a:rPr b="0" lang="es-ES" sz="2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, entonces x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-x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=0.3 </a:t>
            </a:r>
            <a:r>
              <a:rPr b="0" lang="es-ES" sz="2000" spc="-1" strike="noStrike">
                <a:solidFill>
                  <a:srgbClr val="000000"/>
                </a:solidFill>
                <a:latin typeface="Math A"/>
                <a:ea typeface="Math A"/>
              </a:rPr>
              <a:t>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m, E=2.10</a:t>
            </a:r>
            <a:r>
              <a:rPr b="0" lang="es-ES" sz="20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V/m, V=0.3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1.2.Polarización del dio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3827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Polarización direc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412920" y="1744560"/>
            <a:ext cx="2525400" cy="1623960"/>
          </a:xfrm>
          <a:prstGeom prst="rect">
            <a:avLst/>
          </a:prstGeom>
          <a:solidFill>
            <a:srgbClr val="ffcccc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2936880" y="1744560"/>
            <a:ext cx="2525760" cy="1623960"/>
          </a:xfrm>
          <a:prstGeom prst="rect">
            <a:avLst/>
          </a:prstGeom>
          <a:solidFill>
            <a:srgbClr val="ccec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592200" y="2286000"/>
            <a:ext cx="60120" cy="5868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0" name=""/>
          <p:cNvGrpSpPr/>
          <p:nvPr/>
        </p:nvGrpSpPr>
        <p:grpSpPr>
          <a:xfrm>
            <a:off x="592200" y="1925640"/>
            <a:ext cx="223920" cy="220680"/>
            <a:chOff x="592200" y="1925640"/>
            <a:chExt cx="223920" cy="220680"/>
          </a:xfrm>
        </p:grpSpPr>
        <p:sp>
          <p:nvSpPr>
            <p:cNvPr id="561" name=""/>
            <p:cNvSpPr/>
            <p:nvPr/>
          </p:nvSpPr>
          <p:spPr>
            <a:xfrm>
              <a:off x="592560" y="1925640"/>
              <a:ext cx="222840" cy="220680"/>
            </a:xfrm>
            <a:prstGeom prst="ellipse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92200" y="2035800"/>
              <a:ext cx="223920" cy="3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3" name=""/>
          <p:cNvGrpSpPr/>
          <p:nvPr/>
        </p:nvGrpSpPr>
        <p:grpSpPr>
          <a:xfrm>
            <a:off x="952560" y="1925640"/>
            <a:ext cx="222120" cy="220680"/>
            <a:chOff x="952560" y="1925640"/>
            <a:chExt cx="222120" cy="220680"/>
          </a:xfrm>
        </p:grpSpPr>
        <p:sp>
          <p:nvSpPr>
            <p:cNvPr id="564" name=""/>
            <p:cNvSpPr/>
            <p:nvPr/>
          </p:nvSpPr>
          <p:spPr>
            <a:xfrm>
              <a:off x="952920" y="1925640"/>
              <a:ext cx="221040" cy="220680"/>
            </a:xfrm>
            <a:prstGeom prst="ellipse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52560" y="2035800"/>
              <a:ext cx="222120" cy="3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6" name=""/>
          <p:cNvGrpSpPr/>
          <p:nvPr/>
        </p:nvGrpSpPr>
        <p:grpSpPr>
          <a:xfrm>
            <a:off x="1314360" y="1925640"/>
            <a:ext cx="223920" cy="220680"/>
            <a:chOff x="1314360" y="1925640"/>
            <a:chExt cx="223920" cy="220680"/>
          </a:xfrm>
        </p:grpSpPr>
        <p:sp>
          <p:nvSpPr>
            <p:cNvPr id="567" name=""/>
            <p:cNvSpPr/>
            <p:nvPr/>
          </p:nvSpPr>
          <p:spPr>
            <a:xfrm>
              <a:off x="1314720" y="1925640"/>
              <a:ext cx="222840" cy="220680"/>
            </a:xfrm>
            <a:prstGeom prst="ellipse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1314360" y="2035800"/>
              <a:ext cx="223920" cy="3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9" name=""/>
          <p:cNvGrpSpPr/>
          <p:nvPr/>
        </p:nvGrpSpPr>
        <p:grpSpPr>
          <a:xfrm>
            <a:off x="1674720" y="1925640"/>
            <a:ext cx="223920" cy="220680"/>
            <a:chOff x="1674720" y="1925640"/>
            <a:chExt cx="223920" cy="220680"/>
          </a:xfrm>
        </p:grpSpPr>
        <p:sp>
          <p:nvSpPr>
            <p:cNvPr id="570" name=""/>
            <p:cNvSpPr/>
            <p:nvPr/>
          </p:nvSpPr>
          <p:spPr>
            <a:xfrm>
              <a:off x="1675080" y="1925640"/>
              <a:ext cx="222840" cy="220680"/>
            </a:xfrm>
            <a:prstGeom prst="ellipse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1674720" y="2035800"/>
              <a:ext cx="223920" cy="3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2" name=""/>
          <p:cNvGrpSpPr/>
          <p:nvPr/>
        </p:nvGrpSpPr>
        <p:grpSpPr>
          <a:xfrm>
            <a:off x="2035080" y="1925640"/>
            <a:ext cx="223920" cy="220680"/>
            <a:chOff x="2035080" y="1925640"/>
            <a:chExt cx="223920" cy="220680"/>
          </a:xfrm>
        </p:grpSpPr>
        <p:sp>
          <p:nvSpPr>
            <p:cNvPr id="573" name=""/>
            <p:cNvSpPr/>
            <p:nvPr/>
          </p:nvSpPr>
          <p:spPr>
            <a:xfrm>
              <a:off x="2035440" y="1925640"/>
              <a:ext cx="222840" cy="220680"/>
            </a:xfrm>
            <a:prstGeom prst="ellipse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035080" y="2035800"/>
              <a:ext cx="223920" cy="3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5" name=""/>
          <p:cNvGrpSpPr/>
          <p:nvPr/>
        </p:nvGrpSpPr>
        <p:grpSpPr>
          <a:xfrm>
            <a:off x="2395440" y="1925640"/>
            <a:ext cx="223920" cy="220680"/>
            <a:chOff x="2395440" y="1925640"/>
            <a:chExt cx="223920" cy="220680"/>
          </a:xfrm>
        </p:grpSpPr>
        <p:sp>
          <p:nvSpPr>
            <p:cNvPr id="576" name=""/>
            <p:cNvSpPr/>
            <p:nvPr/>
          </p:nvSpPr>
          <p:spPr>
            <a:xfrm>
              <a:off x="2395800" y="1925640"/>
              <a:ext cx="222840" cy="220680"/>
            </a:xfrm>
            <a:prstGeom prst="ellipse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395440" y="2035800"/>
              <a:ext cx="223920" cy="3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8" name=""/>
          <p:cNvGrpSpPr/>
          <p:nvPr/>
        </p:nvGrpSpPr>
        <p:grpSpPr>
          <a:xfrm>
            <a:off x="592200" y="2467080"/>
            <a:ext cx="223920" cy="220680"/>
            <a:chOff x="592200" y="2467080"/>
            <a:chExt cx="223920" cy="220680"/>
          </a:xfrm>
        </p:grpSpPr>
        <p:sp>
          <p:nvSpPr>
            <p:cNvPr id="579" name=""/>
            <p:cNvSpPr/>
            <p:nvPr/>
          </p:nvSpPr>
          <p:spPr>
            <a:xfrm>
              <a:off x="592560" y="2467080"/>
              <a:ext cx="222840" cy="220680"/>
            </a:xfrm>
            <a:prstGeom prst="ellipse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592200" y="2577240"/>
              <a:ext cx="223920" cy="3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1" name=""/>
          <p:cNvGrpSpPr/>
          <p:nvPr/>
        </p:nvGrpSpPr>
        <p:grpSpPr>
          <a:xfrm>
            <a:off x="954000" y="2467080"/>
            <a:ext cx="223920" cy="220680"/>
            <a:chOff x="954000" y="2467080"/>
            <a:chExt cx="223920" cy="220680"/>
          </a:xfrm>
        </p:grpSpPr>
        <p:sp>
          <p:nvSpPr>
            <p:cNvPr id="582" name=""/>
            <p:cNvSpPr/>
            <p:nvPr/>
          </p:nvSpPr>
          <p:spPr>
            <a:xfrm>
              <a:off x="954360" y="2467080"/>
              <a:ext cx="222840" cy="220680"/>
            </a:xfrm>
            <a:prstGeom prst="ellipse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954000" y="2577240"/>
              <a:ext cx="223920" cy="3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4" name=""/>
          <p:cNvGrpSpPr/>
          <p:nvPr/>
        </p:nvGrpSpPr>
        <p:grpSpPr>
          <a:xfrm>
            <a:off x="1314360" y="2467080"/>
            <a:ext cx="223920" cy="220680"/>
            <a:chOff x="1314360" y="2467080"/>
            <a:chExt cx="223920" cy="220680"/>
          </a:xfrm>
        </p:grpSpPr>
        <p:sp>
          <p:nvSpPr>
            <p:cNvPr id="585" name=""/>
            <p:cNvSpPr/>
            <p:nvPr/>
          </p:nvSpPr>
          <p:spPr>
            <a:xfrm>
              <a:off x="1314720" y="2467080"/>
              <a:ext cx="222840" cy="220680"/>
            </a:xfrm>
            <a:prstGeom prst="ellipse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314360" y="2577240"/>
              <a:ext cx="223920" cy="3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7" name=""/>
          <p:cNvGrpSpPr/>
          <p:nvPr/>
        </p:nvGrpSpPr>
        <p:grpSpPr>
          <a:xfrm>
            <a:off x="1674720" y="2467080"/>
            <a:ext cx="223920" cy="220680"/>
            <a:chOff x="1674720" y="2467080"/>
            <a:chExt cx="223920" cy="220680"/>
          </a:xfrm>
        </p:grpSpPr>
        <p:sp>
          <p:nvSpPr>
            <p:cNvPr id="588" name=""/>
            <p:cNvSpPr/>
            <p:nvPr/>
          </p:nvSpPr>
          <p:spPr>
            <a:xfrm>
              <a:off x="1675080" y="2467080"/>
              <a:ext cx="222840" cy="220680"/>
            </a:xfrm>
            <a:prstGeom prst="ellipse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674720" y="2577240"/>
              <a:ext cx="223920" cy="3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0" name=""/>
          <p:cNvGrpSpPr/>
          <p:nvPr/>
        </p:nvGrpSpPr>
        <p:grpSpPr>
          <a:xfrm>
            <a:off x="2035080" y="2467080"/>
            <a:ext cx="222480" cy="220680"/>
            <a:chOff x="2035080" y="2467080"/>
            <a:chExt cx="222480" cy="220680"/>
          </a:xfrm>
        </p:grpSpPr>
        <p:sp>
          <p:nvSpPr>
            <p:cNvPr id="591" name=""/>
            <p:cNvSpPr/>
            <p:nvPr/>
          </p:nvSpPr>
          <p:spPr>
            <a:xfrm>
              <a:off x="2035440" y="2467080"/>
              <a:ext cx="221400" cy="220680"/>
            </a:xfrm>
            <a:prstGeom prst="ellipse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2035080" y="2577240"/>
              <a:ext cx="222480" cy="3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3" name=""/>
          <p:cNvGrpSpPr/>
          <p:nvPr/>
        </p:nvGrpSpPr>
        <p:grpSpPr>
          <a:xfrm>
            <a:off x="2397240" y="2467080"/>
            <a:ext cx="223560" cy="220680"/>
            <a:chOff x="2397240" y="2467080"/>
            <a:chExt cx="223560" cy="220680"/>
          </a:xfrm>
        </p:grpSpPr>
        <p:sp>
          <p:nvSpPr>
            <p:cNvPr id="594" name=""/>
            <p:cNvSpPr/>
            <p:nvPr/>
          </p:nvSpPr>
          <p:spPr>
            <a:xfrm>
              <a:off x="2397600" y="2467080"/>
              <a:ext cx="222480" cy="220680"/>
            </a:xfrm>
            <a:prstGeom prst="ellipse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2397240" y="2577240"/>
              <a:ext cx="223560" cy="3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6" name=""/>
          <p:cNvGrpSpPr/>
          <p:nvPr/>
        </p:nvGrpSpPr>
        <p:grpSpPr>
          <a:xfrm>
            <a:off x="592200" y="3006720"/>
            <a:ext cx="223920" cy="222120"/>
            <a:chOff x="592200" y="3006720"/>
            <a:chExt cx="223920" cy="222120"/>
          </a:xfrm>
        </p:grpSpPr>
        <p:sp>
          <p:nvSpPr>
            <p:cNvPr id="597" name=""/>
            <p:cNvSpPr/>
            <p:nvPr/>
          </p:nvSpPr>
          <p:spPr>
            <a:xfrm>
              <a:off x="592560" y="3006720"/>
              <a:ext cx="222840" cy="222120"/>
            </a:xfrm>
            <a:prstGeom prst="ellipse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592200" y="3117600"/>
              <a:ext cx="223920" cy="3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9" name=""/>
          <p:cNvGrpSpPr/>
          <p:nvPr/>
        </p:nvGrpSpPr>
        <p:grpSpPr>
          <a:xfrm>
            <a:off x="954000" y="3006720"/>
            <a:ext cx="223920" cy="222120"/>
            <a:chOff x="954000" y="3006720"/>
            <a:chExt cx="223920" cy="222120"/>
          </a:xfrm>
        </p:grpSpPr>
        <p:sp>
          <p:nvSpPr>
            <p:cNvPr id="600" name=""/>
            <p:cNvSpPr/>
            <p:nvPr/>
          </p:nvSpPr>
          <p:spPr>
            <a:xfrm>
              <a:off x="954360" y="3006720"/>
              <a:ext cx="222840" cy="222120"/>
            </a:xfrm>
            <a:prstGeom prst="ellipse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954000" y="3117600"/>
              <a:ext cx="223920" cy="3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2" name=""/>
          <p:cNvGrpSpPr/>
          <p:nvPr/>
        </p:nvGrpSpPr>
        <p:grpSpPr>
          <a:xfrm>
            <a:off x="1314360" y="3006720"/>
            <a:ext cx="223920" cy="222120"/>
            <a:chOff x="1314360" y="3006720"/>
            <a:chExt cx="223920" cy="222120"/>
          </a:xfrm>
        </p:grpSpPr>
        <p:sp>
          <p:nvSpPr>
            <p:cNvPr id="603" name=""/>
            <p:cNvSpPr/>
            <p:nvPr/>
          </p:nvSpPr>
          <p:spPr>
            <a:xfrm>
              <a:off x="1314720" y="3006720"/>
              <a:ext cx="222840" cy="222120"/>
            </a:xfrm>
            <a:prstGeom prst="ellipse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314360" y="3117600"/>
              <a:ext cx="223920" cy="3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5" name=""/>
          <p:cNvGrpSpPr/>
          <p:nvPr/>
        </p:nvGrpSpPr>
        <p:grpSpPr>
          <a:xfrm>
            <a:off x="1674720" y="3006720"/>
            <a:ext cx="223920" cy="222120"/>
            <a:chOff x="1674720" y="3006720"/>
            <a:chExt cx="223920" cy="222120"/>
          </a:xfrm>
        </p:grpSpPr>
        <p:sp>
          <p:nvSpPr>
            <p:cNvPr id="606" name=""/>
            <p:cNvSpPr/>
            <p:nvPr/>
          </p:nvSpPr>
          <p:spPr>
            <a:xfrm>
              <a:off x="1675080" y="3006720"/>
              <a:ext cx="222840" cy="222120"/>
            </a:xfrm>
            <a:prstGeom prst="ellipse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674720" y="3117600"/>
              <a:ext cx="223920" cy="3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8" name=""/>
          <p:cNvGrpSpPr/>
          <p:nvPr/>
        </p:nvGrpSpPr>
        <p:grpSpPr>
          <a:xfrm>
            <a:off x="2035080" y="3006720"/>
            <a:ext cx="222480" cy="222120"/>
            <a:chOff x="2035080" y="3006720"/>
            <a:chExt cx="222480" cy="222120"/>
          </a:xfrm>
        </p:grpSpPr>
        <p:sp>
          <p:nvSpPr>
            <p:cNvPr id="609" name=""/>
            <p:cNvSpPr/>
            <p:nvPr/>
          </p:nvSpPr>
          <p:spPr>
            <a:xfrm>
              <a:off x="2035440" y="3006720"/>
              <a:ext cx="221400" cy="222120"/>
            </a:xfrm>
            <a:prstGeom prst="ellipse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2035080" y="3117600"/>
              <a:ext cx="222480" cy="3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1" name=""/>
          <p:cNvGrpSpPr/>
          <p:nvPr/>
        </p:nvGrpSpPr>
        <p:grpSpPr>
          <a:xfrm>
            <a:off x="2397240" y="3006720"/>
            <a:ext cx="223560" cy="222120"/>
            <a:chOff x="2397240" y="3006720"/>
            <a:chExt cx="223560" cy="222120"/>
          </a:xfrm>
        </p:grpSpPr>
        <p:sp>
          <p:nvSpPr>
            <p:cNvPr id="612" name=""/>
            <p:cNvSpPr/>
            <p:nvPr/>
          </p:nvSpPr>
          <p:spPr>
            <a:xfrm>
              <a:off x="2397600" y="3006720"/>
              <a:ext cx="222480" cy="222120"/>
            </a:xfrm>
            <a:prstGeom prst="ellipse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2397240" y="3117600"/>
              <a:ext cx="223560" cy="3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4" name=""/>
          <p:cNvSpPr/>
          <p:nvPr/>
        </p:nvSpPr>
        <p:spPr>
          <a:xfrm>
            <a:off x="857160" y="1847880"/>
            <a:ext cx="58680" cy="5868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1238400" y="1847880"/>
            <a:ext cx="58680" cy="5868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1960560" y="2200320"/>
            <a:ext cx="58680" cy="5868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1225440" y="2257560"/>
            <a:ext cx="58680" cy="5868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592200" y="2827440"/>
            <a:ext cx="60120" cy="5868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1542960" y="3235320"/>
            <a:ext cx="58680" cy="6048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2171880" y="2257560"/>
            <a:ext cx="58680" cy="5868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1657440" y="2846520"/>
            <a:ext cx="58680" cy="5868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839880" y="3228840"/>
            <a:ext cx="58680" cy="5904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2219400" y="2790720"/>
            <a:ext cx="58680" cy="5868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225960" y="1924200"/>
            <a:ext cx="223560" cy="223560"/>
            <a:chOff x="3225960" y="1924200"/>
            <a:chExt cx="223560" cy="223560"/>
          </a:xfrm>
        </p:grpSpPr>
        <p:sp>
          <p:nvSpPr>
            <p:cNvPr id="625" name=""/>
            <p:cNvSpPr/>
            <p:nvPr/>
          </p:nvSpPr>
          <p:spPr>
            <a:xfrm>
              <a:off x="3226320" y="1925280"/>
              <a:ext cx="222480" cy="221760"/>
            </a:xfrm>
            <a:prstGeom prst="ellipse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3225960" y="2035800"/>
              <a:ext cx="223560" cy="3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3337560" y="1924200"/>
              <a:ext cx="360" cy="2235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8" name=""/>
          <p:cNvGrpSpPr/>
          <p:nvPr/>
        </p:nvGrpSpPr>
        <p:grpSpPr>
          <a:xfrm>
            <a:off x="3586320" y="1925640"/>
            <a:ext cx="223560" cy="223920"/>
            <a:chOff x="3586320" y="1925640"/>
            <a:chExt cx="223560" cy="223920"/>
          </a:xfrm>
        </p:grpSpPr>
        <p:sp>
          <p:nvSpPr>
            <p:cNvPr id="629" name=""/>
            <p:cNvSpPr/>
            <p:nvPr/>
          </p:nvSpPr>
          <p:spPr>
            <a:xfrm>
              <a:off x="3586680" y="1926720"/>
              <a:ext cx="222480" cy="222120"/>
            </a:xfrm>
            <a:prstGeom prst="ellipse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3586320" y="2037600"/>
              <a:ext cx="223560" cy="3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3697920" y="1925640"/>
              <a:ext cx="360" cy="22392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2" name=""/>
          <p:cNvGrpSpPr/>
          <p:nvPr/>
        </p:nvGrpSpPr>
        <p:grpSpPr>
          <a:xfrm>
            <a:off x="3946680" y="1925640"/>
            <a:ext cx="222120" cy="223920"/>
            <a:chOff x="3946680" y="1925640"/>
            <a:chExt cx="222120" cy="223920"/>
          </a:xfrm>
        </p:grpSpPr>
        <p:sp>
          <p:nvSpPr>
            <p:cNvPr id="633" name=""/>
            <p:cNvSpPr/>
            <p:nvPr/>
          </p:nvSpPr>
          <p:spPr>
            <a:xfrm>
              <a:off x="3947040" y="1926720"/>
              <a:ext cx="221040" cy="222120"/>
            </a:xfrm>
            <a:prstGeom prst="ellipse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3946680" y="2037600"/>
              <a:ext cx="222120" cy="3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4057560" y="1925640"/>
              <a:ext cx="360" cy="22392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6" name=""/>
          <p:cNvGrpSpPr/>
          <p:nvPr/>
        </p:nvGrpSpPr>
        <p:grpSpPr>
          <a:xfrm>
            <a:off x="4308480" y="1925640"/>
            <a:ext cx="223920" cy="223920"/>
            <a:chOff x="4308480" y="1925640"/>
            <a:chExt cx="223920" cy="223920"/>
          </a:xfrm>
        </p:grpSpPr>
        <p:sp>
          <p:nvSpPr>
            <p:cNvPr id="637" name=""/>
            <p:cNvSpPr/>
            <p:nvPr/>
          </p:nvSpPr>
          <p:spPr>
            <a:xfrm>
              <a:off x="4308840" y="1926720"/>
              <a:ext cx="222840" cy="222120"/>
            </a:xfrm>
            <a:prstGeom prst="ellipse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4308480" y="2037600"/>
              <a:ext cx="223920" cy="3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4420440" y="1925640"/>
              <a:ext cx="360" cy="22392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4668840" y="1925640"/>
            <a:ext cx="223920" cy="223920"/>
            <a:chOff x="4668840" y="1925640"/>
            <a:chExt cx="223920" cy="223920"/>
          </a:xfrm>
        </p:grpSpPr>
        <p:sp>
          <p:nvSpPr>
            <p:cNvPr id="641" name=""/>
            <p:cNvSpPr/>
            <p:nvPr/>
          </p:nvSpPr>
          <p:spPr>
            <a:xfrm>
              <a:off x="4669200" y="1926720"/>
              <a:ext cx="222840" cy="222120"/>
            </a:xfrm>
            <a:prstGeom prst="ellipse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4668840" y="2037600"/>
              <a:ext cx="223920" cy="3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4780800" y="1925640"/>
              <a:ext cx="360" cy="22392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5029200" y="1925640"/>
            <a:ext cx="223920" cy="223920"/>
            <a:chOff x="5029200" y="1925640"/>
            <a:chExt cx="223920" cy="223920"/>
          </a:xfrm>
        </p:grpSpPr>
        <p:sp>
          <p:nvSpPr>
            <p:cNvPr id="645" name=""/>
            <p:cNvSpPr/>
            <p:nvPr/>
          </p:nvSpPr>
          <p:spPr>
            <a:xfrm>
              <a:off x="5029560" y="1926720"/>
              <a:ext cx="222840" cy="222120"/>
            </a:xfrm>
            <a:prstGeom prst="ellipse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029200" y="2037600"/>
              <a:ext cx="223920" cy="3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5141160" y="1925640"/>
              <a:ext cx="360" cy="22392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3225960" y="2467080"/>
            <a:ext cx="223560" cy="222120"/>
            <a:chOff x="3225960" y="2467080"/>
            <a:chExt cx="223560" cy="222120"/>
          </a:xfrm>
        </p:grpSpPr>
        <p:sp>
          <p:nvSpPr>
            <p:cNvPr id="649" name=""/>
            <p:cNvSpPr/>
            <p:nvPr/>
          </p:nvSpPr>
          <p:spPr>
            <a:xfrm>
              <a:off x="3226320" y="2468160"/>
              <a:ext cx="222480" cy="220320"/>
            </a:xfrm>
            <a:prstGeom prst="ellipse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225960" y="2577960"/>
              <a:ext cx="223560" cy="3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3337560" y="2467080"/>
              <a:ext cx="360" cy="22212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2" name=""/>
          <p:cNvGrpSpPr/>
          <p:nvPr/>
        </p:nvGrpSpPr>
        <p:grpSpPr>
          <a:xfrm>
            <a:off x="3586320" y="2467080"/>
            <a:ext cx="223560" cy="223560"/>
            <a:chOff x="3586320" y="2467080"/>
            <a:chExt cx="223560" cy="223560"/>
          </a:xfrm>
        </p:grpSpPr>
        <p:sp>
          <p:nvSpPr>
            <p:cNvPr id="653" name=""/>
            <p:cNvSpPr/>
            <p:nvPr/>
          </p:nvSpPr>
          <p:spPr>
            <a:xfrm>
              <a:off x="3586680" y="2468160"/>
              <a:ext cx="222480" cy="221760"/>
            </a:xfrm>
            <a:prstGeom prst="ellipse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3586320" y="2578680"/>
              <a:ext cx="223560" cy="3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3697920" y="2467080"/>
              <a:ext cx="360" cy="2235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6" name=""/>
          <p:cNvGrpSpPr/>
          <p:nvPr/>
        </p:nvGrpSpPr>
        <p:grpSpPr>
          <a:xfrm>
            <a:off x="3946680" y="2467080"/>
            <a:ext cx="222120" cy="223560"/>
            <a:chOff x="3946680" y="2467080"/>
            <a:chExt cx="222120" cy="223560"/>
          </a:xfrm>
        </p:grpSpPr>
        <p:sp>
          <p:nvSpPr>
            <p:cNvPr id="657" name=""/>
            <p:cNvSpPr/>
            <p:nvPr/>
          </p:nvSpPr>
          <p:spPr>
            <a:xfrm>
              <a:off x="3947040" y="2468160"/>
              <a:ext cx="221040" cy="221760"/>
            </a:xfrm>
            <a:prstGeom prst="ellipse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946680" y="2578680"/>
              <a:ext cx="222120" cy="3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4057560" y="2467080"/>
              <a:ext cx="360" cy="2235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0" name=""/>
          <p:cNvGrpSpPr/>
          <p:nvPr/>
        </p:nvGrpSpPr>
        <p:grpSpPr>
          <a:xfrm>
            <a:off x="4308480" y="2467080"/>
            <a:ext cx="223920" cy="223560"/>
            <a:chOff x="4308480" y="2467080"/>
            <a:chExt cx="223920" cy="223560"/>
          </a:xfrm>
        </p:grpSpPr>
        <p:sp>
          <p:nvSpPr>
            <p:cNvPr id="661" name=""/>
            <p:cNvSpPr/>
            <p:nvPr/>
          </p:nvSpPr>
          <p:spPr>
            <a:xfrm>
              <a:off x="4308840" y="2468160"/>
              <a:ext cx="222840" cy="221760"/>
            </a:xfrm>
            <a:prstGeom prst="ellipse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308480" y="2578680"/>
              <a:ext cx="223920" cy="3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420440" y="2467080"/>
              <a:ext cx="360" cy="2235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4" name=""/>
          <p:cNvGrpSpPr/>
          <p:nvPr/>
        </p:nvGrpSpPr>
        <p:grpSpPr>
          <a:xfrm>
            <a:off x="4668840" y="2467080"/>
            <a:ext cx="223920" cy="223560"/>
            <a:chOff x="4668840" y="2467080"/>
            <a:chExt cx="223920" cy="223560"/>
          </a:xfrm>
        </p:grpSpPr>
        <p:sp>
          <p:nvSpPr>
            <p:cNvPr id="665" name=""/>
            <p:cNvSpPr/>
            <p:nvPr/>
          </p:nvSpPr>
          <p:spPr>
            <a:xfrm>
              <a:off x="4669200" y="2468160"/>
              <a:ext cx="222840" cy="221760"/>
            </a:xfrm>
            <a:prstGeom prst="ellipse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4668840" y="2578680"/>
              <a:ext cx="223920" cy="3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4780800" y="2467080"/>
              <a:ext cx="360" cy="2235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8" name=""/>
          <p:cNvGrpSpPr/>
          <p:nvPr/>
        </p:nvGrpSpPr>
        <p:grpSpPr>
          <a:xfrm>
            <a:off x="5029200" y="2467080"/>
            <a:ext cx="223920" cy="223560"/>
            <a:chOff x="5029200" y="2467080"/>
            <a:chExt cx="223920" cy="223560"/>
          </a:xfrm>
        </p:grpSpPr>
        <p:sp>
          <p:nvSpPr>
            <p:cNvPr id="669" name=""/>
            <p:cNvSpPr/>
            <p:nvPr/>
          </p:nvSpPr>
          <p:spPr>
            <a:xfrm>
              <a:off x="5029560" y="2468160"/>
              <a:ext cx="222840" cy="221760"/>
            </a:xfrm>
            <a:prstGeom prst="ellipse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029200" y="2578680"/>
              <a:ext cx="223920" cy="3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5141160" y="2467080"/>
              <a:ext cx="360" cy="2235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2" name=""/>
          <p:cNvGrpSpPr/>
          <p:nvPr/>
        </p:nvGrpSpPr>
        <p:grpSpPr>
          <a:xfrm>
            <a:off x="3225960" y="3006720"/>
            <a:ext cx="223560" cy="223920"/>
            <a:chOff x="3225960" y="3006720"/>
            <a:chExt cx="223560" cy="223920"/>
          </a:xfrm>
        </p:grpSpPr>
        <p:sp>
          <p:nvSpPr>
            <p:cNvPr id="673" name=""/>
            <p:cNvSpPr/>
            <p:nvPr/>
          </p:nvSpPr>
          <p:spPr>
            <a:xfrm>
              <a:off x="3226320" y="3007800"/>
              <a:ext cx="222480" cy="222120"/>
            </a:xfrm>
            <a:prstGeom prst="ellipse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3225960" y="3118680"/>
              <a:ext cx="223560" cy="3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3337560" y="3006720"/>
              <a:ext cx="360" cy="22392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6" name=""/>
          <p:cNvGrpSpPr/>
          <p:nvPr/>
        </p:nvGrpSpPr>
        <p:grpSpPr>
          <a:xfrm>
            <a:off x="3586320" y="3008160"/>
            <a:ext cx="223560" cy="223920"/>
            <a:chOff x="3586320" y="3008160"/>
            <a:chExt cx="223560" cy="223920"/>
          </a:xfrm>
        </p:grpSpPr>
        <p:sp>
          <p:nvSpPr>
            <p:cNvPr id="677" name=""/>
            <p:cNvSpPr/>
            <p:nvPr/>
          </p:nvSpPr>
          <p:spPr>
            <a:xfrm>
              <a:off x="3586680" y="3009240"/>
              <a:ext cx="222480" cy="222120"/>
            </a:xfrm>
            <a:prstGeom prst="ellipse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3586320" y="3120120"/>
              <a:ext cx="223560" cy="3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3697920" y="3008160"/>
              <a:ext cx="360" cy="22392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0" name=""/>
          <p:cNvGrpSpPr/>
          <p:nvPr/>
        </p:nvGrpSpPr>
        <p:grpSpPr>
          <a:xfrm>
            <a:off x="3946680" y="3008160"/>
            <a:ext cx="222120" cy="223920"/>
            <a:chOff x="3946680" y="3008160"/>
            <a:chExt cx="222120" cy="223920"/>
          </a:xfrm>
        </p:grpSpPr>
        <p:sp>
          <p:nvSpPr>
            <p:cNvPr id="681" name=""/>
            <p:cNvSpPr/>
            <p:nvPr/>
          </p:nvSpPr>
          <p:spPr>
            <a:xfrm>
              <a:off x="3947040" y="3009240"/>
              <a:ext cx="221040" cy="222120"/>
            </a:xfrm>
            <a:prstGeom prst="ellipse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946680" y="3120120"/>
              <a:ext cx="222120" cy="3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4057560" y="3008160"/>
              <a:ext cx="360" cy="22392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4" name=""/>
          <p:cNvGrpSpPr/>
          <p:nvPr/>
        </p:nvGrpSpPr>
        <p:grpSpPr>
          <a:xfrm>
            <a:off x="4308480" y="3008160"/>
            <a:ext cx="223920" cy="223920"/>
            <a:chOff x="4308480" y="3008160"/>
            <a:chExt cx="223920" cy="223920"/>
          </a:xfrm>
        </p:grpSpPr>
        <p:sp>
          <p:nvSpPr>
            <p:cNvPr id="685" name=""/>
            <p:cNvSpPr/>
            <p:nvPr/>
          </p:nvSpPr>
          <p:spPr>
            <a:xfrm>
              <a:off x="4308840" y="3009240"/>
              <a:ext cx="222840" cy="222120"/>
            </a:xfrm>
            <a:prstGeom prst="ellipse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4308480" y="3120120"/>
              <a:ext cx="223920" cy="3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4420440" y="3008160"/>
              <a:ext cx="360" cy="22392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8" name=""/>
          <p:cNvGrpSpPr/>
          <p:nvPr/>
        </p:nvGrpSpPr>
        <p:grpSpPr>
          <a:xfrm>
            <a:off x="4668840" y="3008160"/>
            <a:ext cx="223920" cy="223920"/>
            <a:chOff x="4668840" y="3008160"/>
            <a:chExt cx="223920" cy="223920"/>
          </a:xfrm>
        </p:grpSpPr>
        <p:sp>
          <p:nvSpPr>
            <p:cNvPr id="689" name=""/>
            <p:cNvSpPr/>
            <p:nvPr/>
          </p:nvSpPr>
          <p:spPr>
            <a:xfrm>
              <a:off x="4669200" y="3009240"/>
              <a:ext cx="222840" cy="222120"/>
            </a:xfrm>
            <a:prstGeom prst="ellipse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4668840" y="3120120"/>
              <a:ext cx="223920" cy="3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4780800" y="3008160"/>
              <a:ext cx="360" cy="22392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2" name=""/>
          <p:cNvGrpSpPr/>
          <p:nvPr/>
        </p:nvGrpSpPr>
        <p:grpSpPr>
          <a:xfrm>
            <a:off x="5029200" y="3008160"/>
            <a:ext cx="223920" cy="223920"/>
            <a:chOff x="5029200" y="3008160"/>
            <a:chExt cx="223920" cy="223920"/>
          </a:xfrm>
        </p:grpSpPr>
        <p:sp>
          <p:nvSpPr>
            <p:cNvPr id="693" name=""/>
            <p:cNvSpPr/>
            <p:nvPr/>
          </p:nvSpPr>
          <p:spPr>
            <a:xfrm>
              <a:off x="5029560" y="3009240"/>
              <a:ext cx="222840" cy="222120"/>
            </a:xfrm>
            <a:prstGeom prst="ellipse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5029200" y="3120120"/>
              <a:ext cx="223920" cy="3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5141160" y="3008160"/>
              <a:ext cx="360" cy="22392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6" name=""/>
          <p:cNvSpPr/>
          <p:nvPr/>
        </p:nvSpPr>
        <p:spPr>
          <a:xfrm>
            <a:off x="4167360" y="3246480"/>
            <a:ext cx="60120" cy="586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4948200" y="2836800"/>
            <a:ext cx="60480" cy="586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4260960" y="2712960"/>
            <a:ext cx="58680" cy="586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4653000" y="2827440"/>
            <a:ext cx="60120" cy="586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5319720" y="2027160"/>
            <a:ext cx="60480" cy="586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5334120" y="3218040"/>
            <a:ext cx="58680" cy="586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5356080" y="2789280"/>
            <a:ext cx="59040" cy="586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4032360" y="2290680"/>
            <a:ext cx="58680" cy="586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3738600" y="2255760"/>
            <a:ext cx="60120" cy="586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4900680" y="1884240"/>
            <a:ext cx="60120" cy="5904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4232160" y="1932120"/>
            <a:ext cx="58680" cy="586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3652920" y="2813040"/>
            <a:ext cx="58680" cy="586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4324320" y="2311560"/>
            <a:ext cx="58680" cy="5868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5156280" y="2890800"/>
            <a:ext cx="58680" cy="5868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958680" y="2274840"/>
            <a:ext cx="59040" cy="586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1400040" y="2825640"/>
            <a:ext cx="59040" cy="586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1930320" y="2870280"/>
            <a:ext cx="58680" cy="58680"/>
          </a:xfrm>
          <a:prstGeom prst="ellipse">
            <a:avLst/>
          </a:prstGeom>
          <a:solidFill>
            <a:srgbClr val="008000"/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932040" y="2851200"/>
            <a:ext cx="60120" cy="60120"/>
          </a:xfrm>
          <a:prstGeom prst="ellipse">
            <a:avLst/>
          </a:prstGeom>
          <a:noFill/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4848120" y="2319480"/>
            <a:ext cx="58680" cy="58680"/>
          </a:xfrm>
          <a:prstGeom prst="ellipse">
            <a:avLst/>
          </a:prstGeom>
          <a:noFill/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4070520" y="2801880"/>
            <a:ext cx="58680" cy="58680"/>
          </a:xfrm>
          <a:prstGeom prst="ellipse">
            <a:avLst/>
          </a:prstGeom>
          <a:solidFill>
            <a:srgbClr val="008000"/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1608120" y="2281320"/>
            <a:ext cx="58680" cy="5868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7" name=""/>
          <p:cNvGrpSpPr/>
          <p:nvPr/>
        </p:nvGrpSpPr>
        <p:grpSpPr>
          <a:xfrm>
            <a:off x="2852640" y="4003560"/>
            <a:ext cx="73080" cy="398520"/>
            <a:chOff x="2852640" y="4003560"/>
            <a:chExt cx="73080" cy="398520"/>
          </a:xfrm>
        </p:grpSpPr>
        <p:sp>
          <p:nvSpPr>
            <p:cNvPr id="718" name=""/>
            <p:cNvSpPr/>
            <p:nvPr/>
          </p:nvSpPr>
          <p:spPr>
            <a:xfrm>
              <a:off x="2852640" y="4003560"/>
              <a:ext cx="360" cy="398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2925360" y="4075920"/>
              <a:ext cx="360" cy="253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0" name=""/>
          <p:cNvGrpSpPr/>
          <p:nvPr/>
        </p:nvGrpSpPr>
        <p:grpSpPr>
          <a:xfrm>
            <a:off x="231840" y="2568600"/>
            <a:ext cx="5392800" cy="1630440"/>
            <a:chOff x="231840" y="2568600"/>
            <a:chExt cx="5392800" cy="1630440"/>
          </a:xfrm>
        </p:grpSpPr>
        <p:sp>
          <p:nvSpPr>
            <p:cNvPr id="721" name=""/>
            <p:cNvSpPr/>
            <p:nvPr/>
          </p:nvSpPr>
          <p:spPr>
            <a:xfrm>
              <a:off x="2909880" y="2568600"/>
              <a:ext cx="2714760" cy="162072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8779" y="0"/>
                  </a:moveTo>
                  <a:lnTo>
                    <a:pt x="19995" y="0"/>
                  </a:lnTo>
                  <a:lnTo>
                    <a:pt x="19995" y="19989"/>
                  </a:lnTo>
                  <a:lnTo>
                    <a:pt x="0" y="1998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231840" y="2578320"/>
              <a:ext cx="2606040" cy="162072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218" y="0"/>
                  </a:moveTo>
                  <a:lnTo>
                    <a:pt x="0" y="0"/>
                  </a:lnTo>
                  <a:lnTo>
                    <a:pt x="0" y="19989"/>
                  </a:lnTo>
                  <a:lnTo>
                    <a:pt x="19995" y="1998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3" name=""/>
          <p:cNvSpPr/>
          <p:nvPr/>
        </p:nvSpPr>
        <p:spPr>
          <a:xfrm>
            <a:off x="2981160" y="3706920"/>
            <a:ext cx="36216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650880" y="4195800"/>
            <a:ext cx="326880" cy="14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857160" y="3706920"/>
            <a:ext cx="25416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1100160" y="2857680"/>
            <a:ext cx="290520" cy="0"/>
          </a:xfrm>
          <a:prstGeom prst="line">
            <a:avLst/>
          </a:prstGeom>
          <a:ln w="19080">
            <a:solidFill>
              <a:srgbClr val="0000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 flipH="1">
            <a:off x="2238120" y="2287440"/>
            <a:ext cx="290520" cy="1800"/>
          </a:xfrm>
          <a:prstGeom prst="line">
            <a:avLst/>
          </a:prstGeom>
          <a:ln w="1908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3354480" y="2841480"/>
            <a:ext cx="290520" cy="0"/>
          </a:xfrm>
          <a:prstGeom prst="line">
            <a:avLst/>
          </a:prstGeom>
          <a:ln w="19080">
            <a:solidFill>
              <a:srgbClr val="0000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 flipH="1">
            <a:off x="4381560" y="2336760"/>
            <a:ext cx="288720" cy="1800"/>
          </a:xfrm>
          <a:prstGeom prst="line">
            <a:avLst/>
          </a:prstGeom>
          <a:ln w="1908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2701800" y="1751040"/>
            <a:ext cx="495360" cy="162072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99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5229360" y="2238480"/>
            <a:ext cx="58680" cy="6012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3382920" y="2311560"/>
            <a:ext cx="60480" cy="5868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2297160" y="3216240"/>
            <a:ext cx="60120" cy="5868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3882960" y="1820880"/>
            <a:ext cx="58680" cy="586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3882960" y="2943360"/>
            <a:ext cx="58680" cy="586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2073240" y="2798640"/>
            <a:ext cx="58680" cy="5904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771480" y="2906640"/>
            <a:ext cx="58680" cy="586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1911240" y="1852560"/>
            <a:ext cx="58680" cy="5868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2657520" y="1554120"/>
            <a:ext cx="195120" cy="619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2692440" y="2397240"/>
            <a:ext cx="50796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2762640" y="1744560"/>
            <a:ext cx="41688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MT Extra"/>
                <a:ea typeface="MT Extra"/>
              </a:rPr>
              <a:t>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2970360" y="1488960"/>
            <a:ext cx="193680" cy="193680"/>
          </a:xfrm>
          <a:prstGeom prst="plus">
            <a:avLst>
              <a:gd name="adj" fmla="val 35435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457200" y="4724280"/>
            <a:ext cx="8458200" cy="117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crea un campo eléctrico opuesto al de la unión, disminuye el E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total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en la unión y la barrera de potencial: V´=V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-V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, y aumenta la corriente de mayoritarios por difus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4" name=""/>
          <p:cNvGrpSpPr/>
          <p:nvPr/>
        </p:nvGrpSpPr>
        <p:grpSpPr>
          <a:xfrm>
            <a:off x="5867280" y="3171960"/>
            <a:ext cx="3089160" cy="942840"/>
            <a:chOff x="5867280" y="3171960"/>
            <a:chExt cx="3089160" cy="942840"/>
          </a:xfrm>
        </p:grpSpPr>
        <p:sp>
          <p:nvSpPr>
            <p:cNvPr id="745" name=""/>
            <p:cNvSpPr/>
            <p:nvPr/>
          </p:nvSpPr>
          <p:spPr>
            <a:xfrm>
              <a:off x="8123040" y="3208320"/>
              <a:ext cx="290520" cy="36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0" lang="es-ES_tradnl" sz="18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8123040" y="3606480"/>
              <a:ext cx="833400" cy="36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0" lang="es-ES_tradnl" sz="18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 - V</a:t>
              </a:r>
              <a:r>
                <a:rPr b="0" lang="es-ES_tradnl" sz="1800" spc="-1" strike="noStrike" baseline="-25000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867280" y="3171960"/>
              <a:ext cx="2255760" cy="9428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0" y="19987"/>
                  </a:lnTo>
                  <a:lnTo>
                    <a:pt x="19995" y="19987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881680" y="3714480"/>
              <a:ext cx="2222280" cy="298080"/>
            </a:xfrm>
            <a:custGeom>
              <a:avLst/>
              <a:gdLst/>
              <a:ahLst/>
              <a:rect l="l" t="t" r="r" b="b"/>
              <a:pathLst>
                <a:path w="1400" h="188">
                  <a:moveTo>
                    <a:pt x="0" y="186"/>
                  </a:moveTo>
                  <a:cubicBezTo>
                    <a:pt x="920" y="188"/>
                    <a:pt x="242" y="0"/>
                    <a:pt x="1400" y="6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5881680" y="3394080"/>
              <a:ext cx="2222280" cy="618480"/>
            </a:xfrm>
            <a:custGeom>
              <a:avLst/>
              <a:gdLst/>
              <a:ahLst/>
              <a:rect l="l" t="t" r="r" b="b"/>
              <a:pathLst>
                <a:path w="1400" h="188">
                  <a:moveTo>
                    <a:pt x="0" y="186"/>
                  </a:moveTo>
                  <a:cubicBezTo>
                    <a:pt x="920" y="188"/>
                    <a:pt x="242" y="0"/>
                    <a:pt x="1400" y="6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0" name=""/>
          <p:cNvGrpSpPr/>
          <p:nvPr/>
        </p:nvGrpSpPr>
        <p:grpSpPr>
          <a:xfrm>
            <a:off x="5859000" y="1301760"/>
            <a:ext cx="304920" cy="1054080"/>
            <a:chOff x="5859000" y="1301760"/>
            <a:chExt cx="304920" cy="1054080"/>
          </a:xfrm>
        </p:grpSpPr>
        <p:sp>
          <p:nvSpPr>
            <p:cNvPr id="751" name=""/>
            <p:cNvSpPr/>
            <p:nvPr/>
          </p:nvSpPr>
          <p:spPr>
            <a:xfrm>
              <a:off x="6021360" y="1301760"/>
              <a:ext cx="0" cy="1054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"/>
            <p:cNvSpPr/>
            <p:nvPr/>
          </p:nvSpPr>
          <p:spPr>
            <a:xfrm rot="10800000">
              <a:off x="5884560" y="1693440"/>
              <a:ext cx="270000" cy="28260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"/>
            <p:cNvSpPr/>
            <p:nvPr/>
          </p:nvSpPr>
          <p:spPr>
            <a:xfrm flipH="1">
              <a:off x="5859000" y="200484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4" name=""/>
          <p:cNvSpPr/>
          <p:nvPr/>
        </p:nvSpPr>
        <p:spPr>
          <a:xfrm>
            <a:off x="6705720" y="1371600"/>
            <a:ext cx="304560" cy="368280"/>
          </a:xfrm>
          <a:prstGeom prst="rect">
            <a:avLst/>
          </a:prstGeom>
          <a:solidFill>
            <a:srgbClr val="bbe0e3"/>
          </a:solidFill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6705720" y="1805040"/>
            <a:ext cx="304560" cy="368280"/>
          </a:xfrm>
          <a:prstGeom prst="rect">
            <a:avLst/>
          </a:prstGeom>
          <a:solidFill>
            <a:srgbClr val="99ccff"/>
          </a:solidFill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 flipV="1">
            <a:off x="6858000" y="106632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6858000" y="106668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6858000" y="22096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7429680" y="1066680"/>
            <a:ext cx="0" cy="1371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0" name=""/>
          <p:cNvGrpSpPr/>
          <p:nvPr/>
        </p:nvGrpSpPr>
        <p:grpSpPr>
          <a:xfrm>
            <a:off x="7010280" y="2209680"/>
            <a:ext cx="152280" cy="533160"/>
            <a:chOff x="7010280" y="2209680"/>
            <a:chExt cx="152280" cy="533160"/>
          </a:xfrm>
        </p:grpSpPr>
        <p:sp>
          <p:nvSpPr>
            <p:cNvPr id="761" name=""/>
            <p:cNvSpPr/>
            <p:nvPr/>
          </p:nvSpPr>
          <p:spPr>
            <a:xfrm>
              <a:off x="7010280" y="236196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7162560" y="2209680"/>
              <a:ext cx="0" cy="53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3" name=""/>
          <p:cNvSpPr/>
          <p:nvPr/>
        </p:nvSpPr>
        <p:spPr>
          <a:xfrm>
            <a:off x="6858000" y="2438280"/>
            <a:ext cx="152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7162920" y="2438280"/>
            <a:ext cx="304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500"/>
                            </p:stCondLst>
                            <p:childTnLst>
                              <p:par>
                                <p:cTn id="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000"/>
                            </p:stCondLst>
                            <p:childTnLst>
                              <p:par>
                                <p:cTn id="8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2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6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" dur="5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2500"/>
                            </p:stCondLst>
                            <p:childTnLst>
                              <p:par>
                                <p:cTn id="9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4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3000"/>
                            </p:stCondLst>
                            <p:childTnLst>
                              <p:par>
                                <p:cTn id="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8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3500"/>
                            </p:stCondLst>
                            <p:childTnLst>
                              <p:par>
                                <p:cTn id="1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4000"/>
                            </p:stCondLst>
                            <p:childTnLst>
                              <p:par>
                                <p:cTn id="1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1.2.Polarización del dio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2922480" y="1585800"/>
            <a:ext cx="2524320" cy="1622520"/>
          </a:xfrm>
          <a:prstGeom prst="rect">
            <a:avLst/>
          </a:prstGeom>
          <a:solidFill>
            <a:srgbClr val="ccec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396720" y="1585800"/>
            <a:ext cx="2525760" cy="1622520"/>
          </a:xfrm>
          <a:prstGeom prst="rect">
            <a:avLst/>
          </a:prstGeom>
          <a:solidFill>
            <a:srgbClr val="ffcccc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577800" y="2125800"/>
            <a:ext cx="58680" cy="6012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9" name=""/>
          <p:cNvGrpSpPr/>
          <p:nvPr/>
        </p:nvGrpSpPr>
        <p:grpSpPr>
          <a:xfrm>
            <a:off x="576360" y="1765440"/>
            <a:ext cx="223920" cy="222120"/>
            <a:chOff x="576360" y="1765440"/>
            <a:chExt cx="223920" cy="222120"/>
          </a:xfrm>
        </p:grpSpPr>
        <p:sp>
          <p:nvSpPr>
            <p:cNvPr id="770" name=""/>
            <p:cNvSpPr/>
            <p:nvPr/>
          </p:nvSpPr>
          <p:spPr>
            <a:xfrm>
              <a:off x="576720" y="1765440"/>
              <a:ext cx="222840" cy="222120"/>
            </a:xfrm>
            <a:prstGeom prst="ellipse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576360" y="1876320"/>
              <a:ext cx="223920" cy="3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2" name=""/>
          <p:cNvGrpSpPr/>
          <p:nvPr/>
        </p:nvGrpSpPr>
        <p:grpSpPr>
          <a:xfrm>
            <a:off x="938160" y="1765440"/>
            <a:ext cx="223920" cy="222120"/>
            <a:chOff x="938160" y="1765440"/>
            <a:chExt cx="223920" cy="222120"/>
          </a:xfrm>
        </p:grpSpPr>
        <p:sp>
          <p:nvSpPr>
            <p:cNvPr id="773" name=""/>
            <p:cNvSpPr/>
            <p:nvPr/>
          </p:nvSpPr>
          <p:spPr>
            <a:xfrm>
              <a:off x="938520" y="1765440"/>
              <a:ext cx="222840" cy="222120"/>
            </a:xfrm>
            <a:prstGeom prst="ellipse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938160" y="1876320"/>
              <a:ext cx="223920" cy="3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5" name=""/>
          <p:cNvGrpSpPr/>
          <p:nvPr/>
        </p:nvGrpSpPr>
        <p:grpSpPr>
          <a:xfrm>
            <a:off x="1298520" y="1765440"/>
            <a:ext cx="223920" cy="222120"/>
            <a:chOff x="1298520" y="1765440"/>
            <a:chExt cx="223920" cy="222120"/>
          </a:xfrm>
        </p:grpSpPr>
        <p:sp>
          <p:nvSpPr>
            <p:cNvPr id="776" name=""/>
            <p:cNvSpPr/>
            <p:nvPr/>
          </p:nvSpPr>
          <p:spPr>
            <a:xfrm>
              <a:off x="1298880" y="1765440"/>
              <a:ext cx="222840" cy="222120"/>
            </a:xfrm>
            <a:prstGeom prst="ellipse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298520" y="1876320"/>
              <a:ext cx="223920" cy="3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8" name=""/>
          <p:cNvGrpSpPr/>
          <p:nvPr/>
        </p:nvGrpSpPr>
        <p:grpSpPr>
          <a:xfrm>
            <a:off x="1658880" y="1765440"/>
            <a:ext cx="223920" cy="222120"/>
            <a:chOff x="1658880" y="1765440"/>
            <a:chExt cx="223920" cy="222120"/>
          </a:xfrm>
        </p:grpSpPr>
        <p:sp>
          <p:nvSpPr>
            <p:cNvPr id="779" name=""/>
            <p:cNvSpPr/>
            <p:nvPr/>
          </p:nvSpPr>
          <p:spPr>
            <a:xfrm>
              <a:off x="1659240" y="1765440"/>
              <a:ext cx="222840" cy="222120"/>
            </a:xfrm>
            <a:prstGeom prst="ellipse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1658880" y="1876320"/>
              <a:ext cx="223920" cy="3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1" name=""/>
          <p:cNvGrpSpPr/>
          <p:nvPr/>
        </p:nvGrpSpPr>
        <p:grpSpPr>
          <a:xfrm>
            <a:off x="577800" y="2306520"/>
            <a:ext cx="223920" cy="222480"/>
            <a:chOff x="577800" y="2306520"/>
            <a:chExt cx="223920" cy="222480"/>
          </a:xfrm>
        </p:grpSpPr>
        <p:sp>
          <p:nvSpPr>
            <p:cNvPr id="782" name=""/>
            <p:cNvSpPr/>
            <p:nvPr/>
          </p:nvSpPr>
          <p:spPr>
            <a:xfrm>
              <a:off x="578160" y="2306520"/>
              <a:ext cx="222840" cy="222480"/>
            </a:xfrm>
            <a:prstGeom prst="ellipse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577800" y="2417400"/>
              <a:ext cx="223920" cy="3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4" name=""/>
          <p:cNvGrpSpPr/>
          <p:nvPr/>
        </p:nvGrpSpPr>
        <p:grpSpPr>
          <a:xfrm>
            <a:off x="938160" y="2306520"/>
            <a:ext cx="223920" cy="222480"/>
            <a:chOff x="938160" y="2306520"/>
            <a:chExt cx="223920" cy="222480"/>
          </a:xfrm>
        </p:grpSpPr>
        <p:sp>
          <p:nvSpPr>
            <p:cNvPr id="785" name=""/>
            <p:cNvSpPr/>
            <p:nvPr/>
          </p:nvSpPr>
          <p:spPr>
            <a:xfrm>
              <a:off x="938520" y="2306520"/>
              <a:ext cx="222840" cy="222480"/>
            </a:xfrm>
            <a:prstGeom prst="ellipse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938160" y="2417400"/>
              <a:ext cx="223920" cy="3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7" name=""/>
          <p:cNvGrpSpPr/>
          <p:nvPr/>
        </p:nvGrpSpPr>
        <p:grpSpPr>
          <a:xfrm>
            <a:off x="1300320" y="2306520"/>
            <a:ext cx="222120" cy="222480"/>
            <a:chOff x="1300320" y="2306520"/>
            <a:chExt cx="222120" cy="222480"/>
          </a:xfrm>
        </p:grpSpPr>
        <p:sp>
          <p:nvSpPr>
            <p:cNvPr id="788" name=""/>
            <p:cNvSpPr/>
            <p:nvPr/>
          </p:nvSpPr>
          <p:spPr>
            <a:xfrm>
              <a:off x="1300680" y="2306520"/>
              <a:ext cx="221040" cy="222480"/>
            </a:xfrm>
            <a:prstGeom prst="ellipse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1300320" y="2417400"/>
              <a:ext cx="222120" cy="3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0" name=""/>
          <p:cNvGrpSpPr/>
          <p:nvPr/>
        </p:nvGrpSpPr>
        <p:grpSpPr>
          <a:xfrm>
            <a:off x="1660680" y="2306520"/>
            <a:ext cx="223560" cy="222480"/>
            <a:chOff x="1660680" y="2306520"/>
            <a:chExt cx="223560" cy="222480"/>
          </a:xfrm>
        </p:grpSpPr>
        <p:sp>
          <p:nvSpPr>
            <p:cNvPr id="791" name=""/>
            <p:cNvSpPr/>
            <p:nvPr/>
          </p:nvSpPr>
          <p:spPr>
            <a:xfrm>
              <a:off x="1661040" y="2306520"/>
              <a:ext cx="222480" cy="222480"/>
            </a:xfrm>
            <a:prstGeom prst="ellipse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1660680" y="2417400"/>
              <a:ext cx="223560" cy="3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3" name=""/>
          <p:cNvGrpSpPr/>
          <p:nvPr/>
        </p:nvGrpSpPr>
        <p:grpSpPr>
          <a:xfrm>
            <a:off x="577800" y="2847960"/>
            <a:ext cx="223920" cy="220680"/>
            <a:chOff x="577800" y="2847960"/>
            <a:chExt cx="223920" cy="220680"/>
          </a:xfrm>
        </p:grpSpPr>
        <p:sp>
          <p:nvSpPr>
            <p:cNvPr id="794" name=""/>
            <p:cNvSpPr/>
            <p:nvPr/>
          </p:nvSpPr>
          <p:spPr>
            <a:xfrm>
              <a:off x="578160" y="2847960"/>
              <a:ext cx="222840" cy="220680"/>
            </a:xfrm>
            <a:prstGeom prst="ellipse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77800" y="2958120"/>
              <a:ext cx="223920" cy="3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6" name=""/>
          <p:cNvGrpSpPr/>
          <p:nvPr/>
        </p:nvGrpSpPr>
        <p:grpSpPr>
          <a:xfrm>
            <a:off x="938160" y="2847960"/>
            <a:ext cx="223920" cy="220680"/>
            <a:chOff x="938160" y="2847960"/>
            <a:chExt cx="223920" cy="220680"/>
          </a:xfrm>
        </p:grpSpPr>
        <p:sp>
          <p:nvSpPr>
            <p:cNvPr id="797" name=""/>
            <p:cNvSpPr/>
            <p:nvPr/>
          </p:nvSpPr>
          <p:spPr>
            <a:xfrm>
              <a:off x="938520" y="2847960"/>
              <a:ext cx="222840" cy="220680"/>
            </a:xfrm>
            <a:prstGeom prst="ellipse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938160" y="2958120"/>
              <a:ext cx="223920" cy="3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9" name=""/>
          <p:cNvGrpSpPr/>
          <p:nvPr/>
        </p:nvGrpSpPr>
        <p:grpSpPr>
          <a:xfrm>
            <a:off x="1300320" y="2847960"/>
            <a:ext cx="222120" cy="220680"/>
            <a:chOff x="1300320" y="2847960"/>
            <a:chExt cx="222120" cy="220680"/>
          </a:xfrm>
        </p:grpSpPr>
        <p:sp>
          <p:nvSpPr>
            <p:cNvPr id="800" name=""/>
            <p:cNvSpPr/>
            <p:nvPr/>
          </p:nvSpPr>
          <p:spPr>
            <a:xfrm>
              <a:off x="1300680" y="2847960"/>
              <a:ext cx="221040" cy="220680"/>
            </a:xfrm>
            <a:prstGeom prst="ellipse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1300320" y="2958120"/>
              <a:ext cx="222120" cy="3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2" name=""/>
          <p:cNvGrpSpPr/>
          <p:nvPr/>
        </p:nvGrpSpPr>
        <p:grpSpPr>
          <a:xfrm>
            <a:off x="1660680" y="2847960"/>
            <a:ext cx="223560" cy="220680"/>
            <a:chOff x="1660680" y="2847960"/>
            <a:chExt cx="223560" cy="220680"/>
          </a:xfrm>
        </p:grpSpPr>
        <p:sp>
          <p:nvSpPr>
            <p:cNvPr id="803" name=""/>
            <p:cNvSpPr/>
            <p:nvPr/>
          </p:nvSpPr>
          <p:spPr>
            <a:xfrm>
              <a:off x="1661040" y="2847960"/>
              <a:ext cx="222480" cy="220680"/>
            </a:xfrm>
            <a:prstGeom prst="ellipse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660680" y="2958120"/>
              <a:ext cx="223560" cy="3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5" name=""/>
          <p:cNvSpPr/>
          <p:nvPr/>
        </p:nvSpPr>
        <p:spPr>
          <a:xfrm>
            <a:off x="843120" y="1687680"/>
            <a:ext cx="58680" cy="6012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1222200" y="1687680"/>
            <a:ext cx="59040" cy="6012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1211400" y="2097000"/>
            <a:ext cx="58680" cy="6048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577800" y="2666880"/>
            <a:ext cx="58680" cy="5868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1917720" y="2200320"/>
            <a:ext cx="58680" cy="5868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1527120" y="3076560"/>
            <a:ext cx="58680" cy="5868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1643040" y="2759040"/>
            <a:ext cx="58680" cy="5868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824040" y="3068640"/>
            <a:ext cx="60120" cy="6048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3" name=""/>
          <p:cNvGrpSpPr/>
          <p:nvPr/>
        </p:nvGrpSpPr>
        <p:grpSpPr>
          <a:xfrm>
            <a:off x="3932280" y="1765440"/>
            <a:ext cx="223920" cy="223560"/>
            <a:chOff x="3932280" y="1765440"/>
            <a:chExt cx="223920" cy="223560"/>
          </a:xfrm>
        </p:grpSpPr>
        <p:sp>
          <p:nvSpPr>
            <p:cNvPr id="814" name=""/>
            <p:cNvSpPr/>
            <p:nvPr/>
          </p:nvSpPr>
          <p:spPr>
            <a:xfrm>
              <a:off x="3932640" y="1766520"/>
              <a:ext cx="222840" cy="221760"/>
            </a:xfrm>
            <a:prstGeom prst="ellipse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3932280" y="1877040"/>
              <a:ext cx="223920" cy="3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044240" y="1765440"/>
              <a:ext cx="360" cy="2235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7" name=""/>
          <p:cNvGrpSpPr/>
          <p:nvPr/>
        </p:nvGrpSpPr>
        <p:grpSpPr>
          <a:xfrm>
            <a:off x="4292640" y="1765440"/>
            <a:ext cx="223920" cy="223560"/>
            <a:chOff x="4292640" y="1765440"/>
            <a:chExt cx="223920" cy="223560"/>
          </a:xfrm>
        </p:grpSpPr>
        <p:sp>
          <p:nvSpPr>
            <p:cNvPr id="818" name=""/>
            <p:cNvSpPr/>
            <p:nvPr/>
          </p:nvSpPr>
          <p:spPr>
            <a:xfrm>
              <a:off x="4293000" y="1766520"/>
              <a:ext cx="222840" cy="221760"/>
            </a:xfrm>
            <a:prstGeom prst="ellipse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292640" y="1877040"/>
              <a:ext cx="223920" cy="3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404600" y="1765440"/>
              <a:ext cx="360" cy="2235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1" name=""/>
          <p:cNvGrpSpPr/>
          <p:nvPr/>
        </p:nvGrpSpPr>
        <p:grpSpPr>
          <a:xfrm>
            <a:off x="4653000" y="1765440"/>
            <a:ext cx="223920" cy="223560"/>
            <a:chOff x="4653000" y="1765440"/>
            <a:chExt cx="223920" cy="223560"/>
          </a:xfrm>
        </p:grpSpPr>
        <p:sp>
          <p:nvSpPr>
            <p:cNvPr id="822" name=""/>
            <p:cNvSpPr/>
            <p:nvPr/>
          </p:nvSpPr>
          <p:spPr>
            <a:xfrm>
              <a:off x="4653360" y="1766520"/>
              <a:ext cx="222840" cy="221760"/>
            </a:xfrm>
            <a:prstGeom prst="ellipse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653000" y="1877040"/>
              <a:ext cx="223920" cy="3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4764960" y="1765440"/>
              <a:ext cx="360" cy="2235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5" name=""/>
          <p:cNvGrpSpPr/>
          <p:nvPr/>
        </p:nvGrpSpPr>
        <p:grpSpPr>
          <a:xfrm>
            <a:off x="5014800" y="1765440"/>
            <a:ext cx="222480" cy="223560"/>
            <a:chOff x="5014800" y="1765440"/>
            <a:chExt cx="222480" cy="223560"/>
          </a:xfrm>
        </p:grpSpPr>
        <p:sp>
          <p:nvSpPr>
            <p:cNvPr id="826" name=""/>
            <p:cNvSpPr/>
            <p:nvPr/>
          </p:nvSpPr>
          <p:spPr>
            <a:xfrm>
              <a:off x="5015160" y="1766520"/>
              <a:ext cx="221400" cy="221760"/>
            </a:xfrm>
            <a:prstGeom prst="ellipse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014800" y="1877040"/>
              <a:ext cx="222480" cy="3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26040" y="1765440"/>
              <a:ext cx="360" cy="2235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9" name=""/>
          <p:cNvGrpSpPr/>
          <p:nvPr/>
        </p:nvGrpSpPr>
        <p:grpSpPr>
          <a:xfrm>
            <a:off x="3932280" y="2308320"/>
            <a:ext cx="223920" cy="223920"/>
            <a:chOff x="3932280" y="2308320"/>
            <a:chExt cx="223920" cy="223920"/>
          </a:xfrm>
        </p:grpSpPr>
        <p:sp>
          <p:nvSpPr>
            <p:cNvPr id="830" name=""/>
            <p:cNvSpPr/>
            <p:nvPr/>
          </p:nvSpPr>
          <p:spPr>
            <a:xfrm>
              <a:off x="3932640" y="2309400"/>
              <a:ext cx="222840" cy="222120"/>
            </a:xfrm>
            <a:prstGeom prst="ellipse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3932280" y="2420280"/>
              <a:ext cx="223920" cy="3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4044240" y="2308320"/>
              <a:ext cx="360" cy="22392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3" name=""/>
          <p:cNvGrpSpPr/>
          <p:nvPr/>
        </p:nvGrpSpPr>
        <p:grpSpPr>
          <a:xfrm>
            <a:off x="4292640" y="2308320"/>
            <a:ext cx="223920" cy="223920"/>
            <a:chOff x="4292640" y="2308320"/>
            <a:chExt cx="223920" cy="223920"/>
          </a:xfrm>
        </p:grpSpPr>
        <p:sp>
          <p:nvSpPr>
            <p:cNvPr id="834" name=""/>
            <p:cNvSpPr/>
            <p:nvPr/>
          </p:nvSpPr>
          <p:spPr>
            <a:xfrm>
              <a:off x="4293000" y="2309400"/>
              <a:ext cx="222840" cy="222120"/>
            </a:xfrm>
            <a:prstGeom prst="ellipse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4292640" y="2420280"/>
              <a:ext cx="223920" cy="3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4404600" y="2308320"/>
              <a:ext cx="360" cy="22392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7" name=""/>
          <p:cNvGrpSpPr/>
          <p:nvPr/>
        </p:nvGrpSpPr>
        <p:grpSpPr>
          <a:xfrm>
            <a:off x="4653000" y="2308320"/>
            <a:ext cx="223920" cy="223920"/>
            <a:chOff x="4653000" y="2308320"/>
            <a:chExt cx="223920" cy="223920"/>
          </a:xfrm>
        </p:grpSpPr>
        <p:sp>
          <p:nvSpPr>
            <p:cNvPr id="838" name=""/>
            <p:cNvSpPr/>
            <p:nvPr/>
          </p:nvSpPr>
          <p:spPr>
            <a:xfrm>
              <a:off x="4653360" y="2309400"/>
              <a:ext cx="222840" cy="222120"/>
            </a:xfrm>
            <a:prstGeom prst="ellipse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4653000" y="2420280"/>
              <a:ext cx="223920" cy="3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4764960" y="2308320"/>
              <a:ext cx="360" cy="22392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1" name=""/>
          <p:cNvGrpSpPr/>
          <p:nvPr/>
        </p:nvGrpSpPr>
        <p:grpSpPr>
          <a:xfrm>
            <a:off x="5014800" y="2308320"/>
            <a:ext cx="222480" cy="223920"/>
            <a:chOff x="5014800" y="2308320"/>
            <a:chExt cx="222480" cy="223920"/>
          </a:xfrm>
        </p:grpSpPr>
        <p:sp>
          <p:nvSpPr>
            <p:cNvPr id="842" name=""/>
            <p:cNvSpPr/>
            <p:nvPr/>
          </p:nvSpPr>
          <p:spPr>
            <a:xfrm>
              <a:off x="5015160" y="2309400"/>
              <a:ext cx="221400" cy="222120"/>
            </a:xfrm>
            <a:prstGeom prst="ellipse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014800" y="2420280"/>
              <a:ext cx="222480" cy="3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126040" y="2308320"/>
              <a:ext cx="360" cy="22392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5" name=""/>
          <p:cNvGrpSpPr/>
          <p:nvPr/>
        </p:nvGrpSpPr>
        <p:grpSpPr>
          <a:xfrm>
            <a:off x="3932280" y="2849400"/>
            <a:ext cx="223920" cy="222480"/>
            <a:chOff x="3932280" y="2849400"/>
            <a:chExt cx="223920" cy="222480"/>
          </a:xfrm>
        </p:grpSpPr>
        <p:sp>
          <p:nvSpPr>
            <p:cNvPr id="846" name=""/>
            <p:cNvSpPr/>
            <p:nvPr/>
          </p:nvSpPr>
          <p:spPr>
            <a:xfrm>
              <a:off x="3932640" y="2850480"/>
              <a:ext cx="222840" cy="220680"/>
            </a:xfrm>
            <a:prstGeom prst="ellipse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3932280" y="2960640"/>
              <a:ext cx="223920" cy="3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4044240" y="2849400"/>
              <a:ext cx="360" cy="22248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9" name=""/>
          <p:cNvGrpSpPr/>
          <p:nvPr/>
        </p:nvGrpSpPr>
        <p:grpSpPr>
          <a:xfrm>
            <a:off x="4292640" y="2849400"/>
            <a:ext cx="223920" cy="222480"/>
            <a:chOff x="4292640" y="2849400"/>
            <a:chExt cx="223920" cy="222480"/>
          </a:xfrm>
        </p:grpSpPr>
        <p:sp>
          <p:nvSpPr>
            <p:cNvPr id="850" name=""/>
            <p:cNvSpPr/>
            <p:nvPr/>
          </p:nvSpPr>
          <p:spPr>
            <a:xfrm>
              <a:off x="4293000" y="2850480"/>
              <a:ext cx="222840" cy="220680"/>
            </a:xfrm>
            <a:prstGeom prst="ellipse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4292640" y="2960640"/>
              <a:ext cx="223920" cy="3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4404600" y="2849400"/>
              <a:ext cx="360" cy="22248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3" name=""/>
          <p:cNvGrpSpPr/>
          <p:nvPr/>
        </p:nvGrpSpPr>
        <p:grpSpPr>
          <a:xfrm>
            <a:off x="4653000" y="2849400"/>
            <a:ext cx="223920" cy="222480"/>
            <a:chOff x="4653000" y="2849400"/>
            <a:chExt cx="223920" cy="222480"/>
          </a:xfrm>
        </p:grpSpPr>
        <p:sp>
          <p:nvSpPr>
            <p:cNvPr id="854" name=""/>
            <p:cNvSpPr/>
            <p:nvPr/>
          </p:nvSpPr>
          <p:spPr>
            <a:xfrm>
              <a:off x="4653360" y="2850480"/>
              <a:ext cx="222840" cy="220680"/>
            </a:xfrm>
            <a:prstGeom prst="ellipse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4653000" y="2960640"/>
              <a:ext cx="223920" cy="3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764960" y="2849400"/>
              <a:ext cx="360" cy="22248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7" name=""/>
          <p:cNvGrpSpPr/>
          <p:nvPr/>
        </p:nvGrpSpPr>
        <p:grpSpPr>
          <a:xfrm>
            <a:off x="5014800" y="2849400"/>
            <a:ext cx="222480" cy="222480"/>
            <a:chOff x="5014800" y="2849400"/>
            <a:chExt cx="222480" cy="222480"/>
          </a:xfrm>
        </p:grpSpPr>
        <p:sp>
          <p:nvSpPr>
            <p:cNvPr id="858" name=""/>
            <p:cNvSpPr/>
            <p:nvPr/>
          </p:nvSpPr>
          <p:spPr>
            <a:xfrm>
              <a:off x="5015160" y="2850480"/>
              <a:ext cx="221400" cy="220680"/>
            </a:xfrm>
            <a:prstGeom prst="ellipse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5014800" y="2960640"/>
              <a:ext cx="222480" cy="3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126040" y="2849400"/>
              <a:ext cx="360" cy="22248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1" name=""/>
          <p:cNvSpPr/>
          <p:nvPr/>
        </p:nvSpPr>
        <p:spPr>
          <a:xfrm>
            <a:off x="4152960" y="3086280"/>
            <a:ext cx="58680" cy="586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4933800" y="2676600"/>
            <a:ext cx="59040" cy="586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4245120" y="2571840"/>
            <a:ext cx="58680" cy="586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4638600" y="2666880"/>
            <a:ext cx="58680" cy="586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5305320" y="1866960"/>
            <a:ext cx="58680" cy="586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5318280" y="3057480"/>
            <a:ext cx="58680" cy="586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5340240" y="2629080"/>
            <a:ext cx="58680" cy="586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4016520" y="2092320"/>
            <a:ext cx="58680" cy="586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4886280" y="1724040"/>
            <a:ext cx="58680" cy="586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4216320" y="1771560"/>
            <a:ext cx="58680" cy="586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4309920" y="2151000"/>
            <a:ext cx="59040" cy="6048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5141880" y="2730600"/>
            <a:ext cx="58680" cy="5868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942840" y="2116080"/>
            <a:ext cx="59040" cy="586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1916280" y="2709720"/>
            <a:ext cx="58680" cy="60480"/>
          </a:xfrm>
          <a:prstGeom prst="ellipse">
            <a:avLst/>
          </a:prstGeom>
          <a:solidFill>
            <a:srgbClr val="008000"/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>
            <a:off x="1386000" y="2665440"/>
            <a:ext cx="58680" cy="6012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917640" y="2692440"/>
            <a:ext cx="58680" cy="58680"/>
          </a:xfrm>
          <a:prstGeom prst="ellipse">
            <a:avLst/>
          </a:prstGeom>
          <a:noFill/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4834080" y="2160720"/>
            <a:ext cx="58680" cy="58680"/>
          </a:xfrm>
          <a:prstGeom prst="ellipse">
            <a:avLst/>
          </a:prstGeom>
          <a:noFill/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4056120" y="2643120"/>
            <a:ext cx="58680" cy="58680"/>
          </a:xfrm>
          <a:prstGeom prst="ellipse">
            <a:avLst/>
          </a:prstGeom>
          <a:solidFill>
            <a:srgbClr val="008000"/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1592280" y="2122560"/>
            <a:ext cx="60480" cy="5868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2243160" y="1349280"/>
            <a:ext cx="404640" cy="1270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1" name=""/>
          <p:cNvGrpSpPr/>
          <p:nvPr/>
        </p:nvGrpSpPr>
        <p:grpSpPr>
          <a:xfrm>
            <a:off x="2814480" y="3600360"/>
            <a:ext cx="73080" cy="398520"/>
            <a:chOff x="2814480" y="3600360"/>
            <a:chExt cx="73080" cy="398520"/>
          </a:xfrm>
        </p:grpSpPr>
        <p:sp>
          <p:nvSpPr>
            <p:cNvPr id="882" name=""/>
            <p:cNvSpPr/>
            <p:nvPr/>
          </p:nvSpPr>
          <p:spPr>
            <a:xfrm>
              <a:off x="2887200" y="3600360"/>
              <a:ext cx="360" cy="398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2814480" y="3672720"/>
              <a:ext cx="360" cy="253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4" name=""/>
          <p:cNvGrpSpPr/>
          <p:nvPr/>
        </p:nvGrpSpPr>
        <p:grpSpPr>
          <a:xfrm>
            <a:off x="216000" y="2417760"/>
            <a:ext cx="5394240" cy="1384200"/>
            <a:chOff x="216000" y="2417760"/>
            <a:chExt cx="5394240" cy="1384200"/>
          </a:xfrm>
        </p:grpSpPr>
        <p:sp>
          <p:nvSpPr>
            <p:cNvPr id="885" name=""/>
            <p:cNvSpPr/>
            <p:nvPr/>
          </p:nvSpPr>
          <p:spPr>
            <a:xfrm>
              <a:off x="2894760" y="2417760"/>
              <a:ext cx="2715480" cy="137592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8779" y="0"/>
                  </a:moveTo>
                  <a:lnTo>
                    <a:pt x="19995" y="0"/>
                  </a:lnTo>
                  <a:lnTo>
                    <a:pt x="19995" y="19990"/>
                  </a:lnTo>
                  <a:lnTo>
                    <a:pt x="0" y="1999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216000" y="2426040"/>
              <a:ext cx="2606760" cy="137592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218" y="0"/>
                  </a:moveTo>
                  <a:lnTo>
                    <a:pt x="0" y="0"/>
                  </a:lnTo>
                  <a:lnTo>
                    <a:pt x="0" y="19990"/>
                  </a:lnTo>
                  <a:lnTo>
                    <a:pt x="19995" y="1999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7" name=""/>
          <p:cNvSpPr/>
          <p:nvPr/>
        </p:nvSpPr>
        <p:spPr>
          <a:xfrm>
            <a:off x="2930400" y="3475080"/>
            <a:ext cx="36360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 flipH="1">
            <a:off x="4125960" y="3803760"/>
            <a:ext cx="326880" cy="14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4197240" y="3352680"/>
            <a:ext cx="120348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&lt;&lt;&lt;&l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 flipH="1">
            <a:off x="1445760" y="2697120"/>
            <a:ext cx="290520" cy="0"/>
          </a:xfrm>
          <a:prstGeom prst="line">
            <a:avLst/>
          </a:prstGeom>
          <a:ln w="12600">
            <a:solidFill>
              <a:srgbClr val="0000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1649520" y="2076480"/>
            <a:ext cx="288720" cy="1440"/>
          </a:xfrm>
          <a:prstGeom prst="line">
            <a:avLst/>
          </a:prstGeom>
          <a:ln w="1260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 flipH="1">
            <a:off x="4303440" y="2597040"/>
            <a:ext cx="290520" cy="1800"/>
          </a:xfrm>
          <a:prstGeom prst="line">
            <a:avLst/>
          </a:prstGeom>
          <a:ln w="12600">
            <a:solidFill>
              <a:srgbClr val="0000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4016520" y="2174760"/>
            <a:ext cx="290520" cy="0"/>
          </a:xfrm>
          <a:prstGeom prst="line">
            <a:avLst/>
          </a:prstGeom>
          <a:ln w="1260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1844640" y="3105000"/>
            <a:ext cx="58680" cy="5904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5175360" y="2128680"/>
            <a:ext cx="58680" cy="5904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469800" y="1730520"/>
            <a:ext cx="58680" cy="5868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1120680" y="2635200"/>
            <a:ext cx="58680" cy="5868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1592280" y="1693800"/>
            <a:ext cx="58680" cy="586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433440" y="2816280"/>
            <a:ext cx="58680" cy="586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5319720" y="2309760"/>
            <a:ext cx="58680" cy="586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4522680" y="2092320"/>
            <a:ext cx="60480" cy="586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2025720" y="1585800"/>
            <a:ext cx="1811160" cy="162252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99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1944720" y="2039760"/>
            <a:ext cx="60120" cy="6048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1954080" y="2598840"/>
            <a:ext cx="59040" cy="5868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3871800" y="1693800"/>
            <a:ext cx="58680" cy="586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3835440" y="2743200"/>
            <a:ext cx="58680" cy="586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2025720" y="2236680"/>
            <a:ext cx="181116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8" name=""/>
          <p:cNvGrpSpPr/>
          <p:nvPr/>
        </p:nvGrpSpPr>
        <p:grpSpPr>
          <a:xfrm>
            <a:off x="2021040" y="1765440"/>
            <a:ext cx="222120" cy="222120"/>
            <a:chOff x="2021040" y="1765440"/>
            <a:chExt cx="222120" cy="222120"/>
          </a:xfrm>
        </p:grpSpPr>
        <p:sp>
          <p:nvSpPr>
            <p:cNvPr id="909" name=""/>
            <p:cNvSpPr/>
            <p:nvPr/>
          </p:nvSpPr>
          <p:spPr>
            <a:xfrm>
              <a:off x="2021400" y="1765440"/>
              <a:ext cx="221040" cy="222120"/>
            </a:xfrm>
            <a:prstGeom prst="ellipse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2021040" y="1876320"/>
              <a:ext cx="222120" cy="3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1" name=""/>
          <p:cNvGrpSpPr/>
          <p:nvPr/>
        </p:nvGrpSpPr>
        <p:grpSpPr>
          <a:xfrm>
            <a:off x="2021040" y="2306520"/>
            <a:ext cx="223560" cy="222480"/>
            <a:chOff x="2021040" y="2306520"/>
            <a:chExt cx="223560" cy="222480"/>
          </a:xfrm>
        </p:grpSpPr>
        <p:sp>
          <p:nvSpPr>
            <p:cNvPr id="912" name=""/>
            <p:cNvSpPr/>
            <p:nvPr/>
          </p:nvSpPr>
          <p:spPr>
            <a:xfrm>
              <a:off x="2021400" y="2306520"/>
              <a:ext cx="222480" cy="222480"/>
            </a:xfrm>
            <a:prstGeom prst="ellipse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2021040" y="2417400"/>
              <a:ext cx="223560" cy="3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4" name=""/>
          <p:cNvGrpSpPr/>
          <p:nvPr/>
        </p:nvGrpSpPr>
        <p:grpSpPr>
          <a:xfrm>
            <a:off x="2021040" y="2847960"/>
            <a:ext cx="223560" cy="220680"/>
            <a:chOff x="2021040" y="2847960"/>
            <a:chExt cx="223560" cy="220680"/>
          </a:xfrm>
        </p:grpSpPr>
        <p:sp>
          <p:nvSpPr>
            <p:cNvPr id="915" name=""/>
            <p:cNvSpPr/>
            <p:nvPr/>
          </p:nvSpPr>
          <p:spPr>
            <a:xfrm>
              <a:off x="2021400" y="2847960"/>
              <a:ext cx="222480" cy="220680"/>
            </a:xfrm>
            <a:prstGeom prst="ellipse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2021040" y="2958120"/>
              <a:ext cx="223560" cy="3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7" name=""/>
          <p:cNvGrpSpPr/>
          <p:nvPr/>
        </p:nvGrpSpPr>
        <p:grpSpPr>
          <a:xfrm>
            <a:off x="3211560" y="1763640"/>
            <a:ext cx="222120" cy="223920"/>
            <a:chOff x="3211560" y="1763640"/>
            <a:chExt cx="222120" cy="223920"/>
          </a:xfrm>
        </p:grpSpPr>
        <p:sp>
          <p:nvSpPr>
            <p:cNvPr id="918" name=""/>
            <p:cNvSpPr/>
            <p:nvPr/>
          </p:nvSpPr>
          <p:spPr>
            <a:xfrm>
              <a:off x="3211920" y="1764720"/>
              <a:ext cx="221040" cy="222120"/>
            </a:xfrm>
            <a:prstGeom prst="ellipse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3211560" y="1875600"/>
              <a:ext cx="222120" cy="3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3322440" y="1763640"/>
              <a:ext cx="360" cy="22392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1" name=""/>
          <p:cNvGrpSpPr/>
          <p:nvPr/>
        </p:nvGrpSpPr>
        <p:grpSpPr>
          <a:xfrm>
            <a:off x="3571920" y="1765440"/>
            <a:ext cx="223920" cy="223560"/>
            <a:chOff x="3571920" y="1765440"/>
            <a:chExt cx="223920" cy="223560"/>
          </a:xfrm>
        </p:grpSpPr>
        <p:sp>
          <p:nvSpPr>
            <p:cNvPr id="922" name=""/>
            <p:cNvSpPr/>
            <p:nvPr/>
          </p:nvSpPr>
          <p:spPr>
            <a:xfrm>
              <a:off x="3572280" y="1766520"/>
              <a:ext cx="222840" cy="221760"/>
            </a:xfrm>
            <a:prstGeom prst="ellipse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3571920" y="1877040"/>
              <a:ext cx="223920" cy="3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3683880" y="1765440"/>
              <a:ext cx="360" cy="2235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5" name=""/>
          <p:cNvGrpSpPr/>
          <p:nvPr/>
        </p:nvGrpSpPr>
        <p:grpSpPr>
          <a:xfrm>
            <a:off x="3211560" y="2306520"/>
            <a:ext cx="222120" cy="223920"/>
            <a:chOff x="3211560" y="2306520"/>
            <a:chExt cx="222120" cy="223920"/>
          </a:xfrm>
        </p:grpSpPr>
        <p:sp>
          <p:nvSpPr>
            <p:cNvPr id="926" name=""/>
            <p:cNvSpPr/>
            <p:nvPr/>
          </p:nvSpPr>
          <p:spPr>
            <a:xfrm>
              <a:off x="3211920" y="2307600"/>
              <a:ext cx="221040" cy="222120"/>
            </a:xfrm>
            <a:prstGeom prst="ellipse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3211560" y="2418480"/>
              <a:ext cx="222120" cy="3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3322440" y="2306520"/>
              <a:ext cx="360" cy="22392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9" name=""/>
          <p:cNvGrpSpPr/>
          <p:nvPr/>
        </p:nvGrpSpPr>
        <p:grpSpPr>
          <a:xfrm>
            <a:off x="3571920" y="2308320"/>
            <a:ext cx="223920" cy="223920"/>
            <a:chOff x="3571920" y="2308320"/>
            <a:chExt cx="223920" cy="223920"/>
          </a:xfrm>
        </p:grpSpPr>
        <p:sp>
          <p:nvSpPr>
            <p:cNvPr id="930" name=""/>
            <p:cNvSpPr/>
            <p:nvPr/>
          </p:nvSpPr>
          <p:spPr>
            <a:xfrm>
              <a:off x="3572280" y="2309400"/>
              <a:ext cx="222840" cy="222120"/>
            </a:xfrm>
            <a:prstGeom prst="ellipse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3571920" y="2420280"/>
              <a:ext cx="223920" cy="3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3683880" y="2308320"/>
              <a:ext cx="360" cy="22392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3" name=""/>
          <p:cNvGrpSpPr/>
          <p:nvPr/>
        </p:nvGrpSpPr>
        <p:grpSpPr>
          <a:xfrm>
            <a:off x="3211560" y="2847960"/>
            <a:ext cx="222120" cy="223920"/>
            <a:chOff x="3211560" y="2847960"/>
            <a:chExt cx="222120" cy="223920"/>
          </a:xfrm>
        </p:grpSpPr>
        <p:sp>
          <p:nvSpPr>
            <p:cNvPr id="934" name=""/>
            <p:cNvSpPr/>
            <p:nvPr/>
          </p:nvSpPr>
          <p:spPr>
            <a:xfrm>
              <a:off x="3211920" y="2849040"/>
              <a:ext cx="221040" cy="222120"/>
            </a:xfrm>
            <a:prstGeom prst="ellipse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3211560" y="2959920"/>
              <a:ext cx="222120" cy="3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3322440" y="2847960"/>
              <a:ext cx="360" cy="22392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7" name=""/>
          <p:cNvGrpSpPr/>
          <p:nvPr/>
        </p:nvGrpSpPr>
        <p:grpSpPr>
          <a:xfrm>
            <a:off x="3571920" y="2849400"/>
            <a:ext cx="223920" cy="222480"/>
            <a:chOff x="3571920" y="2849400"/>
            <a:chExt cx="223920" cy="222480"/>
          </a:xfrm>
        </p:grpSpPr>
        <p:sp>
          <p:nvSpPr>
            <p:cNvPr id="938" name=""/>
            <p:cNvSpPr/>
            <p:nvPr/>
          </p:nvSpPr>
          <p:spPr>
            <a:xfrm>
              <a:off x="3572280" y="2850480"/>
              <a:ext cx="222840" cy="220680"/>
            </a:xfrm>
            <a:prstGeom prst="ellipse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3571920" y="2960640"/>
              <a:ext cx="223920" cy="3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3683880" y="2849400"/>
              <a:ext cx="360" cy="22248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1" name=""/>
          <p:cNvSpPr/>
          <p:nvPr/>
        </p:nvSpPr>
        <p:spPr>
          <a:xfrm>
            <a:off x="2711880" y="1600200"/>
            <a:ext cx="41688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MT Extra"/>
                <a:ea typeface="MT Extra"/>
              </a:rPr>
              <a:t>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2" name=""/>
          <p:cNvGrpSpPr/>
          <p:nvPr/>
        </p:nvGrpSpPr>
        <p:grpSpPr>
          <a:xfrm>
            <a:off x="2381400" y="1765440"/>
            <a:ext cx="223560" cy="222120"/>
            <a:chOff x="2381400" y="1765440"/>
            <a:chExt cx="223560" cy="222120"/>
          </a:xfrm>
        </p:grpSpPr>
        <p:sp>
          <p:nvSpPr>
            <p:cNvPr id="943" name=""/>
            <p:cNvSpPr/>
            <p:nvPr/>
          </p:nvSpPr>
          <p:spPr>
            <a:xfrm>
              <a:off x="2381760" y="1765440"/>
              <a:ext cx="222480" cy="222120"/>
            </a:xfrm>
            <a:prstGeom prst="ellipse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2381400" y="1876320"/>
              <a:ext cx="223560" cy="3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5" name=""/>
          <p:cNvGrpSpPr/>
          <p:nvPr/>
        </p:nvGrpSpPr>
        <p:grpSpPr>
          <a:xfrm>
            <a:off x="2381400" y="2306520"/>
            <a:ext cx="223560" cy="222480"/>
            <a:chOff x="2381400" y="2306520"/>
            <a:chExt cx="223560" cy="222480"/>
          </a:xfrm>
        </p:grpSpPr>
        <p:sp>
          <p:nvSpPr>
            <p:cNvPr id="946" name=""/>
            <p:cNvSpPr/>
            <p:nvPr/>
          </p:nvSpPr>
          <p:spPr>
            <a:xfrm>
              <a:off x="2381760" y="2306520"/>
              <a:ext cx="222480" cy="222480"/>
            </a:xfrm>
            <a:prstGeom prst="ellipse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2381400" y="2417400"/>
              <a:ext cx="223560" cy="3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8" name=""/>
          <p:cNvGrpSpPr/>
          <p:nvPr/>
        </p:nvGrpSpPr>
        <p:grpSpPr>
          <a:xfrm>
            <a:off x="2381400" y="2847960"/>
            <a:ext cx="223560" cy="220680"/>
            <a:chOff x="2381400" y="2847960"/>
            <a:chExt cx="223560" cy="220680"/>
          </a:xfrm>
        </p:grpSpPr>
        <p:sp>
          <p:nvSpPr>
            <p:cNvPr id="949" name=""/>
            <p:cNvSpPr/>
            <p:nvPr/>
          </p:nvSpPr>
          <p:spPr>
            <a:xfrm>
              <a:off x="2381760" y="2847960"/>
              <a:ext cx="222480" cy="220680"/>
            </a:xfrm>
            <a:prstGeom prst="ellipse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2381400" y="2958120"/>
              <a:ext cx="223560" cy="3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1" name=""/>
          <p:cNvSpPr/>
          <p:nvPr/>
        </p:nvSpPr>
        <p:spPr>
          <a:xfrm>
            <a:off x="3182760" y="1197000"/>
            <a:ext cx="403560" cy="403200"/>
          </a:xfrm>
          <a:prstGeom prst="plus">
            <a:avLst>
              <a:gd name="adj" fmla="val 35435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>
            <a:off x="139680" y="4110120"/>
            <a:ext cx="8928000" cy="23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I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rea un campo eléctrico en el mismo sentido que el de la unión, aumenta el E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total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, aumenta la diferencia de potencial: V´=V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+V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, y disminuye la corriente de mayoritarios. Favorece el desplazamiento de huecos hacia la zona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y de e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hacia la zona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, ensanchándose la zona de transición. Pero estos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s-ES_tradnl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s-ES_tradnl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provienen de zonas donde son minoritarios. El resultado es que fluye una pequeña corriente I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, debida únicamente a los pares e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que se generan por agitación térmica llamada </a:t>
            </a: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CORRIENTE INVERSA DE SATURACIÓN</a:t>
            </a:r>
            <a:r>
              <a:rPr b="0" lang="es-ES_tradnl" sz="18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lang="es-ES_tradnl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3" name=""/>
          <p:cNvGrpSpPr/>
          <p:nvPr/>
        </p:nvGrpSpPr>
        <p:grpSpPr>
          <a:xfrm>
            <a:off x="5943600" y="2590920"/>
            <a:ext cx="3110040" cy="1185840"/>
            <a:chOff x="5943600" y="2590920"/>
            <a:chExt cx="3110040" cy="1185840"/>
          </a:xfrm>
        </p:grpSpPr>
        <p:sp>
          <p:nvSpPr>
            <p:cNvPr id="954" name=""/>
            <p:cNvSpPr/>
            <p:nvPr/>
          </p:nvSpPr>
          <p:spPr>
            <a:xfrm>
              <a:off x="8220240" y="2590920"/>
              <a:ext cx="833400" cy="36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0" lang="es-ES_tradnl" sz="18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 + V</a:t>
              </a:r>
              <a:r>
                <a:rPr b="0" lang="es-ES_tradnl" sz="18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8155080" y="3125880"/>
              <a:ext cx="290520" cy="36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0" lang="es-ES_tradnl" sz="18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5946840" y="2835360"/>
              <a:ext cx="2535480" cy="9414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0" y="19987"/>
                  </a:lnTo>
                  <a:lnTo>
                    <a:pt x="19995" y="19987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5943600" y="2625840"/>
              <a:ext cx="2222640" cy="1060560"/>
            </a:xfrm>
            <a:custGeom>
              <a:avLst/>
              <a:gdLst/>
              <a:ahLst/>
              <a:rect l="l" t="t" r="r" b="b"/>
              <a:pathLst>
                <a:path w="1400" h="188">
                  <a:moveTo>
                    <a:pt x="0" y="186"/>
                  </a:moveTo>
                  <a:cubicBezTo>
                    <a:pt x="920" y="188"/>
                    <a:pt x="242" y="0"/>
                    <a:pt x="1400" y="6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5953320" y="3048120"/>
              <a:ext cx="2222640" cy="641520"/>
            </a:xfrm>
            <a:custGeom>
              <a:avLst/>
              <a:gdLst/>
              <a:ahLst/>
              <a:rect l="l" t="t" r="r" b="b"/>
              <a:pathLst>
                <a:path w="1400" h="188">
                  <a:moveTo>
                    <a:pt x="0" y="186"/>
                  </a:moveTo>
                  <a:cubicBezTo>
                    <a:pt x="920" y="188"/>
                    <a:pt x="242" y="0"/>
                    <a:pt x="1400" y="6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9" name=""/>
          <p:cNvSpPr/>
          <p:nvPr/>
        </p:nvSpPr>
        <p:spPr>
          <a:xfrm>
            <a:off x="468360" y="620640"/>
            <a:ext cx="35053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Arial"/>
              </a:rPr>
              <a:t>Polarización invers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>
            <a:off x="6553080" y="1371600"/>
            <a:ext cx="304920" cy="368280"/>
          </a:xfrm>
          <a:prstGeom prst="rect">
            <a:avLst/>
          </a:prstGeom>
          <a:solidFill>
            <a:srgbClr val="bbe0e3"/>
          </a:solidFill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>
            <a:off x="6553080" y="1805040"/>
            <a:ext cx="304920" cy="368280"/>
          </a:xfrm>
          <a:prstGeom prst="rect">
            <a:avLst/>
          </a:prstGeom>
          <a:solidFill>
            <a:srgbClr val="99ccff"/>
          </a:solidFill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 flipV="1">
            <a:off x="6705720" y="106632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6705720" y="106668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>
            <a:off x="6705720" y="22096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>
            <a:off x="7277040" y="1066680"/>
            <a:ext cx="0" cy="1371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6" name=""/>
          <p:cNvGrpSpPr/>
          <p:nvPr/>
        </p:nvGrpSpPr>
        <p:grpSpPr>
          <a:xfrm>
            <a:off x="6933960" y="2209680"/>
            <a:ext cx="152280" cy="533160"/>
            <a:chOff x="6933960" y="2209680"/>
            <a:chExt cx="152280" cy="533160"/>
          </a:xfrm>
        </p:grpSpPr>
        <p:sp>
          <p:nvSpPr>
            <p:cNvPr id="967" name=""/>
            <p:cNvSpPr/>
            <p:nvPr/>
          </p:nvSpPr>
          <p:spPr>
            <a:xfrm>
              <a:off x="7086240" y="236196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6933960" y="2209680"/>
              <a:ext cx="0" cy="53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9" name=""/>
          <p:cNvSpPr/>
          <p:nvPr/>
        </p:nvSpPr>
        <p:spPr>
          <a:xfrm>
            <a:off x="6705720" y="243828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>
            <a:off x="7086600" y="243828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1" name=""/>
          <p:cNvGrpSpPr/>
          <p:nvPr/>
        </p:nvGrpSpPr>
        <p:grpSpPr>
          <a:xfrm>
            <a:off x="5859000" y="1066680"/>
            <a:ext cx="304920" cy="1054080"/>
            <a:chOff x="5859000" y="1066680"/>
            <a:chExt cx="304920" cy="1054080"/>
          </a:xfrm>
        </p:grpSpPr>
        <p:sp>
          <p:nvSpPr>
            <p:cNvPr id="972" name=""/>
            <p:cNvSpPr/>
            <p:nvPr/>
          </p:nvSpPr>
          <p:spPr>
            <a:xfrm>
              <a:off x="6021360" y="1066680"/>
              <a:ext cx="0" cy="1054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 rot="10800000">
              <a:off x="5884560" y="1458360"/>
              <a:ext cx="270000" cy="28260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 flipH="1">
              <a:off x="5859000" y="17697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6" dur="500"/>
                                        <p:tgtEl>
                                          <p:spTgt spid="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500"/>
                            </p:stCondLst>
                            <p:childTnLst>
                              <p:par>
                                <p:cTn id="12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0" dur="500"/>
                                        <p:tgtEl>
                                          <p:spTgt spid="8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2000"/>
                            </p:stCondLst>
                            <p:childTnLst>
                              <p:par>
                                <p:cTn id="132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34" dur="5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2500"/>
                            </p:stCondLst>
                            <p:childTnLst>
                              <p:par>
                                <p:cTn id="1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3000"/>
                            </p:stCondLst>
                            <p:childTnLst>
                              <p:par>
                                <p:cTn id="1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4000"/>
                            </p:stCondLst>
                            <p:childTnLst>
                              <p:par>
                                <p:cTn id="1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500"/>
                            </p:stCondLst>
                            <p:childTnLst>
                              <p:par>
                                <p:cTn id="1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300"/>
                                        <p:tgtEl>
                                          <p:spTgt spid="9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"/>
          <p:cNvSpPr/>
          <p:nvPr/>
        </p:nvSpPr>
        <p:spPr>
          <a:xfrm>
            <a:off x="3886200" y="3108240"/>
            <a:ext cx="1066680" cy="1728720"/>
          </a:xfrm>
          <a:custGeom>
            <a:avLst/>
            <a:gdLst/>
            <a:ahLst/>
            <a:rect l="l" t="t" r="r" b="b"/>
            <a:pathLst>
              <a:path w="672" h="1056">
                <a:moveTo>
                  <a:pt x="0" y="0"/>
                </a:moveTo>
                <a:lnTo>
                  <a:pt x="672" y="0"/>
                </a:lnTo>
                <a:lnTo>
                  <a:pt x="672" y="1056"/>
                </a:lnTo>
                <a:lnTo>
                  <a:pt x="0" y="1056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>
            <a:off x="5532480" y="377028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>
            <a:off x="1951200" y="377028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8" name=""/>
          <p:cNvGrpSpPr/>
          <p:nvPr/>
        </p:nvGrpSpPr>
        <p:grpSpPr>
          <a:xfrm>
            <a:off x="3755520" y="3784680"/>
            <a:ext cx="258840" cy="258840"/>
            <a:chOff x="3755520" y="3784680"/>
            <a:chExt cx="258840" cy="258840"/>
          </a:xfrm>
        </p:grpSpPr>
        <p:sp>
          <p:nvSpPr>
            <p:cNvPr id="979" name=""/>
            <p:cNvSpPr/>
            <p:nvPr/>
          </p:nvSpPr>
          <p:spPr>
            <a:xfrm rot="5400000">
              <a:off x="3755520" y="3784680"/>
              <a:ext cx="258840" cy="2588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19942" y="9971"/>
                  </a:lnTo>
                  <a:lnTo>
                    <a:pt x="0" y="1994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"/>
            <p:cNvSpPr/>
            <p:nvPr/>
          </p:nvSpPr>
          <p:spPr>
            <a:xfrm flipH="1">
              <a:off x="3758400" y="4042800"/>
              <a:ext cx="237960" cy="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1" name=""/>
          <p:cNvSpPr/>
          <p:nvPr/>
        </p:nvSpPr>
        <p:spPr>
          <a:xfrm>
            <a:off x="1295280" y="3108240"/>
            <a:ext cx="2590920" cy="172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>
            <a:off x="2057400" y="3008160"/>
            <a:ext cx="1143000" cy="1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>
            <a:off x="2416680" y="26272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4" name=""/>
          <p:cNvGrpSpPr/>
          <p:nvPr/>
        </p:nvGrpSpPr>
        <p:grpSpPr>
          <a:xfrm>
            <a:off x="2286000" y="4456080"/>
            <a:ext cx="76320" cy="762120"/>
            <a:chOff x="2286000" y="4456080"/>
            <a:chExt cx="76320" cy="762120"/>
          </a:xfrm>
        </p:grpSpPr>
        <p:sp>
          <p:nvSpPr>
            <p:cNvPr id="985" name=""/>
            <p:cNvSpPr/>
            <p:nvPr/>
          </p:nvSpPr>
          <p:spPr>
            <a:xfrm>
              <a:off x="2286000" y="4456080"/>
              <a:ext cx="763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2286000" y="4456080"/>
              <a:ext cx="0" cy="76212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2362320" y="4608720"/>
              <a:ext cx="0" cy="45720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8" name=""/>
          <p:cNvSpPr/>
          <p:nvPr/>
        </p:nvSpPr>
        <p:spPr>
          <a:xfrm flipV="1">
            <a:off x="2027880" y="4540680"/>
            <a:ext cx="592560" cy="592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1.3 Curva característica del dio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Ejes"/>
          <p:cNvSpPr/>
          <p:nvPr/>
        </p:nvSpPr>
        <p:spPr>
          <a:xfrm>
            <a:off x="7007400" y="3146400"/>
            <a:ext cx="1447560" cy="2065320"/>
          </a:xfrm>
          <a:custGeom>
            <a:avLst/>
            <a:gdLst/>
            <a:ahLst/>
            <a:rect l="l" t="t" r="r" b="b"/>
            <a:pathLst>
              <a:path w="1680" h="1440">
                <a:moveTo>
                  <a:pt x="0" y="0"/>
                </a:moveTo>
                <a:lnTo>
                  <a:pt x="0" y="1440"/>
                </a:lnTo>
                <a:lnTo>
                  <a:pt x="1680" y="144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X1"/>
          <p:cNvSpPr/>
          <p:nvPr/>
        </p:nvSpPr>
        <p:spPr>
          <a:xfrm flipV="1">
            <a:off x="7254720" y="5175000"/>
            <a:ext cx="0" cy="3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"/>
          <p:cNvSpPr/>
          <p:nvPr/>
        </p:nvSpPr>
        <p:spPr>
          <a:xfrm flipV="1">
            <a:off x="7502400" y="5175000"/>
            <a:ext cx="0" cy="3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 flipV="1">
            <a:off x="7750080" y="5175000"/>
            <a:ext cx="0" cy="3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 flipV="1">
            <a:off x="7997760" y="5175000"/>
            <a:ext cx="0" cy="3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"/>
          <p:cNvSpPr/>
          <p:nvPr/>
        </p:nvSpPr>
        <p:spPr>
          <a:xfrm flipV="1">
            <a:off x="8245440" y="5175000"/>
            <a:ext cx="0" cy="3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"/>
          <p:cNvSpPr/>
          <p:nvPr/>
        </p:nvSpPr>
        <p:spPr>
          <a:xfrm flipH="1">
            <a:off x="7007040" y="4229280"/>
            <a:ext cx="3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"/>
          <p:cNvSpPr/>
          <p:nvPr/>
        </p:nvSpPr>
        <p:spPr>
          <a:xfrm flipH="1" flipV="1">
            <a:off x="5483160" y="5211000"/>
            <a:ext cx="1524240" cy="206280"/>
          </a:xfrm>
          <a:custGeom>
            <a:avLst/>
            <a:gdLst/>
            <a:ahLst/>
            <a:rect l="l" t="t" r="r" b="b"/>
            <a:pathLst>
              <a:path w="1680" h="1440">
                <a:moveTo>
                  <a:pt x="0" y="0"/>
                </a:moveTo>
                <a:lnTo>
                  <a:pt x="0" y="1440"/>
                </a:lnTo>
                <a:lnTo>
                  <a:pt x="1680" y="144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Y1"/>
          <p:cNvSpPr/>
          <p:nvPr/>
        </p:nvSpPr>
        <p:spPr>
          <a:xfrm>
            <a:off x="7007400" y="4718160"/>
            <a:ext cx="3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 flipH="1">
            <a:off x="7007040" y="3740040"/>
            <a:ext cx="3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"/>
          <p:cNvSpPr/>
          <p:nvPr/>
        </p:nvSpPr>
        <p:spPr>
          <a:xfrm flipH="1">
            <a:off x="7007040" y="3251160"/>
            <a:ext cx="3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>
            <a:off x="3605040" y="516564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>
            <a:off x="6705000" y="302436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"/>
          <p:cNvSpPr/>
          <p:nvPr/>
        </p:nvSpPr>
        <p:spPr>
          <a:xfrm>
            <a:off x="8247240" y="52484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>
            <a:off x="5632560" y="3481560"/>
            <a:ext cx="2365200" cy="1736640"/>
          </a:xfrm>
          <a:custGeom>
            <a:avLst/>
            <a:gdLst/>
            <a:ahLst/>
            <a:rect l="l" t="t" r="r" b="b"/>
            <a:pathLst>
              <a:path w="1490" h="1094">
                <a:moveTo>
                  <a:pt x="0" y="1093"/>
                </a:moveTo>
                <a:lnTo>
                  <a:pt x="1123" y="1094"/>
                </a:lnTo>
                <a:lnTo>
                  <a:pt x="1154" y="1093"/>
                </a:lnTo>
                <a:lnTo>
                  <a:pt x="1179" y="1093"/>
                </a:lnTo>
                <a:lnTo>
                  <a:pt x="1194" y="1092"/>
                </a:lnTo>
                <a:lnTo>
                  <a:pt x="1200" y="1092"/>
                </a:lnTo>
                <a:lnTo>
                  <a:pt x="1205" y="1092"/>
                </a:lnTo>
                <a:lnTo>
                  <a:pt x="1210" y="1091"/>
                </a:lnTo>
                <a:lnTo>
                  <a:pt x="1215" y="1091"/>
                </a:lnTo>
                <a:lnTo>
                  <a:pt x="1220" y="1088"/>
                </a:lnTo>
                <a:lnTo>
                  <a:pt x="1225" y="1088"/>
                </a:lnTo>
                <a:lnTo>
                  <a:pt x="1231" y="1088"/>
                </a:lnTo>
                <a:lnTo>
                  <a:pt x="1235" y="1087"/>
                </a:lnTo>
                <a:lnTo>
                  <a:pt x="1240" y="1087"/>
                </a:lnTo>
                <a:lnTo>
                  <a:pt x="1246" y="1086"/>
                </a:lnTo>
                <a:lnTo>
                  <a:pt x="1251" y="1085"/>
                </a:lnTo>
                <a:lnTo>
                  <a:pt x="1256" y="1084"/>
                </a:lnTo>
                <a:lnTo>
                  <a:pt x="1261" y="1084"/>
                </a:lnTo>
                <a:lnTo>
                  <a:pt x="1266" y="1081"/>
                </a:lnTo>
                <a:lnTo>
                  <a:pt x="1271" y="1080"/>
                </a:lnTo>
                <a:lnTo>
                  <a:pt x="1276" y="1078"/>
                </a:lnTo>
                <a:lnTo>
                  <a:pt x="1281" y="1077"/>
                </a:lnTo>
                <a:lnTo>
                  <a:pt x="1287" y="1075"/>
                </a:lnTo>
                <a:lnTo>
                  <a:pt x="1292" y="1072"/>
                </a:lnTo>
                <a:lnTo>
                  <a:pt x="1296" y="1071"/>
                </a:lnTo>
                <a:lnTo>
                  <a:pt x="1302" y="1068"/>
                </a:lnTo>
                <a:lnTo>
                  <a:pt x="1307" y="1065"/>
                </a:lnTo>
                <a:lnTo>
                  <a:pt x="1312" y="1061"/>
                </a:lnTo>
                <a:lnTo>
                  <a:pt x="1317" y="1059"/>
                </a:lnTo>
                <a:lnTo>
                  <a:pt x="1322" y="1054"/>
                </a:lnTo>
                <a:lnTo>
                  <a:pt x="1327" y="1051"/>
                </a:lnTo>
                <a:lnTo>
                  <a:pt x="1333" y="1045"/>
                </a:lnTo>
                <a:lnTo>
                  <a:pt x="1338" y="1040"/>
                </a:lnTo>
                <a:lnTo>
                  <a:pt x="1342" y="1034"/>
                </a:lnTo>
                <a:lnTo>
                  <a:pt x="1348" y="1029"/>
                </a:lnTo>
                <a:lnTo>
                  <a:pt x="1353" y="1022"/>
                </a:lnTo>
                <a:lnTo>
                  <a:pt x="1358" y="1013"/>
                </a:lnTo>
                <a:lnTo>
                  <a:pt x="1362" y="1005"/>
                </a:lnTo>
                <a:lnTo>
                  <a:pt x="1368" y="996"/>
                </a:lnTo>
                <a:lnTo>
                  <a:pt x="1373" y="984"/>
                </a:lnTo>
                <a:lnTo>
                  <a:pt x="1378" y="974"/>
                </a:lnTo>
                <a:lnTo>
                  <a:pt x="1384" y="961"/>
                </a:lnTo>
                <a:lnTo>
                  <a:pt x="1388" y="947"/>
                </a:lnTo>
                <a:lnTo>
                  <a:pt x="1393" y="932"/>
                </a:lnTo>
                <a:lnTo>
                  <a:pt x="1399" y="914"/>
                </a:lnTo>
                <a:lnTo>
                  <a:pt x="1404" y="894"/>
                </a:lnTo>
                <a:lnTo>
                  <a:pt x="1408" y="874"/>
                </a:lnTo>
                <a:lnTo>
                  <a:pt x="1414" y="851"/>
                </a:lnTo>
                <a:lnTo>
                  <a:pt x="1419" y="825"/>
                </a:lnTo>
                <a:lnTo>
                  <a:pt x="1424" y="796"/>
                </a:lnTo>
                <a:lnTo>
                  <a:pt x="1429" y="764"/>
                </a:lnTo>
                <a:lnTo>
                  <a:pt x="1434" y="730"/>
                </a:lnTo>
                <a:lnTo>
                  <a:pt x="1439" y="692"/>
                </a:lnTo>
                <a:lnTo>
                  <a:pt x="1444" y="650"/>
                </a:lnTo>
                <a:lnTo>
                  <a:pt x="1450" y="603"/>
                </a:lnTo>
                <a:lnTo>
                  <a:pt x="1455" y="551"/>
                </a:lnTo>
                <a:lnTo>
                  <a:pt x="1460" y="494"/>
                </a:lnTo>
                <a:lnTo>
                  <a:pt x="1465" y="431"/>
                </a:lnTo>
                <a:lnTo>
                  <a:pt x="1470" y="362"/>
                </a:lnTo>
                <a:lnTo>
                  <a:pt x="1475" y="284"/>
                </a:lnTo>
                <a:lnTo>
                  <a:pt x="1480" y="198"/>
                </a:lnTo>
                <a:lnTo>
                  <a:pt x="1485" y="105"/>
                </a:lnTo>
                <a:lnTo>
                  <a:pt x="1490" y="0"/>
                </a:lnTo>
              </a:path>
            </a:pathLst>
          </a:custGeom>
          <a:noFill/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Punto"/>
          <p:cNvSpPr/>
          <p:nvPr/>
        </p:nvSpPr>
        <p:spPr>
          <a:xfrm>
            <a:off x="7653240" y="5156280"/>
            <a:ext cx="71640" cy="71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64" dur="500"/>
                                        <p:tgtEl>
                                          <p:spTgt spid="10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1.3.Curva característ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7" name=""/>
              <p:cNvSpPr txBox="1"/>
              <p:nvPr/>
            </p:nvSpPr>
            <p:spPr>
              <a:xfrm>
                <a:off x="7315200" y="2895480"/>
                <a:ext cx="1079640" cy="80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kT</m:t>
                        </m:r>
                      </m:num>
                      <m:den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08" name=""/>
          <p:cNvSpPr/>
          <p:nvPr/>
        </p:nvSpPr>
        <p:spPr>
          <a:xfrm>
            <a:off x="533520" y="5418000"/>
            <a:ext cx="3351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300 K) = 25.85 m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"/>
          <p:cNvSpPr/>
          <p:nvPr/>
        </p:nvSpPr>
        <p:spPr>
          <a:xfrm>
            <a:off x="540360" y="5867280"/>
            <a:ext cx="520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k (Constante de Boltzmann) = 1.38·10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Arial"/>
              </a:rPr>
              <a:t>-23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JK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0" name=""/>
              <p:cNvSpPr txBox="1"/>
              <p:nvPr/>
            </p:nvSpPr>
            <p:spPr>
              <a:xfrm>
                <a:off x="7010280" y="1219320"/>
                <a:ext cx="189252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V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1011" name=""/>
          <p:cNvGraphicFramePr/>
          <p:nvPr/>
        </p:nvGraphicFramePr>
        <p:xfrm>
          <a:off x="533520" y="800280"/>
          <a:ext cx="5916600" cy="4221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800280"/>
                    <a:ext cx="5916600" cy="422100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808080"/>
                    </a:outerShdw>
                  </a:effectLst>
                </p:spPr>
              </p:pic>
            </p:oleObj>
          </a:graphicData>
        </a:graphic>
      </p:graphicFrame>
      <p:sp>
        <p:nvSpPr>
          <p:cNvPr id="1013" name=""/>
          <p:cNvSpPr/>
          <p:nvPr/>
        </p:nvSpPr>
        <p:spPr>
          <a:xfrm>
            <a:off x="4418640" y="5384880"/>
            <a:ext cx="40154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: Corriente inversa de satur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0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0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0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0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1000"/>
                            </p:stCondLst>
                            <p:childTnLst>
                              <p:par>
                                <p:cTn id="1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500"/>
                            </p:stCondLst>
                            <p:childTnLst>
                              <p:par>
                                <p:cTn id="1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2000"/>
                            </p:stCondLst>
                            <p:childTnLst>
                              <p:par>
                                <p:cTn id="1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2500"/>
                            </p:stCondLst>
                            <p:childTnLst>
                              <p:par>
                                <p:cTn id="1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1.3.Curva característica. Influencia de la temperatu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2339640" y="1052280"/>
            <a:ext cx="3822840" cy="6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= ƒ(n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) = ƒ(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6" name="" descr=""/>
          <p:cNvPicPr/>
          <p:nvPr/>
        </p:nvPicPr>
        <p:blipFill>
          <a:blip r:embed="rId1"/>
          <a:stretch/>
        </p:blipFill>
        <p:spPr>
          <a:xfrm>
            <a:off x="1763640" y="2133720"/>
            <a:ext cx="5916600" cy="42210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457200" y="493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1.4.El diodo como rectificad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"/>
          <p:cNvSpPr/>
          <p:nvPr/>
        </p:nvSpPr>
        <p:spPr>
          <a:xfrm>
            <a:off x="609480" y="1828800"/>
            <a:ext cx="0" cy="136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"/>
          <p:cNvSpPr/>
          <p:nvPr/>
        </p:nvSpPr>
        <p:spPr>
          <a:xfrm>
            <a:off x="609480" y="2508120"/>
            <a:ext cx="25876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"/>
          <p:cNvSpPr/>
          <p:nvPr/>
        </p:nvSpPr>
        <p:spPr>
          <a:xfrm>
            <a:off x="3083040" y="2638440"/>
            <a:ext cx="142920" cy="1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"/>
          <p:cNvSpPr/>
          <p:nvPr/>
        </p:nvSpPr>
        <p:spPr>
          <a:xfrm>
            <a:off x="431640" y="1851120"/>
            <a:ext cx="200160" cy="1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"/>
          <p:cNvSpPr/>
          <p:nvPr/>
        </p:nvSpPr>
        <p:spPr>
          <a:xfrm>
            <a:off x="5156280" y="1519200"/>
            <a:ext cx="0" cy="1700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"/>
          <p:cNvSpPr/>
          <p:nvPr/>
        </p:nvSpPr>
        <p:spPr>
          <a:xfrm>
            <a:off x="3962520" y="2438280"/>
            <a:ext cx="1557360" cy="78120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0" y="0"/>
                </a:moveTo>
                <a:lnTo>
                  <a:pt x="0" y="19984"/>
                </a:lnTo>
                <a:lnTo>
                  <a:pt x="19992" y="19984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lg" type="oval" w="lg"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"/>
          <p:cNvSpPr/>
          <p:nvPr/>
        </p:nvSpPr>
        <p:spPr>
          <a:xfrm>
            <a:off x="3962520" y="1519200"/>
            <a:ext cx="1519200" cy="70344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19992" y="0"/>
                </a:moveTo>
                <a:lnTo>
                  <a:pt x="0" y="0"/>
                </a:lnTo>
                <a:lnTo>
                  <a:pt x="0" y="19982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lg" type="oval" w="lg"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"/>
          <p:cNvSpPr/>
          <p:nvPr/>
        </p:nvSpPr>
        <p:spPr>
          <a:xfrm>
            <a:off x="3672000" y="2076480"/>
            <a:ext cx="2174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0000"/>
                </a:solidFill>
                <a:latin typeface="Arial"/>
              </a:rPr>
              <a:t>~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"/>
          <p:cNvSpPr/>
          <p:nvPr/>
        </p:nvSpPr>
        <p:spPr>
          <a:xfrm>
            <a:off x="5067360" y="2076480"/>
            <a:ext cx="181080" cy="65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"/>
          <p:cNvSpPr/>
          <p:nvPr/>
        </p:nvSpPr>
        <p:spPr>
          <a:xfrm>
            <a:off x="5337000" y="2257560"/>
            <a:ext cx="75888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sali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8" name=""/>
          <p:cNvGrpSpPr/>
          <p:nvPr/>
        </p:nvGrpSpPr>
        <p:grpSpPr>
          <a:xfrm>
            <a:off x="4505400" y="1409760"/>
            <a:ext cx="217440" cy="217440"/>
            <a:chOff x="4505400" y="1409760"/>
            <a:chExt cx="217440" cy="217440"/>
          </a:xfrm>
        </p:grpSpPr>
        <p:sp>
          <p:nvSpPr>
            <p:cNvPr id="1029" name=""/>
            <p:cNvSpPr/>
            <p:nvPr/>
          </p:nvSpPr>
          <p:spPr>
            <a:xfrm>
              <a:off x="4505400" y="1409760"/>
              <a:ext cx="217440" cy="2174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19942" y="9971"/>
                  </a:lnTo>
                  <a:lnTo>
                    <a:pt x="0" y="1994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4722480" y="1424880"/>
              <a:ext cx="360" cy="199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1" name=""/>
          <p:cNvSpPr/>
          <p:nvPr/>
        </p:nvSpPr>
        <p:spPr>
          <a:xfrm>
            <a:off x="9001080" y="2548080"/>
            <a:ext cx="142920" cy="1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"/>
          <p:cNvSpPr/>
          <p:nvPr/>
        </p:nvSpPr>
        <p:spPr>
          <a:xfrm>
            <a:off x="6404040" y="1776240"/>
            <a:ext cx="0" cy="13608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"/>
          <p:cNvSpPr/>
          <p:nvPr/>
        </p:nvSpPr>
        <p:spPr>
          <a:xfrm>
            <a:off x="6404040" y="2440080"/>
            <a:ext cx="263988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"/>
          <p:cNvSpPr/>
          <p:nvPr/>
        </p:nvSpPr>
        <p:spPr>
          <a:xfrm>
            <a:off x="6224760" y="1760400"/>
            <a:ext cx="25236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"/>
          <p:cNvSpPr/>
          <p:nvPr/>
        </p:nvSpPr>
        <p:spPr>
          <a:xfrm>
            <a:off x="4952880" y="4078440"/>
            <a:ext cx="0" cy="1733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"/>
          <p:cNvSpPr/>
          <p:nvPr/>
        </p:nvSpPr>
        <p:spPr>
          <a:xfrm>
            <a:off x="4952880" y="5810400"/>
            <a:ext cx="379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"/>
          <p:cNvSpPr/>
          <p:nvPr/>
        </p:nvSpPr>
        <p:spPr>
          <a:xfrm>
            <a:off x="8694720" y="5819760"/>
            <a:ext cx="182520" cy="2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"/>
          <p:cNvSpPr/>
          <p:nvPr/>
        </p:nvSpPr>
        <p:spPr>
          <a:xfrm>
            <a:off x="4707000" y="4106880"/>
            <a:ext cx="25704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9" name=""/>
          <p:cNvGrpSpPr/>
          <p:nvPr/>
        </p:nvGrpSpPr>
        <p:grpSpPr>
          <a:xfrm>
            <a:off x="320760" y="3619440"/>
            <a:ext cx="4174920" cy="2529000"/>
            <a:chOff x="320760" y="3619440"/>
            <a:chExt cx="4174920" cy="2529000"/>
          </a:xfrm>
        </p:grpSpPr>
        <p:sp>
          <p:nvSpPr>
            <p:cNvPr id="1040" name=""/>
            <p:cNvSpPr/>
            <p:nvPr/>
          </p:nvSpPr>
          <p:spPr>
            <a:xfrm>
              <a:off x="3432240" y="3633840"/>
              <a:ext cx="0" cy="201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952560" y="3624120"/>
              <a:ext cx="2023920" cy="20242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10000"/>
                  </a:moveTo>
                  <a:lnTo>
                    <a:pt x="10000" y="0"/>
                  </a:lnTo>
                  <a:lnTo>
                    <a:pt x="19994" y="10000"/>
                  </a:lnTo>
                  <a:lnTo>
                    <a:pt x="10000" y="19994"/>
                  </a:lnTo>
                  <a:lnTo>
                    <a:pt x="0" y="10000"/>
                  </a:lnTo>
                  <a:close/>
                </a:path>
              </a:pathLst>
            </a:custGeom>
            <a:noFill/>
            <a:ln w="9360">
              <a:solidFill>
                <a:srgbClr val="1c1b1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1338120" y="4008600"/>
              <a:ext cx="239760" cy="23652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4512" y="19947"/>
                  </a:moveTo>
                  <a:lnTo>
                    <a:pt x="19947" y="0"/>
                  </a:lnTo>
                  <a:lnTo>
                    <a:pt x="0" y="5348"/>
                  </a:lnTo>
                  <a:lnTo>
                    <a:pt x="14512" y="1994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1c1b1a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1523880" y="3954600"/>
              <a:ext cx="109800" cy="1094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19884" y="19884"/>
                  </a:lnTo>
                </a:path>
              </a:pathLst>
            </a:custGeom>
            <a:noFill/>
            <a:ln w="12600">
              <a:solidFill>
                <a:srgbClr val="1c1b1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2368440" y="4021200"/>
              <a:ext cx="238320" cy="2412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7" y="5474"/>
                  </a:moveTo>
                  <a:lnTo>
                    <a:pt x="0" y="0"/>
                  </a:lnTo>
                  <a:lnTo>
                    <a:pt x="5440" y="19947"/>
                  </a:lnTo>
                  <a:lnTo>
                    <a:pt x="19947" y="547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1c1b1a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2314440" y="3965400"/>
              <a:ext cx="111240" cy="1112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19884"/>
                  </a:moveTo>
                  <a:lnTo>
                    <a:pt x="19885" y="0"/>
                  </a:lnTo>
                </a:path>
              </a:pathLst>
            </a:custGeom>
            <a:noFill/>
            <a:ln w="12600">
              <a:solidFill>
                <a:srgbClr val="1c1b1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1413000" y="5087880"/>
              <a:ext cx="237960" cy="2412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7" y="5526"/>
                  </a:moveTo>
                  <a:lnTo>
                    <a:pt x="0" y="0"/>
                  </a:lnTo>
                  <a:lnTo>
                    <a:pt x="5455" y="19947"/>
                  </a:lnTo>
                  <a:lnTo>
                    <a:pt x="19947" y="552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1c1b1a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1357200" y="5032440"/>
              <a:ext cx="109800" cy="1112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19884"/>
                  </a:moveTo>
                  <a:lnTo>
                    <a:pt x="19885" y="0"/>
                  </a:lnTo>
                </a:path>
              </a:pathLst>
            </a:custGeom>
            <a:noFill/>
            <a:ln w="12600">
              <a:solidFill>
                <a:srgbClr val="1c1b1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2309760" y="5062680"/>
              <a:ext cx="241200" cy="23652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4512" y="19947"/>
                  </a:moveTo>
                  <a:lnTo>
                    <a:pt x="19947" y="0"/>
                  </a:lnTo>
                  <a:lnTo>
                    <a:pt x="0" y="5348"/>
                  </a:lnTo>
                  <a:lnTo>
                    <a:pt x="14512" y="1994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1c1b1a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2495520" y="5008680"/>
              <a:ext cx="109440" cy="1094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19884" y="19884"/>
                  </a:lnTo>
                </a:path>
              </a:pathLst>
            </a:custGeom>
            <a:noFill/>
            <a:ln w="12600">
              <a:solidFill>
                <a:srgbClr val="1c1b1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1971720" y="3619440"/>
              <a:ext cx="1795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1971720" y="5653080"/>
              <a:ext cx="1795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609480" y="5257800"/>
              <a:ext cx="2381400" cy="8906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0" y="19986"/>
                  </a:lnTo>
                  <a:lnTo>
                    <a:pt x="19995" y="19986"/>
                  </a:lnTo>
                  <a:lnTo>
                    <a:pt x="19995" y="1047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2984400" y="4638600"/>
              <a:ext cx="0" cy="9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"/>
            <p:cNvSpPr/>
            <p:nvPr/>
          </p:nvSpPr>
          <p:spPr>
            <a:xfrm flipV="1">
              <a:off x="2919600" y="5576040"/>
              <a:ext cx="145440" cy="14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1028898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1028898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603360" y="4638600"/>
              <a:ext cx="342720" cy="3668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63" y="0"/>
                  </a:moveTo>
                  <a:lnTo>
                    <a:pt x="0" y="0"/>
                  </a:lnTo>
                  <a:lnTo>
                    <a:pt x="0" y="19965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320760" y="4935600"/>
              <a:ext cx="217440" cy="36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3000" spc="-1" strike="noStrike">
                  <a:solidFill>
                    <a:srgbClr val="ff0000"/>
                  </a:solidFill>
                  <a:latin typeface="Arial"/>
                </a:rPr>
                <a:t>~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3343320" y="4195800"/>
              <a:ext cx="181080" cy="777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3649680" y="4465800"/>
              <a:ext cx="846000" cy="25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salid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59" name=""/>
            <p:cNvGrpSpPr/>
            <p:nvPr/>
          </p:nvGrpSpPr>
          <p:grpSpPr>
            <a:xfrm>
              <a:off x="1533600" y="3619440"/>
              <a:ext cx="433440" cy="2028600"/>
              <a:chOff x="1533600" y="3619440"/>
              <a:chExt cx="433440" cy="2028600"/>
            </a:xfrm>
          </p:grpSpPr>
          <p:sp>
            <p:nvSpPr>
              <p:cNvPr id="1060" name=""/>
              <p:cNvSpPr/>
              <p:nvPr/>
            </p:nvSpPr>
            <p:spPr>
              <a:xfrm>
                <a:off x="1533600" y="4591080"/>
                <a:ext cx="304560" cy="0"/>
              </a:xfrm>
              <a:prstGeom prst="line">
                <a:avLst/>
              </a:prstGeom>
              <a:ln w="381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1533600" y="4686480"/>
                <a:ext cx="304560" cy="0"/>
              </a:xfrm>
              <a:prstGeom prst="line">
                <a:avLst/>
              </a:prstGeom>
              <a:ln w="381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1685880" y="3619440"/>
                <a:ext cx="281160" cy="971640"/>
              </a:xfrm>
              <a:custGeom>
                <a:avLst/>
                <a:gdLst/>
                <a:ahLst/>
                <a:rect l="l" t="t" r="r" b="b"/>
                <a:pathLst>
                  <a:path w="177" h="612">
                    <a:moveTo>
                      <a:pt x="177" y="0"/>
                    </a:moveTo>
                    <a:lnTo>
                      <a:pt x="0" y="435"/>
                    </a:lnTo>
                    <a:lnTo>
                      <a:pt x="0" y="612"/>
                    </a:lnTo>
                  </a:path>
                </a:pathLst>
              </a:custGeom>
              <a:noFill/>
              <a:ln w="38160">
                <a:solidFill>
                  <a:srgbClr val="33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 flipV="1">
                <a:off x="1685880" y="4676040"/>
                <a:ext cx="281160" cy="971640"/>
              </a:xfrm>
              <a:custGeom>
                <a:avLst/>
                <a:gdLst/>
                <a:ahLst/>
                <a:rect l="l" t="t" r="r" b="b"/>
                <a:pathLst>
                  <a:path w="177" h="612">
                    <a:moveTo>
                      <a:pt x="177" y="0"/>
                    </a:moveTo>
                    <a:lnTo>
                      <a:pt x="0" y="435"/>
                    </a:lnTo>
                    <a:lnTo>
                      <a:pt x="0" y="612"/>
                    </a:lnTo>
                  </a:path>
                </a:pathLst>
              </a:custGeom>
              <a:noFill/>
              <a:ln w="38160">
                <a:solidFill>
                  <a:srgbClr val="33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4" name=""/>
            <p:cNvGrpSpPr/>
            <p:nvPr/>
          </p:nvGrpSpPr>
          <p:grpSpPr>
            <a:xfrm>
              <a:off x="1976040" y="3619440"/>
              <a:ext cx="430200" cy="2028600"/>
              <a:chOff x="1976040" y="3619440"/>
              <a:chExt cx="430200" cy="2028600"/>
            </a:xfrm>
          </p:grpSpPr>
          <p:sp>
            <p:nvSpPr>
              <p:cNvPr id="1065" name=""/>
              <p:cNvSpPr/>
              <p:nvPr/>
            </p:nvSpPr>
            <p:spPr>
              <a:xfrm flipH="1">
                <a:off x="2101320" y="4591080"/>
                <a:ext cx="304920" cy="0"/>
              </a:xfrm>
              <a:prstGeom prst="line">
                <a:avLst/>
              </a:prstGeom>
              <a:ln w="381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 flipH="1">
                <a:off x="2101320" y="4686480"/>
                <a:ext cx="304920" cy="0"/>
              </a:xfrm>
              <a:prstGeom prst="line">
                <a:avLst/>
              </a:prstGeom>
              <a:ln w="381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 flipH="1">
                <a:off x="1975680" y="3619440"/>
                <a:ext cx="281160" cy="971640"/>
              </a:xfrm>
              <a:custGeom>
                <a:avLst/>
                <a:gdLst/>
                <a:ahLst/>
                <a:rect l="l" t="t" r="r" b="b"/>
                <a:pathLst>
                  <a:path w="177" h="612">
                    <a:moveTo>
                      <a:pt x="177" y="0"/>
                    </a:moveTo>
                    <a:lnTo>
                      <a:pt x="0" y="435"/>
                    </a:lnTo>
                    <a:lnTo>
                      <a:pt x="0" y="612"/>
                    </a:lnTo>
                  </a:path>
                </a:pathLst>
              </a:custGeom>
              <a:noFill/>
              <a:ln w="38160">
                <a:solidFill>
                  <a:srgbClr val="33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 flipH="1" flipV="1">
                <a:off x="1975680" y="4676040"/>
                <a:ext cx="281160" cy="971640"/>
              </a:xfrm>
              <a:custGeom>
                <a:avLst/>
                <a:gdLst/>
                <a:ahLst/>
                <a:rect l="l" t="t" r="r" b="b"/>
                <a:pathLst>
                  <a:path w="177" h="612">
                    <a:moveTo>
                      <a:pt x="177" y="0"/>
                    </a:moveTo>
                    <a:lnTo>
                      <a:pt x="0" y="435"/>
                    </a:lnTo>
                    <a:lnTo>
                      <a:pt x="0" y="612"/>
                    </a:lnTo>
                  </a:path>
                </a:pathLst>
              </a:custGeom>
              <a:noFill/>
              <a:ln w="38160">
                <a:solidFill>
                  <a:srgbClr val="33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69" name=""/>
          <p:cNvGrpSpPr/>
          <p:nvPr/>
        </p:nvGrpSpPr>
        <p:grpSpPr>
          <a:xfrm>
            <a:off x="4959360" y="4044960"/>
            <a:ext cx="3600360" cy="1776240"/>
            <a:chOff x="4959360" y="4044960"/>
            <a:chExt cx="3600360" cy="1776240"/>
          </a:xfrm>
        </p:grpSpPr>
        <p:sp>
          <p:nvSpPr>
            <p:cNvPr id="1070" name=""/>
            <p:cNvSpPr/>
            <p:nvPr/>
          </p:nvSpPr>
          <p:spPr>
            <a:xfrm>
              <a:off x="4959360" y="4044960"/>
              <a:ext cx="1200240" cy="1776240"/>
            </a:xfrm>
            <a:custGeom>
              <a:avLst/>
              <a:gdLst/>
              <a:ahLst/>
              <a:rect l="l" t="t" r="r" b="b"/>
              <a:pathLst>
                <a:path w="756" h="1119">
                  <a:moveTo>
                    <a:pt x="0" y="1110"/>
                  </a:moveTo>
                  <a:cubicBezTo>
                    <a:pt x="78" y="717"/>
                    <a:pt x="222" y="12"/>
                    <a:pt x="384" y="6"/>
                  </a:cubicBezTo>
                  <a:cubicBezTo>
                    <a:pt x="546" y="0"/>
                    <a:pt x="681" y="834"/>
                    <a:pt x="756" y="1119"/>
                  </a:cubicBezTo>
                </a:path>
              </a:pathLst>
            </a:custGeom>
            <a:noFill/>
            <a:ln w="255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6164280" y="4044960"/>
              <a:ext cx="1200240" cy="1776240"/>
            </a:xfrm>
            <a:custGeom>
              <a:avLst/>
              <a:gdLst/>
              <a:ahLst/>
              <a:rect l="l" t="t" r="r" b="b"/>
              <a:pathLst>
                <a:path w="756" h="1119">
                  <a:moveTo>
                    <a:pt x="0" y="1110"/>
                  </a:moveTo>
                  <a:cubicBezTo>
                    <a:pt x="78" y="717"/>
                    <a:pt x="222" y="12"/>
                    <a:pt x="384" y="6"/>
                  </a:cubicBezTo>
                  <a:cubicBezTo>
                    <a:pt x="546" y="0"/>
                    <a:pt x="681" y="834"/>
                    <a:pt x="756" y="1119"/>
                  </a:cubicBezTo>
                </a:path>
              </a:pathLst>
            </a:custGeom>
            <a:noFill/>
            <a:ln w="255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7359840" y="4044960"/>
              <a:ext cx="1199880" cy="1776240"/>
            </a:xfrm>
            <a:custGeom>
              <a:avLst/>
              <a:gdLst/>
              <a:ahLst/>
              <a:rect l="l" t="t" r="r" b="b"/>
              <a:pathLst>
                <a:path w="756" h="1119">
                  <a:moveTo>
                    <a:pt x="0" y="1110"/>
                  </a:moveTo>
                  <a:cubicBezTo>
                    <a:pt x="78" y="717"/>
                    <a:pt x="222" y="12"/>
                    <a:pt x="384" y="6"/>
                  </a:cubicBezTo>
                  <a:cubicBezTo>
                    <a:pt x="546" y="0"/>
                    <a:pt x="681" y="834"/>
                    <a:pt x="756" y="1119"/>
                  </a:cubicBezTo>
                </a:path>
              </a:pathLst>
            </a:custGeom>
            <a:noFill/>
            <a:ln w="255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3" name=""/>
          <p:cNvGrpSpPr/>
          <p:nvPr/>
        </p:nvGrpSpPr>
        <p:grpSpPr>
          <a:xfrm>
            <a:off x="4959360" y="4044960"/>
            <a:ext cx="3600360" cy="785880"/>
            <a:chOff x="4959360" y="4044960"/>
            <a:chExt cx="3600360" cy="785880"/>
          </a:xfrm>
        </p:grpSpPr>
        <p:sp>
          <p:nvSpPr>
            <p:cNvPr id="1074" name=""/>
            <p:cNvSpPr/>
            <p:nvPr/>
          </p:nvSpPr>
          <p:spPr>
            <a:xfrm>
              <a:off x="4959360" y="4044960"/>
              <a:ext cx="1200240" cy="785880"/>
            </a:xfrm>
            <a:custGeom>
              <a:avLst/>
              <a:gdLst/>
              <a:ahLst/>
              <a:rect l="l" t="t" r="r" b="b"/>
              <a:pathLst>
                <a:path w="756" h="1119">
                  <a:moveTo>
                    <a:pt x="0" y="1110"/>
                  </a:moveTo>
                  <a:cubicBezTo>
                    <a:pt x="78" y="717"/>
                    <a:pt x="222" y="12"/>
                    <a:pt x="384" y="6"/>
                  </a:cubicBezTo>
                  <a:cubicBezTo>
                    <a:pt x="546" y="0"/>
                    <a:pt x="681" y="834"/>
                    <a:pt x="756" y="1119"/>
                  </a:cubicBezTo>
                </a:path>
              </a:pathLst>
            </a:custGeom>
            <a:noFill/>
            <a:ln w="2556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6164280" y="4044960"/>
              <a:ext cx="1200240" cy="785880"/>
            </a:xfrm>
            <a:custGeom>
              <a:avLst/>
              <a:gdLst/>
              <a:ahLst/>
              <a:rect l="l" t="t" r="r" b="b"/>
              <a:pathLst>
                <a:path w="756" h="1119">
                  <a:moveTo>
                    <a:pt x="0" y="1110"/>
                  </a:moveTo>
                  <a:cubicBezTo>
                    <a:pt x="78" y="717"/>
                    <a:pt x="222" y="12"/>
                    <a:pt x="384" y="6"/>
                  </a:cubicBezTo>
                  <a:cubicBezTo>
                    <a:pt x="546" y="0"/>
                    <a:pt x="681" y="834"/>
                    <a:pt x="756" y="1119"/>
                  </a:cubicBezTo>
                </a:path>
              </a:pathLst>
            </a:custGeom>
            <a:noFill/>
            <a:ln w="2556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7359840" y="4044960"/>
              <a:ext cx="1199880" cy="785880"/>
            </a:xfrm>
            <a:custGeom>
              <a:avLst/>
              <a:gdLst/>
              <a:ahLst/>
              <a:rect l="l" t="t" r="r" b="b"/>
              <a:pathLst>
                <a:path w="756" h="1119">
                  <a:moveTo>
                    <a:pt x="0" y="1110"/>
                  </a:moveTo>
                  <a:cubicBezTo>
                    <a:pt x="78" y="717"/>
                    <a:pt x="222" y="12"/>
                    <a:pt x="384" y="6"/>
                  </a:cubicBezTo>
                  <a:cubicBezTo>
                    <a:pt x="546" y="0"/>
                    <a:pt x="681" y="834"/>
                    <a:pt x="756" y="1119"/>
                  </a:cubicBezTo>
                </a:path>
              </a:pathLst>
            </a:custGeom>
            <a:noFill/>
            <a:ln w="2556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7" name=""/>
          <p:cNvGrpSpPr/>
          <p:nvPr/>
        </p:nvGrpSpPr>
        <p:grpSpPr>
          <a:xfrm>
            <a:off x="4959360" y="4044960"/>
            <a:ext cx="3600360" cy="252360"/>
            <a:chOff x="4959360" y="4044960"/>
            <a:chExt cx="3600360" cy="252360"/>
          </a:xfrm>
        </p:grpSpPr>
        <p:sp>
          <p:nvSpPr>
            <p:cNvPr id="1078" name=""/>
            <p:cNvSpPr/>
            <p:nvPr/>
          </p:nvSpPr>
          <p:spPr>
            <a:xfrm>
              <a:off x="4959360" y="4044960"/>
              <a:ext cx="1200240" cy="252360"/>
            </a:xfrm>
            <a:custGeom>
              <a:avLst/>
              <a:gdLst/>
              <a:ahLst/>
              <a:rect l="l" t="t" r="r" b="b"/>
              <a:pathLst>
                <a:path w="756" h="1119">
                  <a:moveTo>
                    <a:pt x="0" y="1110"/>
                  </a:moveTo>
                  <a:cubicBezTo>
                    <a:pt x="78" y="717"/>
                    <a:pt x="222" y="12"/>
                    <a:pt x="384" y="6"/>
                  </a:cubicBezTo>
                  <a:cubicBezTo>
                    <a:pt x="546" y="0"/>
                    <a:pt x="681" y="834"/>
                    <a:pt x="756" y="1119"/>
                  </a:cubicBezTo>
                </a:path>
              </a:pathLst>
            </a:custGeom>
            <a:noFill/>
            <a:ln w="2556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6164280" y="4044960"/>
              <a:ext cx="1200240" cy="252360"/>
            </a:xfrm>
            <a:custGeom>
              <a:avLst/>
              <a:gdLst/>
              <a:ahLst/>
              <a:rect l="l" t="t" r="r" b="b"/>
              <a:pathLst>
                <a:path w="756" h="1119">
                  <a:moveTo>
                    <a:pt x="0" y="1110"/>
                  </a:moveTo>
                  <a:cubicBezTo>
                    <a:pt x="78" y="717"/>
                    <a:pt x="222" y="12"/>
                    <a:pt x="384" y="6"/>
                  </a:cubicBezTo>
                  <a:cubicBezTo>
                    <a:pt x="546" y="0"/>
                    <a:pt x="681" y="834"/>
                    <a:pt x="756" y="1119"/>
                  </a:cubicBezTo>
                </a:path>
              </a:pathLst>
            </a:custGeom>
            <a:noFill/>
            <a:ln w="2556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7359840" y="4044960"/>
              <a:ext cx="1199880" cy="252360"/>
            </a:xfrm>
            <a:custGeom>
              <a:avLst/>
              <a:gdLst/>
              <a:ahLst/>
              <a:rect l="l" t="t" r="r" b="b"/>
              <a:pathLst>
                <a:path w="756" h="1119">
                  <a:moveTo>
                    <a:pt x="0" y="1110"/>
                  </a:moveTo>
                  <a:cubicBezTo>
                    <a:pt x="78" y="717"/>
                    <a:pt x="222" y="12"/>
                    <a:pt x="384" y="6"/>
                  </a:cubicBezTo>
                  <a:cubicBezTo>
                    <a:pt x="546" y="0"/>
                    <a:pt x="681" y="834"/>
                    <a:pt x="756" y="1119"/>
                  </a:cubicBezTo>
                </a:path>
              </a:pathLst>
            </a:custGeom>
            <a:noFill/>
            <a:ln w="2556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1" name=""/>
          <p:cNvGrpSpPr/>
          <p:nvPr/>
        </p:nvGrpSpPr>
        <p:grpSpPr>
          <a:xfrm>
            <a:off x="6410160" y="1744560"/>
            <a:ext cx="2451240" cy="700200"/>
            <a:chOff x="6410160" y="1744560"/>
            <a:chExt cx="2451240" cy="700200"/>
          </a:xfrm>
        </p:grpSpPr>
        <p:sp>
          <p:nvSpPr>
            <p:cNvPr id="1082" name=""/>
            <p:cNvSpPr/>
            <p:nvPr/>
          </p:nvSpPr>
          <p:spPr>
            <a:xfrm>
              <a:off x="6410160" y="1744560"/>
              <a:ext cx="819000" cy="700200"/>
            </a:xfrm>
            <a:custGeom>
              <a:avLst/>
              <a:gdLst/>
              <a:ahLst/>
              <a:rect l="l" t="t" r="r" b="b"/>
              <a:pathLst>
                <a:path w="516" h="441">
                  <a:moveTo>
                    <a:pt x="0" y="437"/>
                  </a:moveTo>
                  <a:cubicBezTo>
                    <a:pt x="64" y="241"/>
                    <a:pt x="170" y="0"/>
                    <a:pt x="256" y="1"/>
                  </a:cubicBezTo>
                  <a:cubicBezTo>
                    <a:pt x="342" y="2"/>
                    <a:pt x="440" y="241"/>
                    <a:pt x="516" y="441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8042040" y="1744560"/>
              <a:ext cx="819360" cy="700200"/>
            </a:xfrm>
            <a:custGeom>
              <a:avLst/>
              <a:gdLst/>
              <a:ahLst/>
              <a:rect l="l" t="t" r="r" b="b"/>
              <a:pathLst>
                <a:path w="516" h="441">
                  <a:moveTo>
                    <a:pt x="0" y="437"/>
                  </a:moveTo>
                  <a:cubicBezTo>
                    <a:pt x="64" y="241"/>
                    <a:pt x="170" y="0"/>
                    <a:pt x="256" y="1"/>
                  </a:cubicBezTo>
                  <a:cubicBezTo>
                    <a:pt x="342" y="2"/>
                    <a:pt x="440" y="241"/>
                    <a:pt x="516" y="441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7223040" y="2438280"/>
              <a:ext cx="82872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5" name=""/>
          <p:cNvSpPr/>
          <p:nvPr/>
        </p:nvSpPr>
        <p:spPr>
          <a:xfrm>
            <a:off x="609480" y="1822320"/>
            <a:ext cx="2438640" cy="1373400"/>
          </a:xfrm>
          <a:custGeom>
            <a:avLst/>
            <a:gdLst/>
            <a:ahLst/>
            <a:rect l="l" t="t" r="r" b="b"/>
            <a:pathLst>
              <a:path w="1536" h="865">
                <a:moveTo>
                  <a:pt x="0" y="436"/>
                </a:moveTo>
                <a:cubicBezTo>
                  <a:pt x="102" y="166"/>
                  <a:pt x="174" y="0"/>
                  <a:pt x="260" y="0"/>
                </a:cubicBezTo>
                <a:cubicBezTo>
                  <a:pt x="346" y="0"/>
                  <a:pt x="436" y="240"/>
                  <a:pt x="516" y="436"/>
                </a:cubicBezTo>
                <a:cubicBezTo>
                  <a:pt x="596" y="632"/>
                  <a:pt x="675" y="865"/>
                  <a:pt x="771" y="865"/>
                </a:cubicBezTo>
                <a:cubicBezTo>
                  <a:pt x="867" y="865"/>
                  <a:pt x="932" y="654"/>
                  <a:pt x="1024" y="428"/>
                </a:cubicBezTo>
                <a:cubicBezTo>
                  <a:pt x="1116" y="202"/>
                  <a:pt x="1184" y="1"/>
                  <a:pt x="1269" y="1"/>
                </a:cubicBezTo>
                <a:cubicBezTo>
                  <a:pt x="1354" y="1"/>
                  <a:pt x="1440" y="163"/>
                  <a:pt x="1536" y="428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10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10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500"/>
                            </p:stCondLst>
                            <p:childTnLst>
                              <p:par>
                                <p:cTn id="2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500"/>
                                        <p:tgtEl>
                                          <p:spTgt spid="10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1000"/>
                            </p:stCondLst>
                            <p:childTnLst>
                              <p:par>
                                <p:cTn id="2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5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1500"/>
                            </p:stCondLst>
                            <p:childTnLst>
                              <p:par>
                                <p:cTn id="2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" dur="500"/>
                                        <p:tgtEl>
                                          <p:spTgt spid="10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02T12:14:56Z</dcterms:created>
  <dc:creator>Biki1</dc:creator>
  <dc:description/>
  <dc:language>en-US</dc:language>
  <cp:lastModifiedBy>Biki1</cp:lastModifiedBy>
  <dcterms:modified xsi:type="dcterms:W3CDTF">2005-08-02T13:28:49Z</dcterms:modified>
  <cp:revision>6</cp:revision>
  <dc:subject/>
  <dc:title>Diapositiva 1</dc:title>
</cp:coreProperties>
</file>